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3425-0C67-4CC2-B8B0-67352F9E06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rollare la tabella se I 10.2 TB sono stati aggiu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che la lista dell efficienze e’ sbagli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got more than 1 fb of data which are considered good for the reconst. (conditions of machine aqnd detector were 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have to read all this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che’ il MC e’ 100? MC2002 da updat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che’ I raw sono 118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o assumiamo per la luminosita’ 200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5DE-554A-4E7C-9A5B-BE7D935F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4BB-EB7E-4508-9508-3BE825B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DD0-D74B-48B5-9B3E-0747599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4EC-4CF0-4A44-ADB6-1E03B15F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15B-05A4-4A11-9C31-FAAA5B0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45A-7522-4F99-890C-A2A2BBF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B7B-D815-476E-ADB3-BF9A94E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BE2-CA4F-4B94-95BA-9C1EF9C7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4E4-9857-429F-BD6A-26E5269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842-96A3-4FF6-96CF-0849395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4C2-064F-49C2-81BB-F590B31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90B-47F4-46CF-825C-DBBFB51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497-71E0-49CB-86F9-3F7CF795B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erce.www.ibm.com/content/home/shop_ShopIBM/en_US/eServer/pSeries/entry/640B80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2090880"/>
            <a:ext cx="2286000" cy="1353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2076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tatus report of the KLOE off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4680" y="380988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Venanzoni – L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6680" y="5029200"/>
            <a:ext cx="510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NF Scientific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ascati, 24 May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pSeries 640 Model B80">
            <a:hlinkClick r:id="rId1"/>
          </p:cNvPr>
          <p:cNvPicPr/>
          <p:nvPr/>
        </p:nvPicPr>
        <p:blipFill>
          <a:blip r:embed="rId2"/>
          <a:srcRect l="0" t="15395" r="0" b="15395"/>
          <a:stretch/>
        </p:blipFill>
        <p:spPr>
          <a:xfrm>
            <a:off x="7620120" y="228600"/>
            <a:ext cx="1211040" cy="100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22640" y="22860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PU and Disk re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14400"/>
            <a:ext cx="5257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10 IBM p630 servers: 10×4 POWER4+ 1.45 GHz (equivalent to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10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 (40x2.5) B80 CP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3 IBM B80 servers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PU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914400"/>
            <a:ext cx="533520" cy="1523880"/>
          </a:xfrm>
          <a:custGeom>
            <a:avLst/>
            <a:gdLst>
              <a:gd name="textAreaLeft" fmla="*/ 0 w 533520"/>
              <a:gd name="textAreaRight" fmla="*/ 19260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88"/>
                </a:lnTo>
                <a:cubicBezTo>
                  <a:pt x="10800" y="8888"/>
                  <a:pt x="16200" y="9788"/>
                  <a:pt x="21600" y="9788"/>
                </a:cubicBezTo>
                <a:cubicBezTo>
                  <a:pt x="16200" y="9788"/>
                  <a:pt x="10800" y="10688"/>
                  <a:pt x="10800" y="115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838080"/>
            <a:ext cx="230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99ff"/>
                </a:solidFill>
                <a:latin typeface="Times New Roman"/>
              </a:rPr>
              <a:t>Online”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imes New Roman"/>
              </a:rPr>
              <a:t>Reconstruction and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imes New Roman"/>
              </a:rPr>
              <a:t>DST and MC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imes New Roman"/>
              </a:rPr>
              <a:t>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743200"/>
            <a:ext cx="67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 allocation flexible. Simply redefine queue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adLev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3657600"/>
          <a:ext cx="3962160" cy="2757600"/>
        </p:xfrm>
        <a:graphic>
          <a:graphicData uri="http://schemas.openxmlformats.org/drawingml/2006/table">
            <a:tbl>
              <a:tblPr/>
              <a:tblGrid>
                <a:gridCol w="1436400"/>
                <a:gridCol w="2525760"/>
              </a:tblGrid>
              <a:tr h="61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recalled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rec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 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9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.2 TB added in April 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380880" y="6477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.2 TB added to AFS cell in Nov 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724280" y="4419720"/>
          <a:ext cx="4114800" cy="1796760"/>
        </p:xfrm>
        <a:graphic>
          <a:graphicData uri="http://schemas.openxmlformats.org/drawingml/2006/table">
            <a:tbl>
              <a:tblPr/>
              <a:tblGrid>
                <a:gridCol w="1295640"/>
                <a:gridCol w="1143000"/>
                <a:gridCol w="838080"/>
                <a:gridCol w="83808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/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D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D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6200000">
            <a:off x="-217800" y="50310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” mac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630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47920" y="838080"/>
          <a:ext cx="670536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705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599840" y="15228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chine Configuration on April-May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560" y="6172200"/>
            <a:ext cx="64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       84           30         12          36          18        3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49568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38080" y="990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1070280" y="25221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ld” machines (B80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6172200"/>
            <a:ext cx="6705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80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Monte Carlo production for 2001-02 data completed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1523880"/>
          <a:ext cx="5105520" cy="4437360"/>
        </p:xfrm>
        <a:graphic>
          <a:graphicData uri="http://schemas.openxmlformats.org/drawingml/2006/table">
            <a:tbl>
              <a:tblPr/>
              <a:tblGrid>
                <a:gridCol w="3581640"/>
                <a:gridCol w="1523880"/>
              </a:tblGrid>
              <a:tr h="805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6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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5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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ISR onl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71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5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5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46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(21 p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ca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6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5715000" y="22082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Arial"/>
              </a:rPr>
              <a:t>To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27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890 B80CPU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.5 T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04920" y="1927080"/>
          <a:ext cx="8508960" cy="4784760"/>
        </p:xfrm>
        <a:graphic>
          <a:graphicData uri="http://schemas.openxmlformats.org/drawingml/2006/table">
            <a:tbl>
              <a:tblPr/>
              <a:tblGrid>
                <a:gridCol w="2895480"/>
                <a:gridCol w="1143000"/>
                <a:gridCol w="888840"/>
                <a:gridCol w="1981440"/>
                <a:gridCol w="1600200"/>
              </a:tblGrid>
              <a:tr h="139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80 day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8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349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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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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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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82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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520" y="533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Monte Carlo production for 2001-02 data completed in 2004-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380880"/>
            <a:ext cx="6172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Upgrade of the Monte Carlo for the simulation of 2004-05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ing list (main item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interact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generation and nuclea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MC tim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ditional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b inser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ergy scale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C tracking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ted noise in DC for charged ka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gitization of DC ADC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g effort to update the Monte Carlo simulation for 2004/05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Monte Carlo Production for 2004-05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341360"/>
            <a:ext cx="813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al go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mulation of a sample corresponding to 1.7 f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estimated by the end of 2005: Starting from run 29500: 912 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econstructed up to now +6 months@140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0 % all phys + 100% neu Kaon +100% Kpm +500% radiative +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polating from 2001/02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80 days on 100 B8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duction schedule would be driven by analysis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Reprocessing of 2001-02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re compact sample and with refined selection/reconstruction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datory for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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2895480"/>
          <a:ext cx="2743200" cy="243180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rec 2001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BV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352680" y="2819520"/>
          <a:ext cx="5486400" cy="3671640"/>
        </p:xfrm>
        <a:graphic>
          <a:graphicData uri="http://schemas.openxmlformats.org/drawingml/2006/table">
            <a:tbl>
              <a:tblPr/>
              <a:tblGrid>
                <a:gridCol w="1676520"/>
                <a:gridCol w="990360"/>
                <a:gridCol w="990720"/>
                <a:gridCol w="914400"/>
                <a:gridCol w="914400"/>
              </a:tblGrid>
              <a:tr h="4597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2001-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k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k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3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BV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BV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BV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7920" y="304920"/>
            <a:ext cx="858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construction changes DBV-15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1080" y="1203480"/>
            <a:ext cx="7542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1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kaon retracking installed  (affects only D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1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fixed in VTXFIN, mainly affect KPM 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k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STs &lt; DBV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1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/d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all streams (2002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ID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FO bias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HABREJ cut in FI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caled golden Bhabha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3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 deleted  from 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 - old algorithms eliminated, n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/d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s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 - new K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 - min bias 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 - bug 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77920" y="304920"/>
            <a:ext cx="858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construction changes DBV-20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760" y="129528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2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KSTA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KLTAG from Ks into neut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not reconstructed without boost values in Hep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2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PG tag: vtx requirement eliminated; cuts loose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ckness of DC wall –7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on DC hits with Drift time &gt;2.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V-2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work on ECL routines to use HepDB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in minimum-bias radiative selection patched (affects drn/d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to Ks p+p-p0 tag; cuts loos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Reprocessing of 2001-02 data: estimat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474920"/>
            <a:ext cx="77724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: 420 p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ime: 8000 CPU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situation: 30 CPUs used (1.5 p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ected to finish by the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ing part expected to be reprocessed in August, with 150-180 CPUs de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ata Reconstr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uting Farm and Tape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onte Car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duction for 2001-0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pdates for 2004-05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processing of 2001-02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alse dead wires”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ffline Plans and CPU’s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4120" y="457200"/>
            <a:ext cx="20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Problem of false dead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beginning of this year we discovered that the list of dead wires that we used in the reconstruction of MC 2001-02 and in the reconstruction of 2004 real data was wrong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 doesn’t affect 2005 data taking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o the correct list of dead wires for 2001-02, and 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reconstruct the MC for a sub-sample of 2001/02 data (3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in order to study the size of the effect (we may need to reconstruct all the MC 2001/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er term: re-reconstruct 2004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sc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 list for 2001-02 data done (1 month/24CP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 list for 2004 data: to be done (estimate 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 days for 65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C re-reconstruction: to be done (estimate 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days for 3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Offline Plans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term  (before the end of the yea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cessing 2001/0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reconstruction of  MC 2001/02 (at least 30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MC 2004/05 production (including fixing the list of “dead wires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list (next yea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cessing 2004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MC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50920" y="609480"/>
          <a:ext cx="8569080" cy="6129360"/>
        </p:xfrm>
        <a:graphic>
          <a:graphicData uri="http://schemas.openxmlformats.org/drawingml/2006/table">
            <a:tbl>
              <a:tblPr/>
              <a:tblGrid>
                <a:gridCol w="1279440"/>
                <a:gridCol w="1743120"/>
                <a:gridCol w="1743120"/>
                <a:gridCol w="1665360"/>
                <a:gridCol w="2138040"/>
              </a:tblGrid>
              <a:tr h="12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line recon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S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 CPU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o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1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C01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30 CP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C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30 CP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incl. fixing the list of dead wi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pb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0 CP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days (30pb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al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-300 pb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0-180 CP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668988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13680" y="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ffline activities fo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58920" y="260280"/>
            <a:ext cx="58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Consideration on CPU needs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0560" y="507060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± 2 months on 150 B80 C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63640" y="1052640"/>
          <a:ext cx="4895640" cy="3647880"/>
        </p:xfrm>
        <a:graphic>
          <a:graphicData uri="http://schemas.openxmlformats.org/drawingml/2006/table">
            <a:tbl>
              <a:tblPr/>
              <a:tblGrid>
                <a:gridCol w="2735280"/>
                <a:gridCol w="2160360"/>
              </a:tblGrid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80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reconstr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cessing ’01-’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04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cessing ‘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reconstruction MC ’01-’02 (full samp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473040" y="58770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PUs are needed if we don’t want to delay the analy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95280" y="380880"/>
            <a:ext cx="58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Conclusions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fline activity completed and in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line schedule mostly fixed for this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year will be mainly devoted to complete the MC04/05 production and to reprocess 2004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asks will take approx. most of the 2006 (within the current CPU pow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PU’s are needed if we want to reduce this time (and speed up the analyses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981000"/>
            <a:ext cx="74073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28700 (9 May 04) to 36405 (9 May 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5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on disk OK for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3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with full cali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1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a fully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% ef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58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construction in 2004-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124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onstruction  follows close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cqui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ach reconstruction job lasts 2h as maximum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72200" y="2360520"/>
          <a:ext cx="2362320" cy="2668680"/>
        </p:xfrm>
        <a:graphic>
          <a:graphicData uri="http://schemas.openxmlformats.org/drawingml/2006/table">
            <a:tbl>
              <a:tblPr/>
              <a:tblGrid>
                <a:gridCol w="1543320"/>
                <a:gridCol w="819000"/>
              </a:tblGrid>
              <a:tr h="767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=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osity (pb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-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9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p to 9 M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808200" y="45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720" y="58071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continuously monitored “online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14800" y="2819520"/>
          <a:ext cx="4724280" cy="289080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  <a:gridCol w="1371600"/>
                <a:gridCol w="121896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b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G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k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k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880" y="2817720"/>
          <a:ext cx="3505320" cy="315612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29528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v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hab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77800" y="6021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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4280" y="41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2160" y="602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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64760" y="4428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fic data volume (May 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762120"/>
          <a:ext cx="7315200" cy="1390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ev/pb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l. D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ev/pb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cl. D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B/pb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flipH="1">
            <a:off x="3200400" y="213372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0840" y="579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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1384200"/>
          <a:ext cx="3675240" cy="24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4200"/>
                    <a:ext cx="36752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4010040"/>
          <a:ext cx="3687840" cy="24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010040"/>
                    <a:ext cx="36878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36160" y="99072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d vol. by type 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47040" y="1508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6960" y="160812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8572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38120" y="2779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2520" y="1676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88620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61200" y="3870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3840" y="480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5600" y="5000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1120" y="5334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4320" y="4543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191120" y="1447920"/>
          <a:ext cx="36208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447920"/>
                    <a:ext cx="3620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19720" y="3327480"/>
          <a:ext cx="4724280" cy="269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327480"/>
                    <a:ext cx="47242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21508200">
            <a:off x="4646520" y="5851080"/>
            <a:ext cx="32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The fighting against bc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llowed us to fit wit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ata flow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8720" y="1125360"/>
            <a:ext cx="32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g Luminosity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/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15228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fic data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00600" y="41148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693720"/>
          <a:ext cx="2743200" cy="22780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2001/02 (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5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62320" y="2666880"/>
          <a:ext cx="4335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4335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688920" y="22701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4267080"/>
          <a:ext cx="2514600" cy="2278080"/>
        </p:xfrm>
        <a:graphic>
          <a:graphicData uri="http://schemas.openxmlformats.org/drawingml/2006/table">
            <a:tbl>
              <a:tblPr/>
              <a:tblGrid>
                <a:gridCol w="1055520"/>
                <a:gridCol w="14590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2004 (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4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12408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acity of tape library with current cartrid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612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04760" y="3809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ape Storage (May 0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1828800"/>
            <a:ext cx="11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.3 T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19920" y="4343400"/>
          <a:ext cx="2819160" cy="2278080"/>
        </p:xfrm>
        <a:graphic>
          <a:graphicData uri="http://schemas.openxmlformats.org/drawingml/2006/table">
            <a:tbl>
              <a:tblPr/>
              <a:tblGrid>
                <a:gridCol w="1184040"/>
                <a:gridCol w="163512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2005 (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2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 flipH="1">
            <a:off x="5486040" y="19810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066680"/>
          <a:ext cx="1981080" cy="1976400"/>
        </p:xfrm>
        <a:graphic>
          <a:graphicData uri="http://schemas.openxmlformats.org/drawingml/2006/table">
            <a:tbl>
              <a:tblPr/>
              <a:tblGrid>
                <a:gridCol w="1085760"/>
                <a:gridCol w="89532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o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-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582360" y="457200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 363.4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7920" y="304920"/>
            <a:ext cx="858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ape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905120"/>
            <a:ext cx="41907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w” IBM 3494 tap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 Magstar 3592 drives: 300 GB/cartridge, 40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itially 1000 cartridges (300 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lots for 3600 cartridges (1080 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motely accessed via FC/S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naged by Tivoli Storag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1984" t="46676" r="42492" b="20002"/>
          <a:stretch/>
        </p:blipFill>
        <p:spPr>
          <a:xfrm>
            <a:off x="7315200" y="228600"/>
            <a:ext cx="14479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00600" y="1905120"/>
            <a:ext cx="4267080" cy="32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ld” IBM 3494 tape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2 Magstar 3590 drives, 14 MB/s read/wr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0 GB/cartridge 5200 cartridges (312 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ual active ac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naged by Tivoli Storag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5791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otal Maximum capacity: 1392 TB (612TB at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371600" y="1530360"/>
          <a:ext cx="65660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30360"/>
                    <a:ext cx="65660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44320" y="6064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-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3473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 f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763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stimate of Tape library usage (TB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assume that we will integrate additional 840 pb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by the end of 2005 (140 pb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/month x 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3880" y="2936880"/>
            <a:ext cx="118116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76040" y="2558880"/>
            <a:ext cx="1176480" cy="336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73880" y="2178000"/>
            <a:ext cx="118116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3880" y="1447920"/>
            <a:ext cx="118116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04(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2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58200" y="6308640"/>
            <a:ext cx="49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Reprocessing is not taken into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59080" y="2284560"/>
            <a:ext cx="526104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1560" y="3321000"/>
            <a:ext cx="1181160" cy="79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u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406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f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6064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-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5880" y="1616040"/>
            <a:ext cx="12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600" y="4191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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0240" y="191916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371600" y="1447920"/>
          <a:ext cx="65660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5660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396600" y="5867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-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768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 f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763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stimate of Tape library usage (TB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ng term estimate incl. all MC and re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3880" y="2936880"/>
            <a:ext cx="118116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76040" y="2558880"/>
            <a:ext cx="1176480" cy="336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73880" y="2178000"/>
            <a:ext cx="118116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73880" y="1447920"/>
            <a:ext cx="118116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04(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191120"/>
            <a:ext cx="526104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51560" y="3321000"/>
            <a:ext cx="1181160" cy="79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u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3276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f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3960" y="374976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23600" y="4191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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51560" y="4114800"/>
            <a:ext cx="1181160" cy="79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ro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1560" y="4952880"/>
            <a:ext cx="1181160" cy="79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48880" y="630864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We need additional tapes (</a:t>
            </a:r>
            <a:r>
              <a:rPr b="1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0240" y="1766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905120"/>
            <a:ext cx="526104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3960" y="152388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5:59:00Z</dcterms:created>
  <dc:creator>graziano</dc:creator>
  <dc:description/>
  <dc:language>en-US</dc:language>
  <cp:lastModifiedBy>graziano</cp:lastModifiedBy>
  <dcterms:modified xsi:type="dcterms:W3CDTF">2005-05-24T06:58:34Z</dcterms:modified>
  <cp:revision>450</cp:revision>
  <dc:subject/>
  <dc:title>scien</dc:title>
</cp:coreProperties>
</file>