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6.pct" ContentType="image/x-pict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ct" ContentType="image/x-pi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61F-5367-45A9-BABB-A3D8F38A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073-4A84-415B-9FA4-212684B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83E-9AB6-43AC-A86B-EC6329F2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4A7-4F8C-4978-9CB3-0AFF5F2B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D45-8B22-43A4-9204-4731C63D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4D6-877E-49F9-8E1E-62C0766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064-1514-47A3-B229-DF87C51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13E-D154-4E54-B495-85BAE94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3FD-63E3-4EA8-864B-6F1597DB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C5C-5746-449A-BF10-81BDC83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C4B-F898-4770-BAF7-41B836B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89D-F270-4227-B0AB-E0B3C17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294-A83D-49C2-94FC-9481E617A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321000" cy="335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3120" y="4573440"/>
            <a:ext cx="480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cientific Committ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ascati, 23. May-24. May 20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95560" y="784080"/>
            <a:ext cx="5029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extile"/>
              </a:rPr>
              <a:t>„</a:t>
            </a:r>
            <a:r>
              <a:rPr b="1" lang="de-DE" sz="3600" spc="-1" strike="noStrike">
                <a:solidFill>
                  <a:srgbClr val="800080"/>
                </a:solidFill>
                <a:latin typeface="Textile"/>
              </a:rPr>
              <a:t>P</a:t>
            </a:r>
            <a:r>
              <a:rPr b="0" lang="de-DE" sz="3600" spc="-1" strike="noStrike">
                <a:solidFill>
                  <a:srgbClr val="000000"/>
                </a:solidFill>
                <a:latin typeface="Textile"/>
              </a:rPr>
              <a:t>hysics </a:t>
            </a:r>
            <a:r>
              <a:rPr b="1" lang="de-DE" sz="3600" spc="-1" strike="noStrike">
                <a:solidFill>
                  <a:srgbClr val="800080"/>
                </a:solidFill>
                <a:latin typeface="Textile"/>
              </a:rPr>
              <a:t>o</a:t>
            </a:r>
            <a:r>
              <a:rPr b="0" lang="de-DE" sz="3600" spc="-1" strike="noStrike">
                <a:solidFill>
                  <a:srgbClr val="000000"/>
                </a:solidFill>
                <a:latin typeface="Textile"/>
              </a:rPr>
              <a:t>ff-</a:t>
            </a:r>
            <a:r>
              <a:rPr b="1" lang="de-DE" sz="3600" spc="-1" strike="noStrike">
                <a:solidFill>
                  <a:srgbClr val="800080"/>
                </a:solidFill>
                <a:latin typeface="Textile"/>
              </a:rPr>
              <a:t>P</a:t>
            </a:r>
            <a:r>
              <a:rPr b="0" lang="de-DE" sz="3600" spc="-1" strike="noStrike">
                <a:solidFill>
                  <a:srgbClr val="000000"/>
                </a:solidFill>
                <a:latin typeface="Textile"/>
              </a:rPr>
              <a:t>eak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2680" y="340056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Müller for the </a:t>
            </a:r>
            <a:r>
              <a:rPr b="0" lang="de-DE" sz="2400" spc="-1" strike="noStrike">
                <a:solidFill>
                  <a:srgbClr val="800080"/>
                </a:solidFill>
                <a:latin typeface="Bookman Old Style Bold Italic"/>
              </a:rPr>
              <a:t>PoP-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33160" y="14698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extile"/>
              </a:rPr>
              <a:t>with 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514440" y="727200"/>
            <a:ext cx="3843000" cy="4122360"/>
            <a:chOff x="514440" y="727200"/>
            <a:chExt cx="3843000" cy="41223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rcRect l="3567" t="36774" r="11291" b="3961"/>
            <a:stretch/>
          </p:blipFill>
          <p:spPr>
            <a:xfrm>
              <a:off x="514440" y="727200"/>
              <a:ext cx="3843000" cy="37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95960" y="88560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nb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73400" y="44812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 [MeV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3503880" y="133632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eucci@Cap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76120" y="2844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Concerning</a:t>
            </a:r>
            <a:r>
              <a:rPr b="1" lang="en-US" sz="2800" spc="-1" strike="noStrike">
                <a:solidFill>
                  <a:srgbClr val="31319c"/>
                </a:solidFill>
                <a:latin typeface="Times New Roman"/>
              </a:rPr>
              <a:t> 3</a:t>
            </a:r>
            <a:r>
              <a:rPr b="1" lang="en-US" sz="2800" spc="-1" strike="noStrike">
                <a:solidFill>
                  <a:srgbClr val="31319c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31319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backgr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956120" y="1152360"/>
          <a:ext cx="3457800" cy="2724120"/>
        </p:xfrm>
        <a:graphic>
          <a:graphicData uri="http://schemas.openxmlformats.org/drawingml/2006/table">
            <a:tbl>
              <a:tblPr/>
              <a:tblGrid>
                <a:gridCol w="1582920"/>
                <a:gridCol w="187488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[MeV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)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452120" y="401940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SND, Phys. Rev. D66 032001 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2480" y="4775040"/>
            <a:ext cx="82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ble reduction of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ground if going outsi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0560" y="25574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82360" y="5380200"/>
            <a:ext cx="7683840" cy="122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√s=1000 MeV would allow a “backgroundfre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ith KLOE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reduced systematic effects and a stat. error of 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·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230480" y="963720"/>
            <a:ext cx="2968560" cy="2894040"/>
            <a:chOff x="1230480" y="963720"/>
            <a:chExt cx="2968560" cy="28940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230480" y="963720"/>
              <a:ext cx="2968560" cy="28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930760" y="3130560"/>
              <a:ext cx="1096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MeV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95640" y="1146240"/>
              <a:ext cx="16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=102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1195200" y="2077920"/>
              <a:ext cx="1575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SR+FSR+f0)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SR+FS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68480" y="184320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43680" y="49320"/>
            <a:ext cx="78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extile"/>
              </a:rPr>
              <a:t>Another contribution to the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extile"/>
              </a:rPr>
              <a:t>spectrum: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97520" y="979560"/>
            <a:ext cx="2847960" cy="2948040"/>
            <a:chOff x="4997520" y="979560"/>
            <a:chExt cx="2847960" cy="29480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4997520" y="979560"/>
              <a:ext cx="2847960" cy="29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585120" y="3073680"/>
              <a:ext cx="1096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MeV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6320" y="1187640"/>
              <a:ext cx="167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Times New Roman"/>
                </a:rPr>
                <a:t>√</a:t>
              </a:r>
              <a:r>
                <a:rPr b="1" lang="en-US" sz="2000" spc="-1" strike="noStrike">
                  <a:solidFill>
                    <a:srgbClr val="ed181e"/>
                  </a:solidFill>
                  <a:latin typeface="Times New Roman"/>
                </a:rPr>
                <a:t>s=1000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21200" y="685800"/>
            <a:ext cx="74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-structure-model” (off-peak spectra extrapolated from on-peak fi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8400" y="3786120"/>
            <a:ext cx="7567560" cy="3071520"/>
            <a:chOff x="428400" y="3786120"/>
            <a:chExt cx="7567560" cy="3071520"/>
          </a:xfrm>
        </p:grpSpPr>
        <p:grpSp>
          <p:nvGrpSpPr>
            <p:cNvPr id="164" name=""/>
            <p:cNvGrpSpPr/>
            <p:nvPr/>
          </p:nvGrpSpPr>
          <p:grpSpPr>
            <a:xfrm>
              <a:off x="5030640" y="4255920"/>
              <a:ext cx="2965320" cy="2601720"/>
              <a:chOff x="5030640" y="4255920"/>
              <a:chExt cx="2965320" cy="2601720"/>
            </a:xfrm>
          </p:grpSpPr>
          <p:pic>
            <p:nvPicPr>
              <p:cNvPr id="1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0640" y="4255920"/>
                <a:ext cx="2965320" cy="26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6084360" y="4438440"/>
                <a:ext cx="167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d181e"/>
                    </a:solidFill>
                    <a:latin typeface="Times New Roman"/>
                  </a:rPr>
                  <a:t>√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Times New Roman"/>
                  </a:rPr>
                  <a:t>s=1000 Me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42000" y="6159240"/>
                <a:ext cx="109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[MeV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28400" y="3786120"/>
              <a:ext cx="73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on-Loop-model” (off-peak spectra extrapolated from on-peak fit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365120" y="4227480"/>
              <a:ext cx="2847960" cy="2573280"/>
              <a:chOff x="1365120" y="4227480"/>
              <a:chExt cx="2847960" cy="25732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65120" y="4227480"/>
                <a:ext cx="2847960" cy="25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2189160" y="4344840"/>
                <a:ext cx="16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=1020 Me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65240" y="6159600"/>
                <a:ext cx="109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[MeV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200000">
                <a:off x="1302840" y="5281560"/>
                <a:ext cx="1574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ISR+FSR+f0)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ISR+FSR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76480" y="5021280"/>
                <a:ext cx="0" cy="12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qrtsp" descr=""/>
          <p:cNvPicPr/>
          <p:nvPr/>
        </p:nvPicPr>
        <p:blipFill>
          <a:blip r:embed="rId1"/>
          <a:srcRect l="0" t="0" r="28295" b="103711"/>
          <a:stretch/>
        </p:blipFill>
        <p:spPr>
          <a:xfrm>
            <a:off x="1682640" y="239760"/>
            <a:ext cx="5715000" cy="5029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0240" y="11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extile"/>
              </a:rPr>
              <a:t>Cross section dependence o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√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4335480" y="2885400"/>
            <a:ext cx="6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65920" y="362268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-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3840" y="5583240"/>
            <a:ext cx="8587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can of 4 points around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s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poin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to establish parameters of scalar amplitu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2320" y="816120"/>
            <a:ext cx="44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2 data compared to extrapolations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peak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8b20"/>
                </a:solidFill>
                <a:latin typeface="Times New Roman"/>
              </a:rPr>
              <a:t>KL fit </a:t>
            </a:r>
            <a:r>
              <a:rPr b="1" lang="en-US" sz="1800" spc="-1" strike="noStrike">
                <a:solidFill>
                  <a:srgbClr val="2f8b2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2f8b20"/>
                </a:solidFill>
                <a:latin typeface="Times New Roman"/>
              </a:rPr>
              <a:t> green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81e"/>
                </a:solidFill>
                <a:latin typeface="Times New Roman"/>
              </a:rPr>
              <a:t>NS fit </a:t>
            </a:r>
            <a:r>
              <a:rPr b="1" lang="en-US" sz="1800" spc="-1" strike="noStrike">
                <a:solidFill>
                  <a:srgbClr val="ed181e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ed181e"/>
                </a:solidFill>
                <a:latin typeface="Times New Roman"/>
              </a:rPr>
              <a:t> red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76040" y="3478320"/>
            <a:ext cx="692640" cy="3682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835280" y="321156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91200" y="2297160"/>
            <a:ext cx="692640" cy="3682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p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406920" y="222048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54320" y="1620720"/>
            <a:ext cx="49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extile"/>
              </a:rPr>
              <a:t>Further Motiv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18400" y="262260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181e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ed181e"/>
                </a:solidFill>
                <a:latin typeface="Times New Roman"/>
              </a:rPr>
              <a:t>in no particular orde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080" y="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</a:t>
            </a: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via 2-phot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3080" y="576360"/>
            <a:ext cx="3902040" cy="990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33680" y="695160"/>
            <a:ext cx="389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6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3680" y="1414440"/>
            <a:ext cx="3891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600" spc="-1" strike="noStrike" baseline="33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2720" y="792000"/>
            <a:ext cx="42148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The scattered electrons are at </a:t>
            </a:r>
            <a:r>
              <a:rPr b="0" lang="en-GB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>
                <a:solidFill>
                  <a:srgbClr val="0000ff"/>
                </a:solidFill>
                <a:latin typeface="Bitstream Vera Serif"/>
              </a:rPr>
              <a:t> &lt; 1.3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can not be detected.</a:t>
            </a:r>
            <a:r>
              <a:rPr b="0" lang="en-GB" sz="2000" spc="-1" strike="noStrike">
                <a:solidFill>
                  <a:srgbClr val="0000ff"/>
                </a:solidFill>
                <a:latin typeface="Bitstream Vera Serif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4960" y="2070000"/>
            <a:ext cx="24508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Bookman"/>
              </a:rPr>
              <a:t>@KLOE</a:t>
            </a:r>
            <a:r>
              <a:rPr b="0" lang="en-GB" sz="2400" spc="-1" strike="noStrike">
                <a:solidFill>
                  <a:srgbClr val="000000"/>
                </a:solidFill>
                <a:latin typeface="Bookman"/>
              </a:rPr>
              <a:t>=4.12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719360"/>
            <a:ext cx="6624720" cy="1143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920" y="2949480"/>
            <a:ext cx="646416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84700"/>
                </a:solidFill>
                <a:latin typeface="Times New Roman"/>
              </a:rPr>
              <a:t>Three decay channels: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44200 events@ 2fb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4320" y="3508200"/>
            <a:ext cx="8313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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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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3000">
                <a:solidFill>
                  <a:srgbClr val="0000ff"/>
                </a:solidFill>
                <a:latin typeface="Symbol"/>
                <a:ea typeface="Symbol"/>
              </a:rPr>
              <a:t>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88920" y="3522600"/>
            <a:ext cx="17766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39.43±0.26)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1320" y="3492360"/>
            <a:ext cx="17766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2.6±0.4)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3760" y="3460680"/>
            <a:ext cx="163656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32.51 ±0.29)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1760" y="4464000"/>
            <a:ext cx="483696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84700"/>
                </a:solidFill>
                <a:latin typeface="Times New Roman"/>
              </a:rPr>
              <a:t>Expected backg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986360"/>
            <a:ext cx="51879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Bitstream Vera Serif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e</a:t>
            </a:r>
            <a:r>
              <a:rPr b="0" lang="en-GB" sz="22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200" spc="-1" strike="noStrike">
                <a:solidFill>
                  <a:srgbClr val="000000"/>
                </a:solidFill>
                <a:latin typeface="Bookman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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kinematic ident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4600" y="4924440"/>
            <a:ext cx="20354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94400" y="4995720"/>
            <a:ext cx="2035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63840" y="5253120"/>
            <a:ext cx="246852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vertex pos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08800" y="5321160"/>
            <a:ext cx="234936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HAR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0600" y="5904000"/>
            <a:ext cx="7585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mon background: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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nels) with 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360" y="6408720"/>
            <a:ext cx="5013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We can apply only tranverse momentum 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95480" y="62848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peak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89480" y="6408720"/>
            <a:ext cx="976320" cy="262080"/>
          </a:xfrm>
          <a:prstGeom prst="rightArrow">
            <a:avLst>
              <a:gd name="adj1" fmla="val 50000"/>
              <a:gd name="adj2" fmla="val 9313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2760" y="3860640"/>
            <a:ext cx="177624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181e"/>
                </a:solidFill>
                <a:latin typeface="Times New Roman"/>
              </a:rPr>
              <a:t>(96300 ev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38560" y="3848040"/>
            <a:ext cx="177624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181e"/>
                </a:solidFill>
                <a:latin typeface="Times New Roman"/>
              </a:rPr>
              <a:t>(55000 ev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48040"/>
            <a:ext cx="177624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d181e"/>
                </a:solidFill>
                <a:latin typeface="Times New Roman"/>
              </a:rPr>
              <a:t>(80000 ev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641680" y="1550880"/>
            <a:ext cx="5175000" cy="3854520"/>
            <a:chOff x="2641680" y="1550880"/>
            <a:chExt cx="5175000" cy="38545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rcRect l="23423" t="16730" r="16032" b="9440"/>
            <a:stretch/>
          </p:blipFill>
          <p:spPr>
            <a:xfrm>
              <a:off x="2641680" y="1550880"/>
              <a:ext cx="5175000" cy="38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966560" y="1631160"/>
              <a:ext cx="25599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: E</a:t>
              </a:r>
              <a:r>
                <a:rPr b="1" lang="it-IT" sz="17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 = 510 Me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700" spc="-1" strike="noStrike">
                  <a:solidFill>
                    <a:srgbClr val="000000"/>
                  </a:solidFill>
                  <a:latin typeface="Comic Sans MS"/>
                </a:rPr>
                <a:t>dashed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: E</a:t>
              </a:r>
              <a:r>
                <a:rPr b="1" lang="it-IT" sz="17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1" lang="it-IT" sz="1700" spc="-1" strike="noStrike">
                  <a:solidFill>
                    <a:srgbClr val="000000"/>
                  </a:solidFill>
                  <a:latin typeface="Times New Roman"/>
                </a:rPr>
                <a:t> = 500 Me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25760" y="2515680"/>
              <a:ext cx="4460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9960" y="3061440"/>
              <a:ext cx="325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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8960" y="3218760"/>
              <a:ext cx="741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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080" y="1350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2-photon phys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402200" y="2515320"/>
            <a:ext cx="2957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dF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/dW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nb</a:t>
            </a:r>
            <a:r>
              <a:rPr b="1" lang="it-IT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MeV</a:t>
            </a:r>
            <a:r>
              <a:rPr b="1" lang="it-IT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098800" y="569880"/>
            <a:ext cx="6146280" cy="999720"/>
            <a:chOff x="2098800" y="569880"/>
            <a:chExt cx="6146280" cy="99972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3123000" y="569880"/>
              <a:ext cx="5122080" cy="999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2098800" y="771480"/>
                  <a:ext cx="18291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hadron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6118920" y="909360"/>
              <a:ext cx="6627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300" spc="-1" strike="noStrike">
                  <a:solidFill>
                    <a:srgbClr val="000000"/>
                  </a:solidFill>
                  <a:latin typeface="Times New Roman"/>
                </a:rPr>
                <a:t>hadr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587200" y="2529000"/>
            <a:ext cx="1633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1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it-IT" sz="21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</a:rPr>
              <a:t>= 250 pb</a:t>
            </a:r>
            <a:r>
              <a:rPr b="1" lang="it-IT" sz="21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4240" y="7668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7160" y="5398920"/>
            <a:ext cx="8614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hange very much between √s=1000MeV and 1020 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oom for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80) interferenc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74320" y="6234120"/>
            <a:ext cx="5238000" cy="4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xpectation:</a:t>
            </a:r>
            <a:r>
              <a:rPr b="0" lang="it-IT" sz="19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1900" spc="-1" strike="noStrike">
                <a:solidFill>
                  <a:srgbClr val="ff3300"/>
                </a:solidFill>
                <a:latin typeface="Symbol"/>
                <a:ea typeface="Symbol"/>
              </a:rPr>
              <a:t></a:t>
            </a:r>
            <a:r>
              <a:rPr b="1" lang="it-IT" sz="19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</a:t>
            </a:r>
            <a:r>
              <a:rPr b="0" lang="it-IT" sz="19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it-IT" sz="1900" spc="-1" strike="noStrike">
                <a:solidFill>
                  <a:srgbClr val="ff3300"/>
                </a:solidFill>
                <a:latin typeface="Symbol"/>
                <a:ea typeface="Symbol"/>
              </a:rPr>
              <a:t></a:t>
            </a:r>
            <a:r>
              <a:rPr b="0" lang="it-IT" sz="19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events with</a:t>
            </a:r>
            <a:r>
              <a:rPr b="0" lang="it-IT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19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= 250 pb</a:t>
            </a:r>
            <a:r>
              <a:rPr b="1" lang="it-IT" sz="19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475400" y="4579920"/>
            <a:ext cx="0" cy="365040"/>
          </a:xfrm>
          <a:prstGeom prst="line">
            <a:avLst/>
          </a:prstGeom>
          <a:ln w="19080">
            <a:solidFill>
              <a:srgbClr val="ff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6920" y="41148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81e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ed181e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167360" y="1967040"/>
            <a:ext cx="4865400" cy="4566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9040" y="8748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2-photon physics: The </a:t>
            </a: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(6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2785680" y="2552040"/>
            <a:ext cx="261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N/dW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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eV</a:t>
            </a:r>
            <a:r>
              <a:rPr b="1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32720" y="6477120"/>
            <a:ext cx="135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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eV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4680" y="2116080"/>
            <a:ext cx="30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—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= 541 MeV, </a:t>
            </a:r>
            <a:r>
              <a:rPr b="1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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 = 252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imes New Roman"/>
              </a:rPr>
              <a:t>ee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</a:t>
            </a: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[300,800]=</a:t>
            </a:r>
            <a:r>
              <a:rPr b="1" lang="it-IT" sz="1600" spc="-1" strike="noStrike" u="sng">
                <a:solidFill>
                  <a:srgbClr val="333399"/>
                </a:solidFill>
                <a:uFillTx/>
                <a:latin typeface="Times New Roman"/>
              </a:rPr>
              <a:t>2.5</a:t>
            </a:r>
            <a:r>
              <a:rPr b="1" lang="it-IT" sz="16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</a:t>
            </a:r>
            <a:r>
              <a:rPr b="1" lang="it-IT" sz="1600" spc="-1" strike="noStrike" u="sng">
                <a:solidFill>
                  <a:srgbClr val="333399"/>
                </a:solidFill>
                <a:uFillTx/>
                <a:latin typeface="Times New Roman"/>
              </a:rPr>
              <a:t>10</a:t>
            </a:r>
            <a:r>
              <a:rPr b="1" lang="it-IT" sz="16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it-IT" sz="1600" spc="-1" strike="noStrike" u="sng" baseline="30000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it-IT" sz="1600" spc="-1" strike="noStrike" u="sng">
                <a:solidFill>
                  <a:srgbClr val="333399"/>
                </a:solidFill>
                <a:uFillTx/>
                <a:latin typeface="Times New Roman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89600" y="4888080"/>
            <a:ext cx="30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f8b20"/>
                </a:solidFill>
                <a:latin typeface="Times New Roman"/>
                <a:ea typeface="Times New Roman"/>
              </a:rPr>
              <a:t>—</a:t>
            </a: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2f8b20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-25000">
                <a:solidFill>
                  <a:srgbClr val="2f8b2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= 478 MeV, </a:t>
            </a:r>
            <a:r>
              <a:rPr b="1" lang="it-IT" sz="1600" spc="-1" strike="noStrike">
                <a:solidFill>
                  <a:srgbClr val="2f8b20"/>
                </a:solidFill>
                <a:latin typeface="Symbol"/>
                <a:ea typeface="Symbol"/>
              </a:rPr>
              <a:t></a:t>
            </a:r>
            <a:r>
              <a:rPr b="1" lang="it-IT" sz="1600" spc="-1" strike="noStrike" baseline="-25000">
                <a:solidFill>
                  <a:srgbClr val="2f8b20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 = 324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N</a:t>
            </a:r>
            <a:r>
              <a:rPr b="1" lang="it-IT" sz="1600" spc="-1" strike="noStrike" baseline="-25000">
                <a:solidFill>
                  <a:srgbClr val="2f8b20"/>
                </a:solidFill>
                <a:latin typeface="Times New Roman"/>
              </a:rPr>
              <a:t>ee</a:t>
            </a:r>
            <a:r>
              <a:rPr b="1" lang="it-IT" sz="1600" spc="-1" strike="noStrike" baseline="-25000">
                <a:solidFill>
                  <a:srgbClr val="2f8b20"/>
                </a:solidFill>
                <a:latin typeface="Symbol"/>
                <a:ea typeface="Symbol"/>
              </a:rPr>
              <a:t></a:t>
            </a:r>
            <a:r>
              <a:rPr b="1" lang="it-IT" sz="1600" spc="-1" strike="noStrike">
                <a:solidFill>
                  <a:srgbClr val="2f8b20"/>
                </a:solidFill>
                <a:latin typeface="Times New Roman"/>
              </a:rPr>
              <a:t>[300,800]=</a:t>
            </a:r>
            <a:r>
              <a:rPr b="1" lang="it-IT" sz="1600" spc="-1" strike="noStrike" u="sng">
                <a:solidFill>
                  <a:srgbClr val="2f8b20"/>
                </a:solidFill>
                <a:uFillTx/>
                <a:latin typeface="Times New Roman"/>
              </a:rPr>
              <a:t>3.3</a:t>
            </a:r>
            <a:r>
              <a:rPr b="1" lang="it-IT" sz="1600" spc="-1" strike="noStrike" u="sng">
                <a:solidFill>
                  <a:srgbClr val="2f8b20"/>
                </a:solidFill>
                <a:uFillTx/>
                <a:latin typeface="Symbol"/>
                <a:ea typeface="Symbol"/>
              </a:rPr>
              <a:t></a:t>
            </a:r>
            <a:r>
              <a:rPr b="1" lang="it-IT" sz="1600" spc="-1" strike="noStrike" u="sng">
                <a:solidFill>
                  <a:srgbClr val="2f8b20"/>
                </a:solidFill>
                <a:uFillTx/>
                <a:latin typeface="Times New Roman"/>
              </a:rPr>
              <a:t>10</a:t>
            </a:r>
            <a:r>
              <a:rPr b="1" lang="it-IT" sz="1600" spc="-1" strike="noStrike" baseline="30000">
                <a:solidFill>
                  <a:srgbClr val="2f8b20"/>
                </a:solidFill>
                <a:latin typeface="Times New Roman"/>
              </a:rPr>
              <a:t>4 </a:t>
            </a:r>
            <a:r>
              <a:rPr b="1" lang="it-IT" sz="1600" spc="-1" strike="noStrike" u="sng">
                <a:solidFill>
                  <a:srgbClr val="2f8b20"/>
                </a:solidFill>
                <a:uFillTx/>
                <a:latin typeface="Times New Roman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10200" y="5483160"/>
            <a:ext cx="30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= 600 MeV,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= 350 M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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[300,800]=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1.6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it-IT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it-IT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7800" y="1162080"/>
            <a:ext cx="3363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21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1" lang="it-IT" sz="2100" spc="-1" strike="noStrike">
                <a:solidFill>
                  <a:srgbClr val="000000"/>
                </a:solidFill>
                <a:latin typeface="Symbol"/>
                <a:ea typeface="Symbol"/>
              </a:rPr>
              <a:t>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1" lang="it-IT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1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1" lang="it-IT" sz="21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1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ent yield with 250 pb</a:t>
            </a:r>
            <a:r>
              <a:rPr b="0" lang="it-IT" sz="17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</a:t>
            </a:r>
            <a:r>
              <a:rPr b="0" lang="it-IT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7160" y="849240"/>
            <a:ext cx="3886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ultiplying t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lux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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262400"/>
            <a:ext cx="441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1) in the channel</a:t>
            </a:r>
            <a:r>
              <a:rPr b="0" lang="it-IT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990000"/>
                </a:solidFill>
                <a:latin typeface="Symbol"/>
                <a:ea typeface="Symbol"/>
              </a:rPr>
              <a:t></a:t>
            </a:r>
            <a:r>
              <a:rPr b="1" lang="it-IT" sz="1800" spc="-1" strike="noStrike" baseline="30000">
                <a:solidFill>
                  <a:srgbClr val="990000"/>
                </a:solidFill>
                <a:latin typeface="Symbol"/>
                <a:ea typeface="Symbol"/>
              </a:rPr>
              <a:t></a:t>
            </a:r>
            <a:r>
              <a:rPr b="1" lang="it-IT" sz="1800" spc="-1" strike="noStrike">
                <a:solidFill>
                  <a:srgbClr val="990000"/>
                </a:solidFill>
                <a:latin typeface="Symbol"/>
                <a:ea typeface="Symbol"/>
              </a:rPr>
              <a:t></a:t>
            </a:r>
            <a:r>
              <a:rPr b="1" lang="it-IT" sz="1800" spc="-1" strike="noStrike" baseline="30000">
                <a:solidFill>
                  <a:srgbClr val="990000"/>
                </a:solidFill>
                <a:latin typeface="Symbol"/>
                <a:ea typeface="Symbol"/>
              </a:rPr>
              <a:t>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the signal is overwhelmed by ISR and F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2) in the neutral case, background (not interfering) channel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9760" y="6195960"/>
            <a:ext cx="2511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</a:t>
            </a:r>
            <a:r>
              <a:rPr b="1" lang="it-IT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sr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</a:t>
            </a:r>
            <a:r>
              <a:rPr b="1" lang="it-IT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s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0840" y="5834160"/>
            <a:ext cx="24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it-IT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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1700" spc="-1" strike="noStrike">
                <a:solidFill>
                  <a:srgbClr val="000000"/>
                </a:solidFill>
                <a:latin typeface="Symbol"/>
                <a:ea typeface="Symbol"/>
              </a:rPr>
              <a:t></a:t>
            </a:r>
            <a:r>
              <a:rPr b="1" lang="it-IT" sz="1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1360" y="1992240"/>
                <a:ext cx="3124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p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g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g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27040" y="3006720"/>
                <a:ext cx="1873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k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 rot="21000000">
            <a:off x="675360" y="3353040"/>
            <a:ext cx="32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M. Boglione and M. R. Penningt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Eur.Phys.J.C9:11-29,1999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54936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8000" y="302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scan :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 BR(</a:t>
            </a: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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</a:t>
            </a:r>
            <a:r>
              <a:rPr b="1" lang="it-IT" sz="2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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8000" y="692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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973760" y="1700280"/>
            <a:ext cx="3919320" cy="2736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433680" y="1341360"/>
            <a:ext cx="215748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1+200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000" y="6021360"/>
            <a:ext cx="8472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de the measurement with higher statistics fr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an (if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@ 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 values will allow to determine the slope from 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20320" y="35910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</a:t>
            </a:r>
            <a:r>
              <a:rPr b="1" lang="en-US" sz="2400" spc="-1" strike="noStrike" baseline="30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360" y="4545000"/>
            <a:ext cx="82720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 resul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actor 3 improvements w.r.t. S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(4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728880" cy="2521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111040" y="3591000"/>
            <a:ext cx="16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</a:t>
            </a:r>
            <a:r>
              <a:rPr b="1" lang="en-US" sz="24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cc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58120" y="1764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19c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31319c"/>
                </a:solidFill>
                <a:latin typeface="Textile"/>
              </a:rPr>
              <a:t> </a:t>
            </a: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lineshape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3725" t="35406" r="0" b="3129"/>
          <a:stretch/>
        </p:blipFill>
        <p:spPr>
          <a:xfrm>
            <a:off x="1676520" y="781200"/>
            <a:ext cx="5905440" cy="5333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819040" y="120636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ucci@Ca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40040" y="601488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[Me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4120" y="98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9440" y="1216080"/>
            <a:ext cx="9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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9240" y="14652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3080" y="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DA</a:t>
            </a:r>
            <a:r>
              <a:rPr b="1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</a:t>
            </a: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NE 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&amp;</a:t>
            </a: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 KLO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1480" y="696960"/>
            <a:ext cx="8627040" cy="2553480"/>
            <a:chOff x="231480" y="696960"/>
            <a:chExt cx="8627040" cy="2553480"/>
          </a:xfrm>
        </p:grpSpPr>
        <p:sp>
          <p:nvSpPr>
            <p:cNvPr id="270" name=""/>
            <p:cNvSpPr/>
            <p:nvPr/>
          </p:nvSpPr>
          <p:spPr>
            <a:xfrm>
              <a:off x="231480" y="696960"/>
              <a:ext cx="14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E:</a:t>
              </a:r>
              <a:r>
                <a:rPr b="1" lang="it-IT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01080" y="782640"/>
              <a:ext cx="6837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 shift to move the energy by 2 MeV (step-by-step)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70% of max. luminosity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 days for collecting 10pb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t each point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oing in energy abov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might prove more difficul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ue to saturation effects on quadrupole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15880" y="2790720"/>
              <a:ext cx="56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. Raimondi, KLOE Physics workshop 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15000" y="3716280"/>
            <a:ext cx="8732160" cy="2355120"/>
            <a:chOff x="315000" y="3716280"/>
            <a:chExt cx="8732160" cy="2355120"/>
          </a:xfrm>
        </p:grpSpPr>
        <p:sp>
          <p:nvSpPr>
            <p:cNvPr id="274" name=""/>
            <p:cNvSpPr/>
            <p:nvPr/>
          </p:nvSpPr>
          <p:spPr>
            <a:xfrm>
              <a:off x="315000" y="37162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LOE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58960" y="3782880"/>
              <a:ext cx="7288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art from Bhabha and muon events, physics cro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ction ca. 100-200 nb at 1000 MeV coll.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acquisition rate ca. 1.7 kHz (Bhabhas, Cosmics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h. Backgr.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e to reduction in phys. cross section, decrease in 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 expected for reco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1440" y="965160"/>
            <a:ext cx="63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Motivations for taking off-peak dat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3720" y="1936800"/>
            <a:ext cx="7474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d18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Measurement of the </a:t>
            </a:r>
            <a:r>
              <a:rPr b="0" lang="en-US" sz="24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ed181e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ed181e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ed181e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cross section down to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d18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Studying the model dependence of the f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scalar me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photon physics with KL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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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00) via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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hape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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73080" y="381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Textile"/>
              </a:rPr>
              <a:t>Conclu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6200" y="812880"/>
            <a:ext cx="83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ff-peak data taking period will nicely complement many 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analyses and allow to look into new channel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6120" y="4568760"/>
            <a:ext cx="85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ed Scen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nd of “on-peak” KLOE data taking,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ed181e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4 points with at least 10pb</a:t>
            </a:r>
            <a:r>
              <a:rPr b="1" lang="en-US" sz="2400" spc="-1" strike="noStrike" baseline="30000">
                <a:solidFill>
                  <a:srgbClr val="ed181e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 each between 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and 1030 MeV collis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ed181e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1 point with 200 pb</a:t>
            </a:r>
            <a:r>
              <a:rPr b="1" lang="en-US" sz="2400" spc="-1" strike="noStrike" baseline="30000">
                <a:solidFill>
                  <a:srgbClr val="ed181e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ed181e"/>
                </a:solidFill>
                <a:latin typeface="Times New Roman"/>
              </a:rPr>
              <a:t> at 1000 MeV collis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1800" y="1612800"/>
            <a:ext cx="7948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important in the light of the hadronic cros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the radiative return and th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15320" y="2448000"/>
            <a:ext cx="671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an around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ss will help to determin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nd correspon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of the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92640" y="3298680"/>
            <a:ext cx="69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nger period at 1000 MeV collision energy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a measurement of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ross section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systematic error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8880" y="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extile"/>
              </a:rPr>
              <a:t>Charge Asymmetry</a:t>
            </a:r>
            <a:r>
              <a:rPr b="0" lang="en-US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9120" y="640080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KLOE Memo 243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2535" t="7982" r="0" b="0"/>
          <a:stretch/>
        </p:blipFill>
        <p:spPr>
          <a:xfrm>
            <a:off x="743040" y="1201680"/>
            <a:ext cx="8400960" cy="513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5400000">
            <a:off x="4106520" y="194976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65720" y="4286160"/>
            <a:ext cx="1377000" cy="168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Bookman Old Style"/>
              </a:rPr>
              <a:t>E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EVA + f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Bookman Old Style"/>
              </a:rPr>
              <a:t>0</a:t>
            </a:r>
            <a:r>
              <a:rPr b="1" lang="en-US" sz="1600" spc="-1" strike="noStrike">
                <a:solidFill>
                  <a:srgbClr val="333399"/>
                </a:solidFill>
                <a:latin typeface="Bookman Old Style"/>
              </a:rPr>
              <a:t>*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Bookman Old Style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63360" y="2093760"/>
            <a:ext cx="1605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sym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4244400" y="1851120"/>
            <a:ext cx="1301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07760" y="5970600"/>
            <a:ext cx="133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[M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20960" y="5904000"/>
            <a:ext cx="13312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[Me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206880" y="773280"/>
                <a:ext cx="26812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-88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Textile"/>
              </a:rPr>
              <a:t>Expected improvement in systema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0" r="0" b="34915"/>
          <a:stretch/>
        </p:blipFill>
        <p:spPr>
          <a:xfrm>
            <a:off x="0" y="1727280"/>
            <a:ext cx="4392720" cy="3506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42920" y="2136600"/>
            <a:ext cx="4105080" cy="36036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464000" y="1562040"/>
            <a:ext cx="1081080" cy="719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8720" y="1057320"/>
            <a:ext cx="3853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990000"/>
                </a:solidFill>
                <a:latin typeface="Comic Sans MS"/>
              </a:rPr>
              <a:t>suppressed cosmic veto inefficienc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990000"/>
                </a:solidFill>
                <a:latin typeface="Comic Sans MS"/>
              </a:rPr>
              <a:t>thanks to L3 trig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2920" y="2496960"/>
            <a:ext cx="4105080" cy="360720"/>
          </a:xfrm>
          <a:prstGeom prst="rect">
            <a:avLst/>
          </a:prstGeom>
          <a:noFill/>
          <a:ln w="316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91280" y="2570040"/>
            <a:ext cx="3636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663300"/>
                </a:solidFill>
                <a:latin typeface="Comic Sans MS"/>
              </a:rPr>
              <a:t>new FILFO criteria should get rid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663300"/>
                </a:solidFill>
                <a:latin typeface="Comic Sans MS"/>
              </a:rPr>
              <a:t>the  dependence on the mach. backgr.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663300"/>
                </a:solidFill>
                <a:latin typeface="Comic Sans MS"/>
              </a:rPr>
              <a:t>downscale algorithms provide real unbiased control samp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663300"/>
                </a:solidFill>
                <a:latin typeface="Comic Sans MS"/>
              </a:rPr>
              <a:t>(only working in 2004-05, not in 200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64000" y="2425680"/>
            <a:ext cx="792360" cy="2160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2920" y="2857680"/>
            <a:ext cx="4105080" cy="647640"/>
          </a:xfrm>
          <a:prstGeom prst="rect">
            <a:avLst/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64000" y="3144960"/>
            <a:ext cx="720720" cy="43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9400" y="3433680"/>
            <a:ext cx="3637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6600"/>
                </a:solidFill>
                <a:latin typeface="Comic Sans MS"/>
              </a:rPr>
              <a:t>the new PPGTAG algorithm should decrease systematics (only in 2005, neither present in 2002, nor in 200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64000" y="4513320"/>
            <a:ext cx="647640" cy="431640"/>
          </a:xfrm>
          <a:prstGeom prst="line">
            <a:avLst/>
          </a:prstGeom>
          <a:ln w="1908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43400" y="4818240"/>
            <a:ext cx="352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33cc"/>
                </a:solidFill>
                <a:latin typeface="Comic Sans MS"/>
              </a:rPr>
              <a:t>the name of the game is background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33cc"/>
                </a:solidFill>
                <a:latin typeface="Comic Sans MS"/>
              </a:rPr>
              <a:t>for dealing with the unbearable    </a:t>
            </a:r>
            <a:r>
              <a:rPr b="1" lang="it-IT" sz="15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1" lang="it-IT" sz="15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</a:t>
            </a:r>
            <a:r>
              <a:rPr b="1" lang="it-IT" sz="15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1" lang="it-IT" sz="15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it-IT" sz="15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1" lang="it-IT" sz="15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280" y="4081320"/>
            <a:ext cx="4248360" cy="57636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9160" y="126684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ngle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06960" y="57240"/>
            <a:ext cx="51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Charged and neutral kaon form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8680" y="84924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ch, Kodjamirian, Kühn, hep-ph/04090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7360" y="1295280"/>
            <a:ext cx="4202280" cy="3365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651200" y="1314360"/>
            <a:ext cx="3908520" cy="3289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54840" y="4525920"/>
            <a:ext cx="805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 in both cases well measured, however few points (with large error b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ow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2463840" y="3352320"/>
            <a:ext cx="876240" cy="12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863960" y="3009600"/>
            <a:ext cx="132084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6480" y="5354640"/>
            <a:ext cx="600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3 orders of magnitude drop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ly difficult for charged kaons (spiralizing tra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 can’t do it - who else????????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29480" y="1382760"/>
            <a:ext cx="43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extile"/>
              </a:rPr>
              <a:t>Main Motiva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1720" y="2706840"/>
            <a:ext cx="43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181e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ed181e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ed181e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ed181e"/>
                </a:solidFill>
                <a:latin typeface="Symbol"/>
                <a:ea typeface="Symbol"/>
              </a:rPr>
              <a:t></a:t>
            </a:r>
            <a:r>
              <a:rPr b="1" lang="en-US" sz="3600" spc="-1" strike="noStrike">
                <a:solidFill>
                  <a:srgbClr val="ed181e"/>
                </a:solidFill>
                <a:latin typeface="Times New Roman"/>
              </a:rPr>
              <a:t> cross 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37160" y="3552840"/>
            <a:ext cx="4693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181e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d181e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ed181e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ed181e"/>
                </a:solidFill>
                <a:latin typeface="Times New Roman"/>
              </a:rPr>
              <a:t> model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4363920" y="1911240"/>
            <a:ext cx="4536720" cy="3744720"/>
            <a:chOff x="4363920" y="1911240"/>
            <a:chExt cx="4536720" cy="37447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rcRect l="3263" t="51411" r="51978" b="3551"/>
            <a:stretch/>
          </p:blipFill>
          <p:spPr>
            <a:xfrm>
              <a:off x="4363920" y="1911240"/>
              <a:ext cx="453672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987320" y="4851000"/>
              <a:ext cx="8542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500" spc="-1" strike="noStrike">
                  <a:solidFill>
                    <a:srgbClr val="000000"/>
                  </a:solidFill>
                  <a:latin typeface="Times New Roman"/>
                </a:rPr>
                <a:t>s (GeV</a:t>
              </a:r>
              <a:r>
                <a:rPr b="1" lang="it-IT" sz="15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it-IT" sz="1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4780080" y="2542320"/>
              <a:ext cx="97020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it-IT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500" spc="-1" strike="noStrike">
                  <a:solidFill>
                    <a:srgbClr val="000000"/>
                  </a:solidFill>
                  <a:latin typeface="Times New Roman"/>
                </a:rPr>
                <a:t>(nbarn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rcRect l="66480" t="2419" r="20824" b="85083"/>
            <a:stretch/>
          </p:blipFill>
          <p:spPr>
            <a:xfrm>
              <a:off x="6894000" y="2297880"/>
              <a:ext cx="873360" cy="96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5247720" y="142704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ecker@ICHEP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5440" y="3244680"/>
            <a:ext cx="3516480" cy="87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ad,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&lt;0.35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rom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080" y="4727520"/>
            <a:ext cx="45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LOE small angle  analysis di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ver the region below 0.59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169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3920" y="5695920"/>
            <a:ext cx="26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MD2 d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0560" y="14400"/>
            <a:ext cx="75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1319c"/>
                </a:solidFill>
                <a:latin typeface="Textile"/>
              </a:rPr>
              <a:t>Hadronic cross section</a:t>
            </a:r>
            <a:r>
              <a:rPr b="1" lang="de-DE" sz="2800" spc="-1" strike="noStrike">
                <a:solidFill>
                  <a:srgbClr val="31319c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31319c"/>
                </a:solidFill>
                <a:latin typeface="Symbol"/>
                <a:ea typeface="Symbol"/>
              </a:rPr>
              <a:t></a:t>
            </a:r>
            <a:r>
              <a:rPr b="1" lang="de-DE" sz="2800" spc="-1" strike="noStrike">
                <a:solidFill>
                  <a:srgbClr val="31319c"/>
                </a:solidFill>
                <a:latin typeface="Times New Roman"/>
              </a:rPr>
              <a:t>(e+e-</a:t>
            </a:r>
            <a:r>
              <a:rPr b="1" lang="de-DE" sz="2800" spc="-1" strike="noStrike">
                <a:solidFill>
                  <a:srgbClr val="31319c"/>
                </a:solidFill>
                <a:latin typeface="Symbol"/>
                <a:ea typeface="Symbol"/>
              </a:rPr>
              <a:t></a:t>
            </a:r>
            <a:r>
              <a:rPr b="1" lang="de-DE" sz="2800" spc="-1" strike="noStrike">
                <a:solidFill>
                  <a:srgbClr val="31319c"/>
                </a:solidFill>
                <a:latin typeface="Times New Roman"/>
              </a:rPr>
              <a:t>+</a:t>
            </a:r>
            <a:r>
              <a:rPr b="1" lang="de-DE" sz="2800" spc="-1" strike="noStrike">
                <a:solidFill>
                  <a:srgbClr val="31319c"/>
                </a:solidFill>
                <a:latin typeface="Symbol"/>
                <a:ea typeface="Symbol"/>
              </a:rPr>
              <a:t></a:t>
            </a:r>
            <a:r>
              <a:rPr b="1" lang="de-DE" sz="2800" spc="-1" strike="noStrike">
                <a:solidFill>
                  <a:srgbClr val="31319c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31319c"/>
                </a:solidFill>
                <a:latin typeface="Symbol"/>
                <a:ea typeface="Symbol"/>
              </a:rPr>
              <a:t></a:t>
            </a:r>
            <a:r>
              <a:rPr b="1" lang="de-DE" sz="2800" spc="-1" strike="noStrike">
                <a:solidFill>
                  <a:srgbClr val="31319c"/>
                </a:solidFill>
                <a:latin typeface="Times New Roman"/>
              </a:rPr>
              <a:t>) </a:t>
            </a:r>
            <a:r>
              <a:rPr b="1" lang="de-DE" sz="2000" spc="-1" strike="noStrike">
                <a:solidFill>
                  <a:srgbClr val="31319c"/>
                </a:solidFill>
                <a:latin typeface="Textile"/>
              </a:rPr>
              <a:t>at low ener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80" y="1601640"/>
            <a:ext cx="31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ad,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tal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1160" y="2271600"/>
            <a:ext cx="37933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ad,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&lt;1.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276720" y="1477800"/>
            <a:ext cx="5303880" cy="5116680"/>
            <a:chOff x="3276720" y="1477800"/>
            <a:chExt cx="5303880" cy="511668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3276720" y="1477800"/>
              <a:ext cx="5303880" cy="511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4000680" y="4786200"/>
              <a:ext cx="4371840" cy="701640"/>
              <a:chOff x="4000680" y="4786200"/>
              <a:chExt cx="4371840" cy="701640"/>
            </a:xfrm>
          </p:grpSpPr>
          <p:sp>
            <p:nvSpPr>
              <p:cNvPr id="68" name=""/>
              <p:cNvSpPr/>
              <p:nvPr/>
            </p:nvSpPr>
            <p:spPr>
              <a:xfrm>
                <a:off x="4000680" y="548784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00760" y="5487840"/>
                <a:ext cx="16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29560" y="5487840"/>
                <a:ext cx="15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62240" y="5114880"/>
                <a:ext cx="70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-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09360" y="5114880"/>
                <a:ext cx="89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.6-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48600" y="5114880"/>
                <a:ext cx="70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-5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46400" y="4786200"/>
                <a:ext cx="194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ystematic err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3670200" y="3029040"/>
              <a:ext cx="1249560" cy="927000"/>
            </a:xfrm>
            <a:custGeom>
              <a:avLst/>
              <a:gdLst/>
              <a:ahLst/>
              <a:rect l="l" t="t" r="r" b="b"/>
              <a:pathLst>
                <a:path w="805" h="782">
                  <a:moveTo>
                    <a:pt x="378" y="69"/>
                  </a:moveTo>
                  <a:cubicBezTo>
                    <a:pt x="285" y="138"/>
                    <a:pt x="72" y="329"/>
                    <a:pt x="36" y="447"/>
                  </a:cubicBezTo>
                  <a:cubicBezTo>
                    <a:pt x="0" y="565"/>
                    <a:pt x="51" y="778"/>
                    <a:pt x="162" y="780"/>
                  </a:cubicBezTo>
                  <a:cubicBezTo>
                    <a:pt x="273" y="782"/>
                    <a:pt x="599" y="559"/>
                    <a:pt x="702" y="456"/>
                  </a:cubicBezTo>
                  <a:cubicBezTo>
                    <a:pt x="805" y="353"/>
                    <a:pt x="801" y="230"/>
                    <a:pt x="783" y="159"/>
                  </a:cubicBezTo>
                  <a:cubicBezTo>
                    <a:pt x="765" y="88"/>
                    <a:pt x="660" y="52"/>
                    <a:pt x="594" y="33"/>
                  </a:cubicBezTo>
                  <a:cubicBezTo>
                    <a:pt x="528" y="14"/>
                    <a:pt x="471" y="0"/>
                    <a:pt x="378" y="69"/>
                  </a:cubicBezTo>
                  <a:close/>
                </a:path>
              </a:pathLst>
            </a:cu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63440" y="161460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75920" y="712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1319c"/>
                </a:solidFill>
                <a:latin typeface="Textile"/>
              </a:rPr>
              <a:t>CMD2 data (not yet publish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35000"/>
            <a:ext cx="325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points between ca. 370 and 52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040" y="126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odov Talk in KA, Oct.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560" y="3535200"/>
            <a:ext cx="23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2% syst.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6% stat. Er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52960" y="1246320"/>
            <a:ext cx="5296320" cy="5484600"/>
            <a:chOff x="3252960" y="1246320"/>
            <a:chExt cx="5296320" cy="54846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0" t="1616" r="1834" b="0"/>
            <a:stretch/>
          </p:blipFill>
          <p:spPr>
            <a:xfrm>
              <a:off x="3252960" y="1541520"/>
              <a:ext cx="5254560" cy="51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471560" y="1246320"/>
              <a:ext cx="4077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Eidelman Talk at Springschool, May 20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6600" y="269712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&gt; ca. 10/20 MeV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920" y="4602240"/>
            <a:ext cx="30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ap between 520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00 M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.27 - 0.36 GeV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352680" y="1419120"/>
            <a:ext cx="5791320" cy="5097600"/>
            <a:chOff x="3352680" y="1419120"/>
            <a:chExt cx="5791320" cy="5097600"/>
          </a:xfrm>
        </p:grpSpPr>
        <p:grpSp>
          <p:nvGrpSpPr>
            <p:cNvPr id="88" name=""/>
            <p:cNvGrpSpPr/>
            <p:nvPr/>
          </p:nvGrpSpPr>
          <p:grpSpPr>
            <a:xfrm>
              <a:off x="3352680" y="1419120"/>
              <a:ext cx="5791320" cy="5097600"/>
              <a:chOff x="3352680" y="1419120"/>
              <a:chExt cx="5791320" cy="5097600"/>
            </a:xfrm>
          </p:grpSpPr>
          <p:pic>
            <p:nvPicPr>
              <p:cNvPr id="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1419120"/>
                <a:ext cx="5791320" cy="50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16200000">
                <a:off x="3681720" y="2904480"/>
                <a:ext cx="13255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C, L=800pb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4600" y="1614600"/>
                <a:ext cx="654120" cy="4279680"/>
              </a:xfrm>
              <a:prstGeom prst="rect">
                <a:avLst/>
              </a:prstGeom>
              <a:solidFill>
                <a:srgbClr val="bbe0e3">
                  <a:alpha val="50000"/>
                </a:srgbClr>
              </a:solidFill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38720" y="1608120"/>
                <a:ext cx="432000" cy="4280040"/>
              </a:xfrm>
              <a:prstGeom prst="rect">
                <a:avLst/>
              </a:prstGeom>
              <a:solidFill>
                <a:srgbClr val="993366">
                  <a:alpha val="50000"/>
                </a:srgbClr>
              </a:solidFill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rot="16200000">
              <a:off x="3706200" y="256284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MD2 - measu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16200000">
            <a:off x="4547160" y="227628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2 -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4280" y="57240"/>
            <a:ext cx="43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What can KLOE do in this reg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0960" y="112716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(no photon tagging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840" y="1579680"/>
            <a:ext cx="309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gion cove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D2, from MC we get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d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440" y="2824200"/>
            <a:ext cx="29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 event  /pb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/bin of 0.01 GeV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33640" y="3467160"/>
            <a:ext cx="1994040" cy="1117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720" y="3814920"/>
            <a:ext cx="300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inwidth of 0.01 G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region correspond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-13 MeV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400" y="5019840"/>
            <a:ext cx="28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t. error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00 events/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9960" y="781200"/>
            <a:ext cx="81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tat. error/bin(0.01 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the measured cros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rge angle select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7680" y="1268280"/>
                <a:ext cx="1307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d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γ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3364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5080" y="174132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iciency taken from M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" y="6224760"/>
            <a:ext cx="81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-300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be comparable with the CMD2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720" y="4284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Statistical errors/b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35120" y="1681200"/>
            <a:ext cx="4753080" cy="4405320"/>
            <a:chOff x="2535120" y="1681200"/>
            <a:chExt cx="4753080" cy="44053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535120" y="1681200"/>
              <a:ext cx="4753080" cy="44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86080" y="3289320"/>
              <a:ext cx="3782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89080" y="3137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222280" y="1257840"/>
            <a:ext cx="4427280" cy="4188960"/>
            <a:chOff x="2222280" y="1257840"/>
            <a:chExt cx="4427280" cy="4188960"/>
          </a:xfrm>
        </p:grpSpPr>
        <p:grpSp>
          <p:nvGrpSpPr>
            <p:cNvPr id="115" name=""/>
            <p:cNvGrpSpPr/>
            <p:nvPr/>
          </p:nvGrpSpPr>
          <p:grpSpPr>
            <a:xfrm>
              <a:off x="2222280" y="1257840"/>
              <a:ext cx="4427280" cy="4188960"/>
              <a:chOff x="2222280" y="1257840"/>
              <a:chExt cx="4427280" cy="41889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222280" y="1403640"/>
                <a:ext cx="4427280" cy="4043160"/>
                <a:chOff x="2222280" y="1403640"/>
                <a:chExt cx="4427280" cy="40431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2441160" y="1541520"/>
                  <a:ext cx="4208400" cy="3905280"/>
                  <a:chOff x="2441160" y="1541520"/>
                  <a:chExt cx="4208400" cy="3905280"/>
                </a:xfrm>
              </p:grpSpPr>
              <p:pic>
                <p:nvPicPr>
                  <p:cNvPr id="118" name="" descr=""/>
                  <p:cNvPicPr/>
                  <p:nvPr/>
                </p:nvPicPr>
                <p:blipFill>
                  <a:blip r:embed="rId1"/>
                  <a:srcRect l="0" t="8452" r="8857" b="0"/>
                  <a:stretch/>
                </p:blipFill>
                <p:spPr>
                  <a:xfrm>
                    <a:off x="2761920" y="1541520"/>
                    <a:ext cx="38876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rcRect l="41342" t="85731" r="3289" b="5488"/>
                  <a:stretch/>
                </p:blipFill>
                <p:spPr>
                  <a:xfrm>
                    <a:off x="2441160" y="4916520"/>
                    <a:ext cx="417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20" name=""/>
                <p:cNvSpPr/>
                <p:nvPr/>
              </p:nvSpPr>
              <p:spPr>
                <a:xfrm rot="16200000">
                  <a:off x="1765080" y="1860840"/>
                  <a:ext cx="1444680" cy="53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r>
                    <a:rPr b="0" lang="it-IT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ta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2815560" y="1257840"/>
                <a:ext cx="315000" cy="390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2" name="" descr=""/>
            <p:cNvPicPr/>
            <p:nvPr/>
          </p:nvPicPr>
          <p:blipFill>
            <a:blip r:embed="rId3"/>
            <a:srcRect l="66152" t="31255" r="12847" b="50155"/>
            <a:stretch/>
          </p:blipFill>
          <p:spPr>
            <a:xfrm>
              <a:off x="4424400" y="1898640"/>
              <a:ext cx="1871640" cy="11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328680" y="795240"/>
            <a:ext cx="84232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. contribution (in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the stat. Error on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200" spc="-1" strike="noStrike" baseline="30000">
                <a:solidFill>
                  <a:srgbClr val="000000"/>
                </a:solidFill>
                <a:latin typeface="Times New Roman"/>
              </a:rPr>
              <a:t>had,</a:t>
            </a:r>
            <a:r>
              <a:rPr b="0" lang="de-DE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function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. Luminosity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fferent energy regions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25640" y="5429160"/>
            <a:ext cx="733248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. error is fully dominated by energy region &lt;0.35 G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. contribution to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. 1.5-2.5·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300-10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. error of 2% gives ca. 2·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region below 0.35 G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. 100 ·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r. to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5120" y="42840"/>
            <a:ext cx="445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Stat. Uncertainty translated to a</a:t>
            </a:r>
            <a:r>
              <a:rPr b="1" lang="en-US" sz="2000" spc="-1" strike="noStrike" baseline="-25000">
                <a:solidFill>
                  <a:srgbClr val="31319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00160" y="1230480"/>
            <a:ext cx="4589640" cy="442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3120" y="549360"/>
            <a:ext cx="70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ngle analysis cuts, photon tagging+kinematic f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3280" y="6200640"/>
            <a:ext cx="5415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fight systematics in this reg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1905120"/>
            <a:ext cx="180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ed181e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ed181e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ed181e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ed181e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ed181e"/>
                </a:solidFill>
                <a:latin typeface="Times New Roman"/>
              </a:rPr>
              <a:t>(after 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5360" y="5692680"/>
            <a:ext cx="497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able contribu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low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7360" y="503280"/>
            <a:ext cx="86868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6120" y="4284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319c"/>
                </a:solidFill>
                <a:latin typeface="Textile"/>
              </a:rPr>
              <a:t>Spectra for signal and backgr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34000" y="13032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teC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89120" y="1228680"/>
            <a:ext cx="5052960" cy="4114800"/>
            <a:chOff x="1689120" y="1228680"/>
            <a:chExt cx="5052960" cy="41148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rcRect l="0" t="1912" r="0" b="4750"/>
            <a:stretch/>
          </p:blipFill>
          <p:spPr>
            <a:xfrm>
              <a:off x="1689120" y="1228680"/>
              <a:ext cx="50529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142000" y="1576440"/>
              <a:ext cx="193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Data (prelim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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man Old Style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Bookman Old Style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</a:t>
              </a:r>
              <a:r>
                <a:rPr b="1" lang="en-US" sz="2000" spc="-1" strike="noStrike">
                  <a:solidFill>
                    <a:srgbClr val="00ff00"/>
                  </a:solidFill>
                  <a:latin typeface="Bookman Old Style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9:56:50Z</dcterms:created>
  <dc:creator>Blüm Peter</dc:creator>
  <dc:description/>
  <dc:language>en-US</dc:language>
  <cp:lastModifiedBy>Stefan E. Mueller</cp:lastModifiedBy>
  <cp:lastPrinted>2005-05-23T17:54:36Z</cp:lastPrinted>
  <dcterms:modified xsi:type="dcterms:W3CDTF">2005-05-23T21:17:39Z</dcterms:modified>
  <cp:revision>147</cp:revision>
  <dc:subject/>
  <dc:title>PowerPoint-Präsentation</dc:title>
</cp:coreProperties>
</file>