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8.jpeg" ContentType="image/jpeg"/>
  <Override PartName="/ppt/media/image79.png" ContentType="image/png"/>
  <Override PartName="/ppt/media/image67.png" ContentType="image/png"/>
  <Override PartName="/ppt/media/image24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41DF-7B00-4694-8829-05FADD2E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176-46D5-41D7-857B-121229C23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2B3-9DF1-4199-BCB2-FB6B7689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9E1A-4B33-41C7-A729-0DD40111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F1F-FD20-427A-92A0-567AB439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38F9-B6FF-47FD-9019-002C1F3AE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538-868B-4F85-9183-C99B7F1C9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E0D-3B2B-4AEA-8C2E-DC903AFF7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0 o 44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ABB-50A6-45DB-AECE-D84F8A5C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556-4D4B-4E74-A7EC-3022FC4E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8217-9E69-417F-85B8-78D3CA530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FA6-44BA-4205-8C2B-810DF5449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5C2-76C7-45E7-9BC2-FDEBF759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FBC-56C5-4491-9170-3A5CA1F3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3ED-5E1B-417B-B37E-DE9A57EA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ADD-8178-4699-A4D1-78E28A26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288-3DE9-47E9-A0DC-DC28AB4E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26E-1A28-4354-A594-E9A62830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817560" y="70956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847440" y="4487760"/>
            <a:ext cx="4662360" cy="42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6B80-6050-4D68-A73A-BB962A4D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35080" y="70020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25560" y="4348080"/>
            <a:ext cx="4998960" cy="40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5BE-B6FC-44C2-AF14-C39522527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817560" y="70956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847440" y="4487760"/>
            <a:ext cx="4662360" cy="42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7589-CF22-4187-BDF9-86DBDE9F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C9C-B185-46BB-BA2F-6FCAE83B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38320" y="700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23760" y="4357800"/>
            <a:ext cx="501336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st più grossa da chi da trigger e come si puo ridu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b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2 = [Re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i Im(d*/a)]/[1 + i Im(b*a)/|a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~ Re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i Im(d*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7EE-7CE2-4E87-955F-AB9D0626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D419-F15C-4AD4-9280-37AFAEC1F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228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228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808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28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808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28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228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228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228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228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95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228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553080"/>
            <a:ext cx="65534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30th LNF SC , May 23, 2005                    Simone.DellAgnello@LNF.infn.it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4520"/>
            <a:ext cx="8001000" cy="27000"/>
          </a:xfrm>
          <a:prstGeom prst="line">
            <a:avLst/>
          </a:prstGeom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01000" y="23760"/>
            <a:ext cx="1143000" cy="709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607600" y="6629400"/>
            <a:ext cx="5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2F86-0F13-446F-9DBB-CEDE0D03BD05}" type="slidenum">
              <a:rPr b="0" lang="en-US" sz="1000" spc="-1" strike="noStrike">
                <a:solidFill>
                  <a:srgbClr val="000000"/>
                </a:solidFill>
                <a:latin typeface="Genev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920" y="692280"/>
            <a:ext cx="799308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1a3b"/>
                </a:solidFill>
                <a:latin typeface="Geneva"/>
              </a:rPr>
              <a:t>Report from KLOE</a:t>
            </a:r>
            <a:endParaRPr b="0" lang="en-US" sz="42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97240" y="914400"/>
            <a:ext cx="436716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6200" y="340956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Q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676520"/>
            <a:ext cx="23623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eneva"/>
              </a:rPr>
              <a:t>TECHNICAL 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9912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A492 134-146 (2002)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A488 1-23 (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E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A482 363-385 (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Q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A483649-659 (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DA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A516 288-314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OFF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NIM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534 403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57150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eneva"/>
              </a:rPr>
              <a:t>30th Meeting of the LNF Scientific Committee, LNF, May 23, 2005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eneva"/>
              </a:rPr>
              <a:t>Simone Dell’Agn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(INFN-L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n behalf of the  KLOE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Tagging of charged ka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057400"/>
            <a:ext cx="44193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ag performed sele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cays (85% of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y measuring the charged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mentum in the K rest frame (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igger required on the tag si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7357" t="4546" r="6527" b="0"/>
          <a:stretch/>
        </p:blipFill>
        <p:spPr>
          <a:xfrm>
            <a:off x="4267080" y="990720"/>
            <a:ext cx="4645080" cy="4724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Measurement of BR(K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)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886200"/>
            <a:ext cx="412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ag from K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self-trigg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002 data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75 pb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(2/3 is us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fficiency s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ckground eve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ied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he presence of a neutral p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19720" y="1066680"/>
            <a:ext cx="4702680" cy="4722840"/>
            <a:chOff x="4419720" y="1066680"/>
            <a:chExt cx="4702680" cy="472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rcRect l="0" t="0" r="0" b="6589"/>
            <a:stretch/>
          </p:blipFill>
          <p:spPr>
            <a:xfrm>
              <a:off x="4485960" y="1283040"/>
              <a:ext cx="4332600" cy="41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419720" y="5136840"/>
              <a:ext cx="46476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59840" y="31579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65040" y="1860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34960" y="3518640"/>
              <a:ext cx="12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r>
                <a:rPr b="1" lang="it-IT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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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92120" y="53906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26680" y="1066680"/>
              <a:ext cx="40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article momentum in K rest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1066680"/>
            <a:ext cx="451152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bining the experimental valu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K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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))/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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ith  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/f</a:t>
            </a:r>
            <a:r>
              <a:rPr b="1" lang="it-IT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from lattice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 can extract the rati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/|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ud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Marciano hep-ph/040632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4290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Measurement of BR(K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)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181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67080" y="914400"/>
            <a:ext cx="4648320" cy="4038480"/>
            <a:chOff x="4267080" y="914400"/>
            <a:chExt cx="4648320" cy="40384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267080" y="914400"/>
              <a:ext cx="4648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631200" y="125208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6440" y="26013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4480" y="4361040"/>
              <a:ext cx="1430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65040" y="914400"/>
            <a:ext cx="3597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Geneva"/>
              </a:rPr>
              <a:t>Event counting</a:t>
            </a: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 perform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fitting the P</a:t>
            </a:r>
            <a:r>
              <a:rPr b="0" lang="it-IT" sz="1600" spc="-1" strike="noStrike" baseline="30000">
                <a:solidFill>
                  <a:srgbClr val="000000"/>
                </a:solidFill>
                <a:latin typeface="Geneva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 distribution with signal and background shapes obtained from data control samples: </a:t>
            </a:r>
            <a:r>
              <a:rPr b="0" lang="it-IT" sz="1600" spc="-1" strike="noStrike">
                <a:solidFill>
                  <a:srgbClr val="ff0000"/>
                </a:solidFill>
                <a:latin typeface="Geneva"/>
              </a:rPr>
              <a:t>bkg-sample </a:t>
            </a: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selected by looking for 2 photons from neutral pion; control sample</a:t>
            </a:r>
            <a:r>
              <a:rPr b="0" lang="it-IT" sz="16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for</a:t>
            </a:r>
            <a:r>
              <a:rPr b="0" lang="it-IT" sz="16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Geneva"/>
              </a:rPr>
              <a:t>signal shape</a:t>
            </a: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 selected by identifying the muon cluster in the Emc. The shapes are properly corrected using MC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eneva"/>
              </a:rPr>
              <a:t>Systematics are dominated by efficiency estim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53240" y="5105520"/>
            <a:ext cx="636804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0.6366 ± 0.0009 (stat.) ± 0.0012 (sys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05360" y="5638680"/>
            <a:ext cx="3150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hiang = 0.6324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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9280" y="5638680"/>
            <a:ext cx="29188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DG fit = 0.6343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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63560" y="2087640"/>
            <a:ext cx="16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~2.6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igna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6665" b="12000"/>
          <a:stretch/>
        </p:blipFill>
        <p:spPr>
          <a:xfrm>
            <a:off x="3809880" y="1219320"/>
            <a:ext cx="5105520" cy="4813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V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from K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+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1219320"/>
            <a:ext cx="55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/f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1.21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14 (MILC Coll. hep-lat/04070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6480" y="838080"/>
            <a:ext cx="621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llowing the method from Marciano hep-ph/0406324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9000" y="3105000"/>
            <a:ext cx="2698200" cy="87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lang="it-IT" sz="2400" spc="-1" strike="noStrike" baseline="-25000">
                <a:solidFill>
                  <a:srgbClr val="333399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=0.2223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0.00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905120"/>
            <a:ext cx="2895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0.974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erallowed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c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3200400"/>
            <a:ext cx="45720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Semileptonic decays of K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  <a:ea typeface="Times New Roman"/>
              </a:rPr>
              <a:t>± 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79440"/>
            <a:ext cx="487692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bsolute BR measurement.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agging with K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se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vertex in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jection of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ctrum of charged daughte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TO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(c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/L)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1]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tio of data and MC efficiency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o correct MC accep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105520" y="1111320"/>
            <a:ext cx="3962160" cy="3994200"/>
            <a:chOff x="5105520" y="1111320"/>
            <a:chExt cx="3962160" cy="39942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5105520" y="1111320"/>
              <a:ext cx="396216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732000" y="23587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5680" y="176184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0280" y="31831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61160" y="354636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63000" y="2886480"/>
              <a:ext cx="1368000" cy="753120"/>
            </a:xfrm>
            <a:prstGeom prst="line">
              <a:avLst/>
            </a:prstGeom>
            <a:ln w="2232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211800" y="3631680"/>
              <a:ext cx="618840" cy="882720"/>
            </a:xfrm>
            <a:prstGeom prst="line">
              <a:avLst/>
            </a:prstGeom>
            <a:ln w="2232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2640" y="26604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15320" y="38970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Semileptonic decays of K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  <a:ea typeface="Times New Roman"/>
              </a:rPr>
              <a:t>±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86200" y="762120"/>
            <a:ext cx="5105160" cy="4190760"/>
            <a:chOff x="3886200" y="762120"/>
            <a:chExt cx="5105160" cy="41907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1516" t="10183" r="28558" b="11386"/>
            <a:stretch/>
          </p:blipFill>
          <p:spPr>
            <a:xfrm>
              <a:off x="3886200" y="762120"/>
              <a:ext cx="51051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397560" y="2652840"/>
              <a:ext cx="148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52280" y="26668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[(c(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/L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4876920"/>
          <a:ext cx="7467480" cy="1304640"/>
        </p:xfrm>
        <a:graphic>
          <a:graphicData uri="http://schemas.openxmlformats.org/drawingml/2006/table">
            <a:tbl>
              <a:tblPr/>
              <a:tblGrid>
                <a:gridCol w="762120"/>
                <a:gridCol w="1752480"/>
                <a:gridCol w="1676520"/>
                <a:gridCol w="1676160"/>
                <a:gridCol w="1600200"/>
              </a:tblGrid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ag 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Ke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1 13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3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5 42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 92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 59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8 08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5 15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 63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5 00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Kaon physics results with 0.5 f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(2001-02)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KLOE has performed a preliminary measurement of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Major 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neva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BRs with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0.5%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neva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lifetime with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0.6%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BR(K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neva"/>
              </a:rPr>
              <a:t>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 baseline="30000">
                <a:solidFill>
                  <a:srgbClr val="ff0000"/>
                </a:solidFill>
                <a:latin typeface="MT Extra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e</a:t>
            </a:r>
            <a:r>
              <a:rPr b="1" lang="en-US" sz="1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1%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accura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BR(K</a:t>
            </a:r>
            <a:r>
              <a:rPr b="0" lang="en-US" sz="1800" spc="-1" strike="noStrike" baseline="30000">
                <a:solidFill>
                  <a:srgbClr val="ff0000"/>
                </a:solidFill>
                <a:latin typeface="Geneva"/>
              </a:rPr>
              <a:t>+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</a:t>
            </a:r>
            <a:r>
              <a:rPr b="1" lang="en-US" sz="1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0.2%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accuracy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Genev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All BRs are inclusive of the radi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nal papers are under review by the collabor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KLOE has set the best upper limit on BR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large number of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semileptonic decays has been selected and allows a BR measurement with accuracy &lt; 1%.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Mature analysis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More statistics necessar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KLOE is now measuring: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lifetim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l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form factors.</a:t>
            </a: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 More statistics absolutely necessar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oming soo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with few ‰ accuracy.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Mature analysi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9" name=""/>
          <p:cNvSpPr/>
          <p:nvPr/>
        </p:nvSpPr>
        <p:spPr>
          <a:xfrm>
            <a:off x="5652360" y="380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The grand summary on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with 0.5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Current results o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radiative decays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14400" y="609480"/>
          <a:ext cx="7238880" cy="5352840"/>
        </p:xfrm>
        <a:graphic>
          <a:graphicData uri="http://schemas.openxmlformats.org/drawingml/2006/table">
            <a:tbl>
              <a:tblPr/>
              <a:tblGrid>
                <a:gridCol w="2943000"/>
                <a:gridCol w="4295880"/>
              </a:tblGrid>
              <a:tr h="65556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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6 209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– update in progre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47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7 21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 - update in progre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28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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980)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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w 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640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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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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41  45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  – update in progre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60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591 45 </a:t>
                      </a: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7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478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litz plot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3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1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pper limit BR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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 B606 276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7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1 55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prog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1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ptonic wid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 B608 199-205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11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adronic cross 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 B606 12-24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414720" y="304812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720" y="548640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720" y="175248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1640" y="593892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Something shown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BR(</a:t>
            </a:r>
            <a:r>
              <a:rPr b="0" lang="en-US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en-US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). Tests O(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938760" cy="3853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67080" y="990720"/>
            <a:ext cx="3598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al + background after fit reproduces well th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0080" y="5029200"/>
            <a:ext cx="5606280" cy="5353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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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 ( 8.4 ±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7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a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4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yst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542200">
            <a:off x="6171840" y="5257800"/>
            <a:ext cx="2736720" cy="576360"/>
          </a:xfrm>
          <a:prstGeom prst="rect">
            <a:avLst/>
          </a:prstGeom>
          <a:solidFill>
            <a:srgbClr val="ffccff"/>
          </a:solidFill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038480" y="1752480"/>
            <a:ext cx="5181480" cy="2819160"/>
            <a:chOff x="4038480" y="1752480"/>
            <a:chExt cx="5181480" cy="28191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038480" y="1752480"/>
              <a:ext cx="42879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052400" y="351900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19640" y="3657960"/>
              <a:ext cx="76680" cy="54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74040" y="2176200"/>
              <a:ext cx="554760" cy="5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789440" y="314568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789440" y="337572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789440" y="3652920"/>
              <a:ext cx="31042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67880" y="3083760"/>
              <a:ext cx="12520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Crys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Ball (2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360" y="3090240"/>
              <a:ext cx="0" cy="6001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29880" y="2360520"/>
              <a:ext cx="69912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600" spc="-1" strike="noStrike">
                  <a:solidFill>
                    <a:srgbClr val="009900"/>
                  </a:solidFill>
                  <a:latin typeface="Times New Roman"/>
                </a:rPr>
                <a:t>GAMS (198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789440" y="2315160"/>
              <a:ext cx="3104280" cy="507240"/>
              <a:chOff x="4789440" y="2315160"/>
              <a:chExt cx="3104280" cy="50724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4789440" y="2591640"/>
                <a:ext cx="31042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4789440" y="2315160"/>
                <a:ext cx="3104280" cy="0"/>
              </a:xfrm>
              <a:prstGeom prst="line">
                <a:avLst/>
              </a:prstGeom>
              <a:ln w="442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789440" y="2822400"/>
                <a:ext cx="3104280" cy="0"/>
              </a:xfrm>
              <a:prstGeom prst="line">
                <a:avLst/>
              </a:prstGeom>
              <a:ln w="41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8005320" y="2315160"/>
              <a:ext cx="0" cy="507240"/>
            </a:xfrm>
            <a:prstGeom prst="line">
              <a:avLst/>
            </a:prstGeom>
            <a:ln w="4428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04200" y="3757320"/>
              <a:ext cx="76680" cy="6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5120" y="3625200"/>
              <a:ext cx="78480" cy="66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83880" y="3582720"/>
              <a:ext cx="0" cy="391680"/>
            </a:xfrm>
            <a:prstGeom prst="line">
              <a:avLst/>
            </a:prstGeom>
            <a:ln w="25560">
              <a:solidFill>
                <a:srgbClr val="ff66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8640" y="3672720"/>
              <a:ext cx="695520" cy="23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GB" sz="1600" spc="-1" strike="noStrike">
                  <a:solidFill>
                    <a:srgbClr val="ff66cc"/>
                  </a:solidFill>
                  <a:latin typeface="Times New Roman"/>
                </a:rPr>
                <a:t>KL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urrent physics resul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urrent data tak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The ultimate goal: physics with 2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eyond the 2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: off-peak physic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contribution to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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final state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5760" y="682560"/>
            <a:ext cx="8088120" cy="4888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5400000">
            <a:off x="3647520" y="141768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-225720" y="141768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8880" y="3673440"/>
            <a:ext cx="2291400" cy="20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Bookman Old Style"/>
              </a:rPr>
              <a:t>EVA (ISR+FS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EVA (ISR+FSR) + </a:t>
            </a: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f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man Old Style"/>
              </a:rPr>
              <a:t>(K-loop model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Bookman Old Sty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-433080" y="124596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sym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3631680" y="149400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59920" y="533412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1920" y="531828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560" y="5699160"/>
            <a:ext cx="881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th the insertion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980) the MC now has the same shape of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25040" y="68580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rward-backward pion a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urrent data taking (04-05 Run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696440" cy="4816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245000" y="83808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920" y="7920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DAILY LUMIN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urrent data taking (04-05 Run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944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274880" y="83808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urrent data taking (04-05 Run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340920" y="563868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1046160"/>
            <a:ext cx="7848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Data taking (01-02-04-05 Runs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9240" y="990720"/>
            <a:ext cx="8647560" cy="4971240"/>
            <a:chOff x="39240" y="990720"/>
            <a:chExt cx="8647560" cy="4971240"/>
          </a:xfrm>
        </p:grpSpPr>
        <p:sp>
          <p:nvSpPr>
            <p:cNvPr id="236" name=""/>
            <p:cNvSpPr/>
            <p:nvPr/>
          </p:nvSpPr>
          <p:spPr>
            <a:xfrm>
              <a:off x="39240" y="1295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neva"/>
                </a:rPr>
                <a:t>1/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838080" y="990720"/>
              <a:ext cx="7848720" cy="45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651320" y="54770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9040" y="55022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04200" y="55022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440" y="55022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71800" y="990720"/>
              <a:ext cx="15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neva"/>
                </a:rPr>
                <a:t>May 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13716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650960" y="1447920"/>
              <a:ext cx="66549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239960" y="838080"/>
            <a:ext cx="18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lot by P. Franz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2280" y="1371600"/>
            <a:ext cx="64771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28700 (9 May 04) to 36405 (9 May 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45 p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o di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ssing quality c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3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full cali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1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nstructed (94% ef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76320"/>
            <a:ext cx="8077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Status of offline processing in 2004-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809880"/>
            <a:ext cx="777240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The data reconstruction follows closely the data acqui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(each reconstruction job lasts 2h as maximum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553080" y="1066680"/>
          <a:ext cx="2362320" cy="2595600"/>
        </p:xfrm>
        <a:graphic>
          <a:graphicData uri="http://schemas.openxmlformats.org/drawingml/2006/table">
            <a:tbl>
              <a:tblPr/>
              <a:tblGrid>
                <a:gridCol w="1543320"/>
                <a:gridCol w="819000"/>
              </a:tblGrid>
              <a:tr h="903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Luminosity (pb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uns passing quality c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1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Geneva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(up to 9 M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Genev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Geneva"/>
                        </a:rPr>
                        <a:t>1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0"/>
            <a:ext cx="72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bility of beam energy at O(100 Ke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4920" y="1143000"/>
            <a:ext cx="8599320" cy="2416320"/>
            <a:chOff x="304920" y="1143000"/>
            <a:chExt cx="8599320" cy="241632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rcRect l="0" t="21364" r="0" b="47009"/>
            <a:stretch/>
          </p:blipFill>
          <p:spPr>
            <a:xfrm>
              <a:off x="304920" y="1438200"/>
              <a:ext cx="440532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"/>
            <a:srcRect l="0" t="22212" r="0" b="47858"/>
            <a:stretch/>
          </p:blipFill>
          <p:spPr>
            <a:xfrm>
              <a:off x="4496040" y="1514520"/>
              <a:ext cx="440820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47720" y="31528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y-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5320" y="3114720"/>
              <a:ext cx="11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p-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4680" y="31910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ct-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50160" y="31910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ec-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9520" y="120636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294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2920" y="11476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397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18960" y="3633840"/>
            <a:ext cx="8596440" cy="2592360"/>
            <a:chOff x="318960" y="3633840"/>
            <a:chExt cx="8596440" cy="259236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rcRect l="0" t="22212" r="0" b="47009"/>
            <a:stretch/>
          </p:blipFill>
          <p:spPr>
            <a:xfrm>
              <a:off x="318960" y="4081320"/>
              <a:ext cx="4402080" cy="19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"/>
            <a:srcRect l="0" t="21364" r="0" b="47009"/>
            <a:stretch/>
          </p:blipFill>
          <p:spPr>
            <a:xfrm>
              <a:off x="4510080" y="4081320"/>
              <a:ext cx="44053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49360" y="58579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eb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44840" y="57816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-Apr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92760" y="5857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1-Apr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9640" y="58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-May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6200" y="371484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248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8200" y="377676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 = 85pb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2880" y="3633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04920" y="762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1a3b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1a3b"/>
                </a:solidFill>
                <a:latin typeface="Arial"/>
              </a:rPr>
              <a:t>s mostly between 1019.3 and 1019.6: OK. </a:t>
            </a:r>
            <a:r>
              <a:rPr b="1" lang="en-GB" sz="2400" spc="-1" strike="noStrike">
                <a:solidFill>
                  <a:srgbClr val="ff1a3b"/>
                </a:solidFill>
                <a:latin typeface="Arial"/>
              </a:rPr>
              <a:t>Better tha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0"/>
            <a:ext cx="8077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invariant mass stable within O(50 Ke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371600" y="762120"/>
            <a:ext cx="6324480" cy="5792760"/>
            <a:chOff x="1371600" y="762120"/>
            <a:chExt cx="6324480" cy="579276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rcRect l="0" t="21368" r="0" b="47009"/>
            <a:stretch/>
          </p:blipFill>
          <p:spPr>
            <a:xfrm>
              <a:off x="1371600" y="3657600"/>
              <a:ext cx="62960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"/>
            <a:srcRect l="0" t="21368" r="0" b="47009"/>
            <a:stretch/>
          </p:blipFill>
          <p:spPr>
            <a:xfrm>
              <a:off x="1400040" y="762120"/>
              <a:ext cx="629604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913040" y="3276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eb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5240" y="3276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0-Apr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8320" y="61866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1-Apr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7680" y="61866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-May-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0"/>
            <a:ext cx="743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Stability of decay coun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07200" y="758880"/>
            <a:ext cx="2840040" cy="2916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0" t="15387" r="0" b="17083"/>
          <a:stretch/>
        </p:blipFill>
        <p:spPr>
          <a:xfrm>
            <a:off x="609480" y="3618000"/>
            <a:ext cx="3149640" cy="301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0" t="15387" r="0" b="17931"/>
          <a:stretch/>
        </p:blipFill>
        <p:spPr>
          <a:xfrm>
            <a:off x="5257800" y="3657600"/>
            <a:ext cx="3149640" cy="2973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19920" y="13716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(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/nb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4648320"/>
            <a:ext cx="838440" cy="5331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047760" y="46483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4600" y="4510080"/>
            <a:ext cx="181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18 pb</a:t>
            </a:r>
            <a:r>
              <a:rPr b="0" lang="en-GB" sz="1600" spc="-1" strike="noStrike" baseline="30000">
                <a:solidFill>
                  <a:srgbClr val="000000"/>
                </a:solidFill>
                <a:latin typeface="Geneva"/>
              </a:rPr>
              <a:t>-1 </a:t>
            </a: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without D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problem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by online shif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neva"/>
              </a:rPr>
              <a:t>and fixed quick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rcRect l="0" t="14539" r="0" b="17083"/>
          <a:stretch/>
        </p:blipFill>
        <p:spPr>
          <a:xfrm>
            <a:off x="355680" y="760320"/>
            <a:ext cx="3149640" cy="3049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4300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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n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066680"/>
            <a:ext cx="221004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80" y="1803240"/>
            <a:ext cx="197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duc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chine bac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Our ultimate goal: 2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on tape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80" y="28951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nalysis of 2001-02 data demonstrates that to get a BR accuracy of 0.1% and to search for rare decays (BR ≤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7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 requires 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detector and machine conditions and 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background.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Each point/color below is an analysis “macro-RUN” with </a:t>
            </a:r>
            <a:r>
              <a:rPr b="1" lang="en-US" sz="2000" spc="-1" strike="noStrike">
                <a:solidFill>
                  <a:srgbClr val="0000ff"/>
                </a:solidFill>
                <a:latin typeface="Geneva"/>
              </a:rPr>
              <a:t>specific systematic correc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4389480"/>
            <a:ext cx="8229600" cy="1860480"/>
            <a:chOff x="457200" y="4389480"/>
            <a:chExt cx="8229600" cy="1860480"/>
          </a:xfrm>
        </p:grpSpPr>
        <p:sp>
          <p:nvSpPr>
            <p:cNvPr id="297" name=""/>
            <p:cNvSpPr/>
            <p:nvPr/>
          </p:nvSpPr>
          <p:spPr>
            <a:xfrm>
              <a:off x="3508200" y="5881680"/>
              <a:ext cx="25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 number in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rcRect l="4034" t="64065" r="2507" b="7437"/>
            <a:stretch/>
          </p:blipFill>
          <p:spPr>
            <a:xfrm>
              <a:off x="457200" y="4395960"/>
              <a:ext cx="42559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991800" y="4442040"/>
              <a:ext cx="2343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e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(%,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/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cras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76640" y="4859280"/>
              <a:ext cx="0" cy="51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69800" y="484344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.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rcRect l="3686" t="31663" r="3074" b="39849"/>
            <a:stretch/>
          </p:blipFill>
          <p:spPr>
            <a:xfrm>
              <a:off x="4997520" y="4395960"/>
              <a:ext cx="368928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413680" y="43894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 (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09480" y="914400"/>
            <a:ext cx="8016840" cy="171900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fter ~14 yrs of very intense work, KLOE as we know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ill end with this data 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his is our last chance to achieve as much as possible of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riginal physics program. We want the maximum we can g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2 fb</a:t>
            </a:r>
            <a:r>
              <a:rPr b="1" lang="en-US" sz="2000" spc="-1" strike="noStrike" baseline="30000">
                <a:solidFill>
                  <a:srgbClr val="ff0000"/>
                </a:solidFill>
                <a:latin typeface="Geneva"/>
              </a:rPr>
              <a:t>-1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 in 2004-05,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 stable and uniform runn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eneva"/>
              </a:rPr>
              <a:t>Current Kaon physics results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09480"/>
          <a:ext cx="8458200" cy="5850000"/>
        </p:xfrm>
        <a:graphic>
          <a:graphicData uri="http://schemas.openxmlformats.org/drawingml/2006/table">
            <a:tbl>
              <a:tblPr/>
              <a:tblGrid>
                <a:gridCol w="4267080"/>
                <a:gridCol w="4191120"/>
              </a:tblGrid>
              <a:tr h="6130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Geneva"/>
                        </a:rPr>
                        <a:t>Major decays o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L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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 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e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 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,  3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liminary measure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67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L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66 61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52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us</a:t>
                      </a:r>
                      <a:r>
                        <a:rPr b="1" lang="en-US" sz="1500" spc="-1" strike="noStrike" baseline="-25000">
                          <a:solidFill>
                            <a:srgbClr val="ff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15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and K</a:t>
                      </a:r>
                      <a:r>
                        <a:rPr b="0" lang="en-US" sz="15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67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K</a:t>
                      </a:r>
                      <a:r>
                        <a:rPr b="1" lang="it-IT" sz="1500" spc="-1" strike="noStrike" baseline="-25000">
                          <a:solidFill>
                            <a:srgbClr val="ff0000"/>
                          </a:solidFill>
                          <a:latin typeface="Geneva"/>
                        </a:rPr>
                        <a:t>L </a:t>
                      </a: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f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1308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Geneva"/>
                        </a:rPr>
                        <a:t>Major decays o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K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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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8 21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pdate with ’01-’02 data in prog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1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ff1a3b"/>
                          </a:solidFill>
                          <a:latin typeface="Geneva"/>
                        </a:rPr>
                        <a:t>S</a:t>
                      </a:r>
                      <a:r>
                        <a:rPr b="1" lang="en-US" sz="1500" spc="-1" strike="noStrike" baseline="-25000">
                          <a:solidFill>
                            <a:srgbClr val="ff1a3b"/>
                          </a:solidFill>
                          <a:latin typeface="SymbolProp BT"/>
                          <a:ea typeface="SymbolProp BT"/>
                        </a:rPr>
                        <a:t>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e</a:t>
                      </a:r>
                      <a:r>
                        <a:rPr b="1" lang="it-IT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535 37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00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Preliminary update with 2001-02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ff1a3b"/>
                          </a:solidFill>
                          <a:latin typeface="Geneva"/>
                        </a:rPr>
                        <a:t>S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Geneva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Geneva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Submitted to Phys. Lett. hep-ex/0505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35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-25000">
                          <a:solidFill>
                            <a:srgbClr val="ff1a3b"/>
                          </a:solidFill>
                          <a:latin typeface="Geneva"/>
                        </a:rPr>
                        <a:t>S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Geneva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ff1a3b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In progress, uses also 2004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72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OE Note 181, www.lnf.infn.it/klo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72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.M. inter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liminary resul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492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ff1a3b"/>
                          </a:solidFill>
                          <a:latin typeface="Comic Sans MS"/>
                        </a:rPr>
                        <a:t>us </a:t>
                      </a: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from K</a:t>
                      </a:r>
                      <a:r>
                        <a:rPr b="0" lang="en-US" sz="1500" spc="-1" strike="noStrike" baseline="30000">
                          <a:solidFill>
                            <a:srgbClr val="ff1a3b"/>
                          </a:solidFill>
                          <a:latin typeface="Comic Sans MS"/>
                        </a:rPr>
                        <a:t>±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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Preliminary measur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504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ff1a3b"/>
                          </a:solidFill>
                          <a:latin typeface="Comic Sans MS"/>
                        </a:rPr>
                        <a:t>±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</a:t>
                      </a: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ff1a3b"/>
                          </a:solidFill>
                          <a:latin typeface="Comic Sans MS"/>
                        </a:rPr>
                        <a:t>±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</a:t>
                      </a: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ff1a3b"/>
                          </a:solidFill>
                          <a:latin typeface="Comic Sans MS"/>
                        </a:rPr>
                        <a:t>± 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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Geneva"/>
                        </a:rPr>
                        <a:t>e</a:t>
                      </a:r>
                      <a:r>
                        <a:rPr b="1" lang="en-US" sz="1500" spc="-1" strike="noStrike">
                          <a:solidFill>
                            <a:srgbClr val="ff1a3b"/>
                          </a:solidFill>
                          <a:latin typeface="Symbol"/>
                          <a:ea typeface="Symbol"/>
                        </a:rPr>
                        <a:t>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±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if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1a3b"/>
                          </a:solidFill>
                          <a:latin typeface="Comic Sans MS"/>
                        </a:rPr>
                        <a:t>In prog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9640"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5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2880" rIns="18288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 B597 2 (200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2880" marR="18288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2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are needed for rare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decay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ood opportunity to measure interesting rar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decays, down to BR ~ few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However, need to exploit to the maximum KLOE and 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95280" y="2286000"/>
          <a:ext cx="6324840" cy="3449520"/>
        </p:xfrm>
        <a:graphic>
          <a:graphicData uri="http://schemas.openxmlformats.org/drawingml/2006/table">
            <a:tbl>
              <a:tblPr/>
              <a:tblGrid>
                <a:gridCol w="1971720"/>
                <a:gridCol w="435312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ecay 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Expected or measured 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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           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 x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              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1.2 x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Geneva"/>
                        </a:rPr>
                        <a:t>-7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        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(4.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  <a:ea typeface="Times New Roman"/>
                        </a:rPr>
                        <a:t>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.8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8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A4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ヒラギノ角ゴ Pro W3"/>
                        </a:rPr>
                        <a:t>+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  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.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+1.2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-1.0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</a:t>
                      </a:r>
                      <a:r>
                        <a:rPr b="1" lang="en-GB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7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 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DG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(2.7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  <a:ea typeface="Times New Roman"/>
                        </a:rPr>
                        <a:t>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0.0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  <a:ea typeface="Times New Roman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0.04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NA48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MT Extra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 x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neva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MT Extra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(7.09 ± 0.07 ± 0.08)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Geneva"/>
                        </a:rPr>
                        <a:t>-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       KL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R(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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), submitted to Phys. Lett.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876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Rarest decay studied by KLOE so far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ata sample: 0.5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2001-2002 ru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7.8 x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-crash tag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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quire 6 prompt photons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rge background ~40K even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Kinematic fit,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estimator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fter all analysis cut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= 24.4%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neva"/>
              </a:rPr>
              <a:t>2 candidate events found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neva"/>
              </a:rPr>
              <a:t>Expected backgr. = </a:t>
            </a:r>
            <a:r>
              <a:rPr b="0" lang="en-US" sz="1400" spc="-1" strike="noStrike">
                <a:solidFill>
                  <a:srgbClr val="ff0000"/>
                </a:solidFill>
                <a:latin typeface="Geneva"/>
              </a:rPr>
              <a:t>3.13 ± 0.82 ± 0.37</a:t>
            </a:r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4800600" cy="227484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327640" y="1163520"/>
            <a:ext cx="3816360" cy="4322880"/>
            <a:chOff x="5327640" y="1163520"/>
            <a:chExt cx="3816360" cy="432288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5327640" y="1773360"/>
              <a:ext cx="381636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638680" y="1163520"/>
              <a:ext cx="3310200" cy="709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BR(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enev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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) ≤ 1.2 x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Geneva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@90% CL. </a:t>
              </a:r>
              <a:r>
                <a:rPr b="1" lang="en-US" sz="1800" spc="-1" strike="noStrike">
                  <a:solidFill>
                    <a:srgbClr val="ff0000"/>
                  </a:solidFill>
                  <a:latin typeface="Geneva"/>
                </a:rPr>
                <a:t>Best li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2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prospects for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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creased statistics: </a:t>
            </a: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x 6.5 improvemen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uminosity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x 5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dd tagging by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vertex in DC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x 1.3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creased background rejec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rgest bkg source after all cuts is the splitting of e.m. cluster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erging procedure removes bkg but leaves signal untouche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ndidates in data go from 2 to 0, in MC from 3.13 to 2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ptimization of kinematic fit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verall better understanding of the known backgrou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6" name=""/>
          <p:cNvSpPr/>
          <p:nvPr/>
        </p:nvSpPr>
        <p:spPr>
          <a:xfrm>
            <a:off x="538560" y="4295880"/>
            <a:ext cx="8114760" cy="76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f we will be able to suppress the background to a ~negligibl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UL will improve by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6.5 x 1.5 ~ 10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(down to few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eneva"/>
              </a:rPr>
              <a:t>-8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Search for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Geneva"/>
              </a:rPr>
              <a:t>0 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started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resent statu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R(CPC)~ 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7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BR(CPV)~1.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Direct measurement of CPC part possible with ultimate 2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easurement tests untested prediction of xP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ata sample: 740 pb-1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373pb-1 (2001/2 data) +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367 (2004 data !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ssuming BR=3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neva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Geneva"/>
              </a:rPr>
              <a:t>~230 signal events produc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60199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election of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-crash tag, 3-body selection cut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inematic f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86400" y="1484280"/>
            <a:ext cx="3657600" cy="3427200"/>
            <a:chOff x="5486400" y="1484280"/>
            <a:chExt cx="3657600" cy="342720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5486400" y="1484280"/>
              <a:ext cx="365760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4360" y="1893600"/>
              <a:ext cx="109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KL-cr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88280" y="1601640"/>
              <a:ext cx="324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40720" y="4100400"/>
              <a:ext cx="324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5440" y="3186000"/>
              <a:ext cx="407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89840" y="2728800"/>
              <a:ext cx="36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160" y="1341360"/>
            <a:ext cx="5638680" cy="4322520"/>
            <a:chOff x="65160" y="1341360"/>
            <a:chExt cx="5638680" cy="4322520"/>
          </a:xfrm>
        </p:grpSpPr>
        <p:grpSp>
          <p:nvGrpSpPr>
            <p:cNvPr id="330" name=""/>
            <p:cNvGrpSpPr/>
            <p:nvPr/>
          </p:nvGrpSpPr>
          <p:grpSpPr>
            <a:xfrm>
              <a:off x="1589040" y="1341360"/>
              <a:ext cx="4114800" cy="4322520"/>
              <a:chOff x="1589040" y="1341360"/>
              <a:chExt cx="4114800" cy="4322520"/>
            </a:xfrm>
          </p:grpSpPr>
          <p:pic>
            <p:nvPicPr>
              <p:cNvPr id="3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9040" y="1341360"/>
                <a:ext cx="4114800" cy="39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2358720" y="3094200"/>
                <a:ext cx="6213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eneva"/>
                  </a:rPr>
                  <a:t>T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79760" y="5151600"/>
                <a:ext cx="4492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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49680" y="3094200"/>
                <a:ext cx="5065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Geneva"/>
                  </a:rPr>
                  <a:t>p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09040" y="5143680"/>
                <a:ext cx="130680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eneva"/>
                  </a:rPr>
                  <a:t>Unassocia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Geneva"/>
                  </a:rPr>
                  <a:t>Energ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5160" y="2179800"/>
              <a:ext cx="1726560" cy="1220760"/>
              <a:chOff x="65160" y="2179800"/>
              <a:chExt cx="1726560" cy="1220760"/>
            </a:xfrm>
          </p:grpSpPr>
          <p:sp>
            <p:nvSpPr>
              <p:cNvPr id="337" name=""/>
              <p:cNvSpPr/>
              <p:nvPr/>
            </p:nvSpPr>
            <p:spPr>
              <a:xfrm>
                <a:off x="65160" y="2338200"/>
                <a:ext cx="382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160" y="2735280"/>
                <a:ext cx="3823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2200" y="217980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eneva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4320" y="2576520"/>
                <a:ext cx="1337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ff0000"/>
                    </a:solidFill>
                    <a:uFillTx/>
                    <a:latin typeface="Geneva"/>
                  </a:rPr>
                  <a:t>Standard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Genev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Geneva"/>
                  </a:rPr>
                  <a:t>Backgrou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Geneva"/>
                  </a:rPr>
                  <a:t>M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3800" y="3627360"/>
              <a:ext cx="144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25130 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in the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ackgrounds f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ackgrounds after cu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2 from kinematic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t (98.8% rejection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70360" y="838080"/>
            <a:ext cx="5160600" cy="1916280"/>
            <a:chOff x="3870360" y="838080"/>
            <a:chExt cx="5160600" cy="191628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3870360" y="838080"/>
              <a:ext cx="281304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634080" y="1600200"/>
              <a:ext cx="23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Geneva"/>
                </a:rPr>
                <a:t>Dedicated </a:t>
              </a:r>
              <a:r>
                <a:rPr b="0" lang="en-US" sz="1600" spc="-1" strike="noStrike">
                  <a:solidFill>
                    <a:srgbClr val="ff0000"/>
                  </a:solidFill>
                  <a:latin typeface="Geneva"/>
                </a:rPr>
                <a:t>MC, TCA 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11760" y="914400"/>
              <a:ext cx="227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Geneva"/>
                </a:rPr>
                <a:t>Dedicated</a:t>
              </a:r>
              <a:r>
                <a:rPr b="0" lang="en-US" sz="1600" spc="-1" strike="noStrike">
                  <a:solidFill>
                    <a:srgbClr val="ff0000"/>
                  </a:solidFill>
                  <a:latin typeface="Geneva"/>
                </a:rPr>
                <a:t> MC, cut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Geneva"/>
                </a:rPr>
                <a:t>unassociated ener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847840" y="1282680"/>
              <a:ext cx="8305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5932080" y="1658520"/>
              <a:ext cx="74628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299120" y="2743200"/>
            <a:ext cx="3396960" cy="3191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16040" y="4429080"/>
            <a:ext cx="45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neva"/>
              </a:rPr>
              <a:t>K</a:t>
            </a:r>
            <a:r>
              <a:rPr b="1" lang="en-US" sz="2200" spc="-1" strike="noStrike" baseline="30000">
                <a:solidFill>
                  <a:srgbClr val="ffffff"/>
                </a:solidFill>
                <a:latin typeface="Geneva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704960" y="3035160"/>
            <a:ext cx="2409840" cy="2984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108480" y="5129280"/>
            <a:ext cx="42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ffff"/>
                </a:solidFill>
                <a:latin typeface="Geneva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413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08160" y="3687840"/>
            <a:ext cx="52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GB" sz="2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36200" y="3276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2168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26720" y="4572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4572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55200" y="4495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2 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prospects f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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gnal efficiency ~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 1.5%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Very, very preliminary results with 0.74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ndidates: 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ackground ~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3.5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ents (estimated from side bands in data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bserved events consistent with expectations within the statistical error (~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100%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no systematic error, no error on backgrou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caling the values of signal and background to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we expec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~16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ents, of which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~9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~60%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atistical accuracy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n BR(</a:t>
            </a:r>
            <a:r>
              <a:rPr b="0" lang="en-US" sz="17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17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ヒラギノ角ゴ Pro W3"/>
              </a:rPr>
              <a:t>+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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GB" sz="17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GB" sz="17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3" name=""/>
          <p:cNvSpPr/>
          <p:nvPr/>
        </p:nvSpPr>
        <p:spPr>
          <a:xfrm>
            <a:off x="331920" y="4648320"/>
            <a:ext cx="8529120" cy="10911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With further effort by KLOE to suppress background and 2 fb</a:t>
            </a:r>
            <a:r>
              <a:rPr b="0" lang="en-US" sz="21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by D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NE, we can measure this BR with accuracy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below 5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competitive with other measurements (and the only direct search!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Paving the road for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R differs from CHPT O(p4) by 30%,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useful to fix one O(p6) counterterm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rojections based 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15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of 2001 background M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10K events of signal M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With 2+0.5 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-1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 we expec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5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events tagged by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rash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N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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, tagged) = 5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x 2.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= 1400 even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cceptance 0.4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N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eneva"/>
              </a:rPr>
              <a:t>sig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560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even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6" name=""/>
          <p:cNvSpPr/>
          <p:nvPr/>
        </p:nvSpPr>
        <p:spPr>
          <a:xfrm>
            <a:off x="515520" y="5442120"/>
            <a:ext cx="8030520" cy="39888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2 f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: with good background rejec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~ 4% statistical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842000" y="765000"/>
            <a:ext cx="4062960" cy="4365720"/>
            <a:chOff x="4842000" y="765000"/>
            <a:chExt cx="4062960" cy="4365720"/>
          </a:xfrm>
        </p:grpSpPr>
        <p:grpSp>
          <p:nvGrpSpPr>
            <p:cNvPr id="368" name=""/>
            <p:cNvGrpSpPr/>
            <p:nvPr/>
          </p:nvGrpSpPr>
          <p:grpSpPr>
            <a:xfrm>
              <a:off x="4842000" y="765000"/>
              <a:ext cx="4062960" cy="4365720"/>
              <a:chOff x="4842000" y="765000"/>
              <a:chExt cx="4062960" cy="4365720"/>
            </a:xfrm>
          </p:grpSpPr>
          <p:pic>
            <p:nvPicPr>
              <p:cNvPr id="3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2000" y="765000"/>
                <a:ext cx="3967920" cy="436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90360" y="994680"/>
                <a:ext cx="341460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BR = (2.78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±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0.06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±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0.04) 10</a:t>
                </a:r>
                <a:r>
                  <a:rPr b="0" lang="en-US" sz="2000" spc="-1" strike="noStrike" baseline="30000">
                    <a:solidFill>
                      <a:srgbClr val="ff0000"/>
                    </a:solidFill>
                    <a:latin typeface="Times New Roman"/>
                  </a:rPr>
                  <a:t>-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eneva"/>
                  </a:rPr>
                  <a:t>3% accuracy, NA48,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Geneva"/>
                  </a:rPr>
                  <a:t>PLB 551 2003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8358120" y="1563120"/>
              <a:ext cx="144720" cy="72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Paving the road for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962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ategy of analysi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No recover splitting and large angular acceptanc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Kinematic fit to exploit two body kinematic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istribution of kinematic variables after fi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Background separation looks promis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33720" y="762120"/>
            <a:ext cx="4905000" cy="5409720"/>
            <a:chOff x="3933720" y="762120"/>
            <a:chExt cx="4905000" cy="5409720"/>
          </a:xfrm>
        </p:grpSpPr>
        <p:grpSp>
          <p:nvGrpSpPr>
            <p:cNvPr id="375" name=""/>
            <p:cNvGrpSpPr/>
            <p:nvPr/>
          </p:nvGrpSpPr>
          <p:grpSpPr>
            <a:xfrm>
              <a:off x="4019760" y="1412280"/>
              <a:ext cx="4818960" cy="4759560"/>
              <a:chOff x="4019760" y="1412280"/>
              <a:chExt cx="4818960" cy="4759560"/>
            </a:xfrm>
          </p:grpSpPr>
          <p:pic>
            <p:nvPicPr>
              <p:cNvPr id="376" name="" descr=""/>
              <p:cNvPicPr/>
              <p:nvPr/>
            </p:nvPicPr>
            <p:blipFill>
              <a:blip r:embed="rId1"/>
              <a:srcRect l="1941" t="34681" r="14062" b="1409"/>
              <a:stretch/>
            </p:blipFill>
            <p:spPr>
              <a:xfrm>
                <a:off x="4019760" y="1412280"/>
                <a:ext cx="4818960" cy="47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767560" y="148176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333399"/>
                    </a:solidFill>
                    <a:latin typeface="Times New Roman"/>
                  </a:rPr>
                  <a:t>bk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931520" y="148176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sig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4031640" y="1451160"/>
                <a:ext cx="2633040" cy="493920"/>
                <a:chOff x="4031640" y="1451160"/>
                <a:chExt cx="2633040" cy="493920"/>
              </a:xfrm>
            </p:grpSpPr>
            <p:sp>
              <p:nvSpPr>
                <p:cNvPr id="380" name=""/>
                <p:cNvSpPr/>
                <p:nvPr/>
              </p:nvSpPr>
              <p:spPr>
                <a:xfrm rot="16200000">
                  <a:off x="3931560" y="1550880"/>
                  <a:ext cx="476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</a:rPr>
                    <a:t>A.U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6200000">
                  <a:off x="6288120" y="1568520"/>
                  <a:ext cx="476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</a:rPr>
                    <a:t>A.U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720040" y="392544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333399"/>
                    </a:solidFill>
                    <a:latin typeface="Times New Roman"/>
                  </a:rPr>
                  <a:t>bk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31520" y="392544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</a:rPr>
                  <a:t>sig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4943160" y="762120"/>
              <a:ext cx="349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MC distributions, no data y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N. of events in A.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55680" y="5727240"/>
              <a:ext cx="12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Geneva"/>
                </a:rPr>
                <a:t>After fit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3502440" y="4474080"/>
              <a:ext cx="12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Recon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R(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 baseline="30000">
                <a:solidFill>
                  <a:srgbClr val="000000"/>
                </a:solidFill>
                <a:latin typeface="MT Extra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me motivations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e3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but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more difficul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ower BR: expect 4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ackground events from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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ame PIDs of the signa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roublesome charge identification for the signa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nyway,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never done before. Here it is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11120" y="2362320"/>
            <a:ext cx="8287920" cy="3970440"/>
            <a:chOff x="411120" y="2362320"/>
            <a:chExt cx="8287920" cy="3970440"/>
          </a:xfrm>
        </p:grpSpPr>
        <p:grpSp>
          <p:nvGrpSpPr>
            <p:cNvPr id="390" name=""/>
            <p:cNvGrpSpPr/>
            <p:nvPr/>
          </p:nvGrpSpPr>
          <p:grpSpPr>
            <a:xfrm>
              <a:off x="411120" y="2432880"/>
              <a:ext cx="8287920" cy="3899880"/>
              <a:chOff x="411120" y="2432880"/>
              <a:chExt cx="8287920" cy="389988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411120" y="2445840"/>
                <a:ext cx="8215200" cy="3302640"/>
                <a:chOff x="411120" y="2445840"/>
                <a:chExt cx="8215200" cy="3302640"/>
              </a:xfrm>
            </p:grpSpPr>
            <p:pic>
              <p:nvPicPr>
                <p:cNvPr id="392" name="" descr=""/>
                <p:cNvPicPr/>
                <p:nvPr/>
              </p:nvPicPr>
              <p:blipFill>
                <a:blip r:embed="rId1"/>
                <a:srcRect l="5571" t="32246" r="4207" b="9471"/>
                <a:stretch/>
              </p:blipFill>
              <p:spPr>
                <a:xfrm>
                  <a:off x="4536720" y="2445840"/>
                  <a:ext cx="4089600" cy="330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2"/>
                <a:srcRect l="5047" t="32192" r="2890" b="9568"/>
                <a:stretch/>
              </p:blipFill>
              <p:spPr>
                <a:xfrm>
                  <a:off x="411120" y="2467800"/>
                  <a:ext cx="4134240" cy="326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4" name=""/>
              <p:cNvGrpSpPr/>
              <p:nvPr/>
            </p:nvGrpSpPr>
            <p:grpSpPr>
              <a:xfrm>
                <a:off x="446400" y="2432880"/>
                <a:ext cx="8170920" cy="3323520"/>
                <a:chOff x="446400" y="2432880"/>
                <a:chExt cx="8170920" cy="33235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446400" y="2432880"/>
                  <a:ext cx="8170920" cy="3323520"/>
                  <a:chOff x="446400" y="2432880"/>
                  <a:chExt cx="8170920" cy="3323520"/>
                </a:xfrm>
              </p:grpSpPr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rcRect l="5166" t="32171" r="4600" b="9576"/>
                  <a:stretch/>
                </p:blipFill>
                <p:spPr>
                  <a:xfrm>
                    <a:off x="4545000" y="2446920"/>
                    <a:ext cx="4072320" cy="32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7" name="" descr=""/>
                  <p:cNvPicPr/>
                  <p:nvPr/>
                </p:nvPicPr>
                <p:blipFill>
                  <a:blip r:embed="rId4"/>
                  <a:srcRect l="7043" t="32116" r="3891" b="9437"/>
                  <a:stretch/>
                </p:blipFill>
                <p:spPr>
                  <a:xfrm>
                    <a:off x="446400" y="2432880"/>
                    <a:ext cx="4054320" cy="33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98" name=""/>
                <p:cNvSpPr/>
                <p:nvPr/>
              </p:nvSpPr>
              <p:spPr>
                <a:xfrm>
                  <a:off x="946440" y="3735360"/>
                  <a:ext cx="1264320" cy="160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uts 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*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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pos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1" lang="en-GB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t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996440" y="3735360"/>
                  <a:ext cx="1264320" cy="160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uts 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*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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pos +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1" lang="en-GB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t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2475000" y="5869080"/>
                <a:ext cx="208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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MeV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48600" y="5680440"/>
                <a:ext cx="86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76160" y="56804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18320" y="5680440"/>
                <a:ext cx="85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35440" y="5680440"/>
                <a:ext cx="85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99400" y="5680440"/>
                <a:ext cx="85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83080" y="2646360"/>
                <a:ext cx="325836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73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2002 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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1" lang="en-GB" sz="24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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15000" y="5873040"/>
                <a:ext cx="208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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MeV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8176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900320" y="5685840"/>
                <a:ext cx="85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4680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5852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23920" y="5685840"/>
                <a:ext cx="85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976280" y="2650320"/>
                <a:ext cx="325692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2735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2002 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GB" sz="24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</a:t>
                </a:r>
                <a:r>
                  <a:rPr b="1" lang="en-GB" sz="24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1" lang="en-GB" sz="24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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839040" y="23623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468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4920" y="2362320"/>
              <a:ext cx="58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46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Major K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 decays: absolute BRs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971800"/>
            <a:ext cx="8229600" cy="20901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4049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0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31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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272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8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22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5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1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 = 0.2018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4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26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7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1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127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6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~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2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it-IT" sz="22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90720"/>
            <a:ext cx="87631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bsolute BRs results </a:t>
            </a:r>
            <a:r>
              <a:rPr b="0" lang="it-IT" sz="2400" spc="-1" strike="noStrike">
                <a:solidFill>
                  <a:srgbClr val="000000"/>
                </a:solidFill>
                <a:latin typeface="Geneva"/>
              </a:rPr>
              <a:t>with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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= (51.54 ± 0.44)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828800"/>
            <a:ext cx="80010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3/4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   of 2001-2002 data has been used for efficiency evalua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1/4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   for BR measurement corresponding to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13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Geneva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tagged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2 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prospects for 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R(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 baseline="30000">
                <a:solidFill>
                  <a:srgbClr val="000000"/>
                </a:solidFill>
                <a:latin typeface="MT Extra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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election algorithm provides few% statistical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Geneva"/>
              </a:rPr>
              <a:t>Total uncertainty expected to be largely dominated by statistics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Geneva"/>
              </a:rPr>
              <a:t>Measurement of charge asymmetry much more complicated than K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Geneva"/>
              </a:rPr>
              <a:t>Se3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Timescale for a preliminary measurement: few months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2f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prospects for Kaon semileptonic decays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619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Rs, lifetime, form factors are all measured at the level of few permil currentl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y should all get to 0.1% or below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ed 2 clean inverse fb !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ntum interferometry:</a:t>
            </a:r>
            <a:r>
              <a:rPr b="0" lang="en-US" sz="28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1" name=""/>
          <p:cNvSpPr/>
          <p:nvPr/>
        </p:nvSpPr>
        <p:spPr>
          <a:xfrm>
            <a:off x="539640" y="1044720"/>
            <a:ext cx="3456000" cy="246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t includ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olution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 effects + re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from PD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LOE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41 f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(2001 + 2002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(5.34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34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T Extra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(5.290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16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T Extra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280" y="4038480"/>
            <a:ext cx="8839440" cy="1716480"/>
            <a:chOff x="152280" y="4038480"/>
            <a:chExt cx="8839440" cy="1716480"/>
          </a:xfrm>
        </p:grpSpPr>
        <p:sp>
          <p:nvSpPr>
            <p:cNvPr id="423" name=""/>
            <p:cNvSpPr/>
            <p:nvPr/>
          </p:nvSpPr>
          <p:spPr>
            <a:xfrm>
              <a:off x="152280" y="4076280"/>
              <a:ext cx="8839440" cy="16765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53080" y="4038480"/>
              <a:ext cx="8662320" cy="1716480"/>
              <a:chOff x="253080" y="4038480"/>
              <a:chExt cx="8662320" cy="17164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3080" y="4038480"/>
                <a:ext cx="6370920" cy="17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300" spc="-1" strike="noStrike">
                    <a:solidFill>
                      <a:srgbClr val="000000"/>
                    </a:solidFill>
                    <a:latin typeface="Times New Roman"/>
                  </a:rPr>
                  <a:t>Window on </a:t>
                </a:r>
                <a:r>
                  <a:rPr b="1" lang="it-IT" sz="2300" spc="-1" strike="noStrike">
                    <a:solidFill>
                      <a:srgbClr val="000000"/>
                    </a:solidFill>
                    <a:latin typeface="Times New Roman"/>
                  </a:rPr>
                  <a:t>decoherence</a:t>
                </a:r>
                <a:r>
                  <a:rPr b="0" lang="it-IT" sz="2300" spc="-1" strike="noStrike">
                    <a:solidFill>
                      <a:srgbClr val="000000"/>
                    </a:solidFill>
                    <a:latin typeface="Times New Roman"/>
                  </a:rPr>
                  <a:t> (D, </a:t>
                </a:r>
                <a:r>
                  <a:rPr b="0" lang="it-IT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</a:t>
                </a:r>
                <a:r>
                  <a:rPr b="0" lang="it-IT" sz="2300" spc="-1" strike="noStrike">
                    <a:solidFill>
                      <a:srgbClr val="000000"/>
                    </a:solidFill>
                    <a:latin typeface="Times New Roman"/>
                  </a:rPr>
                  <a:t>) violation of QM  </a:t>
                </a:r>
                <a:r>
                  <a:rPr b="0" lang="it-IT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it-IT" sz="2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KLOE preliminary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CPLEAR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6665760" y="4140000"/>
                    <a:ext cx="2249640" cy="456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27" name=""/>
              <p:cNvGrpSpPr/>
              <p:nvPr/>
            </p:nvGrpSpPr>
            <p:grpSpPr>
              <a:xfrm>
                <a:off x="3100320" y="4673160"/>
                <a:ext cx="5738760" cy="1058400"/>
                <a:chOff x="3100320" y="4673160"/>
                <a:chExt cx="5738760" cy="1058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28" name=""/>
                    <p:cNvSpPr txBox="1"/>
                    <p:nvPr/>
                  </p:nvSpPr>
                  <p:spPr>
                    <a:xfrm>
                      <a:off x="3100320" y="4673160"/>
                      <a:ext cx="2454120" cy="552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ζ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2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8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9" name=""/>
                    <p:cNvSpPr txBox="1"/>
                    <p:nvPr/>
                  </p:nvSpPr>
                  <p:spPr>
                    <a:xfrm>
                      <a:off x="5767200" y="4673160"/>
                      <a:ext cx="307188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ζ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  <m:sub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sub>
                                <m:sup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sup>
                              </m:sSubSup>
                            </m:e>
                          </m:d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30" name=""/>
                    <p:cNvSpPr txBox="1"/>
                    <p:nvPr/>
                  </p:nvSpPr>
                  <p:spPr>
                    <a:xfrm>
                      <a:off x="3176640" y="5282640"/>
                      <a:ext cx="2286000" cy="448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ζ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31" name=""/>
                    <p:cNvSpPr txBox="1"/>
                    <p:nvPr/>
                  </p:nvSpPr>
                  <p:spPr>
                    <a:xfrm>
                      <a:off x="6148440" y="5206320"/>
                      <a:ext cx="2209680" cy="514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ζ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432" name=""/>
          <p:cNvSpPr/>
          <p:nvPr/>
        </p:nvSpPr>
        <p:spPr>
          <a:xfrm>
            <a:off x="304920" y="5943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 related to CPTV. CPTV also beyond QMV. </a:t>
            </a: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Many models to test with 2f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Genev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95680" y="762120"/>
            <a:ext cx="4254120" cy="3200040"/>
            <a:chOff x="4495680" y="762120"/>
            <a:chExt cx="4254120" cy="3200040"/>
          </a:xfrm>
        </p:grpSpPr>
        <p:grpSp>
          <p:nvGrpSpPr>
            <p:cNvPr id="434" name=""/>
            <p:cNvGrpSpPr/>
            <p:nvPr/>
          </p:nvGrpSpPr>
          <p:grpSpPr>
            <a:xfrm>
              <a:off x="4495680" y="762120"/>
              <a:ext cx="3809160" cy="3200040"/>
              <a:chOff x="4495680" y="762120"/>
              <a:chExt cx="3809160" cy="3200040"/>
            </a:xfrm>
          </p:grpSpPr>
          <p:pic>
            <p:nvPicPr>
              <p:cNvPr id="435" name="" descr=""/>
              <p:cNvPicPr/>
              <p:nvPr/>
            </p:nvPicPr>
            <p:blipFill>
              <a:blip r:embed="rId1"/>
              <a:srcRect l="7032" t="13540" r="27343" b="16666"/>
              <a:stretch/>
            </p:blipFill>
            <p:spPr>
              <a:xfrm>
                <a:off x="4509360" y="890640"/>
                <a:ext cx="3686760" cy="3071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"/>
              <p:cNvGrpSpPr/>
              <p:nvPr/>
            </p:nvGrpSpPr>
            <p:grpSpPr>
              <a:xfrm>
                <a:off x="6078960" y="974160"/>
                <a:ext cx="2225880" cy="549360"/>
                <a:chOff x="6078960" y="974160"/>
                <a:chExt cx="2225880" cy="5493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175800" y="974160"/>
                  <a:ext cx="21290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Coherent </a:t>
                  </a:r>
                  <a:r>
                    <a:rPr b="0" i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i="1" lang="it-IT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regeneration on beam pip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6078960" y="1245240"/>
                  <a:ext cx="1180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7315560" y="3235680"/>
                <a:ext cx="753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/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0" name=""/>
                  <p:cNvSpPr txBox="1"/>
                  <p:nvPr/>
                </p:nvSpPr>
                <p:spPr>
                  <a:xfrm>
                    <a:off x="4495680" y="762120"/>
                    <a:ext cx="1504800" cy="43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D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41" name=""/>
            <p:cNvSpPr/>
            <p:nvPr/>
          </p:nvSpPr>
          <p:spPr>
            <a:xfrm>
              <a:off x="5085360" y="2514600"/>
              <a:ext cx="366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eneva"/>
                </a:rPr>
                <a:t>EPR. </a:t>
              </a:r>
              <a:r>
                <a:rPr b="1" lang="en-US" sz="1800" spc="-1" strike="noStrike">
                  <a:solidFill>
                    <a:srgbClr val="0000ff"/>
                  </a:solidFill>
                  <a:latin typeface="Geneva"/>
                </a:rPr>
                <a:t>First observation ever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Geneva"/>
                </a:rPr>
                <a:t>coherence in two Kaon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. Interferometry:</a:t>
            </a:r>
            <a:r>
              <a:rPr b="0" lang="en-US" sz="28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952880" y="1143000"/>
            <a:ext cx="3962520" cy="3751560"/>
            <a:chOff x="4952880" y="1143000"/>
            <a:chExt cx="3962520" cy="3751560"/>
          </a:xfrm>
        </p:grpSpPr>
        <p:sp>
          <p:nvSpPr>
            <p:cNvPr id="444" name=""/>
            <p:cNvSpPr/>
            <p:nvPr/>
          </p:nvSpPr>
          <p:spPr>
            <a:xfrm>
              <a:off x="4952880" y="1143000"/>
              <a:ext cx="3962520" cy="375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y MC with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from data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gaussian vertex res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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= 6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1" lang="it-IT" sz="2400" spc="-1" strike="noStrike">
                  <a:solidFill>
                    <a:srgbClr val="ff0000"/>
                  </a:solidFill>
                  <a:latin typeface="Times New Roman"/>
                </a:rPr>
                <a:t>2 fb</a:t>
              </a:r>
              <a:r>
                <a:rPr b="1" lang="it-IT" sz="24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KLOE could r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he statistical prec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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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 ~ 0.0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DG 2004 fit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5167440" y="4390920"/>
                  <a:ext cx="275904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+-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±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848200" y="3315960"/>
                  <a:ext cx="22338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+-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7" name=""/>
          <p:cNvGrpSpPr/>
          <p:nvPr/>
        </p:nvGrpSpPr>
        <p:grpSpPr>
          <a:xfrm>
            <a:off x="303840" y="792000"/>
            <a:ext cx="4420440" cy="4839840"/>
            <a:chOff x="303840" y="792000"/>
            <a:chExt cx="4420440" cy="4839840"/>
          </a:xfrm>
        </p:grpSpPr>
        <p:grpSp>
          <p:nvGrpSpPr>
            <p:cNvPr id="448" name=""/>
            <p:cNvGrpSpPr/>
            <p:nvPr/>
          </p:nvGrpSpPr>
          <p:grpSpPr>
            <a:xfrm>
              <a:off x="425520" y="826920"/>
              <a:ext cx="4298760" cy="4804920"/>
              <a:chOff x="425520" y="826920"/>
              <a:chExt cx="4298760" cy="4804920"/>
            </a:xfrm>
          </p:grpSpPr>
          <p:pic>
            <p:nvPicPr>
              <p:cNvPr id="4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5520" y="826920"/>
                <a:ext cx="4298760" cy="437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282320" y="5172120"/>
                <a:ext cx="8287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Times New Roman"/>
                  </a:rPr>
                  <a:t>2 fb</a:t>
                </a:r>
                <a:r>
                  <a:rPr b="1" lang="it-IT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455840" y="3355920"/>
                <a:ext cx="0" cy="1752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303840" y="792000"/>
              <a:ext cx="122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(Im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’/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23480" y="4941720"/>
              <a:ext cx="1623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Int. Lum(pb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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adiative an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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dalitz decays with 2 f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 addition to radiative, also Dalitz decays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can be studied: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N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(2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-1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) ~ 7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(dilepton) spectra give transition FF(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. FF(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 with BR can test VMD and Lattice theoretical model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Predicted BR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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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) = 5.3-6.8 x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Geneva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hen, can also study Dalitz and double Dalitz decay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’  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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, BR ~ 6.5 x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-5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, never observed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ach the ultimate goal of understanding better the natur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’,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mes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495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Precision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physics with 2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248160" cy="29750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5826600" y="762120"/>
            <a:ext cx="3164760" cy="2989800"/>
            <a:chOff x="5826600" y="762120"/>
            <a:chExt cx="3164760" cy="2989800"/>
          </a:xfrm>
        </p:grpSpPr>
        <p:grpSp>
          <p:nvGrpSpPr>
            <p:cNvPr id="460" name=""/>
            <p:cNvGrpSpPr/>
            <p:nvPr/>
          </p:nvGrpSpPr>
          <p:grpSpPr>
            <a:xfrm>
              <a:off x="5826600" y="762120"/>
              <a:ext cx="3164760" cy="2819160"/>
              <a:chOff x="5826600" y="762120"/>
              <a:chExt cx="3164760" cy="2819160"/>
            </a:xfrm>
          </p:grpSpPr>
          <p:pic>
            <p:nvPicPr>
              <p:cNvPr id="4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0120" y="762120"/>
                <a:ext cx="2901240" cy="28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20400000">
                <a:off x="5790960" y="1836720"/>
                <a:ext cx="197064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0880000">
                <a:off x="5992560" y="1173600"/>
                <a:ext cx="1035720" cy="1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7010280" y="3276720"/>
              <a:ext cx="167652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(MeV/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Genev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flipV="1">
            <a:off x="5715000" y="4647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47320" y="441972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eneva"/>
              </a:rPr>
              <a:t>Will improve by fact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04120" y="5105520"/>
            <a:ext cx="25840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Will improve by √(L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Geneva"/>
              </a:rPr>
              <a:t>NEW</a:t>
            </a: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/L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Geneva"/>
              </a:rPr>
              <a:t>OLD</a:t>
            </a: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neva"/>
              </a:rPr>
              <a:t>(background limi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15000" y="5334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0560"/>
            <a:ext cx="5867280" cy="175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an u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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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to measure m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With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eneva"/>
              </a:rPr>
              <a:t>ee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from tracking and √s constraint can get few x 10 KeV accuracy, competitive w/NA48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easure all major BR with permil accurac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heck that sum = 1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physics with 2 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KK decays with 2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 </a:t>
            </a:r>
            <a:r>
              <a:rPr b="1" lang="en-US" sz="3000" spc="-1" strike="noStrike">
                <a:solidFill>
                  <a:srgbClr val="ff0000"/>
                </a:solidFill>
                <a:latin typeface="Genev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838080"/>
            <a:ext cx="7696080" cy="5105160"/>
            <a:chOff x="685800" y="838080"/>
            <a:chExt cx="7696080" cy="5105160"/>
          </a:xfrm>
        </p:grpSpPr>
        <p:grpSp>
          <p:nvGrpSpPr>
            <p:cNvPr id="474" name=""/>
            <p:cNvGrpSpPr/>
            <p:nvPr/>
          </p:nvGrpSpPr>
          <p:grpSpPr>
            <a:xfrm>
              <a:off x="685800" y="838080"/>
              <a:ext cx="7696080" cy="5085360"/>
              <a:chOff x="685800" y="838080"/>
              <a:chExt cx="7696080" cy="5085360"/>
            </a:xfrm>
          </p:grpSpPr>
          <p:pic>
            <p:nvPicPr>
              <p:cNvPr id="4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838080"/>
                <a:ext cx="7696080" cy="50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4604040" y="892080"/>
                <a:ext cx="14904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85800" y="4907520"/>
              <a:ext cx="7396920" cy="1035720"/>
            </a:xfrm>
            <a:prstGeom prst="rect">
              <a:avLst/>
            </a:prstGeom>
            <a:solidFill>
              <a:srgbClr val="ff1a3b">
                <a:alpha val="23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5800" y="3200400"/>
            <a:ext cx="289548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eyond the 2fb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goal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2320" y="762120"/>
            <a:ext cx="8304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nce the ultimate goal of the 2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n tape 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has been achieved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we would like to perform a short program of off-peak physic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Running at 1000 MeV c.m. energ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1" name=""/>
          <p:cNvSpPr/>
          <p:nvPr/>
        </p:nvSpPr>
        <p:spPr>
          <a:xfrm>
            <a:off x="832320" y="2819520"/>
            <a:ext cx="7622280" cy="32853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tivation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scan (4 points max, 5 MeV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alibration of KLOE energy scale, lin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udying the model dependence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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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leptonic width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Main motivations for running at 100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Measurement of th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) down to 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photon physics with KL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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 form factor, extracted from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5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5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5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13200" y="838080"/>
            <a:ext cx="4169880" cy="5261400"/>
            <a:chOff x="313200" y="838080"/>
            <a:chExt cx="4169880" cy="5261400"/>
          </a:xfrm>
        </p:grpSpPr>
        <p:sp>
          <p:nvSpPr>
            <p:cNvPr id="484" name=""/>
            <p:cNvSpPr/>
            <p:nvPr/>
          </p:nvSpPr>
          <p:spPr>
            <a:xfrm>
              <a:off x="1316520" y="39765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Times-Italic"/>
                </a:rPr>
                <a:t>1.3</a:t>
              </a:r>
              <a:r>
                <a:rPr b="0" lang="de-DE" sz="2000" spc="-1" strike="noStrike">
                  <a:solidFill>
                    <a:srgbClr val="333399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333399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520" y="431784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-Italic"/>
                </a:rPr>
                <a:t>0.9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%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7760" y="838080"/>
              <a:ext cx="4113360" cy="45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587520" y="1295280"/>
              <a:ext cx="3747960" cy="34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74800" y="1414440"/>
              <a:ext cx="100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CMD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Times New Roman"/>
                </a:rPr>
                <a:t>KLO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680" y="4708440"/>
              <a:ext cx="368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096200" y="4734000"/>
              <a:ext cx="2982240" cy="307080"/>
              <a:chOff x="1096200" y="4734000"/>
              <a:chExt cx="2982240" cy="307080"/>
            </a:xfrm>
          </p:grpSpPr>
          <p:sp>
            <p:nvSpPr>
              <p:cNvPr id="491" name=""/>
              <p:cNvSpPr/>
              <p:nvPr/>
            </p:nvSpPr>
            <p:spPr>
              <a:xfrm>
                <a:off x="2225160" y="4757400"/>
                <a:ext cx="703080" cy="11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962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2612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420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730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914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73800" y="473400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532080" y="1224000"/>
              <a:ext cx="236520" cy="35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20840" y="1539720"/>
              <a:ext cx="364320" cy="3320640"/>
              <a:chOff x="420840" y="1539720"/>
              <a:chExt cx="364320" cy="332064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420840" y="1539720"/>
                <a:ext cx="364320" cy="2638440"/>
                <a:chOff x="420840" y="1539720"/>
                <a:chExt cx="364320" cy="26384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22640" y="153972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4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22640" y="18702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22640" y="220176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22640" y="25362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22640" y="286704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24440" y="320112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22640" y="353160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20840" y="3871080"/>
                  <a:ext cx="36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93200" y="4224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3200" y="4553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424320" y="49402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 (GeV</a:t>
              </a:r>
              <a:r>
                <a:rPr b="0" lang="de-DE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474200" y="890640"/>
              <a:ext cx="21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LOE vs. CMD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4840" y="5395680"/>
              <a:ext cx="383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air agreement, but relatively larg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eviations: reasons unknown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3200" y="871560"/>
              <a:ext cx="87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|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s)|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25880" y="1460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22480" y="1901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40760" y="1773000"/>
              <a:ext cx="5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80720" y="1665360"/>
              <a:ext cx="52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01560" y="1751040"/>
              <a:ext cx="947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cc0000"/>
                  </a:solidFill>
                  <a:latin typeface="Times New Roman"/>
                </a:rPr>
                <a:t>|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(s)|</a:t>
              </a:r>
              <a:r>
                <a:rPr b="1" lang="en-US" sz="1600" spc="-1" strike="noStrike" baseline="30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65520" y="1409760"/>
              <a:ext cx="13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14800" y="2082600"/>
              <a:ext cx="1177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Pion For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       </a:t>
              </a:r>
              <a:r>
                <a:rPr b="1" lang="de-DE" sz="1600" spc="-1" strike="noStrike">
                  <a:solidFill>
                    <a:srgbClr val="cc0000"/>
                  </a:solidFill>
                  <a:latin typeface="Times New Roman"/>
                </a:rPr>
                <a:t>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rot="19800000">
            <a:off x="1688040" y="34138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neva"/>
              </a:rPr>
              <a:t>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140000" y="838080"/>
            <a:ext cx="4743720" cy="5263200"/>
            <a:chOff x="4140000" y="838080"/>
            <a:chExt cx="4743720" cy="5263200"/>
          </a:xfrm>
        </p:grpSpPr>
        <p:grpSp>
          <p:nvGrpSpPr>
            <p:cNvPr id="524" name=""/>
            <p:cNvGrpSpPr/>
            <p:nvPr/>
          </p:nvGrpSpPr>
          <p:grpSpPr>
            <a:xfrm>
              <a:off x="4140000" y="838080"/>
              <a:ext cx="4743720" cy="5263200"/>
              <a:chOff x="4140000" y="838080"/>
              <a:chExt cx="4743720" cy="526320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4572000" y="838080"/>
                <a:ext cx="4311720" cy="5263200"/>
                <a:chOff x="4572000" y="838080"/>
                <a:chExt cx="4311720" cy="52632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618080" y="838080"/>
                  <a:ext cx="4265640" cy="454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772520" y="914400"/>
                  <a:ext cx="381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tive Difference 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s.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464520" y="4967280"/>
                  <a:ext cx="106344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40800" y="491976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 (GeV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121720" y="5397480"/>
                  <a:ext cx="3472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 and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– data incompatible!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c0000"/>
                      </a:solidFill>
                      <a:latin typeface="Times New Roman"/>
                    </a:rPr>
                    <a:t>Isospin breaking effects?!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4805640" y="1220760"/>
                  <a:ext cx="4030560" cy="4157280"/>
                  <a:chOff x="4805640" y="1220760"/>
                  <a:chExt cx="4030560" cy="4157280"/>
                </a:xfrm>
              </p:grpSpPr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5640" y="1220760"/>
                    <a:ext cx="4030560" cy="41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3" name=""/>
                  <p:cNvSpPr/>
                  <p:nvPr/>
                </p:nvSpPr>
                <p:spPr>
                  <a:xfrm>
                    <a:off x="6788160" y="1536840"/>
                    <a:ext cx="990720" cy="936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588440" y="2414160"/>
                    <a:ext cx="304920" cy="424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5354640" y="1528920"/>
                  <a:ext cx="2224080" cy="67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</a:t>
                  </a: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Data (ALEPH, OPAL, CLEO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5551200" y="2192400"/>
                  <a:ext cx="173160" cy="43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927760" y="4083120"/>
                  <a:ext cx="184320" cy="32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77440" y="4903920"/>
                  <a:ext cx="97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Times New Roman"/>
                    </a:rPr>
                    <a:t>s (GeV</a:t>
                  </a:r>
                  <a:r>
                    <a:rPr b="0" lang="de-DE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de-DE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435720" y="5092560"/>
                  <a:ext cx="1078200" cy="28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64280" y="4732200"/>
                  <a:ext cx="3484440" cy="208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5376240" y="4726080"/>
                  <a:ext cx="2963520" cy="307080"/>
                  <a:chOff x="5376240" y="4726080"/>
                  <a:chExt cx="2963520" cy="30708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537624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01560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65532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9540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.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935120" y="4726080"/>
                    <a:ext cx="4046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4786560" y="1236600"/>
                  <a:ext cx="315720" cy="25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803840" y="1671480"/>
                  <a:ext cx="325440" cy="320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675680" y="1743120"/>
                  <a:ext cx="53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675680" y="2286000"/>
                  <a:ext cx="53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86480" y="2644920"/>
                  <a:ext cx="5284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72000" y="3909960"/>
                  <a:ext cx="64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- 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616640" y="3405240"/>
                  <a:ext cx="59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-1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4140000" y="5086440"/>
                <a:ext cx="27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. H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ker @ ICHEP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597560" y="5105520"/>
              <a:ext cx="1905120" cy="30456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Major K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 decays: absolute BR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"/>
          <p:cNvSpPr/>
          <p:nvPr/>
        </p:nvSpPr>
        <p:spPr>
          <a:xfrm>
            <a:off x="372960" y="2666880"/>
            <a:ext cx="41227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suming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BR(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) =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276720"/>
            <a:ext cx="7315200" cy="24184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4007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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2698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 = 0.1997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9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 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-count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22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) = 0.1263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22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333399"/>
                </a:solidFill>
                <a:latin typeface="Times New Roman"/>
              </a:rPr>
              <a:t>0.0011</a:t>
            </a:r>
            <a:r>
              <a:rPr b="1" lang="it-IT" sz="2200" spc="-1" strike="noStrike">
                <a:solidFill>
                  <a:srgbClr val="333399"/>
                </a:solidFill>
                <a:latin typeface="Times New Roman"/>
              </a:rPr>
              <a:t>(tag-t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37160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jor decays)[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] + 0.0036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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ff0000"/>
                </a:solidFill>
                <a:latin typeface="Standard Symbols 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tandard Symbols 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914400"/>
            <a:ext cx="5289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 measure ~99.64%  of the K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c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006640"/>
            <a:ext cx="46400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0" lang="en-GB" sz="24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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) = 1.0104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</a:t>
            </a:r>
            <a:r>
              <a:rPr b="0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1960" y="2057400"/>
            <a:ext cx="3022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re decays from P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6320" y="2641680"/>
            <a:ext cx="43527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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= (50.72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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019560" y="1752120"/>
            <a:ext cx="533160" cy="381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u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form factor used i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calculation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9120" y="765000"/>
            <a:ext cx="8846280" cy="5254920"/>
            <a:chOff x="69120" y="765000"/>
            <a:chExt cx="8846280" cy="5254920"/>
          </a:xfrm>
        </p:grpSpPr>
        <p:grpSp>
          <p:nvGrpSpPr>
            <p:cNvPr id="558" name=""/>
            <p:cNvGrpSpPr/>
            <p:nvPr/>
          </p:nvGrpSpPr>
          <p:grpSpPr>
            <a:xfrm>
              <a:off x="69120" y="765000"/>
              <a:ext cx="8846280" cy="5254920"/>
              <a:chOff x="69120" y="765000"/>
              <a:chExt cx="8846280" cy="5254920"/>
            </a:xfrm>
          </p:grpSpPr>
          <p:sp>
            <p:nvSpPr>
              <p:cNvPr id="559" name=""/>
              <p:cNvSpPr/>
              <p:nvPr/>
            </p:nvSpPr>
            <p:spPr>
              <a:xfrm>
                <a:off x="650880" y="10224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6840" y="765000"/>
                <a:ext cx="8548560" cy="525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3120" y="1422360"/>
                <a:ext cx="4480200" cy="41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1590840" y="5262480"/>
                <a:ext cx="2530440" cy="33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37480" y="5168880"/>
                <a:ext cx="26892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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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1 659 000 ∙ 1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-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4920" y="4237200"/>
                <a:ext cx="4470480" cy="62064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4920" y="1427040"/>
                <a:ext cx="4470480" cy="2732040"/>
              </a:xfrm>
              <a:prstGeom prst="rect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072160" y="4311720"/>
                <a:ext cx="208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8000"/>
                    </a:solidFill>
                    <a:latin typeface="Times New Roman"/>
                  </a:rPr>
                  <a:t>Experiment E82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7840" y="1535040"/>
                <a:ext cx="1697040" cy="86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040" y="1652760"/>
                <a:ext cx="30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DEHZ’03 [e+e- based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146600" y="2075040"/>
                <a:ext cx="277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DEHZ’03 [</a:t>
                </a:r>
                <a:r>
                  <a:rPr b="1" lang="en-US" sz="1600" spc="-1" strike="noStrike">
                    <a:solidFill>
                      <a:srgbClr val="969696"/>
                    </a:solidFill>
                    <a:latin typeface="SymbolProp BT"/>
                    <a:ea typeface="SymbolProp BT"/>
                  </a:rPr>
                  <a:t></a:t>
                </a:r>
                <a:r>
                  <a:rPr b="1" lang="en-US" sz="1600" spc="-1" strike="noStrike">
                    <a:solidFill>
                      <a:srgbClr val="969696"/>
                    </a:solidFill>
                    <a:latin typeface="Times New Roman"/>
                  </a:rPr>
                  <a:t>based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27840" y="933480"/>
                <a:ext cx="3324240" cy="267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New Information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w KLOE Measur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 Lett. B606 (2005) 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New 4</a:t>
                </a:r>
                <a:r>
                  <a:rPr b="0" lang="en-US" sz="1800" spc="-1" strike="noStrike" baseline="30000">
                    <a:solidFill>
                      <a:srgbClr val="cc0000"/>
                    </a:solidFill>
                    <a:latin typeface="Times New Roman"/>
                  </a:rPr>
                  <a:t>th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 order QE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calcul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Kinoshita, Nio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Rev.D70 (2004) 113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w 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Times New Roman"/>
                  </a:rPr>
                  <a:t>‘Light-by-light’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calcul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Melnikov, Vainshtein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hys.Rev.D70 (2004) 1130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8760" y="2416320"/>
                <a:ext cx="342432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68600" y="3575160"/>
                <a:ext cx="301788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7600" y="3524400"/>
                <a:ext cx="3200400" cy="5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120" y="1119240"/>
                <a:ext cx="405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. H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ker @ ICHEP04: hep-ph/041008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241560" y="2762280"/>
                <a:ext cx="4324320" cy="1294560"/>
                <a:chOff x="241560" y="2762280"/>
                <a:chExt cx="4324320" cy="12945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2305080" y="2762280"/>
                  <a:ext cx="22608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contains CMD-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and KLO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3164040" y="3297240"/>
                  <a:ext cx="179280" cy="334800"/>
                </a:xfrm>
                <a:prstGeom prst="line">
                  <a:avLst/>
                </a:prstGeom>
                <a:ln w="936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5920" y="3373560"/>
                  <a:ext cx="1058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cc0000"/>
                      </a:solidFill>
                      <a:latin typeface="Times New Roman"/>
                    </a:rPr>
                    <a:t>Theory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41560" y="3719520"/>
                  <a:ext cx="25765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0000"/>
                      </a:solidFill>
                      <a:latin typeface="Arial"/>
                    </a:rPr>
                    <a:t>DEHZ’04</a:t>
                  </a:r>
                  <a:r>
                    <a:rPr b="1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 [e+e-]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051360" y="3659040"/>
                  <a:ext cx="131760" cy="131760"/>
                </a:xfrm>
                <a:prstGeom prst="ellipse">
                  <a:avLst/>
                </a:prstGeom>
                <a:solidFill>
                  <a:srgbClr val="cc0000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725920" y="3718080"/>
                  <a:ext cx="7732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725920" y="3676680"/>
                  <a:ext cx="0" cy="10152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97400" y="3666960"/>
                  <a:ext cx="0" cy="10188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5029200" y="4187880"/>
                <a:ext cx="889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0280" y="4178160"/>
                <a:ext cx="889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33600" y="3782880"/>
                <a:ext cx="31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ff"/>
                  </a:buClr>
                  <a:buFont typeface="SymbolProp BT" charset="2"/>
                  <a:buChar char="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–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ata not consider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nsufficient understanding o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sospin breaking corrections!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8520" y="4286160"/>
                <a:ext cx="1219320" cy="4669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571680" y="4836960"/>
                <a:ext cx="5243040" cy="469080"/>
                <a:chOff x="571680" y="4836960"/>
                <a:chExt cx="5243040" cy="4690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881720" y="4935240"/>
                  <a:ext cx="2238480" cy="37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a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</a:t>
                  </a: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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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  11 659 000 ∙ 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SymbolProp BT"/>
                      <a:ea typeface="SymbolProp BT"/>
                    </a:rPr>
                    <a:t>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-Italic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71680" y="4940280"/>
                  <a:ext cx="524304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7456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11312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65024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8916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72628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6520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80232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341240" y="483696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5200200" y="4830840"/>
                <a:ext cx="3536280" cy="10504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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eory (SM) - Experimen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exp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-Italic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the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( 25.2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2 )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·1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7 “standard deviations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36040" y="5194440"/>
                <a:ext cx="281268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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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  11 659 000 x 10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-Italic"/>
                    <a:ea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95080" y="1143000"/>
              <a:ext cx="3047760" cy="30492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de-DE" sz="2800" spc="-1" strike="noStrike">
                <a:solidFill>
                  <a:srgbClr val="000000"/>
                </a:solidFill>
                <a:latin typeface="Geneva"/>
              </a:rPr>
              <a:t>at low energ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0120" y="2059560"/>
            <a:ext cx="4511520" cy="4188960"/>
            <a:chOff x="60120" y="2059560"/>
            <a:chExt cx="4511520" cy="4188960"/>
          </a:xfrm>
        </p:grpSpPr>
        <p:grpSp>
          <p:nvGrpSpPr>
            <p:cNvPr id="604" name=""/>
            <p:cNvGrpSpPr/>
            <p:nvPr/>
          </p:nvGrpSpPr>
          <p:grpSpPr>
            <a:xfrm>
              <a:off x="60120" y="2059560"/>
              <a:ext cx="4511520" cy="4188960"/>
              <a:chOff x="60120" y="2059560"/>
              <a:chExt cx="4511520" cy="418896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60120" y="2121480"/>
                <a:ext cx="4511520" cy="4127040"/>
                <a:chOff x="60120" y="2121480"/>
                <a:chExt cx="4511520" cy="412704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63240" y="2343240"/>
                  <a:ext cx="4208400" cy="3905280"/>
                  <a:chOff x="363240" y="2343240"/>
                  <a:chExt cx="4208400" cy="3905280"/>
                </a:xfrm>
              </p:grpSpPr>
              <p:pic>
                <p:nvPicPr>
                  <p:cNvPr id="607" name="" descr=""/>
                  <p:cNvPicPr/>
                  <p:nvPr/>
                </p:nvPicPr>
                <p:blipFill>
                  <a:blip r:embed="rId1"/>
                  <a:srcRect l="0" t="8452" r="8857" b="0"/>
                  <a:stretch/>
                </p:blipFill>
                <p:spPr>
                  <a:xfrm>
                    <a:off x="684000" y="2343240"/>
                    <a:ext cx="3887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rcRect l="41342" t="85731" r="3289" b="5488"/>
                  <a:stretch/>
                </p:blipFill>
                <p:spPr>
                  <a:xfrm>
                    <a:off x="363240" y="5718240"/>
                    <a:ext cx="417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09" name=""/>
                <p:cNvSpPr/>
                <p:nvPr/>
              </p:nvSpPr>
              <p:spPr>
                <a:xfrm rot="16200000">
                  <a:off x="-396720" y="2578680"/>
                  <a:ext cx="1444680" cy="53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r>
                    <a:rPr b="0" lang="it-IT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ta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737640" y="2059560"/>
                <a:ext cx="315000" cy="390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1" name="" descr=""/>
            <p:cNvPicPr/>
            <p:nvPr/>
          </p:nvPicPr>
          <p:blipFill>
            <a:blip r:embed="rId3"/>
            <a:srcRect l="66152" t="31255" r="12847" b="50155"/>
            <a:stretch/>
          </p:blipFill>
          <p:spPr>
            <a:xfrm>
              <a:off x="2346480" y="2700360"/>
              <a:ext cx="1871640" cy="11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"/>
          <p:cNvSpPr/>
          <p:nvPr/>
        </p:nvSpPr>
        <p:spPr>
          <a:xfrm>
            <a:off x="403920" y="863640"/>
            <a:ext cx="4303440" cy="140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Published KLOE data: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0.35 &lt;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&lt; 1 G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nev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at. error on </a:t>
            </a:r>
            <a:r>
              <a:rPr b="0" lang="de-DE" sz="1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800" spc="-1" strike="noStrike" baseline="30000">
                <a:solidFill>
                  <a:srgbClr val="000000"/>
                </a:solidFill>
                <a:latin typeface="Geneva"/>
              </a:rPr>
              <a:t>had,</a:t>
            </a:r>
            <a:r>
              <a:rPr b="0" lang="de-D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s fully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by region 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(2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Genev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&lt; 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&lt; 0.35 Ge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927680" y="2438280"/>
            <a:ext cx="4050000" cy="3581640"/>
            <a:chOff x="4927680" y="2438280"/>
            <a:chExt cx="4050000" cy="3581640"/>
          </a:xfrm>
        </p:grpSpPr>
        <p:pic>
          <p:nvPicPr>
            <p:cNvPr id="614" name="" descr=""/>
            <p:cNvPicPr/>
            <p:nvPr/>
          </p:nvPicPr>
          <p:blipFill>
            <a:blip r:embed="rId4"/>
            <a:stretch/>
          </p:blipFill>
          <p:spPr>
            <a:xfrm>
              <a:off x="4927680" y="2438280"/>
              <a:ext cx="369720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889320" y="3164760"/>
              <a:ext cx="208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- </a:t>
              </a:r>
              <a:r>
                <a:rPr b="0" lang="en-US" sz="2000" spc="-1" strike="noStrike">
                  <a:solidFill>
                    <a:srgbClr val="ed181e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ed181e"/>
                  </a:solidFill>
                  <a:latin typeface="Times New Roman"/>
                </a:rPr>
                <a:t>0 </a:t>
              </a: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ed181e"/>
                  </a:solidFill>
                  <a:latin typeface="Times New Roman"/>
                </a:rPr>
                <a:t>(after f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582880" y="826920"/>
            <a:ext cx="2718360" cy="14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background th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E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-angle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-tagging+kinematic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400800" y="3809880"/>
            <a:ext cx="0" cy="18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486400" y="3809880"/>
            <a:ext cx="0" cy="18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133720"/>
            <a:ext cx="2514600" cy="26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de-DE" sz="2600" spc="-1" strike="noStrike">
                <a:solidFill>
                  <a:srgbClr val="000000"/>
                </a:solidFill>
                <a:latin typeface="Geneva"/>
              </a:rPr>
              <a:t>at low energy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57200" y="711360"/>
            <a:ext cx="3843360" cy="3784320"/>
            <a:chOff x="457200" y="711360"/>
            <a:chExt cx="3843360" cy="3784320"/>
          </a:xfrm>
        </p:grpSpPr>
        <p:pic>
          <p:nvPicPr>
            <p:cNvPr id="622" name="" descr=""/>
            <p:cNvPicPr/>
            <p:nvPr/>
          </p:nvPicPr>
          <p:blipFill>
            <a:blip r:embed="rId1"/>
            <a:srcRect l="3567" t="36774" r="11291" b="3961"/>
            <a:stretch/>
          </p:blipFill>
          <p:spPr>
            <a:xfrm>
              <a:off x="457200" y="711360"/>
              <a:ext cx="3843360" cy="37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738720" y="86976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n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2040" y="39178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 [MeV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3503880" y="12639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eucci@Cap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6" name=""/>
          <p:cNvGraphicFramePr/>
          <p:nvPr/>
        </p:nvGraphicFramePr>
        <p:xfrm>
          <a:off x="5000760" y="1066680"/>
          <a:ext cx="3457440" cy="2724120"/>
        </p:xfrm>
        <a:graphic>
          <a:graphicData uri="http://schemas.openxmlformats.org/drawingml/2006/table">
            <a:tbl>
              <a:tblPr/>
              <a:tblGrid>
                <a:gridCol w="1582560"/>
                <a:gridCol w="187488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 [MeV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(s)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(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~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~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1000</a:t>
                      </a:r>
                      <a:r>
                        <a:rPr b="1" lang="en-US" sz="2000" spc="-1" strike="noStrike" baseline="30000">
                          <a:solidFill>
                            <a:srgbClr val="ff0000"/>
                          </a:solidFill>
                          <a:latin typeface="Geneva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eneva"/>
                        </a:rPr>
                        <a:t>~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8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Geneva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~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"/>
          <p:cNvSpPr/>
          <p:nvPr/>
        </p:nvSpPr>
        <p:spPr>
          <a:xfrm>
            <a:off x="685800" y="4648320"/>
            <a:ext cx="784872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s=1000 M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allow a measuremen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ee from the resonant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integrated luminosity under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52120" y="394344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SND, Phys. Rev. D66 032001 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1173240"/>
            <a:ext cx="1148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nev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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de-DE" sz="2600" spc="-1" strike="noStrike">
                <a:solidFill>
                  <a:srgbClr val="000000"/>
                </a:solidFill>
                <a:latin typeface="Geneva"/>
              </a:rPr>
              <a:t>at low energy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838080"/>
            <a:ext cx="6934320" cy="87588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nother background to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dron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pectr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5760" y="1720800"/>
            <a:ext cx="7928280" cy="4485600"/>
            <a:chOff x="455760" y="1720800"/>
            <a:chExt cx="7928280" cy="448560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2286000" y="2178000"/>
              <a:ext cx="1981080" cy="17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2"/>
            <a:stretch/>
          </p:blipFill>
          <p:spPr>
            <a:xfrm>
              <a:off x="4933800" y="2178000"/>
              <a:ext cx="200052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689200" y="5835600"/>
              <a:ext cx="1096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5760" y="2635200"/>
              <a:ext cx="16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=10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6200000">
              <a:off x="816480" y="3952080"/>
              <a:ext cx="16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SR+FSR+f0)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SR+FS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11360" y="2711520"/>
              <a:ext cx="137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1000 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676160" y="3625920"/>
              <a:ext cx="14040" cy="13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62320" y="172080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Geneva"/>
                </a:rPr>
                <a:t>Isidori-Maiani (no-structure) </a:t>
              </a: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tretch/>
          </p:blipFill>
          <p:spPr>
            <a:xfrm>
              <a:off x="4952880" y="4159440"/>
              <a:ext cx="2057400" cy="18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4"/>
            <a:stretch/>
          </p:blipFill>
          <p:spPr>
            <a:xfrm>
              <a:off x="2209680" y="4159440"/>
              <a:ext cx="19051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429000" y="38545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Geneva"/>
                </a:rPr>
                <a:t>Kaon-loop </a:t>
              </a:r>
              <a:r>
                <a:rPr b="0" lang="en-US" sz="2000" spc="-1" strike="noStrike">
                  <a:solidFill>
                    <a:srgbClr val="000000"/>
                  </a:solidFill>
                  <a:latin typeface="Geneva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32400" y="5803920"/>
              <a:ext cx="1096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scan: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cross section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775800" y="4876920"/>
            <a:ext cx="7518960" cy="1130040"/>
          </a:xfrm>
          <a:prstGeom prst="rect">
            <a:avLst/>
          </a:prstGeom>
          <a:solidFill>
            <a:srgbClr val="ff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can of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Me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eps, with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O(10)pb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stablish parameters of scalar ampl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lus decay BR and forward-backward asymmetry of pion trac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1069560" y="762120"/>
            <a:ext cx="6607440" cy="4054320"/>
            <a:chOff x="1069560" y="762120"/>
            <a:chExt cx="6607440" cy="4054320"/>
          </a:xfrm>
        </p:grpSpPr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>
              <a:off x="1904760" y="762120"/>
              <a:ext cx="46432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542680" y="914400"/>
              <a:ext cx="36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02 data compared to extrapol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 on-peak dat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-Loop fit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green cur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idori-Maiani NS fit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d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69560" y="3467160"/>
              <a:ext cx="692640" cy="36828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 p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828440" y="3200040"/>
              <a:ext cx="91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84360" y="2286000"/>
              <a:ext cx="692640" cy="36828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 p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6400440" y="22096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scan: BR(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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990720" y="868320"/>
            <a:ext cx="7162560" cy="49230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4038480" y="5791320"/>
            <a:ext cx="4038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080" y="434340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5486040" y="2895120"/>
            <a:ext cx="10666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fter ~14 yrs of very intense work KLOE as we know i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ill end with this data tak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his is our last chance to achieve as much as possible of our original </a:t>
            </a:r>
            <a:r>
              <a:rPr b="1" lang="en-US" sz="2000" spc="-1" strike="noStrike">
                <a:solidFill>
                  <a:srgbClr val="0000ff"/>
                </a:solidFill>
                <a:latin typeface="Geneva"/>
              </a:rPr>
              <a:t>Kaon progra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We want the maximum we can get:   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2 fb</a:t>
            </a:r>
            <a:r>
              <a:rPr b="1" lang="en-US" sz="2000" spc="-1" strike="noStrike" baseline="30000">
                <a:solidFill>
                  <a:srgbClr val="ff0000"/>
                </a:solidFill>
                <a:latin typeface="Geneva"/>
              </a:rPr>
              <a:t>-1 </a:t>
            </a:r>
            <a:r>
              <a:rPr b="1" lang="en-US" sz="2000" spc="-1" strike="noStrike">
                <a:solidFill>
                  <a:srgbClr val="ff0000"/>
                </a:solidFill>
                <a:latin typeface="Geneva"/>
              </a:rPr>
              <a:t>in 2004-05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, in stable and uniform running condi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lus, a short period off-peak for completing </a:t>
            </a: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hadronic physic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019880" y="2895480"/>
            <a:ext cx="6856200" cy="3368160"/>
            <a:chOff x="1019880" y="2895480"/>
            <a:chExt cx="6856200" cy="3368160"/>
          </a:xfrm>
        </p:grpSpPr>
        <p:sp>
          <p:nvSpPr>
            <p:cNvPr id="662" name=""/>
            <p:cNvSpPr/>
            <p:nvPr/>
          </p:nvSpPr>
          <p:spPr>
            <a:xfrm>
              <a:off x="1019880" y="3154320"/>
              <a:ext cx="677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1/p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1634400" y="2895480"/>
              <a:ext cx="6028920" cy="29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2273400" y="5789880"/>
              <a:ext cx="8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45080" y="5803920"/>
              <a:ext cx="8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78600" y="5803920"/>
              <a:ext cx="8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00560" y="5803920"/>
              <a:ext cx="87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16160" y="2895480"/>
              <a:ext cx="1099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May 20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95440" y="3140280"/>
              <a:ext cx="526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259000" y="3189600"/>
              <a:ext cx="51116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SPARES/OLD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3080" y="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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via 2-phot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73080" y="576360"/>
            <a:ext cx="3902040" cy="9903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433680" y="695160"/>
            <a:ext cx="389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6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33680" y="1414440"/>
            <a:ext cx="389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600" spc="-1" strike="noStrike" baseline="33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92720" y="792000"/>
            <a:ext cx="4214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The scattered electrons are at </a:t>
            </a:r>
            <a:r>
              <a:rPr b="0" lang="en-GB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>
                <a:solidFill>
                  <a:srgbClr val="0000ff"/>
                </a:solidFill>
                <a:latin typeface="Bitstream Vera Serif"/>
              </a:rPr>
              <a:t> &lt; 1.3°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Bitstream Vera Serif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Bitstream Vera Serif"/>
              </a:rPr>
              <a:t>they are completely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35600" y="1968480"/>
            <a:ext cx="2451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Bookman"/>
              </a:rPr>
              <a:t>@KLOE</a:t>
            </a:r>
            <a:r>
              <a:rPr b="0" lang="en-GB" sz="2400" spc="-1" strike="noStrike">
                <a:solidFill>
                  <a:srgbClr val="000000"/>
                </a:solidFill>
                <a:latin typeface="Bookman"/>
              </a:rPr>
              <a:t>=4.12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60720" y="2735280"/>
            <a:ext cx="48974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ith 2 fb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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we expect 244,200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0" y="1655640"/>
            <a:ext cx="6624720" cy="1143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138240" y="3311640"/>
            <a:ext cx="64641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84700"/>
                </a:solidFill>
                <a:latin typeface="Times New Roman"/>
              </a:rPr>
              <a:t>We can choose three decay chann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8000" y="3940200"/>
            <a:ext cx="831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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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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47760" y="3925800"/>
            <a:ext cx="17766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96,3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76840" y="3925800"/>
            <a:ext cx="1776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55,000)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12080" y="3917880"/>
            <a:ext cx="13050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80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1760" y="4464000"/>
            <a:ext cx="48369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84700"/>
                </a:solidFill>
                <a:latin typeface="Times New Roman"/>
              </a:rPr>
              <a:t>Expected backg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7120" y="4986360"/>
            <a:ext cx="51879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Bitstream Vera Serif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>
                <a:solidFill>
                  <a:srgbClr val="000000"/>
                </a:solidFill>
                <a:latin typeface="Book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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kinematic ident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14600" y="4924440"/>
            <a:ext cx="2035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94400" y="4995720"/>
            <a:ext cx="2035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63840" y="5253120"/>
            <a:ext cx="246852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vertex 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08800" y="5321160"/>
            <a:ext cx="234936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HAR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0600" y="5715000"/>
            <a:ext cx="7585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mon background: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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nels) with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4360" y="6172200"/>
            <a:ext cx="5013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We can apply only tranverse momentum 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95480" y="60199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peak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89480" y="6172200"/>
            <a:ext cx="976320" cy="262080"/>
          </a:xfrm>
          <a:prstGeom prst="rightArrow">
            <a:avLst>
              <a:gd name="adj1" fmla="val 50000"/>
              <a:gd name="adj2" fmla="val 9313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1800" y="449424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nant 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55440" y="4518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nant 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89080" y="71280"/>
            <a:ext cx="7772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BR</a:t>
            </a:r>
            <a:r>
              <a:rPr b="0" lang="en-US" sz="19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  <a:ea typeface="Times New Roman"/>
              </a:rPr>
              <a:t>-&gt;</a:t>
            </a:r>
            <a:r>
              <a:rPr b="0" lang="en-US" sz="19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19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en-US" sz="19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: comparison with mod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870200" y="836640"/>
            <a:ext cx="5894280" cy="46576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3149640" y="930240"/>
            <a:ext cx="4158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41760" y="930240"/>
            <a:ext cx="414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97160" y="930240"/>
            <a:ext cx="414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19520" y="930240"/>
            <a:ext cx="416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11640" y="932040"/>
            <a:ext cx="414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00880" y="932040"/>
            <a:ext cx="414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1200" y="932040"/>
            <a:ext cx="4158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615000" y="932040"/>
            <a:ext cx="414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14880" y="3754440"/>
            <a:ext cx="18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69160" y="3986280"/>
            <a:ext cx="106200" cy="8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94320" y="1538280"/>
            <a:ext cx="762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903400" y="3138480"/>
            <a:ext cx="42674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903400" y="3519360"/>
            <a:ext cx="42674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903400" y="3976560"/>
            <a:ext cx="42674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97720" y="3213000"/>
            <a:ext cx="1719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56600" y="3048120"/>
            <a:ext cx="0" cy="990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97720" y="1844640"/>
            <a:ext cx="9572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imes New Roman"/>
              </a:rPr>
              <a:t>GAMS </a:t>
            </a:r>
            <a:r>
              <a:rPr b="1" lang="en-GB" sz="1800" spc="-1" strike="noStrike">
                <a:solidFill>
                  <a:srgbClr val="009900"/>
                </a:solidFill>
                <a:latin typeface="Times New Roman"/>
              </a:rPr>
              <a:t>(19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903400" y="1766880"/>
            <a:ext cx="4267440" cy="838080"/>
            <a:chOff x="2903400" y="1766880"/>
            <a:chExt cx="4267440" cy="838080"/>
          </a:xfrm>
        </p:grpSpPr>
        <p:sp>
          <p:nvSpPr>
            <p:cNvPr id="717" name=""/>
            <p:cNvSpPr/>
            <p:nvPr/>
          </p:nvSpPr>
          <p:spPr>
            <a:xfrm flipH="1">
              <a:off x="2903400" y="2223720"/>
              <a:ext cx="4267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903400" y="1766880"/>
              <a:ext cx="4267440" cy="0"/>
            </a:xfrm>
            <a:prstGeom prst="line">
              <a:avLst/>
            </a:prstGeom>
            <a:ln w="442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903400" y="2604960"/>
              <a:ext cx="4267440" cy="0"/>
            </a:xfrm>
            <a:prstGeom prst="line">
              <a:avLst/>
            </a:prstGeom>
            <a:ln w="414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323120" y="1766880"/>
            <a:ext cx="0" cy="838080"/>
          </a:xfrm>
          <a:prstGeom prst="line">
            <a:avLst/>
          </a:prstGeom>
          <a:ln w="4428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164360" y="5084640"/>
            <a:ext cx="1760760" cy="1298520"/>
            <a:chOff x="7164360" y="5084640"/>
            <a:chExt cx="1760760" cy="1298520"/>
          </a:xfrm>
        </p:grpSpPr>
        <p:sp>
          <p:nvSpPr>
            <p:cNvPr id="722" name=""/>
            <p:cNvSpPr/>
            <p:nvPr/>
          </p:nvSpPr>
          <p:spPr>
            <a:xfrm>
              <a:off x="7164360" y="50925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05560" y="508464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1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64360" y="5397480"/>
              <a:ext cx="228600" cy="2286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64360" y="5702040"/>
              <a:ext cx="22860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21400" y="53895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2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21400" y="569412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3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4360" y="6022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97280" y="6014880"/>
              <a:ext cx="15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calcul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634080" y="414828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57720" y="393228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69360" y="3860640"/>
            <a:ext cx="0" cy="648000"/>
          </a:xfrm>
          <a:prstGeom prst="line">
            <a:avLst/>
          </a:prstGeom>
          <a:ln w="4428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713720" y="4010040"/>
            <a:ext cx="957240" cy="2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ff66cc"/>
                </a:solidFill>
                <a:latin typeface="Times New Roman"/>
              </a:rPr>
              <a:t>KL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0" y="3068640"/>
            <a:ext cx="2560680" cy="3378240"/>
            <a:chOff x="0" y="3068640"/>
            <a:chExt cx="2560680" cy="3378240"/>
          </a:xfrm>
        </p:grpSpPr>
        <p:sp>
          <p:nvSpPr>
            <p:cNvPr id="735" name=""/>
            <p:cNvSpPr/>
            <p:nvPr/>
          </p:nvSpPr>
          <p:spPr>
            <a:xfrm>
              <a:off x="41400" y="3284640"/>
              <a:ext cx="2361960" cy="30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1] 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J. N.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Bookman"/>
                </a:rPr>
                <a:t>Ng</a:t>
              </a:r>
              <a:r>
                <a:rPr b="0" i="1" lang="it-IT" sz="1500" spc="-1" strike="noStrike">
                  <a:solidFill>
                    <a:srgbClr val="000000"/>
                  </a:solidFill>
                  <a:latin typeface="Bookman"/>
                </a:rPr>
                <a:t> et al.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Bookman"/>
                </a:rPr>
                <a:t>(1992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2] 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J.N.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Bookman"/>
                </a:rPr>
                <a:t>Ng</a:t>
              </a:r>
              <a:r>
                <a:rPr b="0" i="1" lang="it-IT" sz="1500" spc="-1" strike="noStrike">
                  <a:solidFill>
                    <a:srgbClr val="000000"/>
                  </a:solidFill>
                  <a:latin typeface="Bookman"/>
                </a:rPr>
                <a:t> et al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Bookman"/>
                </a:rPr>
                <a:t>(1993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3-4]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L. 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Ametller 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et al. 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(1992)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S. 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Bellucci 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et al. 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(1995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6] E. Oset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et al</a:t>
              </a:r>
              <a:r>
                <a:rPr b="0" lang="en-GB" sz="1500" spc="-1" strike="noStrike">
                  <a:solidFill>
                    <a:srgbClr val="000000"/>
                  </a:solidFill>
                  <a:latin typeface="Bookman"/>
                </a:rPr>
                <a:t> (2003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7] J. Bijnens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et al. 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(1996)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[8] A. A. Belkov</a:t>
              </a:r>
              <a:r>
                <a:rPr b="0" lang="it-IT" sz="1500" spc="-1" strike="noStrike">
                  <a:solidFill>
                    <a:srgbClr val="000000"/>
                  </a:solidFill>
                  <a:latin typeface="Times New Roman"/>
                </a:rPr>
                <a:t> et al.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(1996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256068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135080" y="4586400"/>
              <a:ext cx="581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76320" y="4241880"/>
              <a:ext cx="581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76320" y="3724200"/>
              <a:ext cx="581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936360" y="3932280"/>
              <a:ext cx="128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6040" y="3508200"/>
              <a:ext cx="581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65736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20720" y="3749760"/>
              <a:ext cx="10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0640" y="3068640"/>
              <a:ext cx="20124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stical signific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lifetime from 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3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821120"/>
            <a:ext cx="7238880" cy="14839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KLOE) = (50.87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16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26 ) ns   - 14.5  Mevents – 440 pb</a:t>
            </a:r>
            <a:r>
              <a:rPr b="1" lang="en-GB" sz="20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DG) (fit) =  (51.7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0.4)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Vosburg, 1972) =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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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s -  0.4 M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98760" y="763560"/>
            <a:ext cx="7392960" cy="4089960"/>
            <a:chOff x="1598760" y="763560"/>
            <a:chExt cx="7392960" cy="4089960"/>
          </a:xfrm>
        </p:grpSpPr>
        <p:grpSp>
          <p:nvGrpSpPr>
            <p:cNvPr id="77" name=""/>
            <p:cNvGrpSpPr/>
            <p:nvPr/>
          </p:nvGrpSpPr>
          <p:grpSpPr>
            <a:xfrm>
              <a:off x="2106720" y="763560"/>
              <a:ext cx="4141800" cy="3678120"/>
              <a:chOff x="2106720" y="763560"/>
              <a:chExt cx="4141800" cy="36781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6720" y="763560"/>
                <a:ext cx="4141800" cy="36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flipH="1">
                <a:off x="3009600" y="1738440"/>
                <a:ext cx="19080" cy="22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670640" y="2468520"/>
                <a:ext cx="1440" cy="1652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96280" y="216540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it-IT" sz="1600" spc="-1" strike="noStrike">
                    <a:solidFill>
                      <a:srgbClr val="ff0000"/>
                    </a:solidFill>
                    <a:latin typeface="Geneva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rot="16200000">
              <a:off x="838440" y="16959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Geneva"/>
                </a:rPr>
                <a:t>Events/0.3 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01920" y="4343400"/>
              <a:ext cx="228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*= L</a:t>
              </a:r>
              <a:r>
                <a:rPr b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 (n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4560" y="2666880"/>
              <a:ext cx="3467160" cy="80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99"/>
                  </a:solidFill>
                  <a:latin typeface="Geneva"/>
                </a:rPr>
                <a:t>14 x 10</a:t>
              </a:r>
              <a:r>
                <a:rPr b="1" lang="it-IT" sz="1800" spc="-1" strike="noStrike" baseline="30000">
                  <a:solidFill>
                    <a:srgbClr val="000099"/>
                  </a:solidFill>
                  <a:latin typeface="Geneva"/>
                </a:rPr>
                <a:t>6</a:t>
              </a:r>
              <a:r>
                <a:rPr b="1" lang="it-IT" sz="1800" spc="-1" strike="noStrike">
                  <a:solidFill>
                    <a:srgbClr val="000099"/>
                  </a:solidFill>
                  <a:latin typeface="Geneva"/>
                </a:rPr>
                <a:t>  events</a:t>
              </a: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 </a:t>
              </a: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Fit region = 6 -26 ns (40%</a:t>
              </a:r>
              <a:r>
                <a:rPr b="1" lang="it-IT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</a:t>
              </a:r>
              <a:r>
                <a:rPr b="1" lang="it-IT" sz="2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2000" spc="-1" strike="noStrike">
                  <a:solidFill>
                    <a:srgbClr val="000099"/>
                  </a:solidFill>
                  <a:latin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38560" y="1066680"/>
              <a:ext cx="2781360" cy="719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eneva"/>
              </a:rPr>
              <a:t>very crude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exercise on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i="1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246560" y="1424160"/>
            <a:ext cx="4745160" cy="4813200"/>
            <a:chOff x="4246560" y="1424160"/>
            <a:chExt cx="4745160" cy="4813200"/>
          </a:xfrm>
        </p:grpSpPr>
        <p:pic>
          <p:nvPicPr>
            <p:cNvPr id="746" name="" descr=""/>
            <p:cNvPicPr/>
            <p:nvPr/>
          </p:nvPicPr>
          <p:blipFill>
            <a:blip r:embed="rId1"/>
            <a:srcRect l="3279" t="33479" r="14509" b="2100"/>
            <a:stretch/>
          </p:blipFill>
          <p:spPr>
            <a:xfrm>
              <a:off x="4246560" y="1424160"/>
              <a:ext cx="474516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803120" y="4429080"/>
              <a:ext cx="4046760" cy="347400"/>
            </a:xfrm>
            <a:prstGeom prst="rect">
              <a:avLst/>
            </a:prstGeom>
            <a:solidFill>
              <a:srgbClr val="ff33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78280" y="1567080"/>
              <a:ext cx="401400" cy="4151520"/>
            </a:xfrm>
            <a:prstGeom prst="rect">
              <a:avLst/>
            </a:prstGeom>
            <a:solidFill>
              <a:srgbClr val="ff33cc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70240" y="4429080"/>
              <a:ext cx="1116360" cy="347400"/>
            </a:xfrm>
            <a:prstGeom prst="rect">
              <a:avLst/>
            </a:prstGeom>
            <a:solidFill>
              <a:srgbClr val="333399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78280" y="1567080"/>
              <a:ext cx="418320" cy="1255320"/>
            </a:xfrm>
            <a:prstGeom prst="rect">
              <a:avLst/>
            </a:prstGeom>
            <a:solidFill>
              <a:srgbClr val="333399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1" name=""/>
          <p:cNvGraphicFramePr/>
          <p:nvPr/>
        </p:nvGraphicFramePr>
        <p:xfrm>
          <a:off x="7620120" y="685800"/>
          <a:ext cx="10080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685800"/>
                    <a:ext cx="10080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A48: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 (z &gt; 0.2) =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(4.9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  <a:ea typeface="Times New Roman"/>
              </a:rPr>
              <a:t>±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.8)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Geneva"/>
              </a:rPr>
              <a:t>-8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A48: 31 events with 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ckground of  13.7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7 signal even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ith 2+0.5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we expec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17 signal even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o estimate of the backgroun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t this tim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Measurement of 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BR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40360" y="990720"/>
            <a:ext cx="7911360" cy="3696120"/>
            <a:chOff x="540360" y="990720"/>
            <a:chExt cx="7911360" cy="3696120"/>
          </a:xfrm>
        </p:grpSpPr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1066680" y="990720"/>
                  <a:ext cx="728676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R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ag</m:t>
                              </m:r>
                            </m:sub>
                          </m:sSub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)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V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a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g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7" name=""/>
            <p:cNvSpPr/>
            <p:nvPr/>
          </p:nvSpPr>
          <p:spPr>
            <a:xfrm>
              <a:off x="540360" y="2787480"/>
              <a:ext cx="3673800" cy="13035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Reconstruction efficienci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it-IT" sz="1800" spc="-1" strike="noStrike" baseline="-25000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</a:t>
              </a:r>
              <a:r>
                <a:rPr b="1" lang="el-GR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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,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e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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(rec)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5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K</a:t>
              </a:r>
              <a:r>
                <a:rPr b="1" lang="it-IT" sz="18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18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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18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it-IT" sz="18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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(rec)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4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K</a:t>
              </a:r>
              <a:r>
                <a:rPr b="1" lang="it-IT" sz="1800" spc="-1" strike="noStrike" baseline="-25000">
                  <a:solidFill>
                    <a:srgbClr val="333399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</a:t>
              </a:r>
              <a:r>
                <a:rPr b="1" lang="it-IT" sz="18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</a:t>
              </a:r>
              <a:r>
                <a:rPr b="1" lang="it-IT" sz="1800" spc="-1" strike="noStrike" baseline="30000">
                  <a:solidFill>
                    <a:srgbClr val="333399"/>
                  </a:solidFill>
                  <a:latin typeface="Times New Roman"/>
                  <a:ea typeface="Times New Roman"/>
                </a:rPr>
                <a:t> 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 (rec)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333399"/>
                  </a:solidFill>
                  <a:latin typeface="Times New Roman"/>
                </a:rPr>
                <a:t> 10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3760" y="1415880"/>
              <a:ext cx="914400" cy="68580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355840" y="1949400"/>
              <a:ext cx="144792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03960" y="2178000"/>
              <a:ext cx="0" cy="1600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51320" y="4006800"/>
              <a:ext cx="3521160" cy="680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Integral over the fiducial volum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ε</a:t>
              </a:r>
              <a:r>
                <a:rPr b="1" lang="it-IT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(FV, </a:t>
              </a:r>
              <a:r>
                <a:rPr b="1" lang="it-IT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</a:t>
              </a:r>
              <a:r>
                <a:rPr b="1" lang="it-IT" sz="18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it-IT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26%, depends on </a:t>
              </a:r>
              <a:r>
                <a:rPr b="1" lang="it-IT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</a:t>
              </a:r>
              <a:r>
                <a:rPr b="1" lang="it-IT" sz="18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65720" y="1339920"/>
              <a:ext cx="2286000" cy="6858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2920" y="2025720"/>
              <a:ext cx="30492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06920" y="2635200"/>
              <a:ext cx="196848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Times New Roman"/>
                </a:rPr>
                <a:t>Tagging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94120" y="1263600"/>
              <a:ext cx="1219320" cy="83808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2681640" y="4997520"/>
            <a:ext cx="3594600" cy="440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igger required on the 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3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341280" y="990360"/>
            <a:ext cx="4002120" cy="3841560"/>
            <a:chOff x="341280" y="990360"/>
            <a:chExt cx="4002120" cy="3841560"/>
          </a:xfrm>
        </p:grpSpPr>
        <p:grpSp>
          <p:nvGrpSpPr>
            <p:cNvPr id="769" name=""/>
            <p:cNvGrpSpPr/>
            <p:nvPr/>
          </p:nvGrpSpPr>
          <p:grpSpPr>
            <a:xfrm>
              <a:off x="341280" y="1025280"/>
              <a:ext cx="4002120" cy="3806640"/>
              <a:chOff x="341280" y="1025280"/>
              <a:chExt cx="4002120" cy="3806640"/>
            </a:xfrm>
          </p:grpSpPr>
          <p:pic>
            <p:nvPicPr>
              <p:cNvPr id="770" name="" descr=""/>
              <p:cNvPicPr/>
              <p:nvPr/>
            </p:nvPicPr>
            <p:blipFill>
              <a:blip r:embed="rId1"/>
              <a:srcRect l="18004" t="10197" r="18753" b="4776"/>
              <a:stretch/>
            </p:blipFill>
            <p:spPr>
              <a:xfrm>
                <a:off x="341280" y="1025280"/>
                <a:ext cx="4002120" cy="38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"/>
              <p:cNvSpPr/>
              <p:nvPr/>
            </p:nvSpPr>
            <p:spPr>
              <a:xfrm>
                <a:off x="2380320" y="1281960"/>
                <a:ext cx="151920" cy="102960"/>
              </a:xfrm>
              <a:prstGeom prst="roundRect">
                <a:avLst>
                  <a:gd name="adj" fmla="val 156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35760" y="1391760"/>
                <a:ext cx="109440" cy="1080"/>
              </a:xfrm>
              <a:prstGeom prst="line">
                <a:avLst/>
              </a:prstGeom>
              <a:ln w="9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 flipV="1">
              <a:off x="2345040" y="990360"/>
              <a:ext cx="1116000" cy="1945800"/>
            </a:xfrm>
            <a:prstGeom prst="line">
              <a:avLst/>
            </a:prstGeom>
            <a:ln w="367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44920" y="2392200"/>
              <a:ext cx="1179360" cy="2484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44920" y="2392200"/>
              <a:ext cx="716040" cy="169344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1285560" y="2392200"/>
              <a:ext cx="1360440" cy="168552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55640" y="2392200"/>
              <a:ext cx="1890720" cy="76644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1530360" y="1606320"/>
              <a:ext cx="1116000" cy="78696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32200" y="2358720"/>
              <a:ext cx="144720" cy="95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65640" y="4122360"/>
              <a:ext cx="144360" cy="95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20920" y="1530000"/>
              <a:ext cx="144360" cy="95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33640" y="4051080"/>
              <a:ext cx="144360" cy="95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8920" y="3114360"/>
              <a:ext cx="144360" cy="95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2560" y="1314360"/>
              <a:ext cx="144360" cy="94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2466720" y="1403280"/>
              <a:ext cx="196920" cy="97272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44920" y="2346120"/>
              <a:ext cx="6336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18480" y="3428640"/>
              <a:ext cx="1249560" cy="4356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GB" sz="2000" spc="-1" strike="noStrike" baseline="-33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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8" name="" descr=""/>
          <p:cNvPicPr/>
          <p:nvPr/>
        </p:nvPicPr>
        <p:blipFill>
          <a:blip r:embed="rId2"/>
          <a:srcRect l="0" t="0" r="669" b="-578"/>
          <a:stretch/>
        </p:blipFill>
        <p:spPr>
          <a:xfrm>
            <a:off x="4875120" y="1066680"/>
            <a:ext cx="3380040" cy="38102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472760" y="5029200"/>
            <a:ext cx="6474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t least 3 neutral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eutral vertex reconstructed along 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irection using 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fficiency close to 100%, bkg 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charged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04920" y="914400"/>
            <a:ext cx="4002120" cy="3841560"/>
            <a:chOff x="304920" y="914400"/>
            <a:chExt cx="4002120" cy="3841560"/>
          </a:xfrm>
        </p:grpSpPr>
        <p:grpSp>
          <p:nvGrpSpPr>
            <p:cNvPr id="792" name=""/>
            <p:cNvGrpSpPr/>
            <p:nvPr/>
          </p:nvGrpSpPr>
          <p:grpSpPr>
            <a:xfrm>
              <a:off x="304920" y="949320"/>
              <a:ext cx="4002120" cy="3806640"/>
              <a:chOff x="304920" y="949320"/>
              <a:chExt cx="4002120" cy="3806640"/>
            </a:xfrm>
          </p:grpSpPr>
          <p:pic>
            <p:nvPicPr>
              <p:cNvPr id="793" name="" descr=""/>
              <p:cNvPicPr/>
              <p:nvPr/>
            </p:nvPicPr>
            <p:blipFill>
              <a:blip r:embed="rId1"/>
              <a:srcRect l="18004" t="10197" r="18753" b="4776"/>
              <a:stretch/>
            </p:blipFill>
            <p:spPr>
              <a:xfrm>
                <a:off x="304920" y="949320"/>
                <a:ext cx="4002120" cy="38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>
                <a:off x="2343960" y="1206000"/>
                <a:ext cx="151920" cy="102960"/>
              </a:xfrm>
              <a:prstGeom prst="roundRect">
                <a:avLst>
                  <a:gd name="adj" fmla="val 156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399400" y="1315800"/>
                <a:ext cx="109440" cy="1080"/>
              </a:xfrm>
              <a:prstGeom prst="line">
                <a:avLst/>
              </a:prstGeom>
              <a:ln w="9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209680" y="1371600"/>
              <a:ext cx="393840" cy="922320"/>
            </a:xfrm>
            <a:custGeom>
              <a:avLst/>
              <a:gdLst/>
              <a:ahLst/>
              <a:rect l="l" t="t" r="r" b="b"/>
              <a:pathLst>
                <a:path w="1092" h="2563">
                  <a:moveTo>
                    <a:pt x="59" y="0"/>
                  </a:moveTo>
                  <a:lnTo>
                    <a:pt x="45" y="36"/>
                  </a:lnTo>
                  <a:lnTo>
                    <a:pt x="34" y="74"/>
                  </a:lnTo>
                  <a:lnTo>
                    <a:pt x="23" y="116"/>
                  </a:lnTo>
                  <a:lnTo>
                    <a:pt x="15" y="159"/>
                  </a:lnTo>
                  <a:lnTo>
                    <a:pt x="8" y="206"/>
                  </a:lnTo>
                  <a:lnTo>
                    <a:pt x="3" y="255"/>
                  </a:lnTo>
                  <a:lnTo>
                    <a:pt x="1" y="306"/>
                  </a:lnTo>
                  <a:lnTo>
                    <a:pt x="0" y="360"/>
                  </a:lnTo>
                  <a:lnTo>
                    <a:pt x="1" y="415"/>
                  </a:lnTo>
                  <a:lnTo>
                    <a:pt x="3" y="474"/>
                  </a:lnTo>
                  <a:lnTo>
                    <a:pt x="9" y="534"/>
                  </a:lnTo>
                  <a:lnTo>
                    <a:pt x="14" y="595"/>
                  </a:lnTo>
                  <a:lnTo>
                    <a:pt x="23" y="658"/>
                  </a:lnTo>
                  <a:lnTo>
                    <a:pt x="33" y="723"/>
                  </a:lnTo>
                  <a:lnTo>
                    <a:pt x="46" y="788"/>
                  </a:lnTo>
                  <a:lnTo>
                    <a:pt x="59" y="855"/>
                  </a:lnTo>
                  <a:lnTo>
                    <a:pt x="75" y="922"/>
                  </a:lnTo>
                  <a:lnTo>
                    <a:pt x="92" y="990"/>
                  </a:lnTo>
                  <a:lnTo>
                    <a:pt x="110" y="1059"/>
                  </a:lnTo>
                  <a:lnTo>
                    <a:pt x="131" y="1128"/>
                  </a:lnTo>
                  <a:lnTo>
                    <a:pt x="152" y="1197"/>
                  </a:lnTo>
                  <a:lnTo>
                    <a:pt x="177" y="1267"/>
                  </a:lnTo>
                  <a:lnTo>
                    <a:pt x="201" y="1336"/>
                  </a:lnTo>
                  <a:lnTo>
                    <a:pt x="228" y="1405"/>
                  </a:lnTo>
                  <a:lnTo>
                    <a:pt x="255" y="1473"/>
                  </a:lnTo>
                  <a:lnTo>
                    <a:pt x="284" y="1541"/>
                  </a:lnTo>
                  <a:lnTo>
                    <a:pt x="313" y="1608"/>
                  </a:lnTo>
                  <a:lnTo>
                    <a:pt x="344" y="1673"/>
                  </a:lnTo>
                  <a:lnTo>
                    <a:pt x="376" y="1738"/>
                  </a:lnTo>
                  <a:lnTo>
                    <a:pt x="410" y="1801"/>
                  </a:lnTo>
                  <a:lnTo>
                    <a:pt x="443" y="1863"/>
                  </a:lnTo>
                  <a:lnTo>
                    <a:pt x="478" y="1922"/>
                  </a:lnTo>
                  <a:lnTo>
                    <a:pt x="513" y="1980"/>
                  </a:lnTo>
                  <a:lnTo>
                    <a:pt x="549" y="2037"/>
                  </a:lnTo>
                  <a:lnTo>
                    <a:pt x="585" y="2091"/>
                  </a:lnTo>
                  <a:lnTo>
                    <a:pt x="622" y="2143"/>
                  </a:lnTo>
                  <a:lnTo>
                    <a:pt x="658" y="2192"/>
                  </a:lnTo>
                  <a:lnTo>
                    <a:pt x="696" y="2239"/>
                  </a:lnTo>
                  <a:lnTo>
                    <a:pt x="733" y="2284"/>
                  </a:lnTo>
                  <a:lnTo>
                    <a:pt x="771" y="2325"/>
                  </a:lnTo>
                  <a:lnTo>
                    <a:pt x="808" y="2364"/>
                  </a:lnTo>
                  <a:lnTo>
                    <a:pt x="845" y="2399"/>
                  </a:lnTo>
                  <a:lnTo>
                    <a:pt x="881" y="2432"/>
                  </a:lnTo>
                  <a:lnTo>
                    <a:pt x="918" y="2462"/>
                  </a:lnTo>
                  <a:lnTo>
                    <a:pt x="954" y="2489"/>
                  </a:lnTo>
                  <a:lnTo>
                    <a:pt x="989" y="2512"/>
                  </a:lnTo>
                  <a:lnTo>
                    <a:pt x="1024" y="2532"/>
                  </a:lnTo>
                  <a:lnTo>
                    <a:pt x="1058" y="2549"/>
                  </a:lnTo>
                  <a:lnTo>
                    <a:pt x="1091" y="2562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2308320" y="914400"/>
              <a:ext cx="1116000" cy="1946160"/>
            </a:xfrm>
            <a:prstGeom prst="line">
              <a:avLst/>
            </a:prstGeom>
            <a:ln w="367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24040" y="2182680"/>
              <a:ext cx="1241640" cy="220680"/>
            </a:xfrm>
            <a:custGeom>
              <a:avLst/>
              <a:gdLst/>
              <a:ahLst/>
              <a:rect l="l" t="t" r="r" b="b"/>
              <a:pathLst>
                <a:path w="3450" h="612">
                  <a:moveTo>
                    <a:pt x="0" y="393"/>
                  </a:moveTo>
                  <a:lnTo>
                    <a:pt x="38" y="416"/>
                  </a:lnTo>
                  <a:lnTo>
                    <a:pt x="79" y="437"/>
                  </a:lnTo>
                  <a:lnTo>
                    <a:pt x="125" y="458"/>
                  </a:lnTo>
                  <a:lnTo>
                    <a:pt x="174" y="478"/>
                  </a:lnTo>
                  <a:lnTo>
                    <a:pt x="228" y="496"/>
                  </a:lnTo>
                  <a:lnTo>
                    <a:pt x="285" y="513"/>
                  </a:lnTo>
                  <a:lnTo>
                    <a:pt x="345" y="529"/>
                  </a:lnTo>
                  <a:lnTo>
                    <a:pt x="410" y="544"/>
                  </a:lnTo>
                  <a:lnTo>
                    <a:pt x="477" y="557"/>
                  </a:lnTo>
                  <a:lnTo>
                    <a:pt x="548" y="568"/>
                  </a:lnTo>
                  <a:lnTo>
                    <a:pt x="621" y="580"/>
                  </a:lnTo>
                  <a:lnTo>
                    <a:pt x="698" y="589"/>
                  </a:lnTo>
                  <a:lnTo>
                    <a:pt x="776" y="596"/>
                  </a:lnTo>
                  <a:lnTo>
                    <a:pt x="857" y="602"/>
                  </a:lnTo>
                  <a:lnTo>
                    <a:pt x="940" y="606"/>
                  </a:lnTo>
                  <a:lnTo>
                    <a:pt x="1025" y="610"/>
                  </a:lnTo>
                  <a:lnTo>
                    <a:pt x="1111" y="611"/>
                  </a:lnTo>
                  <a:lnTo>
                    <a:pt x="1200" y="611"/>
                  </a:lnTo>
                  <a:lnTo>
                    <a:pt x="1289" y="610"/>
                  </a:lnTo>
                  <a:lnTo>
                    <a:pt x="1379" y="606"/>
                  </a:lnTo>
                  <a:lnTo>
                    <a:pt x="1470" y="601"/>
                  </a:lnTo>
                  <a:lnTo>
                    <a:pt x="1562" y="596"/>
                  </a:lnTo>
                  <a:lnTo>
                    <a:pt x="1654" y="588"/>
                  </a:lnTo>
                  <a:lnTo>
                    <a:pt x="1747" y="579"/>
                  </a:lnTo>
                  <a:lnTo>
                    <a:pt x="1838" y="568"/>
                  </a:lnTo>
                  <a:lnTo>
                    <a:pt x="1930" y="556"/>
                  </a:lnTo>
                  <a:lnTo>
                    <a:pt x="2020" y="544"/>
                  </a:lnTo>
                  <a:lnTo>
                    <a:pt x="2111" y="529"/>
                  </a:lnTo>
                  <a:lnTo>
                    <a:pt x="2200" y="512"/>
                  </a:lnTo>
                  <a:lnTo>
                    <a:pt x="2288" y="496"/>
                  </a:lnTo>
                  <a:lnTo>
                    <a:pt x="2374" y="477"/>
                  </a:lnTo>
                  <a:lnTo>
                    <a:pt x="2459" y="458"/>
                  </a:lnTo>
                  <a:lnTo>
                    <a:pt x="2541" y="437"/>
                  </a:lnTo>
                  <a:lnTo>
                    <a:pt x="2622" y="415"/>
                  </a:lnTo>
                  <a:lnTo>
                    <a:pt x="2700" y="392"/>
                  </a:lnTo>
                  <a:lnTo>
                    <a:pt x="2776" y="368"/>
                  </a:lnTo>
                  <a:lnTo>
                    <a:pt x="2849" y="344"/>
                  </a:lnTo>
                  <a:lnTo>
                    <a:pt x="2919" y="318"/>
                  </a:lnTo>
                  <a:lnTo>
                    <a:pt x="2985" y="291"/>
                  </a:lnTo>
                  <a:lnTo>
                    <a:pt x="3048" y="264"/>
                  </a:lnTo>
                  <a:lnTo>
                    <a:pt x="3109" y="236"/>
                  </a:lnTo>
                  <a:lnTo>
                    <a:pt x="3165" y="208"/>
                  </a:lnTo>
                  <a:lnTo>
                    <a:pt x="3217" y="179"/>
                  </a:lnTo>
                  <a:lnTo>
                    <a:pt x="3267" y="150"/>
                  </a:lnTo>
                  <a:lnTo>
                    <a:pt x="3312" y="120"/>
                  </a:lnTo>
                  <a:lnTo>
                    <a:pt x="3352" y="91"/>
                  </a:lnTo>
                  <a:lnTo>
                    <a:pt x="3389" y="61"/>
                  </a:lnTo>
                  <a:lnTo>
                    <a:pt x="3421" y="30"/>
                  </a:lnTo>
                  <a:lnTo>
                    <a:pt x="3449" y="0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08200" y="2270160"/>
              <a:ext cx="63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481760" y="3352680"/>
              <a:ext cx="1249560" cy="4356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GB" sz="2000" spc="-1" strike="noStrike" baseline="-33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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1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511520" y="914400"/>
            <a:ext cx="4175280" cy="392436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28600" y="4890960"/>
            <a:ext cx="4130640" cy="135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 tracks forming a vertex along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rtex and tracking efficiency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5% for Kl3 and 40% for 3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8440" y="4724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-E(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724280" y="5105520"/>
            <a:ext cx="405468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s counted by fitting missing momentum minus missing energy in the pion-muon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charged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04920" y="914400"/>
            <a:ext cx="4002120" cy="3841560"/>
            <a:chOff x="304920" y="914400"/>
            <a:chExt cx="4002120" cy="3841560"/>
          </a:xfrm>
        </p:grpSpPr>
        <p:grpSp>
          <p:nvGrpSpPr>
            <p:cNvPr id="807" name=""/>
            <p:cNvGrpSpPr/>
            <p:nvPr/>
          </p:nvGrpSpPr>
          <p:grpSpPr>
            <a:xfrm>
              <a:off x="304920" y="949320"/>
              <a:ext cx="4002120" cy="3806640"/>
              <a:chOff x="304920" y="949320"/>
              <a:chExt cx="4002120" cy="3806640"/>
            </a:xfrm>
          </p:grpSpPr>
          <p:pic>
            <p:nvPicPr>
              <p:cNvPr id="808" name="" descr=""/>
              <p:cNvPicPr/>
              <p:nvPr/>
            </p:nvPicPr>
            <p:blipFill>
              <a:blip r:embed="rId1"/>
              <a:srcRect l="18004" t="10197" r="18753" b="4776"/>
              <a:stretch/>
            </p:blipFill>
            <p:spPr>
              <a:xfrm>
                <a:off x="304920" y="949320"/>
                <a:ext cx="4002120" cy="38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2343960" y="1206000"/>
                <a:ext cx="151920" cy="102960"/>
              </a:xfrm>
              <a:prstGeom prst="roundRect">
                <a:avLst>
                  <a:gd name="adj" fmla="val 156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399400" y="1315800"/>
                <a:ext cx="109440" cy="1080"/>
              </a:xfrm>
              <a:prstGeom prst="line">
                <a:avLst/>
              </a:prstGeom>
              <a:ln w="9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2209680" y="1371600"/>
              <a:ext cx="393840" cy="922320"/>
            </a:xfrm>
            <a:custGeom>
              <a:avLst/>
              <a:gdLst/>
              <a:ahLst/>
              <a:rect l="l" t="t" r="r" b="b"/>
              <a:pathLst>
                <a:path w="1092" h="2563">
                  <a:moveTo>
                    <a:pt x="59" y="0"/>
                  </a:moveTo>
                  <a:lnTo>
                    <a:pt x="45" y="36"/>
                  </a:lnTo>
                  <a:lnTo>
                    <a:pt x="34" y="74"/>
                  </a:lnTo>
                  <a:lnTo>
                    <a:pt x="23" y="116"/>
                  </a:lnTo>
                  <a:lnTo>
                    <a:pt x="15" y="159"/>
                  </a:lnTo>
                  <a:lnTo>
                    <a:pt x="8" y="206"/>
                  </a:lnTo>
                  <a:lnTo>
                    <a:pt x="3" y="255"/>
                  </a:lnTo>
                  <a:lnTo>
                    <a:pt x="1" y="306"/>
                  </a:lnTo>
                  <a:lnTo>
                    <a:pt x="0" y="360"/>
                  </a:lnTo>
                  <a:lnTo>
                    <a:pt x="1" y="415"/>
                  </a:lnTo>
                  <a:lnTo>
                    <a:pt x="3" y="474"/>
                  </a:lnTo>
                  <a:lnTo>
                    <a:pt x="9" y="534"/>
                  </a:lnTo>
                  <a:lnTo>
                    <a:pt x="14" y="595"/>
                  </a:lnTo>
                  <a:lnTo>
                    <a:pt x="23" y="658"/>
                  </a:lnTo>
                  <a:lnTo>
                    <a:pt x="33" y="723"/>
                  </a:lnTo>
                  <a:lnTo>
                    <a:pt x="46" y="788"/>
                  </a:lnTo>
                  <a:lnTo>
                    <a:pt x="59" y="855"/>
                  </a:lnTo>
                  <a:lnTo>
                    <a:pt x="75" y="922"/>
                  </a:lnTo>
                  <a:lnTo>
                    <a:pt x="92" y="990"/>
                  </a:lnTo>
                  <a:lnTo>
                    <a:pt x="110" y="1059"/>
                  </a:lnTo>
                  <a:lnTo>
                    <a:pt x="131" y="1128"/>
                  </a:lnTo>
                  <a:lnTo>
                    <a:pt x="152" y="1197"/>
                  </a:lnTo>
                  <a:lnTo>
                    <a:pt x="177" y="1267"/>
                  </a:lnTo>
                  <a:lnTo>
                    <a:pt x="201" y="1336"/>
                  </a:lnTo>
                  <a:lnTo>
                    <a:pt x="228" y="1405"/>
                  </a:lnTo>
                  <a:lnTo>
                    <a:pt x="255" y="1473"/>
                  </a:lnTo>
                  <a:lnTo>
                    <a:pt x="284" y="1541"/>
                  </a:lnTo>
                  <a:lnTo>
                    <a:pt x="313" y="1608"/>
                  </a:lnTo>
                  <a:lnTo>
                    <a:pt x="344" y="1673"/>
                  </a:lnTo>
                  <a:lnTo>
                    <a:pt x="376" y="1738"/>
                  </a:lnTo>
                  <a:lnTo>
                    <a:pt x="410" y="1801"/>
                  </a:lnTo>
                  <a:lnTo>
                    <a:pt x="443" y="1863"/>
                  </a:lnTo>
                  <a:lnTo>
                    <a:pt x="478" y="1922"/>
                  </a:lnTo>
                  <a:lnTo>
                    <a:pt x="513" y="1980"/>
                  </a:lnTo>
                  <a:lnTo>
                    <a:pt x="549" y="2037"/>
                  </a:lnTo>
                  <a:lnTo>
                    <a:pt x="585" y="2091"/>
                  </a:lnTo>
                  <a:lnTo>
                    <a:pt x="622" y="2143"/>
                  </a:lnTo>
                  <a:lnTo>
                    <a:pt x="658" y="2192"/>
                  </a:lnTo>
                  <a:lnTo>
                    <a:pt x="696" y="2239"/>
                  </a:lnTo>
                  <a:lnTo>
                    <a:pt x="733" y="2284"/>
                  </a:lnTo>
                  <a:lnTo>
                    <a:pt x="771" y="2325"/>
                  </a:lnTo>
                  <a:lnTo>
                    <a:pt x="808" y="2364"/>
                  </a:lnTo>
                  <a:lnTo>
                    <a:pt x="845" y="2399"/>
                  </a:lnTo>
                  <a:lnTo>
                    <a:pt x="881" y="2432"/>
                  </a:lnTo>
                  <a:lnTo>
                    <a:pt x="918" y="2462"/>
                  </a:lnTo>
                  <a:lnTo>
                    <a:pt x="954" y="2489"/>
                  </a:lnTo>
                  <a:lnTo>
                    <a:pt x="989" y="2512"/>
                  </a:lnTo>
                  <a:lnTo>
                    <a:pt x="1024" y="2532"/>
                  </a:lnTo>
                  <a:lnTo>
                    <a:pt x="1058" y="2549"/>
                  </a:lnTo>
                  <a:lnTo>
                    <a:pt x="1091" y="2562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308320" y="914400"/>
              <a:ext cx="1116000" cy="1946160"/>
            </a:xfrm>
            <a:prstGeom prst="line">
              <a:avLst/>
            </a:prstGeom>
            <a:ln w="367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24040" y="2182680"/>
              <a:ext cx="1241640" cy="220680"/>
            </a:xfrm>
            <a:custGeom>
              <a:avLst/>
              <a:gdLst/>
              <a:ahLst/>
              <a:rect l="l" t="t" r="r" b="b"/>
              <a:pathLst>
                <a:path w="3450" h="612">
                  <a:moveTo>
                    <a:pt x="0" y="393"/>
                  </a:moveTo>
                  <a:lnTo>
                    <a:pt x="38" y="416"/>
                  </a:lnTo>
                  <a:lnTo>
                    <a:pt x="79" y="437"/>
                  </a:lnTo>
                  <a:lnTo>
                    <a:pt x="125" y="458"/>
                  </a:lnTo>
                  <a:lnTo>
                    <a:pt x="174" y="478"/>
                  </a:lnTo>
                  <a:lnTo>
                    <a:pt x="228" y="496"/>
                  </a:lnTo>
                  <a:lnTo>
                    <a:pt x="285" y="513"/>
                  </a:lnTo>
                  <a:lnTo>
                    <a:pt x="345" y="529"/>
                  </a:lnTo>
                  <a:lnTo>
                    <a:pt x="410" y="544"/>
                  </a:lnTo>
                  <a:lnTo>
                    <a:pt x="477" y="557"/>
                  </a:lnTo>
                  <a:lnTo>
                    <a:pt x="548" y="568"/>
                  </a:lnTo>
                  <a:lnTo>
                    <a:pt x="621" y="580"/>
                  </a:lnTo>
                  <a:lnTo>
                    <a:pt x="698" y="589"/>
                  </a:lnTo>
                  <a:lnTo>
                    <a:pt x="776" y="596"/>
                  </a:lnTo>
                  <a:lnTo>
                    <a:pt x="857" y="602"/>
                  </a:lnTo>
                  <a:lnTo>
                    <a:pt x="940" y="606"/>
                  </a:lnTo>
                  <a:lnTo>
                    <a:pt x="1025" y="610"/>
                  </a:lnTo>
                  <a:lnTo>
                    <a:pt x="1111" y="611"/>
                  </a:lnTo>
                  <a:lnTo>
                    <a:pt x="1200" y="611"/>
                  </a:lnTo>
                  <a:lnTo>
                    <a:pt x="1289" y="610"/>
                  </a:lnTo>
                  <a:lnTo>
                    <a:pt x="1379" y="606"/>
                  </a:lnTo>
                  <a:lnTo>
                    <a:pt x="1470" y="601"/>
                  </a:lnTo>
                  <a:lnTo>
                    <a:pt x="1562" y="596"/>
                  </a:lnTo>
                  <a:lnTo>
                    <a:pt x="1654" y="588"/>
                  </a:lnTo>
                  <a:lnTo>
                    <a:pt x="1747" y="579"/>
                  </a:lnTo>
                  <a:lnTo>
                    <a:pt x="1838" y="568"/>
                  </a:lnTo>
                  <a:lnTo>
                    <a:pt x="1930" y="556"/>
                  </a:lnTo>
                  <a:lnTo>
                    <a:pt x="2020" y="544"/>
                  </a:lnTo>
                  <a:lnTo>
                    <a:pt x="2111" y="529"/>
                  </a:lnTo>
                  <a:lnTo>
                    <a:pt x="2200" y="512"/>
                  </a:lnTo>
                  <a:lnTo>
                    <a:pt x="2288" y="496"/>
                  </a:lnTo>
                  <a:lnTo>
                    <a:pt x="2374" y="477"/>
                  </a:lnTo>
                  <a:lnTo>
                    <a:pt x="2459" y="458"/>
                  </a:lnTo>
                  <a:lnTo>
                    <a:pt x="2541" y="437"/>
                  </a:lnTo>
                  <a:lnTo>
                    <a:pt x="2622" y="415"/>
                  </a:lnTo>
                  <a:lnTo>
                    <a:pt x="2700" y="392"/>
                  </a:lnTo>
                  <a:lnTo>
                    <a:pt x="2776" y="368"/>
                  </a:lnTo>
                  <a:lnTo>
                    <a:pt x="2849" y="344"/>
                  </a:lnTo>
                  <a:lnTo>
                    <a:pt x="2919" y="318"/>
                  </a:lnTo>
                  <a:lnTo>
                    <a:pt x="2985" y="291"/>
                  </a:lnTo>
                  <a:lnTo>
                    <a:pt x="3048" y="264"/>
                  </a:lnTo>
                  <a:lnTo>
                    <a:pt x="3109" y="236"/>
                  </a:lnTo>
                  <a:lnTo>
                    <a:pt x="3165" y="208"/>
                  </a:lnTo>
                  <a:lnTo>
                    <a:pt x="3217" y="179"/>
                  </a:lnTo>
                  <a:lnTo>
                    <a:pt x="3267" y="150"/>
                  </a:lnTo>
                  <a:lnTo>
                    <a:pt x="3312" y="120"/>
                  </a:lnTo>
                  <a:lnTo>
                    <a:pt x="3352" y="91"/>
                  </a:lnTo>
                  <a:lnTo>
                    <a:pt x="3389" y="61"/>
                  </a:lnTo>
                  <a:lnTo>
                    <a:pt x="3421" y="30"/>
                  </a:lnTo>
                  <a:lnTo>
                    <a:pt x="3449" y="0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608200" y="2270160"/>
              <a:ext cx="63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81760" y="3352680"/>
              <a:ext cx="1249560" cy="4356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GB" sz="2000" spc="-1" strike="noStrike" baseline="-33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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28600" y="4890960"/>
            <a:ext cx="4130640" cy="135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 tracks forming a vertex along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rtex and tracking efficiency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5% for Kl3 and 40% for 3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68440" y="4724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-E(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724280" y="5105520"/>
            <a:ext cx="405468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s counted by fitting missing momentum minus missing energy in the pion-muon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495680" y="923760"/>
            <a:ext cx="41245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Radiative correct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5008" t="10011" r="10011" b="10011"/>
          <a:stretch/>
        </p:blipFill>
        <p:spPr>
          <a:xfrm>
            <a:off x="228600" y="838080"/>
            <a:ext cx="4068720" cy="382284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541760" y="838080"/>
            <a:ext cx="4068720" cy="38228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52280" y="48769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he radiation is included in the MC simulation for all K dec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he E-P shape is checked using Ke3/K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 enriched samples obtained from an independent calorimetric selection: Tof, E/p, and cluster centroid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he Ke3 BR changes by 2% neglecting the radiative ta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68440" y="45561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-E(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58520" y="457200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-E(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) 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lifetime from 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3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rcRect l="-5073" t="0" r="5419" b="1013"/>
          <a:stretch/>
        </p:blipFill>
        <p:spPr>
          <a:xfrm>
            <a:off x="4443480" y="762120"/>
            <a:ext cx="4471920" cy="42796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76040" y="1150920"/>
            <a:ext cx="43434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 measure a large fraction of 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ecay length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/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0.4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high statistical sensitivity to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momentum measured from 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efficiency &gt;99%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low sensitivity to efficiency variations along the 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ime scale calibration at 0.1% level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enters directly in the lifetim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 a control sample for the estimate of efficiency and re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813640" y="3124080"/>
            <a:ext cx="2423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eck on time-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libration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i="1" lang="en-GB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i="1" lang="en-GB" sz="26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i="1" lang="en-GB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</a:t>
            </a: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 test of CP and CPT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2" name=""/>
          <p:cNvSpPr/>
          <p:nvPr/>
        </p:nvSpPr>
        <p:spPr>
          <a:xfrm>
            <a:off x="216000" y="838080"/>
            <a:ext cx="87836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Observation of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signals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violation in mixing and/or dec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P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onserved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S000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L000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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000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~ 2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est results: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R &lt; 1.4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90% CL   SND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R &lt; 7.4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7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 90% CL  NA48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ncertainty on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amplitude currently limits precision on Im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1a3b"/>
                </a:solidFill>
                <a:latin typeface="Times New Roman"/>
              </a:rPr>
              <a:t>From unitarity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Bell-Steinberger relationship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est results: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Im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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= (2.4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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5.0)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            CPLEAR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Im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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= (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1.2 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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3.0)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 baseline="30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NA48 </a:t>
            </a:r>
            <a:r>
              <a:rPr b="0" lang="en-GB" sz="2200" spc="-1" strike="noStrike">
                <a:solidFill>
                  <a:srgbClr val="0066ff"/>
                </a:solidFill>
                <a:latin typeface="Arial Black"/>
              </a:rPr>
              <a:t>’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03 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70680" y="2913120"/>
            <a:ext cx="1953720" cy="61020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eneva"/>
              </a:rPr>
              <a:t>describes 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</a:t>
            </a:r>
            <a:r>
              <a:rPr b="0" lang="en-GB" sz="18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GB" sz="1800" spc="-1" strike="noStrike">
                <a:solidFill>
                  <a:srgbClr val="ff1a3b"/>
                </a:solidFill>
                <a:latin typeface="Geneva"/>
              </a:rPr>
              <a:t>describes CP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761760" y="3400560"/>
            <a:ext cx="7046280" cy="808560"/>
            <a:chOff x="761760" y="3400560"/>
            <a:chExt cx="7046280" cy="808560"/>
          </a:xfrm>
        </p:grpSpPr>
        <p:sp>
          <p:nvSpPr>
            <p:cNvPr id="835" name=""/>
            <p:cNvSpPr/>
            <p:nvPr/>
          </p:nvSpPr>
          <p:spPr>
            <a:xfrm>
              <a:off x="4839480" y="3502080"/>
              <a:ext cx="374400" cy="571680"/>
            </a:xfrm>
            <a:custGeom>
              <a:avLst/>
              <a:gdLst/>
              <a:ahLst/>
              <a:rect l="l" t="t" r="r" b="b"/>
              <a:pathLst>
                <a:path w="21600" h="32971">
                  <a:moveTo>
                    <a:pt x="69" y="0"/>
                  </a:moveTo>
                  <a:arcTo wR="69" hR="69" stAng="16200000" swAng="-5400000"/>
                  <a:lnTo>
                    <a:pt x="0" y="32902"/>
                  </a:lnTo>
                  <a:arcTo wR="69" hR="69" stAng="10800000" swAng="-5400000"/>
                  <a:lnTo>
                    <a:pt x="21531" y="32971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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1760" y="3578400"/>
              <a:ext cx="3586320" cy="4489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tan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</a:t>
              </a:r>
              <a:r>
                <a:rPr b="0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W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 [Re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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m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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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37800" y="3578400"/>
              <a:ext cx="2370240" cy="4489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*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524480" y="3400560"/>
              <a:ext cx="364320" cy="808560"/>
              <a:chOff x="4524480" y="3400560"/>
              <a:chExt cx="364320" cy="808560"/>
            </a:xfrm>
          </p:grpSpPr>
          <p:sp>
            <p:nvSpPr>
              <p:cNvPr id="839" name=""/>
              <p:cNvSpPr/>
              <p:nvPr/>
            </p:nvSpPr>
            <p:spPr>
              <a:xfrm>
                <a:off x="4524480" y="3756240"/>
                <a:ext cx="364320" cy="452880"/>
              </a:xfrm>
              <a:custGeom>
                <a:avLst/>
                <a:gdLst>
                  <a:gd name="textAreaLeft" fmla="*/ 360 w 364320"/>
                  <a:gd name="textAreaRight" fmla="*/ 363960 w 364320"/>
                  <a:gd name="textAreaTop" fmla="*/ 360 h 452880"/>
                  <a:gd name="textAreaBottom" fmla="*/ 452520 h 452880"/>
                </a:gdLst>
                <a:ahLst/>
                <a:rect l="textAreaLeft" t="textAreaTop" r="textAreaRight" b="textAreaBottom"/>
                <a:pathLst>
                  <a:path w="21600" h="26845">
                    <a:moveTo>
                      <a:pt x="80" y="0"/>
                    </a:moveTo>
                    <a:arcTo wR="80" hR="80" stAng="16200000" swAng="-5400000"/>
                    <a:lnTo>
                      <a:pt x="0" y="26765"/>
                    </a:lnTo>
                    <a:arcTo wR="80" hR="80" stAng="10800000" swAng="-5400000"/>
                    <a:lnTo>
                      <a:pt x="21520" y="26845"/>
                    </a:lnTo>
                    <a:arcTo wR="80" hR="80" stAng="5400000" swAng="-5400000"/>
                    <a:lnTo>
                      <a:pt x="21600" y="80"/>
                    </a:lnTo>
                    <a:arcTo wR="80" hR="8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</a:t>
                </a:r>
                <a:r>
                  <a:rPr b="0" i="1" lang="en-GB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544280" y="3400560"/>
                <a:ext cx="321480" cy="406080"/>
              </a:xfrm>
              <a:custGeom>
                <a:avLst/>
                <a:gdLst>
                  <a:gd name="textAreaLeft" fmla="*/ 360 w 321480"/>
                  <a:gd name="textAreaRight" fmla="*/ 321120 w 321480"/>
                  <a:gd name="textAreaTop" fmla="*/ 360 h 406080"/>
                  <a:gd name="textAreaBottom" fmla="*/ 405720 h 406080"/>
                </a:gdLst>
                <a:ahLst/>
                <a:rect l="textAreaLeft" t="textAreaTop" r="textAreaRight" b="textAreaBottom"/>
                <a:pathLst>
                  <a:path w="21600" h="27278">
                    <a:moveTo>
                      <a:pt x="105" y="0"/>
                    </a:moveTo>
                    <a:arcTo wR="105" hR="105" stAng="16200000" swAng="-5400000"/>
                    <a:lnTo>
                      <a:pt x="0" y="27173"/>
                    </a:lnTo>
                    <a:arcTo wR="105" hR="105" stAng="10800000" swAng="-5400000"/>
                    <a:lnTo>
                      <a:pt x="21495" y="27278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91080" y="3792600"/>
                <a:ext cx="228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304920" y="5105520"/>
            <a:ext cx="8610480" cy="914400"/>
            <a:chOff x="304920" y="5105520"/>
            <a:chExt cx="8610480" cy="914400"/>
          </a:xfrm>
        </p:grpSpPr>
        <p:sp>
          <p:nvSpPr>
            <p:cNvPr id="843" name=""/>
            <p:cNvSpPr/>
            <p:nvPr/>
          </p:nvSpPr>
          <p:spPr>
            <a:xfrm>
              <a:off x="6313680" y="5181840"/>
              <a:ext cx="2509200" cy="7873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Compare 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Planc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= 4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"/>
                <p:cNvSpPr txBox="1"/>
                <p:nvPr/>
              </p:nvSpPr>
              <p:spPr>
                <a:xfrm>
                  <a:off x="3174840" y="5141880"/>
                  <a:ext cx="121608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45" name=""/>
            <p:cNvSpPr/>
            <p:nvPr/>
          </p:nvSpPr>
          <p:spPr>
            <a:xfrm>
              <a:off x="4435560" y="5348520"/>
              <a:ext cx="1698120" cy="406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&lt;  ~ 8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73360" y="5367600"/>
              <a:ext cx="228600" cy="390240"/>
            </a:xfrm>
            <a:custGeom>
              <a:avLst/>
              <a:gdLst/>
              <a:ahLst/>
              <a:rect l="l" t="t" r="r" b="b"/>
              <a:pathLst>
                <a:path w="636" h="1085">
                  <a:moveTo>
                    <a:pt x="0" y="339"/>
                  </a:moveTo>
                  <a:lnTo>
                    <a:pt x="344" y="339"/>
                  </a:lnTo>
                  <a:lnTo>
                    <a:pt x="344" y="0"/>
                  </a:lnTo>
                  <a:lnTo>
                    <a:pt x="635" y="542"/>
                  </a:lnTo>
                  <a:lnTo>
                    <a:pt x="344" y="1084"/>
                  </a:lnTo>
                  <a:lnTo>
                    <a:pt x="344" y="745"/>
                  </a:lnTo>
                  <a:lnTo>
                    <a:pt x="0" y="745"/>
                  </a:lnTo>
                  <a:lnTo>
                    <a:pt x="0" y="3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480" y="5342040"/>
              <a:ext cx="2306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4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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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&lt; ~ 2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22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4920" y="5105520"/>
              <a:ext cx="861048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27160" y="23760"/>
            <a:ext cx="822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earch for K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" y="1028880"/>
            <a:ext cx="480060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93000"/>
              </a:lnSpc>
              <a:tabLst>
                <a:tab algn="l" pos="0"/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e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tagged by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interaction in EM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6 photons, no tracks from 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222120"/>
                <a:tab algn="l" pos="1136520"/>
                <a:tab algn="l" pos="2050920"/>
                <a:tab algn="l" pos="2965320"/>
                <a:tab algn="l" pos="3879720"/>
                <a:tab algn="l" pos="4794120"/>
                <a:tab algn="l" pos="5708520"/>
                <a:tab algn="l" pos="6622920"/>
                <a:tab algn="l" pos="7537320"/>
                <a:tab algn="l" pos="8451720"/>
                <a:tab algn="l" pos="9366120"/>
                <a:tab algn="l" pos="10280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inematic fit in 2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4600" y="3048120"/>
            <a:ext cx="4965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Rejection of 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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split/accidental 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fine signal box in 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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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pla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</a:t>
            </a:r>
            <a:r>
              <a:rPr b="1" lang="en-GB" sz="2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</a:t>
            </a:r>
            <a:r>
              <a:rPr b="1" lang="en-GB" sz="2200" spc="-1" strike="noStrike" baseline="-25000">
                <a:solidFill>
                  <a:srgbClr val="ff0000"/>
                </a:solidFill>
                <a:latin typeface="SymbolProp BT"/>
                <a:ea typeface="SymbolProp BT"/>
              </a:rPr>
              <a:t>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best” 3 photon pai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</a:t>
            </a:r>
            <a:r>
              <a:rPr b="1" lang="en-GB" sz="2200" spc="-1" strike="noStrike" baseline="30000">
                <a:solidFill>
                  <a:srgbClr val="0066ff"/>
                </a:solidFill>
                <a:latin typeface="SymbolProp BT"/>
                <a:ea typeface="SymbolProp BT"/>
              </a:rPr>
              <a:t></a:t>
            </a:r>
            <a:r>
              <a:rPr b="1" lang="en-GB" sz="2200" spc="-1" strike="noStrike" baseline="-25000">
                <a:solidFill>
                  <a:srgbClr val="0066ff"/>
                </a:solidFill>
                <a:latin typeface="SymbolProp BT"/>
                <a:ea typeface="SymbolProp BT"/>
              </a:rPr>
              <a:t></a:t>
            </a:r>
            <a:r>
              <a:rPr b="0" lang="en-GB" sz="2200" spc="-1" strike="noStrike">
                <a:solidFill>
                  <a:srgbClr val="0066ff"/>
                </a:solidFill>
                <a:latin typeface="SymbolProp BT"/>
                <a:ea typeface="SymbolProp BT"/>
              </a:rPr>
              <a:t>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en-GB" sz="2200" spc="-1" strike="noStrike">
                <a:solidFill>
                  <a:srgbClr val="0066ff"/>
                </a:solidFill>
                <a:latin typeface="Times New Roman"/>
              </a:rPr>
              <a:t>best” 2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ut on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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838080" y="1828800"/>
            <a:ext cx="3900600" cy="775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the PDG values and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120" y="109080"/>
            <a:ext cx="75056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Constraints for </a:t>
            </a:r>
            <a:r>
              <a:rPr b="0" lang="en-GB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Geneva"/>
              </a:rPr>
              <a:t>000</a:t>
            </a:r>
            <a:r>
              <a:rPr b="0" lang="en-GB" sz="2600" spc="-1" strike="noStrike" baseline="30000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and Im</a:t>
            </a:r>
            <a:r>
              <a:rPr b="0" lang="en-GB" sz="26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</a:t>
            </a: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(CPTV)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4" name=""/>
          <p:cNvSpPr/>
          <p:nvPr/>
        </p:nvSpPr>
        <p:spPr>
          <a:xfrm>
            <a:off x="533520" y="1066680"/>
            <a:ext cx="731520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KLOE, 0.45 fb</a:t>
            </a:r>
            <a:r>
              <a:rPr b="0" lang="en-GB" sz="22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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≤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.2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GB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@90%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039760" y="2666880"/>
                <a:ext cx="48070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→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595440" y="4006800"/>
            <a:ext cx="815328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1a3b"/>
                </a:solidFill>
                <a:latin typeface="Times New Roman"/>
              </a:rPr>
              <a:t>|</a:t>
            </a:r>
            <a:r>
              <a:rPr b="0" i="1" lang="en-US" sz="2200" spc="-1" strike="noStrike">
                <a:solidFill>
                  <a:srgbClr val="ff1a3b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1a3b"/>
                </a:solidFill>
                <a:latin typeface="Times New Roman"/>
              </a:rPr>
              <a:t>000</a:t>
            </a:r>
            <a:r>
              <a:rPr b="0" lang="en-US" sz="2200" spc="-1" strike="noStrike">
                <a:solidFill>
                  <a:srgbClr val="ff1a3b"/>
                </a:solidFill>
                <a:latin typeface="Times New Roman"/>
              </a:rPr>
              <a:t>| &lt; 1.8 </a:t>
            </a:r>
            <a:r>
              <a:rPr b="0" lang="en-US" sz="2200" spc="-1" strike="noStrike">
                <a:solidFill>
                  <a:srgbClr val="ff1a3b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ff1a3b"/>
                </a:solidFill>
                <a:latin typeface="Times New Roman"/>
              </a:rPr>
              <a:t> 10</a:t>
            </a:r>
            <a:r>
              <a:rPr b="0" lang="en-US" sz="2200" spc="-1" strike="noStrike" baseline="30000">
                <a:solidFill>
                  <a:srgbClr val="ff1a3b"/>
                </a:solidFill>
                <a:latin typeface="Times New Roman"/>
              </a:rPr>
              <a:t>-2</a:t>
            </a:r>
            <a:r>
              <a:rPr b="0" lang="en-US" sz="2200" spc="-1" strike="noStrike">
                <a:solidFill>
                  <a:srgbClr val="ff1a3b"/>
                </a:solidFill>
                <a:latin typeface="Times New Roman"/>
              </a:rPr>
              <a:t> at 90% C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limit makes th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ribution to CPTV test from unit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ell-Steinberger relation) negligible. Such test is limited b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433400" y="838080"/>
            <a:ext cx="4534200" cy="4570560"/>
            <a:chOff x="4433400" y="838080"/>
            <a:chExt cx="4534200" cy="45705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rcRect l="30786" t="38105" r="3159" b="12722"/>
            <a:stretch/>
          </p:blipFill>
          <p:spPr>
            <a:xfrm>
              <a:off x="4649760" y="838080"/>
              <a:ext cx="4083120" cy="42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976640" y="2252520"/>
              <a:ext cx="111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1320" y="50356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7200" y="5040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33400" y="488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040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44320" y="50356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320" y="50356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21760" y="5040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7240" y="1287360"/>
              <a:ext cx="23558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si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2280" y="5040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58280" y="5040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19600" y="46306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semileptonic decay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216080"/>
            <a:ext cx="441972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Selected using TOF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Event counting obtain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fitting the E(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e) - P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The two charge mod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measured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Selected ~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Geneva"/>
              </a:rPr>
              <a:t>4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signa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per charge in the 2001-02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960" y="4267080"/>
            <a:ext cx="5196240" cy="4406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(7.09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0.07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0.0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09920" y="5257800"/>
            <a:ext cx="18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Geneva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–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Geneva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Geneva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4419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3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8" name=""/>
          <p:cNvSpPr/>
          <p:nvPr/>
        </p:nvSpPr>
        <p:spPr>
          <a:xfrm>
            <a:off x="4724280" y="3984480"/>
            <a:ext cx="259092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5515920" y="228600"/>
            <a:ext cx="3323160" cy="5797080"/>
            <a:chOff x="5515920" y="228600"/>
            <a:chExt cx="3323160" cy="5797080"/>
          </a:xfrm>
        </p:grpSpPr>
        <p:grpSp>
          <p:nvGrpSpPr>
            <p:cNvPr id="860" name=""/>
            <p:cNvGrpSpPr/>
            <p:nvPr/>
          </p:nvGrpSpPr>
          <p:grpSpPr>
            <a:xfrm>
              <a:off x="5515920" y="2765160"/>
              <a:ext cx="1120320" cy="456840"/>
              <a:chOff x="5515920" y="2765160"/>
              <a:chExt cx="1120320" cy="456840"/>
            </a:xfrm>
          </p:grpSpPr>
          <p:sp>
            <p:nvSpPr>
              <p:cNvPr id="861" name=""/>
              <p:cNvSpPr/>
              <p:nvPr/>
            </p:nvSpPr>
            <p:spPr>
              <a:xfrm>
                <a:off x="5518080" y="2765160"/>
                <a:ext cx="1109520" cy="456840"/>
              </a:xfrm>
              <a:prstGeom prst="roundRect">
                <a:avLst>
                  <a:gd name="adj" fmla="val 3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15920" y="2765160"/>
                <a:ext cx="1120320" cy="434520"/>
              </a:xfrm>
              <a:prstGeom prst="roundRect">
                <a:avLst>
                  <a:gd name="adj" fmla="val 34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63" name="" descr=""/>
            <p:cNvPicPr/>
            <p:nvPr/>
          </p:nvPicPr>
          <p:blipFill>
            <a:blip r:embed="rId1"/>
            <a:stretch/>
          </p:blipFill>
          <p:spPr>
            <a:xfrm>
              <a:off x="6019560" y="228600"/>
              <a:ext cx="274320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6860880" y="228600"/>
              <a:ext cx="789120" cy="52380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30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</a:t>
              </a:r>
              <a:r>
                <a:rPr b="0" i="1" lang="en-GB" sz="3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GB" sz="30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GB" sz="30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37840" y="669600"/>
              <a:ext cx="1471680" cy="37728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1531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6" name="" descr=""/>
            <p:cNvPicPr/>
            <p:nvPr/>
          </p:nvPicPr>
          <p:blipFill>
            <a:blip r:embed="rId2"/>
            <a:stretch/>
          </p:blipFill>
          <p:spPr>
            <a:xfrm>
              <a:off x="6019560" y="3276360"/>
              <a:ext cx="28195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6773400" y="3200040"/>
              <a:ext cx="789120" cy="52380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66ff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3000" spc="-1" strike="noStrike" baseline="30000">
                  <a:solidFill>
                    <a:srgbClr val="0066ff"/>
                  </a:solidFill>
                  <a:latin typeface="SymbolProp BT"/>
                  <a:ea typeface="SymbolProp BT"/>
                </a:rPr>
                <a:t></a:t>
              </a:r>
              <a:r>
                <a:rPr b="0" i="1" lang="en-GB" sz="3000" spc="-1" strike="noStrike">
                  <a:solidFill>
                    <a:srgbClr val="0066ff"/>
                  </a:solidFill>
                  <a:latin typeface="Times New Roman"/>
                </a:rPr>
                <a:t>e</a:t>
              </a:r>
              <a:r>
                <a:rPr b="0" lang="en-GB" sz="3000" spc="-1" strike="noStrike" baseline="30000">
                  <a:solidFill>
                    <a:srgbClr val="0066ff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3000" spc="-1" strike="noStrike">
                  <a:solidFill>
                    <a:srgbClr val="0066ff"/>
                  </a:solidFill>
                  <a:latin typeface="SymbolProp BT"/>
                  <a:ea typeface="SymbolProp BT"/>
                </a:rPr>
                <a:t>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94480" y="3768480"/>
              <a:ext cx="1599840" cy="377280"/>
            </a:xfrm>
            <a:prstGeom prst="roundRect">
              <a:avLst>
                <a:gd name="adj" fmla="val 3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1805 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1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76760" y="2895480"/>
              <a:ext cx="22860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Geneva"/>
                </a:rPr>
                <a:t>MISS </a:t>
              </a: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– cP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Geneva"/>
                </a:rPr>
                <a:t>MISS</a:t>
              </a:r>
              <a:r>
                <a:rPr b="0" lang="en-GB" sz="1600" spc="-1" strike="noStrike">
                  <a:solidFill>
                    <a:srgbClr val="000000"/>
                  </a:solidFill>
                  <a:latin typeface="Geneva"/>
                </a:rPr>
                <a:t>(M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 tagged by 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Geneva"/>
              </a:rPr>
              <a:t>L</a:t>
            </a:r>
            <a:r>
              <a:rPr b="0" lang="en-US" sz="2000" spc="-1" strike="noStrike">
                <a:solidFill>
                  <a:srgbClr val="0000ff"/>
                </a:solidFill>
                <a:latin typeface="Geneva"/>
              </a:rPr>
              <a:t> interactio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 EMC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ckground (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uppressed b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ertex, 2-track mas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e/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 ID by TOF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(24.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0.2)%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 = (23.6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0.2)%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adiative decays included in MC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it data to MC spectra of signal (missing E - cP ~ 0) + backgroun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ormalize to PDG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to get 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BR(K</a:t>
            </a:r>
            <a:r>
              <a:rPr b="0" lang="en-US" sz="2000" spc="-1" strike="noStrike" baseline="-25000">
                <a:solidFill>
                  <a:srgbClr val="ff1a3b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71" name=""/>
          <p:cNvSpPr/>
          <p:nvPr/>
        </p:nvSpPr>
        <p:spPr>
          <a:xfrm>
            <a:off x="148320" y="5410080"/>
            <a:ext cx="5884920" cy="448920"/>
          </a:xfrm>
          <a:prstGeom prst="roundRect">
            <a:avLst>
              <a:gd name="adj" fmla="val 315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= (7.09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0.07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0.08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2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227160" y="20520"/>
            <a:ext cx="822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Geneva"/>
              </a:rPr>
              <a:t>S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</a:t>
            </a:r>
            <a:r>
              <a:rPr b="0" lang="en-GB" sz="3000" spc="-1" strike="noStrike">
                <a:solidFill>
                  <a:srgbClr val="000000"/>
                </a:solidFill>
                <a:latin typeface="Geneva"/>
              </a:rPr>
              <a:t> charge asymme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0840" y="101520"/>
            <a:ext cx="8226360" cy="609840"/>
          </a:xfrm>
          <a:prstGeom prst="roundRect">
            <a:avLst>
              <a:gd name="adj" fmla="val 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280" y="1044720"/>
            <a:ext cx="541044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(3.5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(3.5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04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562720" y="928800"/>
            <a:ext cx="3504960" cy="745560"/>
          </a:xfrm>
          <a:prstGeom prst="roundRect">
            <a:avLst>
              <a:gd name="adj" fmla="val 1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liminar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valuation of the  systematics near 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4480" y="2170080"/>
            <a:ext cx="4503960" cy="922680"/>
            <a:chOff x="204480" y="2170080"/>
            <a:chExt cx="4503960" cy="922680"/>
          </a:xfrm>
        </p:grpSpPr>
        <p:sp>
          <p:nvSpPr>
            <p:cNvPr id="877" name=""/>
            <p:cNvSpPr/>
            <p:nvPr/>
          </p:nvSpPr>
          <p:spPr>
            <a:xfrm>
              <a:off x="1044360" y="2170080"/>
              <a:ext cx="3609720" cy="4654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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6480" y="2627280"/>
              <a:ext cx="3673800" cy="4654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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49400" y="2627280"/>
              <a:ext cx="365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4480" y="2398680"/>
              <a:ext cx="824400" cy="448920"/>
            </a:xfrm>
            <a:prstGeom prst="roundRect">
              <a:avLst>
                <a:gd name="adj" fmla="val 3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GB" sz="22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5105520" y="2311560"/>
            <a:ext cx="3733560" cy="78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Re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 CPT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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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lies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P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14600" y="5029200"/>
            <a:ext cx="4114800" cy="5101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With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nev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Geneva"/>
              </a:rPr>
              <a:t>st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~ 4•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80880" y="3403440"/>
            <a:ext cx="8534520" cy="1403280"/>
            <a:chOff x="380880" y="3403440"/>
            <a:chExt cx="8534520" cy="1403280"/>
          </a:xfrm>
        </p:grpSpPr>
        <p:sp>
          <p:nvSpPr>
            <p:cNvPr id="884" name=""/>
            <p:cNvSpPr/>
            <p:nvPr/>
          </p:nvSpPr>
          <p:spPr>
            <a:xfrm>
              <a:off x="457200" y="3411360"/>
              <a:ext cx="419112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KLOE prelimina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A</a:t>
              </a:r>
              <a:r>
                <a:rPr b="1" lang="en-GB" sz="2200" spc="-1" strike="noStrike" baseline="-25000">
                  <a:solidFill>
                    <a:srgbClr val="000000"/>
                  </a:solidFill>
                  <a:latin typeface="Geneva"/>
                </a:rPr>
                <a:t>S</a:t>
              </a: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 = (-2 ± 9</a:t>
              </a:r>
              <a:r>
                <a:rPr b="1" lang="en-GB" sz="2200" spc="-1" strike="noStrike" baseline="-25000">
                  <a:solidFill>
                    <a:srgbClr val="000000"/>
                  </a:solidFill>
                  <a:latin typeface="Geneva"/>
                </a:rPr>
                <a:t>stat</a:t>
              </a: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 ± 6</a:t>
              </a:r>
              <a:r>
                <a:rPr b="1" lang="en-GB" sz="2200" spc="-1" strike="noStrike" baseline="-25000">
                  <a:solidFill>
                    <a:srgbClr val="000000"/>
                  </a:solidFill>
                  <a:latin typeface="Geneva"/>
                </a:rPr>
                <a:t>syst</a:t>
              </a: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) 10</a:t>
              </a:r>
              <a:r>
                <a:rPr b="1" lang="en-GB" sz="2200" spc="-1" strike="noStrike" baseline="30000">
                  <a:solidFill>
                    <a:srgbClr val="000000"/>
                  </a:solidFill>
                  <a:latin typeface="Geneva"/>
                </a:rPr>
                <a:t>-3</a:t>
              </a:r>
              <a:r>
                <a:rPr b="1" lang="en-GB" sz="2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Geneva"/>
                </a:rPr>
                <a:t>(never measured befo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3555720"/>
              <a:ext cx="426708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	</a:t>
              </a: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Compare to A</a:t>
              </a:r>
              <a:r>
                <a:rPr b="0" lang="it-IT" sz="1800" spc="-1" strike="noStrike" baseline="-25000">
                  <a:solidFill>
                    <a:srgbClr val="000099"/>
                  </a:solidFill>
                  <a:latin typeface="Genev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(3.322±0.058±0.047) x 10</a:t>
              </a:r>
              <a:r>
                <a:rPr b="0" lang="it-IT" sz="1800" spc="-1" strike="noStrike" baseline="30000">
                  <a:solidFill>
                    <a:srgbClr val="000099"/>
                  </a:solidFill>
                  <a:latin typeface="Geneva"/>
                </a:rPr>
                <a:t>-3</a:t>
              </a: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 KT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(3.317±0.070±0.072) x 10</a:t>
              </a:r>
              <a:r>
                <a:rPr b="0" lang="it-IT" sz="1800" spc="-1" strike="noStrike" baseline="30000">
                  <a:solidFill>
                    <a:srgbClr val="000099"/>
                  </a:solidFill>
                  <a:latin typeface="Geneva"/>
                </a:rPr>
                <a:t>-3</a:t>
              </a:r>
              <a:r>
                <a:rPr b="0" lang="it-IT" sz="1800" spc="-1" strike="noStrike">
                  <a:solidFill>
                    <a:srgbClr val="000099"/>
                  </a:solidFill>
                  <a:latin typeface="Geneva"/>
                </a:rPr>
                <a:t> NA4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0880" y="3403440"/>
              <a:ext cx="853452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173880" y="893880"/>
            <a:ext cx="82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Geneva"/>
              </a:rPr>
              <a:t>SM: no </a:t>
            </a:r>
            <a:r>
              <a:rPr b="1" lang="en-US" sz="24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10000"/>
                </a:solidFill>
                <a:latin typeface="Geneva"/>
              </a:rPr>
              <a:t>S</a:t>
            </a:r>
            <a:r>
              <a:rPr b="1" lang="en-US" sz="2000" spc="-1" strike="noStrike">
                <a:solidFill>
                  <a:srgbClr val="010000"/>
                </a:solidFill>
                <a:latin typeface="SymbolProp BT"/>
                <a:ea typeface="SymbolProp BT"/>
              </a:rPr>
              <a:t></a:t>
            </a:r>
            <a:r>
              <a:rPr b="1" lang="en-US" sz="24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10000"/>
                </a:solidFill>
                <a:latin typeface="Geneva"/>
              </a:rPr>
              <a:t>Q transitions at lowest order ; </a:t>
            </a:r>
            <a:r>
              <a:rPr b="1" lang="en-US" sz="24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10000"/>
                </a:solidFill>
                <a:latin typeface="Geneva"/>
              </a:rPr>
              <a:t>S</a:t>
            </a:r>
            <a:r>
              <a:rPr b="0" lang="en-US" sz="2000" spc="-1" strike="noStrike">
                <a:solidFill>
                  <a:srgbClr val="010000"/>
                </a:solidFill>
                <a:latin typeface="SymbolProp BT"/>
                <a:ea typeface="SymbolProp BT"/>
              </a:rPr>
              <a:t></a:t>
            </a:r>
            <a:r>
              <a:rPr b="1" lang="en-US" sz="2400" spc="-1" strike="noStrike">
                <a:solidFill>
                  <a:srgbClr val="01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10000"/>
                </a:solidFill>
                <a:latin typeface="Geneva"/>
              </a:rPr>
              <a:t>Q at higher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rcRect l="3127" t="30647" r="4688" b="27421"/>
          <a:stretch/>
        </p:blipFill>
        <p:spPr>
          <a:xfrm>
            <a:off x="380880" y="1557360"/>
            <a:ext cx="4168800" cy="15145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241360" y="1371600"/>
            <a:ext cx="1002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0000"/>
                </a:solidFill>
                <a:latin typeface="Times New Roman"/>
              </a:rPr>
              <a:t>| ~10</a:t>
            </a:r>
            <a:r>
              <a:rPr b="1" lang="en-US" sz="2000" spc="-1" strike="noStrike" baseline="30000">
                <a:solidFill>
                  <a:srgbClr val="010000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1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159520" y="1447920"/>
            <a:ext cx="3889080" cy="2782800"/>
            <a:chOff x="5159520" y="1447920"/>
            <a:chExt cx="3889080" cy="2782800"/>
          </a:xfrm>
        </p:grpSpPr>
        <p:sp>
          <p:nvSpPr>
            <p:cNvPr id="891" name=""/>
            <p:cNvSpPr/>
            <p:nvPr/>
          </p:nvSpPr>
          <p:spPr>
            <a:xfrm>
              <a:off x="5159520" y="1447920"/>
              <a:ext cx="3889080" cy="27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)/(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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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in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decay to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SymbolProp BT"/>
                  <a:ea typeface="SymbolProp BT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c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)/(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*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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10000"/>
                  </a:solidFill>
                  <a:latin typeface="SymbolProp BT"/>
                  <a:ea typeface="SymbolProp BT"/>
                </a:rPr>
                <a:t>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Q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in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010000"/>
                  </a:solidFill>
                  <a:latin typeface="Times New Roman"/>
                </a:rPr>
                <a:t> decay to </a:t>
              </a:r>
              <a:r>
                <a:rPr b="0" i="1" lang="en-US" sz="20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30000">
                  <a:solidFill>
                    <a:srgbClr val="010000"/>
                  </a:solidFill>
                  <a:latin typeface="SymbolProp BT"/>
                  <a:ea typeface="SymbolProp BT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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/2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Re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m(d*/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39"/>
                </a:spcBef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Re 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+ 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≈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 Re(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c</a:t>
              </a:r>
              <a:r>
                <a:rPr b="1" lang="en-US" sz="1800" spc="-1" strike="noStrike" baseline="30000">
                  <a:solidFill>
                    <a:srgbClr val="ff1a3b"/>
                  </a:solidFill>
                  <a:latin typeface="Times New Roman"/>
                </a:rPr>
                <a:t>*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/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a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) 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describ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239"/>
                </a:spcBef>
                <a:tabLst>
                  <a:tab algn="l" pos="0"/>
                  <a:tab algn="l" pos="290520"/>
                  <a:tab algn="l" pos="581040"/>
                  <a:tab algn="l" pos="871560"/>
                  <a:tab algn="l" pos="1162080"/>
                  <a:tab algn="l" pos="1452600"/>
                  <a:tab algn="l" pos="1743120"/>
                  <a:tab algn="l" pos="2033640"/>
                  <a:tab algn="l" pos="2324160"/>
                  <a:tab algn="l" pos="2614680"/>
                  <a:tab algn="l" pos="2905200"/>
                  <a:tab algn="l" pos="3195720"/>
                  <a:tab algn="l" pos="3486240"/>
                  <a:tab algn="l" pos="3776760"/>
                  <a:tab algn="l" pos="4067280"/>
                  <a:tab algn="l" pos="4357800"/>
                  <a:tab algn="l" pos="4648320"/>
                  <a:tab algn="l" pos="4938840"/>
                  <a:tab algn="l" pos="5229360"/>
                  <a:tab algn="l" pos="5519880"/>
                  <a:tab algn="l" pos="5810400"/>
                </a:tabLst>
              </a:pPr>
              <a:r>
                <a:rPr b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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S</a:t>
              </a:r>
              <a:r>
                <a:rPr b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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Q when CPT conser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02000" y="2288880"/>
              <a:ext cx="13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62760" y="18316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16400" y="307296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533520" y="4419720"/>
            <a:ext cx="2819160" cy="181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Geneva"/>
              </a:rPr>
              <a:t>A, B, C: KLOE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Using KLOE </a:t>
            </a:r>
            <a:r>
              <a:rPr b="1" lang="en-US" sz="1600" spc="-1" strike="noStrike">
                <a:solidFill>
                  <a:srgbClr val="ff1a3b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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 a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A) PDG </a:t>
            </a:r>
            <a:r>
              <a:rPr b="1" lang="en-US" sz="1600" spc="-1" strike="noStrike">
                <a:solidFill>
                  <a:srgbClr val="ff1a3b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r>
              <a:rPr b="0" i="1" lang="en-US" sz="16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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B) KTeV </a:t>
            </a:r>
            <a:r>
              <a:rPr b="1" lang="en-US" sz="1600" spc="-1" strike="noStrike">
                <a:solidFill>
                  <a:srgbClr val="ff1a3b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r>
              <a:rPr b="0" i="1" lang="en-US" sz="16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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PDG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C) KLOE </a:t>
            </a:r>
            <a:r>
              <a:rPr b="1" lang="en-US" sz="1600" spc="-1" strike="noStrike">
                <a:solidFill>
                  <a:srgbClr val="ff1a3b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r>
              <a:rPr b="0" i="1" lang="en-US" sz="1600" spc="-1" strike="noStrike">
                <a:solidFill>
                  <a:srgbClr val="ff1a3b"/>
                </a:solidFill>
                <a:latin typeface="SymbolProp BT"/>
                <a:ea typeface="SymbolProp BT"/>
              </a:rPr>
              <a:t>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i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>
                <a:solidFill>
                  <a:srgbClr val="333399"/>
                </a:solidFill>
                <a:latin typeface="Geneva"/>
              </a:rPr>
              <a:t>, </a:t>
            </a:r>
            <a:r>
              <a:rPr b="1" lang="en-US" sz="1600" spc="-1" strike="noStrike">
                <a:solidFill>
                  <a:srgbClr val="ff1a3b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 baseline="-25000">
                <a:solidFill>
                  <a:srgbClr val="ff1a3b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Geneva"/>
              </a:rPr>
              <a:t>D) CPLEAR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neva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: test of </a:t>
            </a:r>
            <a:r>
              <a:rPr b="0" i="1" lang="en-US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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S = </a:t>
            </a:r>
            <a:r>
              <a:rPr b="0" i="1" lang="en-US" sz="3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</a:t>
            </a:r>
            <a:r>
              <a:rPr b="0" lang="en-US" sz="3000" spc="-1" strike="noStrike">
                <a:solidFill>
                  <a:srgbClr val="000000"/>
                </a:solidFill>
                <a:latin typeface="Geneva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7" name=""/>
          <p:cNvSpPr/>
          <p:nvPr/>
        </p:nvSpPr>
        <p:spPr>
          <a:xfrm>
            <a:off x="3962520" y="4479840"/>
            <a:ext cx="3962160" cy="18273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1a3b"/>
                </a:solidFill>
                <a:latin typeface="Times New Roman"/>
              </a:rPr>
              <a:t>Re </a:t>
            </a:r>
            <a:r>
              <a:rPr b="1" i="1" lang="en-US" sz="2000" spc="-1" strike="noStrike">
                <a:solidFill>
                  <a:srgbClr val="ff1a3b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ff1a3b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(12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.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.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(  0.9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.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(  5.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.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.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(-1.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.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4.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3505320"/>
            <a:ext cx="304776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56960" y="3505320"/>
            <a:ext cx="4948560" cy="673200"/>
            <a:chOff x="156960" y="3505320"/>
            <a:chExt cx="4948560" cy="673200"/>
          </a:xfrm>
        </p:grpSpPr>
        <p:sp>
          <p:nvSpPr>
            <p:cNvPr id="900" name=""/>
            <p:cNvSpPr/>
            <p:nvPr/>
          </p:nvSpPr>
          <p:spPr>
            <a:xfrm>
              <a:off x="1143000" y="3505320"/>
              <a:ext cx="39625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BR(K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S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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e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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)/</a:t>
              </a:r>
              <a:r>
                <a:rPr b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S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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BR(K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 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e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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)/</a:t>
              </a:r>
              <a:r>
                <a:rPr b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BR(K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S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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e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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)/</a:t>
              </a:r>
              <a:r>
                <a:rPr b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S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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BR(K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 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f1a3b"/>
                  </a:solidFill>
                  <a:latin typeface="Geneva"/>
                </a:rPr>
                <a:t>e</a:t>
              </a:r>
              <a:r>
                <a:rPr b="0" i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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)/</a:t>
              </a:r>
              <a:r>
                <a:rPr b="1" lang="en-US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9320" y="38102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6960" y="3675240"/>
              <a:ext cx="1055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2 Re </a:t>
              </a:r>
              <a:r>
                <a:rPr b="1" i="1" lang="en-US" sz="1800" spc="-1" strike="noStrike">
                  <a:solidFill>
                    <a:srgbClr val="ff1a3b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ff1a3b"/>
                  </a:solidFill>
                  <a:latin typeface="Times New Roman"/>
                </a:rPr>
                <a:t>+</a:t>
              </a:r>
              <a:r>
                <a:rPr b="1" lang="en-US" sz="1800" spc="-1" strike="noStrike">
                  <a:solidFill>
                    <a:srgbClr val="ff1a3b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Unitarity test of CKM matrix</a:t>
            </a:r>
            <a:r>
              <a:rPr b="1" lang="en-GB" sz="2600" spc="-1" strike="noStrike">
                <a:solidFill>
                  <a:srgbClr val="000000"/>
                </a:solidFill>
                <a:latin typeface="Geneva"/>
              </a:rPr>
              <a:t>:</a:t>
            </a:r>
            <a:r>
              <a:rPr b="0" lang="en-GB" sz="2600" spc="-1" strike="noStrike">
                <a:solidFill>
                  <a:srgbClr val="000000"/>
                </a:solidFill>
                <a:latin typeface="Geneva"/>
              </a:rPr>
              <a:t> V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44600" y="5076000"/>
            <a:ext cx="7086600" cy="471600"/>
            <a:chOff x="444600" y="5076000"/>
            <a:chExt cx="7086600" cy="471600"/>
          </a:xfrm>
        </p:grpSpPr>
        <p:sp>
          <p:nvSpPr>
            <p:cNvPr id="905" name=""/>
            <p:cNvSpPr/>
            <p:nvPr/>
          </p:nvSpPr>
          <p:spPr>
            <a:xfrm>
              <a:off x="444600" y="5079960"/>
              <a:ext cx="7086600" cy="466560"/>
            </a:xfrm>
            <a:prstGeom prst="roundRect">
              <a:avLst>
                <a:gd name="adj" fmla="val 33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4600" y="5076000"/>
              <a:ext cx="7086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ff1a3b"/>
                  </a:solidFill>
                  <a:latin typeface="Times New Roman"/>
                </a:rPr>
                <a:t>I</a:t>
              </a:r>
              <a:r>
                <a:rPr b="1" lang="en-GB" sz="1800" spc="-1" strike="noStrike" baseline="30000">
                  <a:solidFill>
                    <a:srgbClr val="ff1a3b"/>
                  </a:solidFill>
                  <a:latin typeface="Times New Roman"/>
                </a:rPr>
                <a:t>l</a:t>
              </a:r>
              <a:r>
                <a:rPr b="1" lang="en-GB" sz="1800" spc="-1" strike="noStrike" baseline="-33000">
                  <a:solidFill>
                    <a:srgbClr val="ff1a3b"/>
                  </a:solidFill>
                  <a:latin typeface="Times New Roman"/>
                </a:rPr>
                <a:t>K</a:t>
              </a:r>
              <a:r>
                <a:rPr b="1" lang="en-GB" sz="1800" spc="-1" strike="noStrike">
                  <a:solidFill>
                    <a:srgbClr val="ff1a3b"/>
                  </a:solidFill>
                  <a:latin typeface="Times New Roman"/>
                </a:rPr>
                <a:t>(</a:t>
              </a:r>
              <a:r>
                <a:rPr b="1" lang="en-GB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</a:t>
              </a:r>
              <a:r>
                <a:rPr b="1" lang="en-GB" sz="1800" spc="-1" strike="noStrike" baseline="-25000">
                  <a:solidFill>
                    <a:srgbClr val="ff1a3b"/>
                  </a:solidFill>
                  <a:latin typeface="Symbol"/>
                  <a:ea typeface="Symbol"/>
                </a:rPr>
                <a:t></a:t>
              </a:r>
              <a:r>
                <a:rPr b="1" lang="en-GB" sz="1800" spc="-1" strike="noStrike">
                  <a:solidFill>
                    <a:srgbClr val="ff1a3b"/>
                  </a:solidFill>
                  <a:latin typeface="Symbol"/>
                  <a:ea typeface="Symbol"/>
                </a:rPr>
                <a:t></a:t>
              </a:r>
              <a:r>
                <a:rPr b="1" lang="en-GB" sz="1800" spc="-1" strike="noStrike" baseline="-25000">
                  <a:solidFill>
                    <a:srgbClr val="ff1a3b"/>
                  </a:solidFill>
                  <a:latin typeface="Symbol"/>
                  <a:ea typeface="Symbol"/>
                </a:rPr>
                <a:t></a:t>
              </a:r>
              <a:r>
                <a:rPr b="1" lang="en-GB" sz="1800" spc="-1" strike="noStrike">
                  <a:solidFill>
                    <a:srgbClr val="ff1a3b"/>
                  </a:solidFill>
                  <a:latin typeface="Times New Roman"/>
                </a:rPr>
                <a:t>)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phase space integral,  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GB" sz="1800" spc="-1" strike="noStrike" baseline="-25000">
                  <a:solidFill>
                    <a:srgbClr val="ff0000"/>
                  </a:solidFill>
                  <a:latin typeface="Times New Roman"/>
                </a:rPr>
                <a:t>ew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short distance corrections (1.0232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44680" y="3305160"/>
            <a:ext cx="5227200" cy="44892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|  from neutral K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partial decay wid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28400" y="4761000"/>
            <a:ext cx="8687160" cy="496440"/>
          </a:xfrm>
          <a:prstGeom prst="roundRect">
            <a:avLst>
              <a:gd name="adj" fmla="val 29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1a3b"/>
                </a:solidFill>
                <a:latin typeface="Times New Roman"/>
              </a:rPr>
              <a:t>f</a:t>
            </a:r>
            <a:r>
              <a:rPr b="1" lang="en-GB" sz="2200" spc="-1" strike="noStrike" baseline="-25000">
                <a:solidFill>
                  <a:srgbClr val="ff1a3b"/>
                </a:solidFill>
                <a:latin typeface="Times New Roman"/>
              </a:rPr>
              <a:t>+</a:t>
            </a:r>
            <a:r>
              <a:rPr b="1" lang="en-GB" sz="2200" spc="-1" strike="noStrike" baseline="30000">
                <a:solidFill>
                  <a:srgbClr val="ff1a3b"/>
                </a:solidFill>
                <a:latin typeface="Times New Roman"/>
              </a:rPr>
              <a:t>K0</a:t>
            </a:r>
            <a:r>
              <a:rPr b="1" lang="en-GB" sz="22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ff1a3b"/>
                </a:solidFill>
                <a:latin typeface="Times New Roman"/>
              </a:rPr>
              <a:t>-</a:t>
            </a:r>
            <a:r>
              <a:rPr b="1" lang="en-GB" sz="2200" spc="-1" strike="noStrike">
                <a:solidFill>
                  <a:srgbClr val="ff1a3b"/>
                </a:solidFill>
                <a:latin typeface="Times New Roman"/>
              </a:rPr>
              <a:t>(t = 0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m factor at zero momentum transfer: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pure theory calculation (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PT, latt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5684760"/>
            <a:ext cx="883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61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GB" sz="1800" spc="-1" strike="noStrike">
                <a:solidFill>
                  <a:srgbClr val="ff1a3b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 baseline="-25000">
                <a:solidFill>
                  <a:srgbClr val="ff1a3b"/>
                </a:solidFill>
                <a:latin typeface="Times New Roman"/>
              </a:rPr>
              <a:t>em</a:t>
            </a:r>
            <a:r>
              <a:rPr b="1" lang="en-GB" sz="1800" spc="-1" strike="noStrike" baseline="33000">
                <a:solidFill>
                  <a:srgbClr val="ff1a3b"/>
                </a:solidFill>
                <a:latin typeface="Times New Roman"/>
              </a:rPr>
              <a:t>K</a:t>
            </a:r>
            <a:r>
              <a:rPr b="1" lang="en-GB" sz="1800" spc="-1" strike="noStrike" baseline="33000">
                <a:solidFill>
                  <a:srgbClr val="ff1a3b"/>
                </a:solidFill>
                <a:latin typeface="StarSymbo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electromagnetic correction (amplitude and phase sp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72960" y="5450040"/>
            <a:ext cx="7269120" cy="339840"/>
          </a:xfrm>
          <a:prstGeom prst="roundRect">
            <a:avLst>
              <a:gd name="adj" fmla="val 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1a3b"/>
                </a:solidFill>
                <a:latin typeface="Symbol"/>
                <a:ea typeface="Symbol"/>
              </a:rPr>
              <a:t></a:t>
            </a:r>
            <a:r>
              <a:rPr b="1" lang="en-GB" sz="1800" spc="-1" strike="noStrike" baseline="-25000">
                <a:solidFill>
                  <a:srgbClr val="ff1a3b"/>
                </a:solidFill>
                <a:latin typeface="Symbol"/>
                <a:ea typeface="Symbol"/>
              </a:rPr>
              <a:t></a:t>
            </a:r>
            <a:r>
              <a:rPr b="1" lang="en-GB" sz="1800" spc="-1" strike="noStrike">
                <a:solidFill>
                  <a:srgbClr val="ff1a3b"/>
                </a:solidFill>
                <a:latin typeface="Symbol"/>
                <a:ea typeface="Symbol"/>
              </a:rPr>
              <a:t></a:t>
            </a:r>
            <a:r>
              <a:rPr b="1" lang="en-GB" sz="1800" spc="-1" strike="noStrike" baseline="-25000">
                <a:solidFill>
                  <a:srgbClr val="ff1a3b"/>
                </a:solidFill>
                <a:latin typeface="Symbol"/>
                <a:ea typeface="Symbol"/>
              </a:rPr>
              <a:t>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lopes (momentum dependence of the vector and scalar form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371600" y="3789360"/>
                <a:ext cx="53514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­</m:t>
                            </m:r>
                          </m:sup>
                        </m:sSup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8</m:t>
                                </m:r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ℓ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w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ℓ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  <m:sup>
                            <m:r>
                              <m:t xml:space="preserve">Kℓ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380880" y="838080"/>
            <a:ext cx="84582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4880" y="2017800"/>
            <a:ext cx="8543880" cy="1029600"/>
          </a:xfrm>
          <a:prstGeom prst="roundRect">
            <a:avLst>
              <a:gd name="adj" fmla="val 1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= 0.0042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0.0019  was the situation as of PDG02: ~ 2.2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dev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d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0.0015   from super-allowed 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rmi transitions, 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c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d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0.0011 from semileptonic kaon decays (PDG02 f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0" y="1295280"/>
            <a:ext cx="2666880" cy="427320"/>
          </a:xfrm>
          <a:prstGeom prst="roundRect">
            <a:avLst>
              <a:gd name="adj" fmla="val 3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00800" y="1295280"/>
            <a:ext cx="5131440" cy="44892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1 –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Lesson from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and Kaon decays</a:t>
            </a:r>
            <a:endParaRPr b="0" lang="en-US" sz="2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oubled history of ~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inconsis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f “PDG fit” with unit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ld results (O(5%) erro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adiative corrections unknow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wave of modern and precis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asurements (KTeV, E865, KLOE, NA48)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   </a:t>
            </a:r>
            <a:r>
              <a:rPr b="0" lang="en-US" sz="2200" spc="-1" strike="noStrike">
                <a:solidFill>
                  <a:srgbClr val="ff1a3b"/>
                </a:solidFill>
                <a:latin typeface="Geneva"/>
              </a:rPr>
              <a:t>Unitarity of CKM 1rst row seems to hold. V</a:t>
            </a:r>
            <a:r>
              <a:rPr b="0" lang="en-US" sz="2200" spc="-1" strike="noStrike" baseline="-25000">
                <a:solidFill>
                  <a:srgbClr val="ff1a3b"/>
                </a:solidFill>
                <a:latin typeface="Geneva"/>
              </a:rPr>
              <a:t>us</a:t>
            </a:r>
            <a:r>
              <a:rPr b="0" lang="en-US" sz="22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US" sz="2200" spc="-1" strike="noStrike" u="sng">
                <a:solidFill>
                  <a:srgbClr val="ff1a3b"/>
                </a:solidFill>
                <a:uFillTx/>
                <a:latin typeface="Geneva"/>
              </a:rPr>
              <a:t>still</a:t>
            </a:r>
            <a:r>
              <a:rPr b="0" lang="en-US" sz="2200" spc="-1" strike="noStrike">
                <a:solidFill>
                  <a:srgbClr val="ff1a3b"/>
                </a:solidFill>
                <a:latin typeface="Geneva"/>
              </a:rPr>
              <a:t> known only at 1%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Theoretical error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n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GB" sz="2400" spc="-1" strike="noStrike" baseline="-33000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GB" sz="2400" spc="-1" strike="noStrike" baseline="33000">
                <a:solidFill>
                  <a:srgbClr val="0000ff"/>
                </a:solidFill>
                <a:latin typeface="Times New Roman"/>
              </a:rPr>
              <a:t>K0</a:t>
            </a:r>
            <a:r>
              <a:rPr b="1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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(0.83%) domina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Experimental error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: 0.2%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), 0.15% (BRs)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’s (0.3%) !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w measurement from BR(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verall picture not complet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K</a:t>
            </a:r>
            <a:r>
              <a:rPr b="0" lang="en-US" sz="20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e</a:t>
            </a:r>
            <a:r>
              <a:rPr b="0" lang="en-US" sz="20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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</a:t>
            </a:r>
            <a:r>
              <a:rPr b="0" lang="en-US" sz="20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 baseline="30000">
                <a:solidFill>
                  <a:srgbClr val="ff1a3b"/>
                </a:solidFill>
                <a:latin typeface="Symbol"/>
                <a:ea typeface="Symbol"/>
              </a:rPr>
              <a:t>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oming soon </a:t>
            </a:r>
            <a:r>
              <a:rPr b="0" lang="en-US" sz="2000" spc="-1" strike="noStrike">
                <a:solidFill>
                  <a:srgbClr val="ff1a3b"/>
                </a:solidFill>
                <a:latin typeface="Symbol"/>
                <a:ea typeface="Symbol"/>
              </a:rPr>
              <a:t>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orm factor parameters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’s) for neutral and charged kaon </a:t>
            </a:r>
            <a:r>
              <a:rPr b="0" lang="en-US" sz="2000" spc="-1" strike="noStrike">
                <a:solidFill>
                  <a:srgbClr val="ff1a3b"/>
                </a:solidFill>
                <a:latin typeface="Geneva"/>
              </a:rPr>
              <a:t>separate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4652280" y="1219320"/>
            <a:ext cx="4491360" cy="1693800"/>
            <a:chOff x="4652280" y="1219320"/>
            <a:chExt cx="4491360" cy="1693800"/>
          </a:xfrm>
        </p:grpSpPr>
        <p:sp>
          <p:nvSpPr>
            <p:cNvPr id="919" name=""/>
            <p:cNvSpPr/>
            <p:nvPr/>
          </p:nvSpPr>
          <p:spPr>
            <a:xfrm>
              <a:off x="4652280" y="1219320"/>
              <a:ext cx="4379040" cy="44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modes the error ‘budget’ is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4662360" y="1579320"/>
                  <a:ext cx="4381560" cy="77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den>
                          </m:f>
                        </m:e>
                      </m:d>
                      <m:r>
                        <m:t xml:space="preserve">⊕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δτ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e>
                      </m:d>
                      <m:r>
                        <m:t xml:space="preserve">⊕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δλ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+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⊕</m:t>
                      </m:r>
                      <m:f>
                        <m:num>
                          <m:sSub>
                            <m:e>
                              <m:r>
                                <m:t xml:space="preserve">δf</m:t>
                              </m:r>
                            </m:e>
                            <m:sub>
                              <m:r>
                                <m:t xml:space="preserve">+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+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 rot="5400000">
              <a:off x="6748560" y="975600"/>
              <a:ext cx="128160" cy="2859120"/>
            </a:xfrm>
            <a:custGeom>
              <a:avLst/>
              <a:gdLst>
                <a:gd name="textAreaLeft" fmla="*/ 0 w 128160"/>
                <a:gd name="textAreaRight" fmla="*/ 46080 w 128160"/>
                <a:gd name="textAreaTop" fmla="*/ 74520 h 2859120"/>
                <a:gd name="textAreaBottom" fmla="*/ 2784600 h 285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5400000">
              <a:off x="8706960" y="2083320"/>
              <a:ext cx="75600" cy="64584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6560 h 645840"/>
                <a:gd name="textAreaBottom" fmla="*/ 629280 h 64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00800" y="2498400"/>
              <a:ext cx="85428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p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10600" y="2514240"/>
              <a:ext cx="83304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V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from 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3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decays and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914400"/>
            <a:ext cx="8763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scription from hep-ph/0411097 (F. Mescia @ICHEP0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) Quadratic parametrization of the form fact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303800" y="2057400"/>
            <a:ext cx="4208400" cy="1194840"/>
            <a:chOff x="4303800" y="2057400"/>
            <a:chExt cx="4208400" cy="1194840"/>
          </a:xfrm>
        </p:grpSpPr>
        <p:sp>
          <p:nvSpPr>
            <p:cNvPr id="107" name=""/>
            <p:cNvSpPr/>
            <p:nvPr/>
          </p:nvSpPr>
          <p:spPr>
            <a:xfrm>
              <a:off x="4330800" y="2057400"/>
              <a:ext cx="24998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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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36200" y="2819160"/>
              <a:ext cx="24876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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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3800" y="2438280"/>
              <a:ext cx="25855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</a:t>
              </a:r>
              <a:r>
                <a:rPr b="1" lang="en-GB" sz="2000" spc="-1" strike="noStrike" baseline="-33000">
                  <a:solidFill>
                    <a:srgbClr val="ff0000"/>
                  </a:solidFill>
                  <a:latin typeface="Symbol"/>
                  <a:ea typeface="Symbol"/>
                </a:rPr>
                <a:t>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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05680" y="2182680"/>
              <a:ext cx="14065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from KTeV  + IS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327672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) 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lifetime from KLOE  (average of the two measurements)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3248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KL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(50.81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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s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Times New Roman"/>
              </a:rPr>
              <a:t>(contribution to Vus ~ 0.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240" y="4419720"/>
            <a:ext cx="27363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) BRs from KLO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setting the sum =1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rm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45148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GB" sz="2000" spc="-1" strike="noStrike" baseline="-25000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GB" sz="20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GB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from Leutwyler-Roos: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96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419720"/>
            <a:ext cx="46483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4007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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2698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0.0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8280" y="2133720"/>
                <a:ext cx="38480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635600" y="3048120"/>
            <a:ext cx="1454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x 2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than PDG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55272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V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us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from K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3</a:t>
            </a:r>
            <a:r>
              <a:rPr b="0" lang="it-IT" sz="3000" spc="-1" strike="noStrike">
                <a:solidFill>
                  <a:srgbClr val="000000"/>
                </a:solidFill>
                <a:latin typeface="Geneva"/>
              </a:rPr>
              <a:t> decays and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Geneva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057400" y="762120"/>
            <a:ext cx="5791320" cy="3970080"/>
            <a:chOff x="2057400" y="762120"/>
            <a:chExt cx="5791320" cy="39700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274840" y="762120"/>
              <a:ext cx="5573880" cy="39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057400" y="2214720"/>
              <a:ext cx="4572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28800" y="4724280"/>
            <a:ext cx="6172200" cy="15624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KLOE results: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 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Se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 = 0.2169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 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e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= 0.2164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(0)(K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 baseline="-33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  = 0.2174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0.0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From Unitarity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:      (1-|V</a:t>
            </a:r>
            <a:r>
              <a:rPr b="1" lang="en-GB" sz="2000" spc="-1" strike="noStrike" baseline="-33000">
                <a:solidFill>
                  <a:srgbClr val="000099"/>
                </a:solidFill>
                <a:latin typeface="Times New Roman"/>
              </a:rPr>
              <a:t>ud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|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1/2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(0)  = 0.2177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 0.0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986120"/>
            <a:ext cx="2209680" cy="57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2:40:04Z</dcterms:created>
  <dc:creator>stefano moccia</dc:creator>
  <dc:description/>
  <dc:language>en-US</dc:language>
  <cp:lastModifiedBy>Annette Donkerlo</cp:lastModifiedBy>
  <dcterms:modified xsi:type="dcterms:W3CDTF">2005-05-23T11:43:20Z</dcterms:modified>
  <cp:revision>1397</cp:revision>
  <dc:subject/>
  <dc:title>KLOE results on rare K0 decays</dc:title>
</cp:coreProperties>
</file>