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13.png" ContentType="image/png"/>
  <Override PartName="/ppt/media/image33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35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44.png" ContentType="image/png"/>
  <Override PartName="/ppt/media/image38.png" ContentType="image/png"/>
  <Override PartName="/ppt/media/image8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3CD-EA53-4C5F-98AC-001EADE153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ize of the bhabha stremaing has been drastically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g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cquire 20Hz wof…syncronized…pulse rndm t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or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azing work has been done on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005-489B-4192-8B16-A42F499F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410-7933-43EA-8824-389E580E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08A-B0D4-457E-9375-7843C522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649-055D-4D71-AE9C-72F5EC8B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F61-5EA8-45E8-BA34-CD5FF24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57F-BF47-4E05-8C7F-272B2D9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408-48BF-4AB9-9CD7-0CADEE84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77C-8C1F-40C5-9304-B9CA97A8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90C-B1B3-47C1-9041-E1A1B5D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49D-21FE-4098-83FE-CCD5A71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C22-F2BE-4080-A495-EAED1BD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2CD-CEB4-4243-B3F3-C0170D1A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3D83-FCC7-4199-96F2-4C0644AA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404640"/>
            <a:ext cx="655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2004 - KLOE  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249228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taking restart: luminosity and 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tect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ffline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40" y="-3024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Background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5968" t="25294" r="15916" b="21078"/>
          <a:stretch/>
        </p:blipFill>
        <p:spPr>
          <a:xfrm>
            <a:off x="324000" y="2257560"/>
            <a:ext cx="4243320" cy="4124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5968" t="25294" r="15916" b="21078"/>
          <a:stretch/>
        </p:blipFill>
        <p:spPr>
          <a:xfrm>
            <a:off x="4716360" y="2257560"/>
            <a:ext cx="4243320" cy="4124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762120"/>
            <a:ext cx="8642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harged background is considerably reduced by varying the crossing angle at the  impact point; this has been measured for both electrons and positrons in single beam operation mod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P. Raimondi, F. Bos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3979" t="22483" r="11937" b="19673"/>
          <a:stretch/>
        </p:blipFill>
        <p:spPr>
          <a:xfrm>
            <a:off x="468360" y="658800"/>
            <a:ext cx="3806640" cy="370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3979" t="22483" r="11937" b="19673"/>
          <a:stretch/>
        </p:blipFill>
        <p:spPr>
          <a:xfrm>
            <a:off x="684360" y="4264200"/>
            <a:ext cx="2663640" cy="2593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3979" t="22483" r="11937" b="19673"/>
          <a:stretch/>
        </p:blipFill>
        <p:spPr>
          <a:xfrm>
            <a:off x="5003640" y="658800"/>
            <a:ext cx="3807000" cy="3706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rcRect l="3979" t="22483" r="11937" b="19673"/>
          <a:stretch/>
        </p:blipFill>
        <p:spPr>
          <a:xfrm>
            <a:off x="5148360" y="4219560"/>
            <a:ext cx="2663640" cy="2594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67600" y="5011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min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516640"/>
            <a:ext cx="6624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98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4520" y="1052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-30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60360" y="98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60" y="1584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Beginning of 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-302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End of 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21840" y="10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10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14052" r="3979" b="18268"/>
          <a:stretch/>
        </p:blipFill>
        <p:spPr>
          <a:xfrm>
            <a:off x="7920" y="1467000"/>
            <a:ext cx="4348080" cy="433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15143" r="4767" b="18509"/>
          <a:stretch/>
        </p:blipFill>
        <p:spPr>
          <a:xfrm>
            <a:off x="4505400" y="1549440"/>
            <a:ext cx="4314600" cy="425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3760" y="-3024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Last-minute background optim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0000" y="85572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 backgroun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2520" y="9079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2 backgroun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2810" t="17905" r="9836" b="3979"/>
          <a:stretch/>
        </p:blipFill>
        <p:spPr>
          <a:xfrm>
            <a:off x="3994200" y="189000"/>
            <a:ext cx="5041800" cy="318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2810" t="17905" r="9836" b="3979"/>
          <a:stretch/>
        </p:blipFill>
        <p:spPr>
          <a:xfrm>
            <a:off x="3997440" y="3500280"/>
            <a:ext cx="5038560" cy="3183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00" y="109440"/>
            <a:ext cx="3748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alorimet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1330200"/>
            <a:ext cx="36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ibration run (24h) performed  on cosmics  to equalize cell  response to 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solute energy and time calibration by online processing of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vents restarted succes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nline monitor restarte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07680" y="2563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02440" y="5940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2000" y="3427560"/>
            <a:ext cx="169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-L/v  Bhab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800" y="114480"/>
            <a:ext cx="212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P energy Ba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907920"/>
            <a:ext cx="208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2002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2810" t="17905" r="9836" b="3979"/>
          <a:stretch/>
        </p:blipFill>
        <p:spPr>
          <a:xfrm>
            <a:off x="3997440" y="189000"/>
            <a:ext cx="5038560" cy="3182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810" t="17905" r="9836" b="3979"/>
          <a:stretch/>
        </p:blipFill>
        <p:spPr>
          <a:xfrm>
            <a:off x="3997440" y="3500280"/>
            <a:ext cx="5038560" cy="3183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680" y="109440"/>
            <a:ext cx="4132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Drift chamb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197000"/>
            <a:ext cx="3529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week has been spent to solve a noise problem in the inner layers, induced by the quadrupole step 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me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and space-to-time relations have been recalibrated on cos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rdware efficiency is at the level of 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263700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. Par.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100160"/>
            <a:ext cx="216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2002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47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ver. Resid. 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587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. Par.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4286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G cell e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4720" y="115920"/>
            <a:ext cx="698328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line modifications for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1371600"/>
            <a:ext cx="899172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tions to physics strea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abha stream: keep only subset (5%) of radiative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Bhabha stream volume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overall stream volume by &gt;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am: new tag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ncorpo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 into re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older tags, will reduce stream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trigger as source of MC background for 200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Hz of random triggers synched with beam cro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200" y="44280"/>
            <a:ext cx="858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PU power requirements for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6000" y="3657600"/>
          <a:ext cx="350496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3657600"/>
                    <a:ext cx="35049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092480" y="1295280"/>
          <a:ext cx="4799160" cy="487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2480" y="1295280"/>
                    <a:ext cx="47991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57200" y="1066680"/>
          <a:ext cx="328140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066680"/>
                    <a:ext cx="328140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988200" y="11653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rate (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57320" y="365760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0666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80 CPU’s needed to follow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927680" y="1847880"/>
          <a:ext cx="914400" cy="127620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799160" y="35053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6 CPU located at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000" y="6294600"/>
            <a:ext cx="86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he same level of Background of 2002 was assumed for 2004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962520"/>
            <a:ext cx="3581280" cy="0"/>
          </a:xfrm>
          <a:prstGeom prst="line">
            <a:avLst/>
          </a:prstGeom>
          <a:ln w="3816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01840" y="82440"/>
            <a:ext cx="604980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line CPU/disk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0" y="907920"/>
            <a:ext cx="91584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 hardware resou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 IBM B80 server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 CPU’s 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Sun E450 server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B80 C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qu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5 TB NFS-mounted recall disk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reallocate between production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3549600"/>
            <a:ext cx="8623080" cy="292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servers for offline fa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10 IBM p630 servers: 10×4 POWER4+ 1.45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dds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100 B80 CP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equivalent to offline farm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40x2.5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dditional 20 TB dis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12 TB available for DST cache  (8 TB for AFS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It’s very important at the analysis stage, since analysis jobs are usually I/O limited (rather than CPU limi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720" y="2971800"/>
            <a:ext cx="69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U/disk upgrades for 2004 (already instal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7920" y="44280"/>
            <a:ext cx="8588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lled tape storage capa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640" y="981000"/>
            <a:ext cx="7245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BM 3494 tape libr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2 Magstar 3590 drives, 14 MB/s read/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0 GB/cartridge (upgraded from 40 GB this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200 cartridges (5400 sl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ximum capacity: 312 T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5200 cartrid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rently in use: 185 T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80880" y="4508640"/>
            <a:ext cx="4335480" cy="2034000"/>
            <a:chOff x="380880" y="4508640"/>
            <a:chExt cx="4335480" cy="2034000"/>
          </a:xfrm>
        </p:grpSpPr>
        <p:sp>
          <p:nvSpPr>
            <p:cNvPr id="182" name=""/>
            <p:cNvSpPr/>
            <p:nvPr/>
          </p:nvSpPr>
          <p:spPr>
            <a:xfrm>
              <a:off x="2402280" y="61437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380880" y="4508640"/>
            <a:ext cx="4335480" cy="190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508640"/>
                      <a:ext cx="433548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219320" y="49752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1840" y="4851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6240" y="56134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c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6200" y="572760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9" name=""/>
          <p:cNvGraphicFramePr/>
          <p:nvPr/>
        </p:nvGraphicFramePr>
        <p:xfrm>
          <a:off x="4800600" y="4417920"/>
          <a:ext cx="3675240" cy="24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417920"/>
                    <a:ext cx="36752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198040" y="393372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d vol. by type (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84200" y="4673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97560" y="4656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86320" y="4952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38720" y="5827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9560" y="5737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495680" y="1117440"/>
          <a:ext cx="44704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117440"/>
                    <a:ext cx="44704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87480" y="44280"/>
            <a:ext cx="8588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pe storage requirements for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384200"/>
          <a:ext cx="3675240" cy="24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84200"/>
                    <a:ext cx="36752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28600" y="3683160"/>
          <a:ext cx="3687840" cy="24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683160"/>
                    <a:ext cx="368784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64760" y="99072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d vol. by type (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12200" y="1625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6000" y="3924360"/>
            <a:ext cx="25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. streaming m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25560" y="160812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432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66720" y="2779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7560" y="268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42480" y="4786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19000" y="49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76080" y="5073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4680" y="499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93360" y="58197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5819760"/>
            <a:ext cx="7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7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48440" y="581976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1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75440" y="581976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1880" y="106380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 library usage (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294880" y="37684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393520" y="2711520"/>
            <a:ext cx="7398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394240" y="2333520"/>
            <a:ext cx="736560" cy="336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93520" y="1952640"/>
            <a:ext cx="739800" cy="336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393520" y="1571760"/>
            <a:ext cx="739800" cy="336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202440" y="2710800"/>
            <a:ext cx="274680" cy="336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202440" y="2332800"/>
            <a:ext cx="274680" cy="336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202440" y="1951920"/>
            <a:ext cx="274680" cy="336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202440" y="1571760"/>
            <a:ext cx="274680" cy="336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4290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1960" y="29718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12  TB availab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33520" y="6324480"/>
            <a:ext cx="38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Overall it adds  330 TB @ 2 fb</a:t>
            </a:r>
            <a:r>
              <a:rPr b="1" i="1" lang="en-GB" sz="20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36440" r="0" b="0"/>
          <a:stretch/>
        </p:blipFill>
        <p:spPr>
          <a:xfrm>
            <a:off x="512640" y="1628640"/>
            <a:ext cx="6939000" cy="461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36440" y="76212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8th April 2004: restart of KLO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40 pb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integrated up to 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1557360"/>
            <a:ext cx="280836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uminosity (10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e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480" y="93600"/>
            <a:ext cx="84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Da</a:t>
            </a:r>
            <a:r>
              <a:rPr b="1" lang="it-IT" sz="2800" spc="-1" strike="noStrike">
                <a:solidFill>
                  <a:srgbClr val="009999"/>
                </a:solidFill>
                <a:latin typeface="Symbol"/>
                <a:ea typeface="Symbol"/>
              </a:rPr>
              <a:t></a:t>
            </a: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ne-KLOE daily performances since year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3080" y="3860640"/>
            <a:ext cx="309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ted Lum (pb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/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eli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logg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6365880"/>
            <a:ext cx="132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AR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03640" y="580536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8120" y="6307200"/>
            <a:ext cx="142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UDA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627280" y="5805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140000" y="5734080"/>
            <a:ext cx="215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10120" y="4587840"/>
            <a:ext cx="1229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OE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5400" y="3803760"/>
            <a:ext cx="1229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O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41300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58920" y="155520"/>
            <a:ext cx="68403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pe storage upgrades for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00" y="981000"/>
            <a:ext cx="62964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tional IBM 3494 tap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 Magstar 3592 drives: 300 GB/cartridge, 40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itially 1000 cartridges (300 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lots for 3600 cartridges (1080 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tive solution for KLOE storag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60" y="2924280"/>
            <a:ext cx="80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id completed and approved by INFN C.D. on April 30</a:t>
            </a:r>
            <a:r>
              <a:rPr b="1" i="1" lang="en-GB" sz="2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,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o be ready by June-Ju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583080" y="3500280"/>
          <a:ext cx="50925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3500280"/>
                    <a:ext cx="50925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48040" y="4365720"/>
            <a:ext cx="33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but it is fundamental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keep fighting again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background, to fit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ata flow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5280" y="82440"/>
            <a:ext cx="361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83664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LOE 2004 data taking started on April 18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ith substantial modifications in machin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e keep cooperating with the accelerator team in order to decrease background, which is presently close to the level of year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luminosity delivered by Da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 shows a positive trend, approaching now the level of year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KLOE detector is very well performing after 20 months of sto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ffline resources including upgrades are adequate to store, process and analyse several fb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’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7958" t="22483" r="11937" b="19673"/>
          <a:stretch/>
        </p:blipFill>
        <p:spPr>
          <a:xfrm>
            <a:off x="4545000" y="1504800"/>
            <a:ext cx="4348080" cy="4445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rcRect l="7958" t="22483" r="11937" b="19673"/>
          <a:stretch/>
        </p:blipFill>
        <p:spPr>
          <a:xfrm>
            <a:off x="179280" y="1501920"/>
            <a:ext cx="4351320" cy="4448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4120" y="-30240"/>
            <a:ext cx="84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Ratio between End-cap rates  and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81800" y="10526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33120" y="10526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55200" y="1700280"/>
            <a:ext cx="4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4120" y="1650960"/>
            <a:ext cx="4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9120" y="381168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it-IT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59160" y="379728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it-IT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2560" y="115920"/>
            <a:ext cx="7921800" cy="64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3 Monte Carlo production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197000"/>
            <a:ext cx="853416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comparable in statistics to 450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un in data set individually sim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ckground, dead wires, trigger threshol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series of upgrades to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e of new generators introduced, particular emphasis on radiative decay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ee for example C. Gatti, KLOE Memo 2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y carefully revised and response simulation tuned for both EmC and DC (EMC response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. Spadaro &amp; M.Te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on of accidental activity from machin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s in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ed run-by-run to match temporal profil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 DST’s to provide convenient user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520" y="65102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  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375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57160" y="762120"/>
          <a:ext cx="7315200" cy="4871880"/>
        </p:xfrm>
        <a:graphic>
          <a:graphicData uri="http://schemas.openxmlformats.org/drawingml/2006/table">
            <a:tbl>
              <a:tblPr/>
              <a:tblGrid>
                <a:gridCol w="2446560"/>
                <a:gridCol w="2840040"/>
                <a:gridCol w="2028600"/>
              </a:tblGrid>
              <a:tr h="752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10+2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t 1:5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=62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000" spc="-1" strike="noStrike" baseline="30000">
                          <a:solidFill>
                            <a:srgbClr val="0066ff"/>
                          </a:solidFill>
                          <a:latin typeface="Arial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000" spc="-1" strike="noStrike" baseline="30000">
                          <a:solidFill>
                            <a:srgbClr val="0066ff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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t 6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= 30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66ff"/>
                          </a:solidFill>
                          <a:latin typeface="Arial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66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1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t 1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= 105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radi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1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t 5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= 28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Radiative Bhab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1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t 1:7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= 9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1908000" y="76320"/>
            <a:ext cx="55454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C production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9160" y="5668920"/>
            <a:ext cx="3819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time/event (typical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stru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175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6523200"/>
            <a:ext cx="3352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79640" y="58500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925M e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7640" y="5791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65400" y="58737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rcRect l="3979" t="30915" r="3979" b="0"/>
          <a:stretch/>
        </p:blipFill>
        <p:spPr>
          <a:xfrm>
            <a:off x="108000" y="1916280"/>
            <a:ext cx="4164120" cy="4425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rcRect l="19895" t="16862" r="19895" b="33725"/>
          <a:stretch/>
        </p:blipFill>
        <p:spPr>
          <a:xfrm>
            <a:off x="4545000" y="1700280"/>
            <a:ext cx="4419720" cy="5135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427640" y="3429000"/>
            <a:ext cx="464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C output (based on Bijnens et al., The second D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 physics handbook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6302520"/>
            <a:ext cx="485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ulation by Doncel, Phys. Lett. 32B (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76320"/>
            <a:ext cx="63374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w MC achievements for Ke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35080" y="2981160"/>
            <a:ext cx="21636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tr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Data)/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tr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95480" y="4406760"/>
            <a:ext cx="631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it-IT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it-IT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071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ta vs MC comparison on tracking  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78960" y="1052640"/>
            <a:ext cx="48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w MC generator for radiative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77920" y="304920"/>
            <a:ext cx="858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CPU est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24840" y="9907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polated from 2002 data with some MC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9080" y="1523880"/>
            <a:ext cx="4014000" cy="4668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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3  = 158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0 H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hab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unvetoed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Hz b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100 </a:t>
            </a:r>
            <a:r>
              <a:rPr b="0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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s</a:t>
            </a:r>
            <a:r>
              <a:rPr b="0" lang="en-US" sz="20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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ssum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3 = 21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60 Hz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+ Bhab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700 Hz unvetoed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0 Hz bkg (assumed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21240" y="1523880"/>
            <a:ext cx="4419720" cy="4692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 tim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.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(assum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habha trigger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.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habha FILFO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8.9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habha) = 61 ms av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5 ms to process any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3.6 ms for 60% of bkg ev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61 ms for 93% of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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ha ev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: 19.6 ms/evt over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4: 31.3 ms/evt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886200"/>
            <a:ext cx="40388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87280" y="6448320"/>
            <a:ext cx="339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# CPU= &lt;CPU&gt;/ev</a:t>
            </a:r>
            <a:r>
              <a:rPr b="0" i="1" lang="en-GB" sz="2000" spc="-1" strike="noStrike" baseline="-25000">
                <a:solidFill>
                  <a:srgbClr val="333399"/>
                </a:solidFill>
                <a:latin typeface="Arial"/>
              </a:rPr>
              <a:t>input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* R</a:t>
            </a:r>
            <a:r>
              <a:rPr b="0" i="1" lang="en-GB" sz="2000" spc="-1" strike="noStrike" baseline="-25000">
                <a:solidFill>
                  <a:srgbClr val="333399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43000" y="749160"/>
          <a:ext cx="6324480" cy="610740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371600"/>
                <a:gridCol w="17524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 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(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const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lt;CPU&gt; (ms/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(KH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# C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ST pro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lt;CPU&gt; (ms/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(KH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# C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nte Car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lt;CPU&gt; (ms/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(KH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# C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456480" y="77760"/>
            <a:ext cx="74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PU Required to keep up with D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99320" y="552924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5 CP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86600" y="59310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931000"/>
            <a:ext cx="685800" cy="3808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800600" y="1295280"/>
            <a:ext cx="4191120" cy="4876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200" y="44280"/>
            <a:ext cx="858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tape space estimate: det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8280" y="1303200"/>
            <a:ext cx="3975120" cy="1966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: 274 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: 118 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: 56.2 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: 2160 Hz @ 2.6 KB/e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: 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5040" y="384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105520" y="2301840"/>
          <a:ext cx="3733560" cy="3462480"/>
        </p:xfrm>
        <a:graphic>
          <a:graphicData uri="http://schemas.openxmlformats.org/drawingml/2006/table">
            <a:tbl>
              <a:tblPr/>
              <a:tblGrid>
                <a:gridCol w="1154160"/>
                <a:gridCol w="1288800"/>
                <a:gridCol w="12906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-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</a:t>
                      </a:r>
                      <a:r>
                        <a:rPr b="0" lang="en-US" sz="2000" spc="-1" strike="noStrike" baseline="30000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</a:t>
                      </a:r>
                      <a:r>
                        <a:rPr b="0" lang="en-US" sz="2000" spc="-1" strike="noStrike" baseline="30000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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adi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ab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548160" y="1295280"/>
            <a:ext cx="7934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0440" y="1295280"/>
            <a:ext cx="11484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1523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lude effects of streaming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4419720"/>
            <a:ext cx="4016520" cy="1787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002: 43 GB/pb</a:t>
            </a:r>
            <a:r>
              <a:rPr b="1" lang="en-US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004: 43 GB/pb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ssume 1.6 M evt/pb</a:t>
            </a:r>
            <a:r>
              <a:rPr b="0" lang="en-US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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ll (1:5) and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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99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99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(1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60480" y="4419720"/>
            <a:ext cx="73224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09080" y="578016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imate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4052" t="19895" r="14052" b="11937"/>
          <a:stretch/>
        </p:blipFill>
        <p:spPr>
          <a:xfrm>
            <a:off x="212760" y="981000"/>
            <a:ext cx="8751960" cy="586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5013360"/>
            <a:ext cx="25941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ted Lum (nb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560" y="2816280"/>
            <a:ext cx="2737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st. Lum. (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739800"/>
            <a:ext cx="2950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it-IT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beam currents (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1880" y="-30240"/>
            <a:ext cx="76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Performances end of 2002 data-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08800" y="560880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4052" t="19895" r="14052" b="11937"/>
          <a:stretch/>
        </p:blipFill>
        <p:spPr>
          <a:xfrm>
            <a:off x="179280" y="981000"/>
            <a:ext cx="8751960" cy="5862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760" y="-3024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Performances  May 30</a:t>
            </a:r>
            <a:r>
              <a:rPr b="1" lang="it-IT" sz="32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  20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739800"/>
            <a:ext cx="2950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it-IT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beam currents (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2816280"/>
            <a:ext cx="2737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st. Lum. (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013360"/>
            <a:ext cx="25941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ted Lum (nb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8440" y="560880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23200" y="403200"/>
            <a:ext cx="2341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milar e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wer e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ss frequent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22483" r="11937" b="19673"/>
          <a:stretch/>
        </p:blipFill>
        <p:spPr>
          <a:xfrm>
            <a:off x="108000" y="1844640"/>
            <a:ext cx="4383000" cy="407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22483" r="11937" b="19673"/>
          <a:stretch/>
        </p:blipFill>
        <p:spPr>
          <a:xfrm>
            <a:off x="4500720" y="1801800"/>
            <a:ext cx="4383000" cy="407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560" y="-3024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2002 vs 2004  lumin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6021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6021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2320" y="6302520"/>
            <a:ext cx="28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ptember 2002, 22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6720" y="630252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y 2004, 22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71480"/>
            <a:ext cx="84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2002 vs 2004 comparison has been carried out on a 9-days period: each point represents the luminosity averaged over a 1 hour data-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979" t="25294" r="11937" b="22483"/>
          <a:stretch/>
        </p:blipFill>
        <p:spPr>
          <a:xfrm>
            <a:off x="1278000" y="4657680"/>
            <a:ext cx="228600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3979" t="25294" r="11937" b="19673"/>
          <a:stretch/>
        </p:blipFill>
        <p:spPr>
          <a:xfrm>
            <a:off x="5148360" y="4622760"/>
            <a:ext cx="2286000" cy="21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0" t="22483" r="11937" b="19673"/>
          <a:stretch/>
        </p:blipFill>
        <p:spPr>
          <a:xfrm>
            <a:off x="4643280" y="800280"/>
            <a:ext cx="3988080" cy="370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22483" r="11937" b="19673"/>
          <a:stretch/>
        </p:blipFill>
        <p:spPr>
          <a:xfrm>
            <a:off x="117360" y="801720"/>
            <a:ext cx="3984840" cy="370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rcRect l="0" t="22483" r="11937" b="19673"/>
          <a:stretch/>
        </p:blipFill>
        <p:spPr>
          <a:xfrm>
            <a:off x="4649760" y="800280"/>
            <a:ext cx="3987720" cy="370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1125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11253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9400" y="612720"/>
            <a:ext cx="28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ptember 2002, 22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4680" y="619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y 2004, 22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960" y="-30240"/>
            <a:ext cx="78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Counting rates on calorimeter end-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7080" y="5011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551664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22483" r="11937" b="19673"/>
          <a:stretch/>
        </p:blipFill>
        <p:spPr>
          <a:xfrm>
            <a:off x="0" y="2374920"/>
            <a:ext cx="4386240" cy="4078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22483" r="11937" b="19673"/>
          <a:stretch/>
        </p:blipFill>
        <p:spPr>
          <a:xfrm>
            <a:off x="4356000" y="2349360"/>
            <a:ext cx="4386240" cy="4078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120" y="-30240"/>
            <a:ext cx="50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Background trigge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42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3080" y="242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40920" y="1981080"/>
            <a:ext cx="28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ptember 2002, 22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34680" y="1981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y 2004, 22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712800"/>
            <a:ext cx="88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Let’s define: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2 rate    =  trigger lv2 rate – cosmic-ray events – physics events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 100 Hz/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C2 rate =  same with drift chamber trigger onl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3979" t="22483" r="11937" b="19673"/>
          <a:stretch/>
        </p:blipFill>
        <p:spPr>
          <a:xfrm>
            <a:off x="395280" y="1125360"/>
            <a:ext cx="4181400" cy="407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979" t="22483" r="11937" b="19673"/>
          <a:stretch/>
        </p:blipFill>
        <p:spPr>
          <a:xfrm>
            <a:off x="4643280" y="1125360"/>
            <a:ext cx="4186440" cy="407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" y="-30240"/>
            <a:ext cx="64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Background rates  vs lumin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56000" y="2781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35280" y="25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04000" y="306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56720" y="2923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1800" y="28526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62400" y="32781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760" y="5657760"/>
            <a:ext cx="885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though the threshold used for drift chamber trigger is hard (120 hit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 background increase is mainly due to charged ev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3320" y="955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backgroun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0560" y="94464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C2 backgroun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3926" t="24732" r="13926" b="24732"/>
          <a:stretch/>
        </p:blipFill>
        <p:spPr>
          <a:xfrm>
            <a:off x="115920" y="836640"/>
            <a:ext cx="4311720" cy="427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13926" t="24732" r="13926" b="24732"/>
          <a:stretch/>
        </p:blipFill>
        <p:spPr>
          <a:xfrm>
            <a:off x="4716360" y="836640"/>
            <a:ext cx="4308480" cy="427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40" y="-30240"/>
            <a:ext cx="43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Background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45000"/>
            <a:ext cx="8351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ticles  with low transverse momenta  (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≤100 MeV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spiralling in the central region of the drift cha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08:12:47Z</dcterms:created>
  <dc:creator>bossi</dc:creator>
  <dc:description/>
  <dc:language>en-US</dc:language>
  <cp:lastModifiedBy>bossi</cp:lastModifiedBy>
  <dcterms:modified xsi:type="dcterms:W3CDTF">2004-06-07T04:54:10Z</dcterms:modified>
  <cp:revision>30</cp:revision>
  <dc:subject/>
  <dc:title>Diapositiva 1</dc:title>
</cp:coreProperties>
</file>