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3D8D-B1B4-4F5E-95D3-DAA953E181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437C-E794-47A8-8427-5449567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0AD2-262A-4441-9C23-3680636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E786-0866-461E-BC07-9C9CD8CFB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C049-F8F8-4CC2-90E8-6C2C860D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C4F8-9A2D-46ED-9C43-3057503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83C3-1C81-477A-8D39-49727827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7485-FDE5-4291-A903-DCFBFFC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69120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FAAC-D950-445F-BDF0-67AB1A99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28D5-1AAD-412E-9E51-BB87163F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5759-FD75-4652-941D-4CCDA75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F680-2FF4-409A-B410-8D6D65A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C20-55E3-4B7C-8862-80507CAED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924680" y="101520"/>
            <a:ext cx="1114560" cy="66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6440" y="423360"/>
            <a:ext cx="6108840" cy="76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K charged statu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7999200" cy="38894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alization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Arial"/>
              </a:rPr>
              <a:t>kk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y means of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finemen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Arial"/>
              </a:rPr>
              <a:t>e3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nalysis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ork in progress !!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E/D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elopment vs P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asurement fro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l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alysis skeleton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r(K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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)/Br(K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ystematic evaluation miss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k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means of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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arly st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341360"/>
            <a:ext cx="83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l the statistic (400 pb-1) has been reconstructed with a dedicated retracking. Analysis based mainly on the </a:t>
            </a: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“tag”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hilosophy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is an incomplete list of the analysis activities in 2003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17665" r="0" b="17665"/>
          <a:stretch/>
        </p:blipFill>
        <p:spPr>
          <a:xfrm>
            <a:off x="1306440" y="1989000"/>
            <a:ext cx="6046920" cy="4673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400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00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99360" y="34765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440" y="5373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Bhab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7200" y="54450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3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981000"/>
            <a:ext cx="80787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empus Sans IT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eveloped the offline ADC softwa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 configuration: ADC gate is 1.8 ms &lt;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drif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fraction of charge measurements are lost (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empus Sans ITC"/>
              </a:rPr>
              <a:t>drift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&lt; 150 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16240" y="270000"/>
            <a:ext cx="51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E/Dx : a starting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0" y="41148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17640" y="3405240"/>
            <a:ext cx="166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asy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24640" y="53737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, K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empus Sans ITC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52000" y="28584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Bethe-Block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2205000"/>
            <a:ext cx="3095640" cy="106884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 </a:t>
            </a: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Q/L vs log(</a:t>
            </a:r>
            <a:r>
              <a:rPr b="0" lang="en-GB" sz="3200" spc="-1" strike="noStrike">
                <a:solidFill>
                  <a:srgbClr val="0066ff"/>
                </a:solidFill>
                <a:latin typeface="Symbol"/>
                <a:ea typeface="Symbol"/>
              </a:rPr>
              <a:t>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06864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appropriate mass hypothesis in the various momentum ranges for K,</a:t>
            </a:r>
            <a:r>
              <a:rPr b="0" lang="en-GB" sz="2400" spc="-1" strike="noStrike">
                <a:solidFill>
                  <a:srgbClr val="0066ff"/>
                </a:solidFill>
                <a:latin typeface="Symbol"/>
                <a:ea typeface="Symbol"/>
              </a:rPr>
              <a:t></a:t>
            </a: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 and Bhabha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17665" r="0" b="17665"/>
          <a:stretch/>
        </p:blipFill>
        <p:spPr>
          <a:xfrm>
            <a:off x="111240" y="1197000"/>
            <a:ext cx="5037120" cy="461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63640" y="45086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10160" y="436572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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24560" y="297324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26960" y="55656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Comic Sans MS"/>
              </a:rPr>
              <a:t>log(</a:t>
            </a:r>
            <a:r>
              <a:rPr b="0" lang="en-GB" sz="2800" spc="-1" strike="noStrike">
                <a:solidFill>
                  <a:srgbClr val="0066ff"/>
                </a:solidFill>
                <a:latin typeface="Symbol"/>
                <a:ea typeface="Symbol"/>
              </a:rPr>
              <a:t></a:t>
            </a:r>
            <a:r>
              <a:rPr b="0" lang="en-GB" sz="2800" spc="-1" strike="noStrike">
                <a:solidFill>
                  <a:srgbClr val="0066ff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7000" y="153180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99"/>
                </a:solidFill>
                <a:latin typeface="Comic Sans MS"/>
              </a:rPr>
              <a:t>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712800"/>
            <a:ext cx="87854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The integration gate is 1.8 </a:t>
            </a: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s   </a:t>
            </a: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  effective track length evaluation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Tempus Sans ITC"/>
              </a:rPr>
              <a:t>         following equal time cont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400" y="2301840"/>
            <a:ext cx="2856240" cy="257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98720" y="2598840"/>
            <a:ext cx="1874520" cy="1982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0920" y="1855440"/>
            <a:ext cx="2589120" cy="28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17404" t="3512" r="22377" b="57602"/>
          <a:stretch/>
        </p:blipFill>
        <p:spPr>
          <a:xfrm>
            <a:off x="4460760" y="2133720"/>
            <a:ext cx="4359240" cy="3984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8000" y="53434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Red: effective charge collection ar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empus Sans ITC"/>
              </a:rPr>
              <a:t>Blue: total charge collect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0560" y="2924280"/>
            <a:ext cx="86508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539640" y="4292280"/>
            <a:ext cx="1008000" cy="865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410920" y="2276280"/>
            <a:ext cx="1081080" cy="936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547640" y="3213000"/>
            <a:ext cx="1944720" cy="19447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8879000">
            <a:off x="1144080" y="4038840"/>
            <a:ext cx="259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geometric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258560" y="1844280"/>
            <a:ext cx="865080" cy="79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0920" y="1844640"/>
            <a:ext cx="108108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8879000">
            <a:off x="-59040" y="217584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empus Sans ITC"/>
              </a:rPr>
              <a:t>eff.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1297080"/>
            <a:ext cx="87138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95280" y="1584360"/>
            <a:ext cx="8633160" cy="4224240"/>
            <a:chOff x="395280" y="1584360"/>
            <a:chExt cx="8633160" cy="422424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7459" t="49173" r="9945" b="21074"/>
            <a:stretch/>
          </p:blipFill>
          <p:spPr>
            <a:xfrm>
              <a:off x="395280" y="1584360"/>
              <a:ext cx="828180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005080" y="3889080"/>
              <a:ext cx="2734920" cy="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16360" y="3455640"/>
              <a:ext cx="0" cy="129528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61080" y="3455640"/>
              <a:ext cx="0" cy="1295280"/>
            </a:xfrm>
            <a:prstGeom prst="line">
              <a:avLst/>
            </a:prstGeom>
            <a:ln w="158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68440" y="3240000"/>
              <a:ext cx="11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Tempus Sans ITC"/>
                </a:rPr>
                <a:t>800 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12920" y="4035240"/>
              <a:ext cx="23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Font typeface="Symbol" charset="2"/>
                <a:buChar char="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empus Sans ITC"/>
                </a:rPr>
                <a:t>1 mm spre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8360" y="0"/>
            <a:ext cx="71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The effect derives from the resolution on the effective track length : now an average s-t relation is used for all the c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4120" y="5229360"/>
            <a:ext cx="8280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empus Sans ITC"/>
              </a:rPr>
              <a:t>A rough  estimate of  the uncertainty is</a:t>
            </a: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 1 mm/3 cm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empus Sans ITC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refined s-t</a:t>
            </a:r>
            <a:r>
              <a:rPr b="0" lang="en-GB" sz="2400" spc="-1" strike="noStrike">
                <a:solidFill>
                  <a:srgbClr val="333399"/>
                </a:solidFill>
                <a:latin typeface="Tempus Sans ITC"/>
              </a:rPr>
              <a:t> relation must yet be implemented</a:t>
            </a:r>
            <a:r>
              <a:rPr b="0" lang="en-GB" sz="2400" spc="-1" strike="noStrike">
                <a:solidFill>
                  <a:srgbClr val="ff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260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empus Sans ITC"/>
              </a:rPr>
              <a:t>DE/Dx for 3 body decays in the Ke3 range </a:t>
            </a:r>
            <a:r>
              <a:rPr b="0" lang="en-GB" sz="2800" spc="-1" strike="noStrike">
                <a:solidFill>
                  <a:srgbClr val="ff0000"/>
                </a:solidFill>
                <a:latin typeface="Tempus Sans ITC"/>
              </a:rPr>
              <a:t>(p &lt; 150 MeV/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35640" y="5445000"/>
                <a:ext cx="2603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A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P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l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l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9" name=""/>
          <p:cNvGrpSpPr/>
          <p:nvPr/>
        </p:nvGrpSpPr>
        <p:grpSpPr>
          <a:xfrm>
            <a:off x="682560" y="1884240"/>
            <a:ext cx="7345440" cy="3560760"/>
            <a:chOff x="682560" y="1884240"/>
            <a:chExt cx="7345440" cy="356076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rcRect l="7147" t="52996" r="7147" b="17665"/>
            <a:stretch/>
          </p:blipFill>
          <p:spPr>
            <a:xfrm>
              <a:off x="682560" y="1884240"/>
              <a:ext cx="73454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120400" y="2622600"/>
              <a:ext cx="178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Tempus Sans ITC"/>
                </a:rPr>
                <a:t>requir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Tempus Sans ITC"/>
                </a:rPr>
                <a:t>K decay vt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50920" y="551664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Clear electron peak in the pool of De/Dx distribution in e hypothes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27160" y="2565360"/>
            <a:ext cx="26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No vertex: mai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3 charged p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11640" y="3357720"/>
            <a:ext cx="649080" cy="64764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5003" t="22712" r="5003" b="17665"/>
          <a:stretch/>
        </p:blipFill>
        <p:spPr>
          <a:xfrm>
            <a:off x="5148360" y="2236680"/>
            <a:ext cx="3959280" cy="37134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24000" y="2054160"/>
            <a:ext cx="4786200" cy="4687920"/>
            <a:chOff x="324000" y="2054160"/>
            <a:chExt cx="4786200" cy="468792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rcRect l="7147" t="22712" r="3573" b="21703"/>
            <a:stretch/>
          </p:blipFill>
          <p:spPr>
            <a:xfrm>
              <a:off x="826920" y="2054160"/>
              <a:ext cx="4283280" cy="3776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24000" y="2290680"/>
                  <a:ext cx="21564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30640" y="6070680"/>
                  <a:ext cx="17971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π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0" y="2397240"/>
                <a:ext cx="1054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-81720" y="38268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empus Sans ITC"/>
              </a:rPr>
              <a:t>Using the probabilities of being electron, p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empus Sans ITC"/>
              </a:rPr>
              <a:t>muon, clean samples of electrons and pions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empus Sans ITC"/>
              </a:rPr>
              <a:t>be sel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56240" y="22240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empus Sans ITC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1880" y="4653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empus Sans ITC"/>
              </a:rPr>
              <a:t>p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680" y="479736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empus Sans ITC"/>
              </a:rPr>
              <a:t>mu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2349360"/>
            <a:ext cx="142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empus Sans ITC"/>
              </a:rPr>
              <a:t>requi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empus Sans ITC"/>
              </a:rPr>
              <a:t>K decay v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720" y="260028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empus Sans ITC"/>
              </a:rPr>
              <a:t>no K decay v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2276640"/>
            <a:ext cx="1871640" cy="158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68440" y="304920"/>
            <a:ext cx="65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Clean electron sample requir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791320" y="1219320"/>
            <a:ext cx="2665440" cy="1535040"/>
            <a:chOff x="5791320" y="1219320"/>
            <a:chExt cx="2665440" cy="153504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034320" y="1219320"/>
                  <a:ext cx="17017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6013800" y="2082960"/>
                  <a:ext cx="24429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π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5791320" y="129060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78"/>
                  </a:lnTo>
                  <a:cubicBezTo>
                    <a:pt x="10800" y="10278"/>
                    <a:pt x="5400" y="11178"/>
                    <a:pt x="0" y="11178"/>
                  </a:cubicBezTo>
                  <a:cubicBezTo>
                    <a:pt x="5400" y="11178"/>
                    <a:pt x="10800" y="12078"/>
                    <a:pt x="10800" y="1297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92720" y="2924280"/>
            <a:ext cx="3527280" cy="288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useful sample to study systematic effects associated to PID from time of flight for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empus Sans ITC"/>
              </a:rPr>
              <a:t>e3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Tempus Sans ITC"/>
              </a:rPr>
              <a:t> effective at low moment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Improving sampling and DL determination in the cell</a:t>
            </a:r>
            <a:r>
              <a:rPr b="0" lang="en-US" sz="2000" spc="-1" strike="noStrike">
                <a:solidFill>
                  <a:srgbClr val="ff0000"/>
                </a:solidFill>
                <a:latin typeface="Tempus Sans ITC"/>
              </a:rPr>
              <a:t> the effective range of momentum should wi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4920" y="914400"/>
            <a:ext cx="5248080" cy="5450040"/>
            <a:chOff x="34920" y="914400"/>
            <a:chExt cx="5248080" cy="545004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rcRect l="7147" t="20189" r="10720" b="15142"/>
            <a:stretch/>
          </p:blipFill>
          <p:spPr>
            <a:xfrm>
              <a:off x="395280" y="914400"/>
              <a:ext cx="4887720" cy="54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rcRect l="50029" t="52996" r="10720" b="17665"/>
            <a:stretch/>
          </p:blipFill>
          <p:spPr>
            <a:xfrm>
              <a:off x="2266920" y="1927440"/>
              <a:ext cx="272088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516480" y="437544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ff"/>
                  </a:solidFill>
                  <a:latin typeface="Tempus Sans ITC"/>
                </a:rPr>
                <a:t>p (MeV/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34920" y="1797120"/>
                  <a:ext cx="21564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49" name=""/>
          <p:cNvSpPr/>
          <p:nvPr/>
        </p:nvSpPr>
        <p:spPr>
          <a:xfrm>
            <a:off x="2627280" y="595476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178080" y="5834160"/>
                <a:ext cx="2232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A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P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l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l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826920" y="14130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empus Sans ITC"/>
              </a:rPr>
              <a:t>no K decay v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Comic Sans MS"/>
              </a:rPr>
              <a:t>e3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:tracking &amp; vertex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484280"/>
            <a:ext cx="3979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We study a method to measur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on da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he efficiency to identify a K charged decay in the D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deca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trac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30000">
                <a:solidFill>
                  <a:srgbClr val="333399"/>
                </a:solidFill>
                <a:latin typeface="Comic Sans MS"/>
              </a:rPr>
              <a:t>track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Comic Sans MS"/>
              </a:rPr>
              <a:t>daughte</a:t>
            </a:r>
            <a:r>
              <a:rPr b="0" lang="it-IT" sz="2000" spc="-1" strike="noStrike" baseline="-25000">
                <a:solidFill>
                  <a:srgbClr val="333399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30000">
                <a:solidFill>
                  <a:srgbClr val="333399"/>
                </a:solidFill>
                <a:latin typeface="Arial"/>
              </a:rPr>
              <a:t>ver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fferent kinematical region of the Ke3 spectrum using other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cay with overlapping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27640" y="1700280"/>
            <a:ext cx="4464000" cy="4035600"/>
            <a:chOff x="4427640" y="1700280"/>
            <a:chExt cx="4464000" cy="4035600"/>
          </a:xfrm>
        </p:grpSpPr>
        <p:sp>
          <p:nvSpPr>
            <p:cNvPr id="255" name=""/>
            <p:cNvSpPr/>
            <p:nvPr/>
          </p:nvSpPr>
          <p:spPr>
            <a:xfrm>
              <a:off x="4427640" y="1939680"/>
              <a:ext cx="4322880" cy="376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rcRect l="7150" t="34325" r="6197" b="10096"/>
            <a:stretch/>
          </p:blipFill>
          <p:spPr>
            <a:xfrm>
              <a:off x="4443480" y="2208240"/>
              <a:ext cx="430704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83760" y="5337000"/>
              <a:ext cx="13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(MeV/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29560" y="3514680"/>
              <a:ext cx="1407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empus Sans ITC"/>
                </a:rPr>
                <a:t>K</a:t>
              </a:r>
              <a:r>
                <a:rPr b="1" lang="en-US" sz="2000" spc="-1" strike="noStrike" baseline="-25000">
                  <a:solidFill>
                    <a:srgbClr val="333399"/>
                  </a:solidFill>
                  <a:latin typeface="Tempus Sans ITC"/>
                </a:rPr>
                <a:t>l3</a:t>
              </a:r>
              <a:r>
                <a:rPr b="0" lang="en-US" sz="2000" spc="-1" strike="noStrike">
                  <a:solidFill>
                    <a:srgbClr val="333399"/>
                  </a:solidFill>
                  <a:latin typeface="Tempus Sans ITC"/>
                </a:rPr>
                <a:t> (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signal</a:t>
              </a:r>
              <a:r>
                <a:rPr b="0" lang="en-US" sz="2000" spc="-1" strike="noStrike">
                  <a:solidFill>
                    <a:srgbClr val="333399"/>
                  </a:solidFill>
                  <a:latin typeface="Tempus Sans IT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70360" y="2368440"/>
              <a:ext cx="90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empus Sans ITC"/>
                </a:rPr>
                <a:t>K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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84440" y="4653000"/>
              <a:ext cx="119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empus Sans ITC"/>
                </a:rPr>
                <a:t>K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9400" y="2616120"/>
              <a:ext cx="98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empus Sans ITC"/>
                </a:rPr>
                <a:t>K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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5720" y="1700280"/>
              <a:ext cx="22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</a:rPr>
                <a:t>track fit  + vert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6200" y="4245120"/>
            <a:ext cx="39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The aim is to select a sample of events where th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vertex in the DC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can be detected by means of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 ECAL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quant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We select a sample of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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tagged events and look at the other sid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21851" t="24483" r="15938" b="13468"/>
          <a:stretch/>
        </p:blipFill>
        <p:spPr>
          <a:xfrm>
            <a:off x="4343400" y="801720"/>
            <a:ext cx="4753080" cy="4608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807320" y="383544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617320" y="3733920"/>
            <a:ext cx="3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779240" y="4800600"/>
            <a:ext cx="36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8040" y="19382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cc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ccff"/>
                </a:solidFill>
                <a:latin typeface="Arial"/>
                <a:ea typeface="Arial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403120" y="1447920"/>
            <a:ext cx="3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ff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32640" y="2782800"/>
            <a:ext cx="9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60440" y="2895480"/>
            <a:ext cx="36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23760" y="22860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p</a:t>
            </a:r>
            <a:r>
              <a:rPr b="0" lang="it-IT" sz="1800" spc="-1" strike="noStrike" baseline="-25000">
                <a:solidFill>
                  <a:srgbClr val="0066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85160" y="312408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ff"/>
                </a:solidFill>
                <a:latin typeface="Comic Sans MS"/>
              </a:rPr>
              <a:t>p</a:t>
            </a:r>
            <a:r>
              <a:rPr b="0" lang="it-IT" sz="1800" spc="-1" strike="noStrike" baseline="-25000">
                <a:solidFill>
                  <a:srgbClr val="ff99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6103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e3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decay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ith K momentum extra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114800"/>
            <a:ext cx="4608720" cy="217836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rom the tag side by means of extrapolation of the Kaons momentum with we ob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Timing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f the signal K in the D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ositi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the signal K in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Momentum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f the signal K in the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5734080"/>
            <a:ext cx="331308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Only events with 4 clusters and E</a:t>
            </a:r>
            <a:r>
              <a:rPr b="0" lang="it-IT" sz="1800" spc="-1" strike="noStrike" baseline="-25000">
                <a:solidFill>
                  <a:srgbClr val="009900"/>
                </a:solidFill>
                <a:latin typeface="Comic Sans MS"/>
              </a:rPr>
              <a:t>cl</a:t>
            </a:r>
            <a:r>
              <a:rPr b="0" lang="it-IT" sz="1800" spc="-1" strike="noStrike">
                <a:solidFill>
                  <a:srgbClr val="009900"/>
                </a:solidFill>
                <a:latin typeface="Comic Sans MS"/>
              </a:rPr>
              <a:t> &gt; 50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1628640"/>
            <a:ext cx="3908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e are exploring the possibility to use the info from the tag 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ince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K+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+ p</a:t>
            </a:r>
            <a:r>
              <a:rPr b="0" lang="en-US" sz="18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K-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eful eveluation of energy loss in DC wall and BP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s requ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00160" y="3048120"/>
            <a:ext cx="33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t</a:t>
            </a:r>
            <a:r>
              <a:rPr b="0" lang="en-US" sz="1800" spc="-1" strike="noStrike" baseline="-25000">
                <a:solidFill>
                  <a:srgbClr val="ff99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260280"/>
            <a:ext cx="6912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e3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decay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&amp; K momentum extrapolation: vertex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219320"/>
            <a:ext cx="874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decay path of the signal K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along the extrapolated helix can be found imposing the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invariant mass, on the K and </a:t>
            </a:r>
            <a:r>
              <a:rPr b="0" lang="it-IT" sz="18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s tof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und the vertex, 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luster energy and position  gives 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momentum. Then, with the K momentum at the vertex we obtain 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mo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2042" t="10274" r="8807" b="3426"/>
          <a:stretch/>
        </p:blipFill>
        <p:spPr>
          <a:xfrm>
            <a:off x="250920" y="2708280"/>
            <a:ext cx="3960720" cy="3816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307960" y="5661000"/>
            <a:ext cx="1694160" cy="36828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r vertex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3048120"/>
            <a:ext cx="1293840" cy="61164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x vertex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32760" y="2781360"/>
            <a:ext cx="4373640" cy="3752640"/>
            <a:chOff x="4532760" y="2781360"/>
            <a:chExt cx="4373640" cy="375264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rcRect l="5226" t="10274" r="2075" b="6888"/>
            <a:stretch/>
          </p:blipFill>
          <p:spPr>
            <a:xfrm>
              <a:off x="4859280" y="2781360"/>
              <a:ext cx="36734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8074800" y="6086520"/>
              <a:ext cx="831600" cy="368280"/>
            </a:xfrm>
            <a:prstGeom prst="rect">
              <a:avLst/>
            </a:prstGeom>
            <a:solidFill>
              <a:srgbClr val="e8e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Z (c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32760" y="2781360"/>
              <a:ext cx="842040" cy="368280"/>
            </a:xfrm>
            <a:prstGeom prst="rect">
              <a:avLst/>
            </a:prstGeom>
            <a:solidFill>
              <a:srgbClr val="e8e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 (c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9480" y="616572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Vertex 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rot="19630800">
            <a:off x="3282480" y="42206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9900"/>
                </a:solidFill>
                <a:latin typeface="Comic Sans MS"/>
              </a:rPr>
              <a:t>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cross section: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0440" y="3573360"/>
          <a:ext cx="4182840" cy="1368360"/>
        </p:xfrm>
        <a:graphic>
          <a:graphicData uri="http://schemas.openxmlformats.org/drawingml/2006/table">
            <a:tbl>
              <a:tblPr/>
              <a:tblGrid>
                <a:gridCol w="1265040"/>
                <a:gridCol w="1447920"/>
                <a:gridCol w="14698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n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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0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±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4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±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±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1268280"/>
            <a:ext cx="4248000" cy="1740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55000"/>
              <a:buFont typeface="ZapfDingba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xploits t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55000"/>
              <a:buFont typeface="ZapfDingba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ry sensitive to hemisphere correlation: TAG bench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55000"/>
              <a:buFont typeface="ZapfDingba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ne shape analysis on the 2002 energy scan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205240" y="1676520"/>
            <a:ext cx="1336320" cy="1371240"/>
            <a:chOff x="5205240" y="1676520"/>
            <a:chExt cx="1336320" cy="137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205240" y="1676520"/>
              <a:ext cx="126576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006960" y="244836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cc00ff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5240" y="225576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cc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28400" y="196596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360" y="1773000"/>
              <a:ext cx="53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261040" y="3352680"/>
            <a:ext cx="1280520" cy="1371240"/>
            <a:chOff x="5261040" y="3352680"/>
            <a:chExt cx="1280520" cy="13712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261040" y="3352680"/>
              <a:ext cx="128052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621400" y="3546000"/>
              <a:ext cx="5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61040" y="3931560"/>
              <a:ext cx="54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cc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70640" y="1143000"/>
            <a:ext cx="1828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53240" y="1676520"/>
            <a:ext cx="2179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  number of ev with 2 triggering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</a:t>
            </a:r>
            <a:r>
              <a:rPr b="0" lang="it-IT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92920" y="3565440"/>
            <a:ext cx="2109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it-IT" sz="20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 number of ev with 1 triggering </a:t>
            </a:r>
            <a:r>
              <a:rPr b="0" lang="it-IT" sz="2000" spc="-1" strike="noStrike">
                <a:solidFill>
                  <a:srgbClr val="ff3300"/>
                </a:solidFill>
                <a:latin typeface="Symbol"/>
                <a:ea typeface="Symbol"/>
              </a:rPr>
              <a:t></a:t>
            </a:r>
            <a:r>
              <a:rPr b="0" lang="it-IT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157720"/>
            <a:ext cx="4176720" cy="12376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-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B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33960" y="4930920"/>
            <a:ext cx="5346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465880" cy="102708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The K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’ decay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057400"/>
            <a:ext cx="3886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D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.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4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2057400"/>
            <a:ext cx="0" cy="11430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79360" y="2013120"/>
            <a:ext cx="3914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jung    7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 evts   /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e3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olotov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86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5 evts  /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e3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armin  88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 evts  /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33520" y="2666880"/>
                <a:ext cx="3886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rot="19680600">
            <a:off x="5417280" y="1052280"/>
            <a:ext cx="293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Very 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3645000"/>
            <a:ext cx="7777080" cy="1439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Ke4’ BR can be measured using the absolu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’ BR obtained at KLOE and measuring the Ratio:</a:t>
            </a:r>
            <a:br>
              <a:rPr sz="2400"/>
            </a:br>
            <a:r>
              <a:rPr b="0" i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(K</a:t>
            </a:r>
            <a:r>
              <a:rPr b="0" i="1" lang="it-IT" sz="2800" spc="-1" strike="noStrike" baseline="-25000">
                <a:solidFill>
                  <a:srgbClr val="ff0000"/>
                </a:solidFill>
                <a:latin typeface="Tahoma"/>
              </a:rPr>
              <a:t>e4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’) / </a:t>
            </a:r>
            <a:r>
              <a:rPr b="0" i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it-IT" sz="2800" spc="-1" strike="noStrike">
                <a:solidFill>
                  <a:srgbClr val="ff0000"/>
                </a:solidFill>
                <a:latin typeface="Tahoma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4200" y="5624640"/>
            <a:ext cx="3454560" cy="579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76960" y="5589720"/>
            <a:ext cx="3035160" cy="70344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4000" spc="-1" strike="noStrike" baseline="30000">
                <a:solidFill>
                  <a:srgbClr val="4d4d4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880" y="1600200"/>
            <a:ext cx="816948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rigg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EMC + Cosmic 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Event Classifica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pmstrea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4d4d4d"/>
                </a:solidFill>
                <a:latin typeface="Tahoma"/>
              </a:rPr>
              <a:t>(all the 5 algo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2-track vertex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DC volume with a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elix distance </a:t>
            </a:r>
            <a:r>
              <a:rPr b="0" lang="it-IT" sz="2200" spc="-1" strike="noStrike">
                <a:solidFill>
                  <a:srgbClr val="808080"/>
                </a:solidFill>
                <a:latin typeface="Tahoma"/>
              </a:rPr>
              <a:t>between the two tracks’ first/last hit and V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2v&lt;50</a:t>
            </a:r>
            <a:r>
              <a:rPr b="0" lang="it-IT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2400" spc="-1" strike="noStrike">
                <a:solidFill>
                  <a:srgbClr val="003300"/>
                </a:solidFill>
                <a:latin typeface="Tahoma"/>
              </a:rPr>
              <a:t>ontim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 neutral clusters </a:t>
            </a:r>
            <a:r>
              <a:rPr b="0" lang="it-IT" sz="2200" spc="-1" strike="noStrike">
                <a:solidFill>
                  <a:srgbClr val="808080"/>
                </a:solidFill>
                <a:latin typeface="Tahoma"/>
              </a:rPr>
              <a:t>with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&gt;15</a:t>
            </a:r>
            <a:r>
              <a:rPr b="0" lang="it-IT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V</a:t>
            </a:r>
            <a:r>
              <a:rPr b="0" lang="it-IT" sz="2200" spc="-1" strike="noStrike">
                <a:solidFill>
                  <a:srgbClr val="808080"/>
                </a:solidFill>
                <a:latin typeface="Tahoma"/>
              </a:rPr>
              <a:t>,  such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(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V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V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/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&lt;4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1" lang="it-IT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Tahoma"/>
              </a:rPr>
              <a:t>i,j=1,..,4 a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&lt;10</a:t>
            </a:r>
            <a:r>
              <a:rPr b="0" lang="it-IT" sz="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airing of the tw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’s  </a:t>
            </a:r>
            <a:r>
              <a:rPr b="0" lang="it-IT" sz="2200" spc="-1" strike="noStrike">
                <a:solidFill>
                  <a:srgbClr val="808080"/>
                </a:solidFill>
                <a:latin typeface="Tahoma"/>
              </a:rPr>
              <a:t>by minimiz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–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°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°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80 MeV &lt;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,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34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lt; 19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26240" cy="91440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’ common preselection : </a:t>
            </a:r>
            <a:r>
              <a:rPr b="0" lang="it-IT" sz="3200" spc="-1" strike="noStrike">
                <a:solidFill>
                  <a:srgbClr val="00cc66"/>
                </a:solidFill>
                <a:latin typeface="Tahoma"/>
              </a:rPr>
              <a:t>4</a:t>
            </a:r>
            <a:r>
              <a:rPr b="0" lang="it-IT" sz="3200" spc="-1" strike="noStrike">
                <a:solidFill>
                  <a:srgbClr val="00cc66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>
                <a:solidFill>
                  <a:srgbClr val="00cc66"/>
                </a:solidFill>
                <a:latin typeface="Tahoma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101080" y="3319560"/>
            <a:ext cx="816840" cy="2989080"/>
            <a:chOff x="8101080" y="3319560"/>
            <a:chExt cx="816840" cy="2989080"/>
          </a:xfrm>
        </p:grpSpPr>
        <p:grpSp>
          <p:nvGrpSpPr>
            <p:cNvPr id="303" name=""/>
            <p:cNvGrpSpPr/>
            <p:nvPr/>
          </p:nvGrpSpPr>
          <p:grpSpPr>
            <a:xfrm>
              <a:off x="8101080" y="3860640"/>
              <a:ext cx="647640" cy="2448000"/>
              <a:chOff x="8101080" y="3860640"/>
              <a:chExt cx="647640" cy="2448000"/>
            </a:xfrm>
          </p:grpSpPr>
          <p:sp>
            <p:nvSpPr>
              <p:cNvPr id="304" name=""/>
              <p:cNvSpPr/>
              <p:nvPr/>
            </p:nvSpPr>
            <p:spPr>
              <a:xfrm>
                <a:off x="8101080" y="3860640"/>
                <a:ext cx="647640" cy="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101080" y="6308640"/>
                <a:ext cx="647640" cy="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748720" y="3860640"/>
                <a:ext cx="0" cy="2448000"/>
              </a:xfrm>
              <a:prstGeom prst="line">
                <a:avLst/>
              </a:prstGeom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8112240" y="331956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00ccff"/>
                  </a:solidFill>
                  <a:latin typeface="Comic Sans MS"/>
                </a:rPr>
                <a:t>0</a:t>
              </a:r>
              <a:r>
                <a:rPr b="0" lang="en-US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00ccff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04760" y="2637000"/>
            <a:ext cx="1162080" cy="1190880"/>
            <a:chOff x="104760" y="2637000"/>
            <a:chExt cx="1162080" cy="1190880"/>
          </a:xfrm>
        </p:grpSpPr>
        <p:grpSp>
          <p:nvGrpSpPr>
            <p:cNvPr id="309" name=""/>
            <p:cNvGrpSpPr/>
            <p:nvPr/>
          </p:nvGrpSpPr>
          <p:grpSpPr>
            <a:xfrm>
              <a:off x="215640" y="2637000"/>
              <a:ext cx="323640" cy="720720"/>
              <a:chOff x="215640" y="2637000"/>
              <a:chExt cx="323640" cy="72072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15640" y="3357720"/>
                <a:ext cx="323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15640" y="2637000"/>
                <a:ext cx="323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215640" y="263700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04760" y="342900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Comic Sans MS"/>
                </a:rPr>
                <a:t>Ch 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238880" cy="91440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Measuring</a:t>
            </a:r>
            <a:r>
              <a:rPr b="0" i="1" lang="it-IT" sz="4000" spc="-1" strike="noStrike">
                <a:solidFill>
                  <a:srgbClr val="000000"/>
                </a:solidFill>
                <a:latin typeface="Tahoma"/>
              </a:rPr>
              <a:t>  BR(K</a:t>
            </a:r>
            <a:r>
              <a:rPr b="0" i="1" lang="it-IT" sz="40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i="1" lang="it-IT" sz="4000" spc="-1" strike="noStrike">
                <a:solidFill>
                  <a:srgbClr val="000000"/>
                </a:solidFill>
                <a:latin typeface="Tahoma"/>
              </a:rPr>
              <a:t>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71680" y="1701720"/>
                <a:ext cx="8083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k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i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il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t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τ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i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il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t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t</m:t>
                            </m:r>
                          </m:sub>
                          <m:sup>
                            <m:r>
                              <m:t xml:space="preserve">τ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t</m:t>
                            </m:r>
                          </m:sub>
                          <m:sup>
                            <m:r>
                              <m:t xml:space="preserve">e</m:t>
                            </m:r>
                            <m:r>
                              <m:t xml:space="preserve">4</m:t>
                            </m:r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593640" y="2876400"/>
            <a:ext cx="8321760" cy="39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bs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selected events in the final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bckg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background events expected in the final data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finally selecte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background contamination i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’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trig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filt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vtx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i="1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it-IT" sz="1600" spc="-1" strike="noStrike">
                <a:solidFill>
                  <a:srgbClr val="00cc66"/>
                </a:solidFill>
                <a:latin typeface="Tahoma"/>
              </a:rPr>
              <a:t>4</a:t>
            </a:r>
            <a:r>
              <a:rPr b="1" lang="it-IT" sz="2000" spc="-1" strike="noStrike">
                <a:solidFill>
                  <a:srgbClr val="00cc66"/>
                </a:solidFill>
                <a:latin typeface="Symbol"/>
                <a:ea typeface="Symbol"/>
              </a:rPr>
              <a:t></a:t>
            </a:r>
            <a:r>
              <a:rPr b="1" lang="it-IT" sz="1600" spc="-1" strike="noStrike">
                <a:solidFill>
                  <a:srgbClr val="00cc66"/>
                </a:solidFill>
                <a:latin typeface="Tahoma"/>
              </a:rPr>
              <a:t>LEVE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” efficiencies for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135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cut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|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dau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|&lt;135 Me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in K frame, </a:t>
            </a:r>
            <a:r>
              <a:rPr b="0" lang="it-IT" sz="1800" spc="-1" strike="noStrike">
                <a:solidFill>
                  <a:srgbClr val="99cc00"/>
                </a:solidFill>
                <a:latin typeface="Tahoma"/>
              </a:rPr>
              <a:t>m</a:t>
            </a:r>
            <a:r>
              <a:rPr b="0" lang="it-IT" sz="1800" spc="-1" strike="noStrike" baseline="-25000">
                <a:solidFill>
                  <a:srgbClr val="99cc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99cc00"/>
                </a:solidFill>
                <a:latin typeface="Tahoma"/>
              </a:rPr>
              <a:t> hyp.</a:t>
            </a:r>
            <a:r>
              <a:rPr b="0" lang="it-IT" sz="1800" spc="-1" strike="noStrike">
                <a:solidFill>
                  <a:srgbClr val="99cc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99cc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0099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i="1" lang="it-IT" sz="3200" spc="-1" strike="noStrike">
                <a:solidFill>
                  <a:srgbClr val="990099"/>
                </a:solidFill>
                <a:latin typeface="Symbol"/>
                <a:ea typeface="Symbol"/>
              </a:rPr>
              <a:t></a:t>
            </a:r>
            <a:r>
              <a:rPr b="0" i="1" lang="it-IT" sz="2800" spc="-1" strike="noStrike">
                <a:solidFill>
                  <a:srgbClr val="990099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track-to-cluster efficienc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cc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99cc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cc0000"/>
                </a:solidFill>
                <a:latin typeface="Tahoma"/>
              </a:rPr>
              <a:t>K</a:t>
            </a:r>
            <a:r>
              <a:rPr b="0" i="1" lang="it-IT" sz="2400" spc="-1" strike="noStrike" baseline="-25000">
                <a:solidFill>
                  <a:srgbClr val="cc0000"/>
                </a:solidFill>
                <a:latin typeface="Tahoma"/>
              </a:rPr>
              <a:t>e4</a:t>
            </a:r>
            <a:r>
              <a:rPr b="0" i="1" lang="it-IT" sz="2800" spc="-1" strike="noStrike">
                <a:solidFill>
                  <a:srgbClr val="cc0000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fi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kinematic fit efficienc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808080"/>
                </a:solidFill>
                <a:latin typeface="Tahoma"/>
              </a:rPr>
              <a:t>x = </a:t>
            </a:r>
            <a:r>
              <a:rPr b="0" i="1" lang="it-IT" sz="2000" spc="-1" strike="noStrike">
                <a:solidFill>
                  <a:srgbClr val="808080"/>
                </a:solidFill>
                <a:latin typeface="Symbol"/>
                <a:ea typeface="Symbol"/>
              </a:rPr>
              <a:t></a:t>
            </a:r>
            <a:r>
              <a:rPr b="0" i="1" lang="it-IT" sz="2000" spc="-1" strike="noStrike">
                <a:solidFill>
                  <a:srgbClr val="808080"/>
                </a:solidFill>
                <a:latin typeface="Tahoma"/>
              </a:rPr>
              <a:t>’ , K</a:t>
            </a:r>
            <a:r>
              <a:rPr b="0" i="1" lang="it-IT" sz="2000" spc="-1" strike="noStrike" baseline="-25000">
                <a:solidFill>
                  <a:srgbClr val="808080"/>
                </a:solidFill>
                <a:latin typeface="Tahoma"/>
              </a:rPr>
              <a:t>e4</a:t>
            </a:r>
            <a:r>
              <a:rPr b="0" i="1" lang="it-IT" sz="2000" spc="-1" strike="noStrike">
                <a:solidFill>
                  <a:srgbClr val="808080"/>
                </a:solidFill>
                <a:latin typeface="Tahoma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781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0.013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sta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0.016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sys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2280" y="5105520"/>
            <a:ext cx="8543520" cy="1438560"/>
            <a:chOff x="152280" y="5105520"/>
            <a:chExt cx="8543520" cy="1438560"/>
          </a:xfrm>
        </p:grpSpPr>
        <p:sp>
          <p:nvSpPr>
            <p:cNvPr id="318" name=""/>
            <p:cNvSpPr/>
            <p:nvPr/>
          </p:nvSpPr>
          <p:spPr>
            <a:xfrm>
              <a:off x="152280" y="51055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2280" y="62485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1360" y="6145200"/>
              <a:ext cx="2224440" cy="398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KLOE note # 1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020000" y="1700280"/>
            <a:ext cx="649080" cy="5047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81480" y="27082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From </a:t>
            </a:r>
            <a:r>
              <a:rPr b="0" lang="it-IT" sz="2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>
                <a:solidFill>
                  <a:srgbClr val="009999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67640" y="1628640"/>
            <a:ext cx="1081080" cy="108108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23640" y="129384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~ 1 at %1  (MC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205000"/>
            <a:ext cx="647640" cy="57636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35280" y="1700280"/>
            <a:ext cx="2592360" cy="1152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780000" y="1699920"/>
            <a:ext cx="2520720" cy="1152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72360" y="1700280"/>
            <a:ext cx="649080" cy="5047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1628640"/>
            <a:ext cx="72072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72360" y="220500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20000" y="220500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71000" y="285444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cc0000"/>
                </a:solidFill>
                <a:latin typeface="Tahoma"/>
              </a:rPr>
              <a:t>K</a:t>
            </a:r>
            <a:r>
              <a:rPr b="0" i="1" lang="it-IT" sz="3600" spc="-1" strike="noStrike" baseline="-25000">
                <a:solidFill>
                  <a:srgbClr val="cc0000"/>
                </a:solidFill>
                <a:latin typeface="Tahoma"/>
              </a:rPr>
              <a:t>e4</a:t>
            </a:r>
            <a:r>
              <a:rPr b="0" i="1" lang="it-IT" sz="3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lang="it-IT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effici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573" t="20209" r="10719" b="17683"/>
          <a:stretch/>
        </p:blipFill>
        <p:spPr>
          <a:xfrm>
            <a:off x="5410080" y="1600200"/>
            <a:ext cx="335304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36120" y="40384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cc0000"/>
                </a:solidFill>
                <a:uFillTx/>
                <a:latin typeface="Tahoma"/>
              </a:rPr>
              <a:t>Kinematic fit</a:t>
            </a:r>
            <a:r>
              <a:rPr b="0" lang="it-IT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99cc00"/>
                </a:solidFill>
                <a:latin typeface="Tahoma"/>
              </a:rPr>
              <a:t>(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1960" y="16002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cc0000"/>
                </a:solidFill>
                <a:uFillTx/>
                <a:latin typeface="Tahoma"/>
              </a:rPr>
              <a:t>e</a:t>
            </a:r>
            <a:r>
              <a:rPr b="0" i="1" lang="it-IT" sz="800" spc="-1" strike="noStrike" u="sng">
                <a:solidFill>
                  <a:srgbClr val="cc0000"/>
                </a:solidFill>
                <a:uFillTx/>
                <a:latin typeface="Tahoma"/>
              </a:rPr>
              <a:t> </a:t>
            </a:r>
            <a:r>
              <a:rPr b="1" i="1" lang="it-IT" sz="2400" spc="-1" strike="noStrike" u="sng" baseline="30000">
                <a:solidFill>
                  <a:srgbClr val="cc0000"/>
                </a:solidFill>
                <a:uFillTx/>
                <a:latin typeface="Symbol"/>
                <a:ea typeface="Symbol"/>
              </a:rPr>
              <a:t></a:t>
            </a:r>
            <a:r>
              <a:rPr b="0" lang="it-IT" sz="2400" spc="-1" strike="noStrike" u="sng">
                <a:solidFill>
                  <a:srgbClr val="cc0000"/>
                </a:solidFill>
                <a:uFillTx/>
                <a:latin typeface="Tahoma"/>
              </a:rPr>
              <a:t>  track to cluster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98200" y="2133720"/>
            <a:ext cx="358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ahoma"/>
              </a:rPr>
              <a:t>ac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&gt; =  0.359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it-IT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0.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2819520"/>
            <a:ext cx="4643640" cy="874440"/>
          </a:xfrm>
          <a:prstGeom prst="rect">
            <a:avLst/>
          </a:prstGeom>
          <a:noFill/>
          <a:ln w="3240">
            <a:solidFill>
              <a:srgbClr val="ffc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ahoma"/>
              </a:rPr>
              <a:t>ac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(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btained from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tegrated over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stribution in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3840" y="4572000"/>
            <a:ext cx="3291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i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e4’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= 0.237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0.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9600" y="5268960"/>
            <a:ext cx="4225320" cy="1352880"/>
          </a:xfrm>
          <a:prstGeom prst="rect">
            <a:avLst/>
          </a:prstGeom>
          <a:noFill/>
          <a:ln w="3240">
            <a:solidFill>
              <a:srgbClr val="ffc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ystematics include the cho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f th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e4’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ut and defin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efficiency includes th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cut </a:t>
            </a:r>
            <a:r>
              <a:rPr b="0" lang="it-IT" sz="1800" spc="-1" strike="noStrike">
                <a:solidFill>
                  <a:srgbClr val="808080"/>
                </a:solidFill>
                <a:latin typeface="Tahoma"/>
              </a:rPr>
              <a:t>(in </a:t>
            </a:r>
            <a:r>
              <a:rPr b="0" i="1" lang="it-IT" sz="1800" spc="-1" strike="noStrike">
                <a:solidFill>
                  <a:srgbClr val="808080"/>
                </a:solidFill>
                <a:latin typeface="Symbol"/>
                <a:ea typeface="Symbol"/>
              </a:rPr>
              <a:t></a:t>
            </a:r>
            <a:r>
              <a:rPr b="0" i="1" lang="it-IT" sz="1800" spc="-1" strike="noStrike">
                <a:solidFill>
                  <a:srgbClr val="808080"/>
                </a:solidFill>
                <a:latin typeface="Tahoma"/>
              </a:rPr>
              <a:t>’  </a:t>
            </a:r>
            <a:r>
              <a:rPr b="0" lang="it-IT" sz="1800" spc="-1" strike="noStrike">
                <a:solidFill>
                  <a:srgbClr val="808080"/>
                </a:solidFill>
                <a:latin typeface="Tahoma"/>
              </a:rPr>
              <a:t>hyp.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: (98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)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6544" t="23113" r="11452" b="18491"/>
          <a:stretch/>
        </p:blipFill>
        <p:spPr>
          <a:xfrm>
            <a:off x="5105520" y="4057560"/>
            <a:ext cx="36082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99072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Preliminary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4200" y="3657600"/>
            <a:ext cx="360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to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to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e4’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= 4.80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0.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4495680"/>
            <a:ext cx="7315200" cy="0"/>
          </a:xfrm>
          <a:prstGeom prst="line">
            <a:avLst/>
          </a:prstGeom>
          <a:ln w="38160">
            <a:solidFill>
              <a:srgbClr val="ffc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4920" y="4952880"/>
            <a:ext cx="7430040" cy="648720"/>
          </a:xfrm>
          <a:prstGeom prst="rect">
            <a:avLst/>
          </a:prstGeom>
          <a:solidFill>
            <a:srgbClr val="eaeaea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R(K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e4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’) = (2.43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0.20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sta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0.2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sys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–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5694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PDG fi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(2.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.4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5694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Barmin 88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(2.54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.89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67120" y="1828800"/>
            <a:ext cx="6520680" cy="1841400"/>
            <a:chOff x="267120" y="1828800"/>
            <a:chExt cx="6520680" cy="1841400"/>
          </a:xfrm>
        </p:grpSpPr>
        <p:sp>
          <p:nvSpPr>
            <p:cNvPr id="349" name=""/>
            <p:cNvSpPr/>
            <p:nvPr/>
          </p:nvSpPr>
          <p:spPr>
            <a:xfrm>
              <a:off x="267120" y="1828800"/>
              <a:ext cx="4603320" cy="18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800" spc="-1" strike="noStrike" baseline="-25000">
                  <a:solidFill>
                    <a:srgbClr val="000000"/>
                  </a:solidFill>
                  <a:latin typeface="Tahoma"/>
                </a:rPr>
                <a:t>obs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 = 407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800" spc="-1" strike="noStrike" baseline="-25000">
                  <a:solidFill>
                    <a:srgbClr val="000000"/>
                  </a:solidFill>
                  <a:latin typeface="Tahoma"/>
                </a:rPr>
                <a:t>bckg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= 152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it-IT" sz="2800" spc="-1" strike="noStrike" baseline="-25000">
                  <a:solidFill>
                    <a:srgbClr val="000000"/>
                  </a:solidFill>
                  <a:latin typeface="Tahoma"/>
                </a:rPr>
                <a:t>’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  = 899020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950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6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15040" y="1981080"/>
              <a:ext cx="0" cy="8384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73520" y="21463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63120" y="2133720"/>
              <a:ext cx="25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800" spc="-1" strike="noStrike" baseline="-25000">
                  <a:solidFill>
                    <a:srgbClr val="000000"/>
                  </a:solidFill>
                  <a:latin typeface="Tahoma"/>
                </a:rPr>
                <a:t>sig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= 255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 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80000" y="4653000"/>
            <a:ext cx="1440000" cy="115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6560" y="4149720"/>
            <a:ext cx="24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ERY PRELIM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0129400">
            <a:off x="6733080" y="2565000"/>
            <a:ext cx="2035080" cy="94716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NO DE/Dx applied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9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6923160" cy="403236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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’ analysis fi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nalysis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C can have an impact:debugging of the hardware and improving of the software on-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l4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nalysis on th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K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ector must still be explo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160" y="580536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empus Sans ITC"/>
              </a:rPr>
              <a:t>Q / effective track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20" y="6237360"/>
            <a:ext cx="39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empus Sans ITC"/>
              </a:rPr>
              <a:t>Q / geometric track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8000" y="907920"/>
            <a:ext cx="8892720" cy="4968720"/>
            <a:chOff x="108000" y="907920"/>
            <a:chExt cx="8892720" cy="496872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rcRect l="7065" t="18842" r="7746" b="19777"/>
            <a:stretch/>
          </p:blipFill>
          <p:spPr>
            <a:xfrm>
              <a:off x="108000" y="907920"/>
              <a:ext cx="43668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458240" y="1764720"/>
              <a:ext cx="1850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4080" y="1725480"/>
              <a:ext cx="183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2"/>
            <a:srcRect l="8409" t="19733" r="9315" b="17788"/>
            <a:stretch/>
          </p:blipFill>
          <p:spPr>
            <a:xfrm>
              <a:off x="4792680" y="993600"/>
              <a:ext cx="420804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409120" y="16254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elle 3X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34840" y="1625400"/>
              <a:ext cx="12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elle 2X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44480" y="312840"/>
            <a:ext cx="72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empus Sans ITC"/>
              </a:rPr>
              <a:t>Charge vs drift time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0600" y="112680"/>
            <a:ext cx="65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Resolution vs Number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4920" y="620640"/>
            <a:ext cx="6192720" cy="6103800"/>
            <a:chOff x="34920" y="620640"/>
            <a:chExt cx="6192720" cy="6103800"/>
          </a:xfrm>
        </p:grpSpPr>
        <p:grpSp>
          <p:nvGrpSpPr>
            <p:cNvPr id="370" name=""/>
            <p:cNvGrpSpPr/>
            <p:nvPr/>
          </p:nvGrpSpPr>
          <p:grpSpPr>
            <a:xfrm>
              <a:off x="34920" y="620640"/>
              <a:ext cx="6121440" cy="3222360"/>
              <a:chOff x="34920" y="620640"/>
              <a:chExt cx="6121440" cy="3222360"/>
            </a:xfrm>
          </p:grpSpPr>
          <p:pic>
            <p:nvPicPr>
              <p:cNvPr id="371" name="" descr=""/>
              <p:cNvPicPr/>
              <p:nvPr/>
            </p:nvPicPr>
            <p:blipFill>
              <a:blip r:embed="rId1"/>
              <a:srcRect l="3573" t="50472" r="10720" b="17665"/>
              <a:stretch/>
            </p:blipFill>
            <p:spPr>
              <a:xfrm>
                <a:off x="34920" y="620640"/>
                <a:ext cx="6121440" cy="32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3594600" y="1699920"/>
                <a:ext cx="194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cc00"/>
                    </a:solidFill>
                    <a:latin typeface="Tempus Sans ITC"/>
                  </a:rPr>
                  <a:t>electron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3" name="" descr=""/>
            <p:cNvPicPr/>
            <p:nvPr/>
          </p:nvPicPr>
          <p:blipFill>
            <a:blip r:embed="rId2"/>
            <a:srcRect l="3573" t="50472" r="10720" b="17665"/>
            <a:stretch/>
          </p:blipFill>
          <p:spPr>
            <a:xfrm>
              <a:off x="34920" y="3463920"/>
              <a:ext cx="61927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291560" y="4132080"/>
              <a:ext cx="12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66ff"/>
                  </a:solidFill>
                  <a:latin typeface="Tempus Sans ITC"/>
                </a:rPr>
                <a:t>p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4298760" y="330336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376" name=""/>
          <p:cNvSpPr/>
          <p:nvPr/>
        </p:nvSpPr>
        <p:spPr>
          <a:xfrm>
            <a:off x="1377720" y="1341360"/>
            <a:ext cx="16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Tempus Sans ITC"/>
              </a:rPr>
              <a:t>0.5xN</a:t>
            </a:r>
            <a:r>
              <a:rPr b="0" lang="en-GB" sz="3200" spc="-1" strike="noStrike" baseline="30000">
                <a:solidFill>
                  <a:srgbClr val="00cc00"/>
                </a:solidFill>
                <a:latin typeface="Tempus Sans ITC"/>
              </a:rPr>
              <a:t>-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26360" y="5157720"/>
            <a:ext cx="18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empus Sans ITC"/>
              </a:rPr>
              <a:t>0.4xN</a:t>
            </a:r>
            <a:r>
              <a:rPr b="0" lang="en-GB" sz="3200" spc="-1" strike="noStrike" baseline="30000">
                <a:solidFill>
                  <a:srgbClr val="0066ff"/>
                </a:solidFill>
                <a:latin typeface="Tempus Sans ITC"/>
              </a:rPr>
              <a:t>-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8840" y="1079640"/>
            <a:ext cx="309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to reach 5% @ N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of the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we need to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another 5% effect !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00720" y="42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Strong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empus Sans ITC"/>
              </a:rPr>
              <a:t>on the p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003280" y="3789360"/>
            <a:ext cx="1584360" cy="151128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94720" y="342900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(0.05</a:t>
            </a:r>
            <a:r>
              <a:rPr b="0" lang="en-US" sz="2000" spc="-1" strike="noStrike" baseline="30000">
                <a:solidFill>
                  <a:srgbClr val="cc3399"/>
                </a:solidFill>
                <a:latin typeface="Tempus Sans ITC"/>
              </a:rPr>
              <a:t>2 </a:t>
            </a: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+0.05</a:t>
            </a:r>
            <a:r>
              <a:rPr b="0" lang="en-US" sz="2000" spc="-1" strike="noStrike" baseline="30000">
                <a:solidFill>
                  <a:srgbClr val="cc3399"/>
                </a:solidFill>
                <a:latin typeface="Tempus Sans ITC"/>
              </a:rPr>
              <a:t>2</a:t>
            </a: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)</a:t>
            </a:r>
            <a:r>
              <a:rPr b="0" lang="en-US" sz="2000" spc="-1" strike="noStrike" baseline="30000">
                <a:solidFill>
                  <a:srgbClr val="cc3399"/>
                </a:solidFill>
                <a:latin typeface="Tempus Sans ITC"/>
              </a:rPr>
              <a:t>1/2</a:t>
            </a: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(50)</a:t>
            </a:r>
            <a:r>
              <a:rPr b="0" lang="en-US" sz="2000" spc="-1" strike="noStrike" baseline="30000">
                <a:solidFill>
                  <a:srgbClr val="cc3399"/>
                </a:solidFill>
                <a:latin typeface="Tempus Sans ITC"/>
              </a:rPr>
              <a:t>1/2</a:t>
            </a: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/N</a:t>
            </a:r>
            <a:r>
              <a:rPr b="0" lang="en-US" sz="2000" spc="-1" strike="noStrike" baseline="30000">
                <a:solidFill>
                  <a:srgbClr val="cc3399"/>
                </a:solidFill>
                <a:latin typeface="Tempus Sans ITC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148360" y="2997000"/>
            <a:ext cx="1079280" cy="43164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69240" y="27241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cc3399"/>
                </a:solidFill>
                <a:latin typeface="Tempus Sans ITC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4400" y="5634000"/>
            <a:ext cx="191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empus Sans ITC"/>
              </a:rPr>
              <a:t>drift</a:t>
            </a: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 &lt; 8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rcRect l="3573" t="22712" r="3573" b="20189"/>
          <a:stretch/>
        </p:blipFill>
        <p:spPr>
          <a:xfrm>
            <a:off x="1187280" y="836640"/>
            <a:ext cx="5832720" cy="5078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055040" y="38862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empus Sans ITC"/>
              </a:rPr>
              <a:t>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353040" y="155736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u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370400" y="5877000"/>
                <a:ext cx="2058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EA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XP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rcRect l="3573" t="22712" r="7147" b="21198"/>
          <a:stretch/>
        </p:blipFill>
        <p:spPr>
          <a:xfrm>
            <a:off x="1476360" y="1312920"/>
            <a:ext cx="5616720" cy="4995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31840" y="214200"/>
            <a:ext cx="880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empus Sans ITC"/>
              </a:rPr>
              <a:t>How is the distribution of  N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empus Sans ITC"/>
              </a:rPr>
              <a:t>samples</a:t>
            </a:r>
            <a:r>
              <a:rPr b="0" lang="en-US" sz="3200" spc="-1" strike="noStrike">
                <a:solidFill>
                  <a:srgbClr val="0066ff"/>
                </a:solidFill>
                <a:latin typeface="Tempus Sans ITC"/>
              </a:rPr>
              <a:t> affected by the cut on drift tim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6262560"/>
            <a:ext cx="140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empus Sans ITC"/>
              </a:rPr>
              <a:t>N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empus Sans ITC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924000" y="522936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89680" y="475128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without th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771280" y="3789360"/>
            <a:ext cx="5050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96080" y="3311640"/>
            <a:ext cx="33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with the cu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mpus Sans ITC"/>
              </a:rPr>
              <a:t>150ns &lt; tdrift &lt; 8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21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analysis : BR measur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488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7920"/>
            <a:ext cx="7483320" cy="457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tag mechanism: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iven an identified 2 body K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ecay on one emisphe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handle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then we look at K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ecay on the other sid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sig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g decay must hav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iggered by 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vents so to cancel ou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misphere separa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ly EM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gger must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so th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cluster of the K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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decay can 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ing tw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djacent trigger se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ood efficiency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uto triggering tag typ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top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llow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ood systematic che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delta_pich" descr=""/>
          <p:cNvPicPr/>
          <p:nvPr/>
        </p:nvPicPr>
        <p:blipFill>
          <a:blip r:embed="rId1"/>
          <a:srcRect l="1998" t="7998" r="7998" b="51259"/>
          <a:stretch/>
        </p:blipFill>
        <p:spPr>
          <a:xfrm>
            <a:off x="152280" y="167652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95280" y="260280"/>
            <a:ext cx="6912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5280" y="260280"/>
            <a:ext cx="66978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e3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decay</a:t>
            </a: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&amp; K momentum extrapolation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momentum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32360" y="1268280"/>
            <a:ext cx="403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results obtained are based on a toy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valuation without using the info from the charged clu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tarting point for 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fit constrained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4292640"/>
            <a:ext cx="4321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ood resolution on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s need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Correctly evaluate the </a:t>
            </a:r>
            <a:r>
              <a:rPr b="0" lang="it-IT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Comic Sans MS"/>
              </a:rPr>
              <a:t>decay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with respect of charged pion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Reject the k</a:t>
            </a:r>
            <a:r>
              <a:rPr b="0" lang="it-IT" sz="1800" spc="-1" strike="noStrike" baseline="-25000">
                <a:solidFill>
                  <a:srgbClr val="333399"/>
                </a:solidFill>
                <a:latin typeface="Comic Sans MS"/>
              </a:rPr>
              <a:t>l3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decay using the position and the time of the 4th cluster ( should be the charged one…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9520" y="5181480"/>
            <a:ext cx="1733400" cy="39888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p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M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859280" y="2637000"/>
            <a:ext cx="3600360" cy="3384360"/>
            <a:chOff x="4859280" y="2637000"/>
            <a:chExt cx="3600360" cy="3384360"/>
          </a:xfrm>
        </p:grpSpPr>
        <p:grpSp>
          <p:nvGrpSpPr>
            <p:cNvPr id="403" name=""/>
            <p:cNvGrpSpPr/>
            <p:nvPr/>
          </p:nvGrpSpPr>
          <p:grpSpPr>
            <a:xfrm>
              <a:off x="4859280" y="2637000"/>
              <a:ext cx="3600360" cy="3384360"/>
              <a:chOff x="4859280" y="2637000"/>
              <a:chExt cx="3600360" cy="3384360"/>
            </a:xfrm>
          </p:grpSpPr>
          <p:pic>
            <p:nvPicPr>
              <p:cNvPr id="404" name="" descr=""/>
              <p:cNvPicPr/>
              <p:nvPr/>
            </p:nvPicPr>
            <p:blipFill>
              <a:blip r:embed="rId2"/>
              <a:srcRect l="21851" t="24483" r="15938" b="13468"/>
              <a:stretch/>
            </p:blipFill>
            <p:spPr>
              <a:xfrm>
                <a:off x="4859280" y="2637000"/>
                <a:ext cx="3600360" cy="33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7448400" y="462672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854120" y="4162680"/>
                <a:ext cx="36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9900"/>
                    </a:solidFill>
                    <a:latin typeface="Comic Sans MS"/>
                  </a:rPr>
                  <a:t>t</a:t>
                </a:r>
                <a:r>
                  <a:rPr b="0" lang="it-IT" sz="2400" spc="-1" strike="noStrike" baseline="-25000">
                    <a:solidFill>
                      <a:srgbClr val="009900"/>
                    </a:solidFill>
                    <a:latin typeface="Symbol"/>
                    <a:ea typeface="Symbol"/>
                  </a:rPr>
                  <a:t>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71760" y="5290920"/>
                <a:ext cx="362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9900"/>
                    </a:solidFill>
                    <a:latin typeface="Comic Sans MS"/>
                  </a:rPr>
                  <a:t>t</a:t>
                </a:r>
                <a:r>
                  <a:rPr b="0" lang="it-IT" sz="2400" spc="-1" strike="noStrike" baseline="-25000">
                    <a:solidFill>
                      <a:srgbClr val="009900"/>
                    </a:solidFill>
                    <a:latin typeface="Symbol"/>
                    <a:ea typeface="Symbol"/>
                  </a:rPr>
                  <a:t>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13040" y="3233880"/>
                <a:ext cx="44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cc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ccff"/>
                    </a:solidFill>
                    <a:latin typeface="Arial"/>
                    <a:ea typeface="Arial"/>
                  </a:rPr>
                  <a:t>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68160" y="2903400"/>
                <a:ext cx="36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ccff"/>
                    </a:solidFill>
                    <a:latin typeface="Comic Sans MS"/>
                  </a:rPr>
                  <a:t>t</a:t>
                </a:r>
                <a:r>
                  <a:rPr b="0" lang="it-IT" sz="2400" spc="-1" strike="noStrike" baseline="-25000">
                    <a:solidFill>
                      <a:srgbClr val="00ccff"/>
                    </a:solidFill>
                    <a:latin typeface="Symbol"/>
                    <a:ea typeface="Symbol"/>
                  </a:rPr>
                  <a:t>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82560" y="3854160"/>
                <a:ext cx="98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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Comic Sans MS"/>
                  </a:rPr>
                  <a:t> t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4640" y="4361760"/>
                <a:ext cx="365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Comic Sans MS"/>
                  </a:rPr>
                  <a:t>t</a:t>
                </a:r>
                <a:r>
                  <a:rPr b="0" lang="it-IT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51840" y="36331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66ff"/>
                    </a:solidFill>
                    <a:latin typeface="Comic Sans MS"/>
                  </a:rPr>
                  <a:t>p</a:t>
                </a:r>
                <a:r>
                  <a:rPr b="0" lang="it-IT" sz="1800" spc="-1" strike="noStrike" baseline="-25000">
                    <a:solidFill>
                      <a:srgbClr val="0066ff"/>
                    </a:solidFill>
                    <a:latin typeface="Comic Sans MS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56560" y="42901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99ff"/>
                    </a:solidFill>
                    <a:latin typeface="Comic Sans MS"/>
                  </a:rPr>
                  <a:t>p</a:t>
                </a:r>
                <a:r>
                  <a:rPr b="0" lang="it-IT" sz="1800" spc="-1" strike="noStrike" baseline="-25000">
                    <a:solidFill>
                      <a:srgbClr val="ff99ff"/>
                    </a:solidFill>
                    <a:latin typeface="Comic Sans MS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flipH="1" flipV="1">
              <a:off x="6948360" y="3499920"/>
              <a:ext cx="216000" cy="35892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25000" y="314172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-25000">
                  <a:solidFill>
                    <a:srgbClr val="0099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79880" y="1171440"/>
            <a:ext cx="1893960" cy="510120"/>
            <a:chOff x="479880" y="1171440"/>
            <a:chExt cx="1893960" cy="510120"/>
          </a:xfrm>
        </p:grpSpPr>
        <p:sp>
          <p:nvSpPr>
            <p:cNvPr id="417" name=""/>
            <p:cNvSpPr/>
            <p:nvPr/>
          </p:nvSpPr>
          <p:spPr>
            <a:xfrm>
              <a:off x="479880" y="1171440"/>
              <a:ext cx="189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ccff"/>
                  </a:solidFill>
                  <a:latin typeface="Comic Sans MS"/>
                </a:rPr>
                <a:t>p</a:t>
              </a:r>
              <a:r>
                <a:rPr b="0" lang="it-IT" sz="2400" spc="-1" strike="noStrike" baseline="-25000">
                  <a:solidFill>
                    <a:srgbClr val="00ccff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-25000">
                  <a:solidFill>
                    <a:srgbClr val="00ccff"/>
                  </a:solidFill>
                  <a:latin typeface="Times New Roman"/>
                  <a:ea typeface="Times New Roman"/>
                </a:rPr>
                <a:t>±</a:t>
              </a:r>
              <a:r>
                <a:rPr b="0" lang="it-IT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it-IT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ff99ff"/>
                  </a:solidFill>
                  <a:latin typeface="Comic Sans MS"/>
                </a:rPr>
                <a:t>p</a:t>
              </a:r>
              <a:r>
                <a:rPr b="0" lang="it-IT" sz="2400" spc="-1" strike="noStrike" baseline="-25000">
                  <a:solidFill>
                    <a:srgbClr val="ff99ff"/>
                  </a:solidFill>
                  <a:latin typeface="Comic Sans MS"/>
                </a:rPr>
                <a:t>K</a:t>
              </a:r>
              <a:r>
                <a:rPr b="0" lang="it-IT" sz="24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it-IT" sz="2400" spc="-1" strike="noStrike">
                  <a:solidFill>
                    <a:srgbClr val="009900"/>
                  </a:solidFill>
                  <a:latin typeface="Comic Sans MS"/>
                </a:rPr>
                <a:t> p</a:t>
              </a:r>
              <a:r>
                <a:rPr b="0" lang="it-IT" sz="24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</a:t>
              </a:r>
              <a:r>
                <a:rPr b="0" lang="it-IT" sz="2400" spc="-1" strike="noStrike" baseline="-25000">
                  <a:solidFill>
                    <a:srgbClr val="0099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4080" y="1249200"/>
              <a:ext cx="289080" cy="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06440" y="1249200"/>
              <a:ext cx="288720" cy="0"/>
            </a:xfrm>
            <a:prstGeom prst="line">
              <a:avLst/>
            </a:prstGeom>
            <a:ln w="93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54080" y="1249200"/>
              <a:ext cx="28908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49920" y="60930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o be continue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55440" y="2514600"/>
            <a:ext cx="19879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66ccff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66ccff"/>
                </a:solidFill>
                <a:latin typeface="Comic Sans MS"/>
              </a:rPr>
              <a:t>ch</a:t>
            </a:r>
            <a:r>
              <a:rPr b="0" lang="en-US" sz="2000" spc="-1" strike="noStrike" baseline="30000">
                <a:solidFill>
                  <a:srgbClr val="66ccff"/>
                </a:solidFill>
                <a:latin typeface="Comic Sans MS"/>
              </a:rPr>
              <a:t>c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2120" y="444600"/>
            <a:ext cx="7619760" cy="91440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Background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1880" y="1523880"/>
            <a:ext cx="83397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441 pb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following contaminations from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–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ected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(MC)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dditional bckg 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l3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v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 0.6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.1 %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886200" y="2133720"/>
          <a:ext cx="4876920" cy="2422440"/>
        </p:xfrm>
        <a:graphic>
          <a:graphicData uri="http://schemas.openxmlformats.org/drawingml/2006/table">
            <a:tbl>
              <a:tblPr/>
              <a:tblGrid>
                <a:gridCol w="696960"/>
                <a:gridCol w="695160"/>
                <a:gridCol w="696960"/>
                <a:gridCol w="698400"/>
                <a:gridCol w="696960"/>
                <a:gridCol w="695520"/>
                <a:gridCol w="696960"/>
              </a:tblGrid>
              <a:tr h="38916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1520" bIns="306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6267960" y="2287440"/>
            <a:ext cx="2216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bckg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= 120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93840" y="2286000"/>
            <a:ext cx="8701920" cy="4495680"/>
            <a:chOff x="393840" y="2286000"/>
            <a:chExt cx="8701920" cy="4495680"/>
          </a:xfrm>
        </p:grpSpPr>
        <p:grpSp>
          <p:nvGrpSpPr>
            <p:cNvPr id="428" name=""/>
            <p:cNvGrpSpPr/>
            <p:nvPr/>
          </p:nvGrpSpPr>
          <p:grpSpPr>
            <a:xfrm>
              <a:off x="5404320" y="2286000"/>
              <a:ext cx="3206160" cy="4218480"/>
              <a:chOff x="5404320" y="2286000"/>
              <a:chExt cx="3206160" cy="4218480"/>
            </a:xfrm>
          </p:grpSpPr>
          <p:sp>
            <p:nvSpPr>
              <p:cNvPr id="429" name=""/>
              <p:cNvSpPr/>
              <p:nvPr/>
            </p:nvSpPr>
            <p:spPr>
              <a:xfrm>
                <a:off x="5404320" y="5943600"/>
                <a:ext cx="221688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r>
                  <a:rPr b="0" i="1" lang="it-IT" sz="2400" spc="-1" strike="noStrike" baseline="-25000">
                    <a:solidFill>
                      <a:srgbClr val="000000"/>
                    </a:solidFill>
                    <a:latin typeface="Tahoma"/>
                  </a:rPr>
                  <a:t>bckg</a:t>
                </a:r>
                <a:r>
                  <a:rPr b="0" i="1" lang="it-IT" sz="2400" spc="-1" strike="noStrike">
                    <a:solidFill>
                      <a:srgbClr val="000000"/>
                    </a:solidFill>
                    <a:latin typeface="Tahoma"/>
                  </a:rPr>
                  <a:t> = 152</a:t>
                </a:r>
                <a:r>
                  <a:rPr b="0" i="1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r>
                  <a:rPr b="0" i="1" lang="it-IT" sz="2400" spc="-1" strike="noStrike">
                    <a:solidFill>
                      <a:srgbClr val="000000"/>
                    </a:solidFill>
                    <a:latin typeface="Tahoma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24480" y="2286000"/>
                <a:ext cx="228600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" descr=""/>
            <p:cNvPicPr/>
            <p:nvPr/>
          </p:nvPicPr>
          <p:blipFill>
            <a:blip r:embed="rId1"/>
            <a:srcRect l="5969" t="22484" r="9948" b="18268"/>
            <a:stretch/>
          </p:blipFill>
          <p:spPr>
            <a:xfrm>
              <a:off x="393840" y="4290840"/>
              <a:ext cx="379728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4348800" y="4800600"/>
              <a:ext cx="47469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ahoma"/>
                </a:rPr>
                <a:t>bckg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’) = 117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15 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it-IT" sz="2400" spc="-1" strike="noStrike">
                  <a:solidFill>
                    <a:srgbClr val="ff0000"/>
                  </a:solidFill>
                  <a:latin typeface="Tahoma"/>
                </a:rPr>
                <a:t>(MC and Dat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ahoma"/>
                </a:rPr>
                <a:t>bckg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(non-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’) = 35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ahoma"/>
                </a:rPr>
                <a:t>9 </a:t>
              </a:r>
              <a:r>
                <a:rPr b="0" lang="it-I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it-IT" sz="2000" spc="-1" strike="noStrike">
                  <a:solidFill>
                    <a:srgbClr val="ff0000"/>
                  </a:solidFill>
                  <a:latin typeface="Tahoma"/>
                </a:rPr>
                <a:t>(MC and Dat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57200" y="2490840"/>
            <a:ext cx="8305920" cy="563040"/>
          </a:xfrm>
          <a:prstGeom prst="rect">
            <a:avLst/>
          </a:prstGeom>
          <a:solidFill>
            <a:srgbClr val="ffdfb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00"/>
                </a:solidFill>
                <a:uFillTx/>
                <a:latin typeface="Tahoma"/>
              </a:rPr>
              <a:t>Data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441 pb</a:t>
            </a:r>
            <a:r>
              <a:rPr b="1" lang="it-IT" sz="2800" spc="-1" strike="noStrike" baseline="30000">
                <a:solidFill>
                  <a:srgbClr val="000000"/>
                </a:solidFill>
                <a:latin typeface="Tahoma"/>
              </a:rPr>
              <a:t>–1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June 2001 – September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3680" y="321840"/>
            <a:ext cx="6775200" cy="803160"/>
          </a:xfrm>
          <a:prstGeom prst="rect">
            <a:avLst/>
          </a:prstGeom>
          <a:solidFill>
            <a:srgbClr val="ffffc5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Data and Monte Carlo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2560" y="3708360"/>
            <a:ext cx="7834320" cy="2469600"/>
          </a:xfrm>
          <a:prstGeom prst="rect">
            <a:avLst/>
          </a:prstGeom>
          <a:solidFill>
            <a:srgbClr val="eaeaea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6600"/>
                </a:solidFill>
                <a:uFillTx/>
                <a:latin typeface="Tahoma"/>
              </a:rPr>
              <a:t>MC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1" lang="it-IT" sz="2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.6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~9 pb</a:t>
            </a:r>
            <a:r>
              <a:rPr b="0" lang="it-IT" sz="2400" spc="-1" strike="noStrike" baseline="30000">
                <a:solidFill>
                  <a:srgbClr val="80808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.0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Ŧ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~3.2 fb</a:t>
            </a:r>
            <a:r>
              <a:rPr b="0" lang="it-IT" sz="2400" spc="-1" strike="noStrike" baseline="30000">
                <a:solidFill>
                  <a:srgbClr val="80808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.0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Ŧ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l   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~380 pb</a:t>
            </a:r>
            <a:r>
              <a:rPr b="0" lang="it-IT" sz="2400" spc="-1" strike="noStrike" baseline="30000">
                <a:solidFill>
                  <a:srgbClr val="80808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.2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Ŧ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l   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~82 pb</a:t>
            </a:r>
            <a:r>
              <a:rPr b="0" lang="it-IT" sz="2400" spc="-1" strike="noStrike" baseline="30000">
                <a:solidFill>
                  <a:srgbClr val="80808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.2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–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~100 pb</a:t>
            </a:r>
            <a:r>
              <a:rPr b="0" lang="it-IT" sz="2400" spc="-1" strike="noStrike" baseline="30000">
                <a:solidFill>
                  <a:srgbClr val="808080"/>
                </a:solidFill>
                <a:latin typeface="Tahoma"/>
              </a:rPr>
              <a:t>–1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762120"/>
          </a:xfrm>
          <a:prstGeom prst="rect">
            <a:avLst/>
          </a:prstGeom>
          <a:solidFill>
            <a:srgbClr val="ffffc5"/>
          </a:solidFill>
          <a:ln w="2844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800080"/>
                </a:solidFill>
                <a:latin typeface="Symbol"/>
                <a:ea typeface="Symbol"/>
              </a:rPr>
              <a:t></a:t>
            </a:r>
            <a:r>
              <a:rPr b="0" i="1" lang="it-IT" sz="3600" spc="-1" strike="noStrike">
                <a:solidFill>
                  <a:srgbClr val="800080"/>
                </a:solidFill>
                <a:latin typeface="Tahoma"/>
              </a:rPr>
              <a:t>’</a:t>
            </a:r>
            <a:r>
              <a:rPr b="0" lang="it-IT" sz="36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1371600"/>
            <a:ext cx="815364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dau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&lt; 135 Me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808080"/>
                </a:solidFill>
                <a:latin typeface="Tahoma"/>
              </a:rPr>
              <a:t>in K</a:t>
            </a:r>
            <a:r>
              <a:rPr b="0" lang="it-IT" sz="2000" spc="-1" strike="noStrike" baseline="30000">
                <a:solidFill>
                  <a:srgbClr val="808080"/>
                </a:solidFill>
                <a:latin typeface="Tahoma"/>
              </a:rPr>
              <a:t>±</a:t>
            </a:r>
            <a:r>
              <a:rPr b="0" lang="it-IT" sz="2000" spc="-1" strike="noStrike">
                <a:solidFill>
                  <a:srgbClr val="808080"/>
                </a:solidFill>
                <a:latin typeface="Tahoma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50 MeV &lt; 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lt; 54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KPP0P0FI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ed on 6 contributions: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,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 ,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’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/6 &lt; 5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s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0</a:t>
            </a:r>
            <a:r>
              <a:rPr b="0" lang="it-IT" sz="1800" spc="-1" strike="noStrike" baseline="-25000">
                <a:solidFill>
                  <a:srgbClr val="0099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9999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(s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+s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2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+s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3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)/3 , s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9999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 (p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K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 – p</a:t>
            </a:r>
            <a:r>
              <a:rPr b="0" lang="it-IT" sz="2000" spc="-1" strike="noStrike" baseline="-25000">
                <a:solidFill>
                  <a:srgbClr val="009999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)</a:t>
            </a:r>
            <a:r>
              <a:rPr b="0" lang="it-IT" sz="20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3416400"/>
            <a:ext cx="7619760" cy="761760"/>
          </a:xfrm>
          <a:prstGeom prst="rect">
            <a:avLst/>
          </a:prstGeom>
          <a:solidFill>
            <a:srgbClr val="ffffc5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cc0066"/>
                </a:solidFill>
                <a:latin typeface="Tahoma"/>
              </a:rPr>
              <a:t>K</a:t>
            </a:r>
            <a:r>
              <a:rPr b="0" i="1" lang="it-IT" sz="3600" spc="-1" strike="noStrike" baseline="-25000">
                <a:solidFill>
                  <a:srgbClr val="cc0066"/>
                </a:solidFill>
                <a:latin typeface="Tahoma"/>
              </a:rPr>
              <a:t>e4</a:t>
            </a:r>
            <a:r>
              <a:rPr b="0" i="1" lang="it-IT" sz="3600" spc="-1" strike="noStrike">
                <a:solidFill>
                  <a:srgbClr val="cc0066"/>
                </a:solidFill>
                <a:latin typeface="Tahoma"/>
              </a:rPr>
              <a:t>’ 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232160"/>
            <a:ext cx="861084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cluster associated to the daughter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it-IT" sz="2400" spc="-1" strike="noStrike">
                <a:solidFill>
                  <a:srgbClr val="009999"/>
                </a:solidFill>
                <a:latin typeface="Tahoma"/>
              </a:rPr>
              <a:t>s</a:t>
            </a:r>
            <a:r>
              <a:rPr b="0" lang="it-IT" sz="2400" spc="-1" strike="noStrike" baseline="-25000">
                <a:solidFill>
                  <a:srgbClr val="009999"/>
                </a:solidFill>
                <a:latin typeface="Tahoma"/>
              </a:rPr>
              <a:t>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’ hyp.)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–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MeV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 &lt; 8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Me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KEP0P0NUFI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ed on: 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E conserv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mass hypothe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66"/>
                </a:solidFill>
                <a:latin typeface="Tahoma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missing mas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0,</a:t>
            </a:r>
            <a:r>
              <a:rPr b="0" lang="it-IT" sz="2000" spc="-1" strike="noStrike" baseline="30000">
                <a:solidFill>
                  <a:srgbClr val="66ff66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aughter: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p/E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daughter: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t.o.f.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(not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e4’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/4 &lt; 3.75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,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’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/6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36000" y="13096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69760" y="220968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BR(K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):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332000" y="981000"/>
          <a:ext cx="6135480" cy="4267440"/>
        </p:xfrm>
        <a:graphic>
          <a:graphicData uri="http://schemas.openxmlformats.org/drawingml/2006/table">
            <a:tbl>
              <a:tblPr/>
              <a:tblGrid>
                <a:gridCol w="1439640"/>
                <a:gridCol w="1295640"/>
                <a:gridCol w="1657080"/>
                <a:gridCol w="17431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 (</a:t>
                      </a: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LD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0.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g+4+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t2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0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+4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it-IT" sz="28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pd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0.9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+4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4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~0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0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p+1 , K+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it-IT" sz="2800" spc="-1" strike="noStrike" baseline="-30000">
                          <a:solidFill>
                            <a:srgbClr val="000000"/>
                          </a:solidFill>
                          <a:latin typeface="Tahoma"/>
                        </a:rPr>
                        <a:t>Et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&gt;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+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482040" y="5546880"/>
            <a:ext cx="836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ntrol sample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re selecte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withou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the quantity unde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urities range from 98% to 99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ystematics controlled thru MC (1) or using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hods on dat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96080" y="4038480"/>
            <a:ext cx="533520" cy="30492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46818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Comic Sans MS"/>
              </a:rPr>
              <a:t>e3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: possible Pid for 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1913" t="0" r="0" b="7085"/>
          <a:stretch/>
        </p:blipFill>
        <p:spPr>
          <a:xfrm>
            <a:off x="5580000" y="907920"/>
            <a:ext cx="3208320" cy="5257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236000" y="61545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60720" y="609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4892400" y="47944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P* (MeV/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3933720" y="21513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Mass from ToF (Mev*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83640" y="2781360"/>
            <a:ext cx="576000" cy="57636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01080" y="4221000"/>
            <a:ext cx="503280" cy="129564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1916280"/>
            <a:ext cx="4484520" cy="3111480"/>
          </a:xfrm>
          <a:prstGeom prst="rect">
            <a:avLst/>
          </a:prstGeom>
          <a:solidFill>
            <a:srgbClr val="e8ee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ssible strategies for electron ID relies on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kinematic cuts, Tof, De/dx , different behaviour in ECAL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or a mixture of some of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approach is to use a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lorimet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based separation method to extract the signal and a DC driven separation method to check systematics, or vice vers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with no use of M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 this scheme we start to exploit the DC ADC data collected in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2960" y="3124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572000" y="4149360"/>
            <a:ext cx="79200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0200" y="580536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OF+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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uto trigg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9138" r="8629" b="0"/>
          <a:stretch/>
        </p:blipFill>
        <p:spPr>
          <a:xfrm>
            <a:off x="380880" y="1320840"/>
            <a:ext cx="4572000" cy="454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2680" y="22096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6668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g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82960" y="487692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g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17200" y="4175280"/>
            <a:ext cx="6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33320" y="320040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nergy (M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152388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 energ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can stretch between two adjacent sector. The muon inpinges on the ECAL surface with an angle, going through 2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715000" y="3352680"/>
            <a:ext cx="2666880" cy="2590920"/>
            <a:chOff x="5715000" y="3352680"/>
            <a:chExt cx="2666880" cy="2590920"/>
          </a:xfrm>
        </p:grpSpPr>
        <p:sp>
          <p:nvSpPr>
            <p:cNvPr id="74" name=""/>
            <p:cNvSpPr/>
            <p:nvPr/>
          </p:nvSpPr>
          <p:spPr>
            <a:xfrm>
              <a:off x="5715000" y="3352680"/>
              <a:ext cx="2666880" cy="259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9560" y="3657600"/>
              <a:ext cx="2057040" cy="198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019560" y="4190760"/>
              <a:ext cx="7617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9560" y="4647960"/>
              <a:ext cx="914040" cy="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6280" y="380988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790960" y="4952880"/>
              <a:ext cx="228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0960" y="4267080"/>
              <a:ext cx="228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464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1160" y="4245120"/>
              <a:ext cx="303480" cy="81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847" y="2615"/>
                  </a:moveTo>
                  <a:arcTo wR="10800" hR="10800" stAng="-2956367" swAng="29563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847" y="2615"/>
                  </a:moveTo>
                  <a:arcTo wR="10800" hR="10800" stAng="-2956367" swAng="295636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70560" y="5437080"/>
            <a:ext cx="6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03920" y="4251240"/>
            <a:ext cx="68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2895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g sta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143000"/>
            <a:ext cx="472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quest to have a clean “handle” (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ean 2 body decay auto triggering ) to study the K decay on the other side reduce our analysis sample. We evaluated our yeld considering “signal” any K decay in FV with any charged track attach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47800" y="3619440"/>
          <a:ext cx="6172200" cy="247320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1218960"/>
                <a:gridCol w="1219320"/>
                <a:gridCol w="1219320"/>
              </a:tblGrid>
              <a:tr h="73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/pb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trig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pb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signal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/pb</a:t>
                      </a:r>
                      <a:r>
                        <a:rPr b="0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signal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0pb</a:t>
                      </a:r>
                      <a:r>
                        <a:rPr b="0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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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7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5729760" y="1052640"/>
            <a:ext cx="275760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SIGNAL 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70 MeV &lt; P</a:t>
            </a:r>
            <a:r>
              <a:rPr b="0" lang="en-US" sz="2000" spc="-1" strike="noStrike" baseline="-25000">
                <a:solidFill>
                  <a:srgbClr val="339966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&lt; 13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20 cm &gt; |z</a:t>
            </a:r>
            <a:r>
              <a:rPr b="0" lang="en-US" sz="2000" spc="-1" strike="noStrike" baseline="-25000">
                <a:solidFill>
                  <a:srgbClr val="339966"/>
                </a:solidFill>
                <a:latin typeface="Times New Roman"/>
              </a:rPr>
              <a:t>ip</a:t>
            </a: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10 cm &gt; R</a:t>
            </a:r>
            <a:r>
              <a:rPr b="0" lang="en-US" sz="2000" spc="-1" strike="noStrike" baseline="-25000">
                <a:solidFill>
                  <a:srgbClr val="339966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40 cm &lt; R</a:t>
            </a:r>
            <a:r>
              <a:rPr b="0" lang="en-US" sz="2000" spc="-1" strike="noStrike" baseline="-25000">
                <a:solidFill>
                  <a:srgbClr val="339966"/>
                </a:solidFill>
                <a:latin typeface="Times New Roman"/>
              </a:rPr>
              <a:t>vertex</a:t>
            </a:r>
            <a:r>
              <a:rPr b="0" lang="en-US" sz="2000" spc="-1" strike="noStrike">
                <a:solidFill>
                  <a:srgbClr val="339966"/>
                </a:solidFill>
                <a:latin typeface="Times New Roman"/>
              </a:rPr>
              <a:t> &lt; 15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76320" y="4629240"/>
            <a:ext cx="150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X BR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Comic Sans MS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9440" y="2776680"/>
            <a:ext cx="6839280" cy="383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2-tracks vertex in DC involving the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elix distance between the two tracks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rst/last hit and the vertex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2v &lt; 5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arged product track momentu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|p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dau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| &lt; 135 Me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n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i="1" lang="it-IT" sz="2400" spc="-1" strike="noStrike">
                <a:solidFill>
                  <a:srgbClr val="006600"/>
                </a:solidFill>
                <a:latin typeface="Tahoma"/>
              </a:rPr>
              <a:t>ontim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” non-tag cluster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&gt;1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rom the vertex</a:t>
            </a:r>
            <a:r>
              <a:rPr b="0" lang="it-IT" sz="2000" spc="-1" strike="noStrike">
                <a:solidFill>
                  <a:srgbClr val="006600"/>
                </a:solidFill>
                <a:latin typeface="Tahoma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(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L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/c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&lt;3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Symbol"/>
                <a:ea typeface="Symbol"/>
              </a:rPr>
              <a:t></a:t>
            </a:r>
            <a:r>
              <a:rPr b="1" lang="it-IT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Tahoma"/>
              </a:rPr>
              <a:t>i,j=1,..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ergy sum: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&lt; 450 MeV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33360"/>
            <a:ext cx="648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BR(K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 2001-02 statistics has been used. To avoid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statistical correlatio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between control samples and signal, </a:t>
            </a:r>
            <a:r>
              <a:rPr b="0" lang="it-IT" sz="2000" spc="-1" strike="noStrike">
                <a:solidFill>
                  <a:srgbClr val="009999"/>
                </a:solidFill>
                <a:latin typeface="Tahoma"/>
              </a:rPr>
              <a:t>240 out of 411 pb-1 are used for the control sample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nd the rest for the signal measu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35160" y="4797360"/>
            <a:ext cx="1068120" cy="520560"/>
            <a:chOff x="335160" y="4797360"/>
            <a:chExt cx="1068120" cy="520560"/>
          </a:xfrm>
        </p:grpSpPr>
        <p:sp>
          <p:nvSpPr>
            <p:cNvPr id="94" name=""/>
            <p:cNvSpPr/>
            <p:nvPr/>
          </p:nvSpPr>
          <p:spPr>
            <a:xfrm>
              <a:off x="826920" y="5084640"/>
              <a:ext cx="57636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160" y="4797360"/>
              <a:ext cx="48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 baseline="30000">
                  <a:solidFill>
                    <a:srgbClr val="009999"/>
                  </a:solidFill>
                  <a:latin typeface="Arial"/>
                  <a:ea typeface="Arial"/>
                </a:rPr>
                <a:t>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308720" y="2997360"/>
            <a:ext cx="1312920" cy="1462680"/>
            <a:chOff x="7308720" y="2997360"/>
            <a:chExt cx="1312920" cy="1462680"/>
          </a:xfrm>
        </p:grpSpPr>
        <p:grpSp>
          <p:nvGrpSpPr>
            <p:cNvPr id="97" name=""/>
            <p:cNvGrpSpPr/>
            <p:nvPr/>
          </p:nvGrpSpPr>
          <p:grpSpPr>
            <a:xfrm>
              <a:off x="7308720" y="2997360"/>
              <a:ext cx="648000" cy="1439640"/>
              <a:chOff x="7308720" y="2997360"/>
              <a:chExt cx="648000" cy="1439640"/>
            </a:xfrm>
          </p:grpSpPr>
          <p:sp>
            <p:nvSpPr>
              <p:cNvPr id="98" name=""/>
              <p:cNvSpPr/>
              <p:nvPr/>
            </p:nvSpPr>
            <p:spPr>
              <a:xfrm>
                <a:off x="7308720" y="2997360"/>
                <a:ext cx="648000" cy="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08720" y="4437000"/>
                <a:ext cx="648000" cy="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56720" y="2997360"/>
                <a:ext cx="0" cy="1439640"/>
              </a:xfrm>
              <a:prstGeom prst="line">
                <a:avLst/>
              </a:prstGeom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rot="16200000">
              <a:off x="7630200" y="3468600"/>
              <a:ext cx="14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99cc00"/>
                  </a:solidFill>
                  <a:latin typeface="Comic Sans MS"/>
                </a:rPr>
                <a:t>K dec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133120" y="5373720"/>
            <a:ext cx="831600" cy="934920"/>
            <a:chOff x="8133120" y="5373720"/>
            <a:chExt cx="831600" cy="934920"/>
          </a:xfrm>
        </p:grpSpPr>
        <p:grpSp>
          <p:nvGrpSpPr>
            <p:cNvPr id="103" name=""/>
            <p:cNvGrpSpPr/>
            <p:nvPr/>
          </p:nvGrpSpPr>
          <p:grpSpPr>
            <a:xfrm>
              <a:off x="8459640" y="5373720"/>
              <a:ext cx="505080" cy="934920"/>
              <a:chOff x="8459640" y="5373720"/>
              <a:chExt cx="505080" cy="934920"/>
            </a:xfrm>
          </p:grpSpPr>
          <p:sp>
            <p:nvSpPr>
              <p:cNvPr id="104" name=""/>
              <p:cNvSpPr/>
              <p:nvPr/>
            </p:nvSpPr>
            <p:spPr>
              <a:xfrm>
                <a:off x="8459640" y="5373720"/>
                <a:ext cx="5050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459640" y="6308640"/>
                <a:ext cx="5050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4720" y="5373720"/>
                <a:ext cx="0" cy="9349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133120" y="558972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333399"/>
                  </a:solidFill>
                  <a:latin typeface="Comic Sans MS"/>
                </a:rPr>
                <a:t>0</a:t>
              </a:r>
              <a:r>
                <a:rPr b="0" lang="it-IT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333399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402000" cy="237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7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BR(K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40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):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4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ahoma"/>
              </a:rPr>
              <a:t>clu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3080" y="1295280"/>
            <a:ext cx="5256000" cy="53341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99000" y="3575520"/>
            <a:ext cx="5094000" cy="995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8480" y="3903480"/>
            <a:ext cx="5247360" cy="340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422160" y="129600"/>
            <a:ext cx="5246640" cy="6486840"/>
            <a:chOff x="3422160" y="129600"/>
            <a:chExt cx="5246640" cy="6486840"/>
          </a:xfrm>
        </p:grpSpPr>
        <p:sp>
          <p:nvSpPr>
            <p:cNvPr id="114" name=""/>
            <p:cNvSpPr/>
            <p:nvPr/>
          </p:nvSpPr>
          <p:spPr>
            <a:xfrm flipV="1">
              <a:off x="4838040" y="1805400"/>
              <a:ext cx="2889000" cy="4395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81120" y="2310480"/>
              <a:ext cx="3973320" cy="345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922200" y="2892240"/>
              <a:ext cx="4721400" cy="2314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458960" y="1953000"/>
              <a:ext cx="3319920" cy="408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89160" y="2511000"/>
              <a:ext cx="4279680" cy="3054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662080" y="1333080"/>
              <a:ext cx="978480" cy="524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48240" y="3162960"/>
              <a:ext cx="5020560" cy="1797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14880" y="1294560"/>
              <a:ext cx="369360" cy="5321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34560" y="1422000"/>
              <a:ext cx="1640160" cy="50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980240" y="1557000"/>
              <a:ext cx="2260440" cy="484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1000" y="1670040"/>
              <a:ext cx="4495680" cy="464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6680" y="1746000"/>
              <a:ext cx="4343400" cy="4496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2080" y="3727440"/>
              <a:ext cx="457200" cy="45720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620960" y="128880"/>
              <a:ext cx="3162240" cy="384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380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38066"/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4863960" y="1364040"/>
              <a:ext cx="2593440" cy="25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65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65795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558320" y="2202480"/>
              <a:ext cx="1373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13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13972"/>
                </a:path>
              </a:pathLst>
            </a:custGeom>
            <a:noFill/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3880" y="2889000"/>
              <a:ext cx="150840" cy="120600"/>
            </a:xfrm>
            <a:custGeom>
              <a:avLst/>
              <a:gdLst/>
              <a:ahLst/>
              <a:rect l="l" t="t" r="r" b="b"/>
              <a:pathLst>
                <a:path w="95" h="124">
                  <a:moveTo>
                    <a:pt x="15" y="12"/>
                  </a:moveTo>
                  <a:cubicBezTo>
                    <a:pt x="27" y="48"/>
                    <a:pt x="31" y="86"/>
                    <a:pt x="39" y="124"/>
                  </a:cubicBezTo>
                  <a:cubicBezTo>
                    <a:pt x="95" y="105"/>
                    <a:pt x="82" y="124"/>
                    <a:pt x="95" y="84"/>
                  </a:cubicBezTo>
                  <a:cubicBezTo>
                    <a:pt x="87" y="79"/>
                    <a:pt x="78" y="75"/>
                    <a:pt x="71" y="68"/>
                  </a:cubicBezTo>
                  <a:cubicBezTo>
                    <a:pt x="64" y="61"/>
                    <a:pt x="63" y="50"/>
                    <a:pt x="55" y="44"/>
                  </a:cubicBezTo>
                  <a:cubicBezTo>
                    <a:pt x="0" y="0"/>
                    <a:pt x="61" y="81"/>
                    <a:pt x="15" y="12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246280" y="907920"/>
              <a:ext cx="685800" cy="2666880"/>
            </a:xfrm>
            <a:prstGeom prst="line">
              <a:avLst/>
            </a:prstGeom>
            <a:ln w="3240">
              <a:solidFill>
                <a:srgbClr val="009999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422160" y="460800"/>
              <a:ext cx="3647880" cy="441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068" y="5255"/>
                  </a:moveTo>
                  <a:arcTo wR="10800" hR="10800" stAng="-1853415" swAng="3330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068" y="5255"/>
                  </a:moveTo>
                  <a:arcTo wR="10800" hR="10800" stAng="-1853415" swAng="3330968"/>
                </a:path>
              </a:pathLst>
            </a:cu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6480" y="1670040"/>
              <a:ext cx="152640" cy="9036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0" y="1"/>
                  </a:moveTo>
                  <a:cubicBezTo>
                    <a:pt x="19" y="57"/>
                    <a:pt x="0" y="54"/>
                    <a:pt x="40" y="41"/>
                  </a:cubicBezTo>
                  <a:cubicBezTo>
                    <a:pt x="45" y="33"/>
                    <a:pt x="62" y="25"/>
                    <a:pt x="56" y="17"/>
                  </a:cubicBezTo>
                  <a:cubicBezTo>
                    <a:pt x="43" y="0"/>
                    <a:pt x="19" y="1"/>
                    <a:pt x="0" y="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70520" y="3803400"/>
              <a:ext cx="533160" cy="152640"/>
            </a:xfrm>
            <a:prstGeom prst="line">
              <a:avLst/>
            </a:prstGeom>
            <a:ln w="1908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846480" y="3193560"/>
              <a:ext cx="152424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6480" y="3803400"/>
              <a:ext cx="381240" cy="2362320"/>
            </a:xfrm>
            <a:prstGeom prst="line">
              <a:avLst/>
            </a:prstGeom>
            <a:ln w="28440">
              <a:solidFill>
                <a:srgbClr val="66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96840" y="3879720"/>
              <a:ext cx="4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52760" y="37274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K</a:t>
              </a:r>
              <a:r>
                <a:rPr b="0" lang="en-US" sz="1800" spc="-1" strike="noStrike" baseline="30000">
                  <a:solidFill>
                    <a:srgbClr val="808080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91000" y="334152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30000">
                  <a:solidFill>
                    <a:srgbClr val="808080"/>
                  </a:solidFill>
                  <a:latin typeface="Times New Roman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7280" y="23558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8480" y="61657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72" y="13"/>
                  </a:moveTo>
                  <a:cubicBezTo>
                    <a:pt x="64" y="10"/>
                    <a:pt x="55" y="0"/>
                    <a:pt x="48" y="5"/>
                  </a:cubicBezTo>
                  <a:cubicBezTo>
                    <a:pt x="32" y="16"/>
                    <a:pt x="0" y="64"/>
                    <a:pt x="16" y="53"/>
                  </a:cubicBezTo>
                  <a:cubicBezTo>
                    <a:pt x="24" y="48"/>
                    <a:pt x="32" y="42"/>
                    <a:pt x="40" y="37"/>
                  </a:cubicBezTo>
                  <a:cubicBezTo>
                    <a:pt x="45" y="45"/>
                    <a:pt x="47" y="59"/>
                    <a:pt x="56" y="61"/>
                  </a:cubicBezTo>
                  <a:cubicBezTo>
                    <a:pt x="97" y="69"/>
                    <a:pt x="74" y="20"/>
                    <a:pt x="72" y="13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70720" y="3041640"/>
              <a:ext cx="75960" cy="228600"/>
            </a:xfrm>
            <a:custGeom>
              <a:avLst/>
              <a:gdLst/>
              <a:ahLst/>
              <a:rect l="l" t="t" r="r" b="b"/>
              <a:pathLst>
                <a:path w="43" h="120">
                  <a:moveTo>
                    <a:pt x="40" y="92"/>
                  </a:moveTo>
                  <a:cubicBezTo>
                    <a:pt x="35" y="69"/>
                    <a:pt x="23" y="0"/>
                    <a:pt x="0" y="68"/>
                  </a:cubicBezTo>
                  <a:cubicBezTo>
                    <a:pt x="3" y="76"/>
                    <a:pt x="1" y="87"/>
                    <a:pt x="8" y="92"/>
                  </a:cubicBezTo>
                  <a:cubicBezTo>
                    <a:pt x="43" y="120"/>
                    <a:pt x="40" y="106"/>
                    <a:pt x="40" y="92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01760" y="257940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4200" y="37414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 baseline="30000">
                  <a:solidFill>
                    <a:srgbClr val="808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44480" y="3193920"/>
              <a:ext cx="44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64760" y="5403600"/>
              <a:ext cx="44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693840" y="3803400"/>
              <a:ext cx="152280" cy="2438640"/>
            </a:xfrm>
            <a:prstGeom prst="line">
              <a:avLst/>
            </a:prstGeom>
            <a:ln w="9360">
              <a:solidFill>
                <a:srgbClr val="66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480" y="3803400"/>
              <a:ext cx="914400" cy="2210040"/>
            </a:xfrm>
            <a:prstGeom prst="line">
              <a:avLst/>
            </a:prstGeom>
            <a:ln w="9360">
              <a:solidFill>
                <a:srgbClr val="66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936400">
              <a:off x="6695280" y="5866920"/>
              <a:ext cx="1065240" cy="533520"/>
            </a:xfrm>
            <a:prstGeom prst="ellipse">
              <a:avLst/>
            </a:prstGeom>
            <a:noFill/>
            <a:ln w="9360">
              <a:solidFill>
                <a:srgbClr val="66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1120" y="6089400"/>
              <a:ext cx="152280" cy="152640"/>
            </a:xfrm>
            <a:prstGeom prst="rect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1120" y="6089400"/>
              <a:ext cx="152280" cy="152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161120" y="6089400"/>
              <a:ext cx="152280" cy="15264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080" y="3879720"/>
              <a:ext cx="152640" cy="152280"/>
            </a:xfrm>
            <a:prstGeom prst="sun">
              <a:avLst>
                <a:gd name="adj" fmla="val 3055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51960" y="1484280"/>
            <a:ext cx="2751120" cy="8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cl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is comput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5960" y="2565360"/>
            <a:ext cx="1971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[A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clu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a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0.9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ahoma"/>
              </a:rPr>
              <a:t>Result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295280"/>
            <a:ext cx="777240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960" y="3276720"/>
            <a:ext cx="440208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78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01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01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y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908" t="23113" r="12270" b="21380"/>
          <a:stretch/>
        </p:blipFill>
        <p:spPr>
          <a:xfrm>
            <a:off x="5105520" y="2209680"/>
            <a:ext cx="3568680" cy="2819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42400" y="5283360"/>
            <a:ext cx="748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KLOE Memo # 279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KLOE Note # 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reliminary version of the draft i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7280" y="4530600"/>
            <a:ext cx="42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PDG fit 2002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(1.73 </a:t>
            </a:r>
            <a:r>
              <a:rPr b="0" lang="it-IT" sz="2400" spc="-1" strike="noStrike">
                <a:solidFill>
                  <a:srgbClr val="808080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 0.04)%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3080" y="1600200"/>
            <a:ext cx="4835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9933"/>
                </a:solidFill>
                <a:latin typeface="Tahoma"/>
              </a:rPr>
              <a:t>Event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tag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30798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±100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°ta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=(1275±4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’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tag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52253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±230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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ta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=(1992±4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07240" y="1600200"/>
            <a:ext cx="205704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n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441 pb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it-IT" sz="3200" spc="-1" strike="noStrike" baseline="-25000">
                <a:solidFill>
                  <a:srgbClr val="ff0000"/>
                </a:solidFill>
                <a:latin typeface="Arial"/>
              </a:rPr>
              <a:t>e3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analysi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1433" r="1314" b="0"/>
          <a:stretch/>
        </p:blipFill>
        <p:spPr>
          <a:xfrm>
            <a:off x="4427640" y="826920"/>
            <a:ext cx="4572000" cy="4186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76320" y="1268280"/>
            <a:ext cx="4351320" cy="2692440"/>
            <a:chOff x="76320" y="1268280"/>
            <a:chExt cx="4351320" cy="2692440"/>
          </a:xfrm>
        </p:grpSpPr>
        <p:sp>
          <p:nvSpPr>
            <p:cNvPr id="167" name=""/>
            <p:cNvSpPr/>
            <p:nvPr/>
          </p:nvSpPr>
          <p:spPr>
            <a:xfrm>
              <a:off x="179280" y="19270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99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9900"/>
                  </a:solidFill>
                  <a:latin typeface="Comic Sans MS"/>
                </a:rPr>
                <a:t>K decay vert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0920" y="2647800"/>
              <a:ext cx="331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0" lang="en-GB" sz="28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333399"/>
                  </a:solidFill>
                  <a:latin typeface="Comic Sans MS"/>
                </a:rPr>
                <a:t>in EM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20" y="1268280"/>
              <a:ext cx="435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333399"/>
                  </a:solidFill>
                  <a:latin typeface="Comic Sans MS"/>
                </a:rPr>
                <a:t>Triggering tag on one 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3440160"/>
              <a:ext cx="40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9900"/>
                  </a:solidFill>
                  <a:latin typeface="Comic Sans MS"/>
                </a:rPr>
                <a:t>e</a:t>
              </a:r>
              <a:r>
                <a:rPr b="0" lang="en-US" sz="2800" spc="-1" strike="noStrike" baseline="30000">
                  <a:solidFill>
                    <a:srgbClr val="009900"/>
                  </a:solidFill>
                  <a:latin typeface="Times New Roman"/>
                  <a:ea typeface="Times New Roman"/>
                </a:rPr>
                <a:t>±</a:t>
              </a:r>
              <a:r>
                <a:rPr b="0" lang="en-GB" sz="2800" spc="-1" strike="noStrike">
                  <a:solidFill>
                    <a:srgbClr val="009900"/>
                  </a:solidFill>
                  <a:latin typeface="Comic Sans MS"/>
                </a:rPr>
                <a:t> id</a:t>
              </a:r>
              <a:r>
                <a:rPr b="0" lang="en-GB" sz="2800" spc="-1" strike="noStrike">
                  <a:solidFill>
                    <a:srgbClr val="009900"/>
                  </a:solidFill>
                  <a:latin typeface="Times New Roman"/>
                </a:rPr>
                <a:t> :</a:t>
              </a:r>
              <a:r>
                <a:rPr b="0" lang="en-GB" sz="2800" spc="-1" strike="noStrike">
                  <a:solidFill>
                    <a:srgbClr val="009900"/>
                  </a:solidFill>
                  <a:latin typeface="Comic Sans MS"/>
                </a:rPr>
                <a:t>ToF,Kin,De/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887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102280"/>
            <a:ext cx="8642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firs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thir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teps have been studied in the context of the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Comic Sans MS"/>
              </a:rPr>
              <a:t>K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started to develop methods to extract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fficien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ystemati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ther steps (possibly from th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22:02:11Z</dcterms:created>
  <dc:creator>patera</dc:creator>
  <dc:description/>
  <dc:language>en-US</dc:language>
  <cp:lastModifiedBy>patera</cp:lastModifiedBy>
  <dcterms:modified xsi:type="dcterms:W3CDTF">2003-05-29T12:09:21Z</dcterms:modified>
  <cp:revision>25</cp:revision>
  <dc:subject/>
  <dc:title>K charged status report</dc:title>
</cp:coreProperties>
</file>