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1E32-3766-4A84-922D-C61161258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339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BF82-3CAE-4008-B096-FDEB6BD18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9336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F54C-C987-444C-AF74-A64F6F93F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58760" y="990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41200" y="990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339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58760" y="3339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41200" y="3339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5B85-8378-4808-B0D5-CDA6146AD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4036-F1C3-44BF-8BDB-59E01D413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1923-2995-4053-8B74-778B73B14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31A6-9FBC-4514-B61E-8B2FF7CA6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128C-B7A3-4E85-A9BF-1D89A1BBC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7800"/>
            <a:ext cx="8610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7E7C-CD1D-43C3-B260-DDFCC6042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EE11-1331-43C5-AAF8-D20BF9368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9336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514E-9480-46F7-ABCA-AD1BEADE3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339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9C39-2D48-48DE-89B9-8AA2BA54C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658188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it-IT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AE1C-A475-4159-A757-5AE6E9808C48}" type="slidenum">
              <a:rPr b="1" i="1" lang="it-IT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45480" y="6591240"/>
            <a:ext cx="261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00"/>
                </a:solidFill>
                <a:latin typeface="Times New Roman"/>
              </a:rPr>
              <a:t>LNF Scientific Committee</a:t>
            </a:r>
            <a:r>
              <a:rPr b="1" i="1" lang="en-GB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it-IT" sz="1200" spc="-1" strike="noStrike">
                <a:solidFill>
                  <a:srgbClr val="ffff00"/>
                </a:solidFill>
                <a:latin typeface="Times New Roman"/>
              </a:rPr>
              <a:t>1 Dec </a:t>
            </a:r>
            <a:r>
              <a:rPr b="1" i="1" lang="en-GB" sz="1200" spc="-1" strike="noStrike">
                <a:solidFill>
                  <a:srgbClr val="ffff00"/>
                </a:solidFill>
                <a:latin typeface="Times New Roman"/>
              </a:rPr>
              <a:t>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738840"/>
            <a:ext cx="2997360" cy="0"/>
          </a:xfrm>
          <a:prstGeom prst="line">
            <a:avLst/>
          </a:prstGeom>
          <a:ln w="9360">
            <a:solidFill>
              <a:srgbClr val="ee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klogobright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3360" y="4680"/>
            <a:ext cx="1082880" cy="7686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92240" y="685800"/>
            <a:ext cx="7696080" cy="0"/>
          </a:xfrm>
          <a:prstGeom prst="line">
            <a:avLst/>
          </a:prstGeom>
          <a:ln w="9360">
            <a:solidFill>
              <a:srgbClr val="ee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911920" y="6734160"/>
            <a:ext cx="3009960" cy="0"/>
          </a:xfrm>
          <a:prstGeom prst="line">
            <a:avLst/>
          </a:prstGeom>
          <a:ln w="9360">
            <a:solidFill>
              <a:srgbClr val="eed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Analysis of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it-IT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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 decays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573084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Times New Roman"/>
              </a:rPr>
              <a:t>Tommaso Spad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INFN L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3800" y="1590840"/>
            <a:ext cx="751572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Times New Roman"/>
              </a:rPr>
              <a:t>Motivations of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Times New Roman"/>
              </a:rPr>
              <a:t>Analysis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ccccff"/>
                </a:solidFill>
                <a:latin typeface="Times New Roman"/>
              </a:rPr>
              <a:t>Ks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ccccff"/>
                </a:solidFill>
                <a:latin typeface="Times New Roman"/>
              </a:rPr>
              <a:t>Signal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ccccff"/>
                </a:solidFill>
                <a:latin typeface="Times New Roman"/>
              </a:rPr>
              <a:t>Efficiency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Times New Roman"/>
              </a:rPr>
              <a:t>Systematic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ccccff"/>
                </a:solidFill>
                <a:latin typeface="Times New Roman"/>
              </a:rPr>
              <a:t>Uncertainty in efficiency determ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ccccff"/>
                </a:solidFill>
                <a:latin typeface="Times New Roman"/>
              </a:rPr>
              <a:t>Uncertainty in the knowledge of signal and background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Times New Roman"/>
              </a:rPr>
              <a:t>Where we stand (What has been understood and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Times New Roman"/>
              </a:rPr>
              <a:t>What re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680" y="939960"/>
            <a:ext cx="1247400" cy="5205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ccccff"/>
                </a:solidFill>
                <a:uFillTx/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B841-BDDB-4FDC-942A-BF73D6972D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Preliminary results from analysis* of year 2001 data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5851440"/>
            <a:ext cx="5029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eliminary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cccc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(analysis of 170 p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) consistent with previous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495680" y="2406600"/>
            <a:ext cx="4388040" cy="3460680"/>
            <a:chOff x="4495680" y="2406600"/>
            <a:chExt cx="4388040" cy="3460680"/>
          </a:xfrm>
        </p:grpSpPr>
        <p:pic>
          <p:nvPicPr>
            <p:cNvPr id="268" name="vusgr1_rev_3" descr=""/>
            <p:cNvPicPr/>
            <p:nvPr/>
          </p:nvPicPr>
          <p:blipFill>
            <a:blip r:embed="rId1"/>
            <a:stretch/>
          </p:blipFill>
          <p:spPr>
            <a:xfrm>
              <a:off x="4495680" y="2406600"/>
              <a:ext cx="438804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911920" y="4016160"/>
              <a:ext cx="112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Times New Roman"/>
                </a:rPr>
                <a:t>KLOE </a:t>
              </a:r>
              <a:r>
                <a:rPr b="1" i="1" lang="en-US" sz="1800" spc="-1" strike="noStrike">
                  <a:solidFill>
                    <a:srgbClr val="a50021"/>
                  </a:solidFill>
                  <a:latin typeface="Times New Roman"/>
                </a:rPr>
                <a:t>K</a:t>
              </a:r>
              <a:r>
                <a:rPr b="1" i="1" lang="en-US" sz="1800" spc="-1" strike="noStrike" baseline="-25000">
                  <a:solidFill>
                    <a:srgbClr val="a50021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53640" y="2635200"/>
              <a:ext cx="2844000" cy="440640"/>
              <a:chOff x="5453640" y="2635200"/>
              <a:chExt cx="2844000" cy="440640"/>
            </a:xfrm>
          </p:grpSpPr>
          <p:sp>
            <p:nvSpPr>
              <p:cNvPr id="271" name=""/>
              <p:cNvSpPr/>
              <p:nvPr/>
            </p:nvSpPr>
            <p:spPr>
              <a:xfrm>
                <a:off x="5453640" y="2635200"/>
                <a:ext cx="576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227280" y="2635200"/>
                <a:ext cx="564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943680" y="2635200"/>
                <a:ext cx="596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13360" y="2635200"/>
                <a:ext cx="584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02560" y="5192640"/>
              <a:ext cx="1466640" cy="608400"/>
              <a:chOff x="5002560" y="5192640"/>
              <a:chExt cx="1466640" cy="608400"/>
            </a:xfrm>
          </p:grpSpPr>
          <p:sp>
            <p:nvSpPr>
              <p:cNvPr id="276" name=""/>
              <p:cNvSpPr/>
              <p:nvPr/>
            </p:nvSpPr>
            <p:spPr>
              <a:xfrm>
                <a:off x="5002560" y="5325840"/>
                <a:ext cx="146664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us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| </a:t>
                </a: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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72960" y="5192640"/>
                <a:ext cx="52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i="1" lang="en-US" sz="16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5308200" y="1041480"/>
            <a:ext cx="2990520" cy="440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(19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17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6)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28520" y="106668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Charge asymme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1120" y="3336840"/>
            <a:ext cx="21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Extraction of |V</a:t>
            </a:r>
            <a:r>
              <a:rPr b="0" lang="en-US" sz="2000" spc="-1" strike="noStrike" baseline="-25000">
                <a:solidFill>
                  <a:srgbClr val="ccccff"/>
                </a:solidFill>
                <a:latin typeface="Arial"/>
              </a:rPr>
              <a:t>us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|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75200" y="3321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8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-1998720" y="3966120"/>
            <a:ext cx="451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ccff"/>
                </a:solidFill>
                <a:latin typeface="Times New Roman"/>
              </a:rPr>
              <a:t>* </a:t>
            </a:r>
            <a:r>
              <a:rPr b="0" lang="en-GB" sz="1600" spc="-1" strike="noStrike">
                <a:solidFill>
                  <a:srgbClr val="ccccff"/>
                </a:solidFill>
                <a:latin typeface="Times New Roman"/>
              </a:rPr>
              <a:t>http://www.infn.it/thesis/PS/253-Gatti-Dottorato.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76360" y="1698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79200" y="1523880"/>
            <a:ext cx="228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N(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0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0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)/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</a:t>
            </a:r>
            <a:r>
              <a:rPr b="0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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N(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0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0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)/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</a:t>
            </a:r>
            <a:r>
              <a:rPr b="0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50400" y="1952640"/>
            <a:ext cx="244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N(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</a:t>
            </a:r>
            <a:r>
              <a:rPr b="0" lang="it-IT" sz="1600" spc="-1" strike="noStrike">
                <a:solidFill>
                  <a:srgbClr val="ccccff"/>
                </a:solidFill>
                <a:latin typeface="Times New Roman"/>
              </a:rPr>
              <a:t>e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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) /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</a:t>
            </a:r>
            <a:r>
              <a:rPr b="0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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N(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0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0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)/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</a:t>
            </a:r>
            <a:r>
              <a:rPr b="0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0080" y="1909800"/>
            <a:ext cx="2519640" cy="0"/>
          </a:xfrm>
          <a:prstGeom prst="line">
            <a:avLst/>
          </a:prstGeom>
          <a:ln w="158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97560" y="1736640"/>
            <a:ext cx="46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2B6A-F62C-4D5C-B661-A68BF61BF1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Uncertainty in efficiency determinations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21770" t="11529" r="22722" b="58408"/>
          <a:stretch/>
        </p:blipFill>
        <p:spPr>
          <a:xfrm>
            <a:off x="1676520" y="1682640"/>
            <a:ext cx="6095880" cy="46753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880" y="851040"/>
            <a:ext cx="769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Systematic error fro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1) statistics of data and MC control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2) comparison between results from the two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16765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Analysis of data taken in year 2001, L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170 pb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70680" y="3860640"/>
            <a:ext cx="67320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70680" y="3057480"/>
            <a:ext cx="67320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96080" y="3076560"/>
            <a:ext cx="227916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+??% due to 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2508-9B44-486D-B2E2-8F6DBEF4F8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Uncertainty in knowledge of signal and background shapes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698400"/>
            <a:ext cx="769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Not reliability of MC in reproducing background  E</a:t>
            </a:r>
            <a:r>
              <a:rPr b="1" i="1" lang="it-IT" sz="1600" spc="-1" strike="noStrike" baseline="-25000">
                <a:solidFill>
                  <a:srgbClr val="ffff00"/>
                </a:solidFill>
                <a:latin typeface="Arial"/>
              </a:rPr>
              <a:t>miss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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it-IT" sz="1600" spc="-1" strike="noStrike" baseline="-25000">
                <a:solidFill>
                  <a:srgbClr val="ffff00"/>
                </a:solidFill>
                <a:latin typeface="Arial"/>
              </a:rPr>
              <a:t>miss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8692" t="31265" r="3137" b="7771"/>
          <a:stretch/>
        </p:blipFill>
        <p:spPr>
          <a:xfrm>
            <a:off x="4646520" y="1066680"/>
            <a:ext cx="3583080" cy="3359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rcRect l="8692" t="31257" r="3754" b="8148"/>
          <a:stretch/>
        </p:blipFill>
        <p:spPr>
          <a:xfrm>
            <a:off x="1057320" y="1066680"/>
            <a:ext cx="3584520" cy="3362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20880" y="1363680"/>
            <a:ext cx="67284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46440" y="2139840"/>
            <a:ext cx="6717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4600" y="11653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vts/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55840" y="3962520"/>
            <a:ext cx="147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M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2328840"/>
            <a:ext cx="1605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Data Y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bkg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440" y="1784520"/>
            <a:ext cx="906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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02440" y="1784520"/>
            <a:ext cx="906120" cy="520560"/>
            <a:chOff x="5302440" y="1784520"/>
            <a:chExt cx="906120" cy="520560"/>
          </a:xfrm>
        </p:grpSpPr>
        <p:sp>
          <p:nvSpPr>
            <p:cNvPr id="306" name=""/>
            <p:cNvSpPr/>
            <p:nvPr/>
          </p:nvSpPr>
          <p:spPr>
            <a:xfrm>
              <a:off x="5302440" y="1784520"/>
              <a:ext cx="9061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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97600" y="1940040"/>
              <a:ext cx="133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105520" y="2328840"/>
            <a:ext cx="160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ata Y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bkg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1076400"/>
            <a:ext cx="23623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C bkg normalized to data in the ran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20-40)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419720" y="4521240"/>
            <a:ext cx="3809880" cy="1663560"/>
            <a:chOff x="4419720" y="4521240"/>
            <a:chExt cx="3809880" cy="1663560"/>
          </a:xfrm>
        </p:grpSpPr>
        <p:pic>
          <p:nvPicPr>
            <p:cNvPr id="311" name="" descr=""/>
            <p:cNvPicPr/>
            <p:nvPr/>
          </p:nvPicPr>
          <p:blipFill>
            <a:blip r:embed="rId3"/>
            <a:srcRect l="2801" t="3581" r="3738" b="55630"/>
            <a:stretch/>
          </p:blipFill>
          <p:spPr>
            <a:xfrm>
              <a:off x="4419720" y="4521240"/>
              <a:ext cx="380988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324840" y="4622760"/>
              <a:ext cx="1193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56240" y="5559120"/>
              <a:ext cx="1022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28600" y="4702320"/>
            <a:ext cx="4191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Dependence of the number of estimated counts on the higher limit of the fit range is the dominant source of systematic uncertai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029360" y="19432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35800" y="1925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7080" y="6267600"/>
            <a:ext cx="67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Also a sizeable charge dependence of the background distributio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154C-E81E-4498-9ABB-6096FDB95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52280" y="72396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Tried to correct MC for ratio of efficiencies data/MC, tracking, TCA, T0, Trigger, but it does not help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Uncertainty in knowledge of shapes: TOF refinement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8520" y="1308240"/>
            <a:ext cx="80247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Different behavior of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and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in EmC comparing data and M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different paths inside the calorimeter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(d</a:t>
            </a:r>
            <a:r>
              <a:rPr b="1" i="1" lang="it-IT" sz="1600" spc="-1" strike="noStrike" baseline="-25000">
                <a:solidFill>
                  <a:srgbClr val="ffff00"/>
                </a:solidFill>
                <a:latin typeface="Arial"/>
              </a:rPr>
              <a:t>long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different dependence of the time delay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(T</a:t>
            </a:r>
            <a:r>
              <a:rPr b="1" i="1" lang="it-IT" sz="1600" spc="-1" strike="noStrike" baseline="-25000">
                <a:solidFill>
                  <a:srgbClr val="ffff00"/>
                </a:solidFill>
                <a:latin typeface="Arial"/>
              </a:rPr>
              <a:t>cl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 T</a:t>
            </a:r>
            <a:r>
              <a:rPr b="1" i="1" lang="it-IT" sz="1600" spc="-1" strike="noStrike" baseline="-25000">
                <a:solidFill>
                  <a:srgbClr val="ffff00"/>
                </a:solidFill>
                <a:latin typeface="Arial"/>
              </a:rPr>
              <a:t>exp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at fixed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10799" t="6990" r="10854" b="9862"/>
          <a:stretch/>
        </p:blipFill>
        <p:spPr>
          <a:xfrm>
            <a:off x="4984920" y="2155680"/>
            <a:ext cx="4057560" cy="43070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448600" y="2525760"/>
            <a:ext cx="15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50640" y="5746680"/>
            <a:ext cx="13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4480" y="4875120"/>
            <a:ext cx="2139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Times New Roman"/>
              </a:rPr>
              <a:t>exp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= a + b d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Times New Roman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5280" y="455940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Linear parametriz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3400" y="5356080"/>
            <a:ext cx="44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Fit separately in data and MC distinguish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18520" y="6076800"/>
            <a:ext cx="331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impact position: barrel, end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8520" y="6394320"/>
            <a:ext cx="284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momentum: 10 MeV sl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26280" y="5695920"/>
            <a:ext cx="39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particle type: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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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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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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99360" y="212076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on barrel, P=200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27000" y="1434960"/>
            <a:ext cx="5266080" cy="3085920"/>
            <a:chOff x="927000" y="1434960"/>
            <a:chExt cx="5266080" cy="3085920"/>
          </a:xfrm>
        </p:grpSpPr>
        <p:sp>
          <p:nvSpPr>
            <p:cNvPr id="332" name=""/>
            <p:cNvSpPr/>
            <p:nvPr/>
          </p:nvSpPr>
          <p:spPr>
            <a:xfrm flipH="1" flipV="1">
              <a:off x="2210400" y="1434960"/>
              <a:ext cx="3982320" cy="279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61" y="714"/>
                  </a:moveTo>
                  <a:arcTo wR="10800" hR="10800" stAng="-4143201" swAng="3009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61" y="714"/>
                  </a:moveTo>
                  <a:arcTo wR="10800" hR="10800" stAng="-4143201" swAng="3009987"/>
                </a:path>
              </a:pathLst>
            </a:cu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29240" y="4140000"/>
              <a:ext cx="145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ccff"/>
                  </a:solidFill>
                  <a:latin typeface="Arial"/>
                </a:rPr>
                <a:t>Ks decay vert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79280" y="3303360"/>
              <a:ext cx="2928960" cy="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27200" y="25398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27200" y="276840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98600" y="2539800"/>
              <a:ext cx="228600" cy="2286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98600" y="2311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98600" y="2768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38280" y="25779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28880" y="2463480"/>
              <a:ext cx="143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ccff"/>
                  </a:solidFill>
                  <a:latin typeface="Arial"/>
                </a:rPr>
                <a:t>Cluster centro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1841400" y="2387160"/>
              <a:ext cx="457200" cy="90324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082240" y="2628720"/>
              <a:ext cx="38124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82600" y="2844720"/>
              <a:ext cx="228600" cy="45720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77960" y="2844720"/>
              <a:ext cx="60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00"/>
                  </a:solidFill>
                  <a:latin typeface="Arial"/>
                </a:rPr>
                <a:t>d</a:t>
              </a:r>
              <a:r>
                <a:rPr b="0" lang="it-IT" sz="2000" spc="-1" strike="noStrike" baseline="-25000">
                  <a:solidFill>
                    <a:srgbClr val="ffff00"/>
                  </a:solidFill>
                  <a:latin typeface="Arial"/>
                </a:rPr>
                <a:t>lo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27000" y="2158920"/>
              <a:ext cx="3429000" cy="236196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26280" y="29462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ccff"/>
                  </a:solidFill>
                  <a:latin typeface="Arial"/>
                </a:rPr>
                <a:t>E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23120" y="336528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ccff"/>
                  </a:solidFill>
                  <a:latin typeface="Arial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1040" y="3606480"/>
              <a:ext cx="121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ccff"/>
                  </a:solidFill>
                  <a:latin typeface="Arial"/>
                </a:rPr>
                <a:t>Paritcle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E1BF-C509-43CC-8AF2-C94EAFE6FC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Uncertainty in knowledge of shapes: TOF parametrization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90640" y="838080"/>
            <a:ext cx="62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In the end, get a parametrization with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O(100ps) accuracy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, merely using average values of the fitted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rcRect l="4165" t="46712" r="38736" b="16094"/>
          <a:stretch/>
        </p:blipFill>
        <p:spPr>
          <a:xfrm>
            <a:off x="4229280" y="1676520"/>
            <a:ext cx="4800600" cy="4419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113800" y="17463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C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06160" y="5410080"/>
            <a:ext cx="111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rcRect l="4202" t="46702" r="38106" b="16333"/>
          <a:stretch/>
        </p:blipFill>
        <p:spPr>
          <a:xfrm>
            <a:off x="114480" y="1676520"/>
            <a:ext cx="4876560" cy="44164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632400" y="5410080"/>
            <a:ext cx="111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-272520" y="5076360"/>
            <a:ext cx="136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56520" y="1752480"/>
            <a:ext cx="11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3352680"/>
            <a:ext cx="990720" cy="762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975440" y="3352680"/>
            <a:ext cx="990720" cy="762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8055-B4CF-4404-9130-670450D8ED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Uncertainty in knowledge of shapes: inclusion of radiation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90640" y="914400"/>
            <a:ext cx="802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Radiative modes: simulation at O(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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), IR finite, without any cutoff in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15120" y="1603440"/>
            <a:ext cx="1680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BR(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L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(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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06920" y="1641600"/>
            <a:ext cx="34290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05320" y="140976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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0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5230" t="24048" r="11109" b="16764"/>
          <a:stretch/>
        </p:blipFill>
        <p:spPr>
          <a:xfrm>
            <a:off x="5029200" y="19810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250320" y="46227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2280" y="1298520"/>
            <a:ext cx="3696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BR(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L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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; E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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&gt; 30 MeV,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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e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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&gt; 20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4600" y="1603440"/>
            <a:ext cx="158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BR(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(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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6040" y="1641600"/>
            <a:ext cx="256536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71440" y="140976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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0.2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" y="1298520"/>
            <a:ext cx="2747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BR(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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; E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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&gt; 50 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rcRect l="1729" t="31464" r="0" b="0"/>
          <a:stretch/>
        </p:blipFill>
        <p:spPr>
          <a:xfrm>
            <a:off x="380880" y="198108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221120" y="4622760"/>
            <a:ext cx="11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0.2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79280" y="2247840"/>
            <a:ext cx="101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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25800" y="2282760"/>
            <a:ext cx="111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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6984-81FD-4007-B316-7FE4C5B5E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rcRect l="7729" t="46710" r="38727" b="12467"/>
          <a:stretch/>
        </p:blipFill>
        <p:spPr>
          <a:xfrm>
            <a:off x="4616280" y="1600200"/>
            <a:ext cx="4527720" cy="4876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New estimate of the number of signal events – </a:t>
            </a:r>
            <a:r>
              <a:rPr b="1" i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i="1" lang="it-IT" sz="2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i="1" lang="it-IT" sz="2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r>
              <a:rPr b="1" i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8360" y="838080"/>
            <a:ext cx="802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Inclusion of events with one </a:t>
            </a:r>
            <a:r>
              <a:rPr b="1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 in the final state and refinement of TOF estimates better significantly data/MC agreement for both signal and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rcRect l="7729" t="46710" r="38727" b="12467"/>
          <a:stretch/>
        </p:blipFill>
        <p:spPr>
          <a:xfrm>
            <a:off x="4618080" y="1600200"/>
            <a:ext cx="4525920" cy="48769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rcRect l="7729" t="46710" r="38727" b="12467"/>
          <a:stretch/>
        </p:blipFill>
        <p:spPr>
          <a:xfrm>
            <a:off x="38160" y="1612800"/>
            <a:ext cx="4510080" cy="4859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741240" y="3011400"/>
            <a:ext cx="1119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9324-67DF-4DBF-BB98-BB21AE36C6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rcRect l="7729" t="46710" r="38727" b="12467"/>
          <a:stretch/>
        </p:blipFill>
        <p:spPr>
          <a:xfrm>
            <a:off x="4597560" y="1617840"/>
            <a:ext cx="4510080" cy="48592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738360" y="838080"/>
            <a:ext cx="802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Inclusion of events with one </a:t>
            </a:r>
            <a:r>
              <a:rPr b="1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 in the final state and refinement of TOF estimates better significantly data/MC agreement for both signal and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rcRect l="10678" t="24364" r="13681" b="17936"/>
          <a:stretch/>
        </p:blipFill>
        <p:spPr>
          <a:xfrm>
            <a:off x="4619520" y="1604880"/>
            <a:ext cx="4498920" cy="4859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New estimate of the number of signal events – </a:t>
            </a:r>
            <a:r>
              <a:rPr b="1" i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i="1" lang="it-IT" sz="2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i="1" lang="it-IT" sz="2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i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rcRect l="7729" t="47126" r="38727" b="12467"/>
          <a:stretch/>
        </p:blipFill>
        <p:spPr>
          <a:xfrm>
            <a:off x="15840" y="1600200"/>
            <a:ext cx="4556160" cy="4859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41240" y="3011400"/>
            <a:ext cx="1119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9AA1-A6C3-46B4-9C43-68D5FFA437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rcRect l="10678" t="25071" r="13681" b="17936"/>
          <a:stretch/>
        </p:blipFill>
        <p:spPr>
          <a:xfrm>
            <a:off x="4587840" y="1539720"/>
            <a:ext cx="4556160" cy="4861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rcRect l="10678" t="25071" r="13681" b="17936"/>
          <a:stretch/>
        </p:blipFill>
        <p:spPr>
          <a:xfrm>
            <a:off x="4587840" y="1539720"/>
            <a:ext cx="4556160" cy="48610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New estimate of the number of signal events – </a:t>
            </a:r>
            <a:r>
              <a:rPr b="1" i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i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8360" y="838080"/>
            <a:ext cx="802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Inclusion of events with one </a:t>
            </a:r>
            <a:r>
              <a:rPr b="1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 in the final state and refinement of TOF estimates better significantly data/MC agreement for both signal and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rcRect l="9629" t="25071" r="13681" b="17936"/>
          <a:stretch/>
        </p:blipFill>
        <p:spPr>
          <a:xfrm>
            <a:off x="12600" y="1546200"/>
            <a:ext cx="4613400" cy="48546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817560" y="2971800"/>
            <a:ext cx="1119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8CA5-39BF-4743-B260-6A0AA1E264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New estimate of the number of signal events 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1035000"/>
            <a:ext cx="802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Improvement in fit stability as upper limit of fit range var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rcRect l="0" t="29939" r="2818" b="35444"/>
          <a:stretch/>
        </p:blipFill>
        <p:spPr>
          <a:xfrm>
            <a:off x="4267080" y="1371600"/>
            <a:ext cx="4813560" cy="24289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rcRect l="0" t="29972" r="0" b="35720"/>
          <a:stretch/>
        </p:blipFill>
        <p:spPr>
          <a:xfrm>
            <a:off x="4213080" y="4111560"/>
            <a:ext cx="4867560" cy="23655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rcRect l="7729" t="46710" r="38727" b="12467"/>
          <a:stretch/>
        </p:blipFill>
        <p:spPr>
          <a:xfrm>
            <a:off x="789120" y="1371600"/>
            <a:ext cx="2334960" cy="25146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rcRect l="7729" t="46710" r="38727" b="12467"/>
          <a:stretch/>
        </p:blipFill>
        <p:spPr>
          <a:xfrm>
            <a:off x="787320" y="4114800"/>
            <a:ext cx="233388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52E5-EB42-43F7-9245-E409AC2D8E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Motivations I – study of CPT violation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3760" y="969840"/>
            <a:ext cx="56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1) Measure charge asimmetry to test CPT invari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7560" y="3733920"/>
            <a:ext cx="8378280" cy="831960"/>
            <a:chOff x="277560" y="3733920"/>
            <a:chExt cx="8378280" cy="831960"/>
          </a:xfrm>
        </p:grpSpPr>
        <p:grpSp>
          <p:nvGrpSpPr>
            <p:cNvPr id="51" name=""/>
            <p:cNvGrpSpPr/>
            <p:nvPr/>
          </p:nvGrpSpPr>
          <p:grpSpPr>
            <a:xfrm>
              <a:off x="277560" y="3733920"/>
              <a:ext cx="2846160" cy="825120"/>
              <a:chOff x="277560" y="3733920"/>
              <a:chExt cx="2846160" cy="825120"/>
            </a:xfrm>
          </p:grpSpPr>
          <p:sp>
            <p:nvSpPr>
              <p:cNvPr id="52" name=""/>
              <p:cNvSpPr/>
              <p:nvPr/>
            </p:nvSpPr>
            <p:spPr>
              <a:xfrm>
                <a:off x="277560" y="3968640"/>
                <a:ext cx="70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A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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1880" y="3733920"/>
                <a:ext cx="22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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800" spc="-1" strike="noStrike" baseline="30000">
                    <a:solidFill>
                      <a:srgbClr val="ccccff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e</a:t>
                </a:r>
                <a:r>
                  <a:rPr b="0" lang="en-US" sz="1800" spc="-1" strike="noStrike" baseline="30000">
                    <a:solidFill>
                      <a:srgbClr val="ccccff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</a:t>
                </a:r>
                <a:r>
                  <a:rPr b="0" lang="it-IT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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800" spc="-1" strike="noStrike" baseline="30000">
                    <a:solidFill>
                      <a:srgbClr val="ccccff"/>
                    </a:solidFill>
                    <a:latin typeface="Symbol"/>
                    <a:ea typeface="Symbol"/>
                  </a:rPr>
                  <a:t></a:t>
                </a: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e</a:t>
                </a:r>
                <a:r>
                  <a:rPr b="0" lang="en-US" sz="1800" spc="-1" strike="noStrike" baseline="30000">
                    <a:solidFill>
                      <a:srgbClr val="ccccff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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93080" y="4190760"/>
                <a:ext cx="228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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800" spc="-1" strike="noStrike" baseline="30000">
                    <a:solidFill>
                      <a:srgbClr val="ccccff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e</a:t>
                </a:r>
                <a:r>
                  <a:rPr b="0" lang="en-US" sz="1800" spc="-1" strike="noStrike" baseline="30000">
                    <a:solidFill>
                      <a:srgbClr val="ccccff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</a:t>
                </a:r>
                <a:r>
                  <a:rPr b="0" lang="it-IT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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800" spc="-1" strike="noStrike" baseline="30000">
                    <a:solidFill>
                      <a:srgbClr val="ccccff"/>
                    </a:solidFill>
                    <a:latin typeface="Symbol"/>
                    <a:ea typeface="Symbol"/>
                  </a:rPr>
                  <a:t></a:t>
                </a: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e</a:t>
                </a:r>
                <a:r>
                  <a:rPr b="0" lang="en-US" sz="1800" spc="-1" strike="noStrike" baseline="30000">
                    <a:solidFill>
                      <a:srgbClr val="ccccff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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39600" y="4141800"/>
                <a:ext cx="2184120" cy="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190760" y="3733920"/>
              <a:ext cx="4465080" cy="831960"/>
              <a:chOff x="4190760" y="3733920"/>
              <a:chExt cx="4465080" cy="831960"/>
            </a:xfrm>
          </p:grpSpPr>
          <p:sp>
            <p:nvSpPr>
              <p:cNvPr id="57" name=""/>
              <p:cNvSpPr/>
              <p:nvPr/>
            </p:nvSpPr>
            <p:spPr>
              <a:xfrm>
                <a:off x="4300560" y="3733920"/>
                <a:ext cx="4355280" cy="83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Arial"/>
                  </a:rPr>
                  <a:t> = 2(Re</a:t>
                </a: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</a:t>
                </a:r>
                <a:r>
                  <a:rPr b="0" i="1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K  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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Arial"/>
                  </a:rPr>
                  <a:t>Re</a:t>
                </a:r>
                <a:r>
                  <a:rPr b="0" i="1" lang="en-US" sz="1800" spc="-1" strike="noStrike">
                    <a:solidFill>
                      <a:srgbClr val="ffff66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</a:t>
                </a:r>
                <a:r>
                  <a:rPr b="0" i="1" lang="en-US" sz="1800" spc="-1" strike="noStrike" baseline="-25000">
                    <a:solidFill>
                      <a:srgbClr val="ffff66"/>
                    </a:solidFill>
                    <a:latin typeface="Arial"/>
                  </a:rPr>
                  <a:t>K</a:t>
                </a:r>
                <a:r>
                  <a:rPr b="0" i="1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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Arial"/>
                  </a:rPr>
                  <a:t>Re</a:t>
                </a: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 b/a 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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Arial"/>
                  </a:rPr>
                  <a:t>Re </a:t>
                </a:r>
                <a:r>
                  <a:rPr b="0" i="1" lang="en-US" sz="1800" spc="-1" strike="noStrike">
                    <a:solidFill>
                      <a:srgbClr val="ffff66"/>
                    </a:solidFill>
                    <a:latin typeface="Arial"/>
                  </a:rPr>
                  <a:t>d</a:t>
                </a:r>
                <a:r>
                  <a:rPr b="0" lang="en-US" sz="1800" spc="-1" strike="noStrike" baseline="30000">
                    <a:solidFill>
                      <a:srgbClr val="ffff66"/>
                    </a:solidFill>
                    <a:latin typeface="Arial"/>
                  </a:rPr>
                  <a:t>*</a:t>
                </a:r>
                <a:r>
                  <a:rPr b="0" i="1" lang="en-US" sz="1800" spc="-1" strike="noStrike">
                    <a:solidFill>
                      <a:srgbClr val="ffff66"/>
                    </a:solidFill>
                    <a:latin typeface="Arial"/>
                  </a:rPr>
                  <a:t>/a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L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Arial"/>
                  </a:rPr>
                  <a:t> = 2(Re 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</a:t>
                </a:r>
                <a:r>
                  <a:rPr b="0" i="1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K  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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Arial"/>
                  </a:rPr>
                  <a:t>Re 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</a:t>
                </a:r>
                <a:r>
                  <a:rPr b="0" i="1" lang="en-US" sz="1800" spc="-1" strike="noStrike" baseline="-25000">
                    <a:solidFill>
                      <a:srgbClr val="ffff66"/>
                    </a:solidFill>
                    <a:latin typeface="Arial"/>
                  </a:rPr>
                  <a:t>K</a:t>
                </a:r>
                <a:r>
                  <a:rPr b="0" i="1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Arial"/>
                  </a:rPr>
                  <a:t> Re </a:t>
                </a:r>
                <a:r>
                  <a:rPr b="0" i="1" lang="en-US" sz="1800" spc="-1" strike="noStrike">
                    <a:solidFill>
                      <a:srgbClr val="ccccff"/>
                    </a:solidFill>
                    <a:latin typeface="Arial"/>
                  </a:rPr>
                  <a:t>b/a 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1800" spc="-1" strike="noStrike">
                    <a:solidFill>
                      <a:srgbClr val="ffff66"/>
                    </a:solidFill>
                    <a:latin typeface="Arial"/>
                  </a:rPr>
                  <a:t> Re </a:t>
                </a:r>
                <a:r>
                  <a:rPr b="0" i="1" lang="en-US" sz="1800" spc="-1" strike="noStrike">
                    <a:solidFill>
                      <a:srgbClr val="ffff66"/>
                    </a:solidFill>
                    <a:latin typeface="Arial"/>
                  </a:rPr>
                  <a:t>d</a:t>
                </a:r>
                <a:r>
                  <a:rPr b="0" lang="en-US" sz="1800" spc="-1" strike="noStrike" baseline="30000">
                    <a:solidFill>
                      <a:srgbClr val="ffff66"/>
                    </a:solidFill>
                    <a:latin typeface="Arial"/>
                  </a:rPr>
                  <a:t>*</a:t>
                </a:r>
                <a:r>
                  <a:rPr b="0" i="1" lang="en-US" sz="1800" spc="-1" strike="noStrike">
                    <a:solidFill>
                      <a:srgbClr val="ffff66"/>
                    </a:solidFill>
                    <a:latin typeface="Arial"/>
                  </a:rPr>
                  <a:t>/a</a:t>
                </a:r>
                <a:r>
                  <a:rPr b="0" lang="en-US" sz="1800" spc="-1" strike="noStrike">
                    <a:solidFill>
                      <a:srgbClr val="ccccff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190760" y="3782880"/>
                <a:ext cx="228240" cy="685440"/>
              </a:xfrm>
              <a:custGeom>
                <a:avLst/>
                <a:gdLst>
                  <a:gd name="textAreaLeft" fmla="*/ 145800 w 228240"/>
                  <a:gd name="textAreaRight" fmla="*/ 228600 w 228240"/>
                  <a:gd name="textAreaTop" fmla="*/ 17640 h 685440"/>
                  <a:gd name="textAreaBottom" fmla="*/ 667800 h 68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130720" y="4387680"/>
            <a:ext cx="4017960" cy="338760"/>
            <a:chOff x="5130720" y="4387680"/>
            <a:chExt cx="4017960" cy="338760"/>
          </a:xfrm>
        </p:grpSpPr>
        <p:sp>
          <p:nvSpPr>
            <p:cNvPr id="60" name=""/>
            <p:cNvSpPr/>
            <p:nvPr/>
          </p:nvSpPr>
          <p:spPr>
            <a:xfrm>
              <a:off x="6806880" y="4411440"/>
              <a:ext cx="9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ccccff"/>
                  </a:solidFill>
                  <a:latin typeface="Arial"/>
                </a:rPr>
                <a:t>CPT</a:t>
              </a:r>
              <a:r>
                <a:rPr b="0" i="1" lang="en-GB" sz="1400" spc="-1" strike="noStrike">
                  <a:solidFill>
                    <a:srgbClr val="ccccff"/>
                  </a:solidFill>
                  <a:latin typeface="Arial"/>
                </a:rPr>
                <a:t> de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822720" y="4411440"/>
              <a:ext cx="460440" cy="24912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05280" y="4411440"/>
              <a:ext cx="110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ffff66"/>
                  </a:solidFill>
                  <a:latin typeface="Arial"/>
                </a:rPr>
                <a:t>CPT</a:t>
              </a:r>
              <a:r>
                <a:rPr b="0" i="1" lang="en-GB" sz="14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0" i="1" lang="it-IT" sz="1400" spc="-1" strike="noStrike">
                  <a:solidFill>
                    <a:srgbClr val="ffff66"/>
                  </a:solidFill>
                  <a:latin typeface="Arial"/>
                </a:rPr>
                <a:t>mix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746680" y="4425120"/>
              <a:ext cx="457200" cy="22860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30720" y="44193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ccff"/>
                  </a:solidFill>
                  <a:latin typeface="Arial"/>
                </a:rPr>
                <a:t>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197320" y="4466520"/>
              <a:ext cx="266760" cy="19692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21280" y="4414680"/>
              <a:ext cx="142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</a:t>
              </a:r>
              <a:r>
                <a:rPr b="0" i="1" lang="it-IT" sz="1400" spc="-1" strike="noStrike">
                  <a:solidFill>
                    <a:srgbClr val="ffff66"/>
                  </a:solidFill>
                  <a:latin typeface="Arial"/>
                </a:rPr>
                <a:t>S</a:t>
              </a:r>
              <a:r>
                <a:rPr b="0" i="1" lang="it-IT" sz="1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</a:t>
              </a:r>
              <a:r>
                <a:rPr b="0" i="1" lang="it-IT" sz="1400" spc="-1" strike="noStrike">
                  <a:solidFill>
                    <a:srgbClr val="ffff66"/>
                  </a:solidFill>
                  <a:latin typeface="Arial"/>
                </a:rPr>
                <a:t>Q</a:t>
              </a:r>
              <a:r>
                <a:rPr b="0" i="1" lang="en-GB" sz="1400" spc="-1" strike="noStrike">
                  <a:solidFill>
                    <a:srgbClr val="ffff66"/>
                  </a:solidFill>
                  <a:latin typeface="Arial"/>
                </a:rPr>
                <a:t> e</a:t>
              </a:r>
              <a:r>
                <a:rPr b="0" i="1" lang="it-IT" sz="1400" spc="-1" strike="noStrike">
                  <a:solidFill>
                    <a:srgbClr val="ffff66"/>
                  </a:solidFill>
                  <a:latin typeface="Arial"/>
                </a:rPr>
                <a:t> C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556480" y="4387680"/>
              <a:ext cx="460440" cy="2491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949560" y="2666880"/>
            <a:ext cx="10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Symbol"/>
                <a:ea typeface="Symbol"/>
              </a:rPr>
              <a:t></a:t>
            </a:r>
            <a:r>
              <a:rPr b="0" i="1" lang="en-US" sz="16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ccccff"/>
                </a:solidFill>
                <a:latin typeface="Symbol"/>
                <a:ea typeface="Symbol"/>
              </a:rPr>
              <a:t></a:t>
            </a:r>
            <a:r>
              <a:rPr b="0" i="1" lang="en-US" sz="1600" spc="-1" strike="noStrike">
                <a:solidFill>
                  <a:srgbClr val="ccccff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3160" y="1511280"/>
            <a:ext cx="287316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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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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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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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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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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8400" y="197316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8400" y="288288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5560" y="2019240"/>
            <a:ext cx="98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5560" y="2571840"/>
            <a:ext cx="98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187800" y="1371600"/>
            <a:ext cx="1008000" cy="2437920"/>
            <a:chOff x="3187800" y="1371600"/>
            <a:chExt cx="1008000" cy="2437920"/>
          </a:xfrm>
        </p:grpSpPr>
        <p:sp>
          <p:nvSpPr>
            <p:cNvPr id="75" name=""/>
            <p:cNvSpPr/>
            <p:nvPr/>
          </p:nvSpPr>
          <p:spPr>
            <a:xfrm>
              <a:off x="3187800" y="3352680"/>
              <a:ext cx="1008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Times New Roman"/>
                </a:rPr>
                <a:t>C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5080" y="1371600"/>
              <a:ext cx="456840" cy="20570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205080" y="3428640"/>
              <a:ext cx="45684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949560" y="1676520"/>
            <a:ext cx="10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</a:t>
            </a:r>
            <a:r>
              <a:rPr b="0" i="1" lang="it-IT" sz="16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n-GB" sz="16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</a:t>
            </a:r>
            <a:r>
              <a:rPr b="0" i="1" lang="it-IT" sz="1600" spc="-1" strike="noStrike">
                <a:solidFill>
                  <a:srgbClr val="ccccff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889520"/>
            <a:ext cx="396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SM: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it-IT" sz="20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Arial"/>
              </a:rPr>
              <a:t>S</a:t>
            </a:r>
            <a:r>
              <a:rPr b="1" i="1" lang="it-IT" sz="2000" spc="-1" strike="noStrike">
                <a:solidFill>
                  <a:srgbClr val="ffff66"/>
                </a:solidFill>
                <a:latin typeface="Arial"/>
              </a:rPr>
              <a:t> = A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2920" y="5257800"/>
            <a:ext cx="675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TEV ’02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 (3.322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0.058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0.047)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0640" y="6156360"/>
            <a:ext cx="368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cccc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no existing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2920" y="5635800"/>
            <a:ext cx="675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48 ’03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 (3.317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0.070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0.072)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0" y="601992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(preliminary: hep-ex 03050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74800" y="1844640"/>
            <a:ext cx="1607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cccc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cccc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cccc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D06E-34CC-4A94-99F1-8D8E1239D7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New estimate of the number of signal events 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762120"/>
            <a:ext cx="8024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The distance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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PCA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between tracks at PCA to IP discriminates background events with a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decaying to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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before entering the tracking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8707" t="25360" r="2042" b="0"/>
          <a:stretch/>
        </p:blipFill>
        <p:spPr>
          <a:xfrm>
            <a:off x="4952880" y="1819440"/>
            <a:ext cx="3932280" cy="4657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rcRect l="7617" t="30742" r="0" b="0"/>
          <a:stretch/>
        </p:blipFill>
        <p:spPr>
          <a:xfrm>
            <a:off x="390600" y="2200320"/>
            <a:ext cx="3956040" cy="42004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28600" y="1371600"/>
            <a:ext cx="8024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The fit correlation can be lowered cutting on </a:t>
            </a:r>
            <a:r>
              <a:rPr b="1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it-IT" sz="1600" spc="-1" strike="noStrike" baseline="-25000">
                <a:solidFill>
                  <a:srgbClr val="ffff00"/>
                </a:solidFill>
                <a:latin typeface="Arial"/>
              </a:rPr>
              <a:t>PCA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, thus reducing the error on the signal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EE37-0059-4B63-94EE-5348432352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Conclusions – job done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371600"/>
            <a:ext cx="54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Necessary to include correct treatment of radi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" y="83808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what has been understoo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90440" y="17812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1) At this level of statistical accuracy, radiation of photons is able to modify the signal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90440" y="2549520"/>
            <a:ext cx="7239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2) Radiation affects tracks acceptance for the signal at the 1% level (last-minute estimate), and for the normalizing sample at the few per-mil level (estimate included in published result for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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(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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(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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))/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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(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S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Arial"/>
              </a:rPr>
              <a:t>0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Arial"/>
              </a:rPr>
              <a:t>0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346716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Necessary to calculate TOF including the contribution of time delay inside the Em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00" y="472428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...and don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92240" y="5181480"/>
            <a:ext cx="645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A selection in which TOF cuts have been loosened has been run on the entire data set, both for data and 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92240" y="5743440"/>
            <a:ext cx="70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Result: total relative error on signal counts now at 1%, fit rob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92240" y="6048360"/>
            <a:ext cx="6451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The 5 cut values (including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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PCA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) in the analysis have been varied independently in order to choose the opt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93680" y="3736800"/>
            <a:ext cx="7427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1) Main dependence of background spectra on details of pions simulation in EmC (d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long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) is removed, better agreement of data and MC bkg spec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93680" y="4387680"/>
            <a:ext cx="76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2) Selection efficiency for background almost independent on 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4BEC-07AE-4E57-A96E-0891DC56A3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Conclusions – road map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1371600"/>
            <a:ext cx="54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Having chosen the optimal cut valu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240" y="83808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...and what still re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66760" y="179712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1) Run over the control samples to estimate again the efficiencies both at single-particle level (efficiency estimate method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and at the whole-event level (efficiency estimate method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66760" y="2749680"/>
            <a:ext cx="72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2) Use the output to weight MC (efficiency estimate method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68560" y="3276720"/>
            <a:ext cx="72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3) Evaluate track acceptance both for signal and normalizing sample (efficiency estimate method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4038480"/>
            <a:ext cx="54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Check result stability along the data set, et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454032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Explicitly try to identify events with a tagged photon in the final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0548-DC54-454C-84AF-3094D7EF4F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895480" y="3276720"/>
            <a:ext cx="33530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pare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4204-E942-4E84-9B9E-6CF8B8C7AE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Times New Roman"/>
              </a:rPr>
              <a:t>u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from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Times New Roman"/>
              </a:rPr>
              <a:t>3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ecays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76320" y="914400"/>
          <a:ext cx="3962160" cy="2606760"/>
        </p:xfrm>
        <a:graphic>
          <a:graphicData uri="http://schemas.openxmlformats.org/drawingml/2006/table">
            <a:tbl>
              <a:tblPr/>
              <a:tblGrid>
                <a:gridCol w="990360"/>
                <a:gridCol w="1095480"/>
                <a:gridCol w="1111320"/>
                <a:gridCol w="765000"/>
              </a:tblGrid>
              <a:tr h="370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asurements for the extraction of </a:t>
                      </a: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</a:t>
                      </a:r>
                      <a:r>
                        <a:rPr b="0" lang="en-US" sz="1400" spc="-1" strike="noStrike" baseline="-25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</a:t>
                      </a:r>
                      <a:r>
                        <a:rPr b="0" lang="en-US" sz="1400" spc="-1" strike="noStrike" baseline="-25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1400" spc="-1" strike="noStrike" baseline="30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i="1" lang="en-US" sz="1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1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.87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.8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1400" spc="-1" strike="noStrike" baseline="30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i="1" lang="en-US" sz="1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1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8.79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9.1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1400" spc="-1" strike="noStrike" baseline="30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US" sz="1400" spc="-1" strike="noStrike" baseline="-25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.27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.3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1400" spc="-1" strike="noStrike" baseline="30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en-US" sz="1400" spc="-1" strike="noStrike" baseline="-25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.18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.3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0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i="1" lang="en-US" sz="1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(5.17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0.04)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(8.9598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0.0007)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400" spc="-1" strike="noStrike" baseline="-25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(1.2384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0.0024)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50760" y="3962520"/>
            <a:ext cx="4292640" cy="2209680"/>
            <a:chOff x="50760" y="3962520"/>
            <a:chExt cx="4292640" cy="2209680"/>
          </a:xfrm>
        </p:grpSpPr>
        <p:sp>
          <p:nvSpPr>
            <p:cNvPr id="430" name=""/>
            <p:cNvSpPr/>
            <p:nvPr/>
          </p:nvSpPr>
          <p:spPr>
            <a:xfrm>
              <a:off x="50760" y="3962520"/>
              <a:ext cx="429264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2280" y="5664240"/>
              <a:ext cx="403884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|</a:t>
              </a:r>
              <a:r>
                <a:rPr b="1" i="1" lang="en-US" sz="2000" spc="-1" strike="noStrike">
                  <a:solidFill>
                    <a:srgbClr val="00cc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cc00"/>
                  </a:solidFill>
                  <a:latin typeface="Times New Roman"/>
                </a:rPr>
                <a:t>us</a:t>
              </a: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| = 0.2196 </a:t>
              </a:r>
              <a:r>
                <a:rPr b="1" lang="en-US" sz="20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 0.0019</a:t>
              </a:r>
              <a:r>
                <a:rPr b="1" lang="en-US" sz="2000" spc="-1" strike="noStrike" baseline="-25000">
                  <a:solidFill>
                    <a:srgbClr val="00cc00"/>
                  </a:solidFill>
                  <a:latin typeface="Times New Roman"/>
                </a:rPr>
                <a:t>exp</a:t>
              </a: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0.0018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86400" y="4064040"/>
              <a:ext cx="4104360" cy="1453320"/>
              <a:chOff x="86400" y="4064040"/>
              <a:chExt cx="4104360" cy="1453320"/>
            </a:xfrm>
          </p:grpSpPr>
          <p:sp>
            <p:nvSpPr>
              <p:cNvPr id="433" name=""/>
              <p:cNvSpPr/>
              <p:nvPr/>
            </p:nvSpPr>
            <p:spPr>
              <a:xfrm>
                <a:off x="86400" y="4064040"/>
                <a:ext cx="1863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00"/>
                    </a:solidFill>
                    <a:latin typeface="Times New Roman"/>
                  </a:rPr>
                  <a:t>For </a:t>
                </a:r>
                <a:r>
                  <a:rPr b="1" i="1" lang="en-US" sz="2000" spc="-1" strike="noStrike">
                    <a:solidFill>
                      <a:srgbClr val="00cc00"/>
                    </a:solidFill>
                    <a:latin typeface="Times New Roman"/>
                  </a:rPr>
                  <a:t>K</a:t>
                </a:r>
                <a:r>
                  <a:rPr b="1" i="1" lang="en-US" sz="2000" spc="-1" strike="noStrike" baseline="-25000">
                    <a:solidFill>
                      <a:srgbClr val="00cc00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00cc00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cc00"/>
                    </a:solidFill>
                    <a:latin typeface="Times New Roman"/>
                  </a:rPr>
                  <a:t> chann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88920" y="4390560"/>
                    <a:ext cx="4079880" cy="70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R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BR</m:t>
                                </m:r>
                              </m:den>
                            </m:f>
                          </m:e>
                        </m:d>
                        <m:r>
                          <m:t xml:space="preserve">⊕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δτ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e>
                        </m:d>
                        <m:r>
                          <m:t xml:space="preserve">⊕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λ</m:t>
                                    </m:r>
                                  </m:e>
                                  <m:sub>
                                    <m:r>
                                      <m:t xml:space="preserve">+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+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⊕</m:t>
                        </m:r>
                        <m:f>
                          <m:num>
                            <m:sSub>
                              <m:e>
                                <m:r>
                                  <m:t xml:space="preserve">δf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5" name=""/>
              <p:cNvSpPr/>
              <p:nvPr/>
            </p:nvSpPr>
            <p:spPr>
              <a:xfrm rot="5400000">
                <a:off x="2033280" y="3809160"/>
                <a:ext cx="116280" cy="2661120"/>
              </a:xfrm>
              <a:custGeom>
                <a:avLst/>
                <a:gdLst>
                  <a:gd name="textAreaLeft" fmla="*/ 0 w 116280"/>
                  <a:gd name="textAreaRight" fmla="*/ 42120 w 116280"/>
                  <a:gd name="textAreaTop" fmla="*/ 69120 h 2661120"/>
                  <a:gd name="textAreaBottom" fmla="*/ 2592000 h 266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5400000">
                <a:off x="3855600" y="4840200"/>
                <a:ext cx="69120" cy="601200"/>
              </a:xfrm>
              <a:custGeom>
                <a:avLst/>
                <a:gdLst>
                  <a:gd name="textAreaLeft" fmla="*/ 0 w 69120"/>
                  <a:gd name="textAreaRight" fmla="*/ 24840 w 69120"/>
                  <a:gd name="textAreaTop" fmla="*/ 15480 h 601200"/>
                  <a:gd name="textAreaBottom" fmla="*/ 585720 h 601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60480" y="514908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00"/>
                    </a:solidFill>
                    <a:latin typeface="Times New Roman"/>
                  </a:rPr>
                  <a:t>ex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4280" y="51490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Times New Roman"/>
                  </a:rPr>
                  <a:t>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"/>
          <p:cNvSpPr/>
          <p:nvPr/>
        </p:nvSpPr>
        <p:spPr>
          <a:xfrm>
            <a:off x="4495680" y="3733920"/>
            <a:ext cx="464832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Preliminary KLOE results </a:t>
            </a:r>
            <a:r>
              <a:rPr b="1" i="1" lang="en-US" sz="1600" spc="-1" strike="noStrike">
                <a:solidFill>
                  <a:srgbClr val="dddddd"/>
                </a:solidFill>
                <a:latin typeface="Arial"/>
              </a:rPr>
              <a:t>seem to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 confirm previous existing measurements of </a:t>
            </a:r>
            <a:r>
              <a:rPr b="1" i="1" lang="en-US" sz="1600" spc="-1" strike="noStrike">
                <a:solidFill>
                  <a:srgbClr val="dddddd"/>
                </a:solidFill>
                <a:latin typeface="Arial"/>
              </a:rPr>
              <a:t>K</a:t>
            </a:r>
            <a:r>
              <a:rPr b="1" lang="en-US" sz="1600" spc="-1" strike="noStrike" baseline="30000">
                <a:solidFill>
                  <a:srgbClr val="dddddd"/>
                </a:solidFill>
                <a:latin typeface="Arial"/>
              </a:rPr>
              <a:t>0</a:t>
            </a:r>
            <a:r>
              <a:rPr b="1" i="1" lang="en-US" sz="1600" spc="-1" strike="noStrike" baseline="-25000">
                <a:solidFill>
                  <a:srgbClr val="dddddd"/>
                </a:solidFill>
                <a:latin typeface="Arial"/>
              </a:rPr>
              <a:t>e</a:t>
            </a:r>
            <a:r>
              <a:rPr b="1" lang="en-US" sz="1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dddddd"/>
                </a:solidFill>
                <a:latin typeface="Arial"/>
              </a:rPr>
              <a:t>K</a:t>
            </a:r>
            <a:r>
              <a:rPr b="1" lang="en-US" sz="1600" spc="-1" strike="noStrike" baseline="30000">
                <a:solidFill>
                  <a:srgbClr val="dddddd"/>
                </a:solidFill>
                <a:latin typeface="Arial"/>
              </a:rPr>
              <a:t>0</a:t>
            </a:r>
            <a:r>
              <a:rPr b="1" lang="en-US" sz="1600" spc="-1" strike="noStrike" baseline="-25000">
                <a:solidFill>
                  <a:srgbClr val="dddddd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dddddd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Arial"/>
              </a:rPr>
              <a:t>K</a:t>
            </a:r>
            <a:r>
              <a:rPr b="1" lang="en-US" sz="1800" spc="-1" strike="noStrike" baseline="30000">
                <a:solidFill>
                  <a:srgbClr val="dddddd"/>
                </a:solidFill>
                <a:latin typeface="Arial"/>
              </a:rPr>
              <a:t>+</a:t>
            </a:r>
            <a:r>
              <a:rPr b="1" i="1" lang="en-US" sz="1800" spc="-1" strike="noStrike" baseline="-25000">
                <a:solidFill>
                  <a:srgbClr val="dddddd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dddddd"/>
                </a:solidFill>
                <a:latin typeface="Arial"/>
              </a:rPr>
              <a:t>3 </a:t>
            </a:r>
            <a:r>
              <a:rPr b="1" i="1" lang="en-US" sz="1800" spc="-1" strike="noStrike">
                <a:solidFill>
                  <a:srgbClr val="dddddd"/>
                </a:solidFill>
                <a:latin typeface="Arial"/>
              </a:rPr>
              <a:t> will soon arrive…</a:t>
            </a:r>
            <a:r>
              <a:rPr b="1" lang="en-US" sz="1800" spc="-1" strike="noStrike" baseline="-25000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3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LOE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All BR’s will be measured at O(0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ignificatively improve on </a:t>
            </a:r>
            <a:r>
              <a:rPr b="0" lang="en-US" sz="1800" spc="-1" strike="noStrike">
                <a:solidFill>
                  <a:srgbClr val="dddddd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dddddd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dddddd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dddddd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dddddd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572000" y="800280"/>
            <a:ext cx="4198680" cy="2895120"/>
            <a:chOff x="4572000" y="800280"/>
            <a:chExt cx="4198680" cy="2895120"/>
          </a:xfrm>
        </p:grpSpPr>
        <p:graphicFrame>
          <p:nvGraphicFramePr>
            <p:cNvPr id="441" name=""/>
            <p:cNvGraphicFramePr/>
            <p:nvPr/>
          </p:nvGraphicFramePr>
          <p:xfrm>
            <a:off x="4573080" y="802800"/>
            <a:ext cx="4197600" cy="289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3080" y="802800"/>
                      <a:ext cx="4197600" cy="289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"/>
            <p:cNvGraphicFramePr/>
            <p:nvPr/>
          </p:nvGraphicFramePr>
          <p:xfrm>
            <a:off x="4572000" y="800280"/>
            <a:ext cx="4197600" cy="289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800280"/>
                      <a:ext cx="4197600" cy="289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"/>
            <p:cNvGraphicFramePr/>
            <p:nvPr/>
          </p:nvGraphicFramePr>
          <p:xfrm>
            <a:off x="4572000" y="800280"/>
            <a:ext cx="4190040" cy="288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00280"/>
                      <a:ext cx="4190040" cy="288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7" name=""/>
            <p:cNvGraphicFramePr/>
            <p:nvPr/>
          </p:nvGraphicFramePr>
          <p:xfrm>
            <a:off x="4572000" y="800280"/>
            <a:ext cx="4197600" cy="2892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72000" y="800280"/>
                      <a:ext cx="4197600" cy="289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9" name=""/>
            <p:cNvSpPr/>
            <p:nvPr/>
          </p:nvSpPr>
          <p:spPr>
            <a:xfrm>
              <a:off x="5938560" y="146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8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14080" y="2166480"/>
              <a:ext cx="112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KLOE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i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5000" y="3035520"/>
              <a:ext cx="113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KLOE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i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5245920" y="872640"/>
              <a:ext cx="3065040" cy="2731320"/>
              <a:chOff x="5245920" y="872640"/>
              <a:chExt cx="3065040" cy="2731320"/>
            </a:xfrm>
          </p:grpSpPr>
          <p:sp>
            <p:nvSpPr>
              <p:cNvPr id="453" name=""/>
              <p:cNvSpPr/>
              <p:nvPr/>
            </p:nvSpPr>
            <p:spPr>
              <a:xfrm>
                <a:off x="5561280" y="872640"/>
                <a:ext cx="576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97840" y="872640"/>
                <a:ext cx="564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93720" y="872640"/>
                <a:ext cx="596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726680" y="872640"/>
                <a:ext cx="584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245920" y="3128760"/>
                <a:ext cx="115380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us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"/>
          <p:cNvSpPr/>
          <p:nvPr/>
        </p:nvSpPr>
        <p:spPr>
          <a:xfrm>
            <a:off x="1273320" y="6172200"/>
            <a:ext cx="249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1.2% </a:t>
            </a:r>
            <a:r>
              <a:rPr b="0" lang="en-GB" sz="1400" spc="-1" strike="noStrike">
                <a:solidFill>
                  <a:srgbClr val="00cc00"/>
                </a:solidFill>
                <a:latin typeface="Symbol"/>
                <a:ea typeface="Symbol"/>
              </a:rPr>
              <a:t></a:t>
            </a: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 0.2% </a:t>
            </a:r>
            <a:r>
              <a:rPr b="0" lang="en-GB" sz="1400" spc="-1" strike="noStrike">
                <a:solidFill>
                  <a:srgbClr val="00cc00"/>
                </a:solidFill>
                <a:latin typeface="Symbol"/>
                <a:ea typeface="Symbol"/>
              </a:rPr>
              <a:t></a:t>
            </a: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 0.3% </a:t>
            </a: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i="1" lang="en-GB" sz="1400" spc="-1" strike="noStrike">
                <a:solidFill>
                  <a:srgbClr val="00cc00"/>
                </a:solidFill>
                <a:latin typeface="Arial"/>
              </a:rPr>
              <a:t>K</a:t>
            </a:r>
            <a:r>
              <a:rPr b="1" i="1" lang="en-GB" sz="1400" spc="-1" strike="noStrike" baseline="30000">
                <a:solidFill>
                  <a:srgbClr val="00cc00"/>
                </a:solidFill>
                <a:latin typeface="Arial"/>
              </a:rPr>
              <a:t>+</a:t>
            </a:r>
            <a:r>
              <a:rPr b="1" i="1" lang="en-GB" sz="1400" spc="-1" strike="noStrike">
                <a:solidFill>
                  <a:srgbClr val="00cc00"/>
                </a:solidFill>
                <a:latin typeface="Arial"/>
              </a:rPr>
              <a:t>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0.7% </a:t>
            </a:r>
            <a:r>
              <a:rPr b="0" lang="en-GB" sz="1400" spc="-1" strike="noStrike">
                <a:solidFill>
                  <a:srgbClr val="00cc00"/>
                </a:solidFill>
                <a:latin typeface="Symbol"/>
                <a:ea typeface="Symbol"/>
              </a:rPr>
              <a:t></a:t>
            </a: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 0.8% </a:t>
            </a:r>
            <a:r>
              <a:rPr b="0" lang="en-GB" sz="1400" spc="-1" strike="noStrike">
                <a:solidFill>
                  <a:srgbClr val="00cc00"/>
                </a:solidFill>
                <a:latin typeface="Symbol"/>
                <a:ea typeface="Symbol"/>
              </a:rPr>
              <a:t></a:t>
            </a: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 0.3% </a:t>
            </a: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i="1" lang="en-GB" sz="1400" spc="-1" strike="noStrike">
                <a:solidFill>
                  <a:srgbClr val="00cc00"/>
                </a:solidFill>
                <a:latin typeface="Arial"/>
              </a:rPr>
              <a:t>K</a:t>
            </a:r>
            <a:r>
              <a:rPr b="1" i="1" lang="en-GB" sz="14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1" i="1" lang="en-GB" sz="1400" spc="-1" strike="noStrike">
                <a:solidFill>
                  <a:srgbClr val="00cc00"/>
                </a:solidFill>
                <a:latin typeface="Arial"/>
              </a:rPr>
              <a:t>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857920" y="5927760"/>
            <a:ext cx="2727360" cy="608760"/>
            <a:chOff x="5857920" y="5927760"/>
            <a:chExt cx="2727360" cy="608760"/>
          </a:xfrm>
        </p:grpSpPr>
        <p:sp>
          <p:nvSpPr>
            <p:cNvPr id="460" name=""/>
            <p:cNvSpPr/>
            <p:nvPr/>
          </p:nvSpPr>
          <p:spPr>
            <a:xfrm>
              <a:off x="5857920" y="6095880"/>
              <a:ext cx="2727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f</a:t>
              </a:r>
              <a:r>
                <a:rPr b="1" lang="en-US" sz="2000" spc="-1" strike="noStrike" baseline="-25000">
                  <a:solidFill>
                    <a:srgbClr val="00cc00"/>
                  </a:solidFill>
                  <a:latin typeface="Times New Roman"/>
                </a:rPr>
                <a:t>+</a:t>
              </a: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    (0)= 0.961 </a:t>
              </a:r>
              <a:r>
                <a:rPr b="1" lang="en-US" sz="20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 0.008</a:t>
              </a:r>
              <a:r>
                <a:rPr b="1" lang="en-US" sz="2000" spc="-1" strike="noStrike" baseline="-25000">
                  <a:solidFill>
                    <a:srgbClr val="00cc00"/>
                  </a:solidFill>
                  <a:latin typeface="Times New Roman"/>
                </a:rPr>
                <a:t>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37920" y="5927760"/>
              <a:ext cx="64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00cc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cc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6FA5-BF41-4EA5-9F95-ADA3A9B2FD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Motivations II – </a:t>
            </a:r>
            <a:r>
              <a:rPr b="1" i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S=</a:t>
            </a:r>
            <a:r>
              <a:rPr b="1" i="1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Q rule violation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2520" y="2898720"/>
            <a:ext cx="156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ccff"/>
                </a:solidFill>
                <a:latin typeface="Arial"/>
              </a:rPr>
              <a:t>1 + 4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 </a:t>
            </a:r>
            <a:r>
              <a:rPr b="0" i="1" lang="it-IT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1160" y="2719440"/>
            <a:ext cx="170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ccccff"/>
                </a:solidFill>
                <a:latin typeface="Arial"/>
              </a:rPr>
              <a:t>BR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ccccff"/>
                </a:solidFill>
                <a:latin typeface="Arial"/>
              </a:rPr>
              <a:t>(</a:t>
            </a:r>
            <a:r>
              <a:rPr b="0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0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0" lang="it-IT" sz="2000" spc="-1" strike="noStrike">
                <a:solidFill>
                  <a:srgbClr val="ccccff"/>
                </a:solidFill>
                <a:latin typeface="Arial"/>
              </a:rPr>
              <a:t>)/</a:t>
            </a:r>
            <a:r>
              <a:rPr b="0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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23680" y="3075120"/>
            <a:ext cx="167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ccccff"/>
                </a:solidFill>
                <a:latin typeface="Arial"/>
              </a:rPr>
              <a:t>BR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L</a:t>
            </a:r>
            <a:r>
              <a:rPr b="0" lang="it-IT" sz="2000" spc="-1" strike="noStrike">
                <a:solidFill>
                  <a:srgbClr val="ccccff"/>
                </a:solidFill>
                <a:latin typeface="Arial"/>
              </a:rPr>
              <a:t>(</a:t>
            </a:r>
            <a:r>
              <a:rPr b="0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0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0" lang="it-IT" sz="2000" spc="-1" strike="noStrike">
                <a:solidFill>
                  <a:srgbClr val="ccccff"/>
                </a:solidFill>
                <a:latin typeface="Arial"/>
              </a:rPr>
              <a:t>)/</a:t>
            </a:r>
            <a:r>
              <a:rPr b="0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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89600" y="1600200"/>
            <a:ext cx="2354400" cy="440640"/>
            <a:chOff x="4989600" y="1600200"/>
            <a:chExt cx="2354400" cy="440640"/>
          </a:xfrm>
        </p:grpSpPr>
        <p:sp>
          <p:nvSpPr>
            <p:cNvPr id="90" name=""/>
            <p:cNvSpPr/>
            <p:nvPr/>
          </p:nvSpPr>
          <p:spPr>
            <a:xfrm>
              <a:off x="4989600" y="1600200"/>
              <a:ext cx="235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= 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+ 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/2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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c</a:t>
              </a:r>
              <a:r>
                <a:rPr b="0" lang="en-US" sz="2000" spc="-1" strike="noStrike" baseline="30000">
                  <a:solidFill>
                    <a:srgbClr val="ffff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ccccff"/>
                  </a:solidFill>
                  <a:latin typeface="Arial"/>
                </a:rPr>
                <a:t>/</a:t>
              </a:r>
              <a:r>
                <a:rPr b="0" i="1" lang="en-US" sz="2000" spc="-1" strike="noStrike">
                  <a:solidFill>
                    <a:srgbClr val="cccc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23240" y="1717560"/>
              <a:ext cx="75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109880" y="1420920"/>
            <a:ext cx="33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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1320" y="1865160"/>
            <a:ext cx="33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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63600" y="1609560"/>
            <a:ext cx="7632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84240" y="2000160"/>
            <a:ext cx="7632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66920" y="2001960"/>
            <a:ext cx="7632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251240"/>
            <a:ext cx="899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SM: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0" i="1" lang="it-IT" sz="2000" spc="-1" strike="noStrike">
                <a:solidFill>
                  <a:srgbClr val="ffff66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</a:t>
            </a:r>
            <a:r>
              <a:rPr b="0" i="1" lang="it-IT" sz="20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ffff66"/>
                </a:solidFill>
                <a:latin typeface="Arial"/>
              </a:rPr>
              <a:t>transitions </a:t>
            </a: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no</a:t>
            </a:r>
            <a:r>
              <a:rPr b="0" i="1" lang="it-IT" sz="20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ffff66"/>
                </a:solidFill>
                <a:latin typeface="Arial"/>
              </a:rPr>
              <a:t>allowed at tree level</a:t>
            </a:r>
            <a:r>
              <a:rPr b="0" i="1" lang="en-GB" sz="2000" spc="-1" strike="noStrike">
                <a:solidFill>
                  <a:srgbClr val="ffff66"/>
                </a:solidFill>
                <a:latin typeface="Arial"/>
                <a:ea typeface="Arial"/>
              </a:rPr>
              <a:t>: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|</a:t>
            </a:r>
            <a:r>
              <a:rPr b="0" i="1" lang="it-IT" sz="2000" spc="-1" strike="noStrike">
                <a:solidFill>
                  <a:srgbClr val="ffff66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| ~ G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Arial"/>
              </a:rPr>
              <a:t>F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~10</a:t>
            </a:r>
            <a:r>
              <a:rPr b="0" lang="it-IT" sz="2000" spc="-1" strike="noStrike" baseline="30000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95680" y="4699080"/>
            <a:ext cx="4572000" cy="1447560"/>
            <a:chOff x="4495680" y="4699080"/>
            <a:chExt cx="4572000" cy="1447560"/>
          </a:xfrm>
        </p:grpSpPr>
        <p:sp>
          <p:nvSpPr>
            <p:cNvPr id="99" name=""/>
            <p:cNvSpPr/>
            <p:nvPr/>
          </p:nvSpPr>
          <p:spPr>
            <a:xfrm>
              <a:off x="6858000" y="4699080"/>
              <a:ext cx="220968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95680" y="4699080"/>
              <a:ext cx="221004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rcRect l="3127" t="30647" r="49430" b="27421"/>
            <a:stretch/>
          </p:blipFill>
          <p:spPr>
            <a:xfrm>
              <a:off x="4587840" y="4713120"/>
              <a:ext cx="2117880" cy="13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rcRect l="55694" t="30647" r="4688" b="27421"/>
            <a:stretch/>
          </p:blipFill>
          <p:spPr>
            <a:xfrm>
              <a:off x="7010280" y="4775040"/>
              <a:ext cx="1768680" cy="13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304920" y="6207120"/>
            <a:ext cx="73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PLEAR ’98</a:t>
            </a:r>
            <a:r>
              <a:rPr b="0" i="1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it-IT" sz="2000" spc="-1" strike="noStrike">
                <a:solidFill>
                  <a:srgbClr val="ffff00"/>
                </a:solidFill>
                <a:latin typeface="Arial"/>
              </a:rPr>
              <a:t>Re x</a:t>
            </a:r>
            <a:r>
              <a:rPr b="1" i="1" lang="it-IT" sz="20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r>
              <a:rPr b="1" i="1" lang="it-IT" sz="2000" spc="-1" strike="noStrike">
                <a:solidFill>
                  <a:srgbClr val="ffff00"/>
                </a:solidFill>
                <a:latin typeface="Arial"/>
              </a:rPr>
              <a:t> =  (</a:t>
            </a:r>
            <a:r>
              <a:rPr b="1" i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i="1" lang="it-IT" sz="2000" spc="-1" strike="noStrike">
                <a:solidFill>
                  <a:srgbClr val="ffff00"/>
                </a:solidFill>
                <a:latin typeface="Arial"/>
              </a:rPr>
              <a:t>1.8 </a:t>
            </a:r>
            <a:r>
              <a:rPr b="1" i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i="1" lang="it-IT" sz="2000" spc="-1" strike="noStrike">
                <a:solidFill>
                  <a:srgbClr val="ffff00"/>
                </a:solidFill>
                <a:latin typeface="Arial"/>
              </a:rPr>
              <a:t> 4.1 </a:t>
            </a:r>
            <a:r>
              <a:rPr b="1" i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i="1" lang="it-IT" sz="2000" spc="-1" strike="noStrike">
                <a:solidFill>
                  <a:srgbClr val="ffff00"/>
                </a:solidFill>
                <a:latin typeface="Arial"/>
              </a:rPr>
              <a:t> 4.5)</a:t>
            </a:r>
            <a:r>
              <a:rPr b="1" i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1" i="1" lang="it-IT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i="1" lang="it-IT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i="1" lang="it-IT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0320" y="914400"/>
            <a:ext cx="699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2) Measure BR(K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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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to test of the validity of the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S=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5920" y="3327480"/>
            <a:ext cx="891000" cy="3988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ccccff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7360" y="2527200"/>
            <a:ext cx="891000" cy="3988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ccccff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7680" y="3340080"/>
            <a:ext cx="891000" cy="3988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ccccff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3320" y="3124080"/>
            <a:ext cx="152424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8759-910D-4692-BD5C-CE4E991A8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2400480"/>
            <a:ext cx="44960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711680" y="2406600"/>
            <a:ext cx="4387680" cy="3460680"/>
            <a:chOff x="4711680" y="2406600"/>
            <a:chExt cx="4387680" cy="3460680"/>
          </a:xfrm>
        </p:grpSpPr>
        <p:pic>
          <p:nvPicPr>
            <p:cNvPr id="111" name="vusgr1_rev_2" descr=""/>
            <p:cNvPicPr/>
            <p:nvPr/>
          </p:nvPicPr>
          <p:blipFill>
            <a:blip r:embed="rId1"/>
            <a:stretch/>
          </p:blipFill>
          <p:spPr>
            <a:xfrm>
              <a:off x="4711680" y="2406600"/>
              <a:ext cx="4387680" cy="346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5669280" y="2548080"/>
              <a:ext cx="2844000" cy="440640"/>
              <a:chOff x="5669280" y="2548080"/>
              <a:chExt cx="2844000" cy="440640"/>
            </a:xfrm>
          </p:grpSpPr>
          <p:sp>
            <p:nvSpPr>
              <p:cNvPr id="113" name=""/>
              <p:cNvSpPr/>
              <p:nvPr/>
            </p:nvSpPr>
            <p:spPr>
              <a:xfrm>
                <a:off x="5669280" y="2548080"/>
                <a:ext cx="576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442920" y="2548080"/>
                <a:ext cx="564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59320" y="2548080"/>
                <a:ext cx="596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929000" y="2548080"/>
                <a:ext cx="584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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6129360" y="3382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8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218200" y="5105520"/>
              <a:ext cx="1466640" cy="608400"/>
              <a:chOff x="5218200" y="5105520"/>
              <a:chExt cx="1466640" cy="608400"/>
            </a:xfrm>
          </p:grpSpPr>
          <p:sp>
            <p:nvSpPr>
              <p:cNvPr id="119" name=""/>
              <p:cNvSpPr/>
              <p:nvPr/>
            </p:nvSpPr>
            <p:spPr>
              <a:xfrm>
                <a:off x="5218200" y="5238720"/>
                <a:ext cx="146664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us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| </a:t>
                </a: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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950800" y="5105520"/>
                <a:ext cx="52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i="1" lang="en-US" sz="16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Motivations III – extraction of Vus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0200" y="898560"/>
            <a:ext cx="870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3) Measure BR(K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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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to extract V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Times New Roman"/>
              </a:rPr>
              <a:t>us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and test unitarity of 1</a:t>
            </a:r>
            <a:r>
              <a:rPr b="0" lang="it-IT" sz="20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row of CKM matri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160" y="1450800"/>
            <a:ext cx="282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|V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ud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|</a:t>
            </a:r>
            <a:r>
              <a:rPr b="0" i="1" lang="it-IT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 + </a:t>
            </a:r>
            <a:r>
              <a:rPr b="0" i="1" lang="it-IT" sz="2000" spc="-1" strike="noStrike">
                <a:solidFill>
                  <a:srgbClr val="ffff00"/>
                </a:solidFill>
                <a:latin typeface="Arial"/>
              </a:rPr>
              <a:t>|V</a:t>
            </a:r>
            <a:r>
              <a:rPr b="0" i="1" lang="it-IT" sz="2000" spc="-1" strike="noStrike" baseline="-25000">
                <a:solidFill>
                  <a:srgbClr val="ffff00"/>
                </a:solidFill>
                <a:latin typeface="Arial"/>
              </a:rPr>
              <a:t>us</a:t>
            </a:r>
            <a:r>
              <a:rPr b="0" i="1" lang="it-IT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i="1" lang="it-IT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 + |V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ub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|</a:t>
            </a:r>
            <a:r>
              <a:rPr b="0" i="1" lang="it-IT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3611520"/>
            <a:ext cx="464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|</a:t>
            </a:r>
            <a:r>
              <a:rPr b="1" i="1" lang="en-US" sz="2000" spc="-1" strike="noStrike">
                <a:solidFill>
                  <a:srgbClr val="cccc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ccccff"/>
                </a:solidFill>
                <a:latin typeface="Arial"/>
              </a:rPr>
              <a:t>us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| = 0.2196 </a:t>
            </a:r>
            <a:r>
              <a:rPr b="1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.0019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ex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0.0018</a:t>
            </a:r>
            <a:r>
              <a:rPr b="1" lang="en-US" sz="2000" spc="-1" strike="noStrike" baseline="-25000">
                <a:solidFill>
                  <a:srgbClr val="ccccff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1981080"/>
            <a:ext cx="179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For </a:t>
            </a:r>
            <a:r>
              <a:rPr b="1" i="1" lang="en-US" sz="20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ccccff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cccc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 m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6680" y="2417760"/>
                <a:ext cx="43815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den>
                        </m:f>
                      </m:e>
                    </m:d>
                    <m:r>
                      <m:t xml:space="preserve">⊕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τ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⊕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λ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⊕</m:t>
                    </m:r>
                    <m:f>
                      <m:num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rot="5400000">
            <a:off x="2252520" y="1814400"/>
            <a:ext cx="128520" cy="2859120"/>
          </a:xfrm>
          <a:custGeom>
            <a:avLst/>
            <a:gdLst>
              <a:gd name="textAreaLeft" fmla="*/ 0 w 128520"/>
              <a:gd name="textAreaRight" fmla="*/ 46440 w 128520"/>
              <a:gd name="textAreaTop" fmla="*/ 74520 h 2859120"/>
              <a:gd name="textAreaBottom" fmla="*/ 2784600 h 285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210560" y="2921760"/>
            <a:ext cx="75960" cy="646200"/>
          </a:xfrm>
          <a:custGeom>
            <a:avLst/>
            <a:gdLst>
              <a:gd name="textAreaLeft" fmla="*/ 0 w 75960"/>
              <a:gd name="textAreaRight" fmla="*/ 27360 w 75960"/>
              <a:gd name="textAreaTop" fmla="*/ 16560 h 646200"/>
              <a:gd name="textAreaBottom" fmla="*/ 62964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67480" y="32306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9160" y="3230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4495680"/>
            <a:ext cx="4647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6520" indent="-457200">
              <a:lnSpc>
                <a:spcPct val="100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Old data (Chiang ’72) or PDG fit value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clusiveness fo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9680" y="5267160"/>
            <a:ext cx="4432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cc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New E865 measurement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s better with current values of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00"/>
                </a:solidFill>
                <a:latin typeface="Times New Roman"/>
              </a:rPr>
              <a:t>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480" y="6172200"/>
            <a:ext cx="710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SM: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From unitarity and |V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ud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|: </a:t>
            </a:r>
            <a:r>
              <a:rPr b="0" i="1" lang="it-IT" sz="2000" spc="-1" strike="noStrike">
                <a:solidFill>
                  <a:srgbClr val="ffff66"/>
                </a:solidFill>
                <a:latin typeface="Arial"/>
              </a:rPr>
              <a:t>|V</a:t>
            </a:r>
            <a:r>
              <a:rPr b="0" i="1" lang="it-IT" sz="2000" spc="-1" strike="noStrike" baseline="-25000">
                <a:solidFill>
                  <a:srgbClr val="ffff66"/>
                </a:solidFill>
                <a:latin typeface="Arial"/>
              </a:rPr>
              <a:t>us</a:t>
            </a:r>
            <a:r>
              <a:rPr b="0" i="1" lang="it-IT" sz="2000" spc="-1" strike="noStrike">
                <a:solidFill>
                  <a:srgbClr val="ffff66"/>
                </a:solidFill>
                <a:latin typeface="Arial"/>
              </a:rPr>
              <a:t>|=0.2269</a:t>
            </a:r>
            <a:r>
              <a:rPr b="0" i="1" lang="it-IT" sz="2000" spc="-1" strike="noStrike">
                <a:solidFill>
                  <a:srgbClr val="ffff66"/>
                </a:solidFill>
                <a:latin typeface="Symbol"/>
                <a:ea typeface="Symbol"/>
              </a:rPr>
              <a:t></a:t>
            </a:r>
            <a:r>
              <a:rPr b="0" i="1" lang="it-IT" sz="2000" spc="-1" strike="noStrike">
                <a:solidFill>
                  <a:srgbClr val="ffff66"/>
                </a:solidFill>
                <a:latin typeface="Arial"/>
              </a:rPr>
              <a:t>0.0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47400" y="1432080"/>
            <a:ext cx="399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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V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ud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 / |V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ud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|</a:t>
            </a:r>
            <a:r>
              <a:rPr b="0" i="1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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0.05%, |V</a:t>
            </a:r>
            <a:r>
              <a:rPr b="0" i="1" lang="it-IT" sz="2000" spc="-1" strike="noStrike" baseline="-25000">
                <a:solidFill>
                  <a:srgbClr val="ccccff"/>
                </a:solidFill>
                <a:latin typeface="Arial"/>
              </a:rPr>
              <a:t>ub</a:t>
            </a:r>
            <a:r>
              <a:rPr b="0" i="1" lang="it-IT" sz="2000" spc="-1" strike="noStrike">
                <a:solidFill>
                  <a:srgbClr val="ccccff"/>
                </a:solidFill>
                <a:latin typeface="Arial"/>
              </a:rPr>
              <a:t>| neglig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3800" y="409896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Com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A978-E3A8-4A43-A6D1-0087D4E6C3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Analysis scheme – Ks beam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9160" y="708120"/>
            <a:ext cx="7924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moultaneous K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roduction in a pur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P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-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tate: identification of a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S,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ignals the presence of a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L,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K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L,S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t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540320"/>
            <a:ext cx="8076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t</a:t>
            </a:r>
            <a:r>
              <a:rPr b="1" i="1" lang="en-GB" sz="1600" spc="-1" strike="noStrike">
                <a:solidFill>
                  <a:srgbClr val="ccccff"/>
                </a:solidFill>
                <a:latin typeface="Arial"/>
              </a:rPr>
              <a:t>ag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 through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identification of 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L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 intera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ctions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in</a:t>
            </a:r>
            <a:r>
              <a:rPr b="1" lang="en-GB" sz="1600" spc="-1" strike="noStrike">
                <a:solidFill>
                  <a:srgbClr val="ccccff"/>
                </a:solidFill>
                <a:latin typeface="Arial"/>
              </a:rPr>
              <a:t> EmC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 through a TOF techni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09480" y="1368360"/>
            <a:ext cx="3290040" cy="3127320"/>
            <a:chOff x="609480" y="1368360"/>
            <a:chExt cx="3290040" cy="31273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rcRect l="18004" t="10197" r="18753" b="4776"/>
            <a:stretch/>
          </p:blipFill>
          <p:spPr>
            <a:xfrm>
              <a:off x="609480" y="1368360"/>
              <a:ext cx="320040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443680" y="1447920"/>
              <a:ext cx="14558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i="1" lang="en-US" sz="16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“crash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Symbol" charset="2"/>
                <a:buChar char="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= 0.22 (TO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1752480"/>
              <a:ext cx="120600" cy="10670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0760" y="3414600"/>
              <a:ext cx="1119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i="1" lang="en-US" sz="16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89040" y="5929200"/>
            <a:ext cx="320040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ccccff"/>
                </a:solidFill>
                <a:latin typeface="Arial"/>
                <a:ea typeface="Arial"/>
              </a:rPr>
              <a:t>K</a:t>
            </a:r>
            <a:r>
              <a:rPr b="0" i="1" lang="en-US" sz="1400" spc="-1" strike="noStrike" baseline="-25000">
                <a:solidFill>
                  <a:srgbClr val="ccccff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ccccff"/>
                </a:solidFill>
                <a:latin typeface="Arial"/>
                <a:ea typeface="Arial"/>
              </a:rPr>
              <a:t> angular resolution: ~ 1° </a:t>
            </a: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(0.3</a:t>
            </a:r>
            <a:r>
              <a:rPr b="0" lang="en-US" sz="1200" spc="-1" strike="noStrike">
                <a:solidFill>
                  <a:srgbClr val="ccccff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in </a:t>
            </a:r>
            <a:r>
              <a:rPr b="0" lang="en-US" sz="1200" spc="-1" strike="noStrike">
                <a:solidFill>
                  <a:srgbClr val="ccccff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ccccff"/>
                </a:solidFill>
                <a:latin typeface="Arial"/>
                <a:ea typeface="Arial"/>
              </a:rPr>
              <a:t>K</a:t>
            </a:r>
            <a:r>
              <a:rPr b="0" i="1" lang="en-US" sz="1400" spc="-1" strike="noStrike" baseline="-25000">
                <a:solidFill>
                  <a:srgbClr val="ccccff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ccccff"/>
                </a:solidFill>
                <a:latin typeface="Arial"/>
                <a:ea typeface="Arial"/>
              </a:rPr>
              <a:t> momentum resolution: ~ 2 M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200" y="5607000"/>
            <a:ext cx="72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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K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K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Arial"/>
              </a:rPr>
              <a:t>L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 is a two-body decay, tagged KS beam has definite momentu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5280" y="5334120"/>
            <a:ext cx="550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ccff"/>
                </a:solidFill>
                <a:latin typeface="Arial"/>
              </a:rPr>
              <a:t>Efficiency ~ 30%  (50% of KL’s decay before entering calorime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3360" y="4921200"/>
            <a:ext cx="4830480" cy="3373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Neutral cluster in barrel, E&gt;100MeV, 0.17&lt;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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&lt;0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53187" t="2603" r="5726" b="51475"/>
          <a:stretch/>
        </p:blipFill>
        <p:spPr>
          <a:xfrm>
            <a:off x="5029200" y="1349280"/>
            <a:ext cx="3657600" cy="314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FE42-F460-4AF1-B3DE-18AE9215D5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760" y="2635200"/>
            <a:ext cx="871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2) Test of 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mass hypothes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0" y="3048120"/>
            <a:ext cx="84837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3) Test of e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e mass hypotheses: 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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(M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(M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1 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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(M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(M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24490" t="28568" r="27113" b="54122"/>
          <a:stretch/>
        </p:blipFill>
        <p:spPr>
          <a:xfrm>
            <a:off x="200160" y="3778200"/>
            <a:ext cx="5584680" cy="2825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Analysis scheme – Signal selection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760" y="99072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1) Two opposite charged tracks coming from IP, entering calorime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200" y="1933560"/>
            <a:ext cx="815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TOF rejection of 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K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</a:t>
            </a:r>
            <a:r>
              <a:rPr b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 background: both tracks connected to EmC clusters, calculate </a:t>
            </a:r>
            <a:r>
              <a:rPr b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(M) = T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 – L/c</a:t>
            </a:r>
            <a:r>
              <a:rPr b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(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85000" y="4651200"/>
            <a:ext cx="2930400" cy="891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|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Times New Roman"/>
              </a:rPr>
              <a:t>e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| &lt;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cut1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 and 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Times New Roman"/>
              </a:rPr>
              <a:t>e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  &gt;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cu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|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Times New Roman"/>
              </a:rPr>
              <a:t>e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| &lt;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cut1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 and 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Times New Roman"/>
              </a:rPr>
              <a:t>e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  &gt;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cu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2880" y="1371600"/>
            <a:ext cx="483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invariant mass at the vertex below 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K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</a:t>
            </a:r>
            <a:r>
              <a:rPr b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 pea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4080" y="4997520"/>
            <a:ext cx="6472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071960" y="3905280"/>
            <a:ext cx="6472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2120" y="5638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1640" y="56325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C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53760" y="1371600"/>
            <a:ext cx="1172520" cy="370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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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c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48040" y="2666880"/>
            <a:ext cx="2488320" cy="370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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t(M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)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 - 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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t(M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>
                <a:solidFill>
                  <a:srgbClr val="ccccff"/>
                </a:solidFill>
                <a:latin typeface="Times New Roman"/>
              </a:rPr>
              <a:t>)</a:t>
            </a:r>
            <a:r>
              <a:rPr b="1" lang="it-IT" sz="16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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</a:t>
            </a:r>
            <a:r>
              <a:rPr b="1" lang="it-IT" sz="1600" spc="-1" strike="noStrike" baseline="-25000">
                <a:solidFill>
                  <a:srgbClr val="ffff00"/>
                </a:solidFill>
                <a:latin typeface="Times New Roman"/>
              </a:rPr>
              <a:t>c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482F-78C9-4C23-BDBA-9B7FD679D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3127" t="22742" r="1875" b="20044"/>
          <a:stretch/>
        </p:blipFill>
        <p:spPr>
          <a:xfrm>
            <a:off x="380880" y="1676520"/>
            <a:ext cx="8534520" cy="3733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71600" y="2222640"/>
            <a:ext cx="2133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4400" y="4584600"/>
            <a:ext cx="1263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10000"/>
                </a:solidFill>
                <a:latin typeface="Times New Roman"/>
              </a:rPr>
              <a:t>miss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10000"/>
                </a:solidFill>
                <a:latin typeface="Times New Roman"/>
              </a:rPr>
              <a:t>m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96240" y="3441600"/>
            <a:ext cx="8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M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37880" y="5043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imes New Roman"/>
              </a:rPr>
              <a:t>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24560" y="2147760"/>
            <a:ext cx="2133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40280" y="5041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imes New Roman"/>
              </a:rPr>
              <a:t>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85840" y="2001960"/>
            <a:ext cx="6401160" cy="1070640"/>
            <a:chOff x="1185840" y="2001960"/>
            <a:chExt cx="6401160" cy="1070640"/>
          </a:xfrm>
        </p:grpSpPr>
        <p:sp>
          <p:nvSpPr>
            <p:cNvPr id="171" name=""/>
            <p:cNvSpPr/>
            <p:nvPr/>
          </p:nvSpPr>
          <p:spPr>
            <a:xfrm>
              <a:off x="1185840" y="2001960"/>
              <a:ext cx="21942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d.o.f =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854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9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92800" y="2003400"/>
              <a:ext cx="21942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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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/d.o.f =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N(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18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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 = 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3863 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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 8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21440" y="2147760"/>
              <a:ext cx="1522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3120" y="2827440"/>
              <a:ext cx="763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Analysis scheme – Counting signal events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88272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Use KS momentum from tag and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PID from TOF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, to test presence of neutri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3600" y="1295280"/>
            <a:ext cx="1792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P</a:t>
            </a:r>
            <a:r>
              <a:rPr b="0" lang="it-IT" sz="1600" spc="-1" strike="noStrike" baseline="-25000">
                <a:solidFill>
                  <a:srgbClr val="ccccff"/>
                </a:solidFill>
                <a:latin typeface="Arial"/>
              </a:rPr>
              <a:t>miss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 = |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P</a:t>
            </a:r>
            <a:r>
              <a:rPr b="0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p</a:t>
            </a:r>
            <a:r>
              <a:rPr b="0" lang="it-IT" sz="16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ccccff"/>
                </a:solidFill>
                <a:latin typeface="Arial"/>
              </a:rPr>
              <a:t>p</a:t>
            </a:r>
            <a:r>
              <a:rPr b="0" lang="it-IT" sz="16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ccccff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189240" y="1219320"/>
            <a:ext cx="3332160" cy="464400"/>
            <a:chOff x="3189240" y="1219320"/>
            <a:chExt cx="3332160" cy="464400"/>
          </a:xfrm>
        </p:grpSpPr>
        <p:sp>
          <p:nvSpPr>
            <p:cNvPr id="179" name=""/>
            <p:cNvSpPr/>
            <p:nvPr/>
          </p:nvSpPr>
          <p:spPr>
            <a:xfrm>
              <a:off x="3189240" y="1295640"/>
              <a:ext cx="327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E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miss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= E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S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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   p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1,2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</a:t>
              </a:r>
              <a:r>
                <a:rPr b="0" lang="it-IT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</a:t>
              </a:r>
              <a:r>
                <a:rPr b="0" lang="it-IT" sz="16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ffff00"/>
                  </a:solidFill>
                  <a:latin typeface="Arial"/>
                </a:rPr>
                <a:t>e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 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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 p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2,1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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194360" y="1219320"/>
              <a:ext cx="1014120" cy="459720"/>
              <a:chOff x="4194360" y="1219320"/>
              <a:chExt cx="1014120" cy="459720"/>
            </a:xfrm>
          </p:grpSpPr>
          <p:sp>
            <p:nvSpPr>
              <p:cNvPr id="181" name=""/>
              <p:cNvSpPr/>
              <p:nvPr/>
            </p:nvSpPr>
            <p:spPr>
              <a:xfrm>
                <a:off x="4194360" y="1219320"/>
                <a:ext cx="34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46720" y="1295280"/>
                <a:ext cx="761760" cy="0"/>
              </a:xfrm>
              <a:prstGeom prst="line">
                <a:avLst/>
              </a:prstGeom>
              <a:ln w="158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535280" y="13464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 baseline="30000">
                  <a:solidFill>
                    <a:srgbClr val="cccc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19560" y="13464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3840" y="13464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 baseline="30000">
                  <a:solidFill>
                    <a:srgbClr val="cccc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75160" y="13464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402160" y="1219320"/>
              <a:ext cx="1014120" cy="459720"/>
              <a:chOff x="5402160" y="1219320"/>
              <a:chExt cx="1014120" cy="45972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2160" y="1219320"/>
                <a:ext cx="34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54520" y="1295280"/>
                <a:ext cx="761760" cy="0"/>
              </a:xfrm>
              <a:prstGeom prst="line">
                <a:avLst/>
              </a:prstGeom>
              <a:ln w="158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457200" y="58672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Fit data distribution to a linear combination of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signal and background MC hist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5460840"/>
            <a:ext cx="868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Residual background due to 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, with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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before entering the tracking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8560" y="1650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: L=170 pb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62164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Background MC histogram smeared with a gaussian, </a:t>
            </a:r>
            <a:r>
              <a:rPr b="1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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= 2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5116-7B6A-47B6-82F7-E730C82573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Efficiency estimates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990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To get B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37880" y="2050920"/>
            <a:ext cx="1699920" cy="802800"/>
            <a:chOff x="1037880" y="2050920"/>
            <a:chExt cx="1699920" cy="802800"/>
          </a:xfrm>
        </p:grpSpPr>
        <p:sp>
          <p:nvSpPr>
            <p:cNvPr id="197" name=""/>
            <p:cNvSpPr/>
            <p:nvPr/>
          </p:nvSpPr>
          <p:spPr>
            <a:xfrm>
              <a:off x="1409400" y="2050920"/>
              <a:ext cx="1303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BR(K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S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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e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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32440" y="2476440"/>
              <a:ext cx="1305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BR(K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S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</a:t>
              </a:r>
              <a:r>
                <a:rPr b="0" lang="it-IT" sz="1600" spc="-1" strike="noStrike" baseline="30000">
                  <a:solidFill>
                    <a:srgbClr val="ccccff"/>
                  </a:solidFill>
                  <a:latin typeface="Symbol"/>
                  <a:ea typeface="Symbol"/>
                </a:rPr>
                <a:t>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</a:t>
              </a:r>
              <a:r>
                <a:rPr b="0" lang="it-IT" sz="1600" spc="-1" strike="noStrike" baseline="30000">
                  <a:solidFill>
                    <a:srgbClr val="ccccff"/>
                  </a:solidFill>
                  <a:latin typeface="Symbol"/>
                  <a:ea typeface="Symbol"/>
                </a:rPr>
                <a:t>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37880" y="2054160"/>
              <a:ext cx="470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N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37880" y="2482920"/>
              <a:ext cx="470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N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690280" y="2048040"/>
            <a:ext cx="1441080" cy="799200"/>
            <a:chOff x="2690280" y="2048040"/>
            <a:chExt cx="1441080" cy="799200"/>
          </a:xfrm>
        </p:grpSpPr>
        <p:sp>
          <p:nvSpPr>
            <p:cNvPr id="202" name=""/>
            <p:cNvSpPr/>
            <p:nvPr/>
          </p:nvSpPr>
          <p:spPr>
            <a:xfrm>
              <a:off x="2690280" y="2048040"/>
              <a:ext cx="1441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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L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(crash clus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90280" y="2476440"/>
              <a:ext cx="1441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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L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(crash clus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073400" y="2038320"/>
            <a:ext cx="2073600" cy="799560"/>
            <a:chOff x="4073400" y="2038320"/>
            <a:chExt cx="2073600" cy="799560"/>
          </a:xfrm>
        </p:grpSpPr>
        <p:sp>
          <p:nvSpPr>
            <p:cNvPr id="205" name=""/>
            <p:cNvSpPr/>
            <p:nvPr/>
          </p:nvSpPr>
          <p:spPr>
            <a:xfrm>
              <a:off x="4079520" y="2038320"/>
              <a:ext cx="206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</a:t>
              </a:r>
              <a:r>
                <a:rPr b="0" lang="it-IT" sz="16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r>
                <a:rPr b="0" lang="it-IT" sz="1600" spc="-1" strike="noStrike" baseline="-25000">
                  <a:solidFill>
                    <a:srgbClr val="ffff00"/>
                  </a:solidFill>
                  <a:latin typeface="Arial"/>
                </a:rPr>
                <a:t>e</a:t>
              </a:r>
              <a:r>
                <a:rPr b="0" lang="it-IT" sz="16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(2 trks IP 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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Em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3400" y="2467080"/>
              <a:ext cx="2005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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Symbol"/>
                  <a:ea typeface="Symbol"/>
                </a:rPr>
                <a:t>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(2 trks IP </a:t>
              </a: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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 Em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70680" y="2028960"/>
            <a:ext cx="2382840" cy="808920"/>
            <a:chOff x="6070680" y="2028960"/>
            <a:chExt cx="2382840" cy="808920"/>
          </a:xfrm>
        </p:grpSpPr>
        <p:sp>
          <p:nvSpPr>
            <p:cNvPr id="208" name=""/>
            <p:cNvSpPr/>
            <p:nvPr/>
          </p:nvSpPr>
          <p:spPr>
            <a:xfrm>
              <a:off x="6076800" y="2038320"/>
              <a:ext cx="1697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</a:t>
              </a:r>
              <a:r>
                <a:rPr b="0" lang="it-IT" sz="16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r>
                <a:rPr b="0" lang="it-IT" sz="1600" spc="-1" strike="noStrike" baseline="-25000">
                  <a:solidFill>
                    <a:srgbClr val="ffff00"/>
                  </a:solidFill>
                  <a:latin typeface="Arial"/>
                </a:rPr>
                <a:t>e</a:t>
              </a:r>
              <a:r>
                <a:rPr b="0" lang="it-IT" sz="16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(TCA T0 Tri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70680" y="2467080"/>
              <a:ext cx="1173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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Symbol"/>
                  <a:ea typeface="Symbol"/>
                </a:rPr>
                <a:t>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(T0 Tri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46400" y="202896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</a:t>
              </a: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(TO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8125920" y="2260440"/>
            <a:ext cx="990720" cy="370800"/>
            <a:chOff x="8125920" y="2260440"/>
            <a:chExt cx="990720" cy="370800"/>
          </a:xfrm>
        </p:grpSpPr>
        <p:sp>
          <p:nvSpPr>
            <p:cNvPr id="212" name=""/>
            <p:cNvSpPr/>
            <p:nvPr/>
          </p:nvSpPr>
          <p:spPr>
            <a:xfrm>
              <a:off x="8125920" y="226044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R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ta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07880" y="2260440"/>
              <a:ext cx="608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ccccff"/>
                  </a:solidFill>
                  <a:latin typeface="Arial"/>
                </a:rPr>
                <a:t>R</a:t>
              </a:r>
              <a:r>
                <a:rPr b="0" lang="it-IT" sz="1600" spc="-1" strike="noStrike" baseline="-25000">
                  <a:solidFill>
                    <a:srgbClr val="ccccff"/>
                  </a:solidFill>
                  <a:latin typeface="Arial"/>
                </a:rPr>
                <a:t>co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8840" y="2048040"/>
            <a:ext cx="1002240" cy="765720"/>
            <a:chOff x="78840" y="2048040"/>
            <a:chExt cx="1002240" cy="765720"/>
          </a:xfrm>
        </p:grpSpPr>
        <p:sp>
          <p:nvSpPr>
            <p:cNvPr id="215" name=""/>
            <p:cNvSpPr/>
            <p:nvPr/>
          </p:nvSpPr>
          <p:spPr>
            <a:xfrm>
              <a:off x="722160" y="2222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cccc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8840" y="2048040"/>
              <a:ext cx="790920" cy="765720"/>
              <a:chOff x="78840" y="2048040"/>
              <a:chExt cx="790920" cy="765720"/>
            </a:xfrm>
          </p:grpSpPr>
          <p:sp>
            <p:nvSpPr>
              <p:cNvPr id="217" name=""/>
              <p:cNvSpPr/>
              <p:nvPr/>
            </p:nvSpPr>
            <p:spPr>
              <a:xfrm>
                <a:off x="79560" y="204804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ccccff"/>
                    </a:solidFill>
                    <a:latin typeface="Arial"/>
                  </a:rPr>
                  <a:t>N(</a:t>
                </a:r>
                <a:r>
                  <a:rPr b="0" lang="it-IT" sz="16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</a:t>
                </a:r>
                <a:r>
                  <a:rPr b="0" lang="it-IT" sz="1600" spc="-1" strike="noStrike">
                    <a:solidFill>
                      <a:srgbClr val="ccccff"/>
                    </a:solidFill>
                    <a:latin typeface="Arial"/>
                  </a:rPr>
                  <a:t>e</a:t>
                </a:r>
                <a:r>
                  <a:rPr b="0" lang="it-IT" sz="16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</a:t>
                </a:r>
                <a:r>
                  <a:rPr b="0" lang="it-IT" sz="1600" spc="-1" strike="noStrike">
                    <a:solidFill>
                      <a:srgbClr val="cccc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8840" y="2476440"/>
                <a:ext cx="68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ccccff"/>
                    </a:solidFill>
                    <a:latin typeface="Arial"/>
                  </a:rPr>
                  <a:t>N(</a:t>
                </a:r>
                <a:r>
                  <a:rPr b="0" lang="it-IT" sz="16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</a:t>
                </a:r>
                <a:r>
                  <a:rPr b="0" lang="it-IT" sz="1600" spc="-1" strike="noStrike">
                    <a:solidFill>
                      <a:srgbClr val="cccc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9680" y="2433600"/>
                <a:ext cx="609480" cy="0"/>
              </a:xfrm>
              <a:prstGeom prst="line">
                <a:avLst/>
              </a:prstGeom>
              <a:ln w="158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1143000" y="2438280"/>
            <a:ext cx="6910560" cy="0"/>
          </a:xfrm>
          <a:prstGeom prst="line">
            <a:avLst/>
          </a:prstGeom>
          <a:ln w="158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9680" y="3009960"/>
            <a:ext cx="8915400" cy="756360"/>
            <a:chOff x="139680" y="3009960"/>
            <a:chExt cx="8915400" cy="756360"/>
          </a:xfrm>
        </p:grpSpPr>
        <p:sp>
          <p:nvSpPr>
            <p:cNvPr id="222" name=""/>
            <p:cNvSpPr/>
            <p:nvPr/>
          </p:nvSpPr>
          <p:spPr>
            <a:xfrm>
              <a:off x="152280" y="3429000"/>
              <a:ext cx="86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ccccff"/>
                  </a:solidFill>
                  <a:latin typeface="Arial"/>
                </a:rPr>
                <a:t>Two methods to extract most of signal efficiencie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680" y="3009960"/>
              <a:ext cx="891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ff00"/>
                  </a:solidFill>
                  <a:latin typeface="Arial"/>
                </a:rPr>
                <a:t>Selection relies on properties of </a:t>
              </a:r>
              <a:r>
                <a:rPr b="1" i="1" lang="it-IT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r>
                <a:rPr b="1" i="1" lang="it-IT" sz="1600" spc="-1" strike="noStrike">
                  <a:solidFill>
                    <a:srgbClr val="ffff00"/>
                  </a:solidFill>
                  <a:latin typeface="Arial"/>
                </a:rPr>
                <a:t> EmC clusters, better to estimate efficiencies from data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04920" y="3886200"/>
            <a:ext cx="6476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1) extract single-particle probabilities from control samp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parametrize as a function of the relevant kinematic variab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weight MC by the ratio of data and MC ef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1721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2) directly measure efficiency in a sample of 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L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 prompt decays, selected in evts with 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743200" y="2120400"/>
            <a:ext cx="1308240" cy="648000"/>
            <a:chOff x="2743200" y="2120400"/>
            <a:chExt cx="1308240" cy="648000"/>
          </a:xfrm>
        </p:grpSpPr>
        <p:sp>
          <p:nvSpPr>
            <p:cNvPr id="227" name=""/>
            <p:cNvSpPr/>
            <p:nvPr/>
          </p:nvSpPr>
          <p:spPr>
            <a:xfrm flipV="1">
              <a:off x="2755800" y="2539800"/>
              <a:ext cx="129564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743200" y="2120400"/>
              <a:ext cx="129528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28880" y="2133360"/>
            <a:ext cx="342720" cy="622080"/>
            <a:chOff x="1028880" y="2133360"/>
            <a:chExt cx="342720" cy="622080"/>
          </a:xfrm>
        </p:grpSpPr>
        <p:sp>
          <p:nvSpPr>
            <p:cNvPr id="230" name=""/>
            <p:cNvSpPr/>
            <p:nvPr/>
          </p:nvSpPr>
          <p:spPr>
            <a:xfrm flipV="1">
              <a:off x="1028880" y="2133360"/>
              <a:ext cx="342720" cy="21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028880" y="2539800"/>
              <a:ext cx="342720" cy="21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39680" y="5987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Signal efficiency </a:t>
            </a:r>
            <a:r>
              <a:rPr b="1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20% given the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278000"/>
            <a:ext cx="731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1) normalize signal counts to K</a:t>
            </a:r>
            <a:r>
              <a:rPr b="1" i="1" lang="it-IT" sz="1600" spc="-1" strike="noStrike" baseline="-25000">
                <a:solidFill>
                  <a:srgbClr val="ccccff"/>
                </a:solidFill>
                <a:latin typeface="Arial"/>
              </a:rPr>
              <a:t>S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i="1" lang="it-IT" sz="16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 counts in the same data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00080" y="1663560"/>
            <a:ext cx="35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ccff"/>
                </a:solidFill>
                <a:latin typeface="Arial"/>
              </a:rPr>
              <a:t>2) correct for selection ef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4726-B370-462B-B960-4650E5A085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00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Preliminary results from analysis* of year 2001 data</a:t>
            </a:r>
            <a:endParaRPr b="1" i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5640" y="1755720"/>
            <a:ext cx="35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Charge-independent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844880" y="2200320"/>
            <a:ext cx="3501720" cy="1788120"/>
            <a:chOff x="4844880" y="2200320"/>
            <a:chExt cx="3501720" cy="1788120"/>
          </a:xfrm>
        </p:grpSpPr>
        <p:sp>
          <p:nvSpPr>
            <p:cNvPr id="238" name=""/>
            <p:cNvSpPr/>
            <p:nvPr/>
          </p:nvSpPr>
          <p:spPr>
            <a:xfrm>
              <a:off x="4844880" y="2200320"/>
              <a:ext cx="3424320" cy="170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991040" y="2200320"/>
              <a:ext cx="1747800" cy="1476360"/>
              <a:chOff x="4991040" y="2200320"/>
              <a:chExt cx="1747800" cy="147636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rcRect l="23463" t="24261" r="29340" b="17254"/>
              <a:stretch/>
            </p:blipFill>
            <p:spPr>
              <a:xfrm>
                <a:off x="4991040" y="2200320"/>
                <a:ext cx="1747800" cy="14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5191200" y="3608640"/>
                <a:ext cx="116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09200" y="3540240"/>
                <a:ext cx="0" cy="6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73680" y="3540240"/>
                <a:ext cx="0" cy="6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38160" y="3540240"/>
                <a:ext cx="0" cy="68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605200" y="2242800"/>
                <a:ext cx="0" cy="14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073480" y="363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363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88040" y="3651120"/>
              <a:ext cx="74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4520" y="2235240"/>
              <a:ext cx="10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MD-2 ’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47840" y="2610000"/>
              <a:ext cx="1488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PDG aver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38480" y="29638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LOE ’0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36320" y="331632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KLOE ’03 preli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280040" y="1752480"/>
            <a:ext cx="4552920" cy="745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BR(</a:t>
            </a:r>
            <a:r>
              <a:rPr b="1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i="1" lang="en-US" sz="20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)  =  (6.81 </a:t>
            </a:r>
            <a:r>
              <a:rPr b="1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0.12</a:t>
            </a:r>
            <a:r>
              <a:rPr b="1" lang="en-US" sz="2000" spc="-1" strike="noStrike" baseline="-25000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0.10) </a:t>
            </a:r>
            <a:r>
              <a:rPr b="1" lang="en-US" sz="2000" spc="-1" strike="noStrike">
                <a:solidFill>
                  <a:srgbClr val="ccccff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 10</a:t>
            </a:r>
            <a:r>
              <a:rPr b="1" lang="en-US" sz="2000" spc="-1" strike="noStrike" baseline="30000">
                <a:solidFill>
                  <a:srgbClr val="ccccff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2000" y="774720"/>
            <a:ext cx="39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BR(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en-US" sz="18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) = (3.46 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0.09</a:t>
            </a:r>
            <a:r>
              <a:rPr b="1" lang="en-US" sz="1800" spc="-1" strike="noStrike" baseline="-25000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0.06)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cccc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21360" y="1170000"/>
            <a:ext cx="39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BR(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i="1" lang="en-US" sz="18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) = (3.33 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0.08</a:t>
            </a:r>
            <a:r>
              <a:rPr b="1" lang="en-US" sz="1800" spc="-1" strike="noStrike" baseline="-25000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0.05)</a:t>
            </a:r>
            <a:r>
              <a:rPr b="1" lang="en-US" sz="1800" spc="-1" strike="noStrike">
                <a:solidFill>
                  <a:srgbClr val="ccccff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cccc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92640" y="4208400"/>
            <a:ext cx="3962520" cy="440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128520"/>
                <a:tab algn="l" pos="257040"/>
                <a:tab algn="l" pos="385920"/>
                <a:tab algn="l" pos="514440"/>
                <a:tab algn="l" pos="642960"/>
                <a:tab algn="l" pos="771480"/>
                <a:tab algn="l" pos="900000"/>
                <a:tab algn="l" pos="1028880"/>
                <a:tab algn="l" pos="1157400"/>
                <a:tab algn="l" pos="1285920"/>
                <a:tab algn="l" pos="1414440"/>
                <a:tab algn="l" pos="1542960"/>
                <a:tab algn="l" pos="1671480"/>
                <a:tab algn="l" pos="1800360"/>
                <a:tab algn="l" pos="1928880"/>
                <a:tab algn="l" pos="2057400"/>
                <a:tab algn="l" pos="2185920"/>
                <a:tab algn="l" pos="2314440"/>
                <a:tab algn="l" pos="2443320"/>
                <a:tab algn="l" pos="2571840"/>
              </a:tabLst>
            </a:pP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Re x</a:t>
            </a:r>
            <a:r>
              <a:rPr b="1" i="1" lang="it-IT" sz="2000" spc="-1" strike="noStrike" baseline="-25000">
                <a:solidFill>
                  <a:srgbClr val="ccccff"/>
                </a:solidFill>
                <a:latin typeface="Symbol"/>
                <a:ea typeface="Symbol"/>
              </a:rPr>
              <a:t>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=  (3.3 </a:t>
            </a:r>
            <a:r>
              <a:rPr b="1" i="1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 5.2 </a:t>
            </a:r>
            <a:r>
              <a:rPr b="1" i="1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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 3.5)</a:t>
            </a:r>
            <a:r>
              <a:rPr b="1" i="1" lang="it-IT" sz="2000" spc="-1" strike="noStrike">
                <a:solidFill>
                  <a:srgbClr val="ccccff"/>
                </a:solidFill>
                <a:latin typeface="Symbol"/>
                <a:ea typeface="Symbol"/>
              </a:rPr>
              <a:t></a:t>
            </a:r>
            <a:r>
              <a:rPr b="1" i="1" lang="it-IT" sz="20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1" i="1" lang="it-IT" sz="2000" spc="-1" strike="noStrike" baseline="30000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it-IT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902120" y="4703760"/>
            <a:ext cx="2844000" cy="1620720"/>
            <a:chOff x="4902120" y="4703760"/>
            <a:chExt cx="2844000" cy="1620720"/>
          </a:xfrm>
        </p:grpSpPr>
        <p:graphicFrame>
          <p:nvGraphicFramePr>
            <p:cNvPr id="258" name=""/>
            <p:cNvGraphicFramePr/>
            <p:nvPr/>
          </p:nvGraphicFramePr>
          <p:xfrm>
            <a:off x="4902120" y="4703760"/>
            <a:ext cx="2833560" cy="162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02120" y="4703760"/>
                      <a:ext cx="2833560" cy="16207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>
              <a:off x="6515280" y="4730400"/>
              <a:ext cx="1230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PLEAR ‘9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8200" y="5327280"/>
              <a:ext cx="1610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3333cc"/>
                  </a:solidFill>
                  <a:latin typeface="Arial"/>
                </a:rPr>
                <a:t>KLOE ’03 preli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76720" y="4216320"/>
            <a:ext cx="29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Test of the DS=DQ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4560" y="838080"/>
            <a:ext cx="36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Branching fractions by ch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-1998720" y="3966120"/>
            <a:ext cx="451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ccff"/>
                </a:solidFill>
                <a:latin typeface="Times New Roman"/>
              </a:rPr>
              <a:t>* </a:t>
            </a:r>
            <a:r>
              <a:rPr b="0" lang="en-GB" sz="1600" spc="-1" strike="noStrike">
                <a:solidFill>
                  <a:srgbClr val="ccccff"/>
                </a:solidFill>
                <a:latin typeface="Times New Roman"/>
              </a:rPr>
              <a:t>http://www.infn.it/thesis/PS/253-Gatti-Dottorato.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958B-E690-4F5D-B67B-7E8C9DAF28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08:44:10Z</dcterms:created>
  <dc:creator>Tommaso Spadaro</dc:creator>
  <dc:description/>
  <dc:language>en-US</dc:language>
  <cp:lastModifiedBy>Antonella Antonelli</cp:lastModifiedBy>
  <dcterms:modified xsi:type="dcterms:W3CDTF">2003-12-02T08:47:48Z</dcterms:modified>
  <cp:revision>181</cp:revision>
  <dc:subject>HEP</dc:subject>
  <dc:title>Analysis of Kspen decays</dc:title>
</cp:coreProperties>
</file>