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C4AC9-E9DC-4F8B-A499-0E569889D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7920" y="257760"/>
            <a:ext cx="858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7920" y="1142640"/>
            <a:ext cx="85881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77920" y="3832560"/>
            <a:ext cx="85881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736C3-7B73-4947-B872-516DBC048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920" y="257760"/>
            <a:ext cx="858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7920" y="1142640"/>
            <a:ext cx="41907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560" y="1142640"/>
            <a:ext cx="41907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77920" y="3832560"/>
            <a:ext cx="41907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560" y="3832560"/>
            <a:ext cx="41907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36ED3-0023-4E7D-AC23-C68633D76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7920" y="257760"/>
            <a:ext cx="858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7920" y="1142640"/>
            <a:ext cx="27651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1680" y="1142640"/>
            <a:ext cx="27651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5440" y="1142640"/>
            <a:ext cx="27651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77920" y="3832560"/>
            <a:ext cx="27651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1680" y="3832560"/>
            <a:ext cx="27651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5440" y="3832560"/>
            <a:ext cx="27651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F1BCE-968A-442B-92A6-E396610D0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7920" y="257760"/>
            <a:ext cx="858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7920" y="1142640"/>
            <a:ext cx="8588160" cy="51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7920" y="257760"/>
            <a:ext cx="858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7920" y="1142640"/>
            <a:ext cx="858816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7920" y="257760"/>
            <a:ext cx="858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7920" y="1142640"/>
            <a:ext cx="419076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8560" y="1142640"/>
            <a:ext cx="419076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7920" y="257760"/>
            <a:ext cx="858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77920" y="304560"/>
            <a:ext cx="8588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7920" y="257760"/>
            <a:ext cx="858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7920" y="1142640"/>
            <a:ext cx="41907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560" y="1142640"/>
            <a:ext cx="419076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77920" y="3832560"/>
            <a:ext cx="41907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7920" y="257760"/>
            <a:ext cx="858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77920" y="1142640"/>
            <a:ext cx="8588160" cy="51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35876-28E1-4F3C-9A4F-96121BE12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7920" y="257760"/>
            <a:ext cx="858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7920" y="1142640"/>
            <a:ext cx="419076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560" y="1142640"/>
            <a:ext cx="41907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8560" y="3832560"/>
            <a:ext cx="41907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920" y="257760"/>
            <a:ext cx="858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7920" y="1142640"/>
            <a:ext cx="41907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560" y="1142640"/>
            <a:ext cx="41907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7920" y="3832560"/>
            <a:ext cx="85881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7920" y="257760"/>
            <a:ext cx="858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7920" y="1142640"/>
            <a:ext cx="85881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77920" y="3832560"/>
            <a:ext cx="85881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7920" y="257760"/>
            <a:ext cx="858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7920" y="1142640"/>
            <a:ext cx="41907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560" y="1142640"/>
            <a:ext cx="41907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77920" y="3832560"/>
            <a:ext cx="41907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8560" y="3832560"/>
            <a:ext cx="41907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7920" y="257760"/>
            <a:ext cx="858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7920" y="1142640"/>
            <a:ext cx="27651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1680" y="1142640"/>
            <a:ext cx="27651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85440" y="1142640"/>
            <a:ext cx="27651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77920" y="3832560"/>
            <a:ext cx="27651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1680" y="3832560"/>
            <a:ext cx="27651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85440" y="3832560"/>
            <a:ext cx="27651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7920" y="257760"/>
            <a:ext cx="858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77920" y="1142640"/>
            <a:ext cx="858816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4127E-821B-4CBF-BF3A-DA70ED94E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7920" y="257760"/>
            <a:ext cx="858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7920" y="1142640"/>
            <a:ext cx="419076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560" y="1142640"/>
            <a:ext cx="419076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C4B59-0BEE-490D-8C59-C8937492C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920" y="257760"/>
            <a:ext cx="858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FB066-20B0-428A-97FF-D56D31145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7920" y="304560"/>
            <a:ext cx="8588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CE5C6-9664-43F3-81E1-915F5B043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7920" y="257760"/>
            <a:ext cx="858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7920" y="1142640"/>
            <a:ext cx="41907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560" y="1142640"/>
            <a:ext cx="419076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77920" y="3832560"/>
            <a:ext cx="41907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A4F24-AF19-4F67-84BF-8D6D84AAD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920" y="257760"/>
            <a:ext cx="858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7920" y="1142640"/>
            <a:ext cx="419076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560" y="1142640"/>
            <a:ext cx="41907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560" y="3832560"/>
            <a:ext cx="41907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51327-1A9F-4683-91B2-A0B054E384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7920" y="257760"/>
            <a:ext cx="858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7920" y="1142640"/>
            <a:ext cx="41907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560" y="1142640"/>
            <a:ext cx="41907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77920" y="3832560"/>
            <a:ext cx="8588160" cy="24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C0000-2CDB-4886-AA4B-E09591097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7920" y="1142640"/>
            <a:ext cx="858816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3800" y="6477120"/>
            <a:ext cx="7864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KLOE offline &amp; computing: Status report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– M. Moulson, LNF Scientific Committee, 2 Dec 200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68840" y="6478560"/>
            <a:ext cx="60804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CEE4-1E52-4B4A-8F4A-6D225B76D3A7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619760" cy="1524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LOE offline &amp; computing: Status repor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58200" y="3443400"/>
            <a:ext cx="48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. Moulson – INFN/Frasc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30320" y="4191120"/>
            <a:ext cx="528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NF Scientific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rascati, 2 December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PU/disk upgrades for 2004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0560" y="1219320"/>
            <a:ext cx="8089920" cy="49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000"/>
                <a:tab algn="l" pos="324000"/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servers for offline fa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10 IBM p630 servers: 10×4 POWER4+ 1.45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dds more than 80 B80 CPU equivalents to offline fa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162000"/>
                <a:tab algn="l" pos="324000"/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dditional 20 TB disk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To be added to DST cache and AFS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500"/>
              </a:spcBef>
              <a:tabLst>
                <a:tab algn="l" pos="0"/>
                <a:tab algn="l" pos="162000"/>
                <a:tab algn="l" pos="324000"/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More resources already allocated to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8 IBM B80 servers now available fo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Can maintain this allocation during 2004 data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0080" y="3886200"/>
            <a:ext cx="74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rdered, expected to be on-line by Janu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AAA16-5F8C-4BD8-AD14-818AFD4682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nstalled tape storage capacity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58680" y="1549440"/>
            <a:ext cx="723240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BM 3494 tape libr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12 Magstar 3590 drives, 14 MB/s read/wr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60 GB/cartridge (upgraded from 40 GB this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5200 cartridges (5400 sl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Dual active ac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Managed by Tivoli Storag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aximum capacity: 312 TB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(5200 cartrid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urrently in use: 185 T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E9C03-B224-45DE-AEFA-D6A0AB8048E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495680" y="1193760"/>
          <a:ext cx="447048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193760"/>
                    <a:ext cx="447048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5092560" y="4470480"/>
            <a:ext cx="3676680" cy="324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092560" y="3553920"/>
            <a:ext cx="3676680" cy="180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ape storage requirements for 2004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" y="1523880"/>
          <a:ext cx="3675240" cy="24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523880"/>
                    <a:ext cx="3675240" cy="24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28600" y="3822840"/>
          <a:ext cx="3687840" cy="24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822840"/>
                    <a:ext cx="3687840" cy="24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487080" y="1130400"/>
            <a:ext cx="35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d vol. by type (GB/pb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12200" y="1765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66000" y="4064040"/>
            <a:ext cx="25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4 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. streaming m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25560" y="174780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14320" y="20448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66720" y="29192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7560" y="2828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42480" y="4925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19000" y="5045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76080" y="5213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4680" y="5133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93360" y="589608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56360" y="5896080"/>
            <a:ext cx="70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7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48440" y="5896080"/>
            <a:ext cx="76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12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975440" y="5896080"/>
            <a:ext cx="76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1880" y="1139760"/>
            <a:ext cx="300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pe library usage (T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5294880" y="38448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393880" y="1647360"/>
            <a:ext cx="1083240" cy="1476720"/>
            <a:chOff x="5393880" y="1647360"/>
            <a:chExt cx="1083240" cy="1476720"/>
          </a:xfrm>
        </p:grpSpPr>
        <p:sp>
          <p:nvSpPr>
            <p:cNvPr id="154" name=""/>
            <p:cNvSpPr/>
            <p:nvPr/>
          </p:nvSpPr>
          <p:spPr>
            <a:xfrm flipH="1">
              <a:off x="5393520" y="2787480"/>
              <a:ext cx="739800" cy="336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a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394240" y="2409840"/>
              <a:ext cx="736560" cy="33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393520" y="2028960"/>
              <a:ext cx="739800" cy="336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5393520" y="1647720"/>
              <a:ext cx="739800" cy="336600"/>
            </a:xfrm>
            <a:prstGeom prst="rect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202440" y="2786760"/>
              <a:ext cx="274680" cy="336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6202440" y="2409120"/>
              <a:ext cx="274680" cy="336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202440" y="2028960"/>
              <a:ext cx="274680" cy="3362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6202440" y="1647000"/>
              <a:ext cx="274680" cy="3366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4C07D-7CFE-4408-90AC-9C109468A75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ape storage for 2004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61840" y="1187280"/>
            <a:ext cx="741816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162000"/>
                <a:tab algn="l" pos="324000"/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dditional IBM 3494 tape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6 Magstar 3592 drives: 300 GB/cartridge, 40 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itially 1000 cartridges (300 T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lots for 3600 cartridges (1080 T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motely accessed via FC/SAN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85640"/>
                <a:tab algn="l" pos="647640"/>
                <a:tab algn="l" pos="809640"/>
                <a:tab algn="l" pos="971640"/>
                <a:tab algn="l" pos="1133640"/>
                <a:tab algn="l" pos="1295280"/>
                <a:tab algn="l" pos="1457280"/>
                <a:tab algn="l" pos="1619280"/>
                <a:tab algn="l" pos="1781280"/>
                <a:tab algn="l" pos="1943280"/>
                <a:tab algn="l" pos="2104920"/>
                <a:tab algn="l" pos="2266920"/>
                <a:tab algn="l" pos="2428920"/>
                <a:tab algn="l" pos="2590920"/>
                <a:tab algn="l" pos="2752560"/>
                <a:tab algn="l" pos="2914560"/>
                <a:tab algn="l" pos="3076560"/>
                <a:tab algn="l" pos="3238560"/>
                <a:tab algn="l" pos="3400560"/>
                <a:tab algn="l" pos="35622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finitive solution for KLOE storag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4089240"/>
            <a:ext cx="777240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ando di gara submitted to Gazzetta Uffic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asonably expect 6 months to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8440" y="5410080"/>
            <a:ext cx="801684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space sufficient for a few months of new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26CCD-2577-4548-AC52-A6728FCCC4F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achine background filter for 2004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6120" y="1079640"/>
            <a:ext cx="8588520" cy="52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 filter (FILFO) last tuned on 1999-2000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5% inefficiency for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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events, varies with backgrou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inly traceable to cut to eliminate degraded Bhab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moval of this cut: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duces inefficiency to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s stream volume 5-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s CPU time 10-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downscale policy for bias-study s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raction of events not subject to veto, written to str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to produce bias-study sample for 2001-2002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 be implemented as reprocessing of a data subset with new downscale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ill allow additional studies on FILFO efficiency and c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0E620-22F9-4076-AC5D-F06B42D24B0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Other offline modifications for 2004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4600" y="1050840"/>
            <a:ext cx="8242200" cy="53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ifications to physics strea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1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habha stream: keep only subset of radiative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duces Bhabha stream volume by 4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duces overall stream volume by &gt;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1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ream: clean up choice of tags to re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duces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stream volume by 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1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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ream: new tag us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ully incorporate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d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dx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ode into re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iminate older tags, will reduce stream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 trigger as source of MC background fo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1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0 Hz of random triggers synched with beam crossing allows background simulation for </a:t>
            </a:r>
            <a:r>
              <a:rPr b="0" lang="en-US" sz="2800" spc="-1" strike="noStrike">
                <a:solidFill>
                  <a:srgbClr val="0000ff"/>
                </a:solidFill>
                <a:latin typeface="Monotype Corsiva"/>
              </a:rPr>
              <a:t>L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up to 2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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33478-E030-4149-B57D-5A4F749955E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3840" y="1054080"/>
            <a:ext cx="8407440" cy="52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pass at new MC production 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ulmination of ~1 year of effor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700M events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mprehensive upgrades, background from data, DST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tinuing effort: new upgrades nearly ready to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ts of new production requests to fulfill (180M ev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y to take data at 10 p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day in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PU situation looking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ape storage more critical, new library is definitiv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 in progress for 200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difications to background filter and physics 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ew source of background triggers for MC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33FB0-73ED-4A17-A206-C3AAA404251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7920" y="274284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dditional information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AB40F-90B0-4C73-8E27-3247EE9B75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924680" y="2666880"/>
            <a:ext cx="0" cy="30492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924680" y="3860640"/>
            <a:ext cx="0" cy="90360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3860640"/>
            <a:ext cx="0" cy="91440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2590920"/>
            <a:ext cx="0" cy="40644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81560" y="4419720"/>
            <a:ext cx="380880" cy="137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700000">
            <a:off x="4252320" y="2690640"/>
            <a:ext cx="640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KLOE computing resources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7240" y="5584680"/>
            <a:ext cx="7769520" cy="61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19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ape librar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BM 3494, 5400 60GB slots, 2 robots, T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9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324 TB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2 Magstar E1A drives, 14 MB/sec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240" y="4749840"/>
            <a:ext cx="7769520" cy="612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19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d disk sp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 TB SSA: offline st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9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5 T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 TB SSA + 3.5 TB FC: latent disk ca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0520" y="2971800"/>
            <a:ext cx="3382920" cy="9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offline f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19 IBM B80 4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×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3 3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 Sun E450 4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×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UltraSPARC-II 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56320" y="1790640"/>
            <a:ext cx="3198600" cy="914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S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IBM H70 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S64-III 3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7 TB SSA + 0.5 TB FC 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0520" y="1790640"/>
            <a:ext cx="3198960" cy="9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ine f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7 IBM H50 4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×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PC604e 33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4 TB SSA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72000" y="2971800"/>
            <a:ext cx="3382920" cy="914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is f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4 IBM B80 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3 3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Sun E450 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ltraSPARC-II 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4114800"/>
            <a:ext cx="5027760" cy="411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1827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 ser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IBM H80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64-III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1028880"/>
            <a:ext cx="2590560" cy="609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2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BM F50 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C604e 1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4" idx="3"/>
            <a:endCxn id="178" idx="1"/>
          </p:cNvCxnSpPr>
          <p:nvPr/>
        </p:nvCxnSpPr>
        <p:spPr>
          <a:xfrm>
            <a:off x="3489120" y="2247480"/>
            <a:ext cx="859320" cy="537480"/>
          </a:xfrm>
          <a:prstGeom prst="bentConnector2">
            <a:avLst/>
          </a:prstGeom>
          <a:ln w="38160">
            <a:solidFill>
              <a:srgbClr val="00aa00"/>
            </a:solidFill>
            <a:miter/>
          </a:ln>
        </p:spPr>
      </p:cxnSp>
      <p:cxnSp>
        <p:nvCxnSpPr>
          <p:cNvPr id="189" name=""/>
          <p:cNvCxnSpPr>
            <a:stCxn id="182" idx="3"/>
            <a:endCxn id="178" idx="2"/>
          </p:cNvCxnSpPr>
          <p:nvPr/>
        </p:nvCxnSpPr>
        <p:spPr>
          <a:xfrm flipV="1">
            <a:off x="3673440" y="3236400"/>
            <a:ext cx="675360" cy="192960"/>
          </a:xfrm>
          <a:prstGeom prst="bentConnector3">
            <a:avLst>
              <a:gd name="adj1" fmla="val 100426"/>
            </a:avLst>
          </a:prstGeom>
          <a:ln w="38160">
            <a:solidFill>
              <a:srgbClr val="00aa00"/>
            </a:solidFill>
            <a:miter/>
          </a:ln>
        </p:spPr>
      </p:cxnSp>
      <p:cxnSp>
        <p:nvCxnSpPr>
          <p:cNvPr id="190" name=""/>
          <p:cNvCxnSpPr>
            <a:stCxn id="186" idx="0"/>
            <a:endCxn id="191" idx="2"/>
          </p:cNvCxnSpPr>
          <p:nvPr/>
        </p:nvCxnSpPr>
        <p:spPr>
          <a:xfrm flipV="1">
            <a:off x="4571640" y="3580920"/>
            <a:ext cx="1080" cy="534240"/>
          </a:xfrm>
          <a:prstGeom prst="bentConnector2">
            <a:avLst/>
          </a:prstGeom>
          <a:ln w="76320">
            <a:solidFill>
              <a:srgbClr val="d60093"/>
            </a:solidFill>
            <a:miter/>
          </a:ln>
        </p:spPr>
      </p:cxnSp>
      <p:cxnSp>
        <p:nvCxnSpPr>
          <p:cNvPr id="192" name=""/>
          <p:cNvCxnSpPr>
            <a:stCxn id="187" idx="2"/>
            <a:endCxn id="191" idx="0"/>
          </p:cNvCxnSpPr>
          <p:nvPr/>
        </p:nvCxnSpPr>
        <p:spPr>
          <a:xfrm flipV="1" rot="10800000">
            <a:off x="4571280" y="1638000"/>
            <a:ext cx="1080" cy="800640"/>
          </a:xfrm>
          <a:prstGeom prst="bentConnector2">
            <a:avLst/>
          </a:prstGeom>
          <a:ln w="38160">
            <a:solidFill>
              <a:srgbClr val="00aa00"/>
            </a:solidFill>
            <a:miter/>
          </a:ln>
        </p:spPr>
      </p:cxnSp>
      <p:cxnSp>
        <p:nvCxnSpPr>
          <p:cNvPr id="193" name=""/>
          <p:cNvCxnSpPr>
            <a:stCxn id="183" idx="1"/>
            <a:endCxn id="178" idx="0"/>
          </p:cNvCxnSpPr>
          <p:nvPr/>
        </p:nvCxnSpPr>
        <p:spPr>
          <a:xfrm flipV="1" rot="10800000">
            <a:off x="4799880" y="2246760"/>
            <a:ext cx="856440" cy="537480"/>
          </a:xfrm>
          <a:prstGeom prst="bentConnector3">
            <a:avLst>
              <a:gd name="adj1" fmla="val 100336"/>
            </a:avLst>
          </a:prstGeom>
          <a:ln w="76320">
            <a:solidFill>
              <a:srgbClr val="d60093"/>
            </a:solidFill>
            <a:miter/>
          </a:ln>
        </p:spPr>
      </p:cxnSp>
      <p:cxnSp>
        <p:nvCxnSpPr>
          <p:cNvPr id="194" name=""/>
          <p:cNvCxnSpPr>
            <a:stCxn id="178" idx="3"/>
            <a:endCxn id="185" idx="1"/>
          </p:cNvCxnSpPr>
          <p:nvPr/>
        </p:nvCxnSpPr>
        <p:spPr>
          <a:xfrm flipH="1" rot="16200000">
            <a:off x="5039280" y="2997000"/>
            <a:ext cx="192960" cy="672120"/>
          </a:xfrm>
          <a:prstGeom prst="bentConnector4">
            <a:avLst>
              <a:gd name="adj1" fmla="val 100747"/>
              <a:gd name="adj2" fmla="val 66666"/>
            </a:avLst>
          </a:prstGeom>
          <a:ln w="38160">
            <a:solidFill>
              <a:srgbClr val="00aa00"/>
            </a:solidFill>
            <a:miter/>
          </a:ln>
        </p:spPr>
      </p:cxnSp>
      <p:sp>
        <p:nvSpPr>
          <p:cNvPr id="191" name=""/>
          <p:cNvSpPr/>
          <p:nvPr/>
        </p:nvSpPr>
        <p:spPr>
          <a:xfrm>
            <a:off x="4000680" y="2438280"/>
            <a:ext cx="114300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aly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27960" y="41673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06640" y="41673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66120" y="26668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06280" y="26668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a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44480" y="190512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a00"/>
                </a:solidFill>
                <a:latin typeface="Arial"/>
              </a:rPr>
              <a:t>100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02320" y="190512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Arial"/>
              </a:rPr>
              <a:t>1 G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8A3B8-EF40-4178-A6A2-D073131D91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30560" y="1347840"/>
            <a:ext cx="8270280" cy="44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upgrade kits for Magstar drives in tape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0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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60 GB/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tal capacity 208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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312 TB (5200 cartridges install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5 TB FiberChannel disk space for DST-access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tal capacity 2.2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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5.7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5 TB FiberChannel disk space for AFS cell (analy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tal capacity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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1.7 2.3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GB RAM for DB2 server (run/file datab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Offline hardware upgrades in 2003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94379-8ABF-40F7-8FB4-4647949112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Offline perspectives: 2003 </a:t>
            </a:r>
            <a:r>
              <a:rPr b="0" lang="en-US" sz="4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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2004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960" y="1774800"/>
            <a:ext cx="769608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reference to 2001-2002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472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mpletion of DST’s for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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472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mbitious program for Monte Carlo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ing towards the fu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472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eparation for data taking at 10 pb</a:t>
            </a:r>
            <a:r>
              <a:rPr b="1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day in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0E73C-F72A-4256-BA4B-4FFF6770B5B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econstruction and DST production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2112840"/>
            <a:ext cx="758880" cy="758880"/>
          </a:xfrm>
          <a:prstGeom prst="flowChartMagneticTap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66840" y="2114640"/>
            <a:ext cx="1262160" cy="757080"/>
          </a:xfrm>
          <a:prstGeom prst="flowChartProcess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32200" y="2114640"/>
            <a:ext cx="1262160" cy="757080"/>
          </a:xfrm>
          <a:prstGeom prst="flowChartProcess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5" idx="3"/>
            <a:endCxn id="208" idx="1"/>
          </p:cNvCxnSpPr>
          <p:nvPr/>
        </p:nvCxnSpPr>
        <p:spPr>
          <a:xfrm>
            <a:off x="2528640" y="2493720"/>
            <a:ext cx="345240" cy="1080"/>
          </a:xfrm>
          <a:prstGeom prst="bentConnector2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206" idx="3"/>
            <a:endCxn id="210" idx="0"/>
          </p:cNvCxnSpPr>
          <p:nvPr/>
        </p:nvCxnSpPr>
        <p:spPr>
          <a:xfrm>
            <a:off x="5994000" y="2493720"/>
            <a:ext cx="392760" cy="1080"/>
          </a:xfrm>
          <a:prstGeom prst="bentConnector2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4" idx="3"/>
            <a:endCxn id="205" idx="1"/>
          </p:cNvCxnSpPr>
          <p:nvPr/>
        </p:nvCxnSpPr>
        <p:spPr>
          <a:xfrm>
            <a:off x="949320" y="2491920"/>
            <a:ext cx="317880" cy="2520"/>
          </a:xfrm>
          <a:prstGeom prst="bentConnector3">
            <a:avLst>
              <a:gd name="adj1" fmla="val 50000"/>
            </a:avLst>
          </a:prstGeom>
          <a:ln w="381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873520" y="1990800"/>
            <a:ext cx="1508040" cy="1004760"/>
          </a:xfrm>
          <a:prstGeom prst="flowChartDecision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B/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08" idx="3"/>
            <a:endCxn id="206" idx="1"/>
          </p:cNvCxnSpPr>
          <p:nvPr/>
        </p:nvCxnSpPr>
        <p:spPr>
          <a:xfrm>
            <a:off x="4381560" y="2493720"/>
            <a:ext cx="351360" cy="1080"/>
          </a:xfrm>
          <a:prstGeom prst="bentConnector2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4041000" y="19810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58640" y="15620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14360" y="4321080"/>
            <a:ext cx="758880" cy="758880"/>
          </a:xfrm>
          <a:prstGeom prst="flowChartMagneticTap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30800" y="4322880"/>
            <a:ext cx="1261800" cy="757080"/>
          </a:xfrm>
          <a:prstGeom prst="flowChart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09840" y="4199040"/>
            <a:ext cx="1508040" cy="1004760"/>
          </a:xfrm>
          <a:prstGeom prst="flowChartDecision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6067080" y="4199040"/>
            <a:ext cx="1004760" cy="10047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7160" rIns="90000" tIns="0" bIns="46800" anchor="ctr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51640" y="4321080"/>
            <a:ext cx="758880" cy="758880"/>
          </a:xfrm>
          <a:prstGeom prst="flowChartMagneticTap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5640" y="1359000"/>
            <a:ext cx="45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nstruction and 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480" y="368460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ST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5" idx="3"/>
            <a:endCxn id="217" idx="1"/>
          </p:cNvCxnSpPr>
          <p:nvPr/>
        </p:nvCxnSpPr>
        <p:spPr>
          <a:xfrm>
            <a:off x="2072880" y="4700160"/>
            <a:ext cx="337320" cy="25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7" idx="3"/>
            <a:endCxn id="216" idx="1"/>
          </p:cNvCxnSpPr>
          <p:nvPr/>
        </p:nvCxnSpPr>
        <p:spPr>
          <a:xfrm>
            <a:off x="3917520" y="4701960"/>
            <a:ext cx="41364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6" idx="3"/>
            <a:endCxn id="218" idx="3"/>
          </p:cNvCxnSpPr>
          <p:nvPr/>
        </p:nvCxnSpPr>
        <p:spPr>
          <a:xfrm>
            <a:off x="5592240" y="4701960"/>
            <a:ext cx="47700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8" idx="0"/>
            <a:endCxn id="219" idx="1"/>
          </p:cNvCxnSpPr>
          <p:nvPr/>
        </p:nvCxnSpPr>
        <p:spPr>
          <a:xfrm flipV="1">
            <a:off x="7073640" y="4699800"/>
            <a:ext cx="378360" cy="2520"/>
          </a:xfrm>
          <a:prstGeom prst="bentConnector3">
            <a:avLst>
              <a:gd name="adj1" fmla="val 4952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 rot="16200000">
            <a:off x="2926440" y="1775520"/>
            <a:ext cx="92160" cy="2741760"/>
          </a:xfrm>
          <a:custGeom>
            <a:avLst/>
            <a:gdLst>
              <a:gd name="textAreaLeft" fmla="*/ 27000 w 92160"/>
              <a:gd name="textAreaRight" fmla="*/ 92520 w 92160"/>
              <a:gd name="textAreaTop" fmla="*/ 82800 h 2741760"/>
              <a:gd name="textAreaBottom" fmla="*/ 2658960 h 274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55"/>
                  <a:pt x="0" y="1309"/>
                </a:cubicBezTo>
                <a:lnTo>
                  <a:pt x="0" y="20291"/>
                </a:lnTo>
                <a:cubicBezTo>
                  <a:pt x="0" y="20946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5426280" y="2293200"/>
            <a:ext cx="23187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924600" y="1959120"/>
            <a:ext cx="304920" cy="1066680"/>
          </a:xfrm>
          <a:prstGeom prst="rightArrow">
            <a:avLst>
              <a:gd name="adj1" fmla="val 39213"/>
              <a:gd name="adj2" fmla="val 5833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22960" y="3002040"/>
            <a:ext cx="700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98360" y="3002040"/>
            <a:ext cx="826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0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62720" y="31860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80" y="3002040"/>
            <a:ext cx="14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80 GB/pb</a:t>
            </a:r>
            <a:r>
              <a:rPr b="1" lang="en-US" sz="18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385040" y="1143000"/>
            <a:ext cx="1582560" cy="2409840"/>
            <a:chOff x="7385040" y="1143000"/>
            <a:chExt cx="1582560" cy="2409840"/>
          </a:xfrm>
        </p:grpSpPr>
        <p:sp>
          <p:nvSpPr>
            <p:cNvPr id="233" name=""/>
            <p:cNvSpPr/>
            <p:nvPr/>
          </p:nvSpPr>
          <p:spPr>
            <a:xfrm>
              <a:off x="7385040" y="1968480"/>
              <a:ext cx="758520" cy="758880"/>
            </a:xfrm>
            <a:prstGeom prst="flowChartMagneticTap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i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i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85040" y="2793960"/>
              <a:ext cx="758520" cy="758880"/>
            </a:xfrm>
            <a:prstGeom prst="flowChartMagneticTap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85040" y="1143000"/>
              <a:ext cx="758520" cy="758880"/>
            </a:xfrm>
            <a:prstGeom prst="flowChartMagneticTap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h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208720" y="1663560"/>
              <a:ext cx="758880" cy="758880"/>
            </a:xfrm>
            <a:prstGeom prst="flowChartMagneticTap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Prop BT"/>
                  <a:ea typeface="SymbolProp BT"/>
                </a:rPr>
                <a:t>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Prop BT"/>
                  <a:ea typeface="SymbolProp BT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08720" y="2486160"/>
              <a:ext cx="749520" cy="809640"/>
            </a:xfrm>
            <a:prstGeom prst="flowChartMagneticTap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Prop BT"/>
                  <a:ea typeface="SymbolProp BT"/>
                </a:rPr>
                <a:t>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7460640" y="3591000"/>
            <a:ext cx="14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0 GB/pb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Prop BT"/>
                <a:ea typeface="SymbolProp BT"/>
              </a:rPr>
              <a:t>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4768200" y="3153240"/>
            <a:ext cx="91800" cy="4351320"/>
          </a:xfrm>
          <a:custGeom>
            <a:avLst/>
            <a:gdLst>
              <a:gd name="textAreaLeft" fmla="*/ 27000 w 91800"/>
              <a:gd name="textAreaRight" fmla="*/ 92160 w 91800"/>
              <a:gd name="textAreaTop" fmla="*/ 144000 h 4351320"/>
              <a:gd name="textAreaBottom" fmla="*/ 4207320 h 435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715"/>
                  <a:pt x="0" y="1430"/>
                </a:cubicBezTo>
                <a:lnTo>
                  <a:pt x="0" y="20170"/>
                </a:lnTo>
                <a:cubicBezTo>
                  <a:pt x="0" y="20885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99920" y="54151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07000" y="541512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 GB/pb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Prop BT"/>
                <a:ea typeface="SymbolProp BT"/>
              </a:rPr>
              <a:t>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34560" y="5415120"/>
            <a:ext cx="11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GB/p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1360" y="5369040"/>
            <a:ext cx="79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8920" y="5754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400" spc="-1" strike="noStrike" baseline="30000">
                <a:solidFill>
                  <a:srgbClr val="ff0000"/>
                </a:solidFill>
                <a:latin typeface="SymbolProp BT"/>
                <a:ea typeface="SymbolProp BT"/>
              </a:rPr>
              <a:t>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400" spc="-1" strike="noStrike" baseline="30000">
                <a:solidFill>
                  <a:srgbClr val="ff0000"/>
                </a:solidFill>
                <a:latin typeface="SymbolProp BT"/>
                <a:ea typeface="SymbolProp BT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36560" y="5799240"/>
            <a:ext cx="95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5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39160" y="57992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5 GB/p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07000" y="579924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 GB/pb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Prop BT"/>
                <a:ea typeface="SymbolProp BT"/>
              </a:rPr>
              <a:t>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3440" y="50529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E907F-9450-4351-9466-3F1D2E0BD9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ata-summary tapes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95360" y="1670040"/>
          <a:ext cx="8153280" cy="3511080"/>
        </p:xfrm>
        <a:graphic>
          <a:graphicData uri="http://schemas.openxmlformats.org/drawingml/2006/table">
            <a:tbl>
              <a:tblPr/>
              <a:tblGrid>
                <a:gridCol w="2666880"/>
                <a:gridCol w="1785960"/>
                <a:gridCol w="2023920"/>
                <a:gridCol w="1676520"/>
              </a:tblGrid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T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 size (G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 size (G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 time (day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al radi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ged radi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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0 pb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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495360" y="1065240"/>
            <a:ext cx="81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s of May, entire data set (450 pb</a:t>
            </a:r>
            <a:r>
              <a:rPr b="1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 available as DST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43000" y="5425920"/>
            <a:ext cx="8697960" cy="825480"/>
            <a:chOff x="243000" y="5425920"/>
            <a:chExt cx="8697960" cy="825480"/>
          </a:xfrm>
        </p:grpSpPr>
        <p:sp>
          <p:nvSpPr>
            <p:cNvPr id="253" name=""/>
            <p:cNvSpPr/>
            <p:nvPr/>
          </p:nvSpPr>
          <p:spPr>
            <a:xfrm>
              <a:off x="243000" y="5425920"/>
              <a:ext cx="332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tal space: 4.3 T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C DST’s add ~1.6 T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01480" y="5425920"/>
              <a:ext cx="483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ST disk cache: 5.7 T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jority of DST’s disk-acces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55800" y="5493960"/>
              <a:ext cx="304920" cy="685800"/>
            </a:xfrm>
            <a:prstGeom prst="rightArrow">
              <a:avLst>
                <a:gd name="adj1" fmla="val 46296"/>
                <a:gd name="adj2" fmla="val 58333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68A97-85D9-4DE1-BE90-0490D29FE82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19040" y="1268280"/>
            <a:ext cx="8293320" cy="45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ST’s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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s newly available in early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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vents completely re-reconstructed for DST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Dedicated energy-loss treatment (</a:t>
            </a:r>
            <a:r>
              <a:rPr b="0" i="1" lang="it-IT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i="1" lang="it-IT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i="1" lang="it-IT" sz="2400" spc="-1" strike="noStrike" baseline="-25000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) in track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Contribution from correlated multiple-scattering errors included in evaluation of error matrix for track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Improved merging of split kaon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Dedicated algorithm for global </a:t>
            </a:r>
            <a:r>
              <a:rPr b="0" i="1" lang="it-IT" sz="24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Kaon time-of-flight corrections to drift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Bef>
                <a:spcPts val="10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ff"/>
                </a:solidFill>
                <a:latin typeface="Times New Roman"/>
              </a:rPr>
              <a:t>dE</a:t>
            </a:r>
            <a:r>
              <a:rPr b="0" lang="it-IT" sz="24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0" i="1" lang="it-IT" sz="2400" spc="-1" strike="noStrike">
                <a:solidFill>
                  <a:srgbClr val="0000ff"/>
                </a:solidFill>
                <a:latin typeface="Times New Roman"/>
              </a:rPr>
              <a:t>dx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reconstruction from DC ADC’s int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ST’s for </a:t>
            </a:r>
            <a:r>
              <a:rPr b="0" i="1" lang="en-US" sz="40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en-US" sz="40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</a:t>
            </a:r>
            <a:r>
              <a:rPr b="0" i="1" lang="en-US" sz="40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en-US" sz="40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stream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341BD-B1CF-4E40-9283-659FEDF84E5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71680" y="1168560"/>
            <a:ext cx="800100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1" lang="it-IT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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decay/ISR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Effective </a:t>
            </a:r>
            <a:r>
              <a:rPr b="0" lang="it-IT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</a:t>
            </a:r>
            <a:r>
              <a:rPr b="0" i="1" lang="it-IT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sampled before </a:t>
            </a:r>
            <a:r>
              <a:rPr b="0" lang="it-IT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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decay channel cho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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BR’s from KLOE cross-section measurements vs. </a:t>
            </a:r>
            <a:r>
              <a:rPr b="0" lang="it-IT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</a:t>
            </a:r>
            <a:r>
              <a:rPr b="0" i="1" lang="it-IT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it-IT" sz="2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it-IT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it-IT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regeneration upd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Regeneration on Al in DC wall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Nuclear recoil treated, angular distributions mod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</a:t>
            </a:r>
            <a:r>
              <a:rPr b="1" lang="it-IT" sz="24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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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it-IT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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it-IT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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generators upd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nd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mass spectra from fits to KLOE 2000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ew generators for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it-IT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it-IT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1" lang="it-IT" sz="24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</a:t>
            </a:r>
            <a:r>
              <a:rPr b="1" lang="it-IT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1" lang="it-IT" sz="24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1" lang="it-IT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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it-IT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1" lang="it-IT" sz="24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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it-IT" sz="2400" spc="-1" strike="noStrike" baseline="30000">
                <a:solidFill>
                  <a:srgbClr val="000000"/>
                </a:solidFill>
                <a:latin typeface="MT Extra"/>
                <a:ea typeface="MT Extra"/>
              </a:rPr>
              <a:t></a:t>
            </a:r>
            <a:r>
              <a:rPr b="1" lang="it-IT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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No cutoff at low </a:t>
            </a:r>
            <a:r>
              <a:rPr b="0" i="1" lang="it-IT" sz="24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it-IT" sz="2400" spc="-1" strike="noStrike" baseline="-25000">
                <a:solidFill>
                  <a:srgbClr val="0000ff"/>
                </a:solidFill>
                <a:latin typeface="SymbolProp BT"/>
                <a:ea typeface="SymbolProp BT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C upgrades: event generators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595BA-795F-40FE-9744-25FFA3DC81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266760" y="1066680"/>
          <a:ext cx="8610480" cy="5181840"/>
        </p:xfrm>
        <a:graphic>
          <a:graphicData uri="http://schemas.openxmlformats.org/drawingml/2006/table">
            <a:tbl>
              <a:tblPr/>
              <a:tblGrid>
                <a:gridCol w="1295280"/>
                <a:gridCol w="7315200"/>
              </a:tblGrid>
              <a:tr h="1492200"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metry revis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stic wire sags from survey implement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lations from simulated cosmic ray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d wire simulation (map a function of run numbe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892600"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82880" rIns="90000" tIns="46800" bIns="46800" anchor="ctr">
                      <a:noAutofit/>
                    </a:bodyPr>
                    <a:p>
                      <a:pPr marL="235080" indent="-235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metry revis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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from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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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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vents in data used to calibrate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ing fra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response and resolu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response and resolu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on dependence of abo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d zones at module interfaces simulat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5080" indent="-235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er attenuation length variations in endcaps simulat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97040"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g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sholds (in reconstructed EmC/DC hits) adjust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sholds a function of run numb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C upgrades: detector simulation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12BA1-592D-4CD1-8B0D-21D6995880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35080" y="304560"/>
            <a:ext cx="8673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C upgrades: background simulation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6240" y="1058760"/>
            <a:ext cx="8829360" cy="54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 extracted fro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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vents 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ampled evenly as a function of integrated lumin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ach background event inserted in fixed number of MC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serted background has same temporal profile as 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simulation of background in physical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l DC hits inserted (including tracklet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l EmC clusters inserted (except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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lus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ackground hits inserted with timing relative to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p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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vent selec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 clusters on barrel with |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R/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| &lt; 5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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&gt; 350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to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&gt; 800 MeV,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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180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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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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ne background file per raw data file: 77,000 files, 8 GB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78E47-F4B4-4FFE-B1B8-53670011FD2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30560" y="2438280"/>
            <a:ext cx="69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urity of in-time background cluster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35080" y="304560"/>
            <a:ext cx="8673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solation of background clusters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90440" y="3813120"/>
            <a:ext cx="8755200" cy="2523960"/>
            <a:chOff x="190440" y="3813120"/>
            <a:chExt cx="8755200" cy="2523960"/>
          </a:xfrm>
        </p:grpSpPr>
        <p:pic>
          <p:nvPicPr>
            <p:cNvPr id="267" name="bangle" descr=""/>
            <p:cNvPicPr/>
            <p:nvPr/>
          </p:nvPicPr>
          <p:blipFill>
            <a:blip r:embed="rId1"/>
            <a:stretch/>
          </p:blipFill>
          <p:spPr>
            <a:xfrm>
              <a:off x="3174840" y="3813120"/>
              <a:ext cx="2624400" cy="251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benergy" descr=""/>
            <p:cNvPicPr/>
            <p:nvPr/>
          </p:nvPicPr>
          <p:blipFill>
            <a:blip r:embed="rId2"/>
            <a:stretch/>
          </p:blipFill>
          <p:spPr>
            <a:xfrm>
              <a:off x="190440" y="3813120"/>
              <a:ext cx="2687760" cy="250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bmult" descr=""/>
            <p:cNvPicPr/>
            <p:nvPr/>
          </p:nvPicPr>
          <p:blipFill>
            <a:blip r:embed="rId3"/>
            <a:stretch/>
          </p:blipFill>
          <p:spPr>
            <a:xfrm>
              <a:off x="6248520" y="3825720"/>
              <a:ext cx="2697120" cy="25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1870920" y="385452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</a:rPr>
                <a:t>dN/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45200" y="3855960"/>
              <a:ext cx="135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</a:rPr>
                <a:t>dN/d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(cos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Prop BT"/>
                  <a:ea typeface="SymbolProp BT"/>
                </a:rPr>
                <a:t>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01880" y="3854520"/>
              <a:ext cx="150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Multiplic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51200" y="57020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31640" y="1063800"/>
            <a:ext cx="83059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clusters must be &gt; 100 cm from </a:t>
            </a:r>
            <a:r>
              <a:rPr b="0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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-weighting technique cleans up residual contamination from cluster fragments and </a:t>
            </a:r>
            <a:r>
              <a:rPr b="0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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840240" y="2895480"/>
            <a:ext cx="7465320" cy="764280"/>
            <a:chOff x="840240" y="2895480"/>
            <a:chExt cx="7465320" cy="764280"/>
          </a:xfrm>
        </p:grpSpPr>
        <p:sp>
          <p:nvSpPr>
            <p:cNvPr id="276" name=""/>
            <p:cNvSpPr/>
            <p:nvPr/>
          </p:nvSpPr>
          <p:spPr>
            <a:xfrm>
              <a:off x="3047760" y="2895480"/>
              <a:ext cx="525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n-time clusters selected as backgroun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ut-of-time clusters in data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19160" y="30304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19160" y="344808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40240" y="3062160"/>
              <a:ext cx="131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ates f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05080" y="304776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BF4ED-926A-44B2-952A-43BC47A531E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15527" t="52825" r="28646" b="7189"/>
          <a:stretch/>
        </p:blipFill>
        <p:spPr>
          <a:xfrm>
            <a:off x="546120" y="3936960"/>
            <a:ext cx="3981600" cy="20718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rcRect l="16066" t="10146" r="28923" b="7372"/>
          <a:stretch/>
        </p:blipFill>
        <p:spPr>
          <a:xfrm>
            <a:off x="4822920" y="1620720"/>
            <a:ext cx="4016160" cy="43754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957960" y="1108080"/>
            <a:ext cx="3454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iciency: </a:t>
            </a:r>
            <a:r>
              <a:rPr b="1" lang="en-US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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</a:t>
            </a:r>
            <a:r>
              <a:rPr b="1" lang="en-US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rcRect l="15527" t="9587" r="28646" b="51590"/>
          <a:stretch/>
        </p:blipFill>
        <p:spPr>
          <a:xfrm>
            <a:off x="552600" y="1608120"/>
            <a:ext cx="3981240" cy="20113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470760" y="3568680"/>
            <a:ext cx="1124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70760" y="5956200"/>
            <a:ext cx="1124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6218600">
            <a:off x="-163080" y="2256840"/>
            <a:ext cx="982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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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6218600">
            <a:off x="-163080" y="4622400"/>
            <a:ext cx="982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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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86720" y="1898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331360" y="283068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86720" y="4137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331360" y="514044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788600" y="1969920"/>
            <a:ext cx="73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13680" y="1108080"/>
            <a:ext cx="31982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olution: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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</a:t>
            </a:r>
            <a:r>
              <a:rPr b="1" lang="en-US" sz="22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753320" y="595620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rcRect l="13526" t="16218" r="54561" b="7931"/>
          <a:stretch/>
        </p:blipFill>
        <p:spPr>
          <a:xfrm>
            <a:off x="5268960" y="2141640"/>
            <a:ext cx="1258920" cy="21715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5214960" y="4354560"/>
            <a:ext cx="13111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 of radiative 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30760" y="5173560"/>
            <a:ext cx="173160" cy="39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23000" y="21733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623000" y="2487600"/>
            <a:ext cx="152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623000" y="2787480"/>
            <a:ext cx="152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4987080" y="243144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C-data comparison: tracking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AE046-AE5E-48E5-9B35-F4682B85060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2004 CPU estimate: details 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24840" y="990720"/>
            <a:ext cx="72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polated from 2002 data with some MC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4400" y="1523880"/>
            <a:ext cx="4014000" cy="46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</a:t>
            </a:r>
            <a:r>
              <a:rPr b="0" lang="en-US" sz="2400" spc="-1" strike="noStrike">
                <a:solidFill>
                  <a:srgbClr val="0000ff"/>
                </a:solidFill>
                <a:latin typeface="Monotype Corsiva"/>
              </a:rPr>
              <a:t>L</a:t>
            </a:r>
            <a:r>
              <a:rPr b="0" lang="en-US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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36 </a:t>
            </a:r>
            <a:r>
              <a:rPr b="0" lang="en-US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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20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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3</a:t>
            </a:r>
            <a:r>
              <a:rPr b="0" lang="en-US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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156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5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45 Hz </a:t>
            </a:r>
            <a:r>
              <a:rPr b="0" lang="en-US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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+ Bhab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5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680 Hz unvetoed 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5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535 Hz b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</a:t>
            </a:r>
            <a:r>
              <a:rPr b="0" lang="en-US" sz="2400" spc="-1" strike="noStrike">
                <a:solidFill>
                  <a:srgbClr val="ff0000"/>
                </a:solidFill>
                <a:latin typeface="Monotype Corsiva"/>
              </a:rPr>
              <a:t>L</a:t>
            </a:r>
            <a:r>
              <a:rPr b="0" lang="en-US" sz="20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= 100 </a:t>
            </a:r>
            <a:r>
              <a:rPr b="0" lang="en-US" sz="20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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Prop BT"/>
                <a:ea typeface="SymbolProp BT"/>
              </a:rPr>
              <a:t>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/s (assum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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3</a:t>
            </a:r>
            <a:r>
              <a:rPr b="0" lang="en-US" sz="20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= 2175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5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60 Hz </a:t>
            </a:r>
            <a:r>
              <a:rPr b="0" lang="en-US" sz="20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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+ Bhab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5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80 Hz unvetoed 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5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35 Hz bkg (assumed const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21240" y="1523880"/>
            <a:ext cx="4419720" cy="43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M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Prop BT"/>
                <a:ea typeface="SymbolProp BT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3.1 </a:t>
            </a:r>
            <a:r>
              <a:rPr b="0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(assum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Bhabha trigger: </a:t>
            </a:r>
            <a:r>
              <a:rPr b="0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9.6 </a:t>
            </a:r>
            <a:r>
              <a:rPr b="0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Bhabha FILFO: </a:t>
            </a:r>
            <a:r>
              <a:rPr b="0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8.9 </a:t>
            </a:r>
            <a:r>
              <a:rPr b="0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(</a:t>
            </a:r>
            <a:r>
              <a:rPr b="0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Bhabha) = 61 ms av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 time calc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25 ms to process any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3.6 ms for 60% of bkg ev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61 ms for 93% of </a:t>
            </a:r>
            <a:r>
              <a:rPr b="0" lang="en-US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Bha ev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002: 19.6 ms/evt overall –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04: 31.3 ms/evt overall (</a:t>
            </a:r>
            <a:r>
              <a:rPr b="1" lang="en-US" sz="20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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9D9A0-6D05-4005-83C2-816E91EEE92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2004 tape space estimate: details 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6000" y="1117440"/>
            <a:ext cx="4740120" cy="49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001: 274 GB/pb</a:t>
            </a:r>
            <a:r>
              <a:rPr b="1" lang="en-US" sz="20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002: 118 GB/pb</a:t>
            </a:r>
            <a:r>
              <a:rPr b="1" lang="en-US" sz="20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5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ighly dependent on lumin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004: Estimate a p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5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ssume: 2175 Hz @ 2.6 KB/e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aw event size assumed same for all events (has varied very little with background over KLOE his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5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ssume: </a:t>
            </a:r>
            <a:r>
              <a:rPr b="0" lang="en-US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</a:t>
            </a:r>
            <a:r>
              <a:rPr b="0" lang="en-US" sz="2200" spc="-1" strike="noStrike">
                <a:solidFill>
                  <a:srgbClr val="0000ff"/>
                </a:solidFill>
                <a:latin typeface="Monotype Corsiva"/>
              </a:rPr>
              <a:t>L</a:t>
            </a:r>
            <a:r>
              <a:rPr b="0" lang="en-US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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100 </a:t>
            </a:r>
            <a:r>
              <a:rPr b="0" lang="en-US" sz="20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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20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5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 pb</a:t>
            </a:r>
            <a:r>
              <a:rPr b="0" lang="en-US" sz="20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10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5.0 GB for 9.6M physics ev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1.7 GB for 12.2M bkg ev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2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1215 Hz of bkg for 10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6.7 GB/pb-1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5040" y="384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5105520" y="1905120"/>
          <a:ext cx="3733560" cy="3462120"/>
        </p:xfrm>
        <a:graphic>
          <a:graphicData uri="http://schemas.openxmlformats.org/drawingml/2006/table">
            <a:tbl>
              <a:tblPr/>
              <a:tblGrid>
                <a:gridCol w="1154160"/>
                <a:gridCol w="1288800"/>
                <a:gridCol w="12906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-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/p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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/p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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000" spc="-1" strike="noStrike" baseline="30000">
                          <a:solidFill>
                            <a:srgbClr val="808080"/>
                          </a:solidFill>
                          <a:latin typeface="SymbolProp BT"/>
                          <a:ea typeface="SymbolProp BT"/>
                        </a:rPr>
                        <a:t></a:t>
                      </a: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000" spc="-1" strike="noStrike" baseline="30000">
                          <a:solidFill>
                            <a:srgbClr val="808080"/>
                          </a:solidFill>
                          <a:latin typeface="SymbolProp BT"/>
                          <a:ea typeface="SymbolProp BT"/>
                        </a:rPr>
                        <a:t>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SymbolProp BT"/>
                          <a:ea typeface="SymbolProp BT"/>
                        </a:rPr>
                        <a:t>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radi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ab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12" name=""/>
          <p:cNvSpPr/>
          <p:nvPr/>
        </p:nvSpPr>
        <p:spPr>
          <a:xfrm>
            <a:off x="2884680" y="1219320"/>
            <a:ext cx="7934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60680" y="1219320"/>
            <a:ext cx="11484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16640" y="112716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clude effects of streaming chan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103280" y="5730840"/>
            <a:ext cx="732240" cy="520560"/>
          </a:xfrm>
          <a:prstGeom prst="rect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75200" y="5638680"/>
            <a:ext cx="4016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a00"/>
                </a:solidFill>
                <a:latin typeface="Arial"/>
              </a:rPr>
              <a:t>Assumes 1.7M evt/pb</a:t>
            </a:r>
            <a:r>
              <a:rPr b="0" lang="en-US" sz="2000" spc="-1" strike="noStrike" baseline="30000">
                <a:solidFill>
                  <a:srgbClr val="00aa00"/>
                </a:solidFill>
                <a:latin typeface="SymbolProp BT"/>
                <a:ea typeface="SymbolProp BT"/>
              </a:rPr>
              <a:t></a:t>
            </a:r>
            <a:r>
              <a:rPr b="0" lang="en-US" sz="2000" spc="-1" strike="noStrike" baseline="30000">
                <a:solidFill>
                  <a:srgbClr val="00aa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aa00"/>
                </a:solidFill>
                <a:latin typeface="Arial"/>
              </a:rPr>
              <a:t> pro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a00"/>
                </a:solidFill>
                <a:latin typeface="SymbolProp BT"/>
                <a:ea typeface="SymbolProp BT"/>
              </a:rPr>
              <a:t></a:t>
            </a:r>
            <a:r>
              <a:rPr b="0" lang="en-US" sz="2000" spc="-1" strike="noStrike">
                <a:solidFill>
                  <a:srgbClr val="00aa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aa00"/>
                </a:solidFill>
                <a:latin typeface="Arial"/>
              </a:rPr>
              <a:t>all (1:5) and </a:t>
            </a:r>
            <a:r>
              <a:rPr b="0" lang="en-US" sz="2000" spc="-1" strike="noStrike">
                <a:solidFill>
                  <a:srgbClr val="00aa00"/>
                </a:solidFill>
                <a:latin typeface="SymbolProp BT"/>
                <a:ea typeface="SymbolProp BT"/>
              </a:rPr>
              <a:t></a:t>
            </a:r>
            <a:r>
              <a:rPr b="0" lang="en-US" sz="2000" spc="-1" strike="noStrike">
                <a:solidFill>
                  <a:srgbClr val="00aa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aa00"/>
                </a:solidFill>
                <a:latin typeface="SymbolProp BT"/>
                <a:ea typeface="SymbolProp BT"/>
              </a:rPr>
              <a:t></a:t>
            </a:r>
            <a:r>
              <a:rPr b="0" lang="en-US" sz="2000" spc="-1" strike="noStrike">
                <a:solidFill>
                  <a:srgbClr val="00aa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a00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00aa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aa00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00aa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aa00"/>
                </a:solidFill>
                <a:latin typeface="Arial"/>
              </a:rPr>
              <a:t> (1: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70D29-5A28-4D90-B664-FF3C67AD6E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2003 Monte Carlo production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7520" y="1044720"/>
            <a:ext cx="8534520" cy="54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s comparable in statistics to 450 p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run in data set individually sim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4720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Font typeface="SymbolProp BT" charset="2"/>
              <a:buChar char=""/>
              <a:tabLst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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SymbolProp BT"/>
                <a:ea typeface="SymbolProp BT"/>
              </a:rPr>
              <a:t>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SymbolProp BT"/>
                <a:ea typeface="SymbolProp BT"/>
              </a:rPr>
              <a:t>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background, dead wires, trigger threshold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ehensive series of upgrades to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4720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uite of new generators introduced, particular emphasis on radiativ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4720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eometry carefully revised and response simulation tuned for both EmC and 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sion of accidental activity from machine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4720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tracted from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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events in data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4720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serted run-by-run to match temporal profile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217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C DST’s to provide convenient user inte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C161F-1544-49B2-A5C7-166A123EC6D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C production: known problems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58560" y="1130400"/>
            <a:ext cx="8420760" cy="52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 concerning gen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2120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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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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s.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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constant for 2001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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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ll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2120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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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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vs.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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resonant for 2002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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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ll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2120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R(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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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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ctual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2120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R(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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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f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from resonance shape for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2120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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reversed in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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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2120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ug in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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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 concerning reconstru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2120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ad wires dropped after (not before) DC trigger e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2120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rror in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relations used for DC re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 concerning DST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2120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ed standard (not dedicated) MB filter for rad DST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4827F-281B-4BD4-BFC3-DE24A04FE85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787320" y="1676520"/>
          <a:ext cx="7543800" cy="3047760"/>
        </p:xfrm>
        <a:graphic>
          <a:graphicData uri="http://schemas.openxmlformats.org/drawingml/2006/table">
            <a:tbl>
              <a:tblPr/>
              <a:tblGrid>
                <a:gridCol w="1981440"/>
                <a:gridCol w="1904760"/>
                <a:gridCol w="2133720"/>
                <a:gridCol w="1523880"/>
              </a:tblGrid>
              <a:tr h="973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PU day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73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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99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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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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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489240" y="1155600"/>
            <a:ext cx="815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ion completed to date (~450 p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001-2002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C production status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6240" y="4984920"/>
            <a:ext cx="8890560" cy="1192320"/>
            <a:chOff x="66240" y="4984920"/>
            <a:chExt cx="8890560" cy="1192320"/>
          </a:xfrm>
        </p:grpSpPr>
        <p:sp>
          <p:nvSpPr>
            <p:cNvPr id="89" name=""/>
            <p:cNvSpPr/>
            <p:nvPr/>
          </p:nvSpPr>
          <p:spPr>
            <a:xfrm>
              <a:off x="4384800" y="4986000"/>
              <a:ext cx="457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Running time, entire program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About 3 months elapsed 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60 offline CPU’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40" y="4984920"/>
              <a:ext cx="4185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23493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PU time/event (typical)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>
                <a:lnSpc>
                  <a:spcPct val="100000"/>
                </a:lnSpc>
                <a:tabLst>
                  <a:tab algn="l" pos="0"/>
                  <a:tab algn="l" pos="23493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eneration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0 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>
                <a:lnSpc>
                  <a:spcPct val="100000"/>
                </a:lnSpc>
                <a:tabLst>
                  <a:tab algn="l" pos="0"/>
                  <a:tab algn="l" pos="23493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onstruct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75 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FE16F-AB3A-4D8B-AD32-1399D633FDA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C: Upgrades in progress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7280" y="5553000"/>
            <a:ext cx="819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these modifications to be available in 2-3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uld like to rerun production already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157720" y="1092240"/>
            <a:ext cx="3757680" cy="2558880"/>
            <a:chOff x="5157720" y="1092240"/>
            <a:chExt cx="3757680" cy="2558880"/>
          </a:xfrm>
        </p:grpSpPr>
        <p:sp>
          <p:nvSpPr>
            <p:cNvPr id="94" name=""/>
            <p:cNvSpPr/>
            <p:nvPr/>
          </p:nvSpPr>
          <p:spPr>
            <a:xfrm>
              <a:off x="5646960" y="1092240"/>
              <a:ext cx="3198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W efficiency vs. DC lay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hewff" descr=""/>
            <p:cNvPicPr/>
            <p:nvPr/>
          </p:nvPicPr>
          <p:blipFill>
            <a:blip r:embed="rId1"/>
            <a:srcRect l="0" t="10451" r="17672" b="28682"/>
            <a:stretch/>
          </p:blipFill>
          <p:spPr>
            <a:xfrm>
              <a:off x="5157720" y="1434960"/>
              <a:ext cx="3757680" cy="22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6728400" y="2598840"/>
              <a:ext cx="20260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 (Run 2497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MC (Run 2497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65960" y="3016080"/>
              <a:ext cx="136440" cy="13680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64160" y="2684520"/>
              <a:ext cx="136800" cy="136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39680" y="1168560"/>
            <a:ext cx="4876920" cy="20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tion of DC hardware in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ing of EmC response to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95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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deposit 20% more energy in MC than 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1120" y="3241800"/>
            <a:ext cx="800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sponse of fibers adju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ood MC-data agreement for peak of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ngoing studies of cluster fragmentation in 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generators for radiativ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c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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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;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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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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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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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(IB);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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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0" lang="en-US" sz="2400" spc="-1" strike="noStrike">
                <a:solidFill>
                  <a:srgbClr val="0000ff"/>
                </a:solidFill>
                <a:latin typeface="MT Extra"/>
                <a:ea typeface="MT Extra"/>
              </a:rPr>
              <a:t>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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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32320" y="1355760"/>
            <a:ext cx="469800" cy="485640"/>
          </a:xfrm>
          <a:prstGeom prst="rightArrow">
            <a:avLst>
              <a:gd name="adj1" fmla="val 44444"/>
              <a:gd name="adj2" fmla="val 5641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345FD-D040-4E77-9E46-D663D528508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New MC production requests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4600" y="1079640"/>
            <a:ext cx="860976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radiative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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ludes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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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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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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10M events (450 pb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t 5:1 sc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8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ative Bhabha events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Prop BT"/>
                <a:ea typeface="SymbolProp BT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100 MeV, 20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160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2M events (450 pb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Prop BT"/>
                <a:ea typeface="SymbolProp BT"/>
              </a:rPr>
              <a:t>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t 1:10 sc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r tracking and cluster efficiency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8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1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cays at high statistics for off-peak r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9M events with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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1017 and 1022 MeV (2:1 sca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8M events with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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1019 MeV (1:1 sca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r analysis of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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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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Dalitz plot and </a:t>
            </a:r>
            <a:r>
              <a:rPr b="0" lang="en-US" sz="2400" spc="-1" strike="noStrike">
                <a:solidFill>
                  <a:srgbClr val="0000ff"/>
                </a:solidFill>
                <a:latin typeface="SymbolProp BT"/>
                <a:ea typeface="SymbolProp BT"/>
              </a:rPr>
              <a:t>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ross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9880" y="5502240"/>
            <a:ext cx="800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ut 1 week elapsed for each new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ut 3½ months for all MC running, including rer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3567D-3F8A-4507-B58B-0EAF4D7FE32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Offline CPU/disk resources for 2003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96400" y="1274760"/>
            <a:ext cx="7351200" cy="44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ailable hard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3 IBM B80 servers: 92 CPU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0 Sun E450 servers: 18 B80 CPU-equival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6.5 TB NFS-mounted recall disk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asy to reallocate between production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ion of resources in 200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64 to 76 CPU’s on IBM B80 servers for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800 GB of disk cache for I/O st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mainder of resources open to users fo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675BF-FB26-43B4-B385-18FED92E71C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Analysis environment for 2003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7920" y="1217520"/>
            <a:ext cx="7686360" cy="46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ion of histograms/Ntuples on analysis fa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 to 7 IBM B80 servers + 2 Sun E450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ST’s latent on 5.7 TB recall disk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utput to 2.3 TB AFS cell accessed by user PC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40M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events, 1.4 TB DST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6 days elapsed for 6 simultaneous batch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utput on order of 10-100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-stage analysis on user PC/Linux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19D2A-55B1-4CDF-82BB-597F1F5D4EC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PU power requirements for 2004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16000" y="3809880"/>
          <a:ext cx="3504960" cy="25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3809880"/>
                    <a:ext cx="350496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092480" y="1514520"/>
          <a:ext cx="4799160" cy="487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92480" y="1514520"/>
                    <a:ext cx="479916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57200" y="1219320"/>
          <a:ext cx="3281400" cy="251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219320"/>
                    <a:ext cx="328140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988200" y="131760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 rate (K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54440" y="3809880"/>
            <a:ext cx="24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g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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3960" y="1317600"/>
            <a:ext cx="38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80 CPU’s needed to follow acqui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927680" y="2171880"/>
          <a:ext cx="914400" cy="127620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aa0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4699080" y="3924360"/>
            <a:ext cx="3898800" cy="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60360" y="356868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76 CPU offline f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1267C-4DE2-46B9-B4C9-CFC0E048785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thew Moulson</cp:lastModifiedBy>
  <cp:lastPrinted>2003-10-14T10:22:52Z</cp:lastPrinted>
  <dcterms:modified xsi:type="dcterms:W3CDTF">2003-12-02T08:04:41Z</dcterms:modified>
  <cp:revision>174</cp:revision>
  <dc:subject/>
  <dc:title>The KLOE computing environment</dc:title>
</cp:coreProperties>
</file>