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3.wmf" ContentType="image/x-wmf"/>
  <Override PartName="/ppt/media/image26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0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3EDC-835E-4464-8F78-AB47284F3897}" type="slidenum"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The fit to the </a:t>
            </a:r>
            <a:r>
              <a:rPr b="0" lang="en-GB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r distribution between the candidate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kaon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track and the extrapolated track is made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using the </a:t>
            </a:r>
            <a:r>
              <a:rPr b="0" lang="en-GB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distribution obtained with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MC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d/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or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ouble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tag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events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 for th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candidate kaon track shape,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 and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the </a:t>
            </a:r>
            <a:r>
              <a:rPr b="0" lang="en-GB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distribution from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MC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events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for the background s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10FB-BE81-44BB-B8D6-25397629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16D-B4A4-437F-BE57-C46A681C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DDD-813A-4B3E-8DBC-484FD46C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6E22-A0AF-4096-A667-55652CD7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2CAB-ABFD-4C6F-87A8-7BA38A7E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1B96-B27F-451B-AAFB-7FEC3308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D491-5F23-4817-803D-82AD6DE7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AB9-A6AA-4B5E-ABC7-6B68FBED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DAA0-2D53-4B51-A054-624F500E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FE3-0353-4B42-B5FF-067FA57B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EA0-10FD-4737-9A2D-31E82DA6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5DDA-BEC4-468E-933A-FAE2782A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0857-F263-4EC2-9E53-F1D7480874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48720" y="177840"/>
            <a:ext cx="1114200" cy="66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52280"/>
            <a:ext cx="731520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charge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kaon physics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WG activity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848720" y="177840"/>
            <a:ext cx="1114200" cy="660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11872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P.Branchini, E.De Lucia, P.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Simone, E.Gorini,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V.Kulikov,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M.Martemianov, L.Passalacqua,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V.Patera,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M.Primavera,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B.Sciascia,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 A.Ventura,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 R.Versa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533680"/>
            <a:ext cx="8763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rategies 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asure absolute BR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K tracking efficiency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 in absolut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R(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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measurement analysi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 in absolut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R(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</a:t>
            </a:r>
            <a:r>
              <a:rPr b="0" lang="en-GB" sz="24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easurement ana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ti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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</a:t>
            </a:r>
            <a:r>
              <a:rPr b="0" lang="en-GB" sz="24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nalisys 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/dx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test of new hardware 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10666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5228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ag b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990720"/>
            <a:ext cx="7467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DC selection (p</a:t>
            </a:r>
            <a:r>
              <a:rPr b="0" lang="en-GB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, m</a:t>
            </a:r>
            <a:r>
              <a:rPr b="0" lang="en-GB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mass hypothe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Trk-to-Clu for </a:t>
            </a:r>
            <a:r>
              <a:rPr b="0" lang="en-GB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-cluster fires 2 trigger sectors (auto trig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22478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tag K</a:t>
            </a:r>
            <a:r>
              <a:rPr b="0" lang="en-GB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 signal K</a:t>
            </a:r>
            <a:r>
              <a:rPr b="0" lang="en-GB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22478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tag K</a:t>
            </a:r>
            <a:r>
              <a:rPr b="0" lang="en-GB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 signal K</a:t>
            </a:r>
            <a:r>
              <a:rPr b="0" lang="en-GB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14400" y="3276720"/>
          <a:ext cx="3124080" cy="1720800"/>
        </p:xfrm>
        <a:graphic>
          <a:graphicData uri="http://schemas.openxmlformats.org/drawingml/2006/table">
            <a:tbl>
              <a:tblPr/>
              <a:tblGrid>
                <a:gridCol w="1447560"/>
                <a:gridCol w="1676520"/>
              </a:tblGrid>
              <a:tr h="425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GB" sz="18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.3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0.4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GB" sz="18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8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r>
                        <a:rPr b="1" lang="en-GB" sz="18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1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0.4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GB" sz="18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8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.3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0.4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GB" sz="18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8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8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9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0.4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724280" y="3276720"/>
          <a:ext cx="3124440" cy="1698480"/>
        </p:xfrm>
        <a:graphic>
          <a:graphicData uri="http://schemas.openxmlformats.org/drawingml/2006/table">
            <a:tbl>
              <a:tblPr/>
              <a:tblGrid>
                <a:gridCol w="1435320"/>
                <a:gridCol w="1689120"/>
              </a:tblGrid>
              <a:tr h="425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GB" sz="18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1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0.4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GB" sz="18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8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</a:t>
                      </a:r>
                      <a:r>
                        <a:rPr b="1" lang="en-GB" sz="18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9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0.4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GB" sz="18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8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.3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0.4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GB" sz="18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8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8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.9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0.4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228600" y="569916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GB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ag bias at the same leve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10666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9880" y="76320"/>
            <a:ext cx="49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fference betwee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16589" r="0" b="16589"/>
          <a:stretch/>
        </p:blipFill>
        <p:spPr>
          <a:xfrm>
            <a:off x="179280" y="1052640"/>
            <a:ext cx="5294520" cy="500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0" t="15068" r="0" b="15068"/>
          <a:stretch/>
        </p:blipFill>
        <p:spPr>
          <a:xfrm>
            <a:off x="4716360" y="1125360"/>
            <a:ext cx="4221360" cy="4173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528880" y="2071800"/>
            <a:ext cx="17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g</a:t>
            </a:r>
            <a:r>
              <a:rPr b="0" lang="en-US" sz="2400" spc="-1" strike="noStrike">
                <a:solidFill>
                  <a:srgbClr val="3333cc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</a:t>
            </a:r>
            <a:r>
              <a:rPr b="0" lang="en-US" sz="2400" spc="-1" strike="noStrike">
                <a:solidFill>
                  <a:srgbClr val="3333cc"/>
                </a:solidFill>
                <a:latin typeface="Tempus Sans ITC"/>
              </a:rPr>
              <a:t> –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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5760" y="1274760"/>
            <a:ext cx="84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61040" y="4948200"/>
            <a:ext cx="1688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* (MeV/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17760" y="5740560"/>
            <a:ext cx="1688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* (MeV/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48120" y="2548080"/>
            <a:ext cx="123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g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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g</a:t>
            </a:r>
            <a:r>
              <a:rPr b="0" lang="en-US" sz="2400" spc="-1" strike="noStrike">
                <a:solidFill>
                  <a:srgbClr val="ff0000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</a:t>
            </a:r>
            <a:r>
              <a:rPr b="0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10666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5120" y="76320"/>
            <a:ext cx="430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absolute BR</a:t>
            </a:r>
            <a:r>
              <a:rPr b="0" lang="en-GB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4280" y="868320"/>
            <a:ext cx="3673800" cy="27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- “recover” </a:t>
            </a: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K</a:t>
            </a:r>
            <a:r>
              <a:rPr b="0" lang="en-GB" sz="2000" spc="-1" strike="noStrike" baseline="30000">
                <a:solidFill>
                  <a:srgbClr val="009900"/>
                </a:solidFill>
                <a:latin typeface="Comic Sans MS"/>
              </a:rPr>
              <a:t>+ </a:t>
            </a: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K</a:t>
            </a:r>
            <a:r>
              <a:rPr b="0" lang="en-US" sz="2000" spc="-1" strike="noStrike" baseline="30000">
                <a:solidFill>
                  <a:srgbClr val="0099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events f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EvCl2  (tag dec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- p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(m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): 3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- self-trigger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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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) trk-to-clu for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-tr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2) trigger sectors f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by the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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-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8640" y="3900600"/>
            <a:ext cx="296496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signal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(DC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- Look for K (tag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presel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- 2-tracks ve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-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Comic Sans MS"/>
              </a:rPr>
              <a:t>VTX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(40,150)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- p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(m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): 3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824280" y="1371600"/>
            <a:ext cx="5243400" cy="4954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400360" y="1127160"/>
            <a:ext cx="30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event counting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120" y="76320"/>
            <a:ext cx="430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absolute BR</a:t>
            </a:r>
            <a:r>
              <a:rPr b="0" lang="en-GB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952880" y="990720"/>
            <a:ext cx="4114800" cy="4046400"/>
            <a:chOff x="4952880" y="990720"/>
            <a:chExt cx="4114800" cy="404640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rcRect l="9930" t="34041" r="4967" b="6808"/>
            <a:stretch/>
          </p:blipFill>
          <p:spPr>
            <a:xfrm>
              <a:off x="4952880" y="990720"/>
              <a:ext cx="4114800" cy="40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019920" y="3969720"/>
              <a:ext cx="0" cy="609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20120" y="3893400"/>
              <a:ext cx="0" cy="685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48520" y="1988640"/>
              <a:ext cx="0" cy="609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1912320"/>
              <a:ext cx="0" cy="685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19920" y="3741840"/>
              <a:ext cx="182880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Comic Sans MS"/>
                </a:rPr>
                <a:t>E</a:t>
              </a:r>
              <a:r>
                <a:rPr b="0" lang="en-US" sz="1800" spc="-1" strike="noStrike" baseline="-25000">
                  <a:solidFill>
                    <a:srgbClr val="009900"/>
                  </a:solidFill>
                  <a:latin typeface="Comic Sans MS"/>
                </a:rPr>
                <a:t>B</a:t>
              </a:r>
              <a:r>
                <a:rPr b="0" lang="en-US" sz="1800" spc="-1" strike="noStrike">
                  <a:solidFill>
                    <a:srgbClr val="009900"/>
                  </a:solidFill>
                  <a:latin typeface="Comic Sans MS"/>
                </a:rPr>
                <a:t> = 90 Me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Comic Sans MS"/>
                </a:rPr>
                <a:t>E</a:t>
              </a:r>
              <a:r>
                <a:rPr b="0" lang="en-US" sz="1800" spc="-1" strike="noStrike" baseline="-25000">
                  <a:solidFill>
                    <a:srgbClr val="009900"/>
                  </a:solidFill>
                  <a:latin typeface="Comic Sans MS"/>
                </a:rPr>
                <a:t>C</a:t>
              </a:r>
              <a:r>
                <a:rPr b="0" lang="en-US" sz="1800" spc="-1" strike="noStrike">
                  <a:solidFill>
                    <a:srgbClr val="009900"/>
                  </a:solidFill>
                  <a:latin typeface="Comic Sans MS"/>
                </a:rPr>
                <a:t> = 320 M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88080" y="3132360"/>
              <a:ext cx="897120" cy="42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9900"/>
                  </a:solidFill>
                  <a:latin typeface="Comic Sans MS"/>
                </a:rPr>
                <a:t>DAT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1913040"/>
              <a:ext cx="182880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E</a:t>
              </a:r>
              <a:r>
                <a:rPr b="0" lang="en-US" sz="1800" spc="-1" strike="noStrike" baseline="-25000">
                  <a:solidFill>
                    <a:srgbClr val="3333cc"/>
                  </a:solidFill>
                  <a:latin typeface="Comic Sans MS"/>
                </a:rPr>
                <a:t>B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= 120 Me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E</a:t>
              </a:r>
              <a:r>
                <a:rPr b="0" lang="en-US" sz="1800" spc="-1" strike="noStrike" baseline="-25000">
                  <a:solidFill>
                    <a:srgbClr val="3333cc"/>
                  </a:solidFill>
                  <a:latin typeface="Comic Sans MS"/>
                </a:rPr>
                <a:t>C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= 370 M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66280" y="1150920"/>
              <a:ext cx="610560" cy="42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M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52280" y="3032280"/>
            <a:ext cx="3645000" cy="3444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191120" y="5334120"/>
            <a:ext cx="45720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- taking into account for dif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between DATA/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8000" y="898560"/>
            <a:ext cx="514980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Comic Sans MS"/>
              </a:rPr>
              <a:t>efficiency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measured directly from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- tag in one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- one “</a:t>
            </a:r>
            <a:r>
              <a:rPr b="1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-cluster” besides the tag 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0 cluster with E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Comic Sans MS"/>
              </a:rPr>
              <a:t>CLU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(E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,E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)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 cluster with E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Comic Sans MS"/>
              </a:rPr>
              <a:t>CLU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(E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,E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) Me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E</a:t>
            </a:r>
            <a:r>
              <a:rPr b="0" lang="en-US" sz="1200" spc="-1" strike="noStrike">
                <a:solidFill>
                  <a:srgbClr val="0099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= 20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2133720"/>
            <a:ext cx="0" cy="4572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24680" y="2133720"/>
            <a:ext cx="0" cy="4572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4114800"/>
            <a:ext cx="0" cy="45720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0120" y="4114800"/>
            <a:ext cx="0" cy="45720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10666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5120" y="76320"/>
            <a:ext cx="430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absolute BR</a:t>
            </a:r>
            <a:r>
              <a:rPr b="0" lang="en-GB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0240" y="1050840"/>
            <a:ext cx="424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smic veto/T3 efficiency: 0.2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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89000" y="1854360"/>
          <a:ext cx="4535280" cy="2412720"/>
        </p:xfrm>
        <a:graphic>
          <a:graphicData uri="http://schemas.openxmlformats.org/drawingml/2006/table">
            <a:tbl>
              <a:tblPr/>
              <a:tblGrid>
                <a:gridCol w="2441520"/>
                <a:gridCol w="1154160"/>
                <a:gridCol w="939600"/>
              </a:tblGrid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2001-2002 Data/M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K</a:t>
                      </a:r>
                      <a:r>
                        <a:rPr b="1" lang="en-US" sz="1600" spc="-1" strike="noStrike" baseline="30000">
                          <a:solidFill>
                            <a:srgbClr val="3333cc"/>
                          </a:solidFill>
                          <a:latin typeface="Comic Sans MS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K</a:t>
                      </a:r>
                      <a:r>
                        <a:rPr b="1" lang="en-US" sz="1600" spc="-1" strike="noStrike" baseline="30000">
                          <a:solidFill>
                            <a:srgbClr val="3333cc"/>
                          </a:solidFill>
                          <a:latin typeface="Comic Sans MS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US" sz="1600" spc="-1" strike="noStrike" baseline="-25000">
                          <a:solidFill>
                            <a:srgbClr val="3333cc"/>
                          </a:solidFill>
                          <a:latin typeface="Comic Sans MS"/>
                        </a:rPr>
                        <a:t>SIG</a:t>
                      </a: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/N</a:t>
                      </a:r>
                      <a:r>
                        <a:rPr b="1" lang="en-US" sz="1600" spc="-1" strike="noStrike" baseline="-25000">
                          <a:solidFill>
                            <a:srgbClr val="3333cc"/>
                          </a:solidFill>
                          <a:latin typeface="Comic Sans MS"/>
                        </a:rPr>
                        <a:t>TAG</a:t>
                      </a: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(Sta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.0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.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fficiency (Sta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.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.0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rrelation (Stat M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.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.0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ag Bias (Stat M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.0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.0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smic veto/T3 (Sta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.0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.0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932360" y="912960"/>
            <a:ext cx="3886200" cy="38113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99240" y="4648320"/>
            <a:ext cx="692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systematics still under study, all necessary becau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51814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R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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 and BR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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have a statistical error of 0.1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sidual bkg. to be subtra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ifference consistent with nuclear interaction cross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9620000">
            <a:off x="5133600" y="3047400"/>
            <a:ext cx="32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empus Sans ITC"/>
              </a:rPr>
              <a:t>Work in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empus Sans ITC"/>
              </a:rPr>
              <a:t>very prelimi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2000" y="76320"/>
            <a:ext cx="438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empus Sans ITC"/>
              </a:rPr>
              <a:t>±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empus Sans ITC"/>
              </a:rPr>
              <a:t>±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absolute BR</a:t>
            </a:r>
            <a:r>
              <a:rPr b="0" lang="en-GB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-263520" y="762120"/>
            <a:ext cx="9520200" cy="5311440"/>
            <a:chOff x="-263520" y="762120"/>
            <a:chExt cx="9520200" cy="5311440"/>
          </a:xfrm>
        </p:grpSpPr>
        <p:sp>
          <p:nvSpPr>
            <p:cNvPr id="212" name=""/>
            <p:cNvSpPr/>
            <p:nvPr/>
          </p:nvSpPr>
          <p:spPr>
            <a:xfrm>
              <a:off x="4419720" y="1066680"/>
              <a:ext cx="4190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0560" y="762120"/>
              <a:ext cx="82810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- self-triggering tag</a:t>
              </a:r>
              <a:r>
                <a:rPr b="0" lang="en-US" sz="2400" spc="-1" strike="noStrike">
                  <a:solidFill>
                    <a:srgbClr val="009900"/>
                  </a:solidFill>
                  <a:latin typeface="Tempus Sans ITC"/>
                </a:rPr>
                <a:t> 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on one side using K</a:t>
              </a:r>
              <a:r>
                <a:rPr b="0" lang="en-US" sz="2000" spc="-1" strike="noStrike" baseline="30000">
                  <a:solidFill>
                    <a:srgbClr val="009900"/>
                  </a:solidFill>
                  <a:latin typeface="Comic Sans MS"/>
                </a:rPr>
                <a:t>-</a:t>
              </a:r>
              <a:r>
                <a:rPr b="0" lang="en-US" sz="2400" spc="-1" strike="noStrike" baseline="30000">
                  <a:solidFill>
                    <a:srgbClr val="0099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(avoid nuclear interac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- vertex with 2 tracks in DC on the signal s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2280" y="1447920"/>
              <a:ext cx="7391520" cy="19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Comic Sans MS"/>
                </a:rPr>
                <a:t>-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fit the distribution of the momentum of the secondar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track  (p*) in the kaon reference 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Comic Sans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the shape of the p*  distribution for the two body decays has been deduced from the “two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r>
                <a:rPr b="0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clusters” sample</a:t>
              </a:r>
              <a:r>
                <a:rPr b="0" lang="en-US" sz="2000" spc="-1" strike="noStrike">
                  <a:solidFill>
                    <a:srgbClr val="3333cc"/>
                  </a:solidFill>
                  <a:latin typeface="Tempus Sans ITC"/>
                </a:rPr>
                <a:t>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of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empus Sans IT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14400" y="2895480"/>
              <a:ext cx="75438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0000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hypothesis  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</a:t>
              </a:r>
              <a:r>
                <a:rPr b="1" lang="en-US" sz="18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</a:t>
              </a:r>
              <a:r>
                <a:rPr b="0" lang="en-US" sz="1800" spc="-1" strike="noStrike">
                  <a:solidFill>
                    <a:srgbClr val="3333cc"/>
                  </a:solidFill>
                  <a:latin typeface="Tempus Sans ITC"/>
                </a:rPr>
                <a:t> 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and</a:t>
              </a:r>
              <a:r>
                <a:rPr b="0" lang="en-US" sz="1800" spc="-1" strike="noStrike">
                  <a:solidFill>
                    <a:srgbClr val="3333cc"/>
                  </a:solidFill>
                  <a:latin typeface="Tempus Sans ITC"/>
                </a:rPr>
                <a:t> 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</a:t>
              </a:r>
              <a:r>
                <a:rPr b="0" lang="en-US" sz="1800" spc="-1" strike="noStrike">
                  <a:solidFill>
                    <a:srgbClr val="3333cc"/>
                  </a:solidFill>
                  <a:latin typeface="Tempus Sans ITC"/>
                </a:rPr>
                <a:t> 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peaks have the same resolution func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0000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p*(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3333cc"/>
                  </a:solidFill>
                  <a:latin typeface="Tempus Sans ITC"/>
                </a:rPr>
                <a:t> 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mass) distribution for</a:t>
              </a:r>
              <a:r>
                <a:rPr b="0" lang="en-US" sz="1800" spc="-1" strike="noStrike">
                  <a:solidFill>
                    <a:srgbClr val="3333cc"/>
                  </a:solidFill>
                  <a:latin typeface="Tempus Sans ITC"/>
                </a:rPr>
                <a:t> 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</a:t>
              </a:r>
              <a:r>
                <a:rPr b="0" lang="en-US" sz="1800" spc="-1" strike="noStrike">
                  <a:solidFill>
                    <a:srgbClr val="3333cc"/>
                  </a:solidFill>
                  <a:latin typeface="Tempus Sans ITC"/>
                </a:rPr>
                <a:t> 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pea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0000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p*(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3333cc"/>
                  </a:solidFill>
                  <a:latin typeface="Tempus Sans ITC"/>
                </a:rPr>
                <a:t> 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mass) distribution for</a:t>
              </a:r>
              <a:r>
                <a:rPr b="0" lang="en-US" sz="1800" spc="-1" strike="noStrike">
                  <a:solidFill>
                    <a:srgbClr val="3333cc"/>
                  </a:solidFill>
                  <a:latin typeface="Tempus Sans ITC"/>
                </a:rPr>
                <a:t> 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</a:t>
              </a:r>
              <a:r>
                <a:rPr b="1" lang="en-US" sz="18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</a:t>
              </a:r>
              <a:r>
                <a:rPr b="1" lang="en-US" sz="1800" spc="-1" strike="noStrike">
                  <a:solidFill>
                    <a:srgbClr val="3333cc"/>
                  </a:solidFill>
                  <a:latin typeface="Tempus Sans ITC"/>
                </a:rPr>
                <a:t> 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peak ( 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30 MeV shi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-263520" y="4211640"/>
              <a:ext cx="9520200" cy="18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- estimate the</a:t>
              </a:r>
              <a:r>
                <a:rPr b="0" lang="en-US" sz="2000" spc="-1" strike="noStrike">
                  <a:solidFill>
                    <a:srgbClr val="3333cc"/>
                  </a:solidFill>
                  <a:latin typeface="Tempus Sans ITC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</a:t>
              </a:r>
              <a:r>
                <a:rPr b="0" lang="en-US" sz="2000" spc="-1" strike="noStrike">
                  <a:solidFill>
                    <a:srgbClr val="3333cc"/>
                  </a:solidFill>
                  <a:latin typeface="Tempus Sans ITC"/>
                </a:rPr>
                <a:t>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backgro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empus Sans ITC"/>
                </a:rPr>
                <a:t>  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</a:t>
              </a:r>
              <a:r>
                <a:rPr b="1" lang="en-US" sz="1800" spc="-1" strike="noStrike">
                  <a:solidFill>
                    <a:srgbClr val="ff0000"/>
                  </a:solidFill>
                  <a:latin typeface="Tempus Sans ITC"/>
                </a:rPr>
                <a:t> 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require a</a:t>
              </a:r>
              <a:r>
                <a:rPr b="0" lang="en-US" sz="1800" spc="-1" strike="noStrike">
                  <a:solidFill>
                    <a:srgbClr val="3333cc"/>
                  </a:solidFill>
                  <a:latin typeface="Tempus Sans ITC"/>
                </a:rPr>
                <a:t> 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1" lang="en-US" sz="18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</a:t>
              </a:r>
              <a:r>
                <a:rPr b="0" lang="en-US" sz="1800" spc="-1" strike="noStrike">
                  <a:solidFill>
                    <a:srgbClr val="3333cc"/>
                  </a:solidFill>
                  <a:latin typeface="Tempus Sans ITC"/>
                </a:rPr>
                <a:t> 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in the calo and measure the effici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- take into account the 3-body decays contribution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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fit the distribution down to 180 MeV in order to hav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           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3-body decays contribution 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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only from K</a:t>
              </a:r>
              <a:r>
                <a:rPr b="0" lang="en-US" sz="1200" spc="-1" strike="noStrike">
                  <a:solidFill>
                    <a:srgbClr val="3333cc"/>
                  </a:solidFill>
                  <a:latin typeface="Comic Sans MS"/>
                </a:rPr>
                <a:t>l3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channel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using the MC 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000" y="76320"/>
            <a:ext cx="438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empus Sans ITC"/>
              </a:rPr>
              <a:t>±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empus Sans ITC"/>
              </a:rPr>
              <a:t>±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absolute BR</a:t>
            </a:r>
            <a:r>
              <a:rPr b="0" lang="en-GB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79280" y="1066680"/>
            <a:ext cx="4221360" cy="4388760"/>
            <a:chOff x="179280" y="1066680"/>
            <a:chExt cx="4221360" cy="4388760"/>
          </a:xfrm>
        </p:grpSpPr>
        <p:grpSp>
          <p:nvGrpSpPr>
            <p:cNvPr id="220" name=""/>
            <p:cNvGrpSpPr/>
            <p:nvPr/>
          </p:nvGrpSpPr>
          <p:grpSpPr>
            <a:xfrm>
              <a:off x="179280" y="1066680"/>
              <a:ext cx="4221360" cy="4388760"/>
              <a:chOff x="179280" y="1066680"/>
              <a:chExt cx="4221360" cy="4388760"/>
            </a:xfrm>
          </p:grpSpPr>
          <p:pic>
            <p:nvPicPr>
              <p:cNvPr id="221" name="" descr=""/>
              <p:cNvPicPr/>
              <p:nvPr/>
            </p:nvPicPr>
            <p:blipFill>
              <a:blip r:embed="rId1"/>
              <a:srcRect l="0" t="15068" r="0" b="14465"/>
              <a:stretch/>
            </p:blipFill>
            <p:spPr>
              <a:xfrm>
                <a:off x="179280" y="1066680"/>
                <a:ext cx="4221360" cy="420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821880" y="1682280"/>
                <a:ext cx="64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M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584080" y="4995720"/>
                <a:ext cx="16880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Comic Sans MS"/>
                  </a:rPr>
                  <a:t>p* (MeV/c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23360" y="2479320"/>
              <a:ext cx="197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empus Sans ITC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ndf = 1.0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527720" y="1066680"/>
            <a:ext cx="4221000" cy="4390560"/>
            <a:chOff x="4527720" y="1066680"/>
            <a:chExt cx="4221000" cy="4390560"/>
          </a:xfrm>
        </p:grpSpPr>
        <p:pic>
          <p:nvPicPr>
            <p:cNvPr id="226" name="" descr=""/>
            <p:cNvPicPr/>
            <p:nvPr/>
          </p:nvPicPr>
          <p:blipFill>
            <a:blip r:embed="rId2"/>
            <a:srcRect l="0" t="15068" r="0" b="14465"/>
            <a:stretch/>
          </p:blipFill>
          <p:spPr>
            <a:xfrm>
              <a:off x="4527720" y="1066680"/>
              <a:ext cx="4221000" cy="42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195520" y="168408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18120" y="4997520"/>
              <a:ext cx="1688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Comic Sans MS"/>
                </a:rPr>
                <a:t>p* (MeV/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24560" y="2552760"/>
              <a:ext cx="197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empus Sans ITC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/ndf = 0.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35720" y="5791320"/>
            <a:ext cx="49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</a:t>
            </a:r>
            <a:r>
              <a:rPr b="1" lang="en-US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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d</a:t>
            </a:r>
            <a:r>
              <a:rPr b="0" lang="en-US" sz="1800" spc="-1" strike="noStrike">
                <a:solidFill>
                  <a:srgbClr val="3333cc"/>
                </a:solidFill>
                <a:latin typeface="Tempus Sans ITC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</a:t>
            </a:r>
            <a:r>
              <a:rPr b="0" lang="en-US" sz="1800" spc="-1" strike="noStrike">
                <a:solidFill>
                  <a:srgbClr val="3333cc"/>
                </a:solidFill>
                <a:latin typeface="Tempus Sans ITC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opulations agree within errors</a:t>
            </a:r>
            <a:r>
              <a:rPr b="0" lang="en-US" sz="2400" spc="-1" strike="noStrike">
                <a:solidFill>
                  <a:srgbClr val="3333cc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57720" y="5410080"/>
            <a:ext cx="190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fit lower edge 180 M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590920" y="4800240"/>
            <a:ext cx="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20619600">
            <a:off x="6205680" y="556236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empus Sans ITC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238400" y="938160"/>
                <a:ext cx="65340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π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μν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ππ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μν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window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Ktrg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Kfi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Kse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5105520" y="2238480"/>
            <a:ext cx="3504960" cy="3960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igger efficiency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extracted from EXP.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fit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efficiency of signals and background rejection, based on MC data and performed of EXP dat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se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selection efficiency, from MC and EXP.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vetoco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efficiency of cosmic veto rejection, EXP.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rcRect l="8472" t="6354" r="6834" b="11070"/>
          <a:stretch/>
        </p:blipFill>
        <p:spPr>
          <a:xfrm>
            <a:off x="304920" y="3429000"/>
            <a:ext cx="3047760" cy="297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28600" y="2133720"/>
            <a:ext cx="4343400" cy="13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hyphotesis for secondary parti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Selected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window : 190 - 220 MeV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Selected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window : 220 - 260 MeV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8920" y="142920"/>
            <a:ext cx="609588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Analysis of ratio BR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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/BR(K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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851040" y="762120"/>
                <a:ext cx="7138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±</m:t>
                            </m:r>
                          </m:sup>
                        </m:sSup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±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±</m:t>
                            </m:r>
                          </m:sup>
                        </m:sSup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±</m:t>
                            </m:r>
                          </m:sup>
                        </m:sSup>
                        <m:r>
                          <m:t xml:space="preserve">ν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46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3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a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y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257640" y="1308240"/>
                <a:ext cx="49021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46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a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6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y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685800" y="1828800"/>
            <a:ext cx="7543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4346" t="6519" r="6519" b="6519"/>
          <a:stretch/>
        </p:blipFill>
        <p:spPr>
          <a:xfrm>
            <a:off x="152280" y="1905120"/>
            <a:ext cx="3886200" cy="37922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267080" y="2057400"/>
            <a:ext cx="4496040" cy="4186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triggers emplo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hecks on  Ktrg and K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Resul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good agreement with worl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tatistical error negligible due to the huge sample of kaon decays (more than 6.5 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2002 Dat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ystematic  error ( 0.65 %) domina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sult can be updated by further investigation of MC/EXP uncertan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calculation of K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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8920" y="101520"/>
            <a:ext cx="609588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Analysis of ratio BR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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/BR(K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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76320" y="76320"/>
            <a:ext cx="777240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easure of absolute BR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0" y="914400"/>
            <a:ext cx="4221000" cy="4269600"/>
            <a:chOff x="0" y="914400"/>
            <a:chExt cx="4221000" cy="426960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rcRect l="0" t="15068" r="0" b="14465"/>
            <a:stretch/>
          </p:blipFill>
          <p:spPr>
            <a:xfrm>
              <a:off x="0" y="914400"/>
              <a:ext cx="4221000" cy="42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96520" y="1530360"/>
              <a:ext cx="6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M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39640" y="4724280"/>
              <a:ext cx="1688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p* (MeV/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33520" y="5410080"/>
            <a:ext cx="815328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 the way to measure the absolute BR(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GB" sz="1600" spc="-1" strike="noStrike">
                <a:solidFill>
                  <a:srgbClr val="3333cc"/>
                </a:solidFill>
                <a:latin typeface="Comic Sans MS"/>
              </a:rPr>
              <a:t>e3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10666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5616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64480" y="838080"/>
            <a:ext cx="42966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tracking efficiency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d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vertex efficiency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ongoing wo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evaluation of tag bias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differences between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almost d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30000">
                <a:solidFill>
                  <a:srgbClr val="009900"/>
                </a:solidFill>
                <a:latin typeface="Times New Roman"/>
                <a:ea typeface="Times New Roman"/>
              </a:rPr>
              <a:t>±</a:t>
            </a:r>
            <a:r>
              <a:rPr b="0" lang="en-GB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identification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kinematic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time of fligh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nd d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/dx (ongoing wo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301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32800" y="4387680"/>
            <a:ext cx="499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Comic Sans MS"/>
              </a:rPr>
              <a:t>we are now studying the 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Comic Sans MS"/>
              </a:rPr>
              <a:t>body decay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320" y="76320"/>
            <a:ext cx="777240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easure of absolute BR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914400"/>
            <a:ext cx="4221000" cy="4269600"/>
            <a:chOff x="0" y="914400"/>
            <a:chExt cx="4221000" cy="4269600"/>
          </a:xfrm>
        </p:grpSpPr>
        <p:pic>
          <p:nvPicPr>
            <p:cNvPr id="57" name="" descr=""/>
            <p:cNvPicPr/>
            <p:nvPr/>
          </p:nvPicPr>
          <p:blipFill>
            <a:blip r:embed="rId1"/>
            <a:srcRect l="0" t="15068" r="0" b="14465"/>
            <a:stretch/>
          </p:blipFill>
          <p:spPr>
            <a:xfrm>
              <a:off x="0" y="914400"/>
              <a:ext cx="4221000" cy="42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96520" y="1530360"/>
              <a:ext cx="6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M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39640" y="4724280"/>
              <a:ext cx="1688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p* (MeV/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33520" y="5410080"/>
            <a:ext cx="815328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 the way to measure the absolute BR(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GB" sz="1600" spc="-1" strike="noStrike">
                <a:solidFill>
                  <a:srgbClr val="3333cc"/>
                </a:solidFill>
                <a:latin typeface="Comic Sans MS"/>
              </a:rPr>
              <a:t>e3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0666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5616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64480" y="838080"/>
            <a:ext cx="42966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tracking efficiency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d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vertex efficiency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ongoing wo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evaluation of tag bias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differences between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almost d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30000">
                <a:solidFill>
                  <a:srgbClr val="009900"/>
                </a:solidFill>
                <a:latin typeface="Times New Roman"/>
                <a:ea typeface="Times New Roman"/>
              </a:rPr>
              <a:t>±</a:t>
            </a:r>
            <a:r>
              <a:rPr b="0" lang="en-GB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identification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kinematic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time of fligh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nd d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/dx (ongoing wo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301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32800" y="4387680"/>
            <a:ext cx="499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Comic Sans MS"/>
              </a:rPr>
              <a:t>we are now studying the 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Comic Sans MS"/>
              </a:rPr>
              <a:t>body decay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6320" y="76320"/>
            <a:ext cx="777240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easure of absolute BR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10666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5616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301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105520" y="838080"/>
            <a:ext cx="3660840" cy="5644440"/>
            <a:chOff x="5105520" y="838080"/>
            <a:chExt cx="3660840" cy="5644440"/>
          </a:xfrm>
        </p:grpSpPr>
        <p:pic>
          <p:nvPicPr>
            <p:cNvPr id="265" name="" descr=""/>
            <p:cNvPicPr/>
            <p:nvPr/>
          </p:nvPicPr>
          <p:blipFill>
            <a:blip r:embed="rId1"/>
            <a:srcRect l="1913" t="0" r="0" b="7085"/>
            <a:stretch/>
          </p:blipFill>
          <p:spPr>
            <a:xfrm>
              <a:off x="5537160" y="838080"/>
              <a:ext cx="3208320" cy="52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7193160" y="6084360"/>
              <a:ext cx="720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417880" y="60228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4849560" y="472356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66ff"/>
                  </a:solidFill>
                  <a:latin typeface="Comic Sans MS"/>
                </a:rPr>
                <a:t>P* (MeV/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3890880" y="2081880"/>
              <a:ext cx="279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66ff"/>
                  </a:solidFill>
                  <a:latin typeface="Comic Sans MS"/>
                </a:rPr>
                <a:t>Mass from ToF (Mev**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40800" y="2711160"/>
              <a:ext cx="576000" cy="576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58240" y="4150800"/>
              <a:ext cx="503280" cy="129528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40120" y="305388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52280" y="1660680"/>
            <a:ext cx="480060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lection of the charged K two body decays can rely only on kinematics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ut the study of Ke3 semileptonic decays needs some redundancy to separate the electrons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h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dea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 is to us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e ToF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 method to extract the signal and a DC driven separation method to check systematics, or vice versa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with no use of MC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dE/dx measur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52280" y="228600"/>
            <a:ext cx="693432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y a new ADC hardware setup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04040" y="1263600"/>
            <a:ext cx="9199440" cy="4529880"/>
            <a:chOff x="104040" y="1263600"/>
            <a:chExt cx="9199440" cy="4529880"/>
          </a:xfrm>
        </p:grpSpPr>
        <p:sp>
          <p:nvSpPr>
            <p:cNvPr id="276" name=""/>
            <p:cNvSpPr/>
            <p:nvPr/>
          </p:nvSpPr>
          <p:spPr>
            <a:xfrm>
              <a:off x="204120" y="1263600"/>
              <a:ext cx="817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Concerning the 2002 KLOE data we have found two main prob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104040" y="1965240"/>
              <a:ext cx="9199440" cy="3828240"/>
              <a:chOff x="104040" y="1965240"/>
              <a:chExt cx="9199440" cy="3828240"/>
            </a:xfrm>
          </p:grpSpPr>
          <p:sp>
            <p:nvSpPr>
              <p:cNvPr id="278" name=""/>
              <p:cNvSpPr/>
              <p:nvPr/>
            </p:nvSpPr>
            <p:spPr>
              <a:xfrm>
                <a:off x="632520" y="1965240"/>
                <a:ext cx="7569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buClr>
                    <a:srgbClr val="3333cc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low ADC sampling efficienc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buClr>
                    <a:srgbClr val="3333cc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low dE/dx resolution with respect to the prototype result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      </a:t>
                </a: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(Kloe memo 33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75840" y="3565440"/>
                <a:ext cx="239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these are due to …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4040" y="4479840"/>
                <a:ext cx="919944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buClr>
                    <a:srgbClr val="3333cc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short integration time (1.8 n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buClr>
                    <a:srgbClr val="3333cc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charge released by tracks crossing the cells at short distanc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from the wires ( </a:t>
                </a:r>
                <a:r>
                  <a:rPr b="0" lang="en-US" sz="2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 150 ns) are lost !! … baseline restoring procedur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ineffic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848720" y="177840"/>
            <a:ext cx="111420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rcRect l="2632" t="22907" r="9444" b="18239"/>
          <a:stretch/>
        </p:blipFill>
        <p:spPr>
          <a:xfrm>
            <a:off x="152280" y="1131840"/>
            <a:ext cx="5184720" cy="50403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52280" y="228600"/>
            <a:ext cx="274320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DC s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3352680"/>
            <a:ext cx="14475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GB" sz="1400" spc="-1" strike="noStrike">
                <a:solidFill>
                  <a:srgbClr val="ff0000"/>
                </a:solidFill>
                <a:latin typeface="Comic Sans MS"/>
              </a:rPr>
              <a:t>dc count</a:t>
            </a: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/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934240"/>
            <a:ext cx="14475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GB" sz="1400" spc="-1" strike="noStrike">
                <a:solidFill>
                  <a:srgbClr val="ff0000"/>
                </a:solidFill>
                <a:latin typeface="Comic Sans MS"/>
              </a:rPr>
              <a:t>dc count</a:t>
            </a: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/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596920" y="1295280"/>
            <a:ext cx="25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RED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= 2.2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BLUE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= 3.1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LACK = 1.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3048120"/>
            <a:ext cx="297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dE/dx distribution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obtained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ith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cosmic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data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llected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 with two different ADC gate valu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 (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ong and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hort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compared with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 dE/dx distribution obtained with a sample of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 2002 cosmic data 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ld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76320" y="228600"/>
            <a:ext cx="502920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DC sampling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1280" y="1066680"/>
            <a:ext cx="825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re efficient baseline restoring procedure and longer ADC gate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mprove the ADC sampling efficiency by more than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648320" y="2031840"/>
            <a:ext cx="4038480" cy="39117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80880" y="2031840"/>
            <a:ext cx="4038840" cy="39117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919680" y="5881680"/>
            <a:ext cx="6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cos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153280" y="5867280"/>
            <a:ext cx="6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cos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-461520" y="24246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ADC/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T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89720" y="26812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65160" y="2743200"/>
            <a:ext cx="9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2280" y="228600"/>
            <a:ext cx="358164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E/dx 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80" y="1066680"/>
            <a:ext cx="873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e truncated mean resolution is improved, it is now comparable to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ototype resolution !! … even improved by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30% @10 samples 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dedx1_90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4267080" cy="43434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6553080" y="5791320"/>
            <a:ext cx="2133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20680" y="1981080"/>
            <a:ext cx="8642160" cy="4174560"/>
            <a:chOff x="220680" y="1981080"/>
            <a:chExt cx="8642160" cy="417456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rcRect l="6425" t="21327" r="11878" b="21557"/>
            <a:stretch/>
          </p:blipFill>
          <p:spPr>
            <a:xfrm>
              <a:off x="669960" y="1981080"/>
              <a:ext cx="367344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2142360" y="29862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0000"/>
                  </a:solidFill>
                  <a:latin typeface="Comic Sans MS"/>
                </a:rPr>
                <a:t>O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12880" y="2971800"/>
              <a:ext cx="97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NE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43680" y="5715000"/>
              <a:ext cx="1175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Comic Sans MS"/>
                </a:rPr>
                <a:t>Nsample</a:t>
              </a:r>
              <a:r>
                <a:rPr b="0" lang="en-GB" sz="2000" spc="-1" strike="noStrike" baseline="-25000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6200000">
              <a:off x="-277200" y="2539080"/>
              <a:ext cx="13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esol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4053960" y="5110200"/>
              <a:ext cx="289080" cy="147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48360" y="5186520"/>
              <a:ext cx="23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Comic Sans MS"/>
                </a:rPr>
                <a:t>Prototype re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553080" y="5028840"/>
              <a:ext cx="68580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87080" y="5715000"/>
              <a:ext cx="1175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Comic Sans MS"/>
                </a:rPr>
                <a:t>Nsample</a:t>
              </a:r>
              <a:r>
                <a:rPr b="0" lang="en-GB" sz="2000" spc="-1" strike="noStrike" baseline="-25000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4242600" y="2386440"/>
              <a:ext cx="136224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esol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83520" y="5958000"/>
            <a:ext cx="377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( Nsample</a:t>
            </a:r>
            <a:r>
              <a:rPr b="0" lang="en-GB" sz="1800" spc="-1" strike="noStrike" baseline="-25000">
                <a:solidFill>
                  <a:srgbClr val="3333cc"/>
                </a:solidFill>
                <a:latin typeface="Comic Sans MS"/>
              </a:rPr>
              <a:t>trmean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 = 0.82 Nsample</a:t>
            </a:r>
            <a:r>
              <a:rPr b="0" lang="en-GB" sz="1800" spc="-1" strike="noStrike" baseline="-25000">
                <a:solidFill>
                  <a:srgbClr val="3333cc"/>
                </a:solidFill>
                <a:latin typeface="Comic Sans MS"/>
              </a:rPr>
              <a:t>ADC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10666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320" y="152280"/>
            <a:ext cx="251460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2280" y="781200"/>
            <a:ext cx="883944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Comic Sans MS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he K tracking efficiency times the geometrical acceptance has been measured using the tag tecnique at fraction of 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g studi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 a good shape for absolute B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ystematic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o be finalized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HW+tracking efficiencies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d </a:t>
            </a:r>
            <a:r>
              <a:rPr b="0" lang="en-GB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imulation on E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ata selection effects … FILFO, K evts retra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r(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on going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r(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on going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r(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)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r(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memo in prep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d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/dx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DC sampling efficiency improved by more than 30%, and the truncated mean resolution is now comparable to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ototype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19720" y="10666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320" y="152280"/>
            <a:ext cx="754380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wo body decays absolute BR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1587600"/>
            <a:ext cx="848520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two different strategies for BR’s measurements have been develo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event coun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absolute BR(</a:t>
            </a: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K</a:t>
            </a:r>
            <a:r>
              <a:rPr b="0" lang="en-GB" sz="24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</a:t>
            </a: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99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</a:t>
            </a:r>
            <a:r>
              <a:rPr b="0" lang="en-GB" sz="2000" spc="-1" strike="noStrike">
                <a:solidFill>
                  <a:srgbClr val="0099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Tempus Sans IT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fit the distribution of the momentum of the second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track  (p*) in the kaon rest fra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absolute BR(</a:t>
            </a: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K</a:t>
            </a:r>
            <a:r>
              <a:rPr b="0" lang="en-GB" sz="24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</a:t>
            </a: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99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</a:t>
            </a:r>
            <a:r>
              <a:rPr b="0" lang="en-GB" sz="2000" spc="-1" strike="noStrike">
                <a:solidFill>
                  <a:srgbClr val="0099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9900"/>
                </a:solidFill>
                <a:latin typeface="Tempus Sans IT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absolute BR(K</a:t>
            </a:r>
            <a:r>
              <a:rPr b="0" lang="en-US" sz="2400" spc="-1" strike="noStrike" baseline="30000">
                <a:solidFill>
                  <a:srgbClr val="009900"/>
                </a:solidFill>
                <a:latin typeface="Tempus Sans ITC"/>
              </a:rPr>
              <a:t>±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9900"/>
                </a:solidFill>
                <a:latin typeface="Tempus Sans ITC"/>
              </a:rPr>
              <a:t>±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9900"/>
                </a:solidFill>
                <a:latin typeface="Tempus Sans IT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BR(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K</a:t>
            </a:r>
            <a:r>
              <a:rPr b="0" lang="en-US" sz="24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 baseline="30000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99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)/BR(K</a:t>
            </a:r>
            <a:r>
              <a:rPr b="0" lang="en-US" sz="24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 baseline="30000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</a:t>
            </a:r>
            <a:r>
              <a:rPr b="0" lang="en-US" sz="20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9900"/>
                </a:solidFill>
                <a:latin typeface="Tempus Sans ITC"/>
              </a:rPr>
              <a:t>)</a:t>
            </a:r>
            <a:r>
              <a:rPr b="0" lang="en-US" sz="2400" spc="-1" strike="noStrike">
                <a:solidFill>
                  <a:srgbClr val="009900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5105520" y="3048120"/>
            <a:ext cx="3166920" cy="31669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 rot="1800000">
            <a:off x="5581800" y="4411440"/>
            <a:ext cx="1828800" cy="3189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800000">
            <a:off x="5562720" y="4191120"/>
            <a:ext cx="2112840" cy="242640"/>
          </a:xfrm>
          <a:prstGeom prst="ellipse">
            <a:avLst/>
          </a:prstGeom>
          <a:noFill/>
          <a:ln w="22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486400" y="5334120"/>
            <a:ext cx="228600" cy="380880"/>
          </a:xfrm>
          <a:prstGeom prst="ellipse">
            <a:avLst/>
          </a:prstGeom>
          <a:noFill/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72400" y="5334120"/>
            <a:ext cx="228600" cy="380880"/>
          </a:xfrm>
          <a:prstGeom prst="ellipse">
            <a:avLst/>
          </a:prstGeom>
          <a:noFill/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7800000">
            <a:off x="6141240" y="4374360"/>
            <a:ext cx="1295280" cy="318960"/>
          </a:xfrm>
          <a:prstGeom prst="ellipse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19920" y="33526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Symbol"/>
                <a:ea typeface="Symbol"/>
              </a:rPr>
              <a:t>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81680" y="5029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</a:t>
            </a:r>
            <a:r>
              <a:rPr b="1" lang="ru-RU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5562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Splitted tr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714640" y="5638680"/>
            <a:ext cx="22860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7543800" y="556236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772400" y="43434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Wrong” orientation of tr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7238520" y="4267080"/>
            <a:ext cx="685800" cy="457200"/>
          </a:xfrm>
          <a:prstGeom prst="line">
            <a:avLst/>
          </a:prstGeom>
          <a:ln w="158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3200400"/>
            <a:ext cx="4800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At least one secondary kaon vertex with       40 cm &lt; Rxy &lt; 150 cm,    |Z| &lt; 210 c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 MeV/c &lt; P sec &lt; 320 MeV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jection of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00ff00"/>
                </a:solidFill>
                <a:latin typeface="Times New Roman"/>
              </a:rPr>
              <a:t>Splitted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00ff00"/>
                </a:solidFill>
                <a:latin typeface="Times New Roman"/>
              </a:rPr>
              <a:t> tracks </a:t>
            </a:r>
            <a:r>
              <a:rPr b="0" lang="ru-RU" sz="1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events with   |P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P_sec| &lt; 40 MeV/c  . AND . D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. OR . DF &gt; 17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, where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DF = |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|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  acos (P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P sec)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8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Secondary track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3000" y="1219320"/>
            <a:ext cx="6781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Kaon candidates from ECLO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Only events with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two kaon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Charge1 x Charge2 &l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Selection by momenta in the first point in DC 40 &lt; 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&lt; 160 MeV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800600" y="1066680"/>
            <a:ext cx="3598920" cy="35989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609480" y="1065240"/>
            <a:ext cx="3598920" cy="35989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Fit of two pea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434340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00800" y="434340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81680" y="434340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1981080" y="4495680"/>
                <a:ext cx="5767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ree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1295280" y="51814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t gives a full description of all type of kaon decays in 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thre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extracted from 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4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-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" y="5486400"/>
            <a:ext cx="41148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5800" y="1143000"/>
            <a:ext cx="38862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SzPct val="14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Number of clusters &gt;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SzPct val="14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No association to charged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SzPct val="14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Ecl &gt; 25 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SzPct val="14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t | &lt; 3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SzPct val="14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Search a minimum 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| (Ecl1 + Ecl2) - M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|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SzPct val="14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0 &lt; M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 210 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SzPct val="17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space &lt; 30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space  - angle between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menta from ECL and calculated from 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95280" y="571500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 M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fi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- M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|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0.7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3886200" cy="2664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3886200" cy="26668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7238880" y="32004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21337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320" y="152280"/>
            <a:ext cx="8001000" cy="609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K tracking efficiency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geometrical acceptanc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 baseline="-25000">
                <a:solidFill>
                  <a:srgbClr val="ff33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9144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974880"/>
            <a:ext cx="43434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triggering tag on one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the candidate kaon track is selected with standard cuts on momentum and I.P.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background is mainly due to early 3 body decay of the K, where a low  momentum daughter mimic a K coming from the I.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4343400"/>
            <a:ext cx="87631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e kaon track of the 2 body decay that tags the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ent is used as “handle” to clean the sample of candidate kaon tr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e minimun distance </a:t>
            </a:r>
            <a:r>
              <a:rPr b="0" lang="en-GB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etween the candidate kaon track and the extrapolated K track from the “handle” is used as check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419720" y="949320"/>
            <a:ext cx="4566960" cy="2631600"/>
            <a:chOff x="4419720" y="949320"/>
            <a:chExt cx="4566960" cy="2631600"/>
          </a:xfrm>
        </p:grpSpPr>
        <p:sp>
          <p:nvSpPr>
            <p:cNvPr id="72" name=""/>
            <p:cNvSpPr/>
            <p:nvPr/>
          </p:nvSpPr>
          <p:spPr>
            <a:xfrm>
              <a:off x="7502760" y="1160280"/>
              <a:ext cx="14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K</a:t>
              </a:r>
              <a:r>
                <a:rPr b="0" lang="en-US" sz="1800" spc="-1" strike="noStrike" baseline="30000">
                  <a:solidFill>
                    <a:srgbClr val="ff3300"/>
                  </a:solidFill>
                  <a:latin typeface="Comic Sans MS"/>
                </a:rPr>
                <a:t>-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 candi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419720" y="949320"/>
              <a:ext cx="4334040" cy="2631600"/>
              <a:chOff x="4419720" y="949320"/>
              <a:chExt cx="4334040" cy="2631600"/>
            </a:xfrm>
          </p:grpSpPr>
          <p:sp>
            <p:nvSpPr>
              <p:cNvPr id="74" name=""/>
              <p:cNvSpPr/>
              <p:nvPr/>
            </p:nvSpPr>
            <p:spPr>
              <a:xfrm>
                <a:off x="4419720" y="1177560"/>
                <a:ext cx="41907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495680" y="949320"/>
                <a:ext cx="184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9720" y="312408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759280" y="1266480"/>
                <a:ext cx="1791000" cy="1773000"/>
              </a:xfrm>
              <a:prstGeom prst="ellipse">
                <a:avLst/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249880" y="2010960"/>
                <a:ext cx="1368360" cy="823680"/>
              </a:xfrm>
              <a:custGeom>
                <a:avLst/>
                <a:gdLst/>
                <a:ahLst/>
                <a:rect l="l" t="t" r="r" b="b"/>
                <a:pathLst>
                  <a:path w="1536" h="864">
                    <a:moveTo>
                      <a:pt x="0" y="864"/>
                    </a:moveTo>
                    <a:cubicBezTo>
                      <a:pt x="4" y="748"/>
                      <a:pt x="8" y="632"/>
                      <a:pt x="48" y="528"/>
                    </a:cubicBezTo>
                    <a:cubicBezTo>
                      <a:pt x="88" y="424"/>
                      <a:pt x="160" y="320"/>
                      <a:pt x="240" y="240"/>
                    </a:cubicBezTo>
                    <a:cubicBezTo>
                      <a:pt x="320" y="160"/>
                      <a:pt x="424" y="88"/>
                      <a:pt x="528" y="48"/>
                    </a:cubicBezTo>
                    <a:cubicBezTo>
                      <a:pt x="632" y="8"/>
                      <a:pt x="752" y="0"/>
                      <a:pt x="864" y="0"/>
                    </a:cubicBezTo>
                    <a:cubicBezTo>
                      <a:pt x="976" y="0"/>
                      <a:pt x="1104" y="24"/>
                      <a:pt x="1200" y="48"/>
                    </a:cubicBezTo>
                    <a:cubicBezTo>
                      <a:pt x="1296" y="72"/>
                      <a:pt x="1384" y="120"/>
                      <a:pt x="1440" y="144"/>
                    </a:cubicBezTo>
                    <a:cubicBezTo>
                      <a:pt x="1496" y="168"/>
                      <a:pt x="1520" y="184"/>
                      <a:pt x="1536" y="19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597720" y="2201760"/>
                <a:ext cx="54000" cy="5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7337520" y="2547720"/>
                <a:ext cx="761760" cy="56808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83200" y="1755360"/>
                <a:ext cx="509400" cy="36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497480" y="1025280"/>
                <a:ext cx="14763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Handle: K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 track with tagged dec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6651000" y="1974600"/>
                <a:ext cx="1633320" cy="1009440"/>
              </a:xfrm>
              <a:custGeom>
                <a:avLst/>
                <a:gdLst/>
                <a:ahLst/>
                <a:rect l="l" t="t" r="r" b="b"/>
                <a:pathLst>
                  <a:path w="1536" h="864">
                    <a:moveTo>
                      <a:pt x="0" y="864"/>
                    </a:moveTo>
                    <a:cubicBezTo>
                      <a:pt x="4" y="748"/>
                      <a:pt x="8" y="632"/>
                      <a:pt x="48" y="528"/>
                    </a:cubicBezTo>
                    <a:cubicBezTo>
                      <a:pt x="88" y="424"/>
                      <a:pt x="160" y="320"/>
                      <a:pt x="240" y="240"/>
                    </a:cubicBezTo>
                    <a:cubicBezTo>
                      <a:pt x="320" y="160"/>
                      <a:pt x="424" y="88"/>
                      <a:pt x="528" y="48"/>
                    </a:cubicBezTo>
                    <a:cubicBezTo>
                      <a:pt x="632" y="8"/>
                      <a:pt x="752" y="0"/>
                      <a:pt x="864" y="0"/>
                    </a:cubicBezTo>
                    <a:cubicBezTo>
                      <a:pt x="976" y="0"/>
                      <a:pt x="1104" y="24"/>
                      <a:pt x="1200" y="48"/>
                    </a:cubicBezTo>
                    <a:cubicBezTo>
                      <a:pt x="1296" y="72"/>
                      <a:pt x="1384" y="120"/>
                      <a:pt x="1440" y="144"/>
                    </a:cubicBezTo>
                    <a:cubicBezTo>
                      <a:pt x="1496" y="168"/>
                      <a:pt x="1520" y="184"/>
                      <a:pt x="1536" y="192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prstDash val="dash"/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516000" y="3126960"/>
                <a:ext cx="179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Comic Sans MS"/>
                  </a:rPr>
                  <a:t>K</a:t>
                </a:r>
                <a:r>
                  <a:rPr b="0" lang="en-US" sz="1800" spc="-1" strike="noStrike" baseline="30000">
                    <a:solidFill>
                      <a:srgbClr val="3333cc"/>
                    </a:solidFill>
                    <a:latin typeface="Comic Sans MS"/>
                  </a:rPr>
                  <a:t>-</a:t>
                </a:r>
                <a:r>
                  <a:rPr b="0" lang="en-US" sz="1800" spc="-1" strike="noStrike">
                    <a:solidFill>
                      <a:srgbClr val="3333cc"/>
                    </a:solidFill>
                    <a:latin typeface="Comic Sans MS"/>
                  </a:rPr>
                  <a:t> extrapolat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21064200">
                <a:off x="6615000" y="1917360"/>
                <a:ext cx="1800360" cy="772920"/>
              </a:xfrm>
              <a:custGeom>
                <a:avLst/>
                <a:gdLst/>
                <a:ahLst/>
                <a:rect l="l" t="t" r="r" b="b"/>
                <a:pathLst>
                  <a:path w="1536" h="864">
                    <a:moveTo>
                      <a:pt x="0" y="864"/>
                    </a:moveTo>
                    <a:cubicBezTo>
                      <a:pt x="4" y="748"/>
                      <a:pt x="8" y="632"/>
                      <a:pt x="48" y="528"/>
                    </a:cubicBezTo>
                    <a:cubicBezTo>
                      <a:pt x="88" y="424"/>
                      <a:pt x="160" y="320"/>
                      <a:pt x="240" y="240"/>
                    </a:cubicBezTo>
                    <a:cubicBezTo>
                      <a:pt x="320" y="160"/>
                      <a:pt x="424" y="88"/>
                      <a:pt x="528" y="48"/>
                    </a:cubicBezTo>
                    <a:cubicBezTo>
                      <a:pt x="632" y="8"/>
                      <a:pt x="752" y="0"/>
                      <a:pt x="864" y="0"/>
                    </a:cubicBezTo>
                    <a:cubicBezTo>
                      <a:pt x="976" y="0"/>
                      <a:pt x="1104" y="24"/>
                      <a:pt x="1200" y="48"/>
                    </a:cubicBezTo>
                    <a:cubicBezTo>
                      <a:pt x="1296" y="72"/>
                      <a:pt x="1384" y="120"/>
                      <a:pt x="1440" y="144"/>
                    </a:cubicBezTo>
                    <a:cubicBezTo>
                      <a:pt x="1496" y="168"/>
                      <a:pt x="1520" y="184"/>
                      <a:pt x="1536" y="192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8200800" y="2331720"/>
                <a:ext cx="142920" cy="144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7913160" y="1471320"/>
                <a:ext cx="287640" cy="3600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338680" y="2639880"/>
                <a:ext cx="41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 flipV="1">
                <a:off x="8305560" y="247320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4876920" y="990720"/>
          <a:ext cx="3504960" cy="34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990720"/>
                    <a:ext cx="350496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Selection of K</a:t>
            </a:r>
            <a:r>
              <a:rPr b="0" lang="ru-RU" sz="4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decay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29200" y="4038480"/>
            <a:ext cx="35812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Times New Roman"/>
              </a:rPr>
              <a:t>All selec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Events with reconstructed as pions from K</a:t>
            </a:r>
            <a:r>
              <a:rPr b="0" lang="ru-RU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ru-RU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ru-RU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Events selected as muons from </a:t>
            </a:r>
            <a:r>
              <a:rPr b="0" lang="ru-RU" sz="2000" spc="-1" strike="noStrike">
                <a:solidFill>
                  <a:srgbClr val="ff00ff"/>
                </a:solidFill>
                <a:latin typeface="Times New Roman"/>
              </a:rPr>
              <a:t>K</a:t>
            </a:r>
            <a:r>
              <a:rPr b="0" lang="ru-RU" sz="2000" spc="-1" strike="noStrike" baseline="30000">
                <a:solidFill>
                  <a:srgbClr val="ff00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00ff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ff"/>
                </a:solidFill>
                <a:latin typeface="Symbol"/>
                <a:ea typeface="Symbol"/>
              </a:rPr>
              <a:t></a:t>
            </a:r>
            <a:r>
              <a:rPr b="0" lang="ru-RU" sz="2000" spc="-1" strike="noStrike" baseline="30000">
                <a:solidFill>
                  <a:srgbClr val="ff00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00ff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2120" y="1752480"/>
            <a:ext cx="2895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1066680"/>
            <a:ext cx="358164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Rejected clusters associated to the neutral tr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SzPct val="15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Minimum  | (Ecl1 + Ecl2) - M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| 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mmon clusters for both verte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3276720"/>
            <a:ext cx="350532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Procedure needs to get a clear signal for the both peak in wind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Good selection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decay, small contamination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events survive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lection didn’t change the shape of two peak’s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3124080"/>
            <a:ext cx="41148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91320" y="1371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320" y="152280"/>
            <a:ext cx="800100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K tracking efficiency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geometrical acceptanc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 baseline="-25000">
                <a:solidFill>
                  <a:srgbClr val="ff33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9144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387680" y="1752480"/>
            <a:ext cx="4680000" cy="3887640"/>
            <a:chOff x="4387680" y="1752480"/>
            <a:chExt cx="4680000" cy="38876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rcRect l="3896" t="8594" r="7014" b="5509"/>
            <a:stretch/>
          </p:blipFill>
          <p:spPr>
            <a:xfrm>
              <a:off x="4387680" y="1752480"/>
              <a:ext cx="468000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615640" y="2093760"/>
              <a:ext cx="2588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Comic Sans MS"/>
                </a:rPr>
                <a:t>BLUE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  </a:t>
              </a:r>
              <a:r>
                <a:rPr b="0" lang="en-GB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GB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en-GB" sz="1800" spc="-1" strike="noStrike">
                  <a:solidFill>
                    <a:srgbClr val="3333cc"/>
                  </a:solidFill>
                  <a:latin typeface="Comic Sans MS"/>
                </a:rPr>
                <a:t> K from M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Comic Sans MS"/>
                </a:rPr>
                <a:t>RED</a:t>
              </a: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     </a:t>
              </a:r>
              <a:r>
                <a:rPr b="0" lang="en-GB" sz="18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n-GB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0" lang="en-GB" sz="1800" spc="-1" strike="noStrike">
                  <a:solidFill>
                    <a:srgbClr val="ff0000"/>
                  </a:solidFill>
                  <a:latin typeface="Comic Sans MS"/>
                </a:rPr>
                <a:t> K from 2 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ff33"/>
                  </a:solidFill>
                  <a:latin typeface="Comic Sans MS"/>
                </a:rPr>
                <a:t>GREEN</a:t>
              </a:r>
              <a:r>
                <a:rPr b="0" lang="en-US" sz="1800" spc="-1" strike="noStrike">
                  <a:solidFill>
                    <a:srgbClr val="66ff33"/>
                  </a:solidFill>
                  <a:latin typeface="Comic Sans MS"/>
                </a:rPr>
                <a:t> </a:t>
              </a:r>
              <a:r>
                <a:rPr b="0" lang="en-GB" sz="1800" spc="-1" strike="noStrike">
                  <a:solidFill>
                    <a:srgbClr val="66ff33"/>
                  </a:solidFill>
                  <a:latin typeface="Symbol"/>
                  <a:ea typeface="Symbol"/>
                </a:rPr>
                <a:t></a:t>
              </a:r>
              <a:r>
                <a:rPr b="0" lang="en-GB" sz="1800" spc="-1" strike="noStrike">
                  <a:solidFill>
                    <a:srgbClr val="66ff33"/>
                  </a:solidFill>
                  <a:latin typeface="Comic Sans MS"/>
                </a:rPr>
                <a:t> bck from M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" y="3505320"/>
            <a:ext cx="373392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andidate  kaon track selected by the cuts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)  q opposite to the “handl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2)  70 &lt; P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&lt; 130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3)  R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Comic Sans MS"/>
              </a:rPr>
              <a:t>pca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&lt; 1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4)  -20 &lt; z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Comic Sans MS"/>
              </a:rPr>
              <a:t>pca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&lt; 2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41680" y="55767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 (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371600"/>
            <a:ext cx="4572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e shape of the </a:t>
            </a:r>
            <a:r>
              <a:rPr b="0" lang="en-GB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distribution for background is taken from 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e shape of the </a:t>
            </a:r>
            <a:r>
              <a:rPr b="0" lang="en-GB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distribution for kaon candidate is taken from MC and from double tagg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8280" y="152280"/>
            <a:ext cx="584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32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versus time and shape syste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066680"/>
            <a:ext cx="352728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he 2001-2002 data were divided in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ervals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 of </a:t>
            </a:r>
            <a:r>
              <a:rPr b="0" lang="en-GB" sz="2000" spc="-1" strike="noStrike">
                <a:solidFill>
                  <a:srgbClr val="3333cc"/>
                </a:solidFill>
                <a:latin typeface="Symbol"/>
                <a:ea typeface="Symbol"/>
              </a:rPr>
              <a:t>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 6 pb</a:t>
            </a:r>
            <a:r>
              <a:rPr b="0" lang="en-GB" sz="2000" spc="-1" strike="noStrike" baseline="30000">
                <a:solidFill>
                  <a:srgbClr val="3333cc"/>
                </a:solidFill>
                <a:latin typeface="Comic Sans MS"/>
              </a:rPr>
              <a:t>-1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each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 t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he two different results account for th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wo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 different shape choice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 of th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distribution of the kaon track candidates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143600" y="1143000"/>
            <a:ext cx="4827240" cy="4033800"/>
            <a:chOff x="4143600" y="1143000"/>
            <a:chExt cx="4827240" cy="40338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rcRect l="0" t="6981" r="8627" b="5509"/>
            <a:stretch/>
          </p:blipFill>
          <p:spPr>
            <a:xfrm>
              <a:off x="4307040" y="1189080"/>
              <a:ext cx="4663800" cy="37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143600" y="114300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GB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GB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85600" y="4808520"/>
              <a:ext cx="177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tLum/6 (pb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3440" y="36720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51800" y="37339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2440" y="1447920"/>
              <a:ext cx="22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Comic Sans MS"/>
                </a:rPr>
                <a:t>BLUE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GB" sz="1800" spc="-1" strike="noStrike">
                  <a:solidFill>
                    <a:srgbClr val="3333cc"/>
                  </a:solidFill>
                  <a:latin typeface="Comic Sans MS"/>
                </a:rPr>
                <a:t> = MC 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Comic Sans MS"/>
                </a:rPr>
                <a:t>RED</a:t>
              </a: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  </a:t>
              </a:r>
              <a:r>
                <a:rPr b="0" lang="en-GB" sz="18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n-GB" sz="1800" spc="-1" strike="noStrike">
                  <a:solidFill>
                    <a:srgbClr val="ff0000"/>
                  </a:solidFill>
                  <a:latin typeface="Comic Sans MS"/>
                </a:rPr>
                <a:t>= 2Tag 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52280" y="3962520"/>
            <a:ext cx="2952720" cy="2365200"/>
            <a:chOff x="152280" y="3962520"/>
            <a:chExt cx="2952720" cy="236520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32711" t="53776" r="4717" b="2193"/>
            <a:stretch/>
          </p:blipFill>
          <p:spPr>
            <a:xfrm>
              <a:off x="152280" y="3962520"/>
              <a:ext cx="2952720" cy="23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52280" y="4033800"/>
              <a:ext cx="0" cy="18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429000" y="5181480"/>
            <a:ext cx="3168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ystematic due to the shape uncertainty </a:t>
            </a:r>
            <a:r>
              <a:rPr b="0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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2x10</a:t>
            </a:r>
            <a:r>
              <a:rPr b="0" lang="en-GB" sz="18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971800" y="53341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8280" y="152280"/>
            <a:ext cx="775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32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ystematic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due to differences between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914400"/>
            <a:ext cx="851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Systematic on the K tracking eff. can also be due to what happens in the opposite emispher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 the tracking efficiency has been measured also with respect to the kind of tag ( the decay of the “handle” kaon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429000" y="1919160"/>
            <a:ext cx="5603040" cy="4254480"/>
            <a:chOff x="3429000" y="1919160"/>
            <a:chExt cx="5603040" cy="425448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rcRect l="3042" t="3618" r="8693" b="6089"/>
            <a:stretch/>
          </p:blipFill>
          <p:spPr>
            <a:xfrm>
              <a:off x="3429000" y="1919160"/>
              <a:ext cx="5551560" cy="39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261560" y="5805360"/>
              <a:ext cx="177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tLum/5 (pb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89000" y="4433760"/>
              <a:ext cx="208764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Comic Sans MS"/>
                </a:rPr>
                <a:t>BLUE</a:t>
              </a:r>
              <a:r>
                <a:rPr b="0" lang="en-GB" sz="1800" spc="-1" strike="noStrike">
                  <a:solidFill>
                    <a:srgbClr val="3333cc"/>
                  </a:solidFill>
                  <a:latin typeface="Arial"/>
                </a:rPr>
                <a:t>    K</a:t>
              </a:r>
              <a:r>
                <a:rPr b="0" lang="en-GB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</a:t>
              </a:r>
              <a:r>
                <a:rPr b="0" lang="en-GB" sz="1800" spc="-1" strike="noStrike" baseline="30000">
                  <a:solidFill>
                    <a:srgbClr val="3333cc"/>
                  </a:solidFill>
                  <a:latin typeface="Arial"/>
                </a:rPr>
                <a:t>0 </a:t>
              </a:r>
              <a:r>
                <a:rPr b="0" lang="en-GB" sz="18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3333cc"/>
                  </a:solidFill>
                  <a:latin typeface="Comic Sans MS"/>
                </a:rPr>
                <a:t>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Comic Sans MS"/>
                </a:rPr>
                <a:t>RED  </a:t>
              </a: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    K</a:t>
              </a:r>
              <a:r>
                <a:rPr b="0" lang="en-GB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</a:t>
              </a:r>
              <a:r>
                <a:rPr b="0" lang="en-GB" sz="1800" spc="-1" strike="noStrike">
                  <a:solidFill>
                    <a:srgbClr val="ff0000"/>
                  </a:solidFill>
                  <a:latin typeface="Comic Sans MS"/>
                </a:rPr>
                <a:t>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BLACK  all 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2"/>
          <a:srcRect l="5226" t="53540" r="7391" b="118"/>
          <a:stretch/>
        </p:blipFill>
        <p:spPr>
          <a:xfrm>
            <a:off x="152280" y="2120760"/>
            <a:ext cx="3097440" cy="2374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79440" y="4708440"/>
            <a:ext cx="2592360" cy="105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he maximum bia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ound o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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7.5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± 2.0) x 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91480" y="2209680"/>
            <a:ext cx="54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8280" y="152280"/>
            <a:ext cx="637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verage 2001 – 2002 val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990720"/>
            <a:ext cx="80769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we show the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value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 of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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for both charge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 kaons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, relative to the full 2001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2002 data set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with the corresponding systematic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2120760"/>
          <a:ext cx="8280360" cy="2298600"/>
        </p:xfrm>
        <a:graphic>
          <a:graphicData uri="http://schemas.openxmlformats.org/drawingml/2006/table">
            <a:tbl>
              <a:tblPr/>
              <a:tblGrid>
                <a:gridCol w="1217520"/>
                <a:gridCol w="1704960"/>
                <a:gridCol w="1762200"/>
                <a:gridCol w="1728720"/>
                <a:gridCol w="1866960"/>
              </a:tblGrid>
              <a:tr h="722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stat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shape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tag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.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8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.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685800" y="495288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till missing a 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final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quantitative evaluation of th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ag background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…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seems to be negligible even at few per mill level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… however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 we are working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152280"/>
            <a:ext cx="6476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vs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GB" sz="28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uclear inte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806400"/>
            <a:ext cx="7696080" cy="6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The nuclear interactions of K</a:t>
            </a:r>
            <a:r>
              <a:rPr b="0" lang="en-GB" sz="1800" spc="-1" strike="noStrike" baseline="30000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in the beam pipe and in the DC wall reduce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 baseline="-25000">
                <a:solidFill>
                  <a:srgbClr val="3333cc"/>
                </a:solidFill>
                <a:latin typeface="Arial"/>
              </a:rPr>
              <a:t>K</a:t>
            </a:r>
            <a:r>
              <a:rPr b="1" lang="en-GB" sz="1800" spc="-1" strike="noStrike" baseline="30000">
                <a:solidFill>
                  <a:srgbClr val="3333cc"/>
                </a:solidFill>
                <a:latin typeface="Arial"/>
              </a:rPr>
              <a:t>-</a:t>
            </a:r>
            <a:r>
              <a:rPr b="0" lang="en-GB" sz="1800" spc="-1" strike="noStrike" baseline="30000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in comparison to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 baseline="-25000">
                <a:solidFill>
                  <a:srgbClr val="3333cc"/>
                </a:solidFill>
                <a:latin typeface="Arial"/>
              </a:rPr>
              <a:t>K</a:t>
            </a:r>
            <a:r>
              <a:rPr b="1" lang="en-GB" sz="18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by more than 1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8160" y="1625760"/>
            <a:ext cx="3978360" cy="4133160"/>
            <a:chOff x="38160" y="1625760"/>
            <a:chExt cx="3978360" cy="4133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rcRect l="0" t="8485" r="9735" b="5962"/>
            <a:stretch/>
          </p:blipFill>
          <p:spPr>
            <a:xfrm>
              <a:off x="38160" y="1625760"/>
              <a:ext cx="3739680" cy="38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83800" y="3344400"/>
              <a:ext cx="133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IntLum/6pb</a:t>
              </a:r>
              <a:r>
                <a:rPr b="1" lang="en-GB" sz="14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60920" y="2743920"/>
              <a:ext cx="602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</a:t>
              </a:r>
              <a:r>
                <a:rPr b="1" lang="en-GB" sz="2000" spc="-1" strike="noStrike" baseline="-25000">
                  <a:solidFill>
                    <a:srgbClr val="ff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60960" y="5318280"/>
              <a:ext cx="602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</a:t>
              </a:r>
              <a:r>
                <a:rPr b="1" lang="en-GB" sz="2000" spc="-1" strike="noStrike" baseline="-25000">
                  <a:solidFill>
                    <a:srgbClr val="ff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0880" y="5638680"/>
            <a:ext cx="3367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he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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integrated over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and p</a:t>
            </a:r>
            <a:r>
              <a:rPr b="0" lang="en-GB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 is </a:t>
            </a:r>
            <a:r>
              <a:rPr b="0" lang="en-GB" sz="1800" spc="-1" strike="noStrike">
                <a:solidFill>
                  <a:srgbClr val="3333cc"/>
                </a:solidFill>
                <a:latin typeface="Symbol"/>
                <a:ea typeface="Symbol"/>
              </a:rPr>
              <a:t>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(10.4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± 1.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4) x10</a:t>
            </a:r>
            <a:r>
              <a:rPr b="0" lang="en-GB" sz="18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1506600"/>
            <a:ext cx="48006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Comic Sans MS"/>
              </a:rPr>
              <a:t>If we assume that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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9900"/>
                </a:solidFill>
                <a:latin typeface="Comic Sans MS"/>
              </a:rPr>
              <a:t>is totally due to K</a:t>
            </a:r>
            <a:r>
              <a:rPr b="0" lang="en-GB" sz="1800" spc="-1" strike="noStrike" baseline="30000">
                <a:solidFill>
                  <a:srgbClr val="009900"/>
                </a:solidFill>
                <a:latin typeface="Comic Sans MS"/>
              </a:rPr>
              <a:t>-</a:t>
            </a:r>
            <a:r>
              <a:rPr b="0" lang="en-GB" sz="1800" spc="-1" strike="noStrike">
                <a:solidFill>
                  <a:srgbClr val="009900"/>
                </a:solidFill>
                <a:latin typeface="Comic Sans MS"/>
              </a:rPr>
              <a:t> nuclear interactions, then it should contain a costant term due to BP, plus a bigger term proportional to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9900"/>
                </a:solidFill>
                <a:latin typeface="Comic Sans MS"/>
              </a:rPr>
              <a:t>1/si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n</a:t>
            </a:r>
            <a:r>
              <a:rPr b="0" lang="en-GB" sz="1800" spc="-1" strike="noStrike">
                <a:solidFill>
                  <a:srgbClr val="0099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9900"/>
                </a:solidFill>
                <a:latin typeface="Comic Sans MS"/>
              </a:rPr>
              <a:t>due to DC wall (and B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9240" y="2895480"/>
            <a:ext cx="282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r>
              <a:rPr b="0" lang="en-GB" sz="2400" spc="-1" strike="noStrike" baseline="30000">
                <a:solidFill>
                  <a:srgbClr val="009900"/>
                </a:solidFill>
                <a:latin typeface="Comic Sans MS"/>
              </a:rPr>
              <a:t>nucl</a:t>
            </a:r>
            <a:r>
              <a:rPr b="0" lang="en-GB" sz="2400" spc="-1" strike="noStrike" baseline="-25000">
                <a:solidFill>
                  <a:srgbClr val="009900"/>
                </a:solidFill>
                <a:latin typeface="Comic Sans MS"/>
              </a:rPr>
              <a:t>K</a:t>
            </a: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9900"/>
                </a:solidFill>
                <a:latin typeface="Symbol"/>
                <a:ea typeface="Symbol"/>
              </a:rPr>
              <a:t></a:t>
            </a: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 C</a:t>
            </a:r>
            <a:r>
              <a:rPr b="0" lang="en-GB" sz="24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 + C</a:t>
            </a:r>
            <a:r>
              <a:rPr b="0" lang="en-GB" sz="24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/sin</a:t>
            </a:r>
            <a:r>
              <a:rPr b="0" lang="en-GB" sz="2400" spc="-1" strike="noStrike">
                <a:solidFill>
                  <a:srgbClr val="0099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448160" y="3360960"/>
            <a:ext cx="4009680" cy="3123720"/>
            <a:chOff x="4448160" y="3360960"/>
            <a:chExt cx="4009680" cy="3123720"/>
          </a:xfrm>
        </p:grpSpPr>
        <p:grpSp>
          <p:nvGrpSpPr>
            <p:cNvPr id="141" name=""/>
            <p:cNvGrpSpPr/>
            <p:nvPr/>
          </p:nvGrpSpPr>
          <p:grpSpPr>
            <a:xfrm>
              <a:off x="4448160" y="3360960"/>
              <a:ext cx="3904560" cy="3123720"/>
              <a:chOff x="4448160" y="3360960"/>
              <a:chExt cx="3904560" cy="3123720"/>
            </a:xfrm>
          </p:grpSpPr>
          <p:sp>
            <p:nvSpPr>
              <p:cNvPr id="142" name=""/>
              <p:cNvSpPr/>
              <p:nvPr/>
            </p:nvSpPr>
            <p:spPr>
              <a:xfrm rot="16200000">
                <a:off x="4367160" y="3441960"/>
                <a:ext cx="602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</a:t>
                </a:r>
                <a:r>
                  <a:rPr b="1" lang="it-IT" sz="2000" spc="-1" strike="noStrike" baseline="-25000">
                    <a:solidFill>
                      <a:srgbClr val="ff0000"/>
                    </a:solidFill>
                    <a:latin typeface="Arial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60080" y="6116400"/>
                <a:ext cx="69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ff0000"/>
                    </a:solidFill>
                    <a:latin typeface="Arial"/>
                  </a:rPr>
                  <a:t>cos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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4" name="" descr=""/>
              <p:cNvPicPr/>
              <p:nvPr/>
            </p:nvPicPr>
            <p:blipFill>
              <a:blip r:embed="rId2"/>
              <a:srcRect l="703" t="6981" r="8627" b="5509"/>
              <a:stretch/>
            </p:blipFill>
            <p:spPr>
              <a:xfrm>
                <a:off x="4853160" y="3399840"/>
                <a:ext cx="3376440" cy="2765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5" name=""/>
            <p:cNvSpPr/>
            <p:nvPr/>
          </p:nvSpPr>
          <p:spPr>
            <a:xfrm>
              <a:off x="6855480" y="3501000"/>
              <a:ext cx="686160" cy="251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68000" y="4355280"/>
              <a:ext cx="857520" cy="1909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00320" y="4154760"/>
              <a:ext cx="857520" cy="1909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6320" y="152280"/>
            <a:ext cx="754380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wo body decays absolute BR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02280" y="6389640"/>
            <a:ext cx="606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th LNF Scientific Committee (Closed Session) – P. de Sim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10666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428" r="1309" b="0"/>
          <a:stretch/>
        </p:blipFill>
        <p:spPr>
          <a:xfrm>
            <a:off x="4952880" y="1295280"/>
            <a:ext cx="4062600" cy="371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99000" y="1415880"/>
            <a:ext cx="4632480" cy="387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1)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t</a:t>
            </a: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ag on one side with K</a:t>
            </a:r>
            <a:r>
              <a:rPr b="0" lang="en-GB" sz="2000" spc="-1" strike="noStrike">
                <a:solidFill>
                  <a:srgbClr val="009900"/>
                </a:solidFill>
                <a:latin typeface="Symbol"/>
                <a:ea typeface="Symbol"/>
              </a:rPr>
              <a:t></a:t>
            </a: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 or K</a:t>
            </a:r>
            <a:r>
              <a:rPr b="0" lang="en-GB" sz="2000" spc="-1" strike="noStrike">
                <a:solidFill>
                  <a:srgbClr val="009900"/>
                </a:solidFill>
                <a:latin typeface="Symbol"/>
                <a:ea typeface="Symbol"/>
              </a:rPr>
              <a:t>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e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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z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PCA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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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20cm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PCA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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10c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- 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70,130) 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VTX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(40,150)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- dp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(-320,-120) 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- p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m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(180,270) 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2) require self-triggering 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(</a:t>
            </a: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cluster fires 2 trigger secto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3) look for signal on the other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8524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Comic Sans MS"/>
              </a:rPr>
              <a:t>K</a:t>
            </a:r>
            <a:r>
              <a:rPr b="0" lang="en-GB" sz="2800" spc="-1" strike="noStrike" baseline="30000">
                <a:solidFill>
                  <a:srgbClr val="009900"/>
                </a:solidFill>
                <a:latin typeface="Comic Sans MS"/>
              </a:rPr>
              <a:t>+ </a:t>
            </a:r>
            <a:r>
              <a:rPr b="0" lang="en-GB" sz="2800" spc="-1" strike="noStrike">
                <a:solidFill>
                  <a:srgbClr val="009900"/>
                </a:solidFill>
                <a:latin typeface="Comic Sans MS"/>
              </a:rPr>
              <a:t>K</a:t>
            </a:r>
            <a:r>
              <a:rPr b="0" lang="en-US" sz="2800" spc="-1" strike="noStrike" baseline="30000">
                <a:solidFill>
                  <a:srgbClr val="0099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event selection 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3499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acking and vertex efficiency, and tag studies are  prerequisites for the measurement of absolute BR(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e3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11:33:03Z</dcterms:created>
  <dc:creator>patrizia</dc:creator>
  <dc:description/>
  <dc:language>en-US</dc:language>
  <cp:lastModifiedBy>patrizia</cp:lastModifiedBy>
  <cp:lastPrinted>2003-11-27T12:50:51Z</cp:lastPrinted>
  <dcterms:modified xsi:type="dcterms:W3CDTF">2003-12-02T03:32:32Z</dcterms:modified>
  <cp:revision>168</cp:revision>
  <dc:subject/>
  <dc:title>Presentazione di PowerPoint</dc:title>
</cp:coreProperties>
</file>