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11CB-727B-4D02-BFD7-3C81A3618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Stime chiral dicono alpha = 0  @ 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fino all’ordine p4  0.015 at tre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B08E-CFD9-4729-823B-CC4972CD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31BE-0185-4754-A133-C77A938B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9F06-0546-41AF-881E-40E31599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D4AA-312C-41BC-AF63-7544EB55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925E-8289-409B-AA59-EC0A1B67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6782-9E4F-4EF7-ACE8-252B277C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B567-5963-4671-A2DF-FBC7D09F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F251-7435-4702-A291-9A575BD0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DA1B-7ED3-4329-BEB1-5CDDBBD6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7254-992F-440E-8223-4EC1BB5C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6A97-0F38-4641-9C9A-AC13F6A6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AD7B-3C1E-4ABE-BB0E-6C5AD381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4A3C-1F62-41D9-9917-4A400F7D5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972160" y="106668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adiative Phi dec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21080" y="90360"/>
            <a:ext cx="386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NF Scientific Committee 02/12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99360" y="1905120"/>
            <a:ext cx="505584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B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versita’ “La Sapienza” and INFN Ro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hi-decay W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08320" y="3809880"/>
            <a:ext cx="4651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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Scalars 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980), a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980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+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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’) +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33280" y="5070600"/>
            <a:ext cx="53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(or most) of the results are prelim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4361040" y="1198440"/>
            <a:ext cx="4819320" cy="3886200"/>
            <a:chOff x="4361040" y="1198440"/>
            <a:chExt cx="4819320" cy="388620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4361040" y="1198440"/>
              <a:ext cx="4819320" cy="388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9" name=""/>
            <p:cNvGrpSpPr/>
            <p:nvPr/>
          </p:nvGrpSpPr>
          <p:grpSpPr>
            <a:xfrm>
              <a:off x="5240520" y="1562760"/>
              <a:ext cx="2131200" cy="3078000"/>
              <a:chOff x="5240520" y="1562760"/>
              <a:chExt cx="2131200" cy="3078000"/>
            </a:xfrm>
          </p:grpSpPr>
          <p:sp>
            <p:nvSpPr>
              <p:cNvPr id="130" name=""/>
              <p:cNvSpPr/>
              <p:nvPr/>
            </p:nvSpPr>
            <p:spPr>
              <a:xfrm flipV="1">
                <a:off x="5240520" y="1562760"/>
                <a:ext cx="0" cy="30780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7371720" y="1562760"/>
                <a:ext cx="0" cy="30780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>
            <a:off x="2971800" y="26668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8000" y="4797360"/>
            <a:ext cx="75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very preliminary stud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1/10 available statistic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urac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fore with all stat we c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ch Crystal Ball accu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48320" y="5486400"/>
          <a:ext cx="4290840" cy="1157400"/>
        </p:xfrm>
        <a:graphic>
          <a:graphicData uri="http://schemas.openxmlformats.org/drawingml/2006/table">
            <a:tbl>
              <a:tblPr/>
              <a:tblGrid>
                <a:gridCol w="4290840"/>
              </a:tblGrid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lde   (1984)                </a:t>
                      </a:r>
                      <a:r>
                        <a:rPr b="0" lang="it-IT" sz="20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it-IT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0.022 </a:t>
                      </a:r>
                      <a:r>
                        <a:rPr b="0" lang="it-IT" sz="20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0.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rystal Barrel (1998)   </a:t>
                      </a:r>
                      <a:r>
                        <a:rPr b="0" lang="it-IT" sz="20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it-IT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0.052 </a:t>
                      </a:r>
                      <a:r>
                        <a:rPr b="0" lang="it-IT" sz="20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0.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rystal Ball   (2001)     </a:t>
                      </a:r>
                      <a:r>
                        <a:rPr b="0" lang="it-IT" sz="20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it-IT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0.031 </a:t>
                      </a:r>
                      <a:r>
                        <a:rPr b="0" lang="it-IT" sz="20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0.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pSp>
        <p:nvGrpSpPr>
          <p:cNvPr id="135" name=""/>
          <p:cNvGrpSpPr/>
          <p:nvPr/>
        </p:nvGrpSpPr>
        <p:grpSpPr>
          <a:xfrm>
            <a:off x="106200" y="223200"/>
            <a:ext cx="8353440" cy="4154760"/>
            <a:chOff x="106200" y="223200"/>
            <a:chExt cx="8353440" cy="4154760"/>
          </a:xfrm>
        </p:grpSpPr>
        <p:grpSp>
          <p:nvGrpSpPr>
            <p:cNvPr id="136" name=""/>
            <p:cNvGrpSpPr/>
            <p:nvPr/>
          </p:nvGrpSpPr>
          <p:grpSpPr>
            <a:xfrm>
              <a:off x="5287320" y="223200"/>
              <a:ext cx="2138760" cy="1180800"/>
              <a:chOff x="5287320" y="223200"/>
              <a:chExt cx="2138760" cy="1180800"/>
            </a:xfrm>
          </p:grpSpPr>
          <p:sp>
            <p:nvSpPr>
              <p:cNvPr id="137" name=""/>
              <p:cNvSpPr/>
              <p:nvPr/>
            </p:nvSpPr>
            <p:spPr>
              <a:xfrm>
                <a:off x="5287320" y="100512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99"/>
                    </a:solidFill>
                    <a:latin typeface="Times New Roman"/>
                  </a:rPr>
                  <a:t>z</a:t>
                </a:r>
                <a:r>
                  <a:rPr b="0" lang="it-IT" sz="2000" spc="-1" strike="noStrike">
                    <a:solidFill>
                      <a:srgbClr val="000099"/>
                    </a:solidFill>
                    <a:latin typeface="Times New Roman"/>
                  </a:rPr>
                  <a:t> </a:t>
                </a:r>
                <a:r>
                  <a:rPr b="0" lang="it-IT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</a:t>
                </a:r>
                <a:r>
                  <a:rPr b="0" lang="it-IT" sz="2000" spc="-1" strike="noStrike">
                    <a:solidFill>
                      <a:srgbClr val="000099"/>
                    </a:solidFill>
                    <a:latin typeface="Times New Roman"/>
                  </a:rPr>
                  <a:t> [ 0        ,     1 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5608440" y="223200"/>
                <a:ext cx="778320" cy="673920"/>
                <a:chOff x="5608440" y="223200"/>
                <a:chExt cx="778320" cy="6739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5608440" y="223200"/>
                  <a:ext cx="388080" cy="223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headEnd len="sm" type="arrow" w="lg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5997600" y="455760"/>
                  <a:ext cx="0" cy="4413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headEnd len="sm" type="arrow" w="lg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5999040" y="234000"/>
                  <a:ext cx="387720" cy="223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headEnd len="sm" type="oval" w="lg"/>
                  <a:tailEnd len="sm" type="arrow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6588000" y="333360"/>
                <a:ext cx="838080" cy="306000"/>
                <a:chOff x="6588000" y="333360"/>
                <a:chExt cx="838080" cy="3060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940440" y="333360"/>
                  <a:ext cx="152280" cy="15228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4" name=""/>
                <p:cNvGrpSpPr/>
                <p:nvPr/>
              </p:nvGrpSpPr>
              <p:grpSpPr>
                <a:xfrm>
                  <a:off x="6588000" y="637920"/>
                  <a:ext cx="838080" cy="1440"/>
                  <a:chOff x="6588000" y="637920"/>
                  <a:chExt cx="838080" cy="144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>
                    <a:off x="7045200" y="637920"/>
                    <a:ext cx="380880" cy="1440"/>
                  </a:xfrm>
                  <a:prstGeom prst="line">
                    <a:avLst/>
                  </a:prstGeom>
                  <a:ln w="38160">
                    <a:solidFill>
                      <a:srgbClr val="ff66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flipH="1">
                    <a:off x="6588000" y="637920"/>
                    <a:ext cx="457200" cy="0"/>
                  </a:xfrm>
                  <a:prstGeom prst="line">
                    <a:avLst/>
                  </a:prstGeom>
                  <a:ln w="38160">
                    <a:solidFill>
                      <a:srgbClr val="ff66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47" name=""/>
            <p:cNvGrpSpPr/>
            <p:nvPr/>
          </p:nvGrpSpPr>
          <p:grpSpPr>
            <a:xfrm>
              <a:off x="106200" y="399960"/>
              <a:ext cx="8353440" cy="3978000"/>
              <a:chOff x="106200" y="399960"/>
              <a:chExt cx="8353440" cy="3978000"/>
            </a:xfrm>
          </p:grpSpPr>
          <p:sp>
            <p:nvSpPr>
              <p:cNvPr id="148" name=""/>
              <p:cNvSpPr/>
              <p:nvPr/>
            </p:nvSpPr>
            <p:spPr>
              <a:xfrm>
                <a:off x="154080" y="1027080"/>
                <a:ext cx="8305560" cy="12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The dynamics depends on a single variable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|A|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1 + 2</a:t>
                </a:r>
                <a:r>
                  <a:rPr b="0" lang="en-US" sz="20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z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With </a:t>
                </a:r>
                <a:r>
                  <a:rPr b="0" lang="en-US" sz="20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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ree paramet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9" name=""/>
                  <p:cNvSpPr txBox="1"/>
                  <p:nvPr/>
                </p:nvSpPr>
                <p:spPr>
                  <a:xfrm>
                    <a:off x="533520" y="2514600"/>
                    <a:ext cx="3473280" cy="915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η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η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p>
                                  </m:sub>
                                </m:sSub>
                              </m:den>
                            </m:f>
                          </m:e>
                        </m:nary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0" name=""/>
              <p:cNvSpPr/>
              <p:nvPr/>
            </p:nvSpPr>
            <p:spPr>
              <a:xfrm>
                <a:off x="106200" y="3735360"/>
                <a:ext cx="275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Important convolution with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nergy resolution func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39040" y="399960"/>
                <a:ext cx="200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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</a:t>
                </a:r>
                <a:r>
                  <a:rPr b="0" lang="en-US" sz="2800" spc="-1" strike="noStrike" baseline="30000">
                    <a:solidFill>
                      <a:srgbClr val="ff0000"/>
                    </a:solidFill>
                    <a:latin typeface="Symbol"/>
                    <a:ea typeface="Symbol"/>
                  </a:rPr>
                  <a:t>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800" spc="-1" strike="noStrike" baseline="30000">
                    <a:solidFill>
                      <a:srgbClr val="ff0000"/>
                    </a:solidFill>
                    <a:latin typeface="Symbol"/>
                    <a:ea typeface="Symbol"/>
                  </a:rPr>
                  <a:t>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800" spc="-1" strike="noStrike" baseline="30000">
                    <a:solidFill>
                      <a:srgbClr val="ff0000"/>
                    </a:solidFill>
                    <a:latin typeface="Symbol"/>
                    <a:ea typeface="Symbol"/>
                  </a:rPr>
                  <a:t>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0" y="399960"/>
            <a:ext cx="4986000" cy="5031000"/>
            <a:chOff x="0" y="399960"/>
            <a:chExt cx="4986000" cy="5031000"/>
          </a:xfrm>
        </p:grpSpPr>
        <p:sp>
          <p:nvSpPr>
            <p:cNvPr id="153" name=""/>
            <p:cNvSpPr/>
            <p:nvPr/>
          </p:nvSpPr>
          <p:spPr>
            <a:xfrm>
              <a:off x="223200" y="3999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</a:t>
              </a:r>
              <a:r>
                <a:rPr b="0" lang="en-US" sz="28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</a:t>
              </a:r>
              <a:r>
                <a:rPr b="0" lang="en-US" sz="28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r>
                <a:rPr b="0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0" y="1981080"/>
              <a:ext cx="4986000" cy="3449880"/>
              <a:chOff x="0" y="1981080"/>
              <a:chExt cx="4986000" cy="3449880"/>
            </a:xfrm>
          </p:grpSpPr>
          <p:pic>
            <p:nvPicPr>
              <p:cNvPr id="155" name="Meta_1_bg_logy_mark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1981080"/>
                <a:ext cx="4952880" cy="338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"/>
              <p:cNvSpPr/>
              <p:nvPr/>
            </p:nvSpPr>
            <p:spPr>
              <a:xfrm>
                <a:off x="3596760" y="5093640"/>
                <a:ext cx="138924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28496" dir="9225519" blurRad="0" rotWithShape="0">
                  <a:srgbClr val="cc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333399"/>
                    </a:solidFill>
                    <a:latin typeface="Comic Sans MS"/>
                  </a:rPr>
                  <a:t>M</a:t>
                </a:r>
                <a:r>
                  <a:rPr b="1" lang="it-IT" sz="16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</a:t>
                </a:r>
                <a:r>
                  <a:rPr b="1" lang="it-IT" sz="1600" spc="-1" strike="noStrike">
                    <a:solidFill>
                      <a:srgbClr val="333399"/>
                    </a:solidFill>
                    <a:latin typeface="Comic Sans MS"/>
                  </a:rPr>
                  <a:t>(MeV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432360" y="1157400"/>
              <a:ext cx="40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nice signal is found with a residu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~ 4% backgro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173200" y="228600"/>
            <a:ext cx="3839760" cy="6402240"/>
            <a:chOff x="5173200" y="228600"/>
            <a:chExt cx="3839760" cy="6402240"/>
          </a:xfrm>
        </p:grpSpPr>
        <p:sp>
          <p:nvSpPr>
            <p:cNvPr id="159" name=""/>
            <p:cNvSpPr/>
            <p:nvPr/>
          </p:nvSpPr>
          <p:spPr>
            <a:xfrm>
              <a:off x="5173200" y="4114800"/>
              <a:ext cx="383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2) Charge asimmetry (related to 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5331240" y="228600"/>
              <a:ext cx="3174480" cy="3736800"/>
              <a:chOff x="5331240" y="228600"/>
              <a:chExt cx="3174480" cy="3736800"/>
            </a:xfrm>
          </p:grpSpPr>
          <p:sp>
            <p:nvSpPr>
              <p:cNvPr id="161" name=""/>
              <p:cNvSpPr/>
              <p:nvPr/>
            </p:nvSpPr>
            <p:spPr>
              <a:xfrm>
                <a:off x="5486400" y="228600"/>
                <a:ext cx="2666880" cy="152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Lumin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=  (1/5) L(tot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it-IT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ev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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=   50115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it-IT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(</a:t>
                </a:r>
                <a:r>
                  <a:rPr b="0" lang="it-IT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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)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	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=   32.35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331240" y="1600200"/>
                <a:ext cx="299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buClr>
                    <a:srgbClr val="000000"/>
                  </a:buClr>
                  <a:buFont typeface="Times New Roman"/>
                  <a:buAutoNum type="arabicParenR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R  normalized to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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5334120" y="2057400"/>
                <a:ext cx="3171600" cy="851040"/>
                <a:chOff x="5334120" y="2057400"/>
                <a:chExt cx="3171600" cy="8510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5334120" y="2057400"/>
                  <a:ext cx="3171600" cy="851040"/>
                </a:xfrm>
                <a:prstGeom prst="rect">
                  <a:avLst/>
                </a:prstGeom>
                <a:solidFill>
                  <a:srgbClr val="ccecff">
                    <a:alpha val="50000"/>
                  </a:srgbClr>
                </a:solidFill>
                <a:ln w="9360">
                  <a:solidFill>
                    <a:srgbClr val="3333cc"/>
                  </a:solidFill>
                  <a:miter/>
                </a:ln>
                <a:effectLst>
                  <a:outerShdw dist="71785" dir="8100000" blurRad="0" rotWithShape="0">
                    <a:srgbClr val="ccccff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65" name=""/>
                    <p:cNvSpPr txBox="1"/>
                    <p:nvPr/>
                  </p:nvSpPr>
                  <p:spPr>
                    <a:xfrm>
                      <a:off x="5364360" y="2543760"/>
                      <a:ext cx="3110400" cy="287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B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η</m:t>
                              </m:r>
                              <m:r>
                                <m:t xml:space="preserve">→</m:t>
                              </m:r>
                              <m:sSup>
                                <m:e>
                                  <m:r>
                                    <m:t xml:space="preserve">π</m:t>
                                  </m:r>
                                </m:e>
                                <m:sup>
                                  <m:r>
                                    <m:t xml:space="preserve">+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π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</m:sup>
                              </m:sSup>
                              <m:r>
                                <m:t xml:space="preserve">γ</m:t>
                              </m:r>
                            </m:e>
                          </m:d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6</m:t>
                              </m:r>
                              <m:r>
                                <m:t xml:space="preserve">±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  <m:r>
                                <m:t xml:space="preserve">±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9</m:t>
                              </m:r>
                            </m:e>
                          </m:d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66" name=""/>
                    <p:cNvSpPr txBox="1"/>
                    <p:nvPr/>
                  </p:nvSpPr>
                  <p:spPr>
                    <a:xfrm>
                      <a:off x="5871960" y="2148480"/>
                      <a:ext cx="2084400" cy="3038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η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02</m:t>
                          </m:r>
                          <m:r>
                            <m:t xml:space="preserve">±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2</m:t>
                          </m:r>
                          <m:r>
                            <m:t xml:space="preserve">±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2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67" name=""/>
              <p:cNvGrpSpPr/>
              <p:nvPr/>
            </p:nvGrpSpPr>
            <p:grpSpPr>
              <a:xfrm>
                <a:off x="5562720" y="3124080"/>
                <a:ext cx="2751120" cy="841320"/>
                <a:chOff x="5562720" y="3124080"/>
                <a:chExt cx="2751120" cy="8413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5562720" y="3124080"/>
                  <a:ext cx="2751120" cy="841320"/>
                </a:xfrm>
                <a:prstGeom prst="rect">
                  <a:avLst/>
                </a:prstGeom>
                <a:solidFill>
                  <a:srgbClr val="ff9966">
                    <a:alpha val="50000"/>
                  </a:srgbClr>
                </a:solidFill>
                <a:ln w="9360">
                  <a:solidFill>
                    <a:srgbClr val="3333cc"/>
                  </a:solidFill>
                  <a:miter/>
                </a:ln>
                <a:effectLst>
                  <a:outerShdw dist="71785" dir="8100000" blurRad="0" rotWithShape="0">
                    <a:srgbClr val="ccccff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69" name=""/>
                    <p:cNvSpPr txBox="1"/>
                    <p:nvPr/>
                  </p:nvSpPr>
                  <p:spPr>
                    <a:xfrm>
                      <a:off x="5699880" y="3605040"/>
                      <a:ext cx="2475720" cy="2840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R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PDG</m:t>
                              </m:r>
                            </m:sup>
                          </m:s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η</m:t>
                              </m:r>
                              <m:r>
                                <m:t xml:space="preserve">→</m:t>
                              </m:r>
                              <m:sSup>
                                <m:e>
                                  <m:r>
                                    <m:t xml:space="preserve">π</m:t>
                                  </m:r>
                                </m:e>
                                <m:sup>
                                  <m:r>
                                    <m:t xml:space="preserve">+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π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</m:sup>
                              </m:sSup>
                              <m:r>
                                <m:t xml:space="preserve">γ</m:t>
                              </m:r>
                            </m:e>
                          </m:d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8</m:t>
                              </m:r>
                              <m:r>
                                <m:t xml:space="preserve">±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</m:d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70" name=""/>
                    <p:cNvSpPr txBox="1"/>
                    <p:nvPr/>
                  </p:nvSpPr>
                  <p:spPr>
                    <a:xfrm>
                      <a:off x="6203160" y="3206520"/>
                      <a:ext cx="1460160" cy="316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Sup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η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PDG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07</m:t>
                          </m:r>
                          <m:r>
                            <m:t xml:space="preserve">±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4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6172200" y="4572000"/>
                  <a:ext cx="163656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</m:sup>
                          </m:sSup>
                        </m:den>
                      </m:f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5791320" y="5486400"/>
                  <a:ext cx="261432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r>
                            <m:t xml:space="preserve">±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4</m:t>
                          </m:r>
                        </m:e>
                      </m:d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p>
                      </m:sSup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5715000" y="6172200"/>
                  <a:ext cx="279720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PDG</m:t>
                          </m:r>
                        </m:sup>
                      </m:sSubSup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9</m:t>
                          </m:r>
                          <m:r>
                            <m:t xml:space="preserve">±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4</m:t>
                          </m:r>
                        </m:e>
                      </m:d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p>
                      </m:sSup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4" name=""/>
          <p:cNvSpPr/>
          <p:nvPr/>
        </p:nvSpPr>
        <p:spPr>
          <a:xfrm>
            <a:off x="279000" y="5653080"/>
            <a:ext cx="487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pectiv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of the photon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gro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76320" y="399960"/>
            <a:ext cx="4572000" cy="4232880"/>
            <a:chOff x="76320" y="399960"/>
            <a:chExt cx="4572000" cy="4232880"/>
          </a:xfrm>
        </p:grpSpPr>
        <p:sp>
          <p:nvSpPr>
            <p:cNvPr id="176" name=""/>
            <p:cNvSpPr/>
            <p:nvPr/>
          </p:nvSpPr>
          <p:spPr>
            <a:xfrm>
              <a:off x="166680" y="399960"/>
              <a:ext cx="180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</a:t>
              </a:r>
              <a:r>
                <a:rPr b="0" lang="en-US" sz="28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</a:t>
              </a:r>
              <a:r>
                <a:rPr b="0" lang="en-US" sz="28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</a:t>
              </a:r>
              <a:r>
                <a:rPr b="0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320" y="1143000"/>
              <a:ext cx="4572000" cy="34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Fully neutral ( 5 photons ) ev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The background is the crucial poin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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 (5 photons final states) “easily” reduc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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(7 photons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) with lost phot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) with merged clus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ery difficult to elimin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190400" y="76320"/>
            <a:ext cx="4898880" cy="4066200"/>
            <a:chOff x="4190400" y="76320"/>
            <a:chExt cx="4898880" cy="40662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4214880" y="165240"/>
              <a:ext cx="4454640" cy="36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020920" y="19368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03720" y="7632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MC – phi all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90400" y="2100240"/>
              <a:ext cx="132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MC no sig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56200" y="2038320"/>
              <a:ext cx="13330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Times New Roman"/>
                </a:rPr>
                <a:t>MC no sig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-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69400" y="452520"/>
              <a:ext cx="433440" cy="64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71840" y="3701880"/>
              <a:ext cx="139536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max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(MeV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66560" y="3701880"/>
              <a:ext cx="139536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max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(MeV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52200" y="939960"/>
              <a:ext cx="91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ig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47120" y="868320"/>
              <a:ext cx="505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01240" y="4662360"/>
            <a:ext cx="37364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mi(data) = 250 p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mi(MC) = (1/3) Lumi(dat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procedure to account 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ged photon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trum after 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inem. 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267080" y="4191120"/>
            <a:ext cx="4874400" cy="2525760"/>
            <a:chOff x="4267080" y="4191120"/>
            <a:chExt cx="4874400" cy="2525760"/>
          </a:xfrm>
        </p:grpSpPr>
        <p:pic>
          <p:nvPicPr>
            <p:cNvPr id="191" name="" descr=""/>
            <p:cNvPicPr/>
            <p:nvPr/>
          </p:nvPicPr>
          <p:blipFill>
            <a:blip r:embed="rId2"/>
            <a:srcRect l="9001" t="10641" r="46988" b="32004"/>
            <a:stretch/>
          </p:blipFill>
          <p:spPr>
            <a:xfrm>
              <a:off x="4267080" y="4191120"/>
              <a:ext cx="3364200" cy="25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7558920" y="6248520"/>
              <a:ext cx="1395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max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(MeV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09960" y="4724280"/>
              <a:ext cx="1631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lue =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d = MC no si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6095880" y="59436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60280" y="399960"/>
            <a:ext cx="386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pper limits on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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c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32840" y="990720"/>
            <a:ext cx="4563720" cy="5809320"/>
            <a:chOff x="132840" y="990720"/>
            <a:chExt cx="4563720" cy="5809320"/>
          </a:xfrm>
        </p:grpSpPr>
        <p:pic>
          <p:nvPicPr>
            <p:cNvPr id="197" name="totspec" descr=""/>
            <p:cNvPicPr/>
            <p:nvPr/>
          </p:nvPicPr>
          <p:blipFill>
            <a:blip r:embed="rId1"/>
            <a:stretch/>
          </p:blipFill>
          <p:spPr>
            <a:xfrm>
              <a:off x="152280" y="1523880"/>
              <a:ext cx="297180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407520" y="990720"/>
              <a:ext cx="170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1)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</a:t>
              </a: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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609480" y="4952880"/>
                  <a:ext cx="228600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r</m:t>
                      </m:r>
                      <m:r>
                        <m:t xml:space="preserve">(</m:t>
                      </m:r>
                      <m:r>
                        <m:t xml:space="preserve">η</m:t>
                      </m:r>
                      <m:r>
                        <m:t xml:space="preserve">→</m:t>
                      </m:r>
                      <m:r>
                        <m:t xml:space="preserve">3</m:t>
                      </m:r>
                      <m:r>
                        <m:t xml:space="preserve">γ</m:t>
                      </m:r>
                      <m:r>
                        <m:t xml:space="preserve">)</m:t>
                      </m:r>
                      <m:r>
                        <m:t xml:space="preserve">&lt;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4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00" name=""/>
            <p:cNvSpPr/>
            <p:nvPr/>
          </p:nvSpPr>
          <p:spPr>
            <a:xfrm>
              <a:off x="2971440" y="4876920"/>
              <a:ext cx="122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95 % C.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96200" y="4343400"/>
              <a:ext cx="1395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max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(MeV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2840" y="5486400"/>
              <a:ext cx="45637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DG 2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5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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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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L. (Serphukov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rystal Ball 2001 (never publishe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1.8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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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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554720" y="609480"/>
            <a:ext cx="4440240" cy="5580720"/>
            <a:chOff x="4554720" y="609480"/>
            <a:chExt cx="4440240" cy="5580720"/>
          </a:xfrm>
        </p:grpSpPr>
        <p:sp>
          <p:nvSpPr>
            <p:cNvPr id="204" name=""/>
            <p:cNvSpPr/>
            <p:nvPr/>
          </p:nvSpPr>
          <p:spPr>
            <a:xfrm>
              <a:off x="5440680" y="609480"/>
              <a:ext cx="168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2)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</a:t>
              </a: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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2"/>
            <a:srcRect l="12500" t="10420" r="39064" b="31250"/>
            <a:stretch/>
          </p:blipFill>
          <p:spPr>
            <a:xfrm>
              <a:off x="4800600" y="1143000"/>
              <a:ext cx="4038480" cy="36576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5511960" y="5029200"/>
                  <a:ext cx="238752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r</m:t>
                      </m:r>
                      <m:r>
                        <m:t xml:space="preserve">(</m:t>
                      </m:r>
                      <m:r>
                        <m:t xml:space="preserve">η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π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sSup>
                        <m:e>
                          <m:r>
                            <m:t xml:space="preserve">π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&lt;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4554720" y="5486400"/>
              <a:ext cx="4440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DG 2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3.3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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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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L. (CMD-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04200" y="406440"/>
            <a:ext cx="19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19240" y="1336680"/>
            <a:ext cx="604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 new high statistics results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ative decays to scalars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 first results 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hy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295280" y="1371600"/>
          <a:ext cx="6629400" cy="41101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  <a:gridCol w="533160"/>
              </a:tblGrid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l 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7 p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1+2002 data (400p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980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y neu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 phot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B537 (20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inements in progress in view of Dalitz plot an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980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tracks + 1 pho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ge background: fit in progress to get signal sha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980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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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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y neu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 phot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B536 (20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lysed: checks on new MC in 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980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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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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tracks + 5 phot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B536 (20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lysed: checks on new MC in 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06360" y="406440"/>
            <a:ext cx="16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. Scala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17080" y="152280"/>
            <a:ext cx="7694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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nal st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are with 2000 published data (17 p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@ 1019.0 MeV 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depen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of new MC for background sub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51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84 events out of 147 p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@ 1019.6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2286000"/>
            <a:ext cx="4419720" cy="3994920"/>
            <a:chOff x="0" y="2286000"/>
            <a:chExt cx="4419720" cy="3994920"/>
          </a:xfrm>
        </p:grpSpPr>
        <p:grpSp>
          <p:nvGrpSpPr>
            <p:cNvPr id="57" name=""/>
            <p:cNvGrpSpPr/>
            <p:nvPr/>
          </p:nvGrpSpPr>
          <p:grpSpPr>
            <a:xfrm>
              <a:off x="0" y="2286000"/>
              <a:ext cx="4419720" cy="2675880"/>
              <a:chOff x="0" y="2286000"/>
              <a:chExt cx="4419720" cy="2675880"/>
            </a:xfrm>
          </p:grpSpPr>
          <p:pic>
            <p:nvPicPr>
              <p:cNvPr id="58" name="" descr=""/>
              <p:cNvPicPr/>
              <p:nvPr/>
            </p:nvPicPr>
            <p:blipFill>
              <a:blip r:embed="rId1"/>
              <a:srcRect l="0" t="7144" r="7936" b="50003"/>
              <a:stretch/>
            </p:blipFill>
            <p:spPr>
              <a:xfrm>
                <a:off x="0" y="2286000"/>
                <a:ext cx="441972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flipV="1">
                <a:off x="2209680" y="2590560"/>
                <a:ext cx="0" cy="1904760"/>
              </a:xfrm>
              <a:prstGeom prst="line">
                <a:avLst/>
              </a:prstGeom>
              <a:ln w="12600">
                <a:solidFill>
                  <a:srgbClr val="d6009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8400" y="4502160"/>
                <a:ext cx="1817640" cy="459720"/>
              </a:xfrm>
              <a:prstGeom prst="rect">
                <a:avLst/>
              </a:prstGeom>
              <a:noFill/>
              <a:ln w="1260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d60093"/>
                    </a:solidFill>
                    <a:latin typeface="Times New Roman"/>
                  </a:rPr>
                  <a:t> </a:t>
                </a:r>
                <a:r>
                  <a:rPr b="0" lang="it-IT" sz="2000" spc="-1" strike="noStrike">
                    <a:solidFill>
                      <a:srgbClr val="d60093"/>
                    </a:solidFill>
                    <a:latin typeface="Symbol"/>
                    <a:ea typeface="Symbol"/>
                  </a:rPr>
                  <a:t></a:t>
                </a:r>
                <a:r>
                  <a:rPr b="0" lang="it-IT" sz="2000" spc="-1" strike="noStrike">
                    <a:solidFill>
                      <a:srgbClr val="d60093"/>
                    </a:solidFill>
                    <a:latin typeface="Times New Roman"/>
                  </a:rPr>
                  <a:t>s in 2000 da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412560" y="5272200"/>
              <a:ext cx="3821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 reduced by 1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rger contamination from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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 subtracted (from new M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343400" y="1981080"/>
            <a:ext cx="4800600" cy="4841280"/>
            <a:chOff x="4343400" y="1981080"/>
            <a:chExt cx="4800600" cy="4841280"/>
          </a:xfrm>
        </p:grpSpPr>
        <p:pic>
          <p:nvPicPr>
            <p:cNvPr id="63" name="" descr=""/>
            <p:cNvPicPr/>
            <p:nvPr/>
          </p:nvPicPr>
          <p:blipFill>
            <a:blip r:embed="rId2"/>
            <a:srcRect l="6831" t="20353" r="7115" b="16325"/>
            <a:stretch/>
          </p:blipFill>
          <p:spPr>
            <a:xfrm>
              <a:off x="4343400" y="1981080"/>
              <a:ext cx="4800600" cy="42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010840" y="5905440"/>
              <a:ext cx="3015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red) 2001+2002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black) 2000 data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rmalized to the luminos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41840" y="395280"/>
            <a:ext cx="697788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Improvements in the analysis in view of Dalitz plot fi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amet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cut o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airing) = 80%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94%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election) = 55%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45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758960"/>
            <a:ext cx="5099040" cy="509904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4724280" y="2209680"/>
            <a:ext cx="4191120" cy="3505320"/>
            <a:chOff x="4724280" y="2209680"/>
            <a:chExt cx="4191120" cy="350532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7144" r="7144" b="46431"/>
            <a:stretch/>
          </p:blipFill>
          <p:spPr>
            <a:xfrm>
              <a:off x="4724280" y="2209680"/>
              <a:ext cx="3962520" cy="19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3"/>
            <a:srcRect l="4357" t="51747" r="5979" b="16937"/>
            <a:stretch/>
          </p:blipFill>
          <p:spPr>
            <a:xfrm>
              <a:off x="4800600" y="3733920"/>
              <a:ext cx="4114800" cy="198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52280" y="1447920"/>
          <a:ext cx="3886200" cy="2228760"/>
        </p:xfrm>
        <a:graphic>
          <a:graphicData uri="http://schemas.openxmlformats.org/drawingml/2006/table">
            <a:tbl>
              <a:tblPr/>
              <a:tblGrid>
                <a:gridCol w="971640"/>
                <a:gridCol w="971640"/>
                <a:gridCol w="971640"/>
                <a:gridCol w="97128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min. (pb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ev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1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9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44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9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55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9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154080" y="609480"/>
            <a:ext cx="38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s with: 2 “pions” from I.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photon 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4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21482" t="23364" r="24483" b="14002"/>
          <a:stretch/>
        </p:blipFill>
        <p:spPr>
          <a:xfrm>
            <a:off x="0" y="3809880"/>
            <a:ext cx="4067280" cy="304812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3886560" y="152280"/>
            <a:ext cx="4812480" cy="6469200"/>
            <a:chOff x="3886560" y="152280"/>
            <a:chExt cx="4812480" cy="6469200"/>
          </a:xfrm>
        </p:grpSpPr>
        <p:sp>
          <p:nvSpPr>
            <p:cNvPr id="74" name=""/>
            <p:cNvSpPr/>
            <p:nvPr/>
          </p:nvSpPr>
          <p:spPr>
            <a:xfrm>
              <a:off x="4338000" y="152280"/>
              <a:ext cx="4361040" cy="15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 spectr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sig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S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S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nd a “small” signal against a very large b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3886560" y="1828800"/>
              <a:ext cx="4647960" cy="4792680"/>
              <a:chOff x="3886560" y="1828800"/>
              <a:chExt cx="4647960" cy="4792680"/>
            </a:xfrm>
          </p:grpSpPr>
          <p:pic>
            <p:nvPicPr>
              <p:cNvPr id="76" name="" descr=""/>
              <p:cNvPicPr/>
              <p:nvPr/>
            </p:nvPicPr>
            <p:blipFill>
              <a:blip r:embed="rId2"/>
              <a:srcRect l="12470" t="11503" r="43789" b="16626"/>
              <a:stretch/>
            </p:blipFill>
            <p:spPr>
              <a:xfrm>
                <a:off x="4495680" y="1828800"/>
                <a:ext cx="4038840" cy="440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3886560" y="6095880"/>
                <a:ext cx="232020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leph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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096960" y="6253200"/>
                <a:ext cx="242712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MD-2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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4724280" y="5333760"/>
                <a:ext cx="18288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7162920" y="4876920"/>
                <a:ext cx="30456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" name=""/>
          <p:cNvSpPr/>
          <p:nvPr/>
        </p:nvSpPr>
        <p:spPr>
          <a:xfrm>
            <a:off x="117000" y="76320"/>
            <a:ext cx="24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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nal st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90360"/>
            <a:ext cx="4876920" cy="4329360"/>
            <a:chOff x="0" y="90360"/>
            <a:chExt cx="4876920" cy="4329360"/>
          </a:xfrm>
        </p:grpSpPr>
        <p:pic>
          <p:nvPicPr>
            <p:cNvPr id="83" name="" descr=""/>
            <p:cNvPicPr/>
            <p:nvPr/>
          </p:nvPicPr>
          <p:blipFill>
            <a:blip r:embed="rId1"/>
            <a:srcRect l="21482" t="14002" r="23523" b="50258"/>
            <a:stretch/>
          </p:blipFill>
          <p:spPr>
            <a:xfrm>
              <a:off x="0" y="2057400"/>
              <a:ext cx="487692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22040" y="90360"/>
              <a:ext cx="4354920" cy="16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The f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 free parameter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CK: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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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ignal: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f0KK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/4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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, R , M(f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rference schemes: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4888080" y="5105520"/>
            <a:ext cx="426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ctions to the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atics of the 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bck from SA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charge asim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826160" y="76320"/>
            <a:ext cx="4317840" cy="4726080"/>
            <a:chOff x="4826160" y="76320"/>
            <a:chExt cx="4317840" cy="4726080"/>
          </a:xfrm>
        </p:grpSpPr>
        <p:pic>
          <p:nvPicPr>
            <p:cNvPr id="87" name="" descr=""/>
            <p:cNvPicPr/>
            <p:nvPr/>
          </p:nvPicPr>
          <p:blipFill>
            <a:blip r:embed="rId2"/>
            <a:srcRect l="12500" t="11458" r="40625" b="27086"/>
            <a:stretch/>
          </p:blipFill>
          <p:spPr>
            <a:xfrm>
              <a:off x="5181480" y="380880"/>
              <a:ext cx="3581640" cy="35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788440" y="76320"/>
              <a:ext cx="231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Subtracted spect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26160" y="3978360"/>
              <a:ext cx="4317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he shape of the subtracted spectrum is   almost independent on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ackground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3"/>
          <a:srcRect l="21482" t="50898" r="23523" b="13362"/>
          <a:stretch/>
        </p:blipFill>
        <p:spPr>
          <a:xfrm>
            <a:off x="0" y="4495680"/>
            <a:ext cx="4876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41360" y="5475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1360" y="80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6320" y="82440"/>
            <a:ext cx="4559040" cy="6667560"/>
            <a:chOff x="76320" y="82440"/>
            <a:chExt cx="4559040" cy="6667560"/>
          </a:xfrm>
        </p:grpSpPr>
        <p:sp>
          <p:nvSpPr>
            <p:cNvPr id="94" name=""/>
            <p:cNvSpPr/>
            <p:nvPr/>
          </p:nvSpPr>
          <p:spPr>
            <a:xfrm>
              <a:off x="156960" y="82440"/>
              <a:ext cx="272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The f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(980) “puzzle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1"/>
            <a:srcRect l="25983" t="21363" r="33007" b="13362"/>
            <a:stretch/>
          </p:blipFill>
          <p:spPr>
            <a:xfrm>
              <a:off x="76320" y="1523880"/>
              <a:ext cx="4378320" cy="52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99160" y="533520"/>
              <a:ext cx="4336200" cy="11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980)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nd 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980)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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ave 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fferent line-shap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id: 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980)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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; dashed: 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980)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572000" y="0"/>
            <a:ext cx="4572000" cy="6708240"/>
            <a:chOff x="4572000" y="0"/>
            <a:chExt cx="4572000" cy="6708240"/>
          </a:xfrm>
        </p:grpSpPr>
        <p:sp>
          <p:nvSpPr>
            <p:cNvPr id="98" name=""/>
            <p:cNvSpPr/>
            <p:nvPr/>
          </p:nvSpPr>
          <p:spPr>
            <a:xfrm>
              <a:off x="8434440" y="5486400"/>
              <a:ext cx="70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90520" y="0"/>
              <a:ext cx="3633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What abo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(980) </a:t>
              </a:r>
              <a:r>
                <a:rPr b="0" lang="en-US" sz="24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KK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02920" y="457200"/>
              <a:ext cx="391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f0K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&gt;&gt;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f0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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but M(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 ~ KK threshol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2"/>
            <a:srcRect l="14501" t="9333" r="43000" b="34001"/>
            <a:stretch/>
          </p:blipFill>
          <p:spPr>
            <a:xfrm>
              <a:off x="4572000" y="914400"/>
              <a:ext cx="457200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 flipV="1">
              <a:off x="5562720" y="46479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400800" y="46479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8839080" y="46479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05560" y="5791320"/>
              <a:ext cx="4196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pected event yield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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0-1000 events / 450 pb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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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-100 events     / 450 pb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7302600" y="3657600"/>
                  <a:ext cx="7617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sSup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6242040" y="2482920"/>
                  <a:ext cx="7747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8" name=""/>
            <p:cNvSpPr/>
            <p:nvPr/>
          </p:nvSpPr>
          <p:spPr>
            <a:xfrm flipH="1">
              <a:off x="6769080" y="388620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5931000" y="266688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5975280" y="1600200"/>
                  <a:ext cx="6858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π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sSup>
                        <m:e>
                          <m:r>
                            <m:t xml:space="preserve">π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1" name=""/>
            <p:cNvSpPr/>
            <p:nvPr/>
          </p:nvSpPr>
          <p:spPr>
            <a:xfrm flipH="1">
              <a:off x="5625720" y="1752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1280" y="399960"/>
            <a:ext cx="38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. Pseudoscalars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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’)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61560" y="2133720"/>
            <a:ext cx="557964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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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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itz plot slop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m(d) – m(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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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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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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ton spectrum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ox anom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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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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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ral Perturbation Theory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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vio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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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 vio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3320" y="1219320"/>
            <a:ext cx="586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450 pb-1 x 3.3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x 1.2 %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8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52280" y="0"/>
            <a:ext cx="8855280" cy="4854600"/>
            <a:chOff x="152280" y="0"/>
            <a:chExt cx="8855280" cy="4854600"/>
          </a:xfrm>
        </p:grpSpPr>
        <p:sp>
          <p:nvSpPr>
            <p:cNvPr id="116" name=""/>
            <p:cNvSpPr/>
            <p:nvPr/>
          </p:nvSpPr>
          <p:spPr>
            <a:xfrm>
              <a:off x="152280" y="990720"/>
              <a:ext cx="6248520" cy="19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it of Dalitz plot with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it-IT" sz="1800" spc="-1" strike="noStrike">
                  <a:solidFill>
                    <a:srgbClr val="000000"/>
                  </a:solidFill>
                  <a:latin typeface="Times New Roman"/>
                </a:rPr>
                <a:t>X,Y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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1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i="1" lang="it-IT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it-IT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it-IT" sz="18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i="1" lang="it-IT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0" i="1" lang="it-IT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it-IT" sz="18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i="1" lang="it-IT" sz="18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with 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a, b, d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 free parameters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c, d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 fixed to ze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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dof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= 33/3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4181400" y="0"/>
              <a:ext cx="4826160" cy="4854600"/>
              <a:chOff x="4181400" y="0"/>
              <a:chExt cx="4826160" cy="4854600"/>
            </a:xfrm>
          </p:grpSpPr>
          <p:sp>
            <p:nvSpPr>
              <p:cNvPr id="118" name=""/>
              <p:cNvSpPr/>
              <p:nvPr/>
            </p:nvSpPr>
            <p:spPr>
              <a:xfrm>
                <a:off x="4194000" y="4533840"/>
                <a:ext cx="48135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19" name=""/>
              <p:cNvGraphicFramePr/>
              <p:nvPr/>
            </p:nvGraphicFramePr>
            <p:xfrm>
              <a:off x="4206960" y="772920"/>
              <a:ext cx="4800600" cy="3429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206960" y="772920"/>
                        <a:ext cx="4800600" cy="3429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1" name=""/>
              <p:cNvSpPr/>
              <p:nvPr/>
            </p:nvSpPr>
            <p:spPr>
              <a:xfrm rot="21093600">
                <a:off x="6932160" y="3961800"/>
                <a:ext cx="1280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Y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+ 1 </a:t>
                </a:r>
                <a:r>
                  <a:rPr b="1" lang="it-IT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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T*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211640" y="0"/>
                <a:ext cx="3014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umin = (1/5) L(tot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(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) = 352000 ev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400400">
                <a:off x="4198320" y="3798720"/>
                <a:ext cx="1548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it-IT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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T*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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T*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259200" y="399960"/>
              <a:ext cx="198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</a:t>
              </a:r>
              <a:r>
                <a:rPr b="0" lang="en-US" sz="28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</a:t>
              </a:r>
              <a:r>
                <a:rPr b="0" lang="en-US" sz="28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r>
                <a:rPr b="0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457200" y="4648320"/>
          <a:ext cx="8381880" cy="2050920"/>
        </p:xfrm>
        <a:graphic>
          <a:graphicData uri="http://schemas.openxmlformats.org/drawingml/2006/table">
            <a:tbl>
              <a:tblPr/>
              <a:tblGrid>
                <a:gridCol w="2263680"/>
                <a:gridCol w="1173240"/>
                <a:gridCol w="49449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                      b                      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ayter (19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Gormley (19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Crystal Barrel (19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Crystal Barrel (19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KL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08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x10</a:t>
                      </a:r>
                      <a:r>
                        <a:rPr b="0" lang="en-GB" sz="1800" spc="-1" strike="noStrike" baseline="30000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1.08 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0.14    0.034 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0.027     0.046 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0.0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1.17 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0.02       0.21 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0.03         0.06 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0.0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0.94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0.15        0.11 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0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1.22 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.07        0.22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0.11          0.06 fix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1.05 </a:t>
                      </a:r>
                      <a:r>
                        <a:rPr b="0" lang="it-IT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0.01       0.20 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0.03         0.05 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380880" y="6324480"/>
            <a:ext cx="8534520" cy="45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8T16:16:34Z</dcterms:created>
  <dc:creator>A satisfied Microsoft Office User</dc:creator>
  <dc:description/>
  <dc:language>en-US</dc:language>
  <cp:lastModifiedBy>A satisfied Microsoft Office User</cp:lastModifiedBy>
  <dcterms:modified xsi:type="dcterms:W3CDTF">2003-12-01T18:24:06Z</dcterms:modified>
  <cp:revision>38</cp:revision>
  <dc:subject/>
  <dc:title>PowerPoint Presentation</dc:title>
</cp:coreProperties>
</file>