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2224-E4FF-4390-8D4A-BFD988D12DB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37D3-FC1D-4D97-B739-DBBD94F0B27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8D15-2081-40E6-9EFD-5D90AEDC7ED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ERE IS NO CONTRIBUTION AT THIS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T NEXT ORDER THE CONTRIBUTION FROM PION-LOOP AND K-LOOP ARE VER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O THE DOMINANT CONTRIBUTION COME FROM P6, AND THIS ARE THE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DISTRIBUTION OF INVARIANT MASS OF LESS ENERGETIC PHOTONS IN RE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MEASURE IS SMALLER BY A FACTOR 3 WITH RESPECT TO CRYSTALL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B109-41CB-450D-BCED-5E5353C44BC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B633-B94A-4185-BEEF-3E36CB6C8CC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0CB7-C2CE-4C7C-85A8-97978F7D443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CEFA-BF62-41F2-9A12-449E1E8EE7A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1A96-D801-4D09-AB43-C4BD26FD16F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THIS TABLE WE SHOW THE RESULTS OF THE FIT TO THE DALITZ PLOT FOR DIFFERENT PARAMETRIZATION OF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E ARE SENSITIVE TO CUBIC SLOPE IN Y, NEVER MESURED BEF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AGREEMENT TO C CONSERVATION THE C AND E PARAMETERS ARE CONSISTENT WITH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IXING THIS PARAMETERS TO ZERO WE OBTAIN THE SAME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6105-9896-4839-9908-294867937F3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IMMETRY IS SENSITIVE TO I=0,1,2 C VIOLATING FINAL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477E-B8A7-4AF9-B661-DCC7BA00A4E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56C4-481F-4255-9626-D81B1793F81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0C582-38D8-45C5-8AA7-FA087D310A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BFFE-935A-459F-A24C-B12BCEB7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366A5-E9ED-4246-A125-C0617150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23A46-4FCF-4952-99E9-9D9A026C9D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B6D02-98B2-4C08-A01D-7197B997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39F80-D6F3-4C8E-8193-1D86BF31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2EEE9-EB1E-46D1-9B21-CEEEB64E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94C26-59FC-4305-B901-14347F36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72B3-C29E-4C20-9A5C-34A0D46C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183BC-9F1B-4AB8-A414-38A348FD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31EFF-7495-4528-9977-C50AFDA7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4E30A-359C-4875-B690-D2F5B048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95760"/>
            <a:ext cx="6478560" cy="3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9612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FEF3-15F1-4CA6-94FC-8815854E87A2}" type="slidenum">
              <a:rPr b="0" lang="it-IT" sz="1400" spc="-1" strike="noStrike">
                <a:solidFill>
                  <a:srgbClr val="0000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701960" y="2644560"/>
            <a:ext cx="4170960" cy="3756240"/>
            <a:chOff x="4701960" y="2644560"/>
            <a:chExt cx="4170960" cy="3756240"/>
          </a:xfrm>
        </p:grpSpPr>
        <p:cxnSp>
          <p:nvCxnSpPr>
            <p:cNvPr id="5" name=""/>
            <p:cNvCxnSpPr/>
            <p:nvPr/>
          </p:nvCxnSpPr>
          <p:spPr>
            <a:xfrm>
              <a:off x="8762760" y="4027320"/>
              <a:ext cx="1080" cy="2363040"/>
            </a:xfrm>
            <a:prstGeom prst="straightConnector1">
              <a:avLst/>
            </a:prstGeom>
            <a:ln w="19080">
              <a:solidFill>
                <a:srgbClr val="fcfc00"/>
              </a:solidFill>
              <a:miter/>
            </a:ln>
          </p:spPr>
        </p:cxnSp>
        <p:cxnSp>
          <p:nvCxnSpPr>
            <p:cNvPr id="6" name=""/>
            <p:cNvCxnSpPr/>
            <p:nvPr/>
          </p:nvCxnSpPr>
          <p:spPr>
            <a:xfrm flipH="1" flipV="1">
              <a:off x="4701960" y="6391080"/>
              <a:ext cx="4070880" cy="10080"/>
            </a:xfrm>
            <a:prstGeom prst="straightConnector1">
              <a:avLst/>
            </a:prstGeom>
            <a:ln w="19080">
              <a:solidFill>
                <a:srgbClr val="fcfc00"/>
              </a:solidFill>
              <a:miter/>
            </a:ln>
          </p:spPr>
        </p:cxnSp>
        <p:grpSp>
          <p:nvGrpSpPr>
            <p:cNvPr id="7" name=""/>
            <p:cNvGrpSpPr/>
            <p:nvPr/>
          </p:nvGrpSpPr>
          <p:grpSpPr>
            <a:xfrm>
              <a:off x="6510600" y="2644560"/>
              <a:ext cx="2362320" cy="3658320"/>
              <a:chOff x="6510600" y="2644560"/>
              <a:chExt cx="2362320" cy="3658320"/>
            </a:xfrm>
          </p:grpSpPr>
          <p:cxnSp>
            <p:nvCxnSpPr>
              <p:cNvPr id="8" name=""/>
              <p:cNvCxnSpPr/>
              <p:nvPr/>
            </p:nvCxnSpPr>
            <p:spPr>
              <a:xfrm flipH="1" flipV="1">
                <a:off x="8872200" y="2644560"/>
                <a:ext cx="1080" cy="3658320"/>
              </a:xfrm>
              <a:prstGeom prst="straightConnector1">
                <a:avLst/>
              </a:prstGeom>
              <a:ln w="19080">
                <a:solidFill>
                  <a:srgbClr val="0000ff"/>
                </a:solidFill>
                <a:miter/>
              </a:ln>
            </p:spPr>
          </p:cxnSp>
          <p:cxnSp>
            <p:nvCxnSpPr>
              <p:cNvPr id="9" name=""/>
              <p:cNvCxnSpPr/>
              <p:nvPr/>
            </p:nvCxnSpPr>
            <p:spPr>
              <a:xfrm flipH="1">
                <a:off x="6510600" y="6302160"/>
                <a:ext cx="2362680" cy="1080"/>
              </a:xfrm>
              <a:prstGeom prst="straightConnector1">
                <a:avLst/>
              </a:prstGeom>
              <a:ln w="19080">
                <a:solidFill>
                  <a:srgbClr val="0000ff"/>
                </a:solidFill>
                <a:miter/>
              </a:ln>
            </p:spPr>
          </p:cxnSp>
        </p:grpSp>
      </p:grpSp>
      <p:grpSp>
        <p:nvGrpSpPr>
          <p:cNvPr id="10" name=""/>
          <p:cNvGrpSpPr/>
          <p:nvPr/>
        </p:nvGrpSpPr>
        <p:grpSpPr>
          <a:xfrm>
            <a:off x="258480" y="391680"/>
            <a:ext cx="4161240" cy="3745800"/>
            <a:chOff x="258480" y="391680"/>
            <a:chExt cx="4161240" cy="3745800"/>
          </a:xfrm>
        </p:grpSpPr>
        <p:cxnSp>
          <p:nvCxnSpPr>
            <p:cNvPr id="11" name=""/>
            <p:cNvCxnSpPr/>
            <p:nvPr/>
          </p:nvCxnSpPr>
          <p:spPr>
            <a:xfrm flipH="1" flipV="1">
              <a:off x="358200" y="402840"/>
              <a:ext cx="1080" cy="2363040"/>
            </a:xfrm>
            <a:prstGeom prst="straightConnector1">
              <a:avLst/>
            </a:prstGeom>
            <a:ln w="19080">
              <a:solidFill>
                <a:srgbClr val="0000ff"/>
              </a:solidFill>
              <a:miter/>
            </a:ln>
          </p:spPr>
        </p:cxnSp>
        <p:cxnSp>
          <p:nvCxnSpPr>
            <p:cNvPr id="12" name=""/>
            <p:cNvCxnSpPr/>
            <p:nvPr/>
          </p:nvCxnSpPr>
          <p:spPr>
            <a:xfrm>
              <a:off x="348840" y="391680"/>
              <a:ext cx="4071240" cy="10440"/>
            </a:xfrm>
            <a:prstGeom prst="straightConnector1">
              <a:avLst/>
            </a:prstGeom>
            <a:ln w="19080">
              <a:solidFill>
                <a:srgbClr val="0000ff"/>
              </a:solidFill>
              <a:miter/>
            </a:ln>
          </p:spPr>
        </p:cxnSp>
        <p:grpSp>
          <p:nvGrpSpPr>
            <p:cNvPr id="13" name=""/>
            <p:cNvGrpSpPr/>
            <p:nvPr/>
          </p:nvGrpSpPr>
          <p:grpSpPr>
            <a:xfrm>
              <a:off x="258480" y="479160"/>
              <a:ext cx="2362320" cy="3658320"/>
              <a:chOff x="258480" y="479160"/>
              <a:chExt cx="2362320" cy="3658320"/>
            </a:xfrm>
          </p:grpSpPr>
          <p:cxnSp>
            <p:nvCxnSpPr>
              <p:cNvPr id="14" name=""/>
              <p:cNvCxnSpPr/>
              <p:nvPr/>
            </p:nvCxnSpPr>
            <p:spPr>
              <a:xfrm>
                <a:off x="258480" y="479520"/>
                <a:ext cx="1080" cy="3658320"/>
              </a:xfrm>
              <a:prstGeom prst="straightConnector1">
                <a:avLst/>
              </a:prstGeom>
              <a:ln w="19080">
                <a:solidFill>
                  <a:srgbClr val="fcfc00"/>
                </a:solidFill>
                <a:miter/>
              </a:ln>
            </p:spPr>
          </p:cxnSp>
          <p:cxnSp>
            <p:nvCxnSpPr>
              <p:cNvPr id="15" name=""/>
              <p:cNvCxnSpPr/>
              <p:nvPr/>
            </p:nvCxnSpPr>
            <p:spPr>
              <a:xfrm flipV="1">
                <a:off x="258480" y="479160"/>
                <a:ext cx="2362680" cy="1080"/>
              </a:xfrm>
              <a:prstGeom prst="straightConnector1">
                <a:avLst/>
              </a:prstGeom>
              <a:ln w="19080">
                <a:solidFill>
                  <a:srgbClr val="fcfc00"/>
                </a:solidFill>
                <a:miter/>
              </a:ln>
            </p:spPr>
          </p:cxn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46040" y="4786200"/>
            <a:ext cx="645984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ynamics of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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BR of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en-US" sz="32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en-US" sz="3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69840" y="71280"/>
            <a:ext cx="7197840" cy="7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fcf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ffff00"/>
                </a:solidFill>
                <a:latin typeface="Comic Sans MS"/>
              </a:rPr>
              <a:t>KLOE results on</a:t>
            </a:r>
            <a:r>
              <a:rPr b="1" lang="it-IT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ffff00"/>
                </a:solidFill>
                <a:latin typeface="Symbol"/>
                <a:ea typeface="Symbol"/>
              </a:rPr>
              <a:t></a:t>
            </a:r>
            <a:r>
              <a:rPr b="1" lang="it-IT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ffff00"/>
                </a:solidFill>
                <a:latin typeface="Comic Sans MS"/>
              </a:rPr>
              <a:t>decays</a:t>
            </a:r>
            <a:r>
              <a:rPr b="1" lang="it-IT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244520" y="1266840"/>
            <a:ext cx="6667560" cy="3228480"/>
            <a:chOff x="1244520" y="1266840"/>
            <a:chExt cx="6667560" cy="3228480"/>
          </a:xfrm>
        </p:grpSpPr>
        <p:sp>
          <p:nvSpPr>
            <p:cNvPr id="62" name=""/>
            <p:cNvSpPr/>
            <p:nvPr/>
          </p:nvSpPr>
          <p:spPr>
            <a:xfrm>
              <a:off x="1260360" y="1266840"/>
              <a:ext cx="6640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ff"/>
                  </a:solidFill>
                  <a:latin typeface="Comic Sans MS"/>
                  <a:ea typeface="Times New Roman"/>
                </a:rPr>
                <a:t>LNF Spring School “Bruno Touschek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ff"/>
                  </a:solidFill>
                  <a:latin typeface="Comic Sans MS"/>
                </a:rPr>
                <a:t>Frascati, 16–20 May 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44520" y="3829320"/>
              <a:ext cx="66675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. Perfetto (Università di Napoli “Federico II” </a:t>
              </a:r>
              <a:r>
                <a:rPr b="0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 INF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for the KLOE Collabo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3301920" y="2099520"/>
              <a:ext cx="2556000" cy="1513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4541760" y="852480"/>
            <a:ext cx="4311720" cy="2774880"/>
            <a:chOff x="4541760" y="852480"/>
            <a:chExt cx="4311720" cy="277488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4541760" y="852480"/>
              <a:ext cx="4311720" cy="27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503400" y="1690560"/>
              <a:ext cx="19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ff"/>
                  </a:solidFill>
                  <a:latin typeface="Times New Roman"/>
                </a:rPr>
                <a:t>Reconstruc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390760" y="3514680"/>
            <a:ext cx="4314600" cy="2774520"/>
            <a:chOff x="2390760" y="3514680"/>
            <a:chExt cx="4314600" cy="277452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2390760" y="3514680"/>
              <a:ext cx="4314600" cy="27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613760" y="4738680"/>
              <a:ext cx="150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ff"/>
                  </a:solidFill>
                  <a:latin typeface="Times New Roman"/>
                </a:rPr>
                <a:t>Re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93840" y="824040"/>
            <a:ext cx="4311360" cy="2802960"/>
            <a:chOff x="393840" y="824040"/>
            <a:chExt cx="4311360" cy="2802960"/>
          </a:xfrm>
        </p:grpSpPr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393840" y="824040"/>
              <a:ext cx="4311360" cy="280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573280" y="1672560"/>
              <a:ext cx="164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ff"/>
                  </a:solidFill>
                  <a:latin typeface="Times New Roman"/>
                </a:rPr>
                <a:t>Phase sp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1600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133720"/>
            <a:ext cx="837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06640" y="609480"/>
            <a:ext cx="183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4160" y="75960"/>
            <a:ext cx="6118200" cy="71892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  <a:effectLst>
            <a:outerShdw dist="101823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1" lang="en-GB" sz="3400" spc="-1" strike="noStrike">
                <a:solidFill>
                  <a:srgbClr val="0000ff"/>
                </a:solidFill>
                <a:latin typeface="Comic Sans MS"/>
              </a:rPr>
              <a:t>esults on M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A64E-9CDE-4E79-A7A1-E812898D722D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419720" y="2790720"/>
            <a:ext cx="4289400" cy="26956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98480" y="401940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18400" y="2062080"/>
            <a:ext cx="1839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9520" y="4906800"/>
            <a:ext cx="82249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30200" y="75960"/>
            <a:ext cx="4678200" cy="71892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  <a:effectLst>
            <a:outerShdw dist="8909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ff"/>
                </a:solidFill>
                <a:latin typeface="Comic Sans MS"/>
              </a:rPr>
              <a:t>Preliminary resul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1066680"/>
            <a:ext cx="809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We have analyzed 415 pb</a:t>
            </a:r>
            <a:r>
              <a:rPr b="0" lang="it-IT" sz="2400" spc="-1" strike="noStrike" baseline="30000">
                <a:solidFill>
                  <a:srgbClr val="0000ff"/>
                </a:solidFill>
                <a:latin typeface="Times New Roman"/>
              </a:rPr>
              <a:t>-1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of 2001-2002 data and we find the preliminary result, on the high purity s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5960" y="2068560"/>
            <a:ext cx="5751360" cy="619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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0.014 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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0.004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stat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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0.005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s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04920" y="2806560"/>
            <a:ext cx="4286160" cy="2670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441400" y="5649840"/>
            <a:ext cx="3027960" cy="510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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0.031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004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stat+s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5715000"/>
            <a:ext cx="86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Comic Sans MS"/>
              </a:rPr>
              <a:t>Cfr. current best measurement (Crystal Bal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542200">
            <a:off x="761760" y="1904760"/>
            <a:ext cx="2555640" cy="536400"/>
          </a:xfrm>
          <a:prstGeom prst="rect">
            <a:avLst/>
          </a:prstGeom>
          <a:solidFill>
            <a:srgbClr val="8cffad">
              <a:alpha val="50000"/>
            </a:srgbClr>
          </a:solidFill>
          <a:ln w="1908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Comic Sans MS"/>
              </a:rPr>
              <a:t>KLOE Prelimin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5BE55-95C7-4C12-9455-BCD7FB5B185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0920" y="74520"/>
            <a:ext cx="6658200" cy="71928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  <a:effectLst>
            <a:outerShdw dist="101823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→ </a:t>
            </a:r>
            <a:r>
              <a:rPr b="1" lang="en-US" sz="36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en-US" sz="36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en-US" sz="36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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: a </a:t>
            </a: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window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 on p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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Comic Sans MS"/>
              </a:rPr>
              <a:t>PT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35000" y="1052640"/>
            <a:ext cx="2681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L</a:t>
            </a:r>
            <a:r>
              <a:rPr b="0" lang="en-GB" sz="1600" spc="-1" strike="noStrike" baseline="-33000">
                <a:solidFill>
                  <a:srgbClr val="0000ff"/>
                </a:solidFill>
                <a:latin typeface="Comic Sans MS"/>
              </a:rPr>
              <a:t>2 </a:t>
            </a: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at tree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04200" y="1073160"/>
            <a:ext cx="1426680" cy="4111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Times New Roman"/>
              </a:rPr>
              <a:t>= 0 (Q = 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7880" y="1066680"/>
            <a:ext cx="65880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355e00"/>
                </a:solidFill>
                <a:latin typeface="Times New Roman"/>
              </a:rPr>
              <a:t>p</a:t>
            </a:r>
            <a:r>
              <a:rPr b="1" lang="en-GB" sz="2000" spc="-1" strike="noStrike" baseline="33000">
                <a:solidFill>
                  <a:srgbClr val="355e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42920" y="3962520"/>
            <a:ext cx="47404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ee0c00"/>
                </a:solidFill>
                <a:latin typeface="SymbolProp BT"/>
                <a:ea typeface="SymbolProp BT"/>
              </a:rPr>
              <a:t></a:t>
            </a:r>
            <a:r>
              <a:rPr b="1" lang="en-GB" sz="1800" spc="-1" strike="noStrike" baseline="-25000">
                <a:solidFill>
                  <a:srgbClr val="ee0c00"/>
                </a:solidFill>
                <a:latin typeface="SymbolProp BT"/>
                <a:ea typeface="SymbolProp BT"/>
              </a:rPr>
              <a:t></a:t>
            </a:r>
            <a:r>
              <a:rPr b="1" lang="en-GB" sz="1800" spc="-1" strike="noStrike" baseline="-25000">
                <a:solidFill>
                  <a:srgbClr val="ee0c00"/>
                </a:solidFill>
                <a:latin typeface="Comic Sans MS"/>
              </a:rPr>
              <a:t>-loops</a:t>
            </a:r>
            <a:r>
              <a:rPr b="1" lang="en-GB" sz="1800" spc="-1" strike="noStrike">
                <a:solidFill>
                  <a:srgbClr val="ee0c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ee0c00"/>
                </a:solidFill>
                <a:latin typeface="Comic Sans MS"/>
              </a:rPr>
              <a:t>= 0.84 </a:t>
            </a:r>
            <a:r>
              <a:rPr b="1" lang="en-US" sz="1800" spc="-1" strike="noStrike">
                <a:solidFill>
                  <a:srgbClr val="ee0c00"/>
                </a:solidFill>
                <a:latin typeface="Comic Sans MS"/>
                <a:ea typeface="Times New Roman"/>
              </a:rPr>
              <a:t>×</a:t>
            </a:r>
            <a:r>
              <a:rPr b="1" lang="en-GB" sz="1800" spc="-1" strike="noStrike">
                <a:solidFill>
                  <a:srgbClr val="ee0c00"/>
                </a:solidFill>
                <a:latin typeface="Comic Sans MS"/>
              </a:rPr>
              <a:t>10</a:t>
            </a:r>
            <a:r>
              <a:rPr b="1" lang="en-GB" sz="1800" spc="-1" strike="noStrike" baseline="30000">
                <a:solidFill>
                  <a:srgbClr val="ee0c00"/>
                </a:solidFill>
                <a:latin typeface="Comic Sans MS"/>
              </a:rPr>
              <a:t>-3</a:t>
            </a:r>
            <a:r>
              <a:rPr b="1" lang="en-GB" sz="1800" spc="-1" strike="noStrike">
                <a:solidFill>
                  <a:srgbClr val="ee0c00"/>
                </a:solidFill>
                <a:latin typeface="Comic Sans MS"/>
              </a:rPr>
              <a:t> 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ee0c00"/>
                </a:solidFill>
                <a:latin typeface="SymbolProp BT"/>
                <a:ea typeface="SymbolProp BT"/>
              </a:rPr>
              <a:t></a:t>
            </a:r>
            <a:r>
              <a:rPr b="1" lang="en-GB" sz="1800" spc="-1" strike="noStrike" baseline="-25000">
                <a:solidFill>
                  <a:srgbClr val="ee0c00"/>
                </a:solidFill>
                <a:latin typeface="SymbolProp BT"/>
                <a:ea typeface="SymbolProp BT"/>
              </a:rPr>
              <a:t></a:t>
            </a:r>
            <a:r>
              <a:rPr b="1" lang="en-GB" sz="1800" spc="-1" strike="noStrike" baseline="-25000">
                <a:solidFill>
                  <a:srgbClr val="ee0c00"/>
                </a:solidFill>
                <a:latin typeface="Comic Sans MS"/>
              </a:rPr>
              <a:t>-loops</a:t>
            </a:r>
            <a:r>
              <a:rPr b="1" lang="en-GB" sz="1800" spc="-1" strike="noStrike">
                <a:solidFill>
                  <a:srgbClr val="ee0c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ee0c00"/>
                </a:solidFill>
                <a:latin typeface="Comic Sans MS"/>
              </a:rPr>
              <a:t>= 2.45 </a:t>
            </a:r>
            <a:r>
              <a:rPr b="1" lang="en-US" sz="1800" spc="-1" strike="noStrike">
                <a:solidFill>
                  <a:srgbClr val="ee0c00"/>
                </a:solidFill>
                <a:latin typeface="Comic Sans MS"/>
                <a:ea typeface="Times New Roman"/>
              </a:rPr>
              <a:t>×</a:t>
            </a:r>
            <a:r>
              <a:rPr b="1" lang="en-GB" sz="1800" spc="-1" strike="noStrike">
                <a:solidFill>
                  <a:srgbClr val="ee0c00"/>
                </a:solidFill>
                <a:latin typeface="Comic Sans MS"/>
              </a:rPr>
              <a:t>10</a:t>
            </a:r>
            <a:r>
              <a:rPr b="1" lang="en-GB" sz="1800" spc="-1" strike="noStrike" baseline="30000">
                <a:solidFill>
                  <a:srgbClr val="ee0c00"/>
                </a:solidFill>
                <a:latin typeface="Comic Sans MS"/>
              </a:rPr>
              <a:t>-3</a:t>
            </a:r>
            <a:r>
              <a:rPr b="1" lang="en-GB" sz="1800" spc="-1" strike="noStrike">
                <a:solidFill>
                  <a:srgbClr val="ee0c00"/>
                </a:solidFill>
                <a:latin typeface="Comic Sans MS"/>
              </a:rPr>
              <a:t> 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25200" y="692280"/>
            <a:ext cx="1829160" cy="1441440"/>
            <a:chOff x="4525200" y="692280"/>
            <a:chExt cx="1829160" cy="1441440"/>
          </a:xfrm>
        </p:grpSpPr>
        <p:sp>
          <p:nvSpPr>
            <p:cNvPr id="216" name=""/>
            <p:cNvSpPr/>
            <p:nvPr/>
          </p:nvSpPr>
          <p:spPr>
            <a:xfrm>
              <a:off x="5149800" y="894600"/>
              <a:ext cx="25128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828720"/>
                  <a:tab algn="l" pos="1658880"/>
                  <a:tab algn="l" pos="2487600"/>
                  <a:tab algn="l" pos="3317760"/>
                  <a:tab algn="l" pos="4146480"/>
                  <a:tab algn="l" pos="4976640"/>
                  <a:tab algn="l" pos="5805360"/>
                  <a:tab algn="l" pos="6635880"/>
                  <a:tab algn="l" pos="7464600"/>
                  <a:tab algn="l" pos="8294760"/>
                  <a:tab algn="l" pos="912348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25200" y="1555560"/>
              <a:ext cx="294480" cy="512640"/>
            </a:xfrm>
            <a:custGeom>
              <a:avLst/>
              <a:gdLst>
                <a:gd name="textAreaLeft" fmla="*/ 360 w 294480"/>
                <a:gd name="textAreaRight" fmla="*/ 294120 w 294480"/>
                <a:gd name="textAreaTop" fmla="*/ 360 h 512640"/>
                <a:gd name="textAreaBottom" fmla="*/ 512280 h 512640"/>
              </a:gdLst>
              <a:ahLst/>
              <a:rect l="textAreaLeft" t="textAreaTop" r="textAreaRight" b="textAreaBottom"/>
              <a:pathLst>
                <a:path w="21600" h="37582">
                  <a:moveTo>
                    <a:pt x="118" y="0"/>
                  </a:moveTo>
                  <a:arcTo wR="118" hR="118" stAng="16200000" swAng="-5400000"/>
                  <a:lnTo>
                    <a:pt x="0" y="37464"/>
                  </a:lnTo>
                  <a:arcTo wR="118" hR="118" stAng="10800000" swAng="-5400000"/>
                  <a:lnTo>
                    <a:pt x="21482" y="37582"/>
                  </a:lnTo>
                  <a:arcTo wR="118" hR="118" stAng="5400000" swAng="-5400000"/>
                  <a:lnTo>
                    <a:pt x="21600" y="118"/>
                  </a:lnTo>
                  <a:arcTo wR="118" hR="11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800" spc="-1" strike="noStrike">
                  <a:solidFill>
                    <a:srgbClr val="000099"/>
                  </a:solidFill>
                  <a:latin typeface="SymbolProp BT"/>
                  <a:ea typeface="SymbolProp BT"/>
                </a:rPr>
                <a:t>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25880" y="773640"/>
              <a:ext cx="398160" cy="512640"/>
            </a:xfrm>
            <a:custGeom>
              <a:avLst/>
              <a:gdLst>
                <a:gd name="textAreaLeft" fmla="*/ 360 w 398160"/>
                <a:gd name="textAreaRight" fmla="*/ 397800 w 398160"/>
                <a:gd name="textAreaTop" fmla="*/ 360 h 512640"/>
                <a:gd name="textAreaBottom" fmla="*/ 512280 h 512640"/>
              </a:gdLst>
              <a:ahLst/>
              <a:rect l="textAreaLeft" t="textAreaTop" r="textAreaRight" b="textAreaBottom"/>
              <a:pathLst>
                <a:path w="21600" h="27805">
                  <a:moveTo>
                    <a:pt x="86" y="0"/>
                  </a:moveTo>
                  <a:arcTo wR="86" hR="86" stAng="16200000" swAng="-5400000"/>
                  <a:lnTo>
                    <a:pt x="0" y="27719"/>
                  </a:lnTo>
                  <a:arcTo wR="86" hR="86" stAng="10800000" swAng="-5400000"/>
                  <a:lnTo>
                    <a:pt x="21514" y="27805"/>
                  </a:lnTo>
                  <a:arcTo wR="86" hR="86" stAng="5400000" swAng="-5400000"/>
                  <a:lnTo>
                    <a:pt x="21600" y="86"/>
                  </a:lnTo>
                  <a:arcTo wR="86" hR="8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800" spc="-1" strike="noStrike">
                  <a:solidFill>
                    <a:srgbClr val="000099"/>
                  </a:solidFill>
                  <a:latin typeface="SymbolProp BT"/>
                  <a:ea typeface="SymbolProp BT"/>
                </a:rPr>
                <a:t></a:t>
              </a:r>
              <a:r>
                <a:rPr b="0" lang="en-GB" sz="2800" spc="-1" strike="noStrike" baseline="30000">
                  <a:solidFill>
                    <a:srgbClr val="000099"/>
                  </a:solidFill>
                  <a:latin typeface="SymbolProp BT"/>
                  <a:ea typeface="SymbolProp BT"/>
                </a:rPr>
                <a:t>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56200" y="1621080"/>
              <a:ext cx="398160" cy="512640"/>
            </a:xfrm>
            <a:custGeom>
              <a:avLst/>
              <a:gdLst>
                <a:gd name="textAreaLeft" fmla="*/ 360 w 398160"/>
                <a:gd name="textAreaRight" fmla="*/ 397800 w 398160"/>
                <a:gd name="textAreaTop" fmla="*/ 360 h 512640"/>
                <a:gd name="textAreaBottom" fmla="*/ 512280 h 512640"/>
              </a:gdLst>
              <a:ahLst/>
              <a:rect l="textAreaLeft" t="textAreaTop" r="textAreaRight" b="textAreaBottom"/>
              <a:pathLst>
                <a:path w="21600" h="27805">
                  <a:moveTo>
                    <a:pt x="86" y="0"/>
                  </a:moveTo>
                  <a:arcTo wR="86" hR="86" stAng="16200000" swAng="-5400000"/>
                  <a:lnTo>
                    <a:pt x="0" y="27719"/>
                  </a:lnTo>
                  <a:arcTo wR="86" hR="86" stAng="10800000" swAng="-5400000"/>
                  <a:lnTo>
                    <a:pt x="21514" y="27805"/>
                  </a:lnTo>
                  <a:arcTo wR="86" hR="86" stAng="5400000" swAng="-5400000"/>
                  <a:lnTo>
                    <a:pt x="21600" y="86"/>
                  </a:lnTo>
                  <a:arcTo wR="86" hR="8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800" spc="-1" strike="noStrike">
                  <a:solidFill>
                    <a:srgbClr val="000099"/>
                  </a:solidFill>
                  <a:latin typeface="SymbolProp BT"/>
                  <a:ea typeface="SymbolProp BT"/>
                </a:rPr>
                <a:t></a:t>
              </a:r>
              <a:r>
                <a:rPr b="0" lang="en-GB" sz="2800" spc="-1" strike="noStrike" baseline="30000">
                  <a:solidFill>
                    <a:srgbClr val="000099"/>
                  </a:solidFill>
                  <a:latin typeface="SymbolProp BT"/>
                  <a:ea typeface="SymbolProp BT"/>
                </a:rPr>
                <a:t>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5400" y="1018440"/>
              <a:ext cx="918720" cy="78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90000" y="692280"/>
              <a:ext cx="294480" cy="512640"/>
            </a:xfrm>
            <a:custGeom>
              <a:avLst/>
              <a:gdLst>
                <a:gd name="textAreaLeft" fmla="*/ 360 w 294480"/>
                <a:gd name="textAreaRight" fmla="*/ 294120 w 294480"/>
                <a:gd name="textAreaTop" fmla="*/ 360 h 512640"/>
                <a:gd name="textAreaBottom" fmla="*/ 512280 h 512640"/>
              </a:gdLst>
              <a:ahLst/>
              <a:rect l="textAreaLeft" t="textAreaTop" r="textAreaRight" b="textAreaBottom"/>
              <a:pathLst>
                <a:path w="21600" h="37582">
                  <a:moveTo>
                    <a:pt x="118" y="0"/>
                  </a:moveTo>
                  <a:arcTo wR="118" hR="118" stAng="16200000" swAng="-5400000"/>
                  <a:lnTo>
                    <a:pt x="0" y="37464"/>
                  </a:lnTo>
                  <a:arcTo wR="118" hR="118" stAng="10800000" swAng="-5400000"/>
                  <a:lnTo>
                    <a:pt x="21482" y="37582"/>
                  </a:lnTo>
                  <a:arcTo wR="118" hR="118" stAng="5400000" swAng="-5400000"/>
                  <a:lnTo>
                    <a:pt x="21600" y="118"/>
                  </a:lnTo>
                  <a:arcTo wR="118" hR="11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800" spc="-1" strike="noStrike">
                  <a:solidFill>
                    <a:srgbClr val="000099"/>
                  </a:solidFill>
                  <a:latin typeface="SymbolProp BT"/>
                  <a:ea typeface="SymbolProp BT"/>
                </a:rPr>
                <a:t>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799520" y="1018440"/>
              <a:ext cx="984600" cy="78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017720" y="1828800"/>
            <a:ext cx="2695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Comic Sans MS"/>
              </a:rPr>
              <a:t>Coupling p</a:t>
            </a: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roportional to the charges, </a:t>
            </a:r>
            <a:r>
              <a:rPr b="0" lang="it-IT" sz="1600" spc="-1" strike="noStrike">
                <a:solidFill>
                  <a:srgbClr val="0000ff"/>
                </a:solidFill>
                <a:latin typeface="Comic Sans MS"/>
              </a:rPr>
              <a:t>zero also</a:t>
            </a: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 for L</a:t>
            </a:r>
            <a:r>
              <a:rPr b="0" lang="en-GB" sz="1600" spc="-1" strike="noStrike" baseline="-33000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 @ tree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2680" y="3048120"/>
            <a:ext cx="65880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355e00"/>
                </a:solidFill>
                <a:latin typeface="Times New Roman"/>
              </a:rPr>
              <a:t>p</a:t>
            </a:r>
            <a:r>
              <a:rPr b="1" lang="en-GB" sz="2000" spc="-1" strike="noStrike" baseline="33000">
                <a:solidFill>
                  <a:srgbClr val="355e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17720" y="2743200"/>
            <a:ext cx="304164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1-loop contributions from L</a:t>
            </a:r>
            <a:r>
              <a:rPr b="0" lang="en-GB" sz="1600" spc="-1" strike="noStrike" baseline="-33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 vertices, suppressed by G parity conservation and kaon mass suppress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489920" y="2557440"/>
            <a:ext cx="3412440" cy="1731600"/>
            <a:chOff x="4489920" y="2557440"/>
            <a:chExt cx="3412440" cy="1731600"/>
          </a:xfrm>
        </p:grpSpPr>
        <p:sp>
          <p:nvSpPr>
            <p:cNvPr id="227" name=""/>
            <p:cNvSpPr/>
            <p:nvPr/>
          </p:nvSpPr>
          <p:spPr>
            <a:xfrm>
              <a:off x="5381640" y="3014640"/>
              <a:ext cx="1461960" cy="792000"/>
            </a:xfrm>
            <a:prstGeom prst="ellipse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89920" y="2633400"/>
              <a:ext cx="294480" cy="512640"/>
            </a:xfrm>
            <a:custGeom>
              <a:avLst/>
              <a:gdLst>
                <a:gd name="textAreaLeft" fmla="*/ 360 w 294480"/>
                <a:gd name="textAreaRight" fmla="*/ 294120 w 294480"/>
                <a:gd name="textAreaTop" fmla="*/ 360 h 512640"/>
                <a:gd name="textAreaBottom" fmla="*/ 512280 h 512640"/>
              </a:gdLst>
              <a:ahLst/>
              <a:rect l="textAreaLeft" t="textAreaTop" r="textAreaRight" b="textAreaBottom"/>
              <a:pathLst>
                <a:path w="21600" h="37582">
                  <a:moveTo>
                    <a:pt x="111" y="0"/>
                  </a:moveTo>
                  <a:arcTo wR="111" hR="111" stAng="16200000" swAng="-5400000"/>
                  <a:lnTo>
                    <a:pt x="0" y="37471"/>
                  </a:lnTo>
                  <a:arcTo wR="111" hR="111" stAng="10800000" swAng="-5400000"/>
                  <a:lnTo>
                    <a:pt x="21489" y="37582"/>
                  </a:lnTo>
                  <a:arcTo wR="111" hR="111" stAng="5400000" swAng="-5400000"/>
                  <a:lnTo>
                    <a:pt x="21600" y="111"/>
                  </a:lnTo>
                  <a:arcTo wR="111" hR="11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800" spc="-1" strike="noStrike">
                  <a:solidFill>
                    <a:srgbClr val="000099"/>
                  </a:solidFill>
                  <a:latin typeface="SymbolProp BT"/>
                  <a:ea typeface="SymbolProp BT"/>
                </a:rPr>
                <a:t>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41280" y="2557440"/>
              <a:ext cx="702720" cy="5126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800" spc="-1" strike="noStrike">
                  <a:solidFill>
                    <a:srgbClr val="000099"/>
                  </a:solidFill>
                  <a:latin typeface="SymbolProp BT"/>
                  <a:ea typeface="SymbolProp BT"/>
                </a:rPr>
                <a:t></a:t>
              </a:r>
              <a:r>
                <a:rPr b="0" lang="en-GB" sz="2800" spc="-1" strike="noStrike" baseline="30000">
                  <a:solidFill>
                    <a:srgbClr val="000099"/>
                  </a:solidFill>
                  <a:latin typeface="SymbolProp BT"/>
                  <a:ea typeface="SymbolProp BT"/>
                </a:rPr>
                <a:t></a:t>
              </a:r>
              <a:r>
                <a:rPr b="0" lang="en-GB" sz="2800" spc="-1" strike="noStrike">
                  <a:solidFill>
                    <a:srgbClr val="000099"/>
                  </a:solidFill>
                  <a:latin typeface="SymbolProp BT"/>
                  <a:ea typeface="SymbolProp BT"/>
                </a:rPr>
                <a:t></a:t>
              </a:r>
              <a:r>
                <a:rPr b="0" lang="en-GB" sz="2800" spc="-1" strike="noStrike" baseline="30000">
                  <a:solidFill>
                    <a:srgbClr val="000099"/>
                  </a:solidFill>
                  <a:latin typeface="SymbolProp BT"/>
                  <a:ea typeface="SymbolProp BT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54240" y="3776400"/>
              <a:ext cx="702720" cy="5126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800" spc="-1" strike="noStrike">
                  <a:solidFill>
                    <a:srgbClr val="000099"/>
                  </a:solidFill>
                  <a:latin typeface="SymbolProp BT"/>
                  <a:ea typeface="SymbolProp BT"/>
                </a:rPr>
                <a:t></a:t>
              </a:r>
              <a:r>
                <a:rPr b="0" lang="en-GB" sz="2800" spc="-1" strike="noStrike" baseline="30000">
                  <a:solidFill>
                    <a:srgbClr val="000099"/>
                  </a:solidFill>
                  <a:latin typeface="SymbolProp BT"/>
                  <a:ea typeface="SymbolProp BT"/>
                </a:rPr>
                <a:t></a:t>
              </a:r>
              <a:r>
                <a:rPr b="0" lang="en-GB" sz="2800" spc="-1" strike="noStrike">
                  <a:solidFill>
                    <a:srgbClr val="000099"/>
                  </a:solidFill>
                  <a:latin typeface="SymbolProp BT"/>
                  <a:ea typeface="SymbolProp BT"/>
                </a:rPr>
                <a:t></a:t>
              </a:r>
              <a:r>
                <a:rPr b="0" lang="en-GB" sz="2800" spc="-1" strike="noStrike" baseline="30000">
                  <a:solidFill>
                    <a:srgbClr val="000099"/>
                  </a:solidFill>
                  <a:latin typeface="SymbolProp BT"/>
                  <a:ea typeface="SymbolProp BT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94840" y="2633400"/>
              <a:ext cx="398160" cy="512640"/>
            </a:xfrm>
            <a:custGeom>
              <a:avLst/>
              <a:gdLst>
                <a:gd name="textAreaLeft" fmla="*/ 360 w 398160"/>
                <a:gd name="textAreaRight" fmla="*/ 397800 w 398160"/>
                <a:gd name="textAreaTop" fmla="*/ 360 h 512640"/>
                <a:gd name="textAreaBottom" fmla="*/ 512280 h 512640"/>
              </a:gdLst>
              <a:ahLst/>
              <a:rect l="textAreaLeft" t="textAreaTop" r="textAreaRight" b="textAreaBottom"/>
              <a:pathLst>
                <a:path w="21600" h="27805">
                  <a:moveTo>
                    <a:pt x="101" y="0"/>
                  </a:moveTo>
                  <a:arcTo wR="101" hR="101" stAng="16200000" swAng="-5400000"/>
                  <a:lnTo>
                    <a:pt x="0" y="27704"/>
                  </a:lnTo>
                  <a:arcTo wR="101" hR="101" stAng="10800000" swAng="-5400000"/>
                  <a:lnTo>
                    <a:pt x="21499" y="27805"/>
                  </a:lnTo>
                  <a:arcTo wR="101" hR="101" stAng="5400000" swAng="-5400000"/>
                  <a:lnTo>
                    <a:pt x="21600" y="101"/>
                  </a:lnTo>
                  <a:arcTo wR="101" hR="10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800" spc="-1" strike="noStrike">
                  <a:solidFill>
                    <a:srgbClr val="000099"/>
                  </a:solidFill>
                  <a:latin typeface="SymbolProp BT"/>
                  <a:ea typeface="SymbolProp BT"/>
                </a:rPr>
                <a:t></a:t>
              </a:r>
              <a:r>
                <a:rPr b="0" lang="en-GB" sz="2800" spc="-1" strike="noStrike" baseline="30000">
                  <a:solidFill>
                    <a:srgbClr val="000099"/>
                  </a:solidFill>
                  <a:latin typeface="SymbolProp BT"/>
                  <a:ea typeface="SymbolProp BT"/>
                </a:rPr>
                <a:t>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04200" y="3547800"/>
              <a:ext cx="398160" cy="512640"/>
            </a:xfrm>
            <a:custGeom>
              <a:avLst/>
              <a:gdLst>
                <a:gd name="textAreaLeft" fmla="*/ 360 w 398160"/>
                <a:gd name="textAreaRight" fmla="*/ 397800 w 398160"/>
                <a:gd name="textAreaTop" fmla="*/ 360 h 512640"/>
                <a:gd name="textAreaBottom" fmla="*/ 512280 h 512640"/>
              </a:gdLst>
              <a:ahLst/>
              <a:rect l="textAreaLeft" t="textAreaTop" r="textAreaRight" b="textAreaBottom"/>
              <a:pathLst>
                <a:path w="21600" h="27805">
                  <a:moveTo>
                    <a:pt x="101" y="0"/>
                  </a:moveTo>
                  <a:arcTo wR="101" hR="101" stAng="16200000" swAng="-5400000"/>
                  <a:lnTo>
                    <a:pt x="0" y="27704"/>
                  </a:lnTo>
                  <a:arcTo wR="101" hR="101" stAng="10800000" swAng="-5400000"/>
                  <a:lnTo>
                    <a:pt x="21499" y="27805"/>
                  </a:lnTo>
                  <a:arcTo wR="101" hR="101" stAng="5400000" swAng="-5400000"/>
                  <a:lnTo>
                    <a:pt x="21600" y="101"/>
                  </a:lnTo>
                  <a:arcTo wR="101" hR="10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800" spc="-1" strike="noStrike">
                  <a:solidFill>
                    <a:srgbClr val="000099"/>
                  </a:solidFill>
                  <a:latin typeface="SymbolProp BT"/>
                  <a:ea typeface="SymbolProp BT"/>
                </a:rPr>
                <a:t></a:t>
              </a:r>
              <a:r>
                <a:rPr b="0" lang="en-GB" sz="2800" spc="-1" strike="noStrike" baseline="30000">
                  <a:solidFill>
                    <a:srgbClr val="000099"/>
                  </a:solidFill>
                  <a:latin typeface="SymbolProp BT"/>
                  <a:ea typeface="SymbolProp BT"/>
                </a:rPr>
                <a:t>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2120" y="3547800"/>
              <a:ext cx="294480" cy="512640"/>
            </a:xfrm>
            <a:custGeom>
              <a:avLst/>
              <a:gdLst>
                <a:gd name="textAreaLeft" fmla="*/ 360 w 294480"/>
                <a:gd name="textAreaRight" fmla="*/ 294120 w 294480"/>
                <a:gd name="textAreaTop" fmla="*/ 360 h 512640"/>
                <a:gd name="textAreaBottom" fmla="*/ 512280 h 512640"/>
              </a:gdLst>
              <a:ahLst/>
              <a:rect l="textAreaLeft" t="textAreaTop" r="textAreaRight" b="textAreaBottom"/>
              <a:pathLst>
                <a:path w="21600" h="37582">
                  <a:moveTo>
                    <a:pt x="111" y="0"/>
                  </a:moveTo>
                  <a:arcTo wR="111" hR="111" stAng="16200000" swAng="-5400000"/>
                  <a:lnTo>
                    <a:pt x="0" y="37471"/>
                  </a:lnTo>
                  <a:arcTo wR="111" hR="111" stAng="10800000" swAng="-5400000"/>
                  <a:lnTo>
                    <a:pt x="21489" y="37582"/>
                  </a:lnTo>
                  <a:arcTo wR="111" hR="111" stAng="5400000" swAng="-5400000"/>
                  <a:lnTo>
                    <a:pt x="21600" y="111"/>
                  </a:lnTo>
                  <a:arcTo wR="111" hR="11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800" spc="-1" strike="noStrike">
                  <a:solidFill>
                    <a:srgbClr val="000099"/>
                  </a:solidFill>
                  <a:latin typeface="SymbolProp BT"/>
                  <a:ea typeface="SymbolProp BT"/>
                </a:rPr>
                <a:t>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43600" y="3014640"/>
              <a:ext cx="60984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43600" y="3395520"/>
              <a:ext cx="60984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862520" y="3090240"/>
              <a:ext cx="5335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862520" y="339552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19040" y="5257800"/>
            <a:ext cx="65880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355e00"/>
                </a:solidFill>
                <a:latin typeface="Times New Roman"/>
              </a:rPr>
              <a:t>p</a:t>
            </a:r>
            <a:r>
              <a:rPr b="1" lang="en-GB" sz="2000" spc="-1" strike="noStrike" baseline="33000">
                <a:solidFill>
                  <a:srgbClr val="355e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4724280"/>
            <a:ext cx="3058920" cy="18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L</a:t>
            </a:r>
            <a:r>
              <a:rPr b="0" lang="en-GB" sz="1600" spc="-1" strike="noStrike" baseline="-33000">
                <a:solidFill>
                  <a:srgbClr val="0000ff"/>
                </a:solidFill>
                <a:latin typeface="Comic Sans MS"/>
              </a:rPr>
              <a:t>6 </a:t>
            </a: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coefficients determined by the meson propagator. Th. expecta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</a:t>
            </a:r>
            <a:r>
              <a:rPr b="1" lang="en-GB" sz="16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VMD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 ( 0.42 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± 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0.20 )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</a:t>
            </a:r>
            <a:r>
              <a:rPr b="1" lang="en-GB" sz="16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ENJL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 ( 0.58 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± 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0.3   )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</a:t>
            </a:r>
            <a:r>
              <a:rPr b="1" lang="en-GB" sz="16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Times New Roman"/>
              </a:rPr>
              <a:t>Ch 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unit 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 ( 0.47 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± 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0.10 ) 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4360" y="1017720"/>
            <a:ext cx="142560" cy="539640"/>
          </a:xfrm>
          <a:custGeom>
            <a:avLst/>
            <a:gdLst>
              <a:gd name="textAreaLeft" fmla="*/ 91080 w 142560"/>
              <a:gd name="textAreaRight" fmla="*/ 142920 w 142560"/>
              <a:gd name="textAreaTop" fmla="*/ 14040 h 539640"/>
              <a:gd name="textAreaBottom" fmla="*/ 52560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1873080"/>
            <a:ext cx="215640" cy="2698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70200 h 2698920"/>
              <a:gd name="textAreaBottom" fmla="*/ 2628720 h 269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4800600"/>
            <a:ext cx="142560" cy="1440000"/>
          </a:xfrm>
          <a:custGeom>
            <a:avLst/>
            <a:gdLst>
              <a:gd name="textAreaLeft" fmla="*/ 91080 w 142560"/>
              <a:gd name="textAreaRight" fmla="*/ 142920 w 1425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43280" y="4941720"/>
            <a:ext cx="2081520" cy="1360800"/>
            <a:chOff x="4643280" y="4941720"/>
            <a:chExt cx="2081520" cy="1360800"/>
          </a:xfrm>
        </p:grpSpPr>
        <p:sp>
          <p:nvSpPr>
            <p:cNvPr id="244" name=""/>
            <p:cNvSpPr/>
            <p:nvPr/>
          </p:nvSpPr>
          <p:spPr>
            <a:xfrm>
              <a:off x="4643280" y="571320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292720" y="5425920"/>
              <a:ext cx="647640" cy="287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940360" y="4993920"/>
              <a:ext cx="358920" cy="43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98440" y="5327280"/>
              <a:ext cx="27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413400">
              <a:off x="5679000" y="5461920"/>
              <a:ext cx="90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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Prop BT"/>
                  <a:ea typeface="SymbolProp BT"/>
                </a:rPr>
                <a:t>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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25160" y="4941720"/>
              <a:ext cx="3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Prop BT"/>
                  <a:ea typeface="SymbolProp BT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3384000">
              <a:off x="5289480" y="5784840"/>
              <a:ext cx="654120" cy="220680"/>
            </a:xfrm>
            <a:custGeom>
              <a:avLst/>
              <a:gdLst/>
              <a:ahLst/>
              <a:rect l="l" t="t" r="r" b="b"/>
              <a:pathLst>
                <a:path w="635" h="190">
                  <a:moveTo>
                    <a:pt x="0" y="182"/>
                  </a:moveTo>
                  <a:cubicBezTo>
                    <a:pt x="33" y="91"/>
                    <a:pt x="67" y="0"/>
                    <a:pt x="90" y="0"/>
                  </a:cubicBezTo>
                  <a:cubicBezTo>
                    <a:pt x="113" y="0"/>
                    <a:pt x="113" y="182"/>
                    <a:pt x="136" y="182"/>
                  </a:cubicBezTo>
                  <a:cubicBezTo>
                    <a:pt x="159" y="182"/>
                    <a:pt x="203" y="0"/>
                    <a:pt x="226" y="0"/>
                  </a:cubicBezTo>
                  <a:cubicBezTo>
                    <a:pt x="249" y="0"/>
                    <a:pt x="249" y="182"/>
                    <a:pt x="272" y="182"/>
                  </a:cubicBezTo>
                  <a:cubicBezTo>
                    <a:pt x="295" y="182"/>
                    <a:pt x="339" y="0"/>
                    <a:pt x="362" y="0"/>
                  </a:cubicBezTo>
                  <a:cubicBezTo>
                    <a:pt x="385" y="0"/>
                    <a:pt x="385" y="182"/>
                    <a:pt x="408" y="182"/>
                  </a:cubicBezTo>
                  <a:cubicBezTo>
                    <a:pt x="431" y="182"/>
                    <a:pt x="475" y="0"/>
                    <a:pt x="498" y="0"/>
                  </a:cubicBezTo>
                  <a:cubicBezTo>
                    <a:pt x="521" y="0"/>
                    <a:pt x="521" y="174"/>
                    <a:pt x="544" y="182"/>
                  </a:cubicBezTo>
                  <a:cubicBezTo>
                    <a:pt x="567" y="190"/>
                    <a:pt x="620" y="69"/>
                    <a:pt x="635" y="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833400">
              <a:off x="5940000" y="5348160"/>
              <a:ext cx="654120" cy="220320"/>
            </a:xfrm>
            <a:custGeom>
              <a:avLst/>
              <a:gdLst/>
              <a:ahLst/>
              <a:rect l="l" t="t" r="r" b="b"/>
              <a:pathLst>
                <a:path w="635" h="190">
                  <a:moveTo>
                    <a:pt x="0" y="182"/>
                  </a:moveTo>
                  <a:cubicBezTo>
                    <a:pt x="33" y="91"/>
                    <a:pt x="67" y="0"/>
                    <a:pt x="90" y="0"/>
                  </a:cubicBezTo>
                  <a:cubicBezTo>
                    <a:pt x="113" y="0"/>
                    <a:pt x="113" y="182"/>
                    <a:pt x="136" y="182"/>
                  </a:cubicBezTo>
                  <a:cubicBezTo>
                    <a:pt x="159" y="182"/>
                    <a:pt x="203" y="0"/>
                    <a:pt x="226" y="0"/>
                  </a:cubicBezTo>
                  <a:cubicBezTo>
                    <a:pt x="249" y="0"/>
                    <a:pt x="249" y="182"/>
                    <a:pt x="272" y="182"/>
                  </a:cubicBezTo>
                  <a:cubicBezTo>
                    <a:pt x="295" y="182"/>
                    <a:pt x="339" y="0"/>
                    <a:pt x="362" y="0"/>
                  </a:cubicBezTo>
                  <a:cubicBezTo>
                    <a:pt x="385" y="0"/>
                    <a:pt x="385" y="182"/>
                    <a:pt x="408" y="182"/>
                  </a:cubicBezTo>
                  <a:cubicBezTo>
                    <a:pt x="431" y="182"/>
                    <a:pt x="475" y="0"/>
                    <a:pt x="498" y="0"/>
                  </a:cubicBezTo>
                  <a:cubicBezTo>
                    <a:pt x="521" y="0"/>
                    <a:pt x="521" y="174"/>
                    <a:pt x="544" y="182"/>
                  </a:cubicBezTo>
                  <a:cubicBezTo>
                    <a:pt x="567" y="190"/>
                    <a:pt x="620" y="69"/>
                    <a:pt x="635" y="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51200" y="5111280"/>
              <a:ext cx="27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98480" y="5903640"/>
              <a:ext cx="27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044120" y="5004360"/>
            <a:ext cx="1901520" cy="1199880"/>
            <a:chOff x="7044120" y="5004360"/>
            <a:chExt cx="1901520" cy="1199880"/>
          </a:xfrm>
        </p:grpSpPr>
        <p:sp>
          <p:nvSpPr>
            <p:cNvPr id="255" name=""/>
            <p:cNvSpPr/>
            <p:nvPr/>
          </p:nvSpPr>
          <p:spPr>
            <a:xfrm>
              <a:off x="7656480" y="564984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296120" y="5661000"/>
              <a:ext cx="358560" cy="43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44120" y="5264280"/>
              <a:ext cx="3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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Prop BT"/>
                  <a:ea typeface="SymbolProp BT"/>
                </a:rPr>
                <a:t>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413400">
              <a:off x="7806240" y="5300640"/>
              <a:ext cx="36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Prop BT"/>
                  <a:ea typeface="SymbolProp BT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47360" y="5805360"/>
              <a:ext cx="3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Prop BT"/>
                  <a:ea typeface="SymbolProp BT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3384000">
              <a:off x="8302680" y="5721840"/>
              <a:ext cx="654120" cy="220680"/>
            </a:xfrm>
            <a:custGeom>
              <a:avLst/>
              <a:gdLst/>
              <a:ahLst/>
              <a:rect l="l" t="t" r="r" b="b"/>
              <a:pathLst>
                <a:path w="635" h="190">
                  <a:moveTo>
                    <a:pt x="0" y="182"/>
                  </a:moveTo>
                  <a:cubicBezTo>
                    <a:pt x="33" y="91"/>
                    <a:pt x="67" y="0"/>
                    <a:pt x="90" y="0"/>
                  </a:cubicBezTo>
                  <a:cubicBezTo>
                    <a:pt x="113" y="0"/>
                    <a:pt x="113" y="182"/>
                    <a:pt x="136" y="182"/>
                  </a:cubicBezTo>
                  <a:cubicBezTo>
                    <a:pt x="159" y="182"/>
                    <a:pt x="203" y="0"/>
                    <a:pt x="226" y="0"/>
                  </a:cubicBezTo>
                  <a:cubicBezTo>
                    <a:pt x="249" y="0"/>
                    <a:pt x="249" y="182"/>
                    <a:pt x="272" y="182"/>
                  </a:cubicBezTo>
                  <a:cubicBezTo>
                    <a:pt x="295" y="182"/>
                    <a:pt x="339" y="0"/>
                    <a:pt x="362" y="0"/>
                  </a:cubicBezTo>
                  <a:cubicBezTo>
                    <a:pt x="385" y="0"/>
                    <a:pt x="385" y="182"/>
                    <a:pt x="408" y="182"/>
                  </a:cubicBezTo>
                  <a:cubicBezTo>
                    <a:pt x="431" y="182"/>
                    <a:pt x="475" y="0"/>
                    <a:pt x="498" y="0"/>
                  </a:cubicBezTo>
                  <a:cubicBezTo>
                    <a:pt x="521" y="0"/>
                    <a:pt x="521" y="174"/>
                    <a:pt x="544" y="182"/>
                  </a:cubicBezTo>
                  <a:cubicBezTo>
                    <a:pt x="567" y="190"/>
                    <a:pt x="620" y="69"/>
                    <a:pt x="635" y="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7560000">
              <a:off x="8155080" y="5223240"/>
              <a:ext cx="654120" cy="220680"/>
            </a:xfrm>
            <a:custGeom>
              <a:avLst/>
              <a:gdLst/>
              <a:ahLst/>
              <a:rect l="l" t="t" r="r" b="b"/>
              <a:pathLst>
                <a:path w="635" h="190">
                  <a:moveTo>
                    <a:pt x="0" y="182"/>
                  </a:moveTo>
                  <a:cubicBezTo>
                    <a:pt x="33" y="91"/>
                    <a:pt x="67" y="0"/>
                    <a:pt x="90" y="0"/>
                  </a:cubicBezTo>
                  <a:cubicBezTo>
                    <a:pt x="113" y="0"/>
                    <a:pt x="113" y="182"/>
                    <a:pt x="136" y="182"/>
                  </a:cubicBezTo>
                  <a:cubicBezTo>
                    <a:pt x="159" y="182"/>
                    <a:pt x="203" y="0"/>
                    <a:pt x="226" y="0"/>
                  </a:cubicBezTo>
                  <a:cubicBezTo>
                    <a:pt x="249" y="0"/>
                    <a:pt x="249" y="182"/>
                    <a:pt x="272" y="182"/>
                  </a:cubicBezTo>
                  <a:cubicBezTo>
                    <a:pt x="295" y="182"/>
                    <a:pt x="339" y="0"/>
                    <a:pt x="362" y="0"/>
                  </a:cubicBezTo>
                  <a:cubicBezTo>
                    <a:pt x="385" y="0"/>
                    <a:pt x="385" y="182"/>
                    <a:pt x="408" y="182"/>
                  </a:cubicBezTo>
                  <a:cubicBezTo>
                    <a:pt x="431" y="182"/>
                    <a:pt x="475" y="0"/>
                    <a:pt x="498" y="0"/>
                  </a:cubicBezTo>
                  <a:cubicBezTo>
                    <a:pt x="521" y="0"/>
                    <a:pt x="521" y="174"/>
                    <a:pt x="544" y="182"/>
                  </a:cubicBezTo>
                  <a:cubicBezTo>
                    <a:pt x="567" y="190"/>
                    <a:pt x="620" y="69"/>
                    <a:pt x="635" y="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672040" y="5084640"/>
              <a:ext cx="27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11680" y="5769000"/>
              <a:ext cx="27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96120" y="5229360"/>
              <a:ext cx="35856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42738-88F6-41A3-9F4F-77463137A9A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380880" y="2895480"/>
          <a:ext cx="4680000" cy="2448000"/>
        </p:xfrm>
        <a:graphic>
          <a:graphicData uri="http://schemas.openxmlformats.org/drawingml/2006/table">
            <a:tbl>
              <a:tblPr/>
              <a:tblGrid>
                <a:gridCol w="3462480"/>
                <a:gridCol w="12175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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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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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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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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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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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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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22000" y="75960"/>
            <a:ext cx="6297480" cy="71892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  <a:effectLst>
            <a:outerShdw dist="101823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Analysis of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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→ 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en-US" sz="3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</a:t>
            </a:r>
            <a:r>
              <a:rPr b="1" lang="en-US" sz="3400" spc="-1" strike="noStrike">
                <a:solidFill>
                  <a:srgbClr val="0000ff"/>
                </a:solidFill>
                <a:latin typeface="Comic Sans MS"/>
                <a:ea typeface="Tahoma"/>
              </a:rPr>
              <a:t>@ KLO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200" y="2421000"/>
            <a:ext cx="3887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Comic Sans MS"/>
              </a:rPr>
              <a:t>Background candid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048280" y="2997360"/>
            <a:ext cx="3782520" cy="923400"/>
            <a:chOff x="5048280" y="2997360"/>
            <a:chExt cx="3782520" cy="923400"/>
          </a:xfrm>
        </p:grpSpPr>
        <p:sp>
          <p:nvSpPr>
            <p:cNvPr id="269" name=""/>
            <p:cNvSpPr/>
            <p:nvPr/>
          </p:nvSpPr>
          <p:spPr>
            <a:xfrm flipV="1">
              <a:off x="5048280" y="3428640"/>
              <a:ext cx="766440" cy="4921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51800" y="2997360"/>
              <a:ext cx="2979000" cy="794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300" spc="-1" strike="noStrike">
                  <a:solidFill>
                    <a:srgbClr val="0000cc"/>
                  </a:solidFill>
                  <a:latin typeface="Times New Roman"/>
                </a:rPr>
                <a:t>Rejected with veto on additional </a:t>
              </a:r>
              <a:r>
                <a:rPr b="1" lang="it-IT" sz="2300" spc="-1" strike="noStrike">
                  <a:solidFill>
                    <a:srgbClr val="0000cc"/>
                  </a:solidFill>
                  <a:latin typeface="SymbolProp BT"/>
                  <a:ea typeface="SymbolProp BT"/>
                </a:rPr>
                <a:t></a:t>
              </a:r>
              <a:r>
                <a:rPr b="1" lang="it-IT" sz="2300" spc="-1" strike="noStrike" baseline="30000">
                  <a:solidFill>
                    <a:srgbClr val="0000cc"/>
                  </a:solidFill>
                  <a:latin typeface="SymbolProp BT"/>
                  <a:ea typeface="SymbolProp BT"/>
                </a:rPr>
                <a:t></a:t>
              </a:r>
              <a:r>
                <a:rPr b="1" lang="it-IT" sz="2300" spc="-1" strike="noStrike">
                  <a:solidFill>
                    <a:srgbClr val="0000cc"/>
                  </a:solidFill>
                  <a:latin typeface="SymbolProp BT"/>
                  <a:ea typeface="SymbolProp BT"/>
                </a:rPr>
                <a:t>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82680" y="4795920"/>
            <a:ext cx="8265960" cy="1415160"/>
            <a:chOff x="382680" y="4795920"/>
            <a:chExt cx="8265960" cy="1415160"/>
          </a:xfrm>
        </p:grpSpPr>
        <p:sp>
          <p:nvSpPr>
            <p:cNvPr id="272" name=""/>
            <p:cNvSpPr/>
            <p:nvPr/>
          </p:nvSpPr>
          <p:spPr>
            <a:xfrm>
              <a:off x="5065560" y="4795920"/>
              <a:ext cx="1195560" cy="544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2680" y="5416560"/>
              <a:ext cx="8265960" cy="794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300" spc="-1" strike="noStrike">
                  <a:solidFill>
                    <a:srgbClr val="cc0099"/>
                  </a:solidFill>
                  <a:latin typeface="Times New Roman"/>
                </a:rPr>
                <a:t>Rejected with energy momentum conservation and likelihood technique to identify splitted/merged cluster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057560" y="907920"/>
            <a:ext cx="6764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43360" y="1265400"/>
            <a:ext cx="422136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al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~</a:t>
            </a:r>
            <a:r>
              <a:rPr b="1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8 pb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R = (7.2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1.4)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AMS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7360" y="2895480"/>
          <a:ext cx="4680000" cy="2448000"/>
        </p:xfrm>
        <a:graphic>
          <a:graphicData uri="http://schemas.openxmlformats.org/drawingml/2006/table">
            <a:tbl>
              <a:tblPr/>
              <a:tblGrid>
                <a:gridCol w="3462480"/>
                <a:gridCol w="12175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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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>
                        <a:alpha val="50000"/>
                      </a:srgbClr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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>
                        <a:alpha val="50000"/>
                      </a:srgbClr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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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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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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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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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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80880" y="2895480"/>
          <a:ext cx="4680000" cy="2465640"/>
        </p:xfrm>
        <a:graphic>
          <a:graphicData uri="http://schemas.openxmlformats.org/drawingml/2006/table">
            <a:tbl>
              <a:tblPr/>
              <a:tblGrid>
                <a:gridCol w="3462480"/>
                <a:gridCol w="12175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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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>
                        <a:alpha val="50000"/>
                      </a:srgbClr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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>
                        <a:alpha val="50000"/>
                      </a:srgbClr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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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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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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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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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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2268360" y="1117440"/>
            <a:ext cx="1943280" cy="1030680"/>
            <a:chOff x="2268360" y="1117440"/>
            <a:chExt cx="1943280" cy="1030680"/>
          </a:xfrm>
        </p:grpSpPr>
        <p:sp>
          <p:nvSpPr>
            <p:cNvPr id="279" name=""/>
            <p:cNvSpPr/>
            <p:nvPr/>
          </p:nvSpPr>
          <p:spPr>
            <a:xfrm>
              <a:off x="2268360" y="1117440"/>
              <a:ext cx="152244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657360"/>
                  <a:tab algn="l" pos="13129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it-IT" sz="2500" spc="-1" strike="noStrike">
                  <a:solidFill>
                    <a:srgbClr val="0000ff"/>
                  </a:solidFill>
                  <a:latin typeface="SymbolProp BT"/>
                  <a:ea typeface="SymbolProp BT"/>
                </a:rPr>
                <a:t></a:t>
              </a:r>
              <a:r>
                <a:rPr b="0" lang="en-GB" sz="2500" spc="-1" strike="noStrike">
                  <a:solidFill>
                    <a:srgbClr val="0000ff"/>
                  </a:solidFill>
                  <a:latin typeface="SymbolProp BT"/>
                  <a:ea typeface="SymbolProp BT"/>
                </a:rPr>
                <a:t></a:t>
              </a:r>
              <a:r>
                <a:rPr b="0" lang="en-GB" sz="25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→</a:t>
              </a:r>
              <a:r>
                <a:rPr b="0" lang="en-GB" sz="2500" spc="-1" strike="noStrike">
                  <a:solidFill>
                    <a:srgbClr val="0000ff"/>
                  </a:solidFill>
                  <a:latin typeface="SymbolProp BT"/>
                  <a:ea typeface="SymbolProp BT"/>
                </a:rPr>
                <a:t>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13240" y="1736640"/>
              <a:ext cx="6984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657360"/>
                  <a:tab algn="l" pos="13129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500" spc="-1" strike="noStrike">
                  <a:solidFill>
                    <a:srgbClr val="0000ff"/>
                  </a:solidFill>
                  <a:latin typeface="SymbolProp BT"/>
                  <a:ea typeface="SymbolProp BT"/>
                </a:rPr>
                <a:t></a:t>
              </a:r>
              <a:r>
                <a:rPr b="0" lang="en-GB" sz="2500" spc="-1" strike="noStrike" baseline="33000">
                  <a:solidFill>
                    <a:srgbClr val="0000ff"/>
                  </a:solidFill>
                  <a:latin typeface="SymbolProp BT"/>
                  <a:ea typeface="SymbolProp BT"/>
                </a:rPr>
                <a:t></a:t>
              </a:r>
              <a:r>
                <a:rPr b="0" lang="en-GB" sz="2500" spc="-1" strike="noStrike">
                  <a:solidFill>
                    <a:srgbClr val="0000ff"/>
                  </a:solidFill>
                  <a:latin typeface="SymbolProp BT"/>
                  <a:ea typeface="SymbolProp BT"/>
                </a:rPr>
                <a:t>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1" name=""/>
            <p:cNvCxnSpPr/>
            <p:nvPr/>
          </p:nvCxnSpPr>
          <p:spPr>
            <a:xfrm>
              <a:off x="3034800" y="1612440"/>
              <a:ext cx="1080" cy="381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/>
            <p:nvPr/>
          </p:nvCxnSpPr>
          <p:spPr>
            <a:xfrm>
              <a:off x="3034800" y="1993680"/>
              <a:ext cx="381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7A76C-DDF5-4606-894F-F6E34CE0B1F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65160" y="117360"/>
            <a:ext cx="5399280" cy="71928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  <a:effectLst>
            <a:outerShdw dist="101823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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→ 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en-US" sz="3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</a:t>
            </a: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: BR evalu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938400" cy="3852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419720" y="1268280"/>
            <a:ext cx="44989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Fit of data with superposition of background and signal sh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8960" y="2362320"/>
            <a:ext cx="426708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5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GB" sz="2500" spc="-1" strike="noStrike" baseline="-33000">
                <a:solidFill>
                  <a:srgbClr val="0000ff"/>
                </a:solidFill>
                <a:latin typeface="Comic Sans MS"/>
              </a:rPr>
              <a:t>DATA </a:t>
            </a:r>
            <a:r>
              <a:rPr b="0" lang="en-GB" sz="2500" spc="-1" strike="noStrike">
                <a:solidFill>
                  <a:srgbClr val="0000ff"/>
                </a:solidFill>
                <a:latin typeface="Comic Sans MS"/>
              </a:rPr>
              <a:t>= 73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5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GB" sz="2500" spc="-1" strike="noStrike" baseline="-33000">
                <a:solidFill>
                  <a:srgbClr val="0000ff"/>
                </a:solidFill>
                <a:latin typeface="Comic Sans MS"/>
              </a:rPr>
              <a:t>bkg</a:t>
            </a:r>
            <a:r>
              <a:rPr b="0" lang="en-GB" sz="2500" spc="-1" strike="noStrike">
                <a:solidFill>
                  <a:srgbClr val="0000ff"/>
                </a:solidFill>
                <a:latin typeface="Comic Sans MS"/>
              </a:rPr>
              <a:t>   = 667  36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5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GB" sz="2500" spc="-1" strike="noStrike" baseline="-33000">
                <a:solidFill>
                  <a:srgbClr val="0000ff"/>
                </a:solidFill>
                <a:latin typeface="Comic Sans MS"/>
              </a:rPr>
              <a:t>sig      </a:t>
            </a:r>
            <a:r>
              <a:rPr b="0" lang="en-GB" sz="2500" spc="-1" strike="noStrike">
                <a:solidFill>
                  <a:srgbClr val="0000ff"/>
                </a:solidFill>
                <a:latin typeface="Comic Sans MS"/>
              </a:rPr>
              <a:t>= 68  2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500" spc="-1" strike="noStrike">
                <a:solidFill>
                  <a:srgbClr val="0000ff"/>
                </a:solidFill>
                <a:latin typeface="Comic Sans MS"/>
              </a:rPr>
              <a:t>N(</a:t>
            </a:r>
            <a:r>
              <a:rPr b="0" lang="en-GB" sz="2800" spc="-1" strike="noStrike">
                <a:solidFill>
                  <a:srgbClr val="0000ff"/>
                </a:solidFill>
                <a:latin typeface="Symbol"/>
                <a:ea typeface="Symbol"/>
              </a:rPr>
              <a:t></a:t>
            </a:r>
            <a:r>
              <a:rPr b="0" lang="en-GB" sz="28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</a:t>
            </a:r>
            <a:r>
              <a:rPr b="0" lang="en-GB" sz="2500" spc="-1" strike="noStrike">
                <a:solidFill>
                  <a:srgbClr val="0000ff"/>
                </a:solidFill>
                <a:latin typeface="Comic Sans MS"/>
              </a:rPr>
              <a:t>) = 2</a:t>
            </a:r>
            <a:r>
              <a:rPr b="0" lang="it-IT" sz="2500" spc="-1" strike="noStrike">
                <a:solidFill>
                  <a:srgbClr val="0000ff"/>
                </a:solidFill>
                <a:latin typeface="Comic Sans MS"/>
              </a:rPr>
              <a:t>,</a:t>
            </a:r>
            <a:r>
              <a:rPr b="0" lang="en-GB" sz="2500" spc="-1" strike="noStrike">
                <a:solidFill>
                  <a:srgbClr val="0000ff"/>
                </a:solidFill>
                <a:latin typeface="Comic Sans MS"/>
              </a:rPr>
              <a:t>288</a:t>
            </a:r>
            <a:r>
              <a:rPr b="0" lang="it-IT" sz="2500" spc="-1" strike="noStrike">
                <a:solidFill>
                  <a:srgbClr val="0000ff"/>
                </a:solidFill>
                <a:latin typeface="Comic Sans MS"/>
              </a:rPr>
              <a:t>,</a:t>
            </a:r>
            <a:r>
              <a:rPr b="0" lang="en-GB" sz="2500" spc="-1" strike="noStrike">
                <a:solidFill>
                  <a:srgbClr val="0000ff"/>
                </a:solidFill>
                <a:latin typeface="Comic Sans MS"/>
              </a:rPr>
              <a:t>88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2520" y="5300640"/>
            <a:ext cx="6473880" cy="501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BR</a:t>
            </a:r>
            <a:r>
              <a:rPr b="1" lang="it-IT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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 </a:t>
            </a:r>
            <a:r>
              <a:rPr b="1" lang="it-IT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</a:t>
            </a:r>
            <a:r>
              <a:rPr b="1" lang="it-IT" sz="24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</a:t>
            </a:r>
            <a:r>
              <a:rPr b="1" lang="it-IT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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= ( 8.4 ±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2.7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tat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±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1.4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yst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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20542200">
            <a:off x="5644800" y="5570640"/>
            <a:ext cx="2736720" cy="576000"/>
          </a:xfrm>
          <a:prstGeom prst="rect">
            <a:avLst/>
          </a:prstGeom>
          <a:solidFill>
            <a:srgbClr val="7078ff">
              <a:alpha val="30000"/>
            </a:srgbClr>
          </a:solidFill>
          <a:ln w="19080">
            <a:solidFill>
              <a:srgbClr val="7078ff"/>
            </a:solidFill>
            <a:miter/>
          </a:ln>
          <a:effectLst>
            <a:outerShdw dist="107932" dir="2700000" blurRad="0" rotWithShape="0">
              <a:srgbClr val="808080">
                <a:alpha val="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78ff"/>
                </a:solidFill>
                <a:latin typeface="Comic Sans MS"/>
              </a:rPr>
              <a:t>KLOE Prelim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ADAB-3A26-43E2-B6DB-12A17AB311C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2640" y="75960"/>
            <a:ext cx="8097840" cy="71892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  <a:effectLst>
            <a:outerShdw dist="101823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BR(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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→ 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en-US" sz="3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</a:t>
            </a: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: comparison with mode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997680" y="4952880"/>
            <a:ext cx="1760760" cy="1298520"/>
            <a:chOff x="6997680" y="4952880"/>
            <a:chExt cx="1760760" cy="1298520"/>
          </a:xfrm>
        </p:grpSpPr>
        <p:sp>
          <p:nvSpPr>
            <p:cNvPr id="291" name=""/>
            <p:cNvSpPr/>
            <p:nvPr/>
          </p:nvSpPr>
          <p:spPr>
            <a:xfrm>
              <a:off x="6997680" y="502596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38880" y="4952880"/>
              <a:ext cx="10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KLOE 1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97680" y="5330880"/>
              <a:ext cx="228600" cy="2286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97680" y="5635800"/>
              <a:ext cx="228600" cy="2286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4720" y="5257800"/>
              <a:ext cx="10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KLOE 2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54720" y="5562720"/>
              <a:ext cx="10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KLOE 3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97680" y="5956200"/>
              <a:ext cx="228600" cy="228600"/>
            </a:xfrm>
            <a:prstGeom prst="rect">
              <a:avLst/>
            </a:prstGeom>
            <a:solidFill>
              <a:srgbClr val="f9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30600" y="5883120"/>
              <a:ext cx="152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calcul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990720" y="1095480"/>
            <a:ext cx="5894280" cy="46576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599000" y="1797120"/>
            <a:ext cx="7621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19560" y="4013280"/>
            <a:ext cx="180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76720" y="4245120"/>
            <a:ext cx="106560" cy="87120"/>
          </a:xfrm>
          <a:prstGeom prst="ellipse">
            <a:avLst/>
          </a:prstGeom>
          <a:solidFill>
            <a:srgbClr val="f9b2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023920" y="3397320"/>
            <a:ext cx="4267440" cy="0"/>
          </a:xfrm>
          <a:prstGeom prst="line">
            <a:avLst/>
          </a:prstGeom>
          <a:ln w="44280">
            <a:solidFill>
              <a:srgbClr val="2cf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023920" y="3778200"/>
            <a:ext cx="4267440" cy="0"/>
          </a:xfrm>
          <a:prstGeom prst="line">
            <a:avLst/>
          </a:prstGeom>
          <a:ln w="44280">
            <a:solidFill>
              <a:srgbClr val="2cf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023920" y="4235400"/>
            <a:ext cx="4267440" cy="0"/>
          </a:xfrm>
          <a:prstGeom prst="line">
            <a:avLst/>
          </a:prstGeom>
          <a:ln w="44280">
            <a:solidFill>
              <a:srgbClr val="2cf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02400" y="3471840"/>
            <a:ext cx="171936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2000" spc="-1" strike="noStrike">
                <a:solidFill>
                  <a:srgbClr val="2cf2ff"/>
                </a:solidFill>
                <a:latin typeface="Times New Roman"/>
              </a:rPr>
              <a:t>Crystal 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800" spc="-1" strike="noStrike">
                <a:solidFill>
                  <a:srgbClr val="2cf2ff"/>
                </a:solidFill>
                <a:latin typeface="Times New Roman"/>
              </a:rPr>
              <a:t>(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27800" y="3397320"/>
            <a:ext cx="0" cy="838080"/>
          </a:xfrm>
          <a:prstGeom prst="line">
            <a:avLst/>
          </a:prstGeom>
          <a:ln w="44280">
            <a:solidFill>
              <a:srgbClr val="2cf2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02400" y="2103480"/>
            <a:ext cx="95724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Times New Roman"/>
              </a:rPr>
              <a:t>GAMS </a:t>
            </a:r>
            <a:r>
              <a:rPr b="1" lang="en-GB" sz="1800" spc="-1" strike="noStrike">
                <a:solidFill>
                  <a:srgbClr val="009900"/>
                </a:solidFill>
                <a:latin typeface="Times New Roman"/>
              </a:rPr>
              <a:t>(19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27800" y="2025720"/>
            <a:ext cx="0" cy="838080"/>
          </a:xfrm>
          <a:prstGeom prst="line">
            <a:avLst/>
          </a:prstGeom>
          <a:ln w="4428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38760" y="4406760"/>
            <a:ext cx="108000" cy="108000"/>
          </a:xfrm>
          <a:prstGeom prst="ellipse">
            <a:avLst/>
          </a:prstGeom>
          <a:solidFill>
            <a:srgbClr val="f9b2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78240" y="4191120"/>
            <a:ext cx="108000" cy="108000"/>
          </a:xfrm>
          <a:prstGeom prst="ellipse">
            <a:avLst/>
          </a:prstGeom>
          <a:solidFill>
            <a:srgbClr val="f9b2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73680" y="4119480"/>
            <a:ext cx="0" cy="647640"/>
          </a:xfrm>
          <a:prstGeom prst="line">
            <a:avLst/>
          </a:prstGeom>
          <a:ln w="44280">
            <a:solidFill>
              <a:srgbClr val="ff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18400" y="4268880"/>
            <a:ext cx="957240" cy="29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ff66cc"/>
                </a:solidFill>
                <a:latin typeface="Times New Roman"/>
              </a:rPr>
              <a:t>KL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023920" y="2025720"/>
            <a:ext cx="4267440" cy="838080"/>
            <a:chOff x="2023920" y="2025720"/>
            <a:chExt cx="4267440" cy="838080"/>
          </a:xfrm>
        </p:grpSpPr>
        <p:sp>
          <p:nvSpPr>
            <p:cNvPr id="315" name=""/>
            <p:cNvSpPr/>
            <p:nvPr/>
          </p:nvSpPr>
          <p:spPr>
            <a:xfrm flipH="1">
              <a:off x="2023920" y="2482560"/>
              <a:ext cx="42674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023920" y="2025720"/>
              <a:ext cx="4267440" cy="0"/>
            </a:xfrm>
            <a:prstGeom prst="line">
              <a:avLst/>
            </a:prstGeom>
            <a:ln w="442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023920" y="2863800"/>
              <a:ext cx="4267440" cy="0"/>
            </a:xfrm>
            <a:prstGeom prst="line">
              <a:avLst/>
            </a:prstGeom>
            <a:ln w="414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2765-630D-4500-9F37-D8E8F61659D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63360" y="74520"/>
            <a:ext cx="3598920" cy="71928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  <a:effectLst>
            <a:outerShdw dist="101823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ff"/>
                </a:solidFill>
                <a:latin typeface="Comic Sans MS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554040"/>
            <a:ext cx="766620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We are analyzing an unprecedented statistics of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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decays with negligible background and we have new and accurate values for the Dalitz plot slopes of both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</a:t>
            </a:r>
            <a:r>
              <a:rPr b="0" lang="it-IT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it-IT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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and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3</a:t>
            </a:r>
            <a:r>
              <a:rPr b="0" lang="it-IT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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final st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We measure a value of BR(</a:t>
            </a:r>
            <a:r>
              <a:rPr b="0" lang="it-IT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</a:t>
            </a:r>
            <a:r>
              <a:rPr b="0" lang="it-IT" sz="20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0" lang="it-IT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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) smaller by factor 3 w.r.t. recent Crystal Ball value (and an order of magnitude smaller than PDG value) still significantly different from zero, and in agreement with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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PT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it-IT" sz="2000" spc="-1" strike="noStrike" baseline="30000">
                <a:solidFill>
                  <a:srgbClr val="0000ff"/>
                </a:solidFill>
                <a:latin typeface="Comic Sans MS"/>
              </a:rPr>
              <a:t>6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calcu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KLOE as already published the best upper limit on C, P(C) violating decay </a:t>
            </a:r>
            <a:r>
              <a:rPr b="0" lang="it-IT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</a:t>
            </a:r>
            <a:r>
              <a:rPr b="0" lang="it-IT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</a:t>
            </a:r>
            <a:r>
              <a:rPr b="0" lang="it-IT" sz="20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</a:t>
            </a:r>
            <a:r>
              <a:rPr b="0" lang="it-IT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it-IT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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BR(</a:t>
            </a:r>
            <a:r>
              <a:rPr b="0" lang="it-IT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</a:t>
            </a:r>
            <a:r>
              <a:rPr b="0" lang="it-IT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</a:t>
            </a:r>
            <a:r>
              <a:rPr b="0" lang="it-IT" sz="20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</a:t>
            </a:r>
            <a:r>
              <a:rPr b="0" lang="it-IT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) </a:t>
            </a:r>
            <a:r>
              <a:rPr b="0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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1.3 </a:t>
            </a:r>
            <a:r>
              <a:rPr b="0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10</a:t>
            </a:r>
            <a:r>
              <a:rPr b="0" lang="it-IT" sz="2000" spc="-1" strike="noStrike" baseline="30000">
                <a:solidFill>
                  <a:srgbClr val="0000ff"/>
                </a:solidFill>
                <a:latin typeface="Comic Sans MS"/>
              </a:rPr>
              <a:t>-5</a:t>
            </a:r>
            <a:r>
              <a:rPr b="0" lang="it-IT" sz="1600" spc="-1" strike="noStrike" baseline="30000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it-IT" sz="1800" spc="-1" strike="noStrike">
                <a:solidFill>
                  <a:srgbClr val="0000ff"/>
                </a:solidFill>
                <a:latin typeface="Comic Sans MS"/>
              </a:rPr>
              <a:t>[</a:t>
            </a:r>
            <a:r>
              <a:rPr b="0" lang="it-IT" sz="1600" spc="-1" strike="noStrike">
                <a:solidFill>
                  <a:srgbClr val="0000ff"/>
                </a:solidFill>
                <a:latin typeface="Comic Sans MS"/>
              </a:rPr>
              <a:t>PLB 606 (2005) 276</a:t>
            </a:r>
            <a:r>
              <a:rPr b="0" lang="it-IT" sz="1800" spc="-1" strike="noStrike">
                <a:solidFill>
                  <a:srgbClr val="0000ff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BR(</a:t>
            </a:r>
            <a:r>
              <a:rPr b="0" lang="it-IT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</a:t>
            </a:r>
            <a:r>
              <a:rPr b="0" lang="it-IT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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) </a:t>
            </a:r>
            <a:r>
              <a:rPr b="0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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1.6 </a:t>
            </a:r>
            <a:r>
              <a:rPr b="0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10</a:t>
            </a:r>
            <a:r>
              <a:rPr b="0" lang="it-IT" sz="2000" spc="-1" strike="noStrike" baseline="30000">
                <a:solidFill>
                  <a:srgbClr val="0000ff"/>
                </a:solidFill>
                <a:latin typeface="Comic Sans MS"/>
              </a:rPr>
              <a:t>-5</a:t>
            </a:r>
            <a:r>
              <a:rPr b="0" lang="it-IT" sz="1600" spc="-1" strike="noStrike" baseline="30000">
                <a:solidFill>
                  <a:srgbClr val="0000ff"/>
                </a:solidFill>
                <a:latin typeface="Comic Sans MS"/>
              </a:rPr>
              <a:t>       </a:t>
            </a:r>
            <a:r>
              <a:rPr b="0" lang="it-IT" sz="1800" spc="-1" strike="noStrike">
                <a:solidFill>
                  <a:srgbClr val="0000ff"/>
                </a:solidFill>
                <a:latin typeface="Comic Sans MS"/>
              </a:rPr>
              <a:t>[</a:t>
            </a:r>
            <a:r>
              <a:rPr b="0" lang="it-IT" sz="1600" spc="-1" strike="noStrike">
                <a:solidFill>
                  <a:srgbClr val="0000ff"/>
                </a:solidFill>
                <a:latin typeface="Comic Sans MS"/>
              </a:rPr>
              <a:t>PLB 591  (2004)   49</a:t>
            </a:r>
            <a:r>
              <a:rPr b="0" lang="it-IT" sz="1800" spc="-1" strike="noStrike">
                <a:solidFill>
                  <a:srgbClr val="0000ff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6ECE2-B01B-4D5E-91E9-D3B94ECEF7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763360" y="74520"/>
            <a:ext cx="3598920" cy="71928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  <a:effectLst>
            <a:outerShdw dist="101823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ff"/>
                </a:solidFill>
                <a:latin typeface="Comic Sans MS"/>
              </a:rPr>
              <a:t>Spare sli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84DA0-4AFD-49A9-95D4-BBD49AD4D19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68400" y="76320"/>
            <a:ext cx="7197840" cy="69840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  <a:effectLst>
            <a:outerShdw dist="101823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… </a:t>
            </a: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and an experimental challenge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08000" y="1143000"/>
            <a:ext cx="5486400" cy="4992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5867280" y="1523880"/>
            <a:ext cx="299412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8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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p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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1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(CERN, Brookhaven, GAMS, Crystal B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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d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p + p +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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 (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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p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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p +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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</a:t>
            </a:r>
            <a:r>
              <a:rPr b="0" lang="en-GB" sz="18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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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p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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(70 A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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n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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p  (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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n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</a:t>
            </a:r>
            <a:r>
              <a:rPr b="0" lang="en-GB" sz="18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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n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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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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SND 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614F3-2F15-4BB8-B949-ACF5DE78D6AC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58760" y="115920"/>
            <a:ext cx="7018560" cy="71928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  <a:effectLst>
            <a:outerShdw dist="101823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Fit to the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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→ 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en-US" sz="3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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en-US" sz="3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en-US" sz="3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</a:t>
            </a: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Dalitz plo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84360" y="1339920"/>
            <a:ext cx="14400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2006640"/>
          <a:ext cx="9144000" cy="424188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  <a:gridCol w="1447920"/>
                <a:gridCol w="1360440"/>
                <a:gridCol w="1535040"/>
                <a:gridCol w="1371600"/>
                <a:gridCol w="1219320"/>
                <a:gridCol w="1143000"/>
              </a:tblGrid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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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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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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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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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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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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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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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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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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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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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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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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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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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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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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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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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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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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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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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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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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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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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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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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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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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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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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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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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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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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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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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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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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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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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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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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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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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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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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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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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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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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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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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1790640" y="1028880"/>
            <a:ext cx="49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e0c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ee0c00"/>
                </a:solidFill>
                <a:latin typeface="Comic Sans MS"/>
              </a:rPr>
              <a:t>|</a:t>
            </a:r>
            <a:r>
              <a:rPr b="1" lang="it-IT" sz="2000" spc="-1" strike="noStrike">
                <a:solidFill>
                  <a:srgbClr val="ee0c00"/>
                </a:solidFill>
                <a:latin typeface="Comic Sans MS"/>
              </a:rPr>
              <a:t>A(X,Y)</a:t>
            </a:r>
            <a:r>
              <a:rPr b="1" lang="en-GB" sz="2000" spc="-1" strike="noStrike">
                <a:solidFill>
                  <a:srgbClr val="ee0c00"/>
                </a:solidFill>
                <a:latin typeface="Comic Sans MS"/>
              </a:rPr>
              <a:t>|</a:t>
            </a:r>
            <a:r>
              <a:rPr b="1" lang="en-GB" sz="2000" spc="-1" strike="noStrike" baseline="30000">
                <a:solidFill>
                  <a:srgbClr val="ee0c00"/>
                </a:solidFill>
                <a:latin typeface="Comic Sans MS"/>
              </a:rPr>
              <a:t>2</a:t>
            </a:r>
            <a:r>
              <a:rPr b="1" lang="it-IT" sz="2000" spc="-1" strike="noStrike">
                <a:solidFill>
                  <a:srgbClr val="ee0c00"/>
                </a:solidFill>
                <a:latin typeface="Comic Sans MS"/>
              </a:rPr>
              <a:t> = 1+aY+bY</a:t>
            </a:r>
            <a:r>
              <a:rPr b="1" lang="it-IT" sz="2000" spc="-1" strike="noStrike" baseline="30000">
                <a:solidFill>
                  <a:srgbClr val="ee0c00"/>
                </a:solidFill>
                <a:latin typeface="Comic Sans MS"/>
              </a:rPr>
              <a:t>2</a:t>
            </a:r>
            <a:r>
              <a:rPr b="1" lang="it-IT" sz="2000" spc="-1" strike="noStrike">
                <a:solidFill>
                  <a:srgbClr val="ee0c00"/>
                </a:solidFill>
                <a:latin typeface="Comic Sans MS"/>
              </a:rPr>
              <a:t>+cX+dX</a:t>
            </a:r>
            <a:r>
              <a:rPr b="1" lang="it-IT" sz="2000" spc="-1" strike="noStrike" baseline="30000">
                <a:solidFill>
                  <a:srgbClr val="ee0c00"/>
                </a:solidFill>
                <a:latin typeface="Comic Sans MS"/>
              </a:rPr>
              <a:t>2</a:t>
            </a:r>
            <a:r>
              <a:rPr b="1" lang="it-IT" sz="2000" spc="-1" strike="noStrike">
                <a:solidFill>
                  <a:srgbClr val="ee0c00"/>
                </a:solidFill>
                <a:latin typeface="Comic Sans MS"/>
              </a:rPr>
              <a:t>+eXY+fY</a:t>
            </a:r>
            <a:r>
              <a:rPr b="1" lang="it-IT" sz="2000" spc="-1" strike="noStrike" baseline="30000">
                <a:solidFill>
                  <a:srgbClr val="ee0c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9240" y="1527120"/>
            <a:ext cx="34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US" sz="2400" spc="-1" strike="noStrike">
                <a:solidFill>
                  <a:srgbClr val="ee0c00"/>
                </a:solidFill>
                <a:latin typeface="Comic Sans MS"/>
              </a:rPr>
              <a:t>C viol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20542200">
            <a:off x="6254280" y="1481040"/>
            <a:ext cx="2737080" cy="57636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cc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KLOE Prelim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B2751-CA18-4744-A5A8-89D51533A339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84440" y="115920"/>
            <a:ext cx="5757840" cy="71928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  <a:effectLst>
            <a:outerShdw dist="101823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The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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→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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decay in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</a:t>
            </a:r>
            <a:r>
              <a:rPr b="1" lang="en-US" sz="3400" spc="-1" strike="noStrike" baseline="-25000">
                <a:solidFill>
                  <a:srgbClr val="0000ff"/>
                </a:solidFill>
                <a:latin typeface="Comic Sans MS"/>
              </a:rPr>
              <a:t>P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440" y="1101600"/>
            <a:ext cx="782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282680"/>
                <a:tab algn="l" pos="2565360"/>
                <a:tab algn="l" pos="3848040"/>
                <a:tab algn="l" pos="5130720"/>
                <a:tab algn="l" pos="6413400"/>
                <a:tab algn="l" pos="7696080"/>
                <a:tab algn="l" pos="8978760"/>
                <a:tab algn="l" pos="1026144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Comic Sans MS"/>
              </a:rPr>
              <a:t>The amplitude of the</a:t>
            </a:r>
            <a:r>
              <a:rPr b="0" lang="it-IT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</a:t>
            </a:r>
            <a:r>
              <a:rPr b="0" lang="it-IT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→ </a:t>
            </a:r>
            <a:r>
              <a:rPr b="0" lang="en-US" sz="2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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ff"/>
                </a:solidFill>
                <a:latin typeface="Comic Sans MS"/>
              </a:rPr>
              <a:t>decay</a:t>
            </a:r>
            <a:r>
              <a:rPr b="1" lang="en-US" sz="2200" spc="-1" strike="noStrike" baseline="30000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occurs primarily due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82680"/>
                <a:tab algn="l" pos="2565360"/>
                <a:tab algn="l" pos="3848040"/>
                <a:tab algn="l" pos="5130720"/>
                <a:tab algn="l" pos="6413400"/>
                <a:tab algn="l" pos="7696080"/>
                <a:tab algn="l" pos="8978760"/>
                <a:tab algn="l" pos="102614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he d-u  quark mass differe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82680"/>
                <a:tab algn="l" pos="2565360"/>
                <a:tab algn="l" pos="3848040"/>
                <a:tab algn="l" pos="5130720"/>
                <a:tab algn="l" pos="6413400"/>
                <a:tab algn="l" pos="7696080"/>
                <a:tab algn="l" pos="8978760"/>
                <a:tab algn="l" pos="102614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rom lowest order Chiral Pertubation Theory: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030400" y="2459160"/>
                <a:ext cx="50846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π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381600" y="4014720"/>
            <a:ext cx="74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Comic Sans MS"/>
              </a:rPr>
              <a:t>wi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190520" y="3822840"/>
                <a:ext cx="20098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≡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861160" y="3871800"/>
                <a:ext cx="282564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663360" y="4091040"/>
            <a:ext cx="182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nd, at L.O. 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0200" y="4844880"/>
            <a:ext cx="828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Comic Sans MS"/>
              </a:rPr>
              <a:t>A good understanding of M(s,t,u) can lead to a very accurate determination of Q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124080" y="5805360"/>
                <a:ext cx="2895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η</m:t>
                    </m:r>
                    <m:r>
                      <m:t xml:space="preserve">→</m:t>
                    </m:r>
                    <m:r>
                      <m:t xml:space="preserve">3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∝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∝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5D8F9-B24A-42FC-887E-3C97229F3B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066680" y="11430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223720" y="510552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Tabella sperimentale di Bijn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028880" y="990720"/>
          <a:ext cx="7086600" cy="2590560"/>
        </p:xfrm>
        <a:graphic>
          <a:graphicData uri="http://schemas.openxmlformats.org/drawingml/2006/table">
            <a:tbl>
              <a:tblPr/>
              <a:tblGrid>
                <a:gridCol w="3200400"/>
                <a:gridCol w="388620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alc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                b              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f3"/>
                    </a:solidFill>
                  </a:tcPr>
                </a:tc>
              </a:tr>
              <a:tr h="21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ne-loop[1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ispersive[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ree disper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bsolute disper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1.00           0.25           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1.33           0.42           0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1.16            0.26           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1.10            0.31          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1.21            0.33           0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f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77840" y="4159080"/>
          <a:ext cx="8534520" cy="2165400"/>
        </p:xfrm>
        <a:graphic>
          <a:graphicData uri="http://schemas.openxmlformats.org/drawingml/2006/table">
            <a:tbl>
              <a:tblPr/>
              <a:tblGrid>
                <a:gridCol w="1928880"/>
                <a:gridCol w="1040040"/>
                <a:gridCol w="556560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easu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GB" sz="2000" spc="-1" strike="noStrike" baseline="-25000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                      b                      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f3"/>
                    </a:solidFill>
                  </a:tcPr>
                </a:tc>
              </a:tr>
              <a:tr h="17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ay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ormle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rystal Barr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rystal Barr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808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0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32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1.08 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14    0.034 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27     0.046 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1.17 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2       0.21 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3         0.06 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0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94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15        0.11 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1.22 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.07        0.22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0.11          0.06 fix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f3"/>
                    </a:solidFill>
                  </a:tcPr>
                </a:tc>
              </a:tr>
            </a:tbl>
          </a:graphicData>
        </a:graphic>
      </p:graphicFrame>
      <p:sp>
        <p:nvSpPr>
          <p:cNvPr id="336" name=""/>
          <p:cNvSpPr/>
          <p:nvPr/>
        </p:nvSpPr>
        <p:spPr>
          <a:xfrm>
            <a:off x="533520" y="3564000"/>
            <a:ext cx="701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0" lang="en-GB" sz="1400" spc="-1" strike="noStrike">
                <a:solidFill>
                  <a:srgbClr val="0000ff"/>
                </a:solidFill>
                <a:latin typeface="Comic Sans MS"/>
              </a:rPr>
              <a:t>[1] Gasser,J. and Leutwyler, H., Nucl. Phys. B </a:t>
            </a:r>
            <a:r>
              <a:rPr b="1" lang="en-GB" sz="1400" spc="-1" strike="noStrike">
                <a:solidFill>
                  <a:srgbClr val="0000ff"/>
                </a:solidFill>
                <a:latin typeface="Comic Sans MS"/>
              </a:rPr>
              <a:t>250</a:t>
            </a:r>
            <a:r>
              <a:rPr b="0" lang="en-GB" sz="1400" spc="-1" strike="noStrike">
                <a:solidFill>
                  <a:srgbClr val="0000ff"/>
                </a:solidFill>
                <a:latin typeface="Comic Sans MS"/>
              </a:rPr>
              <a:t>, 539 (198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0" lang="en-GB" sz="1400" spc="-1" strike="noStrike">
                <a:solidFill>
                  <a:srgbClr val="0000ff"/>
                </a:solidFill>
                <a:latin typeface="Comic Sans MS"/>
              </a:rPr>
              <a:t>[2] Kambor, J., Wiesendanger, C. and Wyler, D., Nucl. Phys. B </a:t>
            </a:r>
            <a:r>
              <a:rPr b="1" lang="en-GB" sz="1400" spc="-1" strike="noStrike">
                <a:solidFill>
                  <a:srgbClr val="0000ff"/>
                </a:solidFill>
                <a:latin typeface="Comic Sans MS"/>
              </a:rPr>
              <a:t>465</a:t>
            </a:r>
            <a:r>
              <a:rPr b="0" lang="en-GB" sz="1400" spc="-1" strike="noStrike">
                <a:solidFill>
                  <a:srgbClr val="0000ff"/>
                </a:solidFill>
                <a:latin typeface="Comic Sans MS"/>
              </a:rPr>
              <a:t>, 215 (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7600" y="75960"/>
            <a:ext cx="8132760" cy="71892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ff"/>
                </a:solidFill>
                <a:latin typeface="Comic Sans MS"/>
              </a:rPr>
              <a:t>Dalitz expansion: theory vs experi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86FA-3F07-4689-BB72-70979F106AF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43000" y="838080"/>
            <a:ext cx="6858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4120" y="4770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81560" y="533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79840" y="216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93800" y="75960"/>
            <a:ext cx="3959280" cy="71892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ff"/>
                </a:solidFill>
                <a:latin typeface="Comic Sans MS"/>
              </a:rPr>
              <a:t>Fit stabil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10640" cy="5068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172200" y="1219320"/>
            <a:ext cx="0" cy="5143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895480" y="1181160"/>
            <a:ext cx="0" cy="5143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0523-EC81-4B0C-9848-5008751AA13C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208160" y="4705200"/>
          <a:ext cx="6734160" cy="1543320"/>
        </p:xfrm>
        <a:graphic>
          <a:graphicData uri="http://schemas.openxmlformats.org/drawingml/2006/table">
            <a:tbl>
              <a:tblPr/>
              <a:tblGrid>
                <a:gridCol w="6734160"/>
              </a:tblGrid>
              <a:tr h="154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lde   (1984)                            -0.022 </a:t>
                      </a:r>
                      <a:r>
                        <a:rPr b="0" lang="it-IT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0.0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rystal Barrel (1998)               -0.052 </a:t>
                      </a:r>
                      <a:r>
                        <a:rPr b="0" lang="it-IT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0.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rystal Ball   (2001)                -0.031 </a:t>
                      </a:r>
                      <a:r>
                        <a:rPr b="0" lang="it-IT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0.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1eff"/>
                      </a:solidFill>
                    </a:lnL>
                    <a:lnR w="13680">
                      <a:solidFill>
                        <a:srgbClr val="041eff"/>
                      </a:solidFill>
                    </a:lnR>
                    <a:lnT w="13680">
                      <a:solidFill>
                        <a:srgbClr val="041eff"/>
                      </a:solidFill>
                    </a:lnT>
                    <a:lnB w="13680">
                      <a:solidFill>
                        <a:srgbClr val="041eff"/>
                      </a:solidFill>
                    </a:lnB>
                    <a:solidFill>
                      <a:srgbClr val="ffff57"/>
                    </a:solidFill>
                  </a:tcPr>
                </a:tc>
              </a:tr>
            </a:tbl>
          </a:graphicData>
        </a:graphic>
      </p:graphicFrame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0640" y="74160"/>
            <a:ext cx="8259840" cy="69876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ff"/>
                </a:solidFill>
                <a:latin typeface="Comic Sans MS"/>
              </a:rPr>
              <a:t>Dalitz expansion: theory vs experi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330200" y="1060560"/>
          <a:ext cx="6476760" cy="2825640"/>
        </p:xfrm>
        <a:graphic>
          <a:graphicData uri="http://schemas.openxmlformats.org/drawingml/2006/table">
            <a:tbl>
              <a:tblPr/>
              <a:tblGrid>
                <a:gridCol w="2922480"/>
                <a:gridCol w="355428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41eff"/>
                          </a:solidFill>
                          <a:latin typeface="Comic Sans MS"/>
                        </a:rPr>
                        <a:t>Calcu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f3"/>
                    </a:solidFill>
                  </a:tcPr>
                </a:tc>
              </a:tr>
              <a:tr h="23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ne-loop[1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ispersive[2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ree dispers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bsolute dispers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0.00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007  </a:t>
                      </a:r>
                      <a:r>
                        <a:rPr b="0" lang="it-IT" sz="22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0" lang="it-IT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  -0.0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0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-0.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f3"/>
                    </a:solidFill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1195560" y="3908520"/>
            <a:ext cx="777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ff"/>
                </a:solidFill>
                <a:latin typeface="Comic Sans MS"/>
              </a:rPr>
              <a:t>[1] Gasser,J. and Leutwyler, H., Nucl. Phys. B </a:t>
            </a:r>
            <a:r>
              <a:rPr b="1" lang="en-GB" sz="1400" spc="-1" strike="noStrike">
                <a:solidFill>
                  <a:srgbClr val="0000ff"/>
                </a:solidFill>
                <a:latin typeface="Comic Sans MS"/>
              </a:rPr>
              <a:t>250</a:t>
            </a:r>
            <a:r>
              <a:rPr b="0" lang="en-GB" sz="1400" spc="-1" strike="noStrike">
                <a:solidFill>
                  <a:srgbClr val="0000ff"/>
                </a:solidFill>
                <a:latin typeface="Comic Sans MS"/>
              </a:rPr>
              <a:t>, 539 (198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ff"/>
                </a:solidFill>
                <a:latin typeface="Comic Sans MS"/>
              </a:rPr>
              <a:t>[2] Kambor, J., Wiesendanger, C. and Wyler, D., Nucl. Phys. B </a:t>
            </a:r>
            <a:r>
              <a:rPr b="1" lang="en-GB" sz="1400" spc="-1" strike="noStrike">
                <a:solidFill>
                  <a:srgbClr val="0000ff"/>
                </a:solidFill>
                <a:latin typeface="Comic Sans MS"/>
              </a:rPr>
              <a:t>465</a:t>
            </a:r>
            <a:r>
              <a:rPr b="0" lang="en-GB" sz="1400" spc="-1" strike="noStrike">
                <a:solidFill>
                  <a:srgbClr val="0000ff"/>
                </a:solidFill>
                <a:latin typeface="Comic Sans MS"/>
              </a:rPr>
              <a:t>, 215 (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F0CBC-3855-4FBF-828D-8124EED4AF7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7400" y="1158840"/>
            <a:ext cx="7917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The fit is done using a binned likelihoo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147840" y="2529000"/>
                <a:ext cx="28371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ν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α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608040" y="3178080"/>
            <a:ext cx="7916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19200" y="3670200"/>
            <a:ext cx="79167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= recostructe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60600"/>
                </a:solidFill>
                <a:latin typeface="Symbol"/>
                <a:ea typeface="Symbol"/>
              </a:rPr>
              <a:t></a:t>
            </a:r>
            <a:r>
              <a:rPr b="1" lang="it-IT" sz="2400" spc="-1" strike="noStrike" baseline="-25000">
                <a:solidFill>
                  <a:srgbClr val="e60600"/>
                </a:solidFill>
                <a:latin typeface="Comic Sans MS"/>
              </a:rPr>
              <a:t>i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= for each MC event (according pure phase spac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Evaluate its z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Comic Sans MS"/>
              </a:rPr>
              <a:t>true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and its z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Comic Sans MS"/>
              </a:rPr>
              <a:t>rec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(if any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Enter an histogram with the value of z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Comic Sans MS"/>
              </a:rPr>
              <a:t>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Weight the entry with 1 + 2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z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Comic Sans MS"/>
              </a:rPr>
              <a:t>true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09480" y="1768320"/>
            <a:ext cx="7917120" cy="517680"/>
            <a:chOff x="609480" y="1768320"/>
            <a:chExt cx="7917120" cy="517680"/>
          </a:xfrm>
        </p:grpSpPr>
        <p:sp>
          <p:nvSpPr>
            <p:cNvPr id="360" name=""/>
            <p:cNvSpPr/>
            <p:nvPr/>
          </p:nvSpPr>
          <p:spPr>
            <a:xfrm>
              <a:off x="609480" y="1768320"/>
              <a:ext cx="7917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ff"/>
                  </a:solidFill>
                  <a:latin typeface="Comic Sans MS"/>
                </a:rPr>
                <a:t>We obtain an extimate     by minimiz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"/>
                <p:cNvSpPr txBox="1"/>
                <p:nvPr/>
              </p:nvSpPr>
              <p:spPr>
                <a:xfrm>
                  <a:off x="4021200" y="1833480"/>
                  <a:ext cx="32076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α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13080" y="93600"/>
            <a:ext cx="4317840" cy="71928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ff"/>
                </a:solidFill>
                <a:latin typeface="Comic Sans MS"/>
              </a:rPr>
              <a:t>Fit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85EAD-AAA4-4B2E-8C09-1B8B855E7FF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2240" y="499428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7640" y="1066680"/>
            <a:ext cx="786780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At KLOE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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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is produced in the process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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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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it-IT" sz="24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</a:t>
            </a:r>
            <a:r>
              <a:rPr b="0" lang="it-IT" sz="2400" spc="-1" strike="noStrike">
                <a:solidFill>
                  <a:srgbClr val="009900"/>
                </a:solidFill>
                <a:latin typeface="Comic Sans MS"/>
              </a:rPr>
              <a:t>(2001-2002) </a:t>
            </a:r>
            <a:r>
              <a:rPr b="0" lang="it-IT" sz="2400" spc="-1" strike="noStrike">
                <a:solidFill>
                  <a:srgbClr val="009900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>
                <a:solidFill>
                  <a:srgbClr val="009900"/>
                </a:solidFill>
                <a:latin typeface="Comic Sans MS"/>
              </a:rPr>
              <a:t> 17 Mevts.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The final state 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for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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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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thus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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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, and the final state  for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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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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7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both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with almost </a:t>
            </a:r>
            <a:r>
              <a:rPr b="0" lang="it-IT" sz="2400" spc="-1" strike="noStrike">
                <a:solidFill>
                  <a:srgbClr val="ee0c00"/>
                </a:solidFill>
                <a:latin typeface="Comic Sans MS"/>
              </a:rPr>
              <a:t>no physical background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baseline="30000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3886200" cy="2859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93800" y="75960"/>
            <a:ext cx="3959280" cy="71892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  <a:effectLst>
            <a:outerShdw dist="101823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</a:t>
            </a:r>
            <a:r>
              <a:rPr b="0" lang="it-IT" sz="3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3400" spc="-1" strike="noStrike">
                <a:solidFill>
                  <a:srgbClr val="0000ff"/>
                </a:solidFill>
                <a:latin typeface="Comic Sans MS"/>
              </a:rPr>
              <a:t>@ KLO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880" y="3276720"/>
            <a:ext cx="6898680" cy="2819160"/>
            <a:chOff x="380880" y="3276720"/>
            <a:chExt cx="6898680" cy="2819160"/>
          </a:xfrm>
        </p:grpSpPr>
        <p:sp>
          <p:nvSpPr>
            <p:cNvPr id="81" name=""/>
            <p:cNvSpPr/>
            <p:nvPr/>
          </p:nvSpPr>
          <p:spPr>
            <a:xfrm>
              <a:off x="4918680" y="4780440"/>
              <a:ext cx="2360880" cy="12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r>
                <a:rPr b="0" lang="it-IT" sz="2600" spc="-1" strike="noStrike" baseline="30000">
                  <a:solidFill>
                    <a:srgbClr val="0000ff"/>
                  </a:solidFill>
                  <a:latin typeface="SymbolProp BT"/>
                  <a:ea typeface="SymbolProp BT"/>
                </a:rPr>
                <a:t></a:t>
              </a:r>
              <a:r>
                <a:rPr b="0" lang="it-IT" sz="2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r>
                <a:rPr b="0" lang="it-IT" sz="2600" spc="-1" strike="noStrike" baseline="30000">
                  <a:solidFill>
                    <a:srgbClr val="0000ff"/>
                  </a:solidFill>
                  <a:latin typeface="SymbolProp BT"/>
                  <a:ea typeface="SymbolProp BT"/>
                </a:rPr>
                <a:t></a:t>
              </a:r>
              <a:r>
                <a:rPr b="0" lang="it-IT" sz="2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r>
                <a:rPr b="0" lang="it-IT" sz="2600" spc="-1" strike="noStrike" baseline="30000">
                  <a:solidFill>
                    <a:srgbClr val="0000ff"/>
                  </a:solidFill>
                  <a:latin typeface="SymbolProp BT"/>
                  <a:ea typeface="SymbolProp BT"/>
                </a:rPr>
                <a:t></a:t>
              </a:r>
              <a:r>
                <a:rPr b="0" lang="it-IT" sz="26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it-IT" sz="2600" spc="-1" strike="noStrike">
                  <a:solidFill>
                    <a:srgbClr val="0000ff"/>
                  </a:solidFill>
                  <a:latin typeface="Times New Roman"/>
                </a:rPr>
                <a:t>selection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it-IT" sz="24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r>
                <a:rPr b="0" lang="it-IT" sz="2400" spc="-1" strike="noStrike">
                  <a:solidFill>
                    <a:srgbClr val="0000ff"/>
                  </a:solidFill>
                  <a:latin typeface="SymbolProp BT"/>
                  <a:ea typeface="SymbolProp BT"/>
                </a:rPr>
                <a:t></a:t>
              </a:r>
              <a:r>
                <a:rPr b="0" lang="it-IT" sz="2400" spc="-1" strike="noStrike">
                  <a:solidFill>
                    <a:srgbClr val="0000ff"/>
                  </a:solidFill>
                  <a:latin typeface="Times New Roman"/>
                </a:rPr>
                <a:t> candid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it-IT" sz="2400" spc="-1" strike="noStrike">
                  <a:solidFill>
                    <a:srgbClr val="0000ff"/>
                  </a:solidFill>
                  <a:latin typeface="Times New Roman"/>
                </a:rPr>
                <a:t>Kinematic f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380880" y="3276720"/>
              <a:ext cx="4572000" cy="28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"/>
          <p:cNvSpPr/>
          <p:nvPr/>
        </p:nvSpPr>
        <p:spPr>
          <a:xfrm>
            <a:off x="4876920" y="3336840"/>
            <a:ext cx="42577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it-IT" sz="26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</a:t>
            </a:r>
            <a:r>
              <a:rPr b="0" lang="it-IT" sz="2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it-IT" sz="26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it-IT" sz="2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it-IT" sz="26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0" lang="it-IT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Times New Roman"/>
              </a:rPr>
              <a:t>selec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2 track vertex + 3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Kinematic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19C12-B604-494B-ABC5-17E97DB41AF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97560" y="3809880"/>
            <a:ext cx="4165560" cy="24973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5340240" y="1371600"/>
            <a:ext cx="3803760" cy="2413080"/>
            <a:chOff x="5340240" y="1371600"/>
            <a:chExt cx="3803760" cy="2413080"/>
          </a:xfrm>
        </p:grpSpPr>
        <p:grpSp>
          <p:nvGrpSpPr>
            <p:cNvPr id="86" name=""/>
            <p:cNvGrpSpPr/>
            <p:nvPr/>
          </p:nvGrpSpPr>
          <p:grpSpPr>
            <a:xfrm>
              <a:off x="5340240" y="1371600"/>
              <a:ext cx="3803760" cy="2413080"/>
              <a:chOff x="5340240" y="1371600"/>
              <a:chExt cx="3803760" cy="2413080"/>
            </a:xfrm>
          </p:grpSpPr>
          <p:pic>
            <p:nvPicPr>
              <p:cNvPr id="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40240" y="1371600"/>
                <a:ext cx="3803760" cy="241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7628040" y="1371600"/>
                <a:ext cx="1439640" cy="12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7353360" y="1612800"/>
              <a:ext cx="1406520" cy="78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re”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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 0.0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76312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254560" y="1420920"/>
            <a:ext cx="3863880" cy="2388960"/>
            <a:chOff x="5254560" y="1420920"/>
            <a:chExt cx="3863880" cy="2388960"/>
          </a:xfrm>
        </p:grpSpPr>
        <p:grpSp>
          <p:nvGrpSpPr>
            <p:cNvPr id="92" name=""/>
            <p:cNvGrpSpPr/>
            <p:nvPr/>
          </p:nvGrpSpPr>
          <p:grpSpPr>
            <a:xfrm>
              <a:off x="5254560" y="1420920"/>
              <a:ext cx="3863880" cy="2388960"/>
              <a:chOff x="5254560" y="1420920"/>
              <a:chExt cx="3863880" cy="2388960"/>
            </a:xfrm>
          </p:grpSpPr>
          <p:pic>
            <p:nvPicPr>
              <p:cNvPr id="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4560" y="1420920"/>
                <a:ext cx="3863880" cy="238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7632720" y="1447920"/>
                <a:ext cx="1440000" cy="12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315200" y="1650960"/>
              <a:ext cx="1406520" cy="78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re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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= 0.0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2496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89120" y="74520"/>
            <a:ext cx="5757840" cy="71928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  <a:effectLst>
            <a:outerShdw dist="101823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The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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→ 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en-US" sz="3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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en-US" sz="3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en-US" sz="3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</a:t>
            </a: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Dalitz plo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2160" y="5181480"/>
            <a:ext cx="41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Efficiency 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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36% , almost f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57200" y="914400"/>
            <a:ext cx="4317840" cy="3235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65480" y="1022400"/>
            <a:ext cx="1749600" cy="539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litz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18400" y="99072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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(T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T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) , Y</a:t>
            </a:r>
            <a:r>
              <a:rPr b="1" lang="en-US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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43E8F-C070-42D0-91BF-C71324350FD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58760" y="115920"/>
            <a:ext cx="7018560" cy="71928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  <a:effectLst>
            <a:outerShdw dist="101823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Fit to the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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→ 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en-US" sz="3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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en-US" sz="3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en-US" sz="3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en-US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</a:t>
            </a: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Dalitz plo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1339920"/>
            <a:ext cx="14400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3429000"/>
          <a:ext cx="9144000" cy="2495520"/>
        </p:xfrm>
        <a:graphic>
          <a:graphicData uri="http://schemas.openxmlformats.org/drawingml/2006/table">
            <a:tbl>
              <a:tblPr/>
              <a:tblGrid>
                <a:gridCol w="533520"/>
                <a:gridCol w="525240"/>
                <a:gridCol w="1441440"/>
                <a:gridCol w="1335240"/>
                <a:gridCol w="1574640"/>
                <a:gridCol w="1371600"/>
                <a:gridCol w="1235160"/>
                <a:gridCol w="1127160"/>
              </a:tblGrid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3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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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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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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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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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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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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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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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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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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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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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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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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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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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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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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50000"/>
                      </a:srgbClr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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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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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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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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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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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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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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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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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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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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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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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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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1346040" y="1828800"/>
            <a:ext cx="6453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e0c00"/>
                </a:solidFill>
                <a:latin typeface="Comic Sans MS"/>
              </a:rPr>
              <a:t> </a:t>
            </a:r>
            <a:r>
              <a:rPr b="1" lang="en-GB" sz="2200" spc="-1" strike="noStrike">
                <a:solidFill>
                  <a:srgbClr val="ee0c00"/>
                </a:solidFill>
                <a:latin typeface="Comic Sans MS"/>
              </a:rPr>
              <a:t>|</a:t>
            </a:r>
            <a:r>
              <a:rPr b="1" lang="it-IT" sz="2200" spc="-1" strike="noStrike">
                <a:solidFill>
                  <a:srgbClr val="ee0c00"/>
                </a:solidFill>
                <a:latin typeface="Comic Sans MS"/>
              </a:rPr>
              <a:t>A(X,Y)</a:t>
            </a:r>
            <a:r>
              <a:rPr b="1" lang="en-GB" sz="2200" spc="-1" strike="noStrike">
                <a:solidFill>
                  <a:srgbClr val="ee0c00"/>
                </a:solidFill>
                <a:latin typeface="Comic Sans MS"/>
              </a:rPr>
              <a:t>|</a:t>
            </a:r>
            <a:r>
              <a:rPr b="1" lang="en-GB" sz="2200" spc="-1" strike="noStrike" baseline="30000">
                <a:solidFill>
                  <a:srgbClr val="ee0c00"/>
                </a:solidFill>
                <a:latin typeface="Comic Sans MS"/>
              </a:rPr>
              <a:t>2</a:t>
            </a:r>
            <a:r>
              <a:rPr b="1" lang="it-IT" sz="2200" spc="-1" strike="noStrike">
                <a:solidFill>
                  <a:srgbClr val="ee0c00"/>
                </a:solidFill>
                <a:latin typeface="Comic Sans MS"/>
              </a:rPr>
              <a:t> = 1+aY+bY</a:t>
            </a:r>
            <a:r>
              <a:rPr b="1" lang="it-IT" sz="2200" spc="-1" strike="noStrike" baseline="30000">
                <a:solidFill>
                  <a:srgbClr val="ee0c00"/>
                </a:solidFill>
                <a:latin typeface="Comic Sans MS"/>
              </a:rPr>
              <a:t>2</a:t>
            </a:r>
            <a:r>
              <a:rPr b="1" lang="it-IT" sz="2200" spc="-1" strike="noStrike">
                <a:solidFill>
                  <a:srgbClr val="ee0c00"/>
                </a:solidFill>
                <a:latin typeface="Comic Sans MS"/>
              </a:rPr>
              <a:t>+cX+dX</a:t>
            </a:r>
            <a:r>
              <a:rPr b="1" lang="it-IT" sz="2200" spc="-1" strike="noStrike" baseline="30000">
                <a:solidFill>
                  <a:srgbClr val="ee0c00"/>
                </a:solidFill>
                <a:latin typeface="Comic Sans MS"/>
              </a:rPr>
              <a:t>2</a:t>
            </a:r>
            <a:r>
              <a:rPr b="1" lang="it-IT" sz="2200" spc="-1" strike="noStrike">
                <a:solidFill>
                  <a:srgbClr val="ee0c00"/>
                </a:solidFill>
                <a:latin typeface="Comic Sans MS"/>
              </a:rPr>
              <a:t>+eXY+fY</a:t>
            </a:r>
            <a:r>
              <a:rPr b="1" lang="it-IT" sz="2200" spc="-1" strike="noStrike" baseline="30000">
                <a:solidFill>
                  <a:srgbClr val="ee0c00"/>
                </a:solidFill>
                <a:latin typeface="Comic Sans MS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1520" y="2759040"/>
            <a:ext cx="34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US" sz="2400" spc="-1" strike="noStrike">
                <a:solidFill>
                  <a:srgbClr val="ee0c00"/>
                </a:solidFill>
                <a:latin typeface="Comic Sans MS"/>
              </a:rPr>
              <a:t>C viol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0542200">
            <a:off x="6248160" y="2819520"/>
            <a:ext cx="2736720" cy="57600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cc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KLOE Prelim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88B9-18F2-4C5E-ADD5-08B7EAB082A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0920" y="63360"/>
            <a:ext cx="3959280" cy="71928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  <a:effectLst>
            <a:outerShdw dist="101823" dir="2700000" blurRad="0" rotWithShape="0">
              <a:srgbClr val="808080">
                <a:alpha val="99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Q evalu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219320"/>
            <a:ext cx="71802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Using this preliminary KLOE res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[B.V. Martemyanov and V.S. Sopov, PRD 71 (2005) 01750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240" y="3227400"/>
            <a:ext cx="82918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is result is in agreement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Comic Sans MS"/>
              </a:rPr>
              <a:t>Q = 22.0 </a:t>
            </a:r>
            <a:r>
              <a:rPr b="1" lang="en-US" sz="2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± </a:t>
            </a:r>
            <a:r>
              <a:rPr b="1" lang="en-US" sz="2200" spc="-1" strike="noStrike">
                <a:solidFill>
                  <a:srgbClr val="0000ff"/>
                </a:solidFill>
                <a:latin typeface="Comic Sans MS"/>
              </a:rPr>
              <a:t>0.6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500" spc="-1" strike="noStrike">
                <a:solidFill>
                  <a:srgbClr val="0000ff"/>
                </a:solidFill>
                <a:latin typeface="Comic Sans MS"/>
              </a:rPr>
              <a:t>[J.Donoghue and A.Perez, PRD 55 (1997) 7075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Comic Sans MS"/>
              </a:rPr>
              <a:t>                                                 </a:t>
            </a:r>
            <a:r>
              <a:rPr b="0" lang="en-US" sz="1500" spc="-1" strike="noStrike">
                <a:solidFill>
                  <a:srgbClr val="0000ff"/>
                </a:solidFill>
                <a:latin typeface="Comic Sans MS"/>
              </a:rPr>
              <a:t>[J.Bijnens and J.Prades, NPB 490 (1997) 239]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Comic Sans MS"/>
              </a:rPr>
              <a:t>Q = 22.4 ± 0.9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1500" spc="-1" strike="noStrike">
                <a:solidFill>
                  <a:srgbClr val="0000ff"/>
                </a:solidFill>
                <a:latin typeface="Comic Sans MS"/>
              </a:rPr>
              <a:t>[J.Kambor., C.Wiesendanger and D.Whyler, NPB 465 (1996) 215</a:t>
            </a: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Comic Sans MS"/>
              </a:rPr>
              <a:t>Q = 22.7 ± 0.8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1500" spc="-1" strike="noStrike">
                <a:solidFill>
                  <a:srgbClr val="0000ff"/>
                </a:solidFill>
                <a:latin typeface="Comic Sans MS"/>
              </a:rPr>
              <a:t>[A.V.Anisovich and H.Leutwyler, PLB 375 (1997) 335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The theoretical error is currently dominated by PDG error 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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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→ </a:t>
            </a:r>
            <a:r>
              <a:rPr b="1" lang="en-US" sz="18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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32080" y="2340000"/>
            <a:ext cx="269892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Q = 22.8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±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0ED9A-F9D0-47DD-B9C9-26051E5053B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1219320"/>
            <a:ext cx="3227400" cy="2941560"/>
            <a:chOff x="0" y="1219320"/>
            <a:chExt cx="3227400" cy="29415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0" y="1219320"/>
              <a:ext cx="3227400" cy="29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95560" y="224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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1440" y="2251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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1600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2133720"/>
            <a:ext cx="837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6640" y="609480"/>
            <a:ext cx="183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57240" y="61920"/>
            <a:ext cx="5399280" cy="71928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  <a:effectLst>
            <a:outerShdw dist="101823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ff"/>
                </a:solidFill>
                <a:latin typeface="Comic Sans MS"/>
              </a:rPr>
              <a:t>Asymmetr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920" y="4210200"/>
            <a:ext cx="2971800" cy="8866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 = (-0.009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0.093)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10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971800" y="990720"/>
            <a:ext cx="3227400" cy="3202920"/>
            <a:chOff x="2971800" y="990720"/>
            <a:chExt cx="3227400" cy="3202920"/>
          </a:xfrm>
        </p:grpSpPr>
        <p:grpSp>
          <p:nvGrpSpPr>
            <p:cNvPr id="125" name=""/>
            <p:cNvGrpSpPr/>
            <p:nvPr/>
          </p:nvGrpSpPr>
          <p:grpSpPr>
            <a:xfrm>
              <a:off x="2971800" y="1219320"/>
              <a:ext cx="3227400" cy="2941560"/>
              <a:chOff x="2971800" y="1219320"/>
              <a:chExt cx="3227400" cy="2941560"/>
            </a:xfrm>
          </p:grpSpPr>
          <p:pic>
            <p:nvPicPr>
              <p:cNvPr id="1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1800" y="1219320"/>
                <a:ext cx="3227400" cy="294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3276720" y="2590920"/>
                <a:ext cx="25146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5532840" y="990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02200" y="990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2200" y="373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32840" y="373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94400" y="18432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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7120" y="18288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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9400" y="3005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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18080" y="3005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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152880" y="4210200"/>
            <a:ext cx="2895480" cy="544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it-IT" sz="2000" spc="-1" strike="noStrike" baseline="-25000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it-IT" sz="2000" spc="-1" strike="noStrike">
                <a:solidFill>
                  <a:srgbClr val="0000ff"/>
                </a:solidFill>
                <a:latin typeface="Times New Roman"/>
              </a:rPr>
              <a:t> = (-0.02 </a:t>
            </a:r>
            <a:r>
              <a:rPr b="1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1" lang="it-IT" sz="2000" spc="-1" strike="noStrike">
                <a:solidFill>
                  <a:srgbClr val="0000ff"/>
                </a:solidFill>
                <a:latin typeface="Times New Roman"/>
              </a:rPr>
              <a:t> 0.09) </a:t>
            </a:r>
            <a:r>
              <a:rPr b="0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1" lang="it-IT" sz="2000" spc="-1" strike="noStrike">
                <a:solidFill>
                  <a:srgbClr val="0000ff"/>
                </a:solidFill>
                <a:latin typeface="Times New Roman"/>
              </a:rPr>
              <a:t> 10</a:t>
            </a:r>
            <a:r>
              <a:rPr b="1" lang="it-IT" sz="2000" spc="-1" strike="noStrike" baseline="30000">
                <a:solidFill>
                  <a:srgbClr val="0000ff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916600" y="1219320"/>
            <a:ext cx="3227400" cy="2941560"/>
            <a:chOff x="5916600" y="1219320"/>
            <a:chExt cx="3227400" cy="2941560"/>
          </a:xfrm>
        </p:grpSpPr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5916600" y="1219320"/>
              <a:ext cx="3227400" cy="29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 rot="19614600">
              <a:off x="7545240" y="17874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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18480" y="23702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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289000">
              <a:off x="7436520" y="30178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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9611000">
              <a:off x="6599520" y="29937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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94600" y="2365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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137800">
              <a:off x="6712920" y="173484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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09480" y="5081760"/>
            <a:ext cx="8382240" cy="679320"/>
            <a:chOff x="609480" y="5081760"/>
            <a:chExt cx="8382240" cy="67932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609480" y="5081760"/>
                  <a:ext cx="130680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3276720" y="5124600"/>
                  <a:ext cx="2187360" cy="63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950080" y="5133960"/>
                  <a:ext cx="304164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" name=""/>
          <p:cNvSpPr/>
          <p:nvPr/>
        </p:nvSpPr>
        <p:spPr>
          <a:xfrm>
            <a:off x="6172200" y="4219560"/>
            <a:ext cx="2819520" cy="544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it-IT" sz="20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it-IT" sz="2000" spc="-1" strike="noStrike">
                <a:solidFill>
                  <a:srgbClr val="0000ff"/>
                </a:solidFill>
                <a:latin typeface="Times New Roman"/>
              </a:rPr>
              <a:t> = (0.07 </a:t>
            </a:r>
            <a:r>
              <a:rPr b="1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</a:t>
            </a:r>
            <a:r>
              <a:rPr b="1" lang="it-IT" sz="2000" spc="-1" strike="noStrike">
                <a:solidFill>
                  <a:srgbClr val="0000ff"/>
                </a:solidFill>
                <a:latin typeface="Times New Roman"/>
              </a:rPr>
              <a:t> 0.09) </a:t>
            </a:r>
            <a:r>
              <a:rPr b="0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1" lang="it-IT" sz="2000" spc="-1" strike="noStrike">
                <a:solidFill>
                  <a:srgbClr val="0000ff"/>
                </a:solidFill>
                <a:latin typeface="Times New Roman"/>
              </a:rPr>
              <a:t> 10</a:t>
            </a:r>
            <a:r>
              <a:rPr b="1" lang="it-IT" sz="2000" spc="-1" strike="noStrike" baseline="30000">
                <a:solidFill>
                  <a:srgbClr val="0000ff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0542200">
            <a:off x="6040080" y="590400"/>
            <a:ext cx="2736720" cy="576360"/>
          </a:xfrm>
          <a:prstGeom prst="rect">
            <a:avLst/>
          </a:prstGeom>
          <a:solidFill>
            <a:srgbClr val="8cffad">
              <a:alpha val="50000"/>
            </a:srgbClr>
          </a:solidFill>
          <a:ln w="1908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KLOE Prelim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F5964-327F-41B7-BC97-BD78D33AB32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3240" y="1433520"/>
            <a:ext cx="788832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Dalitz plot density for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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( |A|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) is specified by a single parame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|A|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2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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1 +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1320" y="4876920"/>
            <a:ext cx="5836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E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Comic Sans MS"/>
              </a:rPr>
              <a:t>i      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= Energy of the </a:t>
            </a:r>
            <a:r>
              <a:rPr b="0" i="1" lang="it-IT" sz="2000" spc="-1" strike="noStrike">
                <a:solidFill>
                  <a:srgbClr val="0000ff"/>
                </a:solidFill>
                <a:latin typeface="Comic Sans MS"/>
              </a:rPr>
              <a:t>i-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th pion in the </a:t>
            </a:r>
            <a:r>
              <a:rPr b="1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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rest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= Distance to the center of Dalitz p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1" lang="it-IT" sz="2000" spc="-1" strike="noStrike" baseline="-25000">
                <a:solidFill>
                  <a:srgbClr val="0000ff"/>
                </a:solidFill>
                <a:latin typeface="Comic Sans MS"/>
              </a:rPr>
              <a:t>max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= Maximun value of </a:t>
            </a:r>
            <a:r>
              <a:rPr b="1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3962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8880" y="3581280"/>
            <a:ext cx="15264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30200" y="75960"/>
            <a:ext cx="4678200" cy="71892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  <a:effectLst>
            <a:outerShdw dist="101823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ff"/>
                </a:solidFill>
                <a:latin typeface="Comic Sans MS"/>
              </a:rPr>
              <a:t>Dalitz plot expan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081080" y="3287880"/>
            <a:ext cx="6603840" cy="1284120"/>
            <a:chOff x="1081080" y="3287880"/>
            <a:chExt cx="6603840" cy="1284120"/>
          </a:xfrm>
        </p:grpSpPr>
        <p:grpSp>
          <p:nvGrpSpPr>
            <p:cNvPr id="160" name=""/>
            <p:cNvGrpSpPr/>
            <p:nvPr/>
          </p:nvGrpSpPr>
          <p:grpSpPr>
            <a:xfrm>
              <a:off x="7075440" y="3587760"/>
              <a:ext cx="609480" cy="85680"/>
              <a:chOff x="7075440" y="3587760"/>
              <a:chExt cx="609480" cy="85680"/>
            </a:xfrm>
          </p:grpSpPr>
          <p:sp>
            <p:nvSpPr>
              <p:cNvPr id="161" name=""/>
              <p:cNvSpPr/>
              <p:nvPr/>
            </p:nvSpPr>
            <p:spPr>
              <a:xfrm>
                <a:off x="7075440" y="3632040"/>
                <a:ext cx="609480" cy="0"/>
              </a:xfrm>
              <a:prstGeom prst="line">
                <a:avLst/>
              </a:prstGeom>
              <a:ln w="9360">
                <a:solidFill>
                  <a:srgbClr val="041eff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37160" y="3587760"/>
                <a:ext cx="86040" cy="85680"/>
              </a:xfrm>
              <a:prstGeom prst="ellipse">
                <a:avLst/>
              </a:prstGeom>
              <a:solidFill>
                <a:srgbClr val="fffa16"/>
              </a:solidFill>
              <a:ln w="9360">
                <a:solidFill>
                  <a:srgbClr val="041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ヒラギノ角ゴ Pro W3"/>
                  </a:rPr>
                  <a:t>_x001a__x001a__x001a_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081080" y="3449520"/>
                  <a:ext cx="425592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π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</m:sub>
                              </m:sSub>
                            </m:den>
                          </m:f>
                        </m:e>
                      </m:nary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ρ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Sup>
                            <m:e>
                              <m:r>
                                <m:t xml:space="preserve">ρ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5792760" y="3751200"/>
              <a:ext cx="182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e60600"/>
                  </a:solidFill>
                  <a:latin typeface="Comic Sans MS"/>
                </a:rPr>
                <a:t>Z </a:t>
              </a:r>
              <a:r>
                <a:rPr b="0" lang="it-IT" sz="2000" spc="-1" strike="noStrike">
                  <a:solidFill>
                    <a:srgbClr val="e60600"/>
                  </a:solidFill>
                  <a:latin typeface="Symbol"/>
                  <a:ea typeface="Symbol"/>
                </a:rPr>
                <a:t></a:t>
              </a:r>
              <a:r>
                <a:rPr b="0" lang="it-IT" sz="2000" spc="-1" strike="noStrike">
                  <a:solidFill>
                    <a:srgbClr val="e60600"/>
                  </a:solidFill>
                  <a:latin typeface="Comic Sans MS"/>
                </a:rPr>
                <a:t> [ 0    ,    1 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6258600" y="3287880"/>
              <a:ext cx="634320" cy="456480"/>
              <a:chOff x="6258600" y="3287880"/>
              <a:chExt cx="634320" cy="45648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6258600" y="3287880"/>
                <a:ext cx="634320" cy="456480"/>
                <a:chOff x="6258600" y="3287880"/>
                <a:chExt cx="634320" cy="456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6573600" y="3633840"/>
                  <a:ext cx="319320" cy="110520"/>
                </a:xfrm>
                <a:prstGeom prst="line">
                  <a:avLst/>
                </a:prstGeom>
                <a:ln w="9360">
                  <a:solidFill>
                    <a:srgbClr val="041eff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6258600" y="3287880"/>
                  <a:ext cx="319320" cy="456480"/>
                  <a:chOff x="6258600" y="3287880"/>
                  <a:chExt cx="319320" cy="4564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>
                    <a:off x="6258600" y="3634560"/>
                    <a:ext cx="319320" cy="109800"/>
                  </a:xfrm>
                  <a:prstGeom prst="line">
                    <a:avLst/>
                  </a:prstGeom>
                  <a:ln w="9360">
                    <a:solidFill>
                      <a:srgbClr val="041eff"/>
                    </a:solidFill>
                    <a:miter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flipV="1">
                    <a:off x="6573600" y="3287880"/>
                    <a:ext cx="1080" cy="338040"/>
                  </a:xfrm>
                  <a:prstGeom prst="line">
                    <a:avLst/>
                  </a:prstGeom>
                  <a:ln w="9360">
                    <a:solidFill>
                      <a:srgbClr val="041eff"/>
                    </a:solidFill>
                    <a:miter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1" name=""/>
              <p:cNvSpPr/>
              <p:nvPr/>
            </p:nvSpPr>
            <p:spPr>
              <a:xfrm>
                <a:off x="6527880" y="3587400"/>
                <a:ext cx="85680" cy="85680"/>
              </a:xfrm>
              <a:prstGeom prst="ellipse">
                <a:avLst/>
              </a:prstGeom>
              <a:solidFill>
                <a:srgbClr val="fffa16"/>
              </a:solidFill>
              <a:ln w="9360">
                <a:solidFill>
                  <a:srgbClr val="041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1B619-12B9-4A99-A113-67E91623F0B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05120" y="1447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22440" y="1488960"/>
            <a:ext cx="451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12960" y="14889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2133720"/>
            <a:ext cx="837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6640" y="609480"/>
            <a:ext cx="183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219240" y="3733920"/>
            <a:ext cx="898236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Cutting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Minimum </a:t>
            </a:r>
            <a:r>
              <a:rPr b="0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</a:t>
            </a:r>
            <a:r>
              <a:rPr b="0" lang="it-IT" sz="2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Symbol"/>
                <a:ea typeface="Symbol"/>
              </a:rPr>
              <a:t></a:t>
            </a:r>
            <a:r>
              <a:rPr b="0" lang="it-IT" sz="2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between “best” and “second” comb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One can obtain samples with different purity-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00"/>
                </a:solidFill>
                <a:latin typeface="Comic Sans MS"/>
              </a:rPr>
              <a:t>Purity = Fraction of events with all photons correctly matched to </a:t>
            </a:r>
            <a:r>
              <a:rPr b="0" lang="it-IT" sz="2000" spc="-1" strike="noStrike">
                <a:solidFill>
                  <a:srgbClr val="009900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9900"/>
                </a:solidFill>
                <a:latin typeface="SymbolProp BT"/>
                <a:ea typeface="SymbolProp BT"/>
              </a:rPr>
              <a:t></a:t>
            </a:r>
            <a:r>
              <a:rPr b="0" lang="it-IT" sz="2000" spc="-1" strike="noStrike">
                <a:solidFill>
                  <a:srgbClr val="009900"/>
                </a:solidFill>
                <a:latin typeface="Comic Sans MS"/>
              </a:rPr>
              <a:t> ‘s</a:t>
            </a:r>
            <a:r>
              <a:rPr b="0" lang="it-IT" sz="2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3300"/>
                </a:solidFill>
                <a:uFillTx/>
                <a:latin typeface="Comic Sans MS"/>
              </a:rPr>
              <a:t>Best purity obtained is 98.5%</a:t>
            </a: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50760" y="5445000"/>
            <a:ext cx="19656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95440" y="1066680"/>
            <a:ext cx="4205160" cy="2641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30200" y="104760"/>
            <a:ext cx="4678200" cy="719280"/>
          </a:xfrm>
          <a:prstGeom prst="rect">
            <a:avLst/>
          </a:prstGeom>
          <a:solidFill>
            <a:srgbClr val="fcfc00"/>
          </a:solidFill>
          <a:ln w="28440">
            <a:solidFill>
              <a:srgbClr val="0000ff"/>
            </a:solidFill>
            <a:miter/>
          </a:ln>
          <a:effectLst>
            <a:outerShdw dist="101823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ff"/>
                </a:solidFill>
                <a:latin typeface="Comic Sans MS"/>
              </a:rPr>
              <a:t>Matching</a:t>
            </a:r>
            <a:r>
              <a:rPr b="1" lang="it-IT" sz="3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1" lang="it-IT" sz="3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3400" spc="-1" strike="noStrike">
                <a:solidFill>
                  <a:srgbClr val="0000ff"/>
                </a:solidFill>
                <a:latin typeface="Comic Sans MS"/>
              </a:rPr>
              <a:t>to</a:t>
            </a:r>
            <a:r>
              <a:rPr b="1" lang="it-IT" sz="3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3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1" lang="it-IT" sz="3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1" lang="it-IT" sz="3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3400" spc="-1" strike="noStrike">
                <a:solidFill>
                  <a:srgbClr val="0000ff"/>
                </a:solidFill>
                <a:latin typeface="Comic Sans MS"/>
              </a:rPr>
              <a:t>‘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30200" y="1160640"/>
            <a:ext cx="4218120" cy="2649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495680" y="1371600"/>
            <a:ext cx="42894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it-IT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</a:t>
            </a:r>
            <a:r>
              <a:rPr b="0" lang="it-IT" sz="22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</a:t>
            </a:r>
            <a:r>
              <a:rPr b="0" lang="it-IT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ff"/>
                </a:solidFill>
                <a:latin typeface="Comic Sans MS"/>
              </a:rPr>
              <a:t>like variable is built for each of the 15 combinations in order to find the correct matching of photons to</a:t>
            </a:r>
            <a:r>
              <a:rPr b="0" lang="it-IT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0" lang="it-IT" sz="22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0" lang="it-IT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ff"/>
                </a:solidFill>
                <a:latin typeface="Comic Sans MS"/>
              </a:rPr>
              <a:t>‘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7BFB-67BA-4FAB-AF1A-9A01FC5896A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rancesco Perfetto    LNF Spring School "Bruno Touschek"   May 20, 2005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7:16:26Z</dcterms:created>
  <dc:creator>pipo</dc:creator>
  <dc:description/>
  <dc:language>en-US</dc:language>
  <cp:lastModifiedBy>pipo</cp:lastModifiedBy>
  <cp:lastPrinted>2005-05-18T17:30:01Z</cp:lastPrinted>
  <dcterms:modified xsi:type="dcterms:W3CDTF">2005-05-20T12:16:48Z</dcterms:modified>
  <cp:revision>76</cp:revision>
  <dc:subject/>
  <dc:title>Presentazione di PowerPoint</dc:title>
</cp:coreProperties>
</file>