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_rels/notesSlide7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48.wmf" ContentType="image/x-wmf"/>
  <Override PartName="/ppt/media/image33.jpeg" ContentType="image/jpeg"/>
  <Override PartName="/ppt/media/image47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9.png" ContentType="image/png"/>
  <Override PartName="/ppt/media/image38.png" ContentType="image/png"/>
  <Override PartName="/ppt/media/image37.wmf" ContentType="image/x-wmf"/>
  <Override PartName="/ppt/media/image34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13.png" ContentType="image/png"/>
  <Override PartName="/ppt/media/image41.png" ContentType="image/png"/>
  <Override PartName="/ppt/media/image3.jpeg" ContentType="image/jpeg"/>
  <Override PartName="/ppt/media/image9.wmf" ContentType="image/x-wmf"/>
  <Override PartName="/ppt/media/image14.png" ContentType="image/png"/>
  <Override PartName="/ppt/media/image49.png" ContentType="image/png"/>
  <Override PartName="/ppt/media/image71.wmf" ContentType="image/x-wmf"/>
  <Override PartName="/ppt/media/image12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30.wmf" ContentType="image/x-wmf"/>
  <Override PartName="/ppt/media/image73.png" ContentType="image/png"/>
  <Override PartName="/ppt/media/image27.png" ContentType="image/png"/>
  <Override PartName="/ppt/media/image92.png" ContentType="image/png"/>
  <Override PartName="/ppt/media/image69.png" ContentType="image/png"/>
  <Override PartName="/ppt/media/image70.png" ContentType="image/png"/>
  <Override PartName="/ppt/media/image72.png" ContentType="image/png"/>
  <Override PartName="/ppt/media/image74.png" ContentType="image/png"/>
  <Override PartName="/ppt/media/image75.png" ContentType="image/png"/>
  <Override PartName="/ppt/media/image67.png" ContentType="image/png"/>
  <Override PartName="/ppt/media/image24.wmf" ContentType="image/x-wmf"/>
  <Override PartName="/ppt/media/image76.png" ContentType="image/png"/>
  <Override PartName="/ppt/media/image77.png" ContentType="image/png"/>
  <Override PartName="/ppt/media/image4.jpeg" ContentType="image/jpeg"/>
  <Override PartName="/ppt/media/image8.wmf" ContentType="image/x-wmf"/>
  <Override PartName="/ppt/media/image40.png" ContentType="image/png"/>
  <Override PartName="/ppt/media/image99.png" ContentType="image/png"/>
  <Override PartName="/ppt/media/image62.png" ContentType="image/png"/>
  <Override PartName="/ppt/media/image51.jpeg" ContentType="image/jpeg"/>
  <Override PartName="/ppt/media/image87.png" ContentType="image/png"/>
  <Override PartName="/ppt/media/image98.png" ContentType="image/png"/>
  <Override PartName="/ppt/media/image61.png" ContentType="image/png"/>
  <Override PartName="/ppt/media/image86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96.png" ContentType="image/png"/>
  <Override PartName="/ppt/media/image63.png" ContentType="image/png"/>
  <Override PartName="/ppt/media/image20.wmf" ContentType="image/x-wmf"/>
  <Override PartName="/ppt/media/image95.png" ContentType="image/png"/>
  <Override PartName="/ppt/media/image79.png" ContentType="image/png"/>
  <Override PartName="/ppt/media/image89.png" ContentType="image/png"/>
  <Override PartName="/ppt/media/image90.png" ContentType="image/png"/>
  <Override PartName="/ppt/media/image88.png" ContentType="image/png"/>
  <Override PartName="/ppt/media/image78.png" ContentType="image/png"/>
  <Override PartName="/ppt/media/image23.wmf" ContentType="image/x-wmf"/>
  <Override PartName="/ppt/media/image66.png" ContentType="image/png"/>
  <Override PartName="/ppt/media/image22.wmf" ContentType="image/x-wmf"/>
  <Override PartName="/ppt/media/image65.png" ContentType="image/png"/>
  <Override PartName="/ppt/media/image21.wmf" ContentType="image/x-wmf"/>
  <Override PartName="/ppt/media/image64.png" ContentType="image/png"/>
  <Override PartName="/ppt/media/image91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81.png" ContentType="image/png"/>
  <Override PartName="/ppt/media/image28.png" ContentType="image/png"/>
  <Override PartName="/ppt/media/image93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wmf" ContentType="image/x-wmf"/>
  <Override PartName="/ppt/media/image68.png" ContentType="image/png"/>
  <Override PartName="/ppt/media/image57.png" ContentType="image/png"/>
  <Override PartName="/ppt/media/image80.png" ContentType="image/png"/>
  <Override PartName="/ppt/media/image15.png" ContentType="image/png"/>
  <Override PartName="/ppt/media/image29.png" ContentType="image/png"/>
  <Override PartName="/ppt/media/image9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0144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FC19-6637-4E62-B795-5FDF21513F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15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ize of the bhabha stremaing has been drastically 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rg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acquire 20Hz wof…syncronized…pulse rndm t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17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orde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19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mazing work has been done on 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21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arity test of CKM matrix –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ost precise Test of unitarity possible at present comes from 1</a:t>
            </a:r>
            <a:r>
              <a:rPr b="0" lang="it-IT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n test if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0 at few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3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DG02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0.0042 ±0.001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ud from Fermi super-allowed beta decays (che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us from: Tau decay form factors, Hyperon and kaon Semileptonic dec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423" name="PlaceHolder 2"/>
          <p:cNvSpPr>
            <a:spLocks noGrp="1"/>
          </p:cNvSpPr>
          <p:nvPr>
            <p:ph type="body"/>
          </p:nvPr>
        </p:nvSpPr>
        <p:spPr>
          <a:xfrm>
            <a:off x="909720" y="4708440"/>
            <a:ext cx="4927680" cy="44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ignal selection: 6 prompt clusters, test of energy-momentum conservation, test of 2pi vs 3 pi hypoth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rmalize to Ks-&gt;pi0pi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425" name="PlaceHolder 2"/>
          <p:cNvSpPr>
            <a:spLocks noGrp="1"/>
          </p:cNvSpPr>
          <p:nvPr>
            <p:ph type="body"/>
          </p:nvPr>
        </p:nvSpPr>
        <p:spPr>
          <a:xfrm>
            <a:off x="909720" y="4708440"/>
            <a:ext cx="4927680" cy="44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pi rejection: Invariant mass, Signal TOF selection, Kinematic clos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sldImg"/>
          </p:nvPr>
        </p:nvSpPr>
        <p:spPr>
          <a:xfrm>
            <a:off x="895320" y="7588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3427" name="PlaceHolder 2"/>
          <p:cNvSpPr>
            <a:spLocks noGrp="1"/>
          </p:cNvSpPr>
          <p:nvPr>
            <p:ph type="body"/>
          </p:nvPr>
        </p:nvSpPr>
        <p:spPr>
          <a:xfrm>
            <a:off x="909360" y="4708440"/>
            <a:ext cx="4925880" cy="44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fb-1 will al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s to 1%, Sensitivity to BR(3pi0) at 10-8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R(Ks gg) at xx%, BR(Ks pi+pi-pi0) at 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R(Ks pp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ldImg"/>
          </p:nvPr>
        </p:nvSpPr>
        <p:spPr>
          <a:xfrm>
            <a:off x="895320" y="7588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3429" name="PlaceHolder 2"/>
          <p:cNvSpPr>
            <a:spLocks noGrp="1"/>
          </p:cNvSpPr>
          <p:nvPr>
            <p:ph type="body"/>
          </p:nvPr>
        </p:nvSpPr>
        <p:spPr>
          <a:xfrm>
            <a:off x="909360" y="4708440"/>
            <a:ext cx="4925880" cy="44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fb-1 will al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s to 1%, Sensitivity to BR(3pi0) at 10-8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R(Ks gg) at xx%, BR(Ks pi+pi-pi0) at 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R(Ks pp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431" name="PlaceHolder 2"/>
          <p:cNvSpPr>
            <a:spLocks noGrp="1"/>
          </p:cNvSpPr>
          <p:nvPr>
            <p:ph type="body"/>
          </p:nvPr>
        </p:nvSpPr>
        <p:spPr>
          <a:xfrm>
            <a:off x="909720" y="4708440"/>
            <a:ext cx="4927680" cy="44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st measurement from BNL combining m+ and m- reaches 10-10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M prediction: Leptonic loops calculated, quark loops cannot be obtained from pert-Q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ut Im(g*-&gt; h+h- -&gt;g* loop) related to sigma(g*-&gt;h+h-)  (soften th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r am(had) calculation, sigma(Pipi, sqrt(s)&lt;1GeV) is the dominating contribution (6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433" name="PlaceHolder 2"/>
          <p:cNvSpPr>
            <a:spLocks noGrp="1"/>
          </p:cNvSpPr>
          <p:nvPr>
            <p:ph type="body"/>
          </p:nvPr>
        </p:nvSpPr>
        <p:spPr>
          <a:xfrm>
            <a:off x="909720" y="4708440"/>
            <a:ext cx="4927680" cy="44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ay: disagreement at 2-sigm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r am calculation, Pipi transition is the dominating contribution (6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HECK tau data: what kind of extraction, what is really ex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435" name="PlaceHolder 2"/>
          <p:cNvSpPr>
            <a:spLocks noGrp="1"/>
          </p:cNvSpPr>
          <p:nvPr>
            <p:ph type="body"/>
          </p:nvPr>
        </p:nvSpPr>
        <p:spPr>
          <a:xfrm>
            <a:off x="909720" y="4708440"/>
            <a:ext cx="4927680" cy="44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!!!!FF’s comparison instead of this plot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rro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ystematic error: vertex (stream without vtx, 2002 data ..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ILFO(bkg: 0.6%, better in 2002: L3,+stable bkg condi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uminosity: Bhabhayaga (0.5% accuracy from authors used, results checked with gg delta=0.2%,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heck wrt other generators, always in agreement at 0.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2002, one can measure sigma(mumu) and check theory assumptions in gen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adiator function: 0.5% from authors. If they calculate at next 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SR: point pion for QED emission only. Asymmetry at large angles study could be translated into a statement on the accuracy of the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rospects for measurement of the region close to threshold, around 20% of the pipi contribution to am, poorly 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rmalize to mumugamma and check ISR,FSR calculated from scalar QED (Kuh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sldImg"/>
          </p:nvPr>
        </p:nvSpPr>
        <p:spPr>
          <a:xfrm>
            <a:off x="893880" y="7556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37" name="PlaceHolder 2"/>
          <p:cNvSpPr>
            <a:spLocks noGrp="1"/>
          </p:cNvSpPr>
          <p:nvPr>
            <p:ph type="body"/>
          </p:nvPr>
        </p:nvSpPr>
        <p:spPr>
          <a:xfrm>
            <a:off x="907560" y="4708080"/>
            <a:ext cx="4929480" cy="93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600" bIns="4860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ve to measure absolute branching rat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long vertex in a chosen fiducia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ference between tag identification and KL decay (Tag bi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PlaceHolder 1"/>
          <p:cNvSpPr>
            <a:spLocks noGrp="1"/>
          </p:cNvSpPr>
          <p:nvPr>
            <p:ph type="sldImg"/>
          </p:nvPr>
        </p:nvSpPr>
        <p:spPr>
          <a:xfrm>
            <a:off x="893880" y="7556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39" name="PlaceHolder 2"/>
          <p:cNvSpPr>
            <a:spLocks noGrp="1"/>
          </p:cNvSpPr>
          <p:nvPr>
            <p:ph type="body"/>
          </p:nvPr>
        </p:nvSpPr>
        <p:spPr>
          <a:xfrm>
            <a:off x="907560" y="4708080"/>
            <a:ext cx="4929480" cy="93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600" bIns="4860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ve to measure absolute branching rat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long vertex in a chosen fiducia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ference between tag identification and KL decay (Tag bi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sldImg"/>
          </p:nvPr>
        </p:nvSpPr>
        <p:spPr>
          <a:xfrm>
            <a:off x="893880" y="7556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41" name="PlaceHolder 2"/>
          <p:cNvSpPr>
            <a:spLocks noGrp="1"/>
          </p:cNvSpPr>
          <p:nvPr>
            <p:ph type="body"/>
          </p:nvPr>
        </p:nvSpPr>
        <p:spPr>
          <a:xfrm>
            <a:off x="907560" y="4708080"/>
            <a:ext cx="4929480" cy="93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600" bIns="4860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ve to measure absolute branching rat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long vertex in a chosen fiducia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ference between tag identification and KL decay (Tag bi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744-D42B-4BF9-9FC9-E7416CFD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999-EBDD-4E9D-85D4-E817AA2A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DD3-E46D-487C-AED2-15221089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E4E-731B-4296-91F2-EB03B319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66F7-60D1-48FA-A373-CE88D392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6675-C5C4-439F-BA57-A748FAF2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F870-C1B2-4442-B5AB-F1526F6B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2A65-7DA0-44AF-A9A3-2D2325AC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96B3-65FF-4C56-940B-F2064F5E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93D7-64BE-42DF-B6E5-2D3DF6FE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748E-5875-4C72-BA32-58D1144A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A60-71D2-43AA-B030-195824AC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57C8-765B-44A3-B516-14DCEC00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3ADB-0C17-457A-A77B-B5DDE8A8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DFD7-EDD6-4431-BC34-0DCA0885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9FBD-AC22-4F3E-A96A-C870846D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D10D-4F57-4F6E-AC51-9A3E19A0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FEE7-DEED-42EC-95FD-184BF47B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ABA-B613-4240-803F-551F6103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1CF-E00A-4A3E-85FB-EF2A8F69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FB2-EEA2-472C-A118-6186A1BC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236-3A20-46C3-B66C-56F0BE16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B38-492F-4B56-BDB8-B11BF7D4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98A-0E76-417D-A69D-4161A8CF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i 20-9-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626920" y="6400800"/>
            <a:ext cx="446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99"/>
                </a:solidFill>
                <a:latin typeface="Arial"/>
              </a:rPr>
              <a:t>CSN1   KLOE status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.Misce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9EEB-CB44-4EDD-97FA-0F4D9F08EC43}" type="slidenum">
              <a:rPr b="0" lang="en-US" sz="18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52280" y="6324480"/>
            <a:ext cx="8229600" cy="75960"/>
            <a:chOff x="152280" y="6324480"/>
            <a:chExt cx="8229600" cy="75960"/>
          </a:xfrm>
        </p:grpSpPr>
        <p:sp>
          <p:nvSpPr>
            <p:cNvPr id="5" name=""/>
            <p:cNvSpPr/>
            <p:nvPr/>
          </p:nvSpPr>
          <p:spPr>
            <a:xfrm>
              <a:off x="304920" y="6400440"/>
              <a:ext cx="80769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2280" y="6324480"/>
              <a:ext cx="8077320" cy="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101080" y="28440"/>
            <a:ext cx="1004760" cy="595440"/>
          </a:xfrm>
          <a:prstGeom prst="rect">
            <a:avLst/>
          </a:prstGeom>
          <a:ln w="0">
            <a:noFill/>
          </a:ln>
        </p:spPr>
      </p:pic>
      <p:grpSp>
        <p:nvGrpSpPr>
          <p:cNvPr id="8" name=""/>
          <p:cNvGrpSpPr/>
          <p:nvPr/>
        </p:nvGrpSpPr>
        <p:grpSpPr>
          <a:xfrm>
            <a:off x="152280" y="620640"/>
            <a:ext cx="8229600" cy="75960"/>
            <a:chOff x="152280" y="620640"/>
            <a:chExt cx="8229600" cy="75960"/>
          </a:xfrm>
        </p:grpSpPr>
        <p:sp>
          <p:nvSpPr>
            <p:cNvPr id="9" name=""/>
            <p:cNvSpPr/>
            <p:nvPr/>
          </p:nvSpPr>
          <p:spPr>
            <a:xfrm>
              <a:off x="304920" y="696600"/>
              <a:ext cx="80769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52280" y="620640"/>
              <a:ext cx="8077320" cy="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0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Assisi 20-9-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CSN1   S.Misc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4449-229B-4A56-B74E-76D45175E963}" type="slidenum">
              <a:rPr b="0" lang="en-US" sz="20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70.png"/><Relationship Id="rId13" Type="http://schemas.openxmlformats.org/officeDocument/2006/relationships/image" Target="../media/image71.wmf"/><Relationship Id="rId1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2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4.png"/><Relationship Id="rId7" Type="http://schemas.openxmlformats.org/officeDocument/2006/relationships/image" Target="../media/image74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2.pn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2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267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Data taking, reconstruction and analysis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@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KLOE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in 2004</a:t>
            </a:r>
            <a:endParaRPr b="0" lang="en-US" sz="40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19280" y="458100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99"/>
                </a:solidFill>
                <a:latin typeface="Arial"/>
              </a:rPr>
              <a:t>S.Miscetti, LNF IN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r the KLOE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5960" y="42670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5661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SN1 – Grand Hotel Ass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0-September 2004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419360" cy="2933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70571" r="0" b="0"/>
          <a:stretch/>
        </p:blipFill>
        <p:spPr>
          <a:xfrm>
            <a:off x="4933800" y="1773360"/>
            <a:ext cx="41022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2280" y="-273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0099"/>
                </a:solidFill>
                <a:latin typeface="Arial"/>
              </a:rPr>
              <a:t>Calorimeter 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3200400"/>
            <a:ext cx="8077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5160" y="674640"/>
            <a:ext cx="717588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calorimeter is working nic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dead channels (1 P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2 Adc, Tdc channel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HV probl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ion are onl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by RunContr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t the end of 2002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ailure rate of few 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 fix the r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REC slave of EM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ion proced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0" r="0" b="9907"/>
          <a:stretch/>
        </p:blipFill>
        <p:spPr>
          <a:xfrm>
            <a:off x="4587840" y="1171440"/>
            <a:ext cx="3656160" cy="499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41A-3B6F-491C-B818-E8A7F69204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0000" y="-27360"/>
            <a:ext cx="69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Arial"/>
              </a:rPr>
              <a:t>EMC calibration: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6348" r="6348" b="2539"/>
          <a:stretch/>
        </p:blipFill>
        <p:spPr>
          <a:xfrm>
            <a:off x="3238560" y="809640"/>
            <a:ext cx="5726160" cy="5572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211640" y="5775480"/>
            <a:ext cx="20160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5791320"/>
            <a:ext cx="15843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10160" y="811080"/>
            <a:ext cx="12412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 Ca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284360" y="1268280"/>
            <a:ext cx="1873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1268280"/>
            <a:ext cx="7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1268280"/>
            <a:ext cx="18018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200" y="849240"/>
            <a:ext cx="2971800" cy="60530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solution for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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d energy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atio betwee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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tion similar to 2002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apB suffers of noi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which enlar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res of 4-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 calibration equaliz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along  longit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L increases further     longitudinal equalization can be performed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e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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1268280"/>
            <a:ext cx="11509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B8A-67C5-4BD7-B515-AAC537B54E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0" t="0" r="6348" b="10157"/>
          <a:stretch/>
        </p:blipFill>
        <p:spPr>
          <a:xfrm>
            <a:off x="3708360" y="776160"/>
            <a:ext cx="5392800" cy="5173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0000" y="-27360"/>
            <a:ext cx="69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Arial"/>
              </a:rPr>
              <a:t>EMC calibration:  Ti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5805360"/>
            <a:ext cx="20160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20000" y="5805360"/>
            <a:ext cx="15843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3680" y="907920"/>
            <a:ext cx="354708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iming resolution moni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nline by gauss fitting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-R/C distribution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e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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v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ming of  the tw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the resol. stoch.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stant term of 140 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ue to res.miscali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70), beam long spre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70) + RF phasing with T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4 we changed bo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-Flop effect observed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ent back  to the o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M logic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 is better tha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D42-6708-44E8-9F4B-569638EC4E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0000" y="-60480"/>
            <a:ext cx="69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Arial"/>
              </a:rPr>
              <a:t>DCH status and calib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8640" y="712800"/>
            <a:ext cx="858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ardware status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ew dead-noisy channels, hardware eff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nline monitoring procedure for calibration of s-t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DCHTEST)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rec.speed x 2 by moving to faster CPU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controlled by R_C via submitted job in batch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results of test on residual in few minutes after the end of the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ry stable system. 4 months of running no need of new s-t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09A-8145-420E-9CCD-2571B4DB83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7360" y="981000"/>
            <a:ext cx="899172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FO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t used to reject bhabha fragments removed!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efficiency lowered from 5 % to below 1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ownscaled rejected sample added to measure  efficiency  on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cations to physics strea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only subset of Bhabha’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duces Bhabha stream volume by 4, overall volume by 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eam: new tag us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liminate older tags, will reduce stream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ags created to search for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are (using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vertex in FV ) and for the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neutral sing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trigger as source of background for MC 2004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Hz of random triggers synchronized with b.c as for the normal 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2200" y="-14400"/>
            <a:ext cx="58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Offline status and stre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371-EB01-4255-BD68-DFF6BF4870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08000" y="3860640"/>
          <a:ext cx="350028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860640"/>
                    <a:ext cx="35002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838080" y="44280"/>
            <a:ext cx="745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CPU power requirements for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165560" y="861840"/>
          <a:ext cx="4799160" cy="487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5560" y="861840"/>
                    <a:ext cx="4799160" cy="48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4920" y="836640"/>
          <a:ext cx="3281400" cy="25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836640"/>
                    <a:ext cx="328140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048320" y="9144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rate (K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57320" y="4114800"/>
            <a:ext cx="24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91440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8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’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eded to follow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927680" y="1724040"/>
          <a:ext cx="1015920" cy="1552680"/>
        </p:xfrm>
        <a:graphic>
          <a:graphicData uri="http://schemas.openxmlformats.org/drawingml/2006/table">
            <a:tbl>
              <a:tblPr/>
              <a:tblGrid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4570560" y="55897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10 CPU’s inst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3240" y="3119400"/>
            <a:ext cx="381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ame level of background of 20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was assumed for 2004 esti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CONFIRMED with Data T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360" y="1700280"/>
            <a:ext cx="3024000" cy="0"/>
          </a:xfrm>
          <a:prstGeom prst="line">
            <a:avLst/>
          </a:prstGeom>
          <a:ln w="3816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4653000"/>
            <a:ext cx="3024360" cy="0"/>
          </a:xfrm>
          <a:prstGeom prst="line">
            <a:avLst/>
          </a:prstGeom>
          <a:ln w="3816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2050200">
            <a:off x="3083040" y="969480"/>
            <a:ext cx="1225440" cy="580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pdated 11-09-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B22-6E65-4DF7-B0E8-0D2F07AE2A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494240" y="1052640"/>
          <a:ext cx="44704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4240" y="1052640"/>
                    <a:ext cx="44704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28600" y="1125360"/>
          <a:ext cx="3675240" cy="24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125360"/>
                    <a:ext cx="367524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28600" y="3429000"/>
          <a:ext cx="3687840" cy="24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429000"/>
                    <a:ext cx="368784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64760" y="83664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d vol. by type (GB/p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56720" y="14479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3573360"/>
            <a:ext cx="3456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4 e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ONFIRMED WITH DATA T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25560" y="160812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1432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66720" y="2779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47560" y="268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2480" y="4786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19000" y="490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76080" y="5073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4680" y="4994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93000" y="57340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56360" y="5734080"/>
            <a:ext cx="70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7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48440" y="573408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12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86600" y="573408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97280" y="692280"/>
            <a:ext cx="30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pe library usage 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5294880" y="37684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393880" y="1571760"/>
            <a:ext cx="1083240" cy="1476360"/>
            <a:chOff x="5393880" y="1571760"/>
            <a:chExt cx="1083240" cy="1476360"/>
          </a:xfrm>
        </p:grpSpPr>
        <p:sp>
          <p:nvSpPr>
            <p:cNvPr id="228" name=""/>
            <p:cNvSpPr/>
            <p:nvPr/>
          </p:nvSpPr>
          <p:spPr>
            <a:xfrm flipH="1">
              <a:off x="5393520" y="2711520"/>
              <a:ext cx="739800" cy="336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394240" y="2333520"/>
              <a:ext cx="736560" cy="336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415840" y="1940040"/>
              <a:ext cx="739800" cy="336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5393520" y="1571760"/>
              <a:ext cx="739800" cy="336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202440" y="2710800"/>
              <a:ext cx="274680" cy="336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202440" y="2332800"/>
              <a:ext cx="274680" cy="336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202440" y="1951920"/>
              <a:ext cx="274680" cy="336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202440" y="1571760"/>
              <a:ext cx="274680" cy="336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238720" y="342900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69040" y="981000"/>
            <a:ext cx="37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2  TB available on J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1240" y="5805360"/>
            <a:ext cx="388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Overall it adds  330 TB @ 2 fb</a:t>
            </a:r>
            <a:r>
              <a:rPr b="1" i="1" lang="en-US" sz="2000" spc="-1" strike="noStrike" baseline="30000">
                <a:solidFill>
                  <a:srgbClr val="3333cc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0"/>
            <a:ext cx="760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Tape storage requirements for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352-99F5-4652-90CA-656DB356DD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5760" y="836640"/>
            <a:ext cx="87732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2000"/>
                <a:tab algn="l" pos="324000"/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ditional IBM 3494 tap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6 Magstar 3592 drives: 300 GB/cartridge, 40 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itially 1000 cartridges (300 TB),  slots up to 3600 cartridges (1080 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8720" y="2060640"/>
            <a:ext cx="887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id started Nov 2003. Completed &amp; approved by INFN C.D. on April 30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ract ready at the end of Jul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0105400">
            <a:off x="249480" y="3860280"/>
            <a:ext cx="32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The fighting against bc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llowed us to fit with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ata flow 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89000" y="2781360"/>
            <a:ext cx="47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Arial"/>
              </a:rPr>
              <a:t>Expected to be @ LNF 27-09-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774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Status of Tape storage 2004 up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249800" y="3129120"/>
          <a:ext cx="4859280" cy="31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9800" y="3129120"/>
                    <a:ext cx="485928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129-614C-4B9A-9253-FEB83EBC37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0"/>
            <a:ext cx="7013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Monte Carlo production campa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081080"/>
            <a:ext cx="853416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s comparable in statistics to 450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un in data set individually sim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47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ackground, dead wires, trigger threshold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series of upgrades to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47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e of new generators introduced, particular emphasis on radiative corre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47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ry carefully revised and response simulation tuned for both EmC and DC (EMC response t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uning of Gheisha nucl. i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sion of accidental activity from machine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47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ed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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ts in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47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ed run-by-run to match the actual background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 DST’s to provide convenient user inte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572000">
            <a:off x="7222320" y="900000"/>
            <a:ext cx="18068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N1 J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2FD-2F4D-4587-AB58-550A6381F5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914400" y="692280"/>
          <a:ext cx="7257960" cy="5386320"/>
        </p:xfrm>
        <a:graphic>
          <a:graphicData uri="http://schemas.openxmlformats.org/drawingml/2006/table">
            <a:tbl>
              <a:tblPr/>
              <a:tblGrid>
                <a:gridCol w="2427120"/>
                <a:gridCol w="2818080"/>
                <a:gridCol w="2012760"/>
              </a:tblGrid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iv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s (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2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410+20 pb</a:t>
                      </a:r>
                      <a:r>
                        <a:rPr b="1" lang="en-US" sz="1800" spc="-1" strike="noStrike" baseline="30000">
                          <a:solidFill>
                            <a:srgbClr val="808080"/>
                          </a:solidFill>
                          <a:latin typeface="Times New Roman"/>
                        </a:rPr>
                        <a:t>-1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at 1:5 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(equiv.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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=620 n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23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2000" spc="-1" strike="noStrike" baseline="30000">
                          <a:solidFill>
                            <a:srgbClr val="0066ff"/>
                          </a:solidFill>
                          <a:latin typeface="Times New Roman"/>
                        </a:rPr>
                        <a:t>+</a:t>
                      </a:r>
                      <a:r>
                        <a:rPr b="1" i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2000" spc="-1" strike="noStrike" baseline="30000">
                          <a:solidFill>
                            <a:srgbClr val="0066ff"/>
                          </a:solidFill>
                          <a:latin typeface="Times New Roman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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140 pb</a:t>
                      </a:r>
                      <a:r>
                        <a:rPr b="1" lang="en-US" sz="1800" spc="-1" strike="noStrike" baseline="30000">
                          <a:solidFill>
                            <a:srgbClr val="808080"/>
                          </a:solidFill>
                          <a:latin typeface="Times New Roman"/>
                        </a:rPr>
                        <a:t>-1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at 6:1 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(equiv.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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= 300 n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2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0066ff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0066ff"/>
                          </a:solidFill>
                          <a:latin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410 pb</a:t>
                      </a:r>
                      <a:r>
                        <a:rPr b="1" lang="en-US" sz="1800" spc="-1" strike="noStrike" baseline="30000">
                          <a:solidFill>
                            <a:srgbClr val="808080"/>
                          </a:solidFill>
                          <a:latin typeface="Times New Roman"/>
                        </a:rPr>
                        <a:t>-1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at 1:1 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(equiv.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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= 1050 n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2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radi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410 pb</a:t>
                      </a:r>
                      <a:r>
                        <a:rPr b="1" lang="en-US" sz="1800" spc="-1" strike="noStrike" baseline="30000">
                          <a:solidFill>
                            <a:srgbClr val="808080"/>
                          </a:solidFill>
                          <a:latin typeface="Times New Roman"/>
                        </a:rPr>
                        <a:t>-1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at 5:1 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(equiv.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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= 280 n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23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Radiative Bhab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410 pb</a:t>
                      </a:r>
                      <a:r>
                        <a:rPr b="1" lang="en-US" sz="1800" spc="-1" strike="noStrike" baseline="30000">
                          <a:solidFill>
                            <a:srgbClr val="808080"/>
                          </a:solidFill>
                          <a:latin typeface="Times New Roman"/>
                        </a:rPr>
                        <a:t>-1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at 1:7 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(equiv.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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= 90 n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2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30000">
                          <a:solidFill>
                            <a:srgbClr val="ff3300"/>
                          </a:solidFill>
                          <a:latin typeface="Times New Roman"/>
                        </a:rPr>
                        <a:t> + </a:t>
                      </a: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K </a:t>
                      </a:r>
                      <a:r>
                        <a:rPr b="1" i="1" lang="en-US" sz="2000" spc="-1" strike="noStrike" baseline="30000">
                          <a:solidFill>
                            <a:srgbClr val="ff33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10 pb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At 1:1 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equiv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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= 1500 n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6479280" y="59436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550 M ev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27640" y="5877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0"/>
            <a:ext cx="78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MC production completed  (Sep 0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D25-3AD2-407F-B72C-F0EAA8B126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19720" y="765000"/>
            <a:ext cx="4689360" cy="54183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52280" y="6324480"/>
            <a:ext cx="8229600" cy="75960"/>
            <a:chOff x="152280" y="6324480"/>
            <a:chExt cx="8229600" cy="75960"/>
          </a:xfrm>
        </p:grpSpPr>
        <p:sp>
          <p:nvSpPr>
            <p:cNvPr id="104" name=""/>
            <p:cNvSpPr/>
            <p:nvPr/>
          </p:nvSpPr>
          <p:spPr>
            <a:xfrm>
              <a:off x="304920" y="6400440"/>
              <a:ext cx="80769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" y="6324480"/>
              <a:ext cx="8077320" cy="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" descr="file:///C:/Documents%20and%20Settings/mario%20antonelli/Desktop/300pbhr.jpg"/>
          <p:cNvPicPr/>
          <p:nvPr/>
        </p:nvPicPr>
        <p:blipFill>
          <a:blip r:embed="rId2"/>
          <a:srcRect l="9214" t="13167" r="7938" b="0"/>
          <a:stretch/>
        </p:blipFill>
        <p:spPr>
          <a:xfrm>
            <a:off x="152280" y="919080"/>
            <a:ext cx="4191120" cy="2890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7" name=""/>
          <p:cNvSpPr/>
          <p:nvPr/>
        </p:nvSpPr>
        <p:spPr>
          <a:xfrm>
            <a:off x="507960" y="-27000"/>
            <a:ext cx="68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KLOE Luminosity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76212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4080" y="4570560"/>
            <a:ext cx="419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 we are steadly runn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nd the luminosity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bing up ag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924360" y="4797000"/>
            <a:ext cx="449568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924360" y="4365720"/>
            <a:ext cx="3276720" cy="838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076640"/>
            <a:ext cx="4427640" cy="2160720"/>
          </a:xfrm>
          <a:prstGeom prst="ellipse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2A9-0FCF-45D2-AECF-1F914EC7E9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79280" y="836640"/>
            <a:ext cx="871380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JULY &amp; AUGUST: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KPM04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production: 2001/02, scale 1:1, 450 pb</a:t>
            </a:r>
            <a:r>
              <a:rPr b="1" lang="en-GB" sz="2000" spc="-1" strike="noStrike" baseline="30000">
                <a:solidFill>
                  <a:srgbClr val="3333cc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409 pb</a:t>
            </a:r>
            <a:r>
              <a:rPr b="0" lang="en-GB" sz="24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mco, mcr, dst)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(624 Mevs)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ne in 3-4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tarting from end of july  by using all CPU power avail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8 p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simulated (mainly due to missing BMOM,BP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3 p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construction not completed  ( … missing DST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NEEDED to complete BR measure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September: KLS dst production from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KPM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tudy charged kaons contamination in neutral stream,  the production of KLS DST’s from KPM04 is in progr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tion rat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 p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y with 30 slots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B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tion will be completed end of Sept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Plans to complete generation for 2001-2002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dicated MC generation is planned to create a large sample of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are Ks,Kl decay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follow closely the data-taking conditions.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NEEDED for last refinements of Ks semileptonic &amp; Ks3pi0 pa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36360" y="44280"/>
            <a:ext cx="7848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SUMMER” MC production &amp;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28C-6243-42CF-9B0C-8DB9D5BE82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765000"/>
            <a:ext cx="8820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atarec stat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dated 11-9-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247 pb</a:t>
            </a:r>
            <a:r>
              <a:rPr b="0" lang="en-GB" sz="2400" spc="-1" strike="noStrike" baseline="30000">
                <a:solidFill>
                  <a:srgbClr val="ff3300"/>
                </a:solidFill>
                <a:latin typeface="Arial"/>
              </a:rPr>
              <a:t>-1</a:t>
            </a:r>
            <a:r>
              <a:rPr b="0" lang="en-GB" sz="2000" spc="-1" strike="noStrike" baseline="30000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of data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9/4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/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95%  of delivered  luminosity  reconstruc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inly due to missing calibration, and  DAQ bad run fl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keep up with data t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180 pb</a:t>
            </a:r>
            <a:r>
              <a:rPr b="0" lang="en-GB" sz="2400" spc="-1" strike="noStrike" baseline="30000">
                <a:solidFill>
                  <a:srgbClr val="ff3300"/>
                </a:solidFill>
                <a:latin typeface="Arial"/>
              </a:rPr>
              <a:t>-1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of D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ave also been produced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920" y="3340080"/>
            <a:ext cx="898056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C adjustements for analysis of 2004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inor modification 1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 the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new interaction region in GEANF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Standalone version already exists and is under tes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inor modification 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lete machinery for inserting the machine background events produced with the random trig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4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36360" y="44280"/>
            <a:ext cx="7848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DATAREC &amp; MC status &amp;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BE6-2950-4E9C-ACDE-D0A52F6AEC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840" y="863640"/>
            <a:ext cx="77824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 PLB accepted in 2004 + 5 in wri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 papers written for Ichep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 presentations done  @ Ichep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two citations in John Ellis summary talk (see next slid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gma(hadrons) accepted by P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lot of new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almost fina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results for ka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f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&gt; 50x2 citations in Sp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lot of eta, eta’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it is getting momentum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-36360" y="44280"/>
            <a:ext cx="7848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KLOE physics output .. how is it go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0E8-E446-4DC1-881D-29E88AE616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60200" y="2004840"/>
            <a:ext cx="3980160" cy="32958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140360" y="1989000"/>
            <a:ext cx="3965400" cy="3291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655280" y="762120"/>
            <a:ext cx="4818600" cy="718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l-GR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2: 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ata vs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43280" y="5300640"/>
            <a:ext cx="30542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LOE agrees with CMD-2: discard 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τ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10280" y="1484280"/>
            <a:ext cx="499824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st contributions, errors from low ener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160" y="30240"/>
            <a:ext cx="77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d60093"/>
                </a:solidFill>
                <a:latin typeface="Arial"/>
              </a:rPr>
              <a:t>From John Ellis’ summary talk @ Ichep04</a:t>
            </a:r>
            <a:r>
              <a:rPr b="0" lang="it-IT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AB7-36EE-49E6-8EAE-B6261628D8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rcRect l="0" t="5440" r="0" b="0"/>
          <a:stretch/>
        </p:blipFill>
        <p:spPr>
          <a:xfrm>
            <a:off x="2195640" y="907920"/>
            <a:ext cx="4502160" cy="43974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233440" y="5445000"/>
            <a:ext cx="493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KM unitarity ‘crisis’ has disappe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985680" y="2852640"/>
            <a:ext cx="1407600" cy="4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Comic Sans MS"/>
              </a:rPr>
              <a:t>us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x f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23960" y="4221000"/>
            <a:ext cx="11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SzPct val="13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DG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1160" y="30240"/>
            <a:ext cx="77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d60093"/>
                </a:solidFill>
                <a:latin typeface="Arial"/>
              </a:rPr>
              <a:t>From John Ellis’ summary talk @ Ichep04</a:t>
            </a:r>
            <a:r>
              <a:rPr b="0" lang="it-IT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B9C-1C1F-468E-BD0E-A9BA417629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304920" y="912960"/>
          <a:ext cx="8534160" cy="5335560"/>
        </p:xfrm>
        <a:graphic>
          <a:graphicData uri="http://schemas.openxmlformats.org/drawingml/2006/table">
            <a:tbl>
              <a:tblPr/>
              <a:tblGrid>
                <a:gridCol w="2895480"/>
                <a:gridCol w="5638680"/>
              </a:tblGrid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reliminary results ( CSN1 Ju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873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</a:t>
                      </a:r>
                      <a:r>
                        <a:rPr b="1" lang="it-IT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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s. Lett.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38 21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pdate with ’01-’02 data in prog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038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2000" spc="-1" strike="noStrike" baseline="-25000">
                          <a:solidFill>
                            <a:srgbClr val="3333cc"/>
                          </a:solidFill>
                          <a:latin typeface="SymbolProp BT"/>
                          <a:ea typeface="SymbolProp BT"/>
                        </a:rPr>
                        <a:t>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s. Lett.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35 37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rel update with ’01-’02 data (CSN1 Ju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LOE Note 181 (http://www.lnf.infn.it/klo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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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s. Lett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66 61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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,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,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i="1" lang="it-IT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i="1" lang="it-IT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i="1" lang="it-IT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,3</a:t>
                      </a: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i="1" lang="it-IT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eliminar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us</a:t>
                      </a:r>
                      <a:r>
                        <a:rPr b="1" i="1" lang="en-US" sz="2000" spc="-1" strike="noStrike" baseline="-25000">
                          <a:solidFill>
                            <a:srgbClr val="ff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rom K</a:t>
                      </a:r>
                      <a:r>
                        <a:rPr b="0" lang="en-US" sz="20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L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and K</a:t>
                      </a:r>
                      <a:r>
                        <a:rPr b="0" lang="en-US" sz="20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eliminar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it-IT" sz="20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L 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n li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eliminar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.M. inter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der stu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u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om K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±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prog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. Lett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97 2 (20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6084720" y="3645000"/>
            <a:ext cx="287640" cy="1008000"/>
          </a:xfrm>
          <a:custGeom>
            <a:avLst/>
            <a:gdLst>
              <a:gd name="textAreaLeft" fmla="*/ 183960 w 287640"/>
              <a:gd name="textAreaRight" fmla="*/ 288000 w 287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69920" y="3573360"/>
            <a:ext cx="234792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ready shown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CHEP04. They wi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e presented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9640" y="-27000"/>
            <a:ext cx="73454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Kaon physic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CD7-F0F3-4CFA-BC9F-5B2E1442C5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76320" y="914400"/>
            <a:ext cx="8839080" cy="1297440"/>
            <a:chOff x="76320" y="914400"/>
            <a:chExt cx="8839080" cy="1297440"/>
          </a:xfrm>
        </p:grpSpPr>
        <p:sp>
          <p:nvSpPr>
            <p:cNvPr id="277" name=""/>
            <p:cNvSpPr/>
            <p:nvPr/>
          </p:nvSpPr>
          <p:spPr>
            <a:xfrm>
              <a:off x="76320" y="914400"/>
              <a:ext cx="883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Arial"/>
                </a:rPr>
                <a:t>At present the most precise test of unitarity comes from 1</a:t>
              </a:r>
              <a:r>
                <a:rPr b="0" lang="en-US" sz="2200" spc="-1" strike="noStrike" baseline="30000">
                  <a:solidFill>
                    <a:srgbClr val="3333cc"/>
                  </a:solidFill>
                  <a:latin typeface="Arial"/>
                </a:rPr>
                <a:t>st</a:t>
              </a:r>
              <a:r>
                <a:rPr b="0" lang="en-US" sz="2200" spc="-1" strike="noStrike">
                  <a:solidFill>
                    <a:srgbClr val="3333cc"/>
                  </a:solidFill>
                  <a:latin typeface="Arial"/>
                </a:rPr>
                <a:t> row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1371600"/>
              <a:ext cx="617220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|V</a:t>
              </a:r>
              <a:r>
                <a:rPr b="0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ud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|</a:t>
              </a:r>
              <a:r>
                <a:rPr b="0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+ |V</a:t>
              </a:r>
              <a:r>
                <a:rPr b="0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us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|</a:t>
              </a:r>
              <a:r>
                <a:rPr b="0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+ |V</a:t>
              </a:r>
              <a:r>
                <a:rPr b="0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ub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|</a:t>
              </a:r>
              <a:r>
                <a:rPr b="0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  <a:ea typeface="Times New Roman"/>
                </a:rPr>
                <a:t>~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|V</a:t>
              </a:r>
              <a:r>
                <a:rPr b="0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ud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|</a:t>
              </a:r>
              <a:r>
                <a:rPr b="0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+ |V</a:t>
              </a:r>
              <a:r>
                <a:rPr b="0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us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|</a:t>
              </a:r>
              <a:r>
                <a:rPr b="0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 </a:t>
              </a:r>
              <a:r>
                <a:rPr b="0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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1 – </a:t>
              </a:r>
              <a:r>
                <a:rPr b="0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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57400" y="1782720"/>
              <a:ext cx="426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= 0.0042 ± 0.0019 ( PDG02 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0" y="2209680"/>
            <a:ext cx="899172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2|V</a:t>
            </a:r>
            <a:r>
              <a:rPr b="0" lang="en-US" sz="2200" spc="-1" strike="noStrike" baseline="-25000">
                <a:solidFill>
                  <a:srgbClr val="008000"/>
                </a:solidFill>
                <a:latin typeface="Comic Sans MS"/>
              </a:rPr>
              <a:t>ud</a:t>
            </a: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|</a:t>
            </a:r>
            <a:r>
              <a:rPr b="0" lang="en-US" sz="2200" spc="-1" strike="noStrike">
                <a:solidFill>
                  <a:srgbClr val="008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V</a:t>
            </a:r>
            <a:r>
              <a:rPr b="0" lang="en-US" sz="2200" spc="-1" strike="noStrike" baseline="-25000">
                <a:solidFill>
                  <a:srgbClr val="008000"/>
                </a:solidFill>
                <a:latin typeface="Comic Sans MS"/>
              </a:rPr>
              <a:t>ud</a:t>
            </a: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 = 0.0015  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from super-allowed 0</a:t>
            </a:r>
            <a:r>
              <a:rPr b="0" lang="en-US" sz="1800" spc="-1" strike="noStrike" baseline="30000">
                <a:solidFill>
                  <a:srgbClr val="008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0</a:t>
            </a:r>
            <a:r>
              <a:rPr b="0" lang="en-US" sz="1800" spc="-1" strike="noStrike" baseline="30000">
                <a:solidFill>
                  <a:srgbClr val="008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Fermi transitions,n b-decay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2|V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us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|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us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= 0.0011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rom semileptonic kaon decays ( PDG02 fi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3489480"/>
            <a:ext cx="8915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|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u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| is extracted from Kl3 partial decay wid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50680" y="3962520"/>
            <a:ext cx="7250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(K 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l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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) 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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 |V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us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 f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+</a:t>
            </a:r>
            <a:r>
              <a:rPr b="0" lang="en-US" sz="2200" spc="-1" strike="noStrike" baseline="30000">
                <a:solidFill>
                  <a:srgbClr val="d60093"/>
                </a:solidFill>
                <a:latin typeface="Comic Sans MS"/>
              </a:rPr>
              <a:t>K</a:t>
            </a:r>
            <a:r>
              <a:rPr b="0" lang="en-US" sz="22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(0) |</a:t>
            </a:r>
            <a:r>
              <a:rPr b="0" lang="en-US" sz="2200" spc="-1" strike="noStrike" baseline="30000">
                <a:solidFill>
                  <a:srgbClr val="d60093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S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ew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(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+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,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0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,0)) (1 + 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 baseline="30000">
                <a:solidFill>
                  <a:srgbClr val="d60093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em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+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/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49568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f</a:t>
            </a:r>
            <a:r>
              <a:rPr b="1" lang="en-US" sz="2000" spc="-1" strike="noStrike" baseline="-25000">
                <a:solidFill>
                  <a:srgbClr val="d60093"/>
                </a:solidFill>
                <a:latin typeface="Comic Sans MS"/>
              </a:rPr>
              <a:t>+</a:t>
            </a:r>
            <a:r>
              <a:rPr b="1" lang="en-US" sz="2000" spc="-1" strike="noStrike" baseline="30000">
                <a:solidFill>
                  <a:srgbClr val="d60093"/>
                </a:solidFill>
                <a:latin typeface="Times New Roman"/>
              </a:rPr>
              <a:t>K</a:t>
            </a:r>
            <a:r>
              <a:rPr b="1" lang="en-US" sz="20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(0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orm factor at 0 momentum transfer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ure theory calculation 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T, latt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I(</a:t>
            </a:r>
            <a:r>
              <a:rPr b="1" lang="en-US" sz="1800" spc="-1" strike="noStrike">
                <a:solidFill>
                  <a:srgbClr val="d60093"/>
                </a:solidFill>
                <a:latin typeface="Symbol"/>
                <a:ea typeface="Symbol"/>
              </a:rPr>
              <a:t></a:t>
            </a:r>
            <a:r>
              <a:rPr b="1" lang="en-US" sz="1800" spc="-1" strike="noStrike" baseline="-25000">
                <a:solidFill>
                  <a:srgbClr val="d60093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d60093"/>
                </a:solidFill>
                <a:latin typeface="Comic Sans MS"/>
              </a:rPr>
              <a:t>0 </a:t>
            </a: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,0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hase space integral,  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ew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hort distance corrections (1.0232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d60093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d60093"/>
                </a:solidFill>
                <a:latin typeface="Comic Sans MS"/>
              </a:rPr>
              <a:t>+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,</a:t>
            </a:r>
            <a:r>
              <a:rPr b="1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d60093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lopes (momentum dependence of the vector and scalar form fac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d60093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</a:t>
            </a:r>
            <a:r>
              <a:rPr b="1" lang="en-US" sz="2000" spc="-1" strike="noStrike" baseline="-25000">
                <a:solidFill>
                  <a:srgbClr val="d60093"/>
                </a:solidFill>
                <a:latin typeface="Comic Sans MS"/>
              </a:rPr>
              <a:t>em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+ </a:t>
            </a:r>
            <a:r>
              <a:rPr b="1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I</a:t>
            </a:r>
            <a:r>
              <a:rPr b="1" lang="en-US" sz="2000" spc="-1" strike="noStrike" baseline="-25000">
                <a:solidFill>
                  <a:srgbClr val="d60093"/>
                </a:solidFill>
                <a:latin typeface="Comic Sans MS"/>
              </a:rPr>
              <a:t>i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/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ong distan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adiative corrections for form factor and phase spa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9000" y="0"/>
            <a:ext cx="7696080" cy="5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Unitarity test of CKM matrix - V</a:t>
            </a:r>
            <a:r>
              <a:rPr b="0" lang="en-US" sz="3600" spc="-1" strike="noStrike" baseline="-25000">
                <a:solidFill>
                  <a:srgbClr val="d60093"/>
                </a:solidFill>
                <a:latin typeface="Arial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38A-89FB-4947-ABFA-738E9E4012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89000" y="0"/>
            <a:ext cx="7696080" cy="5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The V</a:t>
            </a:r>
            <a:r>
              <a:rPr b="0" lang="en-US" sz="3600" spc="-1" strike="noStrike" baseline="-25000">
                <a:solidFill>
                  <a:srgbClr val="d60093"/>
                </a:solidFill>
                <a:latin typeface="Arial"/>
              </a:rPr>
              <a:t>us 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sa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1840" y="758880"/>
            <a:ext cx="873288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To measure the partial decay rate of channel i we have to meas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BRi and the total decay rate (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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=1/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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By tagging, “each single BR” can be measured in an absolute wa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KLOE can do that and measure at the same time the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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by studying the time dependen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therwise you have to rely on ratios of BR’s. 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If you measure all the main  channel then the constraint</a:t>
            </a:r>
            <a:r>
              <a:rPr b="0" lang="it-IT" sz="1800" spc="-1" strike="noStrike">
                <a:solidFill>
                  <a:srgbClr val="3333cc"/>
                </a:solidFill>
                <a:latin typeface="Symbol"/>
                <a:ea typeface="Symbol"/>
              </a:rPr>
              <a:t>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BR=1 and the lifetim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lows you to ge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dependently from other measur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ring winter conferences our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3 measurement and E856 with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e3/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+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+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)  indicated that something was going wrong in the “old” PDG measurements and obtained a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value much closer to unita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 the beginning of the summer KTeV made a precise measurement of all main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cays and f.f. changing completely  the PDG pano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15200" y="5229360"/>
            <a:ext cx="35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12560" y="4844880"/>
            <a:ext cx="4553640" cy="937080"/>
            <a:chOff x="412560" y="4844880"/>
            <a:chExt cx="4553640" cy="937080"/>
          </a:xfrm>
        </p:grpSpPr>
        <p:sp>
          <p:nvSpPr>
            <p:cNvPr id="289" name=""/>
            <p:cNvSpPr/>
            <p:nvPr/>
          </p:nvSpPr>
          <p:spPr>
            <a:xfrm>
              <a:off x="412560" y="4844880"/>
              <a:ext cx="8208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|V</a:t>
              </a:r>
              <a:r>
                <a:rPr b="0" lang="it-IT" sz="2200" spc="-1" strike="noStrike" baseline="-25000">
                  <a:solidFill>
                    <a:srgbClr val="000000"/>
                  </a:solidFill>
                  <a:latin typeface="Arial"/>
                </a:rPr>
                <a:t>u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0320" y="5306760"/>
              <a:ext cx="6926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it-IT" sz="2200" spc="-1" strike="noStrike" baseline="-25000">
                  <a:solidFill>
                    <a:srgbClr val="000000"/>
                  </a:solidFill>
                  <a:latin typeface="Arial"/>
                </a:rPr>
                <a:t>us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45720" y="4844880"/>
              <a:ext cx="49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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33800" y="5302080"/>
              <a:ext cx="3772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it-IT" sz="2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5600" y="4844880"/>
              <a:ext cx="5144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</a:t>
              </a:r>
              <a:r>
                <a:rPr b="0" lang="it-IT" sz="2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95120" y="4844880"/>
              <a:ext cx="1171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</a:rPr>
                <a:t>K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0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9800" y="5306760"/>
              <a:ext cx="10339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</a:rPr>
                <a:t>K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0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15280" y="5094000"/>
              <a:ext cx="2962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= 0.5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0.05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9760" y="53146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81360" y="5302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51080" y="5302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62440" y="53020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936960" y="5715000"/>
            <a:ext cx="81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.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4724280"/>
            <a:ext cx="3048120" cy="173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/BR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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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%)        (%)      (%)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,e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PDG      0.7        0.8       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,e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KTeV    0.3        (0.8)    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,e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KLOE   1.0        (0.1)    (2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PDG     1.2         0.2      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3E9-5A89-4788-8F75-E4BBD5511D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79280" y="685800"/>
            <a:ext cx="85694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GOAL: precisely measure absolute K</a:t>
            </a:r>
            <a:r>
              <a:rPr b="1" lang="it-IT" sz="20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 BRs, with rel. accuracy   </a:t>
            </a:r>
            <a:r>
              <a:rPr b="1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 1 </a:t>
            </a:r>
            <a:r>
              <a:rPr b="1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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( </a:t>
            </a:r>
            <a:r>
              <a:rPr b="0" lang="it-IT" sz="2000" spc="-1" strike="noStrike">
                <a:solidFill>
                  <a:srgbClr val="d60093"/>
                </a:solidFill>
                <a:latin typeface="Arial"/>
              </a:rPr>
              <a:t>410 pb</a:t>
            </a:r>
            <a:r>
              <a:rPr b="0" lang="it-IT" sz="2000" spc="-1" strike="noStrike" baseline="30000">
                <a:solidFill>
                  <a:srgbClr val="d60093"/>
                </a:solidFill>
                <a:latin typeface="Arial"/>
              </a:rPr>
              <a:t>-1</a:t>
            </a:r>
            <a:r>
              <a:rPr b="0" lang="it-IT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d60093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d60093"/>
                </a:solidFill>
                <a:latin typeface="Arial"/>
              </a:rPr>
              <a:t> 3 </a:t>
            </a:r>
            <a:r>
              <a:rPr b="0" lang="it-IT" sz="2000" spc="-1" strike="noStrike">
                <a:solidFill>
                  <a:srgbClr val="d60093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d60093"/>
                </a:solidFill>
                <a:latin typeface="Arial"/>
              </a:rPr>
              <a:t> 10</a:t>
            </a:r>
            <a:r>
              <a:rPr b="0" lang="it-IT" sz="2000" spc="-1" strike="noStrike" baseline="30000">
                <a:solidFill>
                  <a:srgbClr val="d60093"/>
                </a:solidFill>
                <a:latin typeface="Arial"/>
              </a:rPr>
              <a:t>6 </a:t>
            </a:r>
            <a:r>
              <a:rPr b="0" lang="it-IT" sz="2000" spc="-1" strike="noStrike">
                <a:solidFill>
                  <a:srgbClr val="d60093"/>
                </a:solidFill>
                <a:latin typeface="Arial"/>
              </a:rPr>
              <a:t>tagged K</a:t>
            </a:r>
            <a:r>
              <a:rPr b="0" lang="it-IT" sz="2000" spc="-1" strike="noStrike" baseline="-25000">
                <a:solidFill>
                  <a:srgbClr val="d60093"/>
                </a:solidFill>
                <a:latin typeface="Arial"/>
              </a:rPr>
              <a:t>L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1557360"/>
            <a:ext cx="849636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wo tracks vertex inside the FV ( 35 cm &lt; r &lt; 150 cm, |z| &lt; 120 cm ,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Arial"/>
              </a:rPr>
              <a:t>V  </a:t>
            </a:r>
            <a:r>
              <a:rPr b="0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26</a:t>
            </a:r>
            <a:r>
              <a:rPr b="0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To reduce Tag Bias pions from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 satisfy the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est discriminating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the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rged decay modes is the smallest of the values  </a:t>
            </a:r>
            <a:r>
              <a:rPr b="0" lang="en-US" sz="1800" spc="-1" strike="noStrike">
                <a:solidFill>
                  <a:srgbClr val="d60093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d60093"/>
                </a:solidFill>
                <a:latin typeface="Arial"/>
              </a:rPr>
              <a:t>mp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= |p</a:t>
            </a:r>
            <a:r>
              <a:rPr b="0" lang="en-US" sz="1800" spc="-1" strike="noStrike" baseline="-25000">
                <a:solidFill>
                  <a:srgbClr val="d60093"/>
                </a:solidFill>
                <a:latin typeface="Arial"/>
              </a:rPr>
              <a:t>miss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| – E</a:t>
            </a:r>
            <a:r>
              <a:rPr b="0" lang="en-US" sz="1800" spc="-1" strike="noStrike" baseline="-25000">
                <a:solidFill>
                  <a:srgbClr val="d60093"/>
                </a:solidFill>
                <a:latin typeface="Arial"/>
              </a:rPr>
              <a:t>mi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aluated assigning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un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ide the FV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or the K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3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33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rtex is obtained from 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F ,  efficiency and resolution checked with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27480" y="2708280"/>
            <a:ext cx="380880" cy="0"/>
          </a:xfrm>
          <a:prstGeom prst="line">
            <a:avLst/>
          </a:prstGeom>
          <a:ln w="93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56116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51000" y="5202360"/>
            <a:ext cx="2100240" cy="1016280"/>
            <a:chOff x="351000" y="5202360"/>
            <a:chExt cx="2100240" cy="1016280"/>
          </a:xfrm>
        </p:grpSpPr>
        <p:sp>
          <p:nvSpPr>
            <p:cNvPr id="308" name=""/>
            <p:cNvSpPr/>
            <p:nvPr/>
          </p:nvSpPr>
          <p:spPr>
            <a:xfrm>
              <a:off x="1688760" y="5202360"/>
              <a:ext cx="68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d60093"/>
                  </a:solidFill>
                  <a:latin typeface="Comic Sans MS"/>
                </a:rPr>
                <a:t>tag</a:t>
              </a:r>
              <a:r>
                <a:rPr b="0" lang="en-US" sz="2400" spc="-1" strike="noStrike" baseline="30000">
                  <a:solidFill>
                    <a:srgbClr val="d60093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76160" y="5708520"/>
              <a:ext cx="77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d60093"/>
                  </a:solidFill>
                  <a:latin typeface="Comic Sans MS"/>
                </a:rPr>
                <a:t>tag</a:t>
              </a:r>
              <a:r>
                <a:rPr b="0" lang="en-US" sz="2400" spc="-1" strike="noStrike" baseline="30000">
                  <a:solidFill>
                    <a:srgbClr val="d60093"/>
                  </a:solidFill>
                  <a:latin typeface="Comic Sans MS"/>
                </a:rPr>
                <a:t>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1000" y="547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d60093"/>
                  </a:solidFill>
                  <a:latin typeface="Comic Sans MS"/>
                </a:rPr>
                <a:t>Tag Bi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69960" y="5708520"/>
              <a:ext cx="762120" cy="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-360" y="4172040"/>
            <a:ext cx="5795640" cy="965520"/>
            <a:chOff x="-360" y="4172040"/>
            <a:chExt cx="5795640" cy="965520"/>
          </a:xfrm>
        </p:grpSpPr>
        <p:grpSp>
          <p:nvGrpSpPr>
            <p:cNvPr id="313" name=""/>
            <p:cNvGrpSpPr/>
            <p:nvPr/>
          </p:nvGrpSpPr>
          <p:grpSpPr>
            <a:xfrm>
              <a:off x="-360" y="4172040"/>
              <a:ext cx="5795640" cy="965520"/>
              <a:chOff x="-360" y="4172040"/>
              <a:chExt cx="5795640" cy="965520"/>
            </a:xfrm>
          </p:grpSpPr>
          <p:sp>
            <p:nvSpPr>
              <p:cNvPr id="314" name=""/>
              <p:cNvSpPr/>
              <p:nvPr/>
            </p:nvSpPr>
            <p:spPr>
              <a:xfrm>
                <a:off x="2093040" y="4627440"/>
                <a:ext cx="1567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Arial"/>
                  </a:rPr>
                  <a:t>N</a:t>
                </a:r>
                <a:r>
                  <a:rPr b="1" lang="en-US" sz="2400" spc="-1" strike="noStrike" baseline="-25000">
                    <a:solidFill>
                      <a:srgbClr val="3333cc"/>
                    </a:solidFill>
                    <a:latin typeface="Arial"/>
                  </a:rPr>
                  <a:t>tag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Arial"/>
                  </a:rPr>
                  <a:t> / 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400" spc="-1" strike="noStrike" baseline="-25000">
                    <a:solidFill>
                      <a:srgbClr val="3333cc"/>
                    </a:solidFill>
                    <a:latin typeface="Arial"/>
                  </a:rPr>
                  <a:t>tag </a:t>
                </a:r>
                <a:r>
                  <a:rPr b="1" lang="en-US" sz="2400" spc="-1" strike="noStrike" baseline="30000">
                    <a:solidFill>
                      <a:srgbClr val="3333cc"/>
                    </a:solidFill>
                    <a:latin typeface="Arial"/>
                  </a:rPr>
                  <a:t>a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035080" y="4662360"/>
                <a:ext cx="37288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-360" y="4429080"/>
                <a:ext cx="203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Arial"/>
                  </a:rPr>
                  <a:t>BR(K</a:t>
                </a:r>
                <a:r>
                  <a:rPr b="1" lang="en-US" sz="2400" spc="-1" strike="noStrike" baseline="-25000">
                    <a:solidFill>
                      <a:srgbClr val="3333cc"/>
                    </a:solidFill>
                    <a:latin typeface="Arial"/>
                  </a:rPr>
                  <a:t>L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Arial"/>
                  </a:rPr>
                  <a:t> X)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035080" y="4172040"/>
                <a:ext cx="3760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Arial"/>
                  </a:rPr>
                  <a:t>N</a:t>
                </a:r>
                <a:r>
                  <a:rPr b="1" lang="en-US" sz="2400" spc="-1" strike="noStrike" baseline="-25000">
                    <a:solidFill>
                      <a:srgbClr val="3333cc"/>
                    </a:solidFill>
                    <a:latin typeface="Arial"/>
                  </a:rPr>
                  <a:t>sig 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Arial"/>
                  </a:rPr>
                  <a:t>/ ( 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400" spc="-1" strike="noStrike" baseline="-25000">
                    <a:solidFill>
                      <a:srgbClr val="3333cc"/>
                    </a:solidFill>
                    <a:latin typeface="Arial"/>
                  </a:rPr>
                  <a:t>rec </a:t>
                </a:r>
                <a:r>
                  <a:rPr b="1" lang="en-US" sz="2400" spc="-1" strike="noStrike" baseline="30000">
                    <a:solidFill>
                      <a:srgbClr val="3333cc"/>
                    </a:solidFill>
                    <a:latin typeface="Arial"/>
                  </a:rPr>
                  <a:t>X 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Arial"/>
                  </a:rPr>
                  <a:t> *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400" spc="-1" strike="noStrike" baseline="-25000">
                    <a:solidFill>
                      <a:srgbClr val="3333cc"/>
                    </a:solidFill>
                    <a:latin typeface="Arial"/>
                  </a:rPr>
                  <a:t>FV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Arial"/>
                  </a:rPr>
                  <a:t> *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400" spc="-1" strike="noStrike" baseline="-25000">
                    <a:solidFill>
                      <a:srgbClr val="3333cc"/>
                    </a:solidFill>
                    <a:latin typeface="Arial"/>
                  </a:rPr>
                  <a:t>tag</a:t>
                </a:r>
                <a:r>
                  <a:rPr b="1" lang="en-US" sz="2400" spc="-1" strike="noStrike" baseline="30000">
                    <a:solidFill>
                      <a:srgbClr val="3333cc"/>
                    </a:solidFill>
                    <a:latin typeface="Arial"/>
                  </a:rPr>
                  <a:t>X 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035080" y="4708440"/>
              <a:ext cx="3729240" cy="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6227640" y="4646520"/>
            <a:ext cx="259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ff5050"/>
                </a:solidFill>
                <a:latin typeface="Comic Sans MS"/>
              </a:rPr>
              <a:t>l3 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505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505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5050"/>
                </a:solidFill>
                <a:latin typeface="Comic Sans MS"/>
              </a:rPr>
              <a:t>0 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      3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505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5149800"/>
            <a:ext cx="35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ff5050"/>
                </a:solidFill>
                <a:latin typeface="Comic Sans MS"/>
              </a:rPr>
              <a:t>rec  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  60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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      45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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     100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56000" y="5726160"/>
            <a:ext cx="6476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biases for K</a:t>
            </a:r>
            <a:r>
              <a:rPr b="0" lang="en-US" sz="1800" spc="-1" strike="noStrike" baseline="-25000">
                <a:solidFill>
                  <a:srgbClr val="ff505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autotrigger tag   </a:t>
            </a:r>
            <a:r>
              <a:rPr b="0" lang="en-US" sz="1800" spc="-1" strike="noStrike">
                <a:solidFill>
                  <a:srgbClr val="ff505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 0.985     0.99       1.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9640" y="-27000"/>
            <a:ext cx="73454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BR measurement of K</a:t>
            </a:r>
            <a:r>
              <a:rPr b="0" lang="it-IT" sz="3600" spc="-1" strike="noStrike" baseline="-25000">
                <a:solidFill>
                  <a:srgbClr val="d60093"/>
                </a:solidFill>
                <a:latin typeface="Arial"/>
              </a:rPr>
              <a:t>L</a:t>
            </a: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 dec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5E6-B89C-42AC-A596-2A33CDC4DD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6320" y="914400"/>
            <a:ext cx="899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320" y="907920"/>
            <a:ext cx="9067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harged K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decay modes selected by kinematics, |p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miss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| – E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miss  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distribution sensitive to radiation and momentum resolution </a:t>
            </a:r>
            <a:r>
              <a:rPr b="0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check done with indipendent selection by P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-27000"/>
            <a:ext cx="73454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KL Kinema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05680" y="3778200"/>
            <a:ext cx="1249560" cy="435600"/>
          </a:xfrm>
          <a:prstGeom prst="roundRect">
            <a:avLst>
              <a:gd name="adj" fmla="val 3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000" spc="-1" strike="noStrike" baseline="-33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rcRect l="5008" t="10011" r="10011" b="10011"/>
          <a:stretch/>
        </p:blipFill>
        <p:spPr>
          <a:xfrm>
            <a:off x="225360" y="1676520"/>
            <a:ext cx="4068720" cy="38224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rcRect l="5008" t="10011" r="10011" b="10011"/>
          <a:stretch/>
        </p:blipFill>
        <p:spPr>
          <a:xfrm>
            <a:off x="4508640" y="1676520"/>
            <a:ext cx="4068720" cy="38224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522440" y="4476600"/>
            <a:ext cx="2468880" cy="416880"/>
          </a:xfrm>
          <a:prstGeom prst="roundRect">
            <a:avLst>
              <a:gd name="adj" fmla="val 39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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mple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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41720" y="4548240"/>
            <a:ext cx="2502360" cy="416880"/>
          </a:xfrm>
          <a:prstGeom prst="roundRect">
            <a:avLst>
              <a:gd name="adj" fmla="val 39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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mple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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80640" y="5810400"/>
            <a:ext cx="4492800" cy="41688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sser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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hyp.  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160" y="5810400"/>
            <a:ext cx="4434840" cy="41688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sser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 or e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hyp.  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823-94C6-4D19-974D-32058A9367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0" b="32753"/>
          <a:stretch/>
        </p:blipFill>
        <p:spPr>
          <a:xfrm>
            <a:off x="250920" y="765000"/>
            <a:ext cx="8611920" cy="368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280" y="3200400"/>
            <a:ext cx="8077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5013360"/>
            <a:ext cx="2819160" cy="1216080"/>
          </a:xfrm>
          <a:prstGeom prst="rect">
            <a:avLst/>
          </a:prstGeom>
          <a:solidFill>
            <a:srgbClr val="99ff99"/>
          </a:solidFill>
          <a:ln w="2844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it-IT" sz="1800" spc="-1" strike="noStrike" baseline="-25000">
                <a:solidFill>
                  <a:srgbClr val="ff0000"/>
                </a:solidFill>
                <a:latin typeface="Arial"/>
              </a:rPr>
              <a:t>peak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 &gt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L 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/ day &gt; 5 pb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L 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/ year = 2 fb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4419720"/>
            <a:ext cx="4321080" cy="17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rrier br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4 &gt; 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t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 is nicely impro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14000">
                <a:solidFill>
                  <a:srgbClr val="000000"/>
                </a:solidFill>
                <a:latin typeface="Arial"/>
              </a:rPr>
              <a:t>co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% and getting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reaching more stable run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One of the latest days (17-09-0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830000">
            <a:off x="251640" y="4838040"/>
            <a:ext cx="11001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2560" y="2590920"/>
            <a:ext cx="251784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st. Lum. (10</a:t>
            </a:r>
            <a:r>
              <a:rPr b="1" lang="it-IT" sz="16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it-IT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it-IT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4343400"/>
            <a:ext cx="312408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tegrated Lum (nb</a:t>
            </a:r>
            <a:r>
              <a:rPr b="1" lang="it-IT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) = 6 pb</a:t>
            </a:r>
            <a:r>
              <a:rPr b="1" lang="it-IT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6DA-AFA3-4E74-AD0F-0714F48BB2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rcRect l="5008" t="10011" r="10011" b="10011"/>
          <a:stretch/>
        </p:blipFill>
        <p:spPr>
          <a:xfrm>
            <a:off x="4486320" y="1371600"/>
            <a:ext cx="4581360" cy="4307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61440" y="-27000"/>
            <a:ext cx="7162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d60093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 decays – preliminary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320" y="7621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umber of signal counts obtained by fitting data with a linear combination of MC spectra for different decay modes. BR extracted by tags norm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280" y="3657600"/>
            <a:ext cx="403884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Preliminary systematic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680" y="1889280"/>
            <a:ext cx="455292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0.399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000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00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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0.2708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000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00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 = 0.201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000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0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0.127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000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0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320" y="1378080"/>
            <a:ext cx="403848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eliminary resul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96480" y="5738760"/>
            <a:ext cx="4492800" cy="41688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sser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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hyp.  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3080" y="4164120"/>
          <a:ext cx="4186080" cy="1709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0" y="4164120"/>
                    <a:ext cx="418608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DB9-85C3-4208-866A-8CBF2CE3A6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252720" y="-27000"/>
            <a:ext cx="8281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BR for K</a:t>
            </a:r>
            <a:r>
              <a:rPr b="0" lang="en-US" sz="3600" spc="-1" strike="noStrike" baseline="-25000">
                <a:solidFill>
                  <a:srgbClr val="d60093"/>
                </a:solidFill>
                <a:latin typeface="Arial"/>
              </a:rPr>
              <a:t>L 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decays – world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7200" y="903240"/>
            <a:ext cx="815328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372-5DD7-46DB-BEE4-31BF7370BFE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616280" y="1557360"/>
            <a:ext cx="4419720" cy="39196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50840" y="-100440"/>
            <a:ext cx="64008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d60093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 lifetime from K</a:t>
            </a:r>
            <a:r>
              <a:rPr b="0" lang="en-US" sz="3600" spc="-1" strike="noStrike" baseline="-25000">
                <a:solidFill>
                  <a:srgbClr val="d60093"/>
                </a:solidFill>
                <a:latin typeface="Arial"/>
              </a:rPr>
              <a:t>L 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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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8360" y="174780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.5 Mevents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8000" y="2349360"/>
            <a:ext cx="4076640" cy="124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ata sample of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</a:t>
            </a:r>
            <a:r>
              <a:rPr b="0" lang="en-US" sz="18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used f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neutral vertex calibration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Comic Sans MS"/>
              </a:rPr>
              <a:t>resolution and photon 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520" y="3933720"/>
            <a:ext cx="59644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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PDG)(fit) = (51.7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0.4) ns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Vosburg, 1972) = (51.54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0.44) 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(KLOE)=(51.15 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 0.20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Comic Sans MS"/>
              </a:rPr>
              <a:t>stat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0.40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Comic Sans MS"/>
              </a:rPr>
              <a:t>syst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) n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320" y="836640"/>
            <a:ext cx="9067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g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well known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s in FV. The photon vertex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reconstructed by TOF techniqu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.5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8000" y="5311800"/>
            <a:ext cx="54007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fetime fro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) = 1.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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KLOE)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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(51.35 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 0.05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Comic Sans MS"/>
              </a:rPr>
              <a:t>stat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 0.26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Comic Sans MS"/>
              </a:rPr>
              <a:t>syst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) ns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876600">
            <a:off x="5393880" y="5395680"/>
            <a:ext cx="31813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KLOE04 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EFC-61AB-4CD5-826F-EB3915EBB3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4160" y="-100080"/>
            <a:ext cx="74674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KLOE measurements of V</a:t>
            </a:r>
            <a:r>
              <a:rPr b="0" lang="en-US" sz="3600" spc="-1" strike="noStrike" baseline="-25000">
                <a:solidFill>
                  <a:srgbClr val="d60093"/>
                </a:solidFill>
                <a:latin typeface="Arial"/>
              </a:rPr>
              <a:t>us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 f</a:t>
            </a:r>
            <a:r>
              <a:rPr b="0" lang="en-US" sz="3600" spc="-1" strike="noStrike" baseline="-25000">
                <a:solidFill>
                  <a:srgbClr val="d60093"/>
                </a:solidFill>
                <a:latin typeface="Arial"/>
              </a:rPr>
              <a:t>+</a:t>
            </a:r>
            <a:r>
              <a:rPr b="0" lang="en-US" sz="3600" spc="-1" strike="noStrike" baseline="30000">
                <a:solidFill>
                  <a:srgbClr val="d60093"/>
                </a:solidFill>
                <a:latin typeface="Arial"/>
              </a:rPr>
              <a:t>K</a:t>
            </a:r>
            <a:r>
              <a:rPr b="0" lang="en-US" sz="36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(0)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20" y="728640"/>
            <a:ext cx="723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KM wg prescription is used to extract 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u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0920" y="1197000"/>
            <a:ext cx="876276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</a:rPr>
              <a:t>l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artial decay widths measured by KL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verage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lifetim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from KLOE and Vosbur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= (51.35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0.25)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0) from Leutwyller-Roos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0.961(8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firmed by Becirevic et al. (lattice+CHPT)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0.961(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quadratic parametrization of form 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280" y="3357720"/>
            <a:ext cx="4267440" cy="8110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648320" y="3181320"/>
            <a:ext cx="2438280" cy="11844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rot="19641600">
            <a:off x="7258320" y="3357360"/>
            <a:ext cx="177804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from KT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360" y="4575240"/>
            <a:ext cx="910764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ur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l3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|V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omic Sans MS"/>
              </a:rPr>
              <a:t>us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| = 0.2248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0.002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prelimin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o be compared  to  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0.2265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0.002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from unitarity &amp; V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ud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= 0.974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.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87280" y="5535720"/>
            <a:ext cx="6553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R’s and lifetime from K</a:t>
            </a:r>
            <a:r>
              <a:rPr b="0" lang="en-US" sz="20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n progress as well as measurements of the slopes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from K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l3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dec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F29-20B6-4834-B6A9-53CDB93ADFF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9800" y="-27360"/>
            <a:ext cx="746748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KLOE measurements of V</a:t>
            </a:r>
            <a:r>
              <a:rPr b="0" lang="en-US" sz="3600" spc="-1" strike="noStrike" baseline="-25000">
                <a:solidFill>
                  <a:srgbClr val="d60093"/>
                </a:solidFill>
                <a:latin typeface="Arial"/>
              </a:rPr>
              <a:t>us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 f</a:t>
            </a:r>
            <a:r>
              <a:rPr b="0" lang="en-US" sz="3600" spc="-1" strike="noStrike" baseline="-25000">
                <a:solidFill>
                  <a:srgbClr val="d60093"/>
                </a:solidFill>
                <a:latin typeface="Arial"/>
              </a:rPr>
              <a:t>+</a:t>
            </a:r>
            <a:r>
              <a:rPr b="0" lang="en-US" sz="3600" spc="-1" strike="noStrike" baseline="30000">
                <a:solidFill>
                  <a:srgbClr val="d60093"/>
                </a:solidFill>
                <a:latin typeface="Arial"/>
              </a:rPr>
              <a:t>K</a:t>
            </a:r>
            <a:r>
              <a:rPr b="0" lang="en-US" sz="36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(0)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rcRect l="11214" t="-2987" r="-1033" b="-1116"/>
          <a:stretch/>
        </p:blipFill>
        <p:spPr>
          <a:xfrm>
            <a:off x="3186000" y="1085760"/>
            <a:ext cx="5923080" cy="45039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250920" y="1052640"/>
            <a:ext cx="3124080" cy="47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ar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ur measur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f  V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Symbol"/>
                <a:ea typeface="Symbol"/>
              </a:rPr>
              <a:t></a:t>
            </a:r>
            <a:r>
              <a:rPr b="1" lang="en-GB" sz="1800" spc="-1" strike="noStrike" baseline="-33000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GB" sz="1800" spc="-1" strike="noStrike">
                <a:solidFill>
                  <a:srgbClr val="008000"/>
                </a:solidFill>
                <a:latin typeface="Symbol"/>
                <a:ea typeface="Symbol"/>
              </a:rPr>
              <a:t></a:t>
            </a: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1" lang="en-GB" sz="1800" spc="-1" strike="noStrike">
                <a:solidFill>
                  <a:srgbClr val="008000"/>
                </a:solidFill>
                <a:latin typeface="Symbol"/>
                <a:ea typeface="Symbol"/>
              </a:rPr>
              <a:t></a:t>
            </a: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from KL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44794"/>
                </a:solidFill>
                <a:latin typeface="Symbol"/>
                <a:ea typeface="Symbol"/>
              </a:rPr>
              <a:t></a:t>
            </a:r>
            <a:r>
              <a:rPr b="1" lang="en-GB" sz="1800" spc="-1" strike="noStrike" baseline="-33000">
                <a:solidFill>
                  <a:srgbClr val="944794"/>
                </a:solidFill>
                <a:latin typeface="Times New Roman"/>
              </a:rPr>
              <a:t>L</a:t>
            </a:r>
            <a:r>
              <a:rPr b="1" lang="en-GB" sz="1800" spc="-1" strike="noStrike">
                <a:solidFill>
                  <a:srgbClr val="944794"/>
                </a:solidFill>
                <a:latin typeface="Symbol"/>
                <a:ea typeface="Symbol"/>
              </a:rPr>
              <a:t></a:t>
            </a:r>
            <a:r>
              <a:rPr b="1" lang="en-GB" sz="1800" spc="-1" strike="noStrike">
                <a:solidFill>
                  <a:srgbClr val="944794"/>
                </a:solidFill>
                <a:latin typeface="StarSymbol"/>
              </a:rPr>
              <a:t>ℓ</a:t>
            </a:r>
            <a:r>
              <a:rPr b="1" lang="en-GB" sz="1800" spc="-1" strike="noStrike">
                <a:solidFill>
                  <a:srgbClr val="944794"/>
                </a:solidFill>
                <a:latin typeface="Symbol"/>
                <a:ea typeface="Symbol"/>
              </a:rPr>
              <a:t></a:t>
            </a:r>
            <a:r>
              <a:rPr b="1" lang="en-GB" sz="1800" spc="-1" strike="noStrike">
                <a:solidFill>
                  <a:srgbClr val="944794"/>
                </a:solidFill>
                <a:latin typeface="Times New Roman"/>
              </a:rPr>
              <a:t>from KL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</a:t>
            </a:r>
            <a:r>
              <a:rPr b="1" lang="en-GB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</a:t>
            </a:r>
            <a:r>
              <a:rPr b="1" lang="en-GB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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  from E865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Symbol"/>
                <a:ea typeface="Symbol"/>
              </a:rPr>
              <a:t></a:t>
            </a:r>
            <a:r>
              <a:rPr b="1" lang="en-GB" sz="1800" spc="-1" strike="noStrike" baseline="-33000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en-GB" sz="1800" spc="-1" strike="noStrike">
                <a:solidFill>
                  <a:srgbClr val="0000cc"/>
                </a:solidFill>
                <a:latin typeface="Symbol"/>
                <a:ea typeface="Symbol"/>
              </a:rPr>
              <a:t></a:t>
            </a:r>
            <a:r>
              <a:rPr b="1" lang="en-GB" sz="1800" spc="-1" strike="noStrike">
                <a:solidFill>
                  <a:srgbClr val="0000cc"/>
                </a:solidFill>
                <a:latin typeface="StarSymbol"/>
              </a:rPr>
              <a:t>ℓ</a:t>
            </a:r>
            <a:r>
              <a:rPr b="1" lang="en-GB" sz="1800" spc="-1" strike="noStrike">
                <a:solidFill>
                  <a:srgbClr val="0000cc"/>
                </a:solidFill>
                <a:latin typeface="Symbol"/>
                <a:ea typeface="Symbol"/>
              </a:rPr>
              <a:t>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from KT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33"/>
                </a:solidFill>
                <a:latin typeface="Symbol"/>
                <a:ea typeface="Symbol"/>
              </a:rPr>
              <a:t></a:t>
            </a:r>
            <a:r>
              <a:rPr b="1" lang="en-GB" sz="1800" spc="-1" strike="noStrike" baseline="-33000">
                <a:solidFill>
                  <a:srgbClr val="cc6633"/>
                </a:solidFill>
                <a:latin typeface="Times New Roman"/>
              </a:rPr>
              <a:t>L</a:t>
            </a:r>
            <a:r>
              <a:rPr b="1" lang="en-GB" sz="1800" spc="-1" strike="noStrike">
                <a:solidFill>
                  <a:srgbClr val="cc6633"/>
                </a:solidFill>
                <a:latin typeface="Symbol"/>
                <a:ea typeface="Symbol"/>
              </a:rPr>
              <a:t></a:t>
            </a:r>
            <a:r>
              <a:rPr b="1" lang="en-GB" sz="1800" spc="-1" strike="noStrike">
                <a:solidFill>
                  <a:srgbClr val="cc6633"/>
                </a:solidFill>
                <a:latin typeface="Times New Roman"/>
              </a:rPr>
              <a:t>e</a:t>
            </a:r>
            <a:r>
              <a:rPr b="1" lang="en-GB" sz="1800" spc="-1" strike="noStrike">
                <a:solidFill>
                  <a:srgbClr val="cc6633"/>
                </a:solidFill>
                <a:latin typeface="Symbol"/>
                <a:ea typeface="Symbol"/>
              </a:rPr>
              <a:t></a:t>
            </a:r>
            <a:r>
              <a:rPr b="1" lang="en-GB" sz="1800" spc="-1" strike="noStrike">
                <a:solidFill>
                  <a:srgbClr val="cc6633"/>
                </a:solidFill>
                <a:latin typeface="Times New Roman"/>
              </a:rPr>
              <a:t>from NA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33"/>
                </a:solidFill>
                <a:latin typeface="Symbol"/>
                <a:ea typeface="Symbol"/>
              </a:rPr>
              <a:t></a:t>
            </a:r>
            <a:r>
              <a:rPr b="1" lang="en-GB" sz="1800" spc="-1" strike="noStrike" baseline="33000">
                <a:solidFill>
                  <a:srgbClr val="cc6633"/>
                </a:solidFill>
                <a:latin typeface="Times New Roman"/>
              </a:rPr>
              <a:t>+/-</a:t>
            </a:r>
            <a:r>
              <a:rPr b="1" lang="en-GB" sz="1800" spc="-1" strike="noStrike">
                <a:solidFill>
                  <a:srgbClr val="cc6633"/>
                </a:solidFill>
                <a:latin typeface="Symbol"/>
                <a:ea typeface="Symbol"/>
              </a:rPr>
              <a:t></a:t>
            </a:r>
            <a:r>
              <a:rPr b="1" lang="en-GB" sz="1800" spc="-1" strike="noStrike">
                <a:solidFill>
                  <a:srgbClr val="cc6633"/>
                </a:solidFill>
                <a:latin typeface="Times New Roman"/>
              </a:rPr>
              <a:t>e</a:t>
            </a:r>
            <a:r>
              <a:rPr b="1" lang="en-GB" sz="1800" spc="-1" strike="noStrike">
                <a:solidFill>
                  <a:srgbClr val="cc6633"/>
                </a:solidFill>
                <a:latin typeface="Symbol"/>
                <a:ea typeface="Symbol"/>
              </a:rPr>
              <a:t></a:t>
            </a:r>
            <a:r>
              <a:rPr b="1" lang="en-GB" sz="1800" spc="-1" strike="noStrike">
                <a:solidFill>
                  <a:srgbClr val="cc6633"/>
                </a:solidFill>
                <a:latin typeface="Times New Roman"/>
              </a:rPr>
              <a:t>from NA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 from PDG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005-AA15-44A3-8DD6-4AC5053B3CA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6624720" cy="909360"/>
          </a:xfrm>
          <a:prstGeom prst="rect">
            <a:avLst/>
          </a:prstGeom>
          <a:ln w="0">
            <a:noFill/>
          </a:ln>
        </p:spPr>
      </p:pic>
      <p:grpSp>
        <p:nvGrpSpPr>
          <p:cNvPr id="364" name=""/>
          <p:cNvGrpSpPr/>
          <p:nvPr/>
        </p:nvGrpSpPr>
        <p:grpSpPr>
          <a:xfrm>
            <a:off x="5651640" y="3087720"/>
            <a:ext cx="3252960" cy="3080160"/>
            <a:chOff x="5651640" y="3087720"/>
            <a:chExt cx="3252960" cy="308016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rcRect l="4805" t="14226" r="11810" b="21384"/>
            <a:stretch/>
          </p:blipFill>
          <p:spPr>
            <a:xfrm>
              <a:off x="5651640" y="3087720"/>
              <a:ext cx="3047400" cy="30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7216560" y="5708160"/>
              <a:ext cx="1688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p* (MeV/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74487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Status of V</a:t>
            </a:r>
            <a:r>
              <a:rPr b="0" lang="en-US" sz="3600" spc="-1" strike="noStrike" baseline="-25000">
                <a:solidFill>
                  <a:srgbClr val="d60093"/>
                </a:solidFill>
                <a:latin typeface="Arial"/>
              </a:rPr>
              <a:t>us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 from charged ka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920" y="765000"/>
            <a:ext cx="8991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w method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tract 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u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</a:t>
            </a:r>
            <a:r>
              <a:rPr b="1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(*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uted on 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LOE has a stat. reach of 0.1 %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ematics under eval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C (production just completed) to finalize the analysis efficie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757280" y="3429000"/>
            <a:ext cx="685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2080" y="580536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*) Marciano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hep-ph/04063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290760"/>
            <a:ext cx="55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Vus from K</a:t>
            </a:r>
            <a:r>
              <a:rPr b="0" lang="it-IT" sz="20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e3 is almost complete (0.6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alizing the efficiency and systema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Measurement of K charge lifetim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DCH based (Trk length and dE/dx corr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TOF  based (measuring TOF of ph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from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ca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expect to improve lifetime error below 0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42B-997C-469A-AF5A-4090572F777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-65160"/>
            <a:ext cx="640080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Non kaon” physics at KLO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50920" y="763560"/>
          <a:ext cx="8640720" cy="5332320"/>
        </p:xfrm>
        <a:graphic>
          <a:graphicData uri="http://schemas.openxmlformats.org/drawingml/2006/table">
            <a:tbl>
              <a:tblPr/>
              <a:tblGrid>
                <a:gridCol w="3243240"/>
                <a:gridCol w="5397480"/>
              </a:tblGrid>
              <a:tr h="74556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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US" sz="20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980)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</a:t>
                      </a:r>
                      <a:r>
                        <a:rPr b="0" lang="en-US" sz="20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ew measurement: prelimi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8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980)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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37 21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2)  - update in progr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76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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980)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536 209 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2002) – update in progr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60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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’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, 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541  45  </a:t>
                      </a: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2002)  – update in progr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64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s. Lett.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61 55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 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w measurement: in prog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7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alitz plot </a:t>
                      </a:r>
                      <a:r>
                        <a:rPr b="1" i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3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reliminar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eptonic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reliminar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Upper limit BR(</a:t>
                      </a:r>
                      <a:r>
                        <a:rPr b="1" i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</a:t>
                      </a:r>
                      <a:r>
                        <a:rPr b="0" lang="it-IT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591 45 </a:t>
                      </a:r>
                      <a:r>
                        <a:rPr b="0" lang="it-IT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2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pper limit BR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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eliminar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3776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New measurement in prog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dronic cross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aper submitted to 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hys. Lett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.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461-8ACC-4D0D-8A86-FA8567977F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5664240" y="4479840"/>
            <a:ext cx="3371760" cy="17575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82560" y="4494240"/>
            <a:ext cx="5329440" cy="8064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76320" y="765000"/>
            <a:ext cx="8915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o extract properties of the scalar meson f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and compare with the decay in the fully neutral channel we have searched for f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(980)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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ev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8360" y="1413000"/>
            <a:ext cx="3311640" cy="11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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via IS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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via F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125"/>
              </a:spcBef>
              <a:buClr>
                <a:srgbClr val="3333cc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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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9280" y="3029040"/>
            <a:ext cx="87631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SR cross section peaks at small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ngle respect to the bea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searched in the region 45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&lt;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&lt; 135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SR and 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can interfere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final state with same quantum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7960" y="5624640"/>
            <a:ext cx="548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339933"/>
                </a:solidFill>
                <a:latin typeface="Symbol"/>
                <a:ea typeface="Symbol"/>
              </a:rPr>
              <a:t></a:t>
            </a:r>
            <a:r>
              <a:rPr b="0" lang="it-IT" sz="2000" spc="-1" strike="noStrike">
                <a:solidFill>
                  <a:srgbClr val="339933"/>
                </a:solidFill>
                <a:latin typeface="Comic Sans MS"/>
              </a:rPr>
              <a:t>f</a:t>
            </a:r>
            <a:r>
              <a:rPr b="0" lang="it-IT" sz="2000" spc="-1" strike="noStrike" baseline="-25000">
                <a:solidFill>
                  <a:srgbClr val="339933"/>
                </a:solidFill>
                <a:latin typeface="Comic Sans MS"/>
              </a:rPr>
              <a:t>0 </a:t>
            </a:r>
            <a:r>
              <a:rPr b="0" lang="it-IT" sz="2000" spc="-1" strike="noStrike">
                <a:solidFill>
                  <a:srgbClr val="339933"/>
                </a:solidFill>
                <a:latin typeface="Comic Sans MS"/>
              </a:rPr>
              <a:t>(980) </a:t>
            </a:r>
            <a:r>
              <a:rPr b="0" lang="it-IT" sz="2000" spc="-1" strike="noStrike">
                <a:solidFill>
                  <a:srgbClr val="339933"/>
                </a:solidFill>
                <a:latin typeface="Symbol"/>
                <a:ea typeface="Symbol"/>
              </a:rPr>
              <a:t></a:t>
            </a:r>
            <a:r>
              <a:rPr b="0" lang="it-IT" sz="2000" spc="-1" strike="noStrike">
                <a:solidFill>
                  <a:srgbClr val="339933"/>
                </a:solidFill>
                <a:latin typeface="Comic Sans MS"/>
              </a:rPr>
              <a:t>via a charged kaon loo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669600">
            <a:off x="4056840" y="1916280"/>
            <a:ext cx="30384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d60093"/>
                </a:solidFill>
                <a:latin typeface="Times New Roman"/>
              </a:rPr>
              <a:t>Irreducible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2560" y="-27000"/>
            <a:ext cx="525780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60093"/>
                </a:solidFill>
                <a:latin typeface="Symbol"/>
                <a:ea typeface="Symbol"/>
              </a:rPr>
              <a:t></a:t>
            </a: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d60093"/>
                </a:solidFill>
                <a:latin typeface="Symbol"/>
                <a:ea typeface="Symbol"/>
              </a:rPr>
              <a:t></a:t>
            </a: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f</a:t>
            </a:r>
            <a:r>
              <a:rPr b="0" lang="it-IT" sz="3600" spc="-1" strike="noStrike" baseline="-25000">
                <a:solidFill>
                  <a:srgbClr val="d60093"/>
                </a:solidFill>
                <a:latin typeface="Arial"/>
              </a:rPr>
              <a:t>0 </a:t>
            </a: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(980) </a:t>
            </a:r>
            <a:r>
              <a:rPr b="0" lang="it-IT" sz="3600" spc="-1" strike="noStrike">
                <a:solidFill>
                  <a:srgbClr val="d60093"/>
                </a:solidFill>
                <a:latin typeface="Symbol"/>
                <a:ea typeface="Symbol"/>
              </a:rPr>
              <a:t>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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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138-61A6-4596-A58D-FD3E2C2D29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50920" y="692280"/>
            <a:ext cx="50450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t M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spectrum with signal plus background parametr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364000" y="338040"/>
            <a:ext cx="3724560" cy="60436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rcRect l="0" t="0" r="0" b="45428"/>
          <a:stretch/>
        </p:blipFill>
        <p:spPr>
          <a:xfrm>
            <a:off x="0" y="981000"/>
            <a:ext cx="4592520" cy="30672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9280" y="3933720"/>
            <a:ext cx="513252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it favours negative FSR –f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terfe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fitted-spectrum in reasonable agreement with the old one from f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his analysis is a promising first look for the study of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hadrons) down to the threshol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573360"/>
            <a:ext cx="136872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in by bin data-bkg sub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40360" y="981000"/>
            <a:ext cx="14400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kg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48360" y="148428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60" y="-27000"/>
            <a:ext cx="525780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60093"/>
                </a:solidFill>
                <a:latin typeface="Symbol"/>
                <a:ea typeface="Symbol"/>
              </a:rPr>
              <a:t></a:t>
            </a: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d60093"/>
                </a:solidFill>
                <a:latin typeface="Symbol"/>
                <a:ea typeface="Symbol"/>
              </a:rPr>
              <a:t></a:t>
            </a: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f</a:t>
            </a:r>
            <a:r>
              <a:rPr b="0" lang="it-IT" sz="3600" spc="-1" strike="noStrike" baseline="-25000">
                <a:solidFill>
                  <a:srgbClr val="d60093"/>
                </a:solidFill>
                <a:latin typeface="Arial"/>
              </a:rPr>
              <a:t>0 </a:t>
            </a: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(980) </a:t>
            </a:r>
            <a:r>
              <a:rPr b="0" lang="it-IT" sz="3600" spc="-1" strike="noStrike">
                <a:solidFill>
                  <a:srgbClr val="d60093"/>
                </a:solidFill>
                <a:latin typeface="Symbol"/>
                <a:ea typeface="Symbol"/>
              </a:rPr>
              <a:t>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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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FB9-FF96-44FA-ACD9-DD0D2181964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419640" y="2236680"/>
            <a:ext cx="5387760" cy="3137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6320" y="838080"/>
            <a:ext cx="8915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earch for the scalar iso-vector meson a</a:t>
            </a:r>
            <a:r>
              <a:rPr b="0" lang="en-US" sz="2000" spc="-1" strike="noStrike" baseline="-25000">
                <a:solidFill>
                  <a:srgbClr val="d60093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(980) </a:t>
            </a:r>
            <a:r>
              <a:rPr b="0" lang="en-US" sz="2000" spc="-1" strike="noStrike" baseline="30000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n </a:t>
            </a:r>
            <a:r>
              <a:rPr b="1" i="1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</a:t>
            </a:r>
            <a:r>
              <a:rPr b="1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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final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6320" y="1233360"/>
            <a:ext cx="8762400" cy="1176120"/>
            <a:chOff x="76320" y="1233360"/>
            <a:chExt cx="8762400" cy="1176120"/>
          </a:xfrm>
        </p:grpSpPr>
        <p:sp>
          <p:nvSpPr>
            <p:cNvPr id="393" name=""/>
            <p:cNvSpPr/>
            <p:nvPr/>
          </p:nvSpPr>
          <p:spPr>
            <a:xfrm>
              <a:off x="76320" y="1461960"/>
              <a:ext cx="3885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2 decay chains: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</a:t>
              </a:r>
              <a:r>
                <a:rPr b="0" lang="it-IT" sz="20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1" lang="it-IT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</a:t>
              </a:r>
              <a:r>
                <a:rPr b="1" lang="it-IT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it-IT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it-IT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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90760" y="1233360"/>
              <a:ext cx="464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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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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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5 clusters, 2 charged tra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90760" y="1766880"/>
              <a:ext cx="464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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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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5 clusters, no charged tra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809880" y="1461960"/>
              <a:ext cx="380520" cy="152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09880" y="1766880"/>
              <a:ext cx="38052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108000" y="2720880"/>
            <a:ext cx="34113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2002 KLOE result :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BR(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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Comic Sans MS"/>
              </a:rPr>
              <a:t>0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) = (7.4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0.7)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10</a:t>
            </a:r>
            <a:r>
              <a:rPr b="0" lang="en-US" sz="1800" spc="-1" strike="noStrike" baseline="30000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320" y="40384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9280" y="5300640"/>
            <a:ext cx="60962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R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</a:t>
            </a:r>
            <a:r>
              <a:rPr b="1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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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) = (7.45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0.19)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000" spc="-1" strike="noStrike" baseline="30000">
                <a:solidFill>
                  <a:srgbClr val="cc0000"/>
                </a:solidFill>
                <a:latin typeface="Comic Sans MS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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R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</a:t>
            </a:r>
            <a:r>
              <a:rPr b="1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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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) = (7.25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0.15)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000" spc="-1" strike="noStrike" baseline="30000">
                <a:solidFill>
                  <a:srgbClr val="cc0000"/>
                </a:solidFill>
                <a:latin typeface="Comic Sans MS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876600">
            <a:off x="610920" y="46526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KLOE04 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1800" y="-65160"/>
            <a:ext cx="487692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60093"/>
                </a:solidFill>
                <a:latin typeface="Symbol"/>
                <a:ea typeface="Symbol"/>
              </a:rPr>
              <a:t></a:t>
            </a: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a</a:t>
            </a:r>
            <a:r>
              <a:rPr b="0" lang="it-IT" sz="3600" spc="-1" strike="noStrike" baseline="-25000">
                <a:solidFill>
                  <a:srgbClr val="d60093"/>
                </a:solidFill>
                <a:latin typeface="Arial"/>
              </a:rPr>
              <a:t>0</a:t>
            </a: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(980) </a:t>
            </a:r>
            <a:r>
              <a:rPr b="0" lang="it-IT" sz="3600" spc="-1" strike="noStrike">
                <a:solidFill>
                  <a:srgbClr val="d60093"/>
                </a:solidFill>
                <a:latin typeface="Symbol"/>
                <a:ea typeface="Symbol"/>
              </a:rPr>
              <a:t>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</a:t>
            </a:r>
            <a:r>
              <a:rPr b="0" lang="en-US" sz="36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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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A07-D79F-47F8-B626-B6B687383D7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5400" y="0"/>
            <a:ext cx="80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Average Luminosity /day 2002 vs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30400" y="633240"/>
            <a:ext cx="32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&lt;L&gt;/day (cm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sec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6054" t="21369" r="6054" b="21369"/>
          <a:stretch/>
        </p:blipFill>
        <p:spPr>
          <a:xfrm>
            <a:off x="228600" y="1143000"/>
            <a:ext cx="4645080" cy="4284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6054" t="21369" r="6054" b="21369"/>
          <a:stretch/>
        </p:blipFill>
        <p:spPr>
          <a:xfrm>
            <a:off x="4572000" y="1143000"/>
            <a:ext cx="4645080" cy="4284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1187280" y="3284280"/>
            <a:ext cx="3129120" cy="936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562720" y="2895480"/>
            <a:ext cx="2133360" cy="1447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077320" y="2285640"/>
            <a:ext cx="457200" cy="1389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1371600"/>
            <a:ext cx="76176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8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7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1371600"/>
            <a:ext cx="76212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8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7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5410080"/>
            <a:ext cx="557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eyes-fits suggest a fast luminosity  increase after 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errag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-shut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440" y="5105520"/>
            <a:ext cx="776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3160" y="5105520"/>
            <a:ext cx="776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E17-ACD3-402A-83F6-D86BFD3CB1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76320" y="87156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is a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CP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violating decay, from theory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BR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10</a:t>
            </a:r>
            <a:r>
              <a:rPr b="0" lang="en-US" sz="2000" spc="-1" strike="noStrike" baseline="30000">
                <a:solidFill>
                  <a:srgbClr val="ff3300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– 10</a:t>
            </a:r>
            <a:r>
              <a:rPr b="0" lang="en-US" sz="2000" spc="-1" strike="noStrike" baseline="30000">
                <a:solidFill>
                  <a:srgbClr val="ff3300"/>
                </a:solidFill>
                <a:latin typeface="Comic Sans MS"/>
              </a:rPr>
              <a:t>-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776840" y="1947960"/>
            <a:ext cx="4290840" cy="3309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79280" y="1341360"/>
            <a:ext cx="8280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product o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alysis: fit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pectrum with the curve used in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alysis + signal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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rom MC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51280" y="3068640"/>
            <a:ext cx="2736720" cy="576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71640" y="2565360"/>
            <a:ext cx="3024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No signal observed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signal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&lt; 32 @ 90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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1280" y="3782880"/>
            <a:ext cx="35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R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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= 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ignal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/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ign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2360" y="5300640"/>
            <a:ext cx="8153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omic Sans MS"/>
              </a:rPr>
              <a:t>KLOE04 (preliminary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R(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</a:t>
            </a:r>
            <a:r>
              <a:rPr b="0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) &lt; 1.3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10</a:t>
            </a:r>
            <a:r>
              <a:rPr b="0" lang="en-US" sz="2000" spc="-1" strike="noStrike" baseline="30000">
                <a:solidFill>
                  <a:srgbClr val="cc0000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@ 90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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DG(2002)                      BR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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&lt; 3.3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10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-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@ 9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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4360" y="4221000"/>
            <a:ext cx="3419280" cy="12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ig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= 16.6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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from M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nd 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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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3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.43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0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7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8000" y="-65160"/>
            <a:ext cx="588492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Upper limit for</a:t>
            </a:r>
            <a:r>
              <a:rPr b="0" lang="it-IT" sz="3600" spc="-1" strike="noStrike" u="sng">
                <a:solidFill>
                  <a:srgbClr val="d60093"/>
                </a:solidFill>
                <a:uFillTx/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</a:t>
            </a:r>
            <a:r>
              <a:rPr b="0" lang="it-IT" sz="3600" spc="-1" strike="noStrike">
                <a:solidFill>
                  <a:srgbClr val="d60093"/>
                </a:solidFill>
                <a:latin typeface="Symbol"/>
                <a:ea typeface="Symbol"/>
              </a:rPr>
              <a:t>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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9D8-5D1A-473E-BDF4-6D016C2E8D8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181080" y="-2880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Search for the rare decay 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</a:t>
            </a:r>
            <a:r>
              <a:rPr b="0" lang="en-US" sz="36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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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5226120" y="227664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58760" y="714240"/>
            <a:ext cx="7797960" cy="54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Rare decay sensitive to p</a:t>
            </a:r>
            <a:r>
              <a:rPr b="0" lang="it-IT" sz="2000" spc="-1" strike="noStrike" baseline="30000">
                <a:solidFill>
                  <a:srgbClr val="ff3300"/>
                </a:solidFill>
                <a:latin typeface="Arial"/>
              </a:rPr>
              <a:t>6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term in CH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ory predictions for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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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[eV]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DM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       0.30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0.16 (Ng-Pet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ector+Axial res.            0.47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0.20 (K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ark-box diag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       0.70 – 0.92 (Ng-Peters, Nemoto et al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HPT+VDM+scalars      0.42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0.20 (Ametller et al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HPT+ENJL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       0.58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0.30 (Bellucci-Bru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Exp. rate  changed of many ord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magnitudes in the last 30 years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test measurement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GAMS 84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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R =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( 7.2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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1.4)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0" lang="it-IT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 baseline="30000">
                <a:solidFill>
                  <a:srgbClr val="3333cc"/>
                </a:solidFill>
                <a:latin typeface="Arial"/>
              </a:rPr>
              <a:t>4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0.85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0.18 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Crystall Ball 2004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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R =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(2.7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0.9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0.5)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10</a:t>
            </a:r>
            <a:r>
              <a:rPr b="0" lang="it-IT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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0.32 0.15 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SND 200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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R &lt;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8.9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0" lang="it-IT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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787-F5C2-40D5-B730-29EAE2A12BE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4427640" y="1916280"/>
            <a:ext cx="4524120" cy="4209840"/>
            <a:chOff x="4427640" y="1916280"/>
            <a:chExt cx="4524120" cy="4209840"/>
          </a:xfrm>
        </p:grpSpPr>
        <p:pic>
          <p:nvPicPr>
            <p:cNvPr id="416" name="" descr=""/>
            <p:cNvPicPr/>
            <p:nvPr/>
          </p:nvPicPr>
          <p:blipFill>
            <a:blip r:embed="rId1"/>
            <a:stretch/>
          </p:blipFill>
          <p:spPr>
            <a:xfrm>
              <a:off x="4427640" y="1916280"/>
              <a:ext cx="4524120" cy="42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5062320" y="3932280"/>
              <a:ext cx="1584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24000" y="1916280"/>
            <a:ext cx="4095720" cy="4205160"/>
            <a:chOff x="324000" y="1916280"/>
            <a:chExt cx="4095720" cy="420516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324000" y="1916280"/>
              <a:ext cx="4095720" cy="42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971640" y="3861000"/>
              <a:ext cx="1800000" cy="57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27000"/>
            <a:ext cx="7444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Search for the rare decay 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</a:t>
            </a:r>
            <a:r>
              <a:rPr b="0" lang="en-US" sz="36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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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6600" y="870120"/>
            <a:ext cx="89611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duced vi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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5 photons final st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me final state bkg: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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(S/B&lt;3000) reduced by kin. fit + mass assig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ther background dominated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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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with two lost or merged phot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S/B =17000). Reduced by likelihood discrimination to identify merged clust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88560" y="2421000"/>
            <a:ext cx="1775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Exp. signal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Gams 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C 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65280" y="2421000"/>
            <a:ext cx="1775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Exp. signal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0.5 CB 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C 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60360" y="407664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5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B26-90D6-42DE-A3E5-77E17334998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350496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</a:t>
            </a:r>
            <a:r>
              <a:rPr b="0" lang="en-US" sz="3600" spc="-1" strike="noStrike">
                <a:solidFill>
                  <a:srgbClr val="d60093"/>
                </a:solidFill>
                <a:latin typeface="Comic Sans MS"/>
              </a:rPr>
              <a:t> – </a:t>
            </a:r>
            <a:r>
              <a:rPr b="0" lang="en-US" sz="3600" spc="-1" strike="noStrike">
                <a:solidFill>
                  <a:srgbClr val="d60093"/>
                </a:solidFill>
                <a:latin typeface="Symbol"/>
                <a:ea typeface="Symbol"/>
              </a:rPr>
              <a:t></a:t>
            </a:r>
            <a:r>
              <a:rPr b="0" lang="en-US" sz="3600" spc="-1" strike="noStrike">
                <a:solidFill>
                  <a:srgbClr val="d60093"/>
                </a:solidFill>
                <a:latin typeface="Comic Sans MS"/>
              </a:rPr>
              <a:t>’ 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mix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320" y="685800"/>
            <a:ext cx="9067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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-</a:t>
            </a:r>
            <a:r>
              <a:rPr b="1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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’</a:t>
            </a:r>
            <a:r>
              <a:rPr b="1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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system studied by measuring the ratio R = BR(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</a:t>
            </a:r>
            <a:r>
              <a:rPr b="1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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’</a:t>
            </a:r>
            <a:r>
              <a:rPr b="1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)/BR(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</a:t>
            </a:r>
            <a:r>
              <a:rPr b="1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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R relates to the pseudoscalar mixing angle in the flavor basis and </a:t>
            </a:r>
            <a:r>
              <a:rPr b="1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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’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gluonic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9280" y="20988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signal topolo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8000" y="1844640"/>
            <a:ext cx="431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’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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’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1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’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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’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1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0360" y="1989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</a:t>
            </a:r>
            <a:r>
              <a:rPr b="0" lang="en-US" sz="2400" spc="-1" strike="noStrike" baseline="30000">
                <a:solidFill>
                  <a:srgbClr val="cc0000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7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final s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87320" y="2684520"/>
            <a:ext cx="3353040" cy="2616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5021280" y="2679840"/>
            <a:ext cx="2790720" cy="26208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74760" y="1484280"/>
            <a:ext cx="822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2002 KLOE result (</a:t>
            </a: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Phys. Lett. B541, 45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) :  R = (4.7 </a:t>
            </a:r>
            <a:r>
              <a:rPr b="0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 0.5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Comic Sans MS"/>
              </a:rPr>
              <a:t>stat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 0.3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Comic Sans MS"/>
              </a:rPr>
              <a:t>syst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5073480"/>
            <a:ext cx="838440" cy="370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18280" y="5013360"/>
            <a:ext cx="838440" cy="370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9720" y="5769000"/>
            <a:ext cx="7010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R = BR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</a:t>
            </a:r>
            <a:r>
              <a:rPr b="1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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’</a:t>
            </a:r>
            <a:r>
              <a:rPr b="1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)/BR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</a:t>
            </a:r>
            <a:r>
              <a:rPr b="1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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) = (4.9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0.1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stat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0.2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syst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000" spc="-1" strike="noStrike" baseline="30000">
                <a:solidFill>
                  <a:srgbClr val="cc0000"/>
                </a:solidFill>
                <a:latin typeface="Comic Sans MS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876600">
            <a:off x="6404760" y="551160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omic Sans MS"/>
              </a:rPr>
              <a:t>KLOE04 prelim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863-1012-40E6-83B0-AD40A2FAC6C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11280" y="836640"/>
            <a:ext cx="806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KLOE 2004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(good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ata taking start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(June 1</a:t>
            </a:r>
            <a:r>
              <a:rPr b="0" lang="it-IT" sz="24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April 18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ith  substantial modifications in the machine configuration and we have runned 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months ( of course with Ferragosto shutdown ) achieving a substantial improvement in the running cond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Da</a:t>
            </a:r>
            <a:r>
              <a:rPr b="0" lang="it-IT" sz="24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ne shows a very positive trend and the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lumin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barried of 10</a:t>
            </a:r>
            <a:r>
              <a:rPr b="1" lang="it-IT" sz="2400" spc="-1" strike="noStrike" baseline="30000">
                <a:solidFill>
                  <a:srgbClr val="ff3300"/>
                </a:solidFill>
                <a:latin typeface="Arial"/>
              </a:rPr>
              <a:t>32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cm</a:t>
            </a:r>
            <a:r>
              <a:rPr b="1" lang="it-IT" sz="2400" spc="-1" strike="noStrike" baseline="30000">
                <a:solidFill>
                  <a:srgbClr val="ff3300"/>
                </a:solidFill>
                <a:latin typeface="Arial"/>
              </a:rPr>
              <a:t>-2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sec</a:t>
            </a:r>
            <a:r>
              <a:rPr b="1" lang="it-IT" sz="2400" spc="-1" strike="noStrike" baseline="30000">
                <a:solidFill>
                  <a:srgbClr val="ff3300"/>
                </a:solidFill>
                <a:latin typeface="Arial"/>
              </a:rPr>
              <a:t>-1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has been broken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the continuous cooperation with  the accelerator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lowed us to lower the 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background at level 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Arial"/>
              </a:rPr>
              <a:t>≤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the online monitoring allows us also to keep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within 250 keV from th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DAQ is subtaining the incoming rate without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8360" y="0"/>
            <a:ext cx="760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KLOE Operations 2004: summary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C3B-7217-4377-9C22-C5828F1643A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50920" y="836640"/>
            <a:ext cx="835344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he KLOE detector is performing  wel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t least  as well as  in 2002) and the continuous refinements in the calibration techniques allows us to 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provide  a set of calibration onli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in within 2 hours from the end of each run) for the calorimeter and 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to monitor the DCH respons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ntinu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TAREC program has been modified to insert latest filters for new tags , improvements on FILFO and selection on Bhabha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ffline reconstruction follows closely data 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d DST’s are reconstructed much faster than in the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8360" y="0"/>
            <a:ext cx="760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KLOE Operations 2004: summary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BA5-BB8C-4EE7-8188-99A3B0A81C0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152280" y="765000"/>
            <a:ext cx="794880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pper limit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hys. Lett. B 591, 49-54 (2004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(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hys. Lett. B 591, 49-54 (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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+e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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with 0.6 GeV &lt;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 &lt; 1 GeV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ubmitted to PL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16000" y="2781360"/>
            <a:ext cx="4032360" cy="130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R(K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cays: measuring all B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life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litz plot analy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9640" y="1989000"/>
            <a:ext cx="4248360" cy="80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pper limit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(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ptonic wid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87160" y="2205000"/>
            <a:ext cx="2059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raft in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933200">
            <a:off x="5301720" y="3227760"/>
            <a:ext cx="16117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ry adv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35040" y="3933720"/>
            <a:ext cx="678204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cays: measuring all B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0.6 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cays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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litz plot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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alars: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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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update of 2002 publi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update of 2002 pub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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update of 2003 pub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ross-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2665200">
            <a:off x="7326720" y="4668840"/>
            <a:ext cx="1847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ork in pro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5280" y="-2700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Analysis status -  Conclus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AE1-F7B4-476A-9E1C-2D09CA745E9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95280" y="-2700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Milestones 2004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9480" y="712800"/>
            <a:ext cx="871056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1: Presa dati e manuten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2: Ricostruzione dati, ONLI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3:DST produzione …, quasi ONLI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4: Installazione nuova libreri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rriving 27/09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5: Studio del filtro di Livello 4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6: MC per analisi in corso 2003-2004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7: V(us) da 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8: Sigma(adronica) fino alla sogli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dv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9: BR e Asimmetria Ks semilep a 0.4%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very adv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10: BR di eta ed eta’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dv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16360" y="4726080"/>
            <a:ext cx="863640" cy="647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7AF-A983-417B-8DBD-3A19F73EB93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Spare-sl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9773000">
            <a:off x="1954440" y="2822040"/>
            <a:ext cx="491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PAR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12F-4B97-4130-BE96-D12AA6B0F8F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219320" y="1484280"/>
            <a:ext cx="7162560" cy="544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R(K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= (7.09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0.07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0.08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sy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90920" y="3068640"/>
            <a:ext cx="4190760" cy="544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sy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" y="4941720"/>
            <a:ext cx="8153280" cy="1134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(x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) = ( 0.0136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± 0.0031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at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± 0.0029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yst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) with PDG   BR(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i="1" lang="it-IT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Re(x</a:t>
            </a:r>
            <a:r>
              <a:rPr b="1" lang="it-IT" sz="2000" spc="-1" strike="noStrike" baseline="-25000">
                <a:solidFill>
                  <a:srgbClr val="3333cc"/>
                </a:solidFill>
                <a:latin typeface="Arial"/>
              </a:rPr>
              <a:t>+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) = ( 0.0017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Arial"/>
              </a:rPr>
              <a:t>± 0.0029</a:t>
            </a:r>
            <a:r>
              <a:rPr b="1" lang="it-IT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stat 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Arial"/>
              </a:rPr>
              <a:t>± 0.0029</a:t>
            </a:r>
            <a:r>
              <a:rPr b="1" lang="it-IT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syst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Arial"/>
              </a:rPr>
              <a:t>) with KTeV BR(</a:t>
            </a:r>
            <a:r>
              <a:rPr b="1" i="1" lang="it-IT" sz="2000" spc="-1" strike="noStrike">
                <a:solidFill>
                  <a:srgbClr val="3333cc"/>
                </a:solidFill>
                <a:latin typeface="Arial"/>
                <a:ea typeface="Arial"/>
              </a:rPr>
              <a:t>K</a:t>
            </a:r>
            <a:r>
              <a:rPr b="1" i="1" lang="it-IT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L</a:t>
            </a:r>
            <a:r>
              <a:rPr b="1" i="1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</a:t>
            </a:r>
            <a:r>
              <a:rPr b="1" i="1" lang="it-IT" sz="20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r>
              <a:rPr b="1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(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= (-0.0018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± 0.0041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at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± 0.0045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ys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)  CP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2200" y="4149720"/>
            <a:ext cx="41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Test of the rule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S=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8880" y="2276640"/>
            <a:ext cx="33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Charge a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8880" y="83808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Branching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4360" y="-27000"/>
            <a:ext cx="59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1" lang="it-IT" sz="32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r>
              <a:rPr b="1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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</a:rPr>
              <a:t>e</a:t>
            </a:r>
            <a:r>
              <a:rPr b="1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</a:rPr>
              <a:t>: preliminary  results</a:t>
            </a:r>
            <a:r>
              <a:rPr b="1" i="1" lang="it-IT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257880" y="3860640"/>
            <a:ext cx="2427480" cy="405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f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3•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3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0E9-3D0E-4313-8CE6-5F92B3CA981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2680" y="0"/>
            <a:ext cx="60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60093"/>
                </a:solidFill>
                <a:latin typeface="Arial"/>
              </a:rPr>
              <a:t>Average Luminosities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00720" y="1630440"/>
            <a:ext cx="4624200" cy="3743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4920" y="1584360"/>
            <a:ext cx="4473720" cy="378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044-D970-4436-A8C9-A1E9F5CB3F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276720" y="106668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=d=0 if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PT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=d=0 by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34320" y="1447920"/>
            <a:ext cx="1295280" cy="9370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i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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= 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1600" spc="-1" strike="noStrike" baseline="30000">
                <a:solidFill>
                  <a:srgbClr val="3333cc"/>
                </a:solidFill>
                <a:latin typeface="Arial"/>
              </a:rPr>
              <a:t>*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/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i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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= 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1600" spc="-1" strike="noStrike" baseline="30000">
                <a:solidFill>
                  <a:srgbClr val="3333cc"/>
                </a:solidFill>
                <a:latin typeface="Arial"/>
              </a:rPr>
              <a:t>*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/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y   = 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b/a</a:t>
            </a:r>
            <a:r>
              <a:rPr b="1" i="1" lang="it-IT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320" y="2525760"/>
            <a:ext cx="70866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(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b/a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Arial"/>
              </a:rPr>
              <a:t>L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(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/a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32600" y="3718080"/>
            <a:ext cx="1028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PT 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80000" y="3718080"/>
            <a:ext cx="1028160" cy="703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PT 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05120" y="3745080"/>
            <a:ext cx="68580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7400" y="3820680"/>
            <a:ext cx="270000" cy="19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556960" y="3718080"/>
            <a:ext cx="120204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nd C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162840" y="4094280"/>
            <a:ext cx="466560" cy="24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486320" y="3789360"/>
            <a:ext cx="466560" cy="24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971800" y="3789360"/>
            <a:ext cx="466560" cy="24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880" y="914400"/>
            <a:ext cx="579132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762120"/>
            <a:ext cx="3429000" cy="16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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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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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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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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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920" y="-133200"/>
            <a:ext cx="858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useful formul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277400" y="2666880"/>
            <a:ext cx="154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314400" y="914400"/>
            <a:ext cx="26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plitu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3560" y="4653000"/>
            <a:ext cx="769608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+4Re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Re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 (B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/ B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-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 (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B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B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)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8•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2 •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464240" y="5084640"/>
            <a:ext cx="933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0880" y="4437000"/>
            <a:ext cx="853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7D3-5252-43CF-8766-EC919033EEC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60200" y="-100080"/>
            <a:ext cx="858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: useful formul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320" y="685800"/>
            <a:ext cx="7162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precise test of unitarity possible at present comes from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ow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-193680" y="1600200"/>
            <a:ext cx="77072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est if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 at few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G02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0042 ±0.001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super-allowed 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rmi transitions, 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ecays:    2|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u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u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0.0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semileptonic kaon decays (PDG 2002 fit):                     2|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0.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80280" y="1143000"/>
            <a:ext cx="456444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|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|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|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91960" y="2666880"/>
            <a:ext cx="5979240" cy="475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K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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ew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0) 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00" y="3200400"/>
            <a:ext cx="646740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 I 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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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( 1+</a:t>
            </a:r>
            <a:r>
              <a:rPr b="0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0" i="1" lang="en-US" sz="1400" spc="-1" strike="noStrike" baseline="-25000">
                <a:solidFill>
                  <a:srgbClr val="3333cc"/>
                </a:solidFill>
                <a:latin typeface="Arial"/>
              </a:rPr>
              <a:t>i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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   phase space corr. due to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radiatio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0) 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K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0)  (1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SU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)(1+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e2p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spin breaking effects both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ong and electromagnetic ori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K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 factor at zero momentum transfer: pure theory calculation 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15200" y="5229360"/>
            <a:ext cx="35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12560" y="4700520"/>
            <a:ext cx="4553640" cy="937080"/>
            <a:chOff x="412560" y="4700520"/>
            <a:chExt cx="4553640" cy="937080"/>
          </a:xfrm>
        </p:grpSpPr>
        <p:sp>
          <p:nvSpPr>
            <p:cNvPr id="490" name=""/>
            <p:cNvSpPr/>
            <p:nvPr/>
          </p:nvSpPr>
          <p:spPr>
            <a:xfrm>
              <a:off x="412560" y="4700520"/>
              <a:ext cx="8208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|V</a:t>
              </a:r>
              <a:r>
                <a:rPr b="0" lang="it-IT" sz="2200" spc="-1" strike="noStrike" baseline="-25000">
                  <a:solidFill>
                    <a:srgbClr val="000000"/>
                  </a:solidFill>
                  <a:latin typeface="Arial"/>
                </a:rPr>
                <a:t>u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0320" y="5162400"/>
              <a:ext cx="6926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it-IT" sz="2200" spc="-1" strike="noStrike" baseline="-25000">
                  <a:solidFill>
                    <a:srgbClr val="000000"/>
                  </a:solidFill>
                  <a:latin typeface="Arial"/>
                </a:rPr>
                <a:t>us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45720" y="4700520"/>
              <a:ext cx="49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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33800" y="5157720"/>
              <a:ext cx="3772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it-IT" sz="2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45600" y="4700520"/>
              <a:ext cx="5144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</a:t>
              </a:r>
              <a:r>
                <a:rPr b="0" lang="it-IT" sz="2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95120" y="4700520"/>
              <a:ext cx="1171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</a:rPr>
                <a:t>K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0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162400"/>
              <a:ext cx="10339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</a:rPr>
                <a:t>K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0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15280" y="4949640"/>
              <a:ext cx="2962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= 0.5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0.05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9760" y="5170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81360" y="51577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51080" y="5157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62440" y="515772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936960" y="5715000"/>
            <a:ext cx="81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.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91320" y="4648320"/>
            <a:ext cx="3047760" cy="173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/BR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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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%)        (%)      (%)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,e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PDG      0.7        0.8       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,e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KTeV    0.3        (0.8)    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,e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KLOE   1.0        (0.1)    (2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PDG     1.2         0.2      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496-8267-4F06-B603-B252DF80355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5576760" y="876240"/>
            <a:ext cx="2740320" cy="32004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1680" y="10800"/>
            <a:ext cx="2667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it-IT" sz="32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 life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8600" y="765000"/>
            <a:ext cx="5181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asured in 1972, dominates the error on V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Arial"/>
              </a:rPr>
              <a:t>L,e3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 KLOE the K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momentum is well known, and 30% of the kaons decays inside the dete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sing 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it-IT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i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events tagged with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it-IT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i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i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, the neutral vertex is reconstructed using time of flight technique (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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1.5 c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3      E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20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57200" y="2781360"/>
            <a:ext cx="3125520" cy="3436560"/>
            <a:chOff x="457200" y="2781360"/>
            <a:chExt cx="3125520" cy="3436560"/>
          </a:xfrm>
        </p:grpSpPr>
        <p:pic>
          <p:nvPicPr>
            <p:cNvPr id="508" name="" descr=""/>
            <p:cNvPicPr/>
            <p:nvPr/>
          </p:nvPicPr>
          <p:blipFill>
            <a:blip r:embed="rId2"/>
            <a:srcRect l="0" t="36120" r="7483" b="-1438"/>
            <a:stretch/>
          </p:blipFill>
          <p:spPr>
            <a:xfrm>
              <a:off x="457200" y="2781360"/>
              <a:ext cx="3125520" cy="34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106360" y="3831120"/>
              <a:ext cx="17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72800" y="3162600"/>
              <a:ext cx="898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it-IT" sz="2400" spc="-1" strike="noStrike" baseline="-25000">
                  <a:solidFill>
                    <a:srgbClr val="000000"/>
                  </a:solidFill>
                  <a:latin typeface="Arial"/>
                </a:rPr>
                <a:t>bu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4648320" y="4149720"/>
            <a:ext cx="43434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ime scale calibrated by measuring the bunch crossing period with 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ev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ecked by measuring the difference between charged and neutral vertex positions in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it-IT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i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i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event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/L ~ 0.1%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6C3-7BD9-41C7-BB9E-2F9F3A7F32A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-171720"/>
            <a:ext cx="71391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±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lifetime: motiv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3434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lative error on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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ters directly (with a factor ½) in the determination of Vus from semileptonic dec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PDG value has an uncertainty 0.2% which should be enough bu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nce 1969 no experiment has measured both charged kaon life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4286160" y="1752480"/>
            <a:ext cx="5181840" cy="35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CB1-C5D6-4DE0-97BD-A01261024DC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-84600"/>
            <a:ext cx="7427880" cy="56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A first look at K lifetime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6320" y="1523880"/>
            <a:ext cx="4352760" cy="4500720"/>
            <a:chOff x="76320" y="1523880"/>
            <a:chExt cx="4352760" cy="4500720"/>
          </a:xfrm>
        </p:grpSpPr>
        <p:sp>
          <p:nvSpPr>
            <p:cNvPr id="517" name=""/>
            <p:cNvSpPr/>
            <p:nvPr/>
          </p:nvSpPr>
          <p:spPr>
            <a:xfrm flipV="1">
              <a:off x="2333880" y="1780920"/>
              <a:ext cx="2039760" cy="951120"/>
            </a:xfrm>
            <a:custGeom>
              <a:avLst/>
              <a:gdLst/>
              <a:ahLst/>
              <a:rect l="l" t="t" r="r" b="b"/>
              <a:pathLst>
                <a:path w="1428" h="666">
                  <a:moveTo>
                    <a:pt x="1" y="0"/>
                  </a:moveTo>
                  <a:lnTo>
                    <a:pt x="0" y="666"/>
                  </a:lnTo>
                  <a:lnTo>
                    <a:pt x="1428" y="666"/>
                  </a:lnTo>
                  <a:lnTo>
                    <a:pt x="1428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333880" y="1780920"/>
              <a:ext cx="2039760" cy="951120"/>
            </a:xfrm>
            <a:custGeom>
              <a:avLst/>
              <a:gdLst/>
              <a:ahLst/>
              <a:rect l="l" t="t" r="r" b="b"/>
              <a:pathLst>
                <a:path w="1428" h="666">
                  <a:moveTo>
                    <a:pt x="1" y="0"/>
                  </a:moveTo>
                  <a:lnTo>
                    <a:pt x="0" y="666"/>
                  </a:lnTo>
                  <a:lnTo>
                    <a:pt x="1428" y="666"/>
                  </a:lnTo>
                  <a:lnTo>
                    <a:pt x="1428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14520" y="1814400"/>
              <a:ext cx="18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2441160" y="1814400"/>
              <a:ext cx="18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441520" y="1813680"/>
              <a:ext cx="46080" cy="666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" y="46"/>
                  </a:moveTo>
                  <a:lnTo>
                    <a:pt x="15" y="46"/>
                  </a:lnTo>
                  <a:lnTo>
                    <a:pt x="23" y="45"/>
                  </a:lnTo>
                  <a:lnTo>
                    <a:pt x="27" y="40"/>
                  </a:lnTo>
                  <a:lnTo>
                    <a:pt x="29" y="36"/>
                  </a:lnTo>
                  <a:lnTo>
                    <a:pt x="32" y="28"/>
                  </a:lnTo>
                  <a:lnTo>
                    <a:pt x="32" y="18"/>
                  </a:lnTo>
                  <a:lnTo>
                    <a:pt x="29" y="10"/>
                  </a:lnTo>
                  <a:lnTo>
                    <a:pt x="27" y="6"/>
                  </a:lnTo>
                  <a:lnTo>
                    <a:pt x="23" y="1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14520" y="1949400"/>
              <a:ext cx="180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14520" y="1949400"/>
              <a:ext cx="42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14520" y="1982520"/>
              <a:ext cx="2700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14520" y="2017440"/>
              <a:ext cx="4284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475000" y="1973160"/>
              <a:ext cx="1440" cy="44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2476440" y="1972440"/>
              <a:ext cx="36720" cy="442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22"/>
                  </a:moveTo>
                  <a:lnTo>
                    <a:pt x="7" y="30"/>
                  </a:lnTo>
                  <a:lnTo>
                    <a:pt x="11" y="31"/>
                  </a:lnTo>
                  <a:lnTo>
                    <a:pt x="17" y="31"/>
                  </a:lnTo>
                  <a:lnTo>
                    <a:pt x="22" y="30"/>
                  </a:lnTo>
                  <a:lnTo>
                    <a:pt x="25" y="22"/>
                  </a:lnTo>
                  <a:lnTo>
                    <a:pt x="25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2540160" y="1948680"/>
              <a:ext cx="17280" cy="6804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1" y="48"/>
                  </a:moveTo>
                  <a:lnTo>
                    <a:pt x="0" y="9"/>
                  </a:lnTo>
                  <a:lnTo>
                    <a:pt x="3" y="3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32240" y="1973160"/>
              <a:ext cx="2052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76520" y="1973160"/>
              <a:ext cx="1800" cy="44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2576520" y="1972440"/>
              <a:ext cx="25560" cy="190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3" y="7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3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2616120" y="1947600"/>
              <a:ext cx="504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3" y="0"/>
                  </a:lnTo>
                  <a:lnTo>
                    <a:pt x="4" y="3"/>
                  </a:lnTo>
                  <a:lnTo>
                    <a:pt x="3" y="4"/>
                  </a:lnTo>
                  <a:lnTo>
                    <a:pt x="0" y="3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19360" y="1973160"/>
              <a:ext cx="1800" cy="44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641680" y="1972440"/>
              <a:ext cx="38160" cy="4428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0" y="18"/>
                  </a:moveTo>
                  <a:lnTo>
                    <a:pt x="27" y="18"/>
                  </a:lnTo>
                  <a:lnTo>
                    <a:pt x="27" y="22"/>
                  </a:lnTo>
                  <a:lnTo>
                    <a:pt x="25" y="27"/>
                  </a:lnTo>
                  <a:lnTo>
                    <a:pt x="22" y="30"/>
                  </a:lnTo>
                  <a:lnTo>
                    <a:pt x="18" y="31"/>
                  </a:lnTo>
                  <a:lnTo>
                    <a:pt x="12" y="31"/>
                  </a:lnTo>
                  <a:lnTo>
                    <a:pt x="7" y="30"/>
                  </a:lnTo>
                  <a:lnTo>
                    <a:pt x="3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3" y="7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7" y="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698920" y="1972440"/>
              <a:ext cx="36360" cy="4428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25"/>
                  </a:moveTo>
                  <a:lnTo>
                    <a:pt x="24" y="30"/>
                  </a:lnTo>
                  <a:lnTo>
                    <a:pt x="17" y="31"/>
                  </a:lnTo>
                  <a:lnTo>
                    <a:pt x="11" y="31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8" y="18"/>
                  </a:lnTo>
                  <a:lnTo>
                    <a:pt x="20" y="16"/>
                  </a:lnTo>
                  <a:lnTo>
                    <a:pt x="24" y="13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4" y="3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3" y="3"/>
                  </a:lnTo>
                  <a:lnTo>
                    <a:pt x="0" y="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14520" y="2085840"/>
              <a:ext cx="18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14520" y="2085840"/>
              <a:ext cx="270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2441160" y="2085840"/>
              <a:ext cx="270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467080" y="2085840"/>
              <a:ext cx="144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2487600" y="2108160"/>
              <a:ext cx="39960" cy="460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" y="18"/>
                  </a:moveTo>
                  <a:lnTo>
                    <a:pt x="27" y="18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3" y="29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8" y="29"/>
                  </a:lnTo>
                  <a:lnTo>
                    <a:pt x="3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3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7" y="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2587320" y="2108160"/>
              <a:ext cx="1800" cy="460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2546280" y="2108160"/>
              <a:ext cx="41400" cy="460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24"/>
                  </a:moveTo>
                  <a:lnTo>
                    <a:pt x="24" y="29"/>
                  </a:lnTo>
                  <a:lnTo>
                    <a:pt x="19" y="32"/>
                  </a:lnTo>
                  <a:lnTo>
                    <a:pt x="12" y="32"/>
                  </a:lnTo>
                  <a:lnTo>
                    <a:pt x="7" y="29"/>
                  </a:lnTo>
                  <a:lnTo>
                    <a:pt x="3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3" y="6"/>
                  </a:lnTo>
                  <a:lnTo>
                    <a:pt x="7" y="2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4" y="2"/>
                  </a:lnTo>
                  <a:lnTo>
                    <a:pt x="28" y="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2613240" y="2108160"/>
              <a:ext cx="1440" cy="460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2614680" y="2108160"/>
              <a:ext cx="31680" cy="4608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23"/>
                  </a:moveTo>
                  <a:lnTo>
                    <a:pt x="5" y="29"/>
                  </a:lnTo>
                  <a:lnTo>
                    <a:pt x="10" y="32"/>
                  </a:lnTo>
                  <a:lnTo>
                    <a:pt x="17" y="32"/>
                  </a:lnTo>
                  <a:lnTo>
                    <a:pt x="22" y="29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14520" y="2222280"/>
              <a:ext cx="18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2414520" y="2221560"/>
              <a:ext cx="46080" cy="3204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22"/>
                  </a:moveTo>
                  <a:lnTo>
                    <a:pt x="21" y="22"/>
                  </a:lnTo>
                  <a:lnTo>
                    <a:pt x="28" y="19"/>
                  </a:lnTo>
                  <a:lnTo>
                    <a:pt x="30" y="18"/>
                  </a:lnTo>
                  <a:lnTo>
                    <a:pt x="33" y="13"/>
                  </a:lnTo>
                  <a:lnTo>
                    <a:pt x="33" y="9"/>
                  </a:lnTo>
                  <a:lnTo>
                    <a:pt x="30" y="4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38640" y="2254320"/>
              <a:ext cx="2196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482920" y="2222280"/>
              <a:ext cx="144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82920" y="2222280"/>
              <a:ext cx="2556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2508480" y="2222280"/>
              <a:ext cx="252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533680" y="2222280"/>
              <a:ext cx="18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557440" y="2222280"/>
              <a:ext cx="4464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32" y="41"/>
                  </a:moveTo>
                  <a:lnTo>
                    <a:pt x="27" y="45"/>
                  </a:lnTo>
                  <a:lnTo>
                    <a:pt x="21" y="48"/>
                  </a:lnTo>
                  <a:lnTo>
                    <a:pt x="12" y="48"/>
                  </a:lnTo>
                  <a:lnTo>
                    <a:pt x="5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7"/>
                  </a:lnTo>
                  <a:lnTo>
                    <a:pt x="23" y="23"/>
                  </a:lnTo>
                  <a:lnTo>
                    <a:pt x="27" y="21"/>
                  </a:lnTo>
                  <a:lnTo>
                    <a:pt x="30" y="18"/>
                  </a:lnTo>
                  <a:lnTo>
                    <a:pt x="32" y="14"/>
                  </a:lnTo>
                  <a:lnTo>
                    <a:pt x="32" y="8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5" y="3"/>
                  </a:lnTo>
                  <a:lnTo>
                    <a:pt x="0" y="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414520" y="2358360"/>
              <a:ext cx="46080" cy="666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0" y="46"/>
                  </a:moveTo>
                  <a:lnTo>
                    <a:pt x="0" y="13"/>
                  </a:lnTo>
                  <a:lnTo>
                    <a:pt x="3" y="6"/>
                  </a:lnTo>
                  <a:lnTo>
                    <a:pt x="7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1"/>
                  </a:lnTo>
                  <a:lnTo>
                    <a:pt x="30" y="6"/>
                  </a:lnTo>
                  <a:lnTo>
                    <a:pt x="33" y="13"/>
                  </a:lnTo>
                  <a:lnTo>
                    <a:pt x="33" y="4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487600" y="2359080"/>
              <a:ext cx="18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487600" y="2358360"/>
              <a:ext cx="42840" cy="66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46"/>
                  </a:moveTo>
                  <a:lnTo>
                    <a:pt x="15" y="46"/>
                  </a:lnTo>
                  <a:lnTo>
                    <a:pt x="22" y="45"/>
                  </a:lnTo>
                  <a:lnTo>
                    <a:pt x="27" y="40"/>
                  </a:lnTo>
                  <a:lnTo>
                    <a:pt x="28" y="36"/>
                  </a:lnTo>
                  <a:lnTo>
                    <a:pt x="31" y="28"/>
                  </a:lnTo>
                  <a:lnTo>
                    <a:pt x="31" y="18"/>
                  </a:lnTo>
                  <a:lnTo>
                    <a:pt x="28" y="10"/>
                  </a:lnTo>
                  <a:lnTo>
                    <a:pt x="27" y="6"/>
                  </a:lnTo>
                  <a:lnTo>
                    <a:pt x="22" y="1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2552760" y="2359080"/>
              <a:ext cx="14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54200" y="2359080"/>
              <a:ext cx="414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54200" y="2390760"/>
              <a:ext cx="270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613240" y="2359080"/>
              <a:ext cx="14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614680" y="2425680"/>
              <a:ext cx="3636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60760" y="2359080"/>
              <a:ext cx="158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2676600" y="2359080"/>
              <a:ext cx="158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692440" y="2359080"/>
              <a:ext cx="176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2710080" y="2359080"/>
              <a:ext cx="1728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411640" y="2493720"/>
              <a:ext cx="50760" cy="6840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14" y="48"/>
                  </a:moveTo>
                  <a:lnTo>
                    <a:pt x="9" y="45"/>
                  </a:lnTo>
                  <a:lnTo>
                    <a:pt x="5" y="40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5" y="7"/>
                  </a:lnTo>
                  <a:lnTo>
                    <a:pt x="9" y="3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6" y="18"/>
                  </a:lnTo>
                  <a:lnTo>
                    <a:pt x="36" y="30"/>
                  </a:lnTo>
                  <a:lnTo>
                    <a:pt x="35" y="36"/>
                  </a:lnTo>
                  <a:lnTo>
                    <a:pt x="32" y="40"/>
                  </a:lnTo>
                  <a:lnTo>
                    <a:pt x="27" y="45"/>
                  </a:lnTo>
                  <a:lnTo>
                    <a:pt x="2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76440" y="2493720"/>
              <a:ext cx="2556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2501640" y="2493720"/>
              <a:ext cx="270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544840" y="2493720"/>
              <a:ext cx="144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44840" y="2493720"/>
              <a:ext cx="4284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44840" y="2525760"/>
              <a:ext cx="2556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02080" y="2493720"/>
              <a:ext cx="144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02080" y="2562120"/>
              <a:ext cx="396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652840" y="2493720"/>
              <a:ext cx="144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667240" y="2493720"/>
              <a:ext cx="1728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84520" y="2493720"/>
              <a:ext cx="144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698920" y="2493720"/>
              <a:ext cx="1728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2404800" y="2630520"/>
              <a:ext cx="2556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30720" y="2630520"/>
              <a:ext cx="266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14520" y="2676600"/>
              <a:ext cx="334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473560" y="2630520"/>
              <a:ext cx="14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73560" y="2697120"/>
              <a:ext cx="396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2527560" y="2630520"/>
              <a:ext cx="14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29000" y="2697120"/>
              <a:ext cx="396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2581200" y="2629800"/>
              <a:ext cx="47880" cy="666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3" y="36"/>
                  </a:moveTo>
                  <a:lnTo>
                    <a:pt x="31" y="41"/>
                  </a:lnTo>
                  <a:lnTo>
                    <a:pt x="27" y="45"/>
                  </a:lnTo>
                  <a:lnTo>
                    <a:pt x="22" y="47"/>
                  </a:lnTo>
                  <a:lnTo>
                    <a:pt x="13" y="47"/>
                  </a:lnTo>
                  <a:lnTo>
                    <a:pt x="9" y="45"/>
                  </a:lnTo>
                  <a:lnTo>
                    <a:pt x="4" y="41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4" y="6"/>
                  </a:lnTo>
                  <a:lnTo>
                    <a:pt x="9" y="2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1" y="6"/>
                  </a:lnTo>
                  <a:lnTo>
                    <a:pt x="33" y="11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2650680" y="2630520"/>
              <a:ext cx="18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97120" y="2630520"/>
              <a:ext cx="18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52840" y="2663640"/>
              <a:ext cx="4428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714760" y="2630520"/>
              <a:ext cx="252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39960" y="2630520"/>
              <a:ext cx="2556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22680" y="2676600"/>
              <a:ext cx="316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2779920" y="2630520"/>
              <a:ext cx="14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81360" y="2630520"/>
              <a:ext cx="446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826000" y="2630520"/>
              <a:ext cx="14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224160" y="1854000"/>
              <a:ext cx="6048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316320" y="1813680"/>
              <a:ext cx="14400" cy="6660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0" y="37"/>
                  </a:moveTo>
                  <a:lnTo>
                    <a:pt x="4" y="40"/>
                  </a:lnTo>
                  <a:lnTo>
                    <a:pt x="10" y="46"/>
                  </a:lnTo>
                  <a:lnTo>
                    <a:pt x="10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70320" y="1813680"/>
              <a:ext cx="46080" cy="666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15" y="46"/>
                  </a:moveTo>
                  <a:lnTo>
                    <a:pt x="7" y="45"/>
                  </a:lnTo>
                  <a:lnTo>
                    <a:pt x="3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1"/>
                  </a:lnTo>
                  <a:lnTo>
                    <a:pt x="30" y="9"/>
                  </a:lnTo>
                  <a:lnTo>
                    <a:pt x="33" y="19"/>
                  </a:lnTo>
                  <a:lnTo>
                    <a:pt x="33" y="27"/>
                  </a:lnTo>
                  <a:lnTo>
                    <a:pt x="30" y="37"/>
                  </a:lnTo>
                  <a:lnTo>
                    <a:pt x="25" y="45"/>
                  </a:lnTo>
                  <a:lnTo>
                    <a:pt x="19" y="46"/>
                  </a:lnTo>
                  <a:lnTo>
                    <a:pt x="15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3435480" y="1813680"/>
              <a:ext cx="46080" cy="666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" y="36"/>
                  </a:moveTo>
                  <a:lnTo>
                    <a:pt x="2" y="37"/>
                  </a:lnTo>
                  <a:lnTo>
                    <a:pt x="5" y="42"/>
                  </a:lnTo>
                  <a:lnTo>
                    <a:pt x="6" y="45"/>
                  </a:lnTo>
                  <a:lnTo>
                    <a:pt x="11" y="46"/>
                  </a:lnTo>
                  <a:lnTo>
                    <a:pt x="20" y="46"/>
                  </a:lnTo>
                  <a:lnTo>
                    <a:pt x="24" y="45"/>
                  </a:lnTo>
                  <a:lnTo>
                    <a:pt x="27" y="42"/>
                  </a:lnTo>
                  <a:lnTo>
                    <a:pt x="29" y="37"/>
                  </a:lnTo>
                  <a:lnTo>
                    <a:pt x="29" y="33"/>
                  </a:lnTo>
                  <a:lnTo>
                    <a:pt x="27" y="28"/>
                  </a:lnTo>
                  <a:lnTo>
                    <a:pt x="23" y="22"/>
                  </a:lnTo>
                  <a:lnTo>
                    <a:pt x="0" y="0"/>
                  </a:lnTo>
                  <a:lnTo>
                    <a:pt x="32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3113280" y="1948680"/>
              <a:ext cx="44280" cy="6804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2" y="36"/>
                  </a:moveTo>
                  <a:lnTo>
                    <a:pt x="1" y="39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9" y="48"/>
                  </a:lnTo>
                  <a:lnTo>
                    <a:pt x="24" y="45"/>
                  </a:lnTo>
                  <a:lnTo>
                    <a:pt x="27" y="43"/>
                  </a:lnTo>
                  <a:lnTo>
                    <a:pt x="28" y="39"/>
                  </a:lnTo>
                  <a:lnTo>
                    <a:pt x="28" y="34"/>
                  </a:lnTo>
                  <a:lnTo>
                    <a:pt x="27" y="30"/>
                  </a:lnTo>
                  <a:lnTo>
                    <a:pt x="22" y="22"/>
                  </a:lnTo>
                  <a:lnTo>
                    <a:pt x="0" y="0"/>
                  </a:lnTo>
                  <a:lnTo>
                    <a:pt x="3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176640" y="1949400"/>
              <a:ext cx="47520" cy="4608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3" y="32"/>
                  </a:moveTo>
                  <a:lnTo>
                    <a:pt x="0" y="0"/>
                  </a:lnTo>
                  <a:lnTo>
                    <a:pt x="33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207960" y="1949400"/>
              <a:ext cx="180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3245040" y="1948680"/>
              <a:ext cx="41040" cy="6804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27" y="40"/>
                  </a:moveTo>
                  <a:lnTo>
                    <a:pt x="24" y="45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6" y="45"/>
                  </a:lnTo>
                  <a:lnTo>
                    <a:pt x="1" y="39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1" y="7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8" y="16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6" y="27"/>
                  </a:lnTo>
                  <a:lnTo>
                    <a:pt x="1" y="22"/>
                  </a:lnTo>
                  <a:lnTo>
                    <a:pt x="0" y="1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3305160" y="1948680"/>
              <a:ext cx="44640" cy="6804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7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7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3"/>
                  </a:lnTo>
                  <a:lnTo>
                    <a:pt x="30" y="9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30" y="39"/>
                  </a:lnTo>
                  <a:lnTo>
                    <a:pt x="25" y="45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3370320" y="1948680"/>
              <a:ext cx="46080" cy="6804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3" y="36"/>
                  </a:moveTo>
                  <a:lnTo>
                    <a:pt x="3" y="39"/>
                  </a:lnTo>
                  <a:lnTo>
                    <a:pt x="6" y="43"/>
                  </a:lnTo>
                  <a:lnTo>
                    <a:pt x="7" y="45"/>
                  </a:lnTo>
                  <a:lnTo>
                    <a:pt x="12" y="48"/>
                  </a:lnTo>
                  <a:lnTo>
                    <a:pt x="21" y="48"/>
                  </a:lnTo>
                  <a:lnTo>
                    <a:pt x="25" y="45"/>
                  </a:lnTo>
                  <a:lnTo>
                    <a:pt x="28" y="43"/>
                  </a:lnTo>
                  <a:lnTo>
                    <a:pt x="30" y="39"/>
                  </a:lnTo>
                  <a:lnTo>
                    <a:pt x="30" y="34"/>
                  </a:lnTo>
                  <a:lnTo>
                    <a:pt x="28" y="30"/>
                  </a:lnTo>
                  <a:lnTo>
                    <a:pt x="24" y="22"/>
                  </a:lnTo>
                  <a:lnTo>
                    <a:pt x="0" y="0"/>
                  </a:lnTo>
                  <a:lnTo>
                    <a:pt x="33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3435480" y="1948680"/>
              <a:ext cx="46080" cy="6804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11" y="48"/>
                  </a:moveTo>
                  <a:lnTo>
                    <a:pt x="5" y="45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5" y="31"/>
                  </a:lnTo>
                  <a:lnTo>
                    <a:pt x="9" y="30"/>
                  </a:lnTo>
                  <a:lnTo>
                    <a:pt x="18" y="27"/>
                  </a:lnTo>
                  <a:lnTo>
                    <a:pt x="24" y="25"/>
                  </a:lnTo>
                  <a:lnTo>
                    <a:pt x="29" y="21"/>
                  </a:lnTo>
                  <a:lnTo>
                    <a:pt x="32" y="16"/>
                  </a:lnTo>
                  <a:lnTo>
                    <a:pt x="32" y="9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3"/>
                  </a:lnTo>
                  <a:lnTo>
                    <a:pt x="2" y="4"/>
                  </a:lnTo>
                  <a:lnTo>
                    <a:pt x="0" y="9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4" y="27"/>
                  </a:lnTo>
                  <a:lnTo>
                    <a:pt x="23" y="30"/>
                  </a:lnTo>
                  <a:lnTo>
                    <a:pt x="27" y="31"/>
                  </a:lnTo>
                  <a:lnTo>
                    <a:pt x="29" y="36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0" y="48"/>
                  </a:lnTo>
                  <a:lnTo>
                    <a:pt x="11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3218040" y="2085840"/>
              <a:ext cx="15840" cy="6840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0" y="38"/>
                  </a:moveTo>
                  <a:lnTo>
                    <a:pt x="4" y="41"/>
                  </a:lnTo>
                  <a:lnTo>
                    <a:pt x="11" y="47"/>
                  </a:lnTo>
                  <a:lnTo>
                    <a:pt x="1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3285720" y="2085840"/>
              <a:ext cx="3204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3480" y="2085840"/>
              <a:ext cx="4464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3341880" y="2146320"/>
              <a:ext cx="61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2" y="5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3373560" y="2085840"/>
              <a:ext cx="42840" cy="6840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27" y="41"/>
                  </a:moveTo>
                  <a:lnTo>
                    <a:pt x="25" y="45"/>
                  </a:lnTo>
                  <a:lnTo>
                    <a:pt x="18" y="47"/>
                  </a:lnTo>
                  <a:lnTo>
                    <a:pt x="13" y="47"/>
                  </a:lnTo>
                  <a:lnTo>
                    <a:pt x="7" y="45"/>
                  </a:lnTo>
                  <a:lnTo>
                    <a:pt x="3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3" y="6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7" y="6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7" y="23"/>
                  </a:lnTo>
                  <a:lnTo>
                    <a:pt x="22" y="27"/>
                  </a:lnTo>
                  <a:lnTo>
                    <a:pt x="16" y="29"/>
                  </a:lnTo>
                  <a:lnTo>
                    <a:pt x="13" y="29"/>
                  </a:lnTo>
                  <a:lnTo>
                    <a:pt x="7" y="27"/>
                  </a:lnTo>
                  <a:lnTo>
                    <a:pt x="3" y="23"/>
                  </a:lnTo>
                  <a:lnTo>
                    <a:pt x="0" y="15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3447720" y="2085840"/>
              <a:ext cx="3348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36920" y="2085840"/>
              <a:ext cx="4464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3208320" y="2222280"/>
              <a:ext cx="4464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31" y="32"/>
                  </a:moveTo>
                  <a:lnTo>
                    <a:pt x="27" y="26"/>
                  </a:lnTo>
                  <a:lnTo>
                    <a:pt x="23" y="21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6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5"/>
                  </a:lnTo>
                  <a:lnTo>
                    <a:pt x="14" y="48"/>
                  </a:lnTo>
                  <a:lnTo>
                    <a:pt x="15" y="48"/>
                  </a:lnTo>
                  <a:lnTo>
                    <a:pt x="23" y="45"/>
                  </a:lnTo>
                  <a:lnTo>
                    <a:pt x="27" y="41"/>
                  </a:lnTo>
                  <a:lnTo>
                    <a:pt x="30" y="32"/>
                  </a:lnTo>
                  <a:lnTo>
                    <a:pt x="30" y="21"/>
                  </a:lnTo>
                  <a:lnTo>
                    <a:pt x="27" y="9"/>
                  </a:lnTo>
                  <a:lnTo>
                    <a:pt x="23" y="3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5" y="3"/>
                  </a:lnTo>
                  <a:lnTo>
                    <a:pt x="2" y="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3276720" y="2282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5" y="3"/>
                  </a:lnTo>
                  <a:lnTo>
                    <a:pt x="2" y="5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318120" y="2222280"/>
              <a:ext cx="3312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05160" y="2222280"/>
              <a:ext cx="4464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3370320" y="2222280"/>
              <a:ext cx="46080" cy="684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15" y="48"/>
                  </a:moveTo>
                  <a:lnTo>
                    <a:pt x="7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7" y="3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0" y="9"/>
                  </a:lnTo>
                  <a:lnTo>
                    <a:pt x="33" y="21"/>
                  </a:lnTo>
                  <a:lnTo>
                    <a:pt x="33" y="27"/>
                  </a:lnTo>
                  <a:lnTo>
                    <a:pt x="30" y="39"/>
                  </a:lnTo>
                  <a:lnTo>
                    <a:pt x="25" y="45"/>
                  </a:lnTo>
                  <a:lnTo>
                    <a:pt x="19" y="48"/>
                  </a:lnTo>
                  <a:lnTo>
                    <a:pt x="15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3435480" y="222228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2" y="36"/>
                  </a:moveTo>
                  <a:lnTo>
                    <a:pt x="2" y="39"/>
                  </a:lnTo>
                  <a:lnTo>
                    <a:pt x="5" y="44"/>
                  </a:lnTo>
                  <a:lnTo>
                    <a:pt x="6" y="45"/>
                  </a:lnTo>
                  <a:lnTo>
                    <a:pt x="11" y="48"/>
                  </a:lnTo>
                  <a:lnTo>
                    <a:pt x="20" y="48"/>
                  </a:lnTo>
                  <a:lnTo>
                    <a:pt x="24" y="45"/>
                  </a:lnTo>
                  <a:lnTo>
                    <a:pt x="27" y="44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27" y="30"/>
                  </a:lnTo>
                  <a:lnTo>
                    <a:pt x="23" y="23"/>
                  </a:lnTo>
                  <a:lnTo>
                    <a:pt x="0" y="0"/>
                  </a:lnTo>
                  <a:lnTo>
                    <a:pt x="32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2936880" y="241920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2" y="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2963880" y="2358360"/>
              <a:ext cx="47520" cy="666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16" y="46"/>
                  </a:moveTo>
                  <a:lnTo>
                    <a:pt x="8" y="45"/>
                  </a:lnTo>
                  <a:lnTo>
                    <a:pt x="3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9"/>
                  </a:lnTo>
                  <a:lnTo>
                    <a:pt x="8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0" y="9"/>
                  </a:lnTo>
                  <a:lnTo>
                    <a:pt x="33" y="19"/>
                  </a:lnTo>
                  <a:lnTo>
                    <a:pt x="33" y="27"/>
                  </a:lnTo>
                  <a:lnTo>
                    <a:pt x="30" y="37"/>
                  </a:lnTo>
                  <a:lnTo>
                    <a:pt x="26" y="45"/>
                  </a:lnTo>
                  <a:lnTo>
                    <a:pt x="20" y="46"/>
                  </a:lnTo>
                  <a:lnTo>
                    <a:pt x="15" y="46"/>
                  </a:lnTo>
                  <a:lnTo>
                    <a:pt x="16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3030480" y="2358360"/>
              <a:ext cx="44640" cy="66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4" y="46"/>
                  </a:moveTo>
                  <a:lnTo>
                    <a:pt x="6" y="45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9"/>
                  </a:lnTo>
                  <a:lnTo>
                    <a:pt x="6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8" y="9"/>
                  </a:lnTo>
                  <a:lnTo>
                    <a:pt x="31" y="19"/>
                  </a:lnTo>
                  <a:lnTo>
                    <a:pt x="31" y="27"/>
                  </a:lnTo>
                  <a:lnTo>
                    <a:pt x="28" y="37"/>
                  </a:lnTo>
                  <a:lnTo>
                    <a:pt x="24" y="45"/>
                  </a:lnTo>
                  <a:lnTo>
                    <a:pt x="18" y="46"/>
                  </a:lnTo>
                  <a:lnTo>
                    <a:pt x="13" y="46"/>
                  </a:lnTo>
                  <a:lnTo>
                    <a:pt x="14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3095640" y="2358360"/>
              <a:ext cx="44640" cy="66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4" y="46"/>
                  </a:moveTo>
                  <a:lnTo>
                    <a:pt x="6" y="45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9"/>
                  </a:lnTo>
                  <a:lnTo>
                    <a:pt x="6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1"/>
                  </a:lnTo>
                  <a:lnTo>
                    <a:pt x="30" y="9"/>
                  </a:lnTo>
                  <a:lnTo>
                    <a:pt x="31" y="19"/>
                  </a:lnTo>
                  <a:lnTo>
                    <a:pt x="31" y="27"/>
                  </a:lnTo>
                  <a:lnTo>
                    <a:pt x="30" y="37"/>
                  </a:lnTo>
                  <a:lnTo>
                    <a:pt x="25" y="45"/>
                  </a:lnTo>
                  <a:lnTo>
                    <a:pt x="18" y="46"/>
                  </a:lnTo>
                  <a:lnTo>
                    <a:pt x="13" y="46"/>
                  </a:lnTo>
                  <a:lnTo>
                    <a:pt x="14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3159360" y="2358360"/>
              <a:ext cx="44280" cy="66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4" y="46"/>
                  </a:moveTo>
                  <a:lnTo>
                    <a:pt x="7" y="45"/>
                  </a:lnTo>
                  <a:lnTo>
                    <a:pt x="3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9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1"/>
                  </a:lnTo>
                  <a:lnTo>
                    <a:pt x="30" y="9"/>
                  </a:lnTo>
                  <a:lnTo>
                    <a:pt x="31" y="19"/>
                  </a:lnTo>
                  <a:lnTo>
                    <a:pt x="31" y="27"/>
                  </a:lnTo>
                  <a:lnTo>
                    <a:pt x="30" y="37"/>
                  </a:lnTo>
                  <a:lnTo>
                    <a:pt x="25" y="45"/>
                  </a:lnTo>
                  <a:lnTo>
                    <a:pt x="18" y="46"/>
                  </a:lnTo>
                  <a:lnTo>
                    <a:pt x="13" y="46"/>
                  </a:lnTo>
                  <a:lnTo>
                    <a:pt x="14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229200" y="2359080"/>
              <a:ext cx="14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229200" y="2359080"/>
              <a:ext cx="42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229200" y="2390760"/>
              <a:ext cx="252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29200" y="2425680"/>
              <a:ext cx="42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18120" y="2368440"/>
              <a:ext cx="1440" cy="572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91120" y="2396880"/>
              <a:ext cx="5688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3370320" y="2358360"/>
              <a:ext cx="46080" cy="666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15" y="46"/>
                  </a:moveTo>
                  <a:lnTo>
                    <a:pt x="7" y="45"/>
                  </a:lnTo>
                  <a:lnTo>
                    <a:pt x="3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1"/>
                  </a:lnTo>
                  <a:lnTo>
                    <a:pt x="30" y="9"/>
                  </a:lnTo>
                  <a:lnTo>
                    <a:pt x="33" y="19"/>
                  </a:lnTo>
                  <a:lnTo>
                    <a:pt x="33" y="27"/>
                  </a:lnTo>
                  <a:lnTo>
                    <a:pt x="30" y="37"/>
                  </a:lnTo>
                  <a:lnTo>
                    <a:pt x="25" y="45"/>
                  </a:lnTo>
                  <a:lnTo>
                    <a:pt x="19" y="46"/>
                  </a:lnTo>
                  <a:lnTo>
                    <a:pt x="15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3435480" y="2358360"/>
              <a:ext cx="46080" cy="666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4" y="46"/>
                  </a:moveTo>
                  <a:lnTo>
                    <a:pt x="6" y="45"/>
                  </a:lnTo>
                  <a:lnTo>
                    <a:pt x="2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2" y="9"/>
                  </a:lnTo>
                  <a:lnTo>
                    <a:pt x="6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9" y="9"/>
                  </a:lnTo>
                  <a:lnTo>
                    <a:pt x="32" y="19"/>
                  </a:lnTo>
                  <a:lnTo>
                    <a:pt x="32" y="27"/>
                  </a:lnTo>
                  <a:lnTo>
                    <a:pt x="29" y="37"/>
                  </a:lnTo>
                  <a:lnTo>
                    <a:pt x="24" y="45"/>
                  </a:lnTo>
                  <a:lnTo>
                    <a:pt x="18" y="46"/>
                  </a:lnTo>
                  <a:lnTo>
                    <a:pt x="14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2936880" y="25556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0" y="3"/>
                  </a:lnTo>
                  <a:lnTo>
                    <a:pt x="1" y="0"/>
                  </a:lnTo>
                  <a:lnTo>
                    <a:pt x="4" y="3"/>
                  </a:lnTo>
                  <a:lnTo>
                    <a:pt x="1" y="4"/>
                  </a:lnTo>
                  <a:lnTo>
                    <a:pt x="2" y="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2963880" y="2493720"/>
              <a:ext cx="47520" cy="684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16" y="48"/>
                  </a:moveTo>
                  <a:lnTo>
                    <a:pt x="8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3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3"/>
                  </a:lnTo>
                  <a:lnTo>
                    <a:pt x="30" y="9"/>
                  </a:lnTo>
                  <a:lnTo>
                    <a:pt x="33" y="21"/>
                  </a:lnTo>
                  <a:lnTo>
                    <a:pt x="33" y="27"/>
                  </a:lnTo>
                  <a:lnTo>
                    <a:pt x="30" y="39"/>
                  </a:lnTo>
                  <a:lnTo>
                    <a:pt x="26" y="45"/>
                  </a:lnTo>
                  <a:lnTo>
                    <a:pt x="20" y="48"/>
                  </a:lnTo>
                  <a:lnTo>
                    <a:pt x="15" y="48"/>
                  </a:lnTo>
                  <a:lnTo>
                    <a:pt x="16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3030480" y="2493720"/>
              <a:ext cx="4464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6" y="45"/>
                  </a:lnTo>
                  <a:lnTo>
                    <a:pt x="1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" y="9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8" y="9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28" y="39"/>
                  </a:lnTo>
                  <a:lnTo>
                    <a:pt x="24" y="45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3095640" y="2493720"/>
              <a:ext cx="4464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6" y="45"/>
                  </a:lnTo>
                  <a:lnTo>
                    <a:pt x="1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" y="9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3"/>
                  </a:lnTo>
                  <a:lnTo>
                    <a:pt x="30" y="9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30" y="39"/>
                  </a:lnTo>
                  <a:lnTo>
                    <a:pt x="25" y="45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3159360" y="2493720"/>
              <a:ext cx="4428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7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7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3"/>
                  </a:lnTo>
                  <a:lnTo>
                    <a:pt x="30" y="9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30" y="39"/>
                  </a:lnTo>
                  <a:lnTo>
                    <a:pt x="25" y="45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29200" y="2493720"/>
              <a:ext cx="144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29200" y="2493720"/>
              <a:ext cx="4284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29200" y="2525760"/>
              <a:ext cx="252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229200" y="2562120"/>
              <a:ext cx="42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18120" y="2504880"/>
              <a:ext cx="1440" cy="572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91120" y="2531880"/>
              <a:ext cx="5688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370320" y="2493720"/>
              <a:ext cx="46080" cy="684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15" y="48"/>
                  </a:moveTo>
                  <a:lnTo>
                    <a:pt x="7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7" y="3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0" y="9"/>
                  </a:lnTo>
                  <a:lnTo>
                    <a:pt x="33" y="21"/>
                  </a:lnTo>
                  <a:lnTo>
                    <a:pt x="33" y="27"/>
                  </a:lnTo>
                  <a:lnTo>
                    <a:pt x="30" y="39"/>
                  </a:lnTo>
                  <a:lnTo>
                    <a:pt x="25" y="45"/>
                  </a:lnTo>
                  <a:lnTo>
                    <a:pt x="19" y="48"/>
                  </a:lnTo>
                  <a:lnTo>
                    <a:pt x="15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3435480" y="249372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14" y="48"/>
                  </a:moveTo>
                  <a:lnTo>
                    <a:pt x="6" y="45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2" y="9"/>
                  </a:lnTo>
                  <a:lnTo>
                    <a:pt x="6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2" y="21"/>
                  </a:lnTo>
                  <a:lnTo>
                    <a:pt x="32" y="27"/>
                  </a:lnTo>
                  <a:lnTo>
                    <a:pt x="29" y="39"/>
                  </a:lnTo>
                  <a:lnTo>
                    <a:pt x="24" y="45"/>
                  </a:lnTo>
                  <a:lnTo>
                    <a:pt x="18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936880" y="2690640"/>
              <a:ext cx="64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4" y="2"/>
                  </a:lnTo>
                  <a:lnTo>
                    <a:pt x="1" y="5"/>
                  </a:lnTo>
                  <a:lnTo>
                    <a:pt x="2" y="5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963880" y="2629800"/>
              <a:ext cx="47520" cy="666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13" y="47"/>
                  </a:moveTo>
                  <a:lnTo>
                    <a:pt x="6" y="45"/>
                  </a:lnTo>
                  <a:lnTo>
                    <a:pt x="3" y="41"/>
                  </a:lnTo>
                  <a:lnTo>
                    <a:pt x="3" y="36"/>
                  </a:lnTo>
                  <a:lnTo>
                    <a:pt x="6" y="32"/>
                  </a:lnTo>
                  <a:lnTo>
                    <a:pt x="11" y="29"/>
                  </a:lnTo>
                  <a:lnTo>
                    <a:pt x="20" y="27"/>
                  </a:lnTo>
                  <a:lnTo>
                    <a:pt x="26" y="24"/>
                  </a:lnTo>
                  <a:lnTo>
                    <a:pt x="30" y="20"/>
                  </a:lnTo>
                  <a:lnTo>
                    <a:pt x="33" y="15"/>
                  </a:lnTo>
                  <a:lnTo>
                    <a:pt x="33" y="9"/>
                  </a:lnTo>
                  <a:lnTo>
                    <a:pt x="30" y="5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0" y="9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8" y="24"/>
                  </a:lnTo>
                  <a:lnTo>
                    <a:pt x="15" y="27"/>
                  </a:lnTo>
                  <a:lnTo>
                    <a:pt x="24" y="29"/>
                  </a:lnTo>
                  <a:lnTo>
                    <a:pt x="29" y="32"/>
                  </a:lnTo>
                  <a:lnTo>
                    <a:pt x="30" y="36"/>
                  </a:lnTo>
                  <a:lnTo>
                    <a:pt x="30" y="41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2" y="47"/>
                  </a:lnTo>
                  <a:lnTo>
                    <a:pt x="13" y="47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030480" y="2629800"/>
              <a:ext cx="44640" cy="6660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14" y="47"/>
                  </a:moveTo>
                  <a:lnTo>
                    <a:pt x="6" y="45"/>
                  </a:lnTo>
                  <a:lnTo>
                    <a:pt x="1" y="38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9"/>
                  </a:lnTo>
                  <a:lnTo>
                    <a:pt x="6" y="2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8" y="9"/>
                  </a:lnTo>
                  <a:lnTo>
                    <a:pt x="31" y="20"/>
                  </a:lnTo>
                  <a:lnTo>
                    <a:pt x="31" y="27"/>
                  </a:lnTo>
                  <a:lnTo>
                    <a:pt x="28" y="38"/>
                  </a:lnTo>
                  <a:lnTo>
                    <a:pt x="24" y="45"/>
                  </a:lnTo>
                  <a:lnTo>
                    <a:pt x="18" y="47"/>
                  </a:lnTo>
                  <a:lnTo>
                    <a:pt x="13" y="47"/>
                  </a:lnTo>
                  <a:lnTo>
                    <a:pt x="14" y="47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3095640" y="2629800"/>
              <a:ext cx="42840" cy="6660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30" y="32"/>
                  </a:moveTo>
                  <a:lnTo>
                    <a:pt x="27" y="24"/>
                  </a:lnTo>
                  <a:lnTo>
                    <a:pt x="22" y="20"/>
                  </a:lnTo>
                  <a:lnTo>
                    <a:pt x="16" y="18"/>
                  </a:lnTo>
                  <a:lnTo>
                    <a:pt x="13" y="18"/>
                  </a:lnTo>
                  <a:lnTo>
                    <a:pt x="6" y="20"/>
                  </a:lnTo>
                  <a:lnTo>
                    <a:pt x="1" y="24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" y="41"/>
                  </a:lnTo>
                  <a:lnTo>
                    <a:pt x="6" y="45"/>
                  </a:lnTo>
                  <a:lnTo>
                    <a:pt x="13" y="47"/>
                  </a:lnTo>
                  <a:lnTo>
                    <a:pt x="16" y="47"/>
                  </a:lnTo>
                  <a:lnTo>
                    <a:pt x="22" y="45"/>
                  </a:lnTo>
                  <a:lnTo>
                    <a:pt x="27" y="41"/>
                  </a:lnTo>
                  <a:lnTo>
                    <a:pt x="30" y="32"/>
                  </a:lnTo>
                  <a:lnTo>
                    <a:pt x="30" y="20"/>
                  </a:lnTo>
                  <a:lnTo>
                    <a:pt x="27" y="9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1" y="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3159360" y="2629800"/>
              <a:ext cx="44280" cy="6660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14" y="47"/>
                  </a:moveTo>
                  <a:lnTo>
                    <a:pt x="7" y="45"/>
                  </a:lnTo>
                  <a:lnTo>
                    <a:pt x="3" y="38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3" y="9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9"/>
                  </a:lnTo>
                  <a:lnTo>
                    <a:pt x="31" y="20"/>
                  </a:lnTo>
                  <a:lnTo>
                    <a:pt x="31" y="27"/>
                  </a:lnTo>
                  <a:lnTo>
                    <a:pt x="30" y="38"/>
                  </a:lnTo>
                  <a:lnTo>
                    <a:pt x="25" y="45"/>
                  </a:lnTo>
                  <a:lnTo>
                    <a:pt x="18" y="47"/>
                  </a:lnTo>
                  <a:lnTo>
                    <a:pt x="13" y="47"/>
                  </a:lnTo>
                  <a:lnTo>
                    <a:pt x="14" y="47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229200" y="2630520"/>
              <a:ext cx="14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29200" y="2630520"/>
              <a:ext cx="42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29200" y="2663640"/>
              <a:ext cx="2520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229200" y="2697120"/>
              <a:ext cx="42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18120" y="2639880"/>
              <a:ext cx="1440" cy="572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91120" y="2668320"/>
              <a:ext cx="5688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370320" y="2629800"/>
              <a:ext cx="46080" cy="666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15" y="47"/>
                  </a:moveTo>
                  <a:lnTo>
                    <a:pt x="7" y="45"/>
                  </a:lnTo>
                  <a:lnTo>
                    <a:pt x="3" y="38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3" y="9"/>
                  </a:lnTo>
                  <a:lnTo>
                    <a:pt x="7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2"/>
                  </a:lnTo>
                  <a:lnTo>
                    <a:pt x="30" y="9"/>
                  </a:lnTo>
                  <a:lnTo>
                    <a:pt x="33" y="20"/>
                  </a:lnTo>
                  <a:lnTo>
                    <a:pt x="33" y="27"/>
                  </a:lnTo>
                  <a:lnTo>
                    <a:pt x="30" y="38"/>
                  </a:lnTo>
                  <a:lnTo>
                    <a:pt x="25" y="45"/>
                  </a:lnTo>
                  <a:lnTo>
                    <a:pt x="19" y="47"/>
                  </a:lnTo>
                  <a:lnTo>
                    <a:pt x="15" y="47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3438720" y="2629800"/>
              <a:ext cx="42840" cy="6660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27" y="41"/>
                  </a:moveTo>
                  <a:lnTo>
                    <a:pt x="25" y="45"/>
                  </a:lnTo>
                  <a:lnTo>
                    <a:pt x="18" y="47"/>
                  </a:lnTo>
                  <a:lnTo>
                    <a:pt x="13" y="47"/>
                  </a:lnTo>
                  <a:lnTo>
                    <a:pt x="7" y="45"/>
                  </a:lnTo>
                  <a:lnTo>
                    <a:pt x="3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3" y="6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7" y="6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7" y="23"/>
                  </a:lnTo>
                  <a:lnTo>
                    <a:pt x="22" y="27"/>
                  </a:lnTo>
                  <a:lnTo>
                    <a:pt x="16" y="29"/>
                  </a:lnTo>
                  <a:lnTo>
                    <a:pt x="13" y="29"/>
                  </a:lnTo>
                  <a:lnTo>
                    <a:pt x="7" y="27"/>
                  </a:lnTo>
                  <a:lnTo>
                    <a:pt x="3" y="23"/>
                  </a:lnTo>
                  <a:lnTo>
                    <a:pt x="0" y="15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2333880" y="2731320"/>
              <a:ext cx="2039760" cy="407880"/>
            </a:xfrm>
            <a:custGeom>
              <a:avLst/>
              <a:gdLst/>
              <a:ahLst/>
              <a:rect l="l" t="t" r="r" b="b"/>
              <a:pathLst>
                <a:path w="1428" h="286">
                  <a:moveTo>
                    <a:pt x="1" y="0"/>
                  </a:moveTo>
                  <a:lnTo>
                    <a:pt x="0" y="286"/>
                  </a:lnTo>
                  <a:lnTo>
                    <a:pt x="1428" y="286"/>
                  </a:lnTo>
                  <a:lnTo>
                    <a:pt x="1428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333880" y="2731320"/>
              <a:ext cx="2039760" cy="407880"/>
            </a:xfrm>
            <a:custGeom>
              <a:avLst/>
              <a:gdLst/>
              <a:ahLst/>
              <a:rect l="l" t="t" r="r" b="b"/>
              <a:pathLst>
                <a:path w="1428" h="286">
                  <a:moveTo>
                    <a:pt x="1" y="0"/>
                  </a:moveTo>
                  <a:lnTo>
                    <a:pt x="0" y="286"/>
                  </a:lnTo>
                  <a:lnTo>
                    <a:pt x="1428" y="286"/>
                  </a:lnTo>
                  <a:lnTo>
                    <a:pt x="1428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408400" y="2788560"/>
              <a:ext cx="46080" cy="6804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8"/>
                  </a:moveTo>
                  <a:lnTo>
                    <a:pt x="4" y="48"/>
                  </a:lnTo>
                  <a:lnTo>
                    <a:pt x="8" y="43"/>
                  </a:lnTo>
                  <a:lnTo>
                    <a:pt x="23" y="4"/>
                  </a:lnTo>
                  <a:lnTo>
                    <a:pt x="28" y="0"/>
                  </a:lnTo>
                  <a:lnTo>
                    <a:pt x="32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405160" y="2788560"/>
              <a:ext cx="52200" cy="6804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6" y="48"/>
                  </a:moveTo>
                  <a:lnTo>
                    <a:pt x="34" y="43"/>
                  </a:lnTo>
                  <a:lnTo>
                    <a:pt x="30" y="37"/>
                  </a:lnTo>
                  <a:lnTo>
                    <a:pt x="6" y="12"/>
                  </a:lnTo>
                  <a:lnTo>
                    <a:pt x="1" y="4"/>
                  </a:lnTo>
                  <a:lnTo>
                    <a:pt x="0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2465640" y="2748600"/>
              <a:ext cx="21960" cy="334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2" y="18"/>
                  </a:moveTo>
                  <a:lnTo>
                    <a:pt x="1" y="21"/>
                  </a:lnTo>
                  <a:lnTo>
                    <a:pt x="3" y="23"/>
                  </a:lnTo>
                  <a:lnTo>
                    <a:pt x="6" y="24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500200" y="2754360"/>
              <a:ext cx="58680" cy="1029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76520" y="2789280"/>
              <a:ext cx="1800" cy="45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2576520" y="2788560"/>
              <a:ext cx="36720" cy="457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0" y="23"/>
                  </a:moveTo>
                  <a:lnTo>
                    <a:pt x="7" y="30"/>
                  </a:lnTo>
                  <a:lnTo>
                    <a:pt x="12" y="32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5" y="23"/>
                  </a:lnTo>
                  <a:lnTo>
                    <a:pt x="25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73000" y="2766960"/>
              <a:ext cx="180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633760" y="2788560"/>
              <a:ext cx="39600" cy="45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26"/>
                  </a:moveTo>
                  <a:lnTo>
                    <a:pt x="23" y="30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8" y="30"/>
                  </a:lnTo>
                  <a:lnTo>
                    <a:pt x="3" y="26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3" y="8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3"/>
                  </a:lnTo>
                  <a:lnTo>
                    <a:pt x="27" y="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2702160" y="2766240"/>
              <a:ext cx="19080" cy="680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3" y="48"/>
                  </a:moveTo>
                  <a:lnTo>
                    <a:pt x="8" y="48"/>
                  </a:lnTo>
                  <a:lnTo>
                    <a:pt x="3" y="45"/>
                  </a:ln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692440" y="2789280"/>
              <a:ext cx="2376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2747880" y="2766240"/>
              <a:ext cx="49320" cy="442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23" y="31"/>
                  </a:moveTo>
                  <a:lnTo>
                    <a:pt x="0" y="0"/>
                  </a:lnTo>
                  <a:lnTo>
                    <a:pt x="34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2779920" y="2766960"/>
              <a:ext cx="144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2813040" y="2766240"/>
              <a:ext cx="46080" cy="6804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29" y="48"/>
                  </a:moveTo>
                  <a:lnTo>
                    <a:pt x="4" y="48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12" y="32"/>
                  </a:lnTo>
                  <a:lnTo>
                    <a:pt x="19" y="32"/>
                  </a:lnTo>
                  <a:lnTo>
                    <a:pt x="25" y="30"/>
                  </a:lnTo>
                  <a:lnTo>
                    <a:pt x="30" y="26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0" y="8"/>
                  </a:lnTo>
                  <a:lnTo>
                    <a:pt x="25" y="3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2881440" y="28270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4" y="3"/>
                  </a:lnTo>
                  <a:lnTo>
                    <a:pt x="3" y="5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911680" y="2766240"/>
              <a:ext cx="44280" cy="6804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6" y="45"/>
                  </a:lnTo>
                  <a:lnTo>
                    <a:pt x="1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" y="9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8" y="9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28" y="39"/>
                  </a:lnTo>
                  <a:lnTo>
                    <a:pt x="24" y="45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2975040" y="2766240"/>
              <a:ext cx="44640" cy="6804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7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7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3"/>
                  </a:lnTo>
                  <a:lnTo>
                    <a:pt x="30" y="9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30" y="39"/>
                  </a:lnTo>
                  <a:lnTo>
                    <a:pt x="25" y="45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3165120" y="2754360"/>
              <a:ext cx="58680" cy="1029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3370320" y="2766240"/>
              <a:ext cx="47520" cy="442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24" y="31"/>
                  </a:moveTo>
                  <a:lnTo>
                    <a:pt x="0" y="0"/>
                  </a:lnTo>
                  <a:lnTo>
                    <a:pt x="34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403800" y="2766960"/>
              <a:ext cx="144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3444840" y="2766240"/>
              <a:ext cx="15840" cy="6804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0" y="39"/>
                  </a:moveTo>
                  <a:lnTo>
                    <a:pt x="4" y="41"/>
                  </a:lnTo>
                  <a:lnTo>
                    <a:pt x="11" y="48"/>
                  </a:lnTo>
                  <a:lnTo>
                    <a:pt x="1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2411640" y="2902680"/>
              <a:ext cx="48960" cy="6516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36"/>
                  </a:moveTo>
                  <a:lnTo>
                    <a:pt x="32" y="40"/>
                  </a:lnTo>
                  <a:lnTo>
                    <a:pt x="27" y="45"/>
                  </a:lnTo>
                  <a:lnTo>
                    <a:pt x="23" y="46"/>
                  </a:lnTo>
                  <a:lnTo>
                    <a:pt x="14" y="46"/>
                  </a:lnTo>
                  <a:lnTo>
                    <a:pt x="9" y="45"/>
                  </a:lnTo>
                  <a:lnTo>
                    <a:pt x="5" y="40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5" y="6"/>
                  </a:lnTo>
                  <a:lnTo>
                    <a:pt x="9" y="1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2" y="6"/>
                  </a:lnTo>
                  <a:lnTo>
                    <a:pt x="35" y="1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2479680" y="2925000"/>
              <a:ext cx="41400" cy="4284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1" y="31"/>
                  </a:moveTo>
                  <a:lnTo>
                    <a:pt x="6" y="28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6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6"/>
                  </a:lnTo>
                  <a:lnTo>
                    <a:pt x="29" y="13"/>
                  </a:lnTo>
                  <a:lnTo>
                    <a:pt x="29" y="18"/>
                  </a:lnTo>
                  <a:lnTo>
                    <a:pt x="27" y="24"/>
                  </a:lnTo>
                  <a:lnTo>
                    <a:pt x="23" y="28"/>
                  </a:lnTo>
                  <a:lnTo>
                    <a:pt x="18" y="31"/>
                  </a:lnTo>
                  <a:lnTo>
                    <a:pt x="11" y="31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2544840" y="2925720"/>
              <a:ext cx="1440" cy="42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2544840" y="2925000"/>
              <a:ext cx="36360" cy="428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22"/>
                  </a:moveTo>
                  <a:lnTo>
                    <a:pt x="5" y="28"/>
                  </a:lnTo>
                  <a:lnTo>
                    <a:pt x="10" y="31"/>
                  </a:lnTo>
                  <a:lnTo>
                    <a:pt x="17" y="31"/>
                  </a:lnTo>
                  <a:lnTo>
                    <a:pt x="22" y="28"/>
                  </a:lnTo>
                  <a:lnTo>
                    <a:pt x="25" y="22"/>
                  </a:lnTo>
                  <a:lnTo>
                    <a:pt x="25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2602080" y="2925000"/>
              <a:ext cx="38160" cy="4284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24"/>
                  </a:moveTo>
                  <a:lnTo>
                    <a:pt x="22" y="28"/>
                  </a:lnTo>
                  <a:lnTo>
                    <a:pt x="16" y="31"/>
                  </a:lnTo>
                  <a:lnTo>
                    <a:pt x="9" y="31"/>
                  </a:lnTo>
                  <a:lnTo>
                    <a:pt x="3" y="28"/>
                  </a:lnTo>
                  <a:lnTo>
                    <a:pt x="0" y="24"/>
                  </a:lnTo>
                  <a:lnTo>
                    <a:pt x="3" y="19"/>
                  </a:lnTo>
                  <a:lnTo>
                    <a:pt x="7" y="18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9" y="0"/>
                  </a:lnTo>
                  <a:lnTo>
                    <a:pt x="3" y="1"/>
                  </a:lnTo>
                  <a:lnTo>
                    <a:pt x="0" y="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2664000" y="2902680"/>
              <a:ext cx="15840" cy="6516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1" y="46"/>
                  </a:moveTo>
                  <a:lnTo>
                    <a:pt x="0" y="9"/>
                  </a:lnTo>
                  <a:lnTo>
                    <a:pt x="2" y="1"/>
                  </a:lnTo>
                  <a:lnTo>
                    <a:pt x="6" y="0"/>
                  </a:lnTo>
                  <a:lnTo>
                    <a:pt x="1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54280" y="2925720"/>
              <a:ext cx="2232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735280" y="2925720"/>
              <a:ext cx="1800" cy="42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2697120" y="2925000"/>
              <a:ext cx="38160" cy="4284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4"/>
                  </a:moveTo>
                  <a:lnTo>
                    <a:pt x="22" y="28"/>
                  </a:lnTo>
                  <a:lnTo>
                    <a:pt x="18" y="31"/>
                  </a:lnTo>
                  <a:lnTo>
                    <a:pt x="12" y="31"/>
                  </a:lnTo>
                  <a:lnTo>
                    <a:pt x="7" y="28"/>
                  </a:lnTo>
                  <a:lnTo>
                    <a:pt x="1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60840" y="2925720"/>
              <a:ext cx="1440" cy="42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2760840" y="2925000"/>
              <a:ext cx="36360" cy="428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22"/>
                  </a:moveTo>
                  <a:lnTo>
                    <a:pt x="7" y="28"/>
                  </a:lnTo>
                  <a:lnTo>
                    <a:pt x="12" y="31"/>
                  </a:lnTo>
                  <a:lnTo>
                    <a:pt x="18" y="31"/>
                  </a:lnTo>
                  <a:lnTo>
                    <a:pt x="22" y="28"/>
                  </a:lnTo>
                  <a:lnTo>
                    <a:pt x="25" y="22"/>
                  </a:lnTo>
                  <a:lnTo>
                    <a:pt x="25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2826000" y="2902680"/>
              <a:ext cx="17280" cy="65160"/>
            </a:xfrm>
            <a:custGeom>
              <a:avLst/>
              <a:gdLst/>
              <a:ahLst/>
              <a:rect l="l" t="t" r="r" b="b"/>
              <a:pathLst>
                <a:path w="12" h="46">
                  <a:moveTo>
                    <a:pt x="0" y="46"/>
                  </a:moveTo>
                  <a:lnTo>
                    <a:pt x="0" y="9"/>
                  </a:lnTo>
                  <a:lnTo>
                    <a:pt x="3" y="1"/>
                  </a:lnTo>
                  <a:lnTo>
                    <a:pt x="7" y="0"/>
                  </a:lnTo>
                  <a:lnTo>
                    <a:pt x="12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16280" y="2925720"/>
              <a:ext cx="2376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3218040" y="2902680"/>
              <a:ext cx="15840" cy="6516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0" y="37"/>
                  </a:moveTo>
                  <a:lnTo>
                    <a:pt x="4" y="40"/>
                  </a:lnTo>
                  <a:lnTo>
                    <a:pt x="11" y="46"/>
                  </a:lnTo>
                  <a:lnTo>
                    <a:pt x="1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273480" y="2902680"/>
              <a:ext cx="44640" cy="65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4" y="46"/>
                  </a:moveTo>
                  <a:lnTo>
                    <a:pt x="8" y="45"/>
                  </a:lnTo>
                  <a:lnTo>
                    <a:pt x="3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9"/>
                  </a:lnTo>
                  <a:lnTo>
                    <a:pt x="8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6" y="1"/>
                  </a:lnTo>
                  <a:lnTo>
                    <a:pt x="30" y="9"/>
                  </a:lnTo>
                  <a:lnTo>
                    <a:pt x="32" y="19"/>
                  </a:lnTo>
                  <a:lnTo>
                    <a:pt x="32" y="27"/>
                  </a:lnTo>
                  <a:lnTo>
                    <a:pt x="30" y="37"/>
                  </a:lnTo>
                  <a:lnTo>
                    <a:pt x="26" y="45"/>
                  </a:lnTo>
                  <a:lnTo>
                    <a:pt x="18" y="46"/>
                  </a:lnTo>
                  <a:lnTo>
                    <a:pt x="14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3341880" y="2963160"/>
              <a:ext cx="612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2" y="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370320" y="2903400"/>
              <a:ext cx="47520" cy="4464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24" y="31"/>
                  </a:moveTo>
                  <a:lnTo>
                    <a:pt x="0" y="0"/>
                  </a:lnTo>
                  <a:lnTo>
                    <a:pt x="34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03800" y="2903400"/>
              <a:ext cx="1440" cy="651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3435480" y="2902680"/>
              <a:ext cx="46080" cy="65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8" y="46"/>
                  </a:moveTo>
                  <a:lnTo>
                    <a:pt x="5" y="46"/>
                  </a:lnTo>
                  <a:lnTo>
                    <a:pt x="2" y="27"/>
                  </a:lnTo>
                  <a:lnTo>
                    <a:pt x="5" y="28"/>
                  </a:lnTo>
                  <a:lnTo>
                    <a:pt x="11" y="31"/>
                  </a:lnTo>
                  <a:lnTo>
                    <a:pt x="18" y="31"/>
                  </a:lnTo>
                  <a:lnTo>
                    <a:pt x="24" y="28"/>
                  </a:lnTo>
                  <a:lnTo>
                    <a:pt x="29" y="24"/>
                  </a:lnTo>
                  <a:lnTo>
                    <a:pt x="32" y="18"/>
                  </a:lnTo>
                  <a:lnTo>
                    <a:pt x="32" y="13"/>
                  </a:lnTo>
                  <a:lnTo>
                    <a:pt x="29" y="6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0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59320" y="2903400"/>
              <a:ext cx="1440" cy="651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27640" y="2935080"/>
              <a:ext cx="6192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27640" y="2968560"/>
              <a:ext cx="6192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3753000" y="2963160"/>
              <a:ext cx="612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2" y="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3792600" y="2902680"/>
              <a:ext cx="15840" cy="6516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0" y="37"/>
                  </a:moveTo>
                  <a:lnTo>
                    <a:pt x="4" y="40"/>
                  </a:lnTo>
                  <a:lnTo>
                    <a:pt x="11" y="46"/>
                  </a:lnTo>
                  <a:lnTo>
                    <a:pt x="1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3846600" y="2902680"/>
              <a:ext cx="46080" cy="65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8" y="46"/>
                  </a:moveTo>
                  <a:lnTo>
                    <a:pt x="5" y="46"/>
                  </a:lnTo>
                  <a:lnTo>
                    <a:pt x="2" y="27"/>
                  </a:lnTo>
                  <a:lnTo>
                    <a:pt x="5" y="28"/>
                  </a:lnTo>
                  <a:lnTo>
                    <a:pt x="11" y="31"/>
                  </a:lnTo>
                  <a:lnTo>
                    <a:pt x="18" y="31"/>
                  </a:lnTo>
                  <a:lnTo>
                    <a:pt x="24" y="28"/>
                  </a:lnTo>
                  <a:lnTo>
                    <a:pt x="29" y="24"/>
                  </a:lnTo>
                  <a:lnTo>
                    <a:pt x="32" y="18"/>
                  </a:lnTo>
                  <a:lnTo>
                    <a:pt x="32" y="13"/>
                  </a:lnTo>
                  <a:lnTo>
                    <a:pt x="29" y="6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0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3911760" y="2902680"/>
              <a:ext cx="44280" cy="6516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31"/>
                  </a:moveTo>
                  <a:lnTo>
                    <a:pt x="27" y="24"/>
                  </a:lnTo>
                  <a:lnTo>
                    <a:pt x="23" y="19"/>
                  </a:lnTo>
                  <a:lnTo>
                    <a:pt x="17" y="18"/>
                  </a:lnTo>
                  <a:lnTo>
                    <a:pt x="14" y="18"/>
                  </a:lnTo>
                  <a:lnTo>
                    <a:pt x="8" y="19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8" y="45"/>
                  </a:lnTo>
                  <a:lnTo>
                    <a:pt x="14" y="46"/>
                  </a:lnTo>
                  <a:lnTo>
                    <a:pt x="17" y="46"/>
                  </a:lnTo>
                  <a:lnTo>
                    <a:pt x="23" y="45"/>
                  </a:lnTo>
                  <a:lnTo>
                    <a:pt x="27" y="40"/>
                  </a:lnTo>
                  <a:lnTo>
                    <a:pt x="30" y="31"/>
                  </a:lnTo>
                  <a:lnTo>
                    <a:pt x="30" y="19"/>
                  </a:lnTo>
                  <a:lnTo>
                    <a:pt x="27" y="9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5" y="1"/>
                  </a:lnTo>
                  <a:lnTo>
                    <a:pt x="2" y="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3975120" y="2902680"/>
              <a:ext cx="46080" cy="65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4" y="46"/>
                  </a:moveTo>
                  <a:lnTo>
                    <a:pt x="8" y="45"/>
                  </a:lnTo>
                  <a:lnTo>
                    <a:pt x="3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9"/>
                  </a:lnTo>
                  <a:lnTo>
                    <a:pt x="8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6" y="1"/>
                  </a:lnTo>
                  <a:lnTo>
                    <a:pt x="30" y="9"/>
                  </a:lnTo>
                  <a:lnTo>
                    <a:pt x="32" y="19"/>
                  </a:lnTo>
                  <a:lnTo>
                    <a:pt x="32" y="27"/>
                  </a:lnTo>
                  <a:lnTo>
                    <a:pt x="30" y="37"/>
                  </a:lnTo>
                  <a:lnTo>
                    <a:pt x="26" y="45"/>
                  </a:lnTo>
                  <a:lnTo>
                    <a:pt x="18" y="46"/>
                  </a:lnTo>
                  <a:lnTo>
                    <a:pt x="14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4043520" y="2903400"/>
              <a:ext cx="1440" cy="651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044960" y="2903400"/>
              <a:ext cx="4140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44960" y="2935080"/>
              <a:ext cx="2556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044960" y="2968560"/>
              <a:ext cx="414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06880" y="2941560"/>
              <a:ext cx="572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4187880" y="2902680"/>
              <a:ext cx="44640" cy="6516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4" y="46"/>
                  </a:moveTo>
                  <a:lnTo>
                    <a:pt x="6" y="45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9"/>
                  </a:lnTo>
                  <a:lnTo>
                    <a:pt x="6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8" y="9"/>
                  </a:lnTo>
                  <a:lnTo>
                    <a:pt x="31" y="19"/>
                  </a:lnTo>
                  <a:lnTo>
                    <a:pt x="31" y="27"/>
                  </a:lnTo>
                  <a:lnTo>
                    <a:pt x="28" y="37"/>
                  </a:lnTo>
                  <a:lnTo>
                    <a:pt x="24" y="45"/>
                  </a:lnTo>
                  <a:lnTo>
                    <a:pt x="18" y="46"/>
                  </a:lnTo>
                  <a:lnTo>
                    <a:pt x="13" y="46"/>
                  </a:lnTo>
                  <a:lnTo>
                    <a:pt x="14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4260960" y="2902680"/>
              <a:ext cx="17280" cy="65160"/>
            </a:xfrm>
            <a:custGeom>
              <a:avLst/>
              <a:gdLst/>
              <a:ahLst/>
              <a:rect l="l" t="t" r="r" b="b"/>
              <a:pathLst>
                <a:path w="12" h="46">
                  <a:moveTo>
                    <a:pt x="0" y="37"/>
                  </a:moveTo>
                  <a:lnTo>
                    <a:pt x="4" y="40"/>
                  </a:lnTo>
                  <a:lnTo>
                    <a:pt x="12" y="46"/>
                  </a:lnTo>
                  <a:lnTo>
                    <a:pt x="12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2411640" y="3038400"/>
              <a:ext cx="4572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32" y="40"/>
                  </a:moveTo>
                  <a:lnTo>
                    <a:pt x="27" y="45"/>
                  </a:lnTo>
                  <a:lnTo>
                    <a:pt x="21" y="48"/>
                  </a:lnTo>
                  <a:lnTo>
                    <a:pt x="11" y="48"/>
                  </a:lnTo>
                  <a:lnTo>
                    <a:pt x="5" y="45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5" y="30"/>
                  </a:lnTo>
                  <a:lnTo>
                    <a:pt x="9" y="27"/>
                  </a:lnTo>
                  <a:lnTo>
                    <a:pt x="23" y="22"/>
                  </a:lnTo>
                  <a:lnTo>
                    <a:pt x="27" y="21"/>
                  </a:lnTo>
                  <a:lnTo>
                    <a:pt x="30" y="18"/>
                  </a:lnTo>
                  <a:lnTo>
                    <a:pt x="32" y="13"/>
                  </a:lnTo>
                  <a:lnTo>
                    <a:pt x="32" y="7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5" y="3"/>
                  </a:lnTo>
                  <a:lnTo>
                    <a:pt x="0" y="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2479320" y="3038400"/>
              <a:ext cx="18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502000" y="3062160"/>
              <a:ext cx="42840" cy="446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3" y="31"/>
                  </a:moveTo>
                  <a:lnTo>
                    <a:pt x="8" y="30"/>
                  </a:lnTo>
                  <a:lnTo>
                    <a:pt x="3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3" y="7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3"/>
                  </a:lnTo>
                  <a:lnTo>
                    <a:pt x="27" y="7"/>
                  </a:lnTo>
                  <a:lnTo>
                    <a:pt x="30" y="13"/>
                  </a:lnTo>
                  <a:lnTo>
                    <a:pt x="30" y="18"/>
                  </a:lnTo>
                  <a:lnTo>
                    <a:pt x="27" y="25"/>
                  </a:lnTo>
                  <a:lnTo>
                    <a:pt x="23" y="30"/>
                  </a:lnTo>
                  <a:lnTo>
                    <a:pt x="18" y="31"/>
                  </a:lnTo>
                  <a:lnTo>
                    <a:pt x="12" y="31"/>
                  </a:lnTo>
                  <a:lnTo>
                    <a:pt x="13" y="31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487440" y="1523880"/>
              <a:ext cx="3886200" cy="4500720"/>
              <a:chOff x="487440" y="1523880"/>
              <a:chExt cx="3886200" cy="4500720"/>
            </a:xfrm>
          </p:grpSpPr>
          <p:sp>
            <p:nvSpPr>
              <p:cNvPr id="717" name=""/>
              <p:cNvSpPr/>
              <p:nvPr/>
            </p:nvSpPr>
            <p:spPr>
              <a:xfrm>
                <a:off x="2568600" y="3062160"/>
                <a:ext cx="180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2568600" y="3062160"/>
                <a:ext cx="38160" cy="4464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0" y="25"/>
                    </a:moveTo>
                    <a:lnTo>
                      <a:pt x="4" y="30"/>
                    </a:lnTo>
                    <a:lnTo>
                      <a:pt x="9" y="31"/>
                    </a:lnTo>
                    <a:lnTo>
                      <a:pt x="15" y="31"/>
                    </a:lnTo>
                    <a:lnTo>
                      <a:pt x="19" y="30"/>
                    </a:lnTo>
                    <a:lnTo>
                      <a:pt x="24" y="25"/>
                    </a:lnTo>
                    <a:lnTo>
                      <a:pt x="27" y="18"/>
                    </a:lnTo>
                    <a:lnTo>
                      <a:pt x="27" y="13"/>
                    </a:lnTo>
                    <a:lnTo>
                      <a:pt x="24" y="7"/>
                    </a:lnTo>
                    <a:lnTo>
                      <a:pt x="19" y="3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0" y="7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2625840" y="3062160"/>
                <a:ext cx="38160" cy="4464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1" y="18"/>
                    </a:moveTo>
                    <a:lnTo>
                      <a:pt x="27" y="18"/>
                    </a:lnTo>
                    <a:lnTo>
                      <a:pt x="27" y="22"/>
                    </a:lnTo>
                    <a:lnTo>
                      <a:pt x="24" y="27"/>
                    </a:lnTo>
                    <a:lnTo>
                      <a:pt x="23" y="30"/>
                    </a:lnTo>
                    <a:lnTo>
                      <a:pt x="18" y="31"/>
                    </a:lnTo>
                    <a:lnTo>
                      <a:pt x="11" y="31"/>
                    </a:lnTo>
                    <a:lnTo>
                      <a:pt x="6" y="30"/>
                    </a:lnTo>
                    <a:lnTo>
                      <a:pt x="2" y="2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" y="7"/>
                    </a:lnTo>
                    <a:lnTo>
                      <a:pt x="6" y="3"/>
                    </a:lnTo>
                    <a:lnTo>
                      <a:pt x="11" y="0"/>
                    </a:lnTo>
                    <a:lnTo>
                      <a:pt x="18" y="0"/>
                    </a:lnTo>
                    <a:lnTo>
                      <a:pt x="23" y="3"/>
                    </a:lnTo>
                    <a:lnTo>
                      <a:pt x="27" y="7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854440" y="3076560"/>
                <a:ext cx="572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2936880" y="3100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1" y="0"/>
                    </a:lnTo>
                    <a:lnTo>
                      <a:pt x="4" y="3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2979360" y="3038400"/>
                <a:ext cx="3348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965680" y="3038400"/>
                <a:ext cx="45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3030480" y="3037680"/>
                <a:ext cx="47880" cy="4428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23" y="32"/>
                    </a:moveTo>
                    <a:lnTo>
                      <a:pt x="0" y="0"/>
                    </a:lnTo>
                    <a:lnTo>
                      <a:pt x="33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3062520" y="3038400"/>
                <a:ext cx="144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3095640" y="3038400"/>
                <a:ext cx="44640" cy="6840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2" y="48"/>
                    </a:moveTo>
                    <a:lnTo>
                      <a:pt x="4" y="45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4" y="31"/>
                    </a:lnTo>
                    <a:lnTo>
                      <a:pt x="9" y="30"/>
                    </a:lnTo>
                    <a:lnTo>
                      <a:pt x="18" y="27"/>
                    </a:lnTo>
                    <a:lnTo>
                      <a:pt x="25" y="25"/>
                    </a:lnTo>
                    <a:lnTo>
                      <a:pt x="30" y="21"/>
                    </a:lnTo>
                    <a:lnTo>
                      <a:pt x="31" y="16"/>
                    </a:lnTo>
                    <a:lnTo>
                      <a:pt x="31" y="9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4" y="3"/>
                    </a:lnTo>
                    <a:lnTo>
                      <a:pt x="1" y="4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1" y="21"/>
                    </a:lnTo>
                    <a:lnTo>
                      <a:pt x="6" y="25"/>
                    </a:lnTo>
                    <a:lnTo>
                      <a:pt x="13" y="27"/>
                    </a:lnTo>
                    <a:lnTo>
                      <a:pt x="22" y="30"/>
                    </a:lnTo>
                    <a:lnTo>
                      <a:pt x="27" y="31"/>
                    </a:lnTo>
                    <a:lnTo>
                      <a:pt x="30" y="36"/>
                    </a:lnTo>
                    <a:lnTo>
                      <a:pt x="30" y="40"/>
                    </a:lnTo>
                    <a:lnTo>
                      <a:pt x="27" y="45"/>
                    </a:lnTo>
                    <a:lnTo>
                      <a:pt x="21" y="48"/>
                    </a:lnTo>
                    <a:lnTo>
                      <a:pt x="12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3159360" y="3037680"/>
                <a:ext cx="48960" cy="4428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23" y="32"/>
                    </a:moveTo>
                    <a:lnTo>
                      <a:pt x="0" y="0"/>
                    </a:lnTo>
                    <a:lnTo>
                      <a:pt x="34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3191040" y="3038400"/>
                <a:ext cx="144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229200" y="3038400"/>
                <a:ext cx="144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229200" y="3038400"/>
                <a:ext cx="42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229200" y="3070080"/>
                <a:ext cx="2520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229200" y="3106800"/>
                <a:ext cx="42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291120" y="3076560"/>
                <a:ext cx="568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3370320" y="303840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15" y="48"/>
                    </a:moveTo>
                    <a:lnTo>
                      <a:pt x="7" y="45"/>
                    </a:lnTo>
                    <a:lnTo>
                      <a:pt x="3" y="3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3" y="9"/>
                    </a:lnTo>
                    <a:lnTo>
                      <a:pt x="7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5" y="3"/>
                    </a:lnTo>
                    <a:lnTo>
                      <a:pt x="30" y="9"/>
                    </a:lnTo>
                    <a:lnTo>
                      <a:pt x="33" y="21"/>
                    </a:lnTo>
                    <a:lnTo>
                      <a:pt x="33" y="27"/>
                    </a:lnTo>
                    <a:lnTo>
                      <a:pt x="30" y="39"/>
                    </a:lnTo>
                    <a:lnTo>
                      <a:pt x="25" y="45"/>
                    </a:lnTo>
                    <a:lnTo>
                      <a:pt x="19" y="48"/>
                    </a:lnTo>
                    <a:lnTo>
                      <a:pt x="15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3444840" y="3038400"/>
                <a:ext cx="15840" cy="6840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0" y="39"/>
                    </a:moveTo>
                    <a:lnTo>
                      <a:pt x="4" y="40"/>
                    </a:lnTo>
                    <a:lnTo>
                      <a:pt x="11" y="48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559320" y="3038400"/>
                <a:ext cx="144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527640" y="3070080"/>
                <a:ext cx="61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527640" y="3106800"/>
                <a:ext cx="61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3753000" y="31003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3"/>
                    </a:lnTo>
                    <a:lnTo>
                      <a:pt x="2" y="4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3783240" y="3038400"/>
                <a:ext cx="45720" cy="684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11" y="48"/>
                    </a:moveTo>
                    <a:lnTo>
                      <a:pt x="5" y="45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5" y="31"/>
                    </a:lnTo>
                    <a:lnTo>
                      <a:pt x="9" y="30"/>
                    </a:lnTo>
                    <a:lnTo>
                      <a:pt x="18" y="27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32" y="16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0" y="0"/>
                    </a:lnTo>
                    <a:lnTo>
                      <a:pt x="11" y="0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6" y="25"/>
                    </a:lnTo>
                    <a:lnTo>
                      <a:pt x="14" y="27"/>
                    </a:lnTo>
                    <a:lnTo>
                      <a:pt x="23" y="30"/>
                    </a:lnTo>
                    <a:lnTo>
                      <a:pt x="27" y="31"/>
                    </a:lnTo>
                    <a:lnTo>
                      <a:pt x="29" y="36"/>
                    </a:lnTo>
                    <a:lnTo>
                      <a:pt x="29" y="40"/>
                    </a:lnTo>
                    <a:lnTo>
                      <a:pt x="27" y="45"/>
                    </a:lnTo>
                    <a:lnTo>
                      <a:pt x="20" y="48"/>
                    </a:lnTo>
                    <a:lnTo>
                      <a:pt x="11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3846600" y="303840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2" y="36"/>
                    </a:moveTo>
                    <a:lnTo>
                      <a:pt x="2" y="39"/>
                    </a:lnTo>
                    <a:lnTo>
                      <a:pt x="5" y="43"/>
                    </a:lnTo>
                    <a:lnTo>
                      <a:pt x="6" y="45"/>
                    </a:lnTo>
                    <a:lnTo>
                      <a:pt x="11" y="48"/>
                    </a:lnTo>
                    <a:lnTo>
                      <a:pt x="20" y="48"/>
                    </a:lnTo>
                    <a:lnTo>
                      <a:pt x="24" y="45"/>
                    </a:lnTo>
                    <a:lnTo>
                      <a:pt x="27" y="43"/>
                    </a:lnTo>
                    <a:lnTo>
                      <a:pt x="29" y="39"/>
                    </a:lnTo>
                    <a:lnTo>
                      <a:pt x="29" y="34"/>
                    </a:lnTo>
                    <a:lnTo>
                      <a:pt x="27" y="30"/>
                    </a:lnTo>
                    <a:lnTo>
                      <a:pt x="23" y="22"/>
                    </a:lnTo>
                    <a:lnTo>
                      <a:pt x="0" y="0"/>
                    </a:lnTo>
                    <a:lnTo>
                      <a:pt x="32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3911760" y="303768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23" y="32"/>
                    </a:moveTo>
                    <a:lnTo>
                      <a:pt x="0" y="0"/>
                    </a:lnTo>
                    <a:lnTo>
                      <a:pt x="35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943440" y="3038400"/>
                <a:ext cx="144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3975120" y="303840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28" y="48"/>
                    </a:moveTo>
                    <a:lnTo>
                      <a:pt x="5" y="48"/>
                    </a:lnTo>
                    <a:lnTo>
                      <a:pt x="3" y="27"/>
                    </a:lnTo>
                    <a:lnTo>
                      <a:pt x="5" y="30"/>
                    </a:lnTo>
                    <a:lnTo>
                      <a:pt x="12" y="31"/>
                    </a:lnTo>
                    <a:lnTo>
                      <a:pt x="18" y="31"/>
                    </a:lnTo>
                    <a:lnTo>
                      <a:pt x="26" y="30"/>
                    </a:lnTo>
                    <a:lnTo>
                      <a:pt x="30" y="25"/>
                    </a:lnTo>
                    <a:lnTo>
                      <a:pt x="32" y="18"/>
                    </a:lnTo>
                    <a:lnTo>
                      <a:pt x="32" y="13"/>
                    </a:lnTo>
                    <a:lnTo>
                      <a:pt x="30" y="7"/>
                    </a:lnTo>
                    <a:lnTo>
                      <a:pt x="26" y="3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0" y="9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4043520" y="3038400"/>
                <a:ext cx="144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44960" y="3038400"/>
                <a:ext cx="4140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044960" y="3070080"/>
                <a:ext cx="255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044960" y="3106800"/>
                <a:ext cx="4140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106880" y="3076560"/>
                <a:ext cx="572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4187880" y="3038400"/>
                <a:ext cx="44640" cy="6840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4" y="48"/>
                    </a:moveTo>
                    <a:lnTo>
                      <a:pt x="6" y="45"/>
                    </a:lnTo>
                    <a:lnTo>
                      <a:pt x="1" y="3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1" y="9"/>
                    </a:lnTo>
                    <a:lnTo>
                      <a:pt x="6" y="3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4" y="3"/>
                    </a:lnTo>
                    <a:lnTo>
                      <a:pt x="28" y="9"/>
                    </a:lnTo>
                    <a:lnTo>
                      <a:pt x="31" y="21"/>
                    </a:lnTo>
                    <a:lnTo>
                      <a:pt x="31" y="27"/>
                    </a:lnTo>
                    <a:lnTo>
                      <a:pt x="28" y="39"/>
                    </a:lnTo>
                    <a:lnTo>
                      <a:pt x="24" y="45"/>
                    </a:lnTo>
                    <a:lnTo>
                      <a:pt x="18" y="48"/>
                    </a:lnTo>
                    <a:lnTo>
                      <a:pt x="13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4253040" y="3038400"/>
                <a:ext cx="44280" cy="6840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5" y="48"/>
                    </a:moveTo>
                    <a:lnTo>
                      <a:pt x="28" y="48"/>
                    </a:lnTo>
                    <a:lnTo>
                      <a:pt x="15" y="30"/>
                    </a:lnTo>
                    <a:lnTo>
                      <a:pt x="22" y="30"/>
                    </a:lnTo>
                    <a:lnTo>
                      <a:pt x="27" y="27"/>
                    </a:lnTo>
                    <a:lnTo>
                      <a:pt x="28" y="25"/>
                    </a:lnTo>
                    <a:lnTo>
                      <a:pt x="31" y="18"/>
                    </a:lnTo>
                    <a:lnTo>
                      <a:pt x="31" y="13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4" y="3"/>
                    </a:lnTo>
                    <a:lnTo>
                      <a:pt x="1" y="4"/>
                    </a:lnTo>
                    <a:lnTo>
                      <a:pt x="0" y="9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3935520" y="5903640"/>
                <a:ext cx="17280" cy="81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3900600" y="5902920"/>
                <a:ext cx="92160" cy="1764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0" y="0"/>
                    </a:moveTo>
                    <a:lnTo>
                      <a:pt x="7" y="8"/>
                    </a:lnTo>
                    <a:lnTo>
                      <a:pt x="19" y="12"/>
                    </a:lnTo>
                    <a:lnTo>
                      <a:pt x="64" y="1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4027680" y="5838840"/>
                <a:ext cx="41040" cy="185760"/>
              </a:xfrm>
              <a:custGeom>
                <a:avLst/>
                <a:gdLst/>
                <a:ahLst/>
                <a:rect l="l" t="t" r="r" b="b"/>
                <a:pathLst>
                  <a:path w="29" h="130">
                    <a:moveTo>
                      <a:pt x="29" y="130"/>
                    </a:moveTo>
                    <a:lnTo>
                      <a:pt x="21" y="121"/>
                    </a:lnTo>
                    <a:lnTo>
                      <a:pt x="12" y="109"/>
                    </a:lnTo>
                    <a:lnTo>
                      <a:pt x="5" y="94"/>
                    </a:lnTo>
                    <a:lnTo>
                      <a:pt x="0" y="73"/>
                    </a:lnTo>
                    <a:lnTo>
                      <a:pt x="0" y="57"/>
                    </a:lnTo>
                    <a:lnTo>
                      <a:pt x="5" y="37"/>
                    </a:lnTo>
                    <a:lnTo>
                      <a:pt x="12" y="21"/>
                    </a:lnTo>
                    <a:lnTo>
                      <a:pt x="21" y="9"/>
                    </a:lnTo>
                    <a:lnTo>
                      <a:pt x="29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4108680" y="5903640"/>
                <a:ext cx="1440" cy="81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4110120" y="5902920"/>
                <a:ext cx="61920" cy="8100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41"/>
                    </a:moveTo>
                    <a:lnTo>
                      <a:pt x="11" y="53"/>
                    </a:lnTo>
                    <a:lnTo>
                      <a:pt x="20" y="57"/>
                    </a:lnTo>
                    <a:lnTo>
                      <a:pt x="32" y="57"/>
                    </a:lnTo>
                    <a:lnTo>
                      <a:pt x="40" y="53"/>
                    </a:lnTo>
                    <a:lnTo>
                      <a:pt x="44" y="41"/>
                    </a:lnTo>
                    <a:lnTo>
                      <a:pt x="44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4214880" y="5902920"/>
                <a:ext cx="61920" cy="8100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44" y="45"/>
                    </a:moveTo>
                    <a:lnTo>
                      <a:pt x="40" y="53"/>
                    </a:lnTo>
                    <a:lnTo>
                      <a:pt x="28" y="57"/>
                    </a:lnTo>
                    <a:lnTo>
                      <a:pt x="15" y="57"/>
                    </a:lnTo>
                    <a:lnTo>
                      <a:pt x="3" y="53"/>
                    </a:lnTo>
                    <a:lnTo>
                      <a:pt x="0" y="45"/>
                    </a:lnTo>
                    <a:lnTo>
                      <a:pt x="3" y="38"/>
                    </a:lnTo>
                    <a:lnTo>
                      <a:pt x="12" y="33"/>
                    </a:lnTo>
                    <a:lnTo>
                      <a:pt x="31" y="29"/>
                    </a:lnTo>
                    <a:lnTo>
                      <a:pt x="40" y="26"/>
                    </a:lnTo>
                    <a:lnTo>
                      <a:pt x="43" y="17"/>
                    </a:lnTo>
                    <a:lnTo>
                      <a:pt x="43" y="12"/>
                    </a:lnTo>
                    <a:lnTo>
                      <a:pt x="40" y="5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3" y="5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4313160" y="5838840"/>
                <a:ext cx="38160" cy="185760"/>
              </a:xfrm>
              <a:custGeom>
                <a:avLst/>
                <a:gdLst/>
                <a:ahLst/>
                <a:rect l="l" t="t" r="r" b="b"/>
                <a:pathLst>
                  <a:path w="27" h="130">
                    <a:moveTo>
                      <a:pt x="0" y="130"/>
                    </a:moveTo>
                    <a:lnTo>
                      <a:pt x="7" y="121"/>
                    </a:lnTo>
                    <a:lnTo>
                      <a:pt x="15" y="109"/>
                    </a:lnTo>
                    <a:lnTo>
                      <a:pt x="24" y="94"/>
                    </a:lnTo>
                    <a:lnTo>
                      <a:pt x="27" y="73"/>
                    </a:lnTo>
                    <a:lnTo>
                      <a:pt x="27" y="57"/>
                    </a:lnTo>
                    <a:lnTo>
                      <a:pt x="24" y="37"/>
                    </a:lnTo>
                    <a:lnTo>
                      <a:pt x="15" y="21"/>
                    </a:lnTo>
                    <a:lnTo>
                      <a:pt x="7" y="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590760" y="1550880"/>
                <a:ext cx="1440" cy="146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507960" y="1598400"/>
                <a:ext cx="82800" cy="9864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54"/>
                    </a:moveTo>
                    <a:lnTo>
                      <a:pt x="48" y="63"/>
                    </a:lnTo>
                    <a:lnTo>
                      <a:pt x="38" y="69"/>
                    </a:lnTo>
                    <a:lnTo>
                      <a:pt x="24" y="69"/>
                    </a:lnTo>
                    <a:lnTo>
                      <a:pt x="14" y="63"/>
                    </a:lnTo>
                    <a:lnTo>
                      <a:pt x="5" y="54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5" y="15"/>
                    </a:lnTo>
                    <a:lnTo>
                      <a:pt x="14" y="4"/>
                    </a:lnTo>
                    <a:lnTo>
                      <a:pt x="24" y="0"/>
                    </a:lnTo>
                    <a:lnTo>
                      <a:pt x="38" y="0"/>
                    </a:lnTo>
                    <a:lnTo>
                      <a:pt x="48" y="4"/>
                    </a:lnTo>
                    <a:lnTo>
                      <a:pt x="57" y="1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46200" y="1550880"/>
                <a:ext cx="1440" cy="146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47640" y="1550880"/>
                <a:ext cx="96840" cy="146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44120" y="1550880"/>
                <a:ext cx="1800" cy="146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85880" y="1523880"/>
                <a:ext cx="123840" cy="21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030320" y="1550880"/>
                <a:ext cx="1800" cy="146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946080" y="1598400"/>
                <a:ext cx="84240" cy="9864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59" y="54"/>
                    </a:moveTo>
                    <a:lnTo>
                      <a:pt x="48" y="63"/>
                    </a:lnTo>
                    <a:lnTo>
                      <a:pt x="39" y="69"/>
                    </a:lnTo>
                    <a:lnTo>
                      <a:pt x="24" y="69"/>
                    </a:lnTo>
                    <a:lnTo>
                      <a:pt x="14" y="63"/>
                    </a:lnTo>
                    <a:lnTo>
                      <a:pt x="5" y="54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5" y="15"/>
                    </a:lnTo>
                    <a:lnTo>
                      <a:pt x="14" y="4"/>
                    </a:lnTo>
                    <a:lnTo>
                      <a:pt x="24" y="0"/>
                    </a:lnTo>
                    <a:lnTo>
                      <a:pt x="39" y="0"/>
                    </a:lnTo>
                    <a:lnTo>
                      <a:pt x="48" y="4"/>
                    </a:lnTo>
                    <a:lnTo>
                      <a:pt x="59" y="1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1110960" y="1598400"/>
                <a:ext cx="20520" cy="98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1071720" y="1598400"/>
                <a:ext cx="109440" cy="20880"/>
              </a:xfrm>
              <a:custGeom>
                <a:avLst/>
                <a:gdLst/>
                <a:ahLst/>
                <a:rect l="l" t="t" r="r" b="b"/>
                <a:pathLst>
                  <a:path w="77" h="15">
                    <a:moveTo>
                      <a:pt x="0" y="0"/>
                    </a:moveTo>
                    <a:lnTo>
                      <a:pt x="8" y="9"/>
                    </a:lnTo>
                    <a:lnTo>
                      <a:pt x="23" y="15"/>
                    </a:lnTo>
                    <a:lnTo>
                      <a:pt x="77" y="1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487440" y="1779840"/>
                <a:ext cx="3886200" cy="3886200"/>
              </a:xfrm>
              <a:custGeom>
                <a:avLst/>
                <a:gdLst/>
                <a:ahLst/>
                <a:rect l="l" t="t" r="r" b="b"/>
                <a:pathLst>
                  <a:path w="2721" h="2721">
                    <a:moveTo>
                      <a:pt x="1" y="0"/>
                    </a:moveTo>
                    <a:lnTo>
                      <a:pt x="0" y="2721"/>
                    </a:lnTo>
                    <a:lnTo>
                      <a:pt x="2721" y="2721"/>
                    </a:lnTo>
                    <a:lnTo>
                      <a:pt x="2721" y="0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88880" y="56671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96800" y="5667120"/>
                <a:ext cx="82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05080" y="5667120"/>
                <a:ext cx="1080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1588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2380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3352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44680" y="566712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5260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6196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7168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7960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8896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00120" y="56671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0804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1776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2712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3504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4476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55560" y="56671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6384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7320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8256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9048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0020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08120" y="5667120"/>
                <a:ext cx="111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928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28640" y="56671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3656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4628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5564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 flipV="1">
                <a:off x="774360" y="5656320"/>
                <a:ext cx="1800" cy="2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 flipV="1">
                <a:off x="774360" y="5649480"/>
                <a:ext cx="1800" cy="4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560" y="56545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74720" y="56545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74720" y="565452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 flipV="1">
                <a:off x="790200" y="5295600"/>
                <a:ext cx="180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 flipV="1">
                <a:off x="790200" y="5268960"/>
                <a:ext cx="1800" cy="25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84440" y="529596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93800" y="529596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92360" y="52959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811440" y="4546440"/>
                <a:ext cx="1440" cy="46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811440" y="4501800"/>
                <a:ext cx="1440" cy="4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03520" y="4546440"/>
                <a:ext cx="46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14320" y="4546440"/>
                <a:ext cx="504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11440" y="454644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flipV="1">
                <a:off x="830520" y="3792600"/>
                <a:ext cx="1440" cy="55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 flipV="1">
                <a:off x="830520" y="3736800"/>
                <a:ext cx="1440" cy="54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19360" y="379260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31960" y="37926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31960" y="37926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 flipV="1">
                <a:off x="846360" y="2997000"/>
                <a:ext cx="1440" cy="60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flipV="1">
                <a:off x="846360" y="2933640"/>
                <a:ext cx="1440" cy="61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39880" y="29955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49240" y="299556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47800" y="29955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866880" y="2560680"/>
                <a:ext cx="1440" cy="61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866880" y="2496960"/>
                <a:ext cx="1440" cy="60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58960" y="256068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66880" y="25606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66880" y="25606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 flipV="1">
                <a:off x="885960" y="2376360"/>
                <a:ext cx="1440" cy="60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 flipV="1">
                <a:off x="885960" y="2316240"/>
                <a:ext cx="1440" cy="56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74800" y="237636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87400" y="23763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87400" y="237636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 flipV="1">
                <a:off x="902880" y="2325600"/>
                <a:ext cx="1800" cy="55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 flipV="1">
                <a:off x="902880" y="2266920"/>
                <a:ext cx="1800" cy="55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95320" y="23256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905040" y="232560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903240" y="23256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922320" y="2225520"/>
                <a:ext cx="1800" cy="54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922320" y="2167920"/>
                <a:ext cx="1800" cy="55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914400" y="222408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922320" y="222408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922320" y="22240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939960" y="2325240"/>
                <a:ext cx="1440" cy="52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939960" y="2273040"/>
                <a:ext cx="1440" cy="52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32040" y="23256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43200" y="232560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939960" y="23256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flipV="1">
                <a:off x="959040" y="2415600"/>
                <a:ext cx="1440" cy="47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 flipV="1">
                <a:off x="959040" y="2363760"/>
                <a:ext cx="1440" cy="47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951120" y="24145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960480" y="241452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960480" y="24145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978120" y="2428920"/>
                <a:ext cx="1440" cy="47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978120" y="2377440"/>
                <a:ext cx="1440" cy="49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968400" y="24271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978120" y="242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978120" y="24271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995400" y="2439360"/>
                <a:ext cx="1800" cy="47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995400" y="2390760"/>
                <a:ext cx="1800" cy="47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987480" y="24397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998640" y="24397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995400" y="243972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 flipV="1">
                <a:off x="1014480" y="2643120"/>
                <a:ext cx="1440" cy="46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 flipV="1">
                <a:off x="1014480" y="2597040"/>
                <a:ext cx="1440" cy="44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006560" y="264168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017720" y="264168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015920" y="26416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1033560" y="2612880"/>
                <a:ext cx="1440" cy="46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1033560" y="2566800"/>
                <a:ext cx="1440" cy="44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024200" y="26128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033560" y="261288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033560" y="26128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1050840" y="2671560"/>
                <a:ext cx="1800" cy="44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1050840" y="2625120"/>
                <a:ext cx="1800" cy="4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042920" y="26683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054080" y="26683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050840" y="266832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 flipV="1">
                <a:off x="1069560" y="2756880"/>
                <a:ext cx="1800" cy="4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 flipV="1">
                <a:off x="1069560" y="2711160"/>
                <a:ext cx="1800" cy="4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062000" y="27543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073160" y="275436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071720" y="27543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1089000" y="2852280"/>
                <a:ext cx="1800" cy="4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1089000" y="2804760"/>
                <a:ext cx="1800" cy="4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079640" y="28494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089000" y="284940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089000" y="284940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1106640" y="2990880"/>
                <a:ext cx="1440" cy="41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1106640" y="2945880"/>
                <a:ext cx="1440" cy="4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098720" y="29890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109880" y="29890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106640" y="29890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flipV="1">
                <a:off x="1125720" y="3006720"/>
                <a:ext cx="144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flipV="1">
                <a:off x="1125720" y="2960280"/>
                <a:ext cx="1440" cy="4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117800" y="300348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127160" y="300348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127160" y="30034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1146240" y="3054240"/>
                <a:ext cx="144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V="1">
                <a:off x="1146240" y="3007800"/>
                <a:ext cx="1440" cy="4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135080" y="30510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146240" y="30510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146240" y="305100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1162080" y="3062160"/>
                <a:ext cx="180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V="1">
                <a:off x="1162080" y="3015720"/>
                <a:ext cx="1800" cy="41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54160" y="30589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65320" y="30589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62080" y="305892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 flipV="1">
                <a:off x="1181160" y="3119400"/>
                <a:ext cx="1440" cy="41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 flipV="1">
                <a:off x="1181160" y="3076560"/>
                <a:ext cx="1440" cy="41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171800" y="31194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182600" y="31194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182600" y="31194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 flipV="1">
                <a:off x="1198800" y="3165480"/>
                <a:ext cx="144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 flipV="1">
                <a:off x="1198800" y="3122640"/>
                <a:ext cx="144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1190880" y="3162240"/>
              <a:ext cx="750600" cy="1609560"/>
              <a:chOff x="1190880" y="3162240"/>
              <a:chExt cx="750600" cy="1609560"/>
            </a:xfrm>
          </p:grpSpPr>
          <p:sp>
            <p:nvSpPr>
              <p:cNvPr id="918" name=""/>
              <p:cNvSpPr/>
              <p:nvPr/>
            </p:nvSpPr>
            <p:spPr>
              <a:xfrm>
                <a:off x="1190880" y="31622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201680" y="31622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200240" y="31622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1217880" y="3306600"/>
                <a:ext cx="1440" cy="38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1217880" y="3263760"/>
                <a:ext cx="144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09600" y="3303360"/>
                <a:ext cx="82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220760" y="330336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217880" y="33033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 flipV="1">
                <a:off x="1236240" y="3281040"/>
                <a:ext cx="1800" cy="4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 flipV="1">
                <a:off x="1236240" y="3241080"/>
                <a:ext cx="1800" cy="39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227240" y="32814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238400" y="32814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238400" y="32814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 flipV="1">
                <a:off x="1254240" y="3404880"/>
                <a:ext cx="1440" cy="37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 flipV="1">
                <a:off x="1254240" y="3363840"/>
                <a:ext cx="1440" cy="38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246320" y="34052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257480" y="34052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255680" y="340524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1274760" y="3367080"/>
                <a:ext cx="1800" cy="38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1274760" y="3324240"/>
                <a:ext cx="180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265400" y="33638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276560" y="33638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274760" y="336384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 flipV="1">
                <a:off x="1292400" y="3535200"/>
                <a:ext cx="1440" cy="38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 flipV="1">
                <a:off x="1292400" y="3495600"/>
                <a:ext cx="1440" cy="38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282680" y="35352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93840" y="35352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293840" y="353520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 flipV="1">
                <a:off x="1309320" y="3525840"/>
                <a:ext cx="180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 flipV="1">
                <a:off x="1309320" y="3487320"/>
                <a:ext cx="1800" cy="363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303560" y="35258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312920" y="3525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311480" y="35258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1330560" y="3546360"/>
                <a:ext cx="1440" cy="38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1330560" y="350784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320840" y="35463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330560" y="35463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330560" y="35463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 flipV="1">
                <a:off x="1347480" y="3566520"/>
                <a:ext cx="1800" cy="39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 flipV="1">
                <a:off x="1347480" y="3525840"/>
                <a:ext cx="180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338480" y="35654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349640" y="35654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349640" y="3565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 flipV="1">
                <a:off x="1365480" y="3749040"/>
                <a:ext cx="1440" cy="33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 flipV="1">
                <a:off x="1365480" y="3709800"/>
                <a:ext cx="1440" cy="38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359000" y="37479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368360" y="37479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366920" y="37479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1386000" y="3695400"/>
                <a:ext cx="1440" cy="363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1386000" y="3657240"/>
                <a:ext cx="1440" cy="363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376280" y="36957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386000" y="36957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386000" y="36957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1403280" y="378252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1403280" y="374436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393920" y="37814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405080" y="37814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403280" y="378144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 flipV="1">
                <a:off x="1420920" y="383004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 flipV="1">
                <a:off x="1420920" y="3792240"/>
                <a:ext cx="1440" cy="363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14440" y="38289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24160" y="382896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22360" y="382896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1441440" y="388404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1441440" y="3847680"/>
                <a:ext cx="1800" cy="33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32080" y="388440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41440" y="38844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441440" y="388440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1459080" y="3873240"/>
                <a:ext cx="1440" cy="367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1459080" y="3837960"/>
                <a:ext cx="1440" cy="33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449360" y="387324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460520" y="387324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459080" y="387324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 flipV="1">
                <a:off x="1476000" y="387288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 flipV="1">
                <a:off x="1476000" y="3837960"/>
                <a:ext cx="1800" cy="33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70240" y="3873240"/>
                <a:ext cx="46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79600" y="387324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478160" y="387324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V="1">
                <a:off x="1497240" y="3992400"/>
                <a:ext cx="144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1497240" y="395388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487520" y="398916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497240" y="39891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497240" y="39891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1514520" y="403020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1514520" y="3994200"/>
                <a:ext cx="1800" cy="331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505160" y="40273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517760" y="40273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514520" y="402732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 flipV="1">
                <a:off x="1532160" y="4019040"/>
                <a:ext cx="1440" cy="33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 flipV="1">
                <a:off x="1532160" y="398268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525680" y="40179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535040" y="40179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533600" y="40179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1552680" y="4138560"/>
                <a:ext cx="1440" cy="30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1552680" y="4100040"/>
                <a:ext cx="1440" cy="33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542960" y="413532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552680" y="41353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552680" y="41353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V="1">
                <a:off x="1569960" y="4147560"/>
                <a:ext cx="1800" cy="33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1569960" y="4112640"/>
                <a:ext cx="1800" cy="33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560600" y="414648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573200" y="414648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569960" y="41464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 flipV="1">
                <a:off x="1588680" y="4176720"/>
                <a:ext cx="180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 flipV="1">
                <a:off x="1588680" y="4141800"/>
                <a:ext cx="180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581120" y="417348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589040" y="41734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589040" y="41734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1608120" y="4197240"/>
                <a:ext cx="180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1608120" y="4163400"/>
                <a:ext cx="1800" cy="32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598760" y="41972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08120" y="41972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608120" y="419724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1625760" y="4300200"/>
                <a:ext cx="1440" cy="29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1625760" y="4267080"/>
                <a:ext cx="1440" cy="30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17840" y="42973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629000" y="429732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625760" y="42973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 flipV="1">
                <a:off x="1644840" y="4317840"/>
                <a:ext cx="1440" cy="30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 flipV="1">
                <a:off x="1644840" y="4282920"/>
                <a:ext cx="144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633680" y="431460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646280" y="431460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646280" y="431460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 flipV="1">
                <a:off x="1660680" y="4314600"/>
                <a:ext cx="1440" cy="30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 flipV="1">
                <a:off x="1660680" y="4281480"/>
                <a:ext cx="144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654200" y="43131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663920" y="431316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662120" y="431316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1681200" y="4386240"/>
                <a:ext cx="1800" cy="30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1681200" y="4352760"/>
                <a:ext cx="1800" cy="30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673280" y="43830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684440" y="438300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681200" y="43830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 flipV="1">
                <a:off x="1700280" y="4344840"/>
                <a:ext cx="1440" cy="30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 flipV="1">
                <a:off x="1700280" y="4309560"/>
                <a:ext cx="1440" cy="33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689120" y="434340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701720" y="43434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01720" y="43434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 flipV="1">
                <a:off x="1717920" y="4404960"/>
                <a:ext cx="1440" cy="29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 flipV="1">
                <a:off x="1717920" y="4373280"/>
                <a:ext cx="1440" cy="29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710000" y="44053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719360" y="440532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717920" y="44053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1736640" y="4435200"/>
                <a:ext cx="1800" cy="30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1736640" y="4404960"/>
                <a:ext cx="180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728720" y="4435200"/>
                <a:ext cx="504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739880" y="443520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736640" y="443520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 flipV="1">
                <a:off x="1755360" y="4536720"/>
                <a:ext cx="180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 flipV="1">
                <a:off x="1755360" y="4506480"/>
                <a:ext cx="180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746360" y="4533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757520" y="45338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757520" y="45338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 flipV="1">
                <a:off x="1773360" y="4552560"/>
                <a:ext cx="144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 flipV="1">
                <a:off x="1773360" y="4522320"/>
                <a:ext cx="144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65440" y="45529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74800" y="455292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774800" y="45529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1792440" y="4536720"/>
                <a:ext cx="144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1792440" y="4506480"/>
                <a:ext cx="144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84520" y="453384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792440" y="4533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792440" y="45338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 flipV="1">
                <a:off x="1811520" y="4584240"/>
                <a:ext cx="144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flipV="1">
                <a:off x="1811520" y="4554360"/>
                <a:ext cx="1440" cy="28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01800" y="45846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812960" y="45846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812960" y="45846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 flipV="1">
                <a:off x="1828440" y="4561920"/>
                <a:ext cx="180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 flipV="1">
                <a:off x="1828440" y="4531680"/>
                <a:ext cx="180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20880" y="455904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832040" y="455904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830600" y="455904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1847880" y="4644720"/>
                <a:ext cx="180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1847880" y="4618080"/>
                <a:ext cx="1800" cy="25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839960" y="464508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847880" y="464508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47880" y="46450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1865520" y="4642920"/>
                <a:ext cx="144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>
                <a:off x="1865520" y="4612680"/>
                <a:ext cx="144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857600" y="464004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868400" y="464004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865520" y="464004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 flipV="1">
                <a:off x="1884600" y="4704840"/>
                <a:ext cx="144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 flipV="1">
                <a:off x="1884600" y="4677840"/>
                <a:ext cx="144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876680" y="47052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887480" y="4705200"/>
                <a:ext cx="504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886040" y="470520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1903680" y="4736520"/>
                <a:ext cx="144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1903680" y="4708080"/>
                <a:ext cx="144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893960" y="47354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903680" y="47354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903680" y="4735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1920960" y="4716000"/>
                <a:ext cx="144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1920960" y="4685760"/>
                <a:ext cx="144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913040" y="4713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924200" y="4713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920960" y="47131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 flipV="1">
                <a:off x="1940040" y="4746600"/>
                <a:ext cx="1440" cy="25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 flipV="1">
                <a:off x="1940040" y="4717440"/>
                <a:ext cx="144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1932120" y="4746600"/>
              <a:ext cx="750600" cy="660240"/>
              <a:chOff x="1932120" y="4746600"/>
              <a:chExt cx="750600" cy="660240"/>
            </a:xfrm>
          </p:grpSpPr>
          <p:sp>
            <p:nvSpPr>
              <p:cNvPr id="1119" name=""/>
              <p:cNvSpPr/>
              <p:nvPr/>
            </p:nvSpPr>
            <p:spPr>
              <a:xfrm>
                <a:off x="1932120" y="47466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943280" y="474660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941480" y="47466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1960560" y="4802040"/>
                <a:ext cx="180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1960560" y="4773600"/>
                <a:ext cx="1800" cy="25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949400" y="47988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960560" y="47988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960560" y="479880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1976400" y="4785840"/>
                <a:ext cx="180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1976400" y="4760280"/>
                <a:ext cx="1800" cy="241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968480" y="47862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979640" y="47862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976400" y="47862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 flipV="1">
                <a:off x="1995120" y="4836600"/>
                <a:ext cx="180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 flipV="1">
                <a:off x="1995120" y="4811760"/>
                <a:ext cx="1800" cy="25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989360" y="4836960"/>
                <a:ext cx="46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998720" y="4836960"/>
                <a:ext cx="46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997280" y="48369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2016360" y="4876200"/>
                <a:ext cx="144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2016360" y="4851360"/>
                <a:ext cx="144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005200" y="48765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016360" y="48765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016360" y="48765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2032200" y="4871880"/>
                <a:ext cx="144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2032200" y="4846680"/>
                <a:ext cx="144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024280" y="48704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035440" y="48704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2032200" y="4870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 flipV="1">
                <a:off x="2051280" y="494784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 flipV="1">
                <a:off x="2051280" y="4922640"/>
                <a:ext cx="144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044800" y="494496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052720" y="49449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052720" y="49449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V="1">
                <a:off x="2071800" y="4922640"/>
                <a:ext cx="144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2071800" y="4897080"/>
                <a:ext cx="1440" cy="21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060640" y="492264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071800" y="492264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071800" y="492264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2089080" y="4949640"/>
                <a:ext cx="1800" cy="20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V="1">
                <a:off x="2089080" y="4922280"/>
                <a:ext cx="180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079720" y="494820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090880" y="494820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089080" y="49482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 flipV="1">
                <a:off x="2106720" y="498744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 flipV="1">
                <a:off x="2106720" y="496224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097000" y="4986360"/>
                <a:ext cx="8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108160" y="49863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108160" y="498636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 flipV="1">
                <a:off x="2123640" y="4956120"/>
                <a:ext cx="180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 flipV="1">
                <a:off x="2123640" y="4932000"/>
                <a:ext cx="180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117880" y="495612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127240" y="49561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125800" y="49561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V="1">
                <a:off x="2144880" y="4983120"/>
                <a:ext cx="1440" cy="25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2144880" y="496044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135160" y="498312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146320" y="498312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144880" y="49831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2161800" y="4987440"/>
                <a:ext cx="180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 flipV="1">
                <a:off x="2161800" y="4962600"/>
                <a:ext cx="180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152800" y="49863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163960" y="49863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163960" y="49863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 flipV="1">
                <a:off x="2179800" y="5037120"/>
                <a:ext cx="144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 flipV="1">
                <a:off x="2179800" y="5013000"/>
                <a:ext cx="1440" cy="21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173320" y="50353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183040" y="50353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181240" y="503532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2200320" y="5047920"/>
                <a:ext cx="180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V="1">
                <a:off x="2200320" y="5024160"/>
                <a:ext cx="1800" cy="21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190960" y="504648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202120" y="504648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200320" y="504648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H="1" flipV="1">
                <a:off x="2217960" y="5073480"/>
                <a:ext cx="1440" cy="20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 flipV="1">
                <a:off x="2217960" y="5051160"/>
                <a:ext cx="1440" cy="20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208240" y="50720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219400" y="50720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219400" y="50720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 flipV="1">
                <a:off x="2234880" y="5046480"/>
                <a:ext cx="1800" cy="20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 flipV="1">
                <a:off x="2234880" y="5022360"/>
                <a:ext cx="180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228760" y="504324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238480" y="504324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237040" y="504324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2255760" y="5116320"/>
                <a:ext cx="1800" cy="20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2255760" y="5094000"/>
                <a:ext cx="180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246400" y="51163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255760" y="5116320"/>
                <a:ext cx="82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255760" y="511632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 flipV="1">
                <a:off x="2273400" y="5137200"/>
                <a:ext cx="144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 flipV="1">
                <a:off x="2273400" y="5114520"/>
                <a:ext cx="144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264040" y="513396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274840" y="51339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274840" y="513396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 flipV="1">
                <a:off x="2290320" y="514980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 flipV="1">
                <a:off x="2290320" y="512712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284560" y="514656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293920" y="51465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292480" y="51465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V="1">
                <a:off x="2311560" y="5102280"/>
                <a:ext cx="1440" cy="187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2311560" y="5077800"/>
                <a:ext cx="144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301840" y="50990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311560" y="50990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311560" y="50990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2328840" y="516204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>
                <a:off x="2328840" y="513972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319480" y="515916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330640" y="51591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328840" y="515916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 flipV="1">
                <a:off x="2346480" y="5136840"/>
                <a:ext cx="1440" cy="21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 flipV="1">
                <a:off x="2346480" y="5116320"/>
                <a:ext cx="1440" cy="20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340000" y="51372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349720" y="513720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347920" y="51372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2367000" y="5116320"/>
                <a:ext cx="1800" cy="20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2367000" y="5094000"/>
                <a:ext cx="180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357640" y="511632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367000" y="51163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367000" y="511632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2384640" y="5195520"/>
                <a:ext cx="144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2384640" y="5174640"/>
                <a:ext cx="144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374920" y="519408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387520" y="519408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384640" y="51940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 flipV="1">
                <a:off x="2401560" y="5136840"/>
                <a:ext cx="180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 flipV="1">
                <a:off x="2401560" y="5111640"/>
                <a:ext cx="180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395800" y="513720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405160" y="51372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403720" y="51372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V="1">
                <a:off x="2422440" y="5165640"/>
                <a:ext cx="180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2422440" y="514476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413080" y="51656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422440" y="5165640"/>
                <a:ext cx="8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422440" y="516564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V="1">
                <a:off x="2440080" y="5192640"/>
                <a:ext cx="144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V="1">
                <a:off x="2440080" y="5167080"/>
                <a:ext cx="144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430720" y="518940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443320" y="518940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440080" y="518940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 flipV="1">
                <a:off x="2459160" y="5193720"/>
                <a:ext cx="144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 flipV="1">
                <a:off x="2459160" y="5170320"/>
                <a:ext cx="144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451240" y="51926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460600" y="51926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459160" y="51926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2478240" y="521928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2478240" y="519696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468520" y="52196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478240" y="52196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8240" y="52196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2495520" y="52387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2495520" y="521748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487600" y="52369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498760" y="52369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495520" y="523692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 flipV="1">
                <a:off x="2514240" y="5225760"/>
                <a:ext cx="1800" cy="21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 flipV="1">
                <a:off x="2514240" y="520488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2506680" y="522612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2516400" y="522612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2516400" y="52261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2533680" y="523836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V="1">
                <a:off x="2533680" y="521748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2524320" y="523872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2533680" y="523872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2533680" y="52387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2551320" y="5265720"/>
                <a:ext cx="144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2551320" y="5243040"/>
                <a:ext cx="144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543400" y="52624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554200" y="5262480"/>
                <a:ext cx="50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551320" y="52624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 flipV="1">
                <a:off x="2570400" y="5300640"/>
                <a:ext cx="144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 flipV="1">
                <a:off x="2570400" y="5279400"/>
                <a:ext cx="144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559240" y="529884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571840" y="529884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571840" y="529884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 flipV="1">
                <a:off x="2587320" y="531648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 flipV="1">
                <a:off x="2587320" y="529596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579760" y="53164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589480" y="531648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587680" y="53164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2606760" y="5335560"/>
                <a:ext cx="144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2606760" y="5316480"/>
                <a:ext cx="144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598840" y="53355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610000" y="533556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606760" y="53355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 flipV="1">
                <a:off x="2625840" y="5328720"/>
                <a:ext cx="144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 flipV="1">
                <a:off x="2625840" y="5308560"/>
                <a:ext cx="144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616120" y="5325840"/>
                <a:ext cx="82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627280" y="532584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627280" y="532584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 flipV="1">
                <a:off x="2642760" y="53287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 flipV="1">
                <a:off x="2642760" y="530856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635200" y="532584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644920" y="532584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644920" y="532584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2662200" y="533556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V="1">
                <a:off x="2662200" y="5312880"/>
                <a:ext cx="180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654280" y="5333760"/>
                <a:ext cx="504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665440" y="533376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662200" y="533376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 flipV="1">
                <a:off x="2680920" y="539100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 flipV="1">
                <a:off x="2680920" y="537372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2671920" y="5368320"/>
              <a:ext cx="750960" cy="298440"/>
              <a:chOff x="2671920" y="5368320"/>
              <a:chExt cx="750960" cy="298440"/>
            </a:xfrm>
          </p:grpSpPr>
          <p:sp>
            <p:nvSpPr>
              <p:cNvPr id="1320" name=""/>
              <p:cNvSpPr/>
              <p:nvPr/>
            </p:nvSpPr>
            <p:spPr>
              <a:xfrm>
                <a:off x="2671920" y="53910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683080" y="539100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683080" y="539100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 flipV="1">
                <a:off x="2698920" y="5409720"/>
                <a:ext cx="144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 flipV="1">
                <a:off x="2698920" y="5394240"/>
                <a:ext cx="144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691000" y="54086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2702160" y="54086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700360" y="540864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V="1">
                <a:off x="2718000" y="5391000"/>
                <a:ext cx="144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2718000" y="5371560"/>
                <a:ext cx="144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710080" y="538956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718000" y="538956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718000" y="53895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H="1" flipV="1">
                <a:off x="2737080" y="5414760"/>
                <a:ext cx="144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 flipV="1">
                <a:off x="2737080" y="5397120"/>
                <a:ext cx="1440" cy="14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727360" y="54147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738520" y="541476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738520" y="54147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 flipV="1">
                <a:off x="2754000" y="5389200"/>
                <a:ext cx="1800" cy="14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 flipV="1">
                <a:off x="2754000" y="5368320"/>
                <a:ext cx="1800" cy="16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746440" y="53863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757600" y="53863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756160" y="53863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2773440" y="5449680"/>
                <a:ext cx="144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2773440" y="5433840"/>
                <a:ext cx="144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765520" y="544968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773440" y="544968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773440" y="54496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V="1">
                <a:off x="2791080" y="5471640"/>
                <a:ext cx="144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2791080" y="5457600"/>
                <a:ext cx="1440" cy="12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782800" y="5470560"/>
                <a:ext cx="8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793960" y="54705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791080" y="54705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 flipV="1">
                <a:off x="2809440" y="545940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 flipV="1">
                <a:off x="2809440" y="5444640"/>
                <a:ext cx="180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801880" y="54594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813040" y="5459400"/>
                <a:ext cx="50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811600" y="54594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V="1">
                <a:off x="2830680" y="5452560"/>
                <a:ext cx="144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2830680" y="5435280"/>
                <a:ext cx="1440" cy="14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819520" y="54496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830680" y="54496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830680" y="54496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V="1">
                <a:off x="2846520" y="5457600"/>
                <a:ext cx="1440" cy="12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2846520" y="5441760"/>
                <a:ext cx="1440" cy="12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838600" y="54547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849760" y="54547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846520" y="54547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 flipV="1">
                <a:off x="2865600" y="5452920"/>
                <a:ext cx="144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 flipV="1">
                <a:off x="2865600" y="5435280"/>
                <a:ext cx="1440" cy="14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859120" y="5452920"/>
                <a:ext cx="46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868840" y="5452920"/>
                <a:ext cx="46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867040" y="545292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2886120" y="5464080"/>
                <a:ext cx="180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2886120" y="5446080"/>
                <a:ext cx="1800" cy="16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874960" y="54640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886120" y="54640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886120" y="54640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2901960" y="5478120"/>
                <a:ext cx="1800" cy="14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2901960" y="5462280"/>
                <a:ext cx="1800" cy="14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894040" y="54766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905200" y="54766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901960" y="547668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 flipV="1">
                <a:off x="2920680" y="5478120"/>
                <a:ext cx="1800" cy="14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 flipV="1">
                <a:off x="2920680" y="5463720"/>
                <a:ext cx="180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914560" y="5478480"/>
                <a:ext cx="50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924280" y="547848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922840" y="54784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2941560" y="5509800"/>
                <a:ext cx="180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2941560" y="549252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930760" y="55083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941560" y="5508360"/>
                <a:ext cx="82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941560" y="550836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2959200" y="5514480"/>
                <a:ext cx="144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2959200" y="5500440"/>
                <a:ext cx="1440" cy="12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949840" y="551340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960640" y="55134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959200" y="55134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 flipV="1">
                <a:off x="2976120" y="548424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 flipV="1">
                <a:off x="2976120" y="546516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970360" y="5484600"/>
                <a:ext cx="46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978280" y="54846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978280" y="548460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V="1">
                <a:off x="2997360" y="5497560"/>
                <a:ext cx="144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2997360" y="5478480"/>
                <a:ext cx="144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987640" y="549576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997360" y="54957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997360" y="54957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3014640" y="552276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V="1">
                <a:off x="3014640" y="5506920"/>
                <a:ext cx="180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005280" y="552276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016440" y="552276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014640" y="552276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 flipV="1">
                <a:off x="3032280" y="5540040"/>
                <a:ext cx="144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 flipV="1">
                <a:off x="3032280" y="5522760"/>
                <a:ext cx="144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022560" y="55386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033720" y="55386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033720" y="553860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 flipV="1">
                <a:off x="3049200" y="55213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 flipV="1">
                <a:off x="3049200" y="550008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043440" y="551952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052800" y="55195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051360" y="55195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V="1">
                <a:off x="3070440" y="5532120"/>
                <a:ext cx="144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3070440" y="5513400"/>
                <a:ext cx="144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060720" y="553248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073320" y="5532480"/>
                <a:ext cx="50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070440" y="55324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 flipV="1">
                <a:off x="3087360" y="553500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H="1" flipV="1">
                <a:off x="3087360" y="5510160"/>
                <a:ext cx="180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078360" y="553248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089520" y="55324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089520" y="55324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 flipV="1">
                <a:off x="3105360" y="5545080"/>
                <a:ext cx="144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 flipV="1">
                <a:off x="3105360" y="5522400"/>
                <a:ext cx="144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098880" y="554328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108240" y="5543280"/>
                <a:ext cx="82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106800" y="55432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V="1">
                <a:off x="3125880" y="5555880"/>
                <a:ext cx="144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V="1">
                <a:off x="3125880" y="5535000"/>
                <a:ext cx="144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116520" y="55562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129120" y="555624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125880" y="55562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H="1" flipV="1">
                <a:off x="3144960" y="5543280"/>
                <a:ext cx="1440" cy="20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 flipV="1">
                <a:off x="3144960" y="5520960"/>
                <a:ext cx="144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133800" y="554328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144960" y="55432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144960" y="55432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 flipV="1">
                <a:off x="3160800" y="5472000"/>
                <a:ext cx="1440" cy="47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 flipV="1">
                <a:off x="3160800" y="5424480"/>
                <a:ext cx="1440" cy="46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154320" y="54720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164040" y="547200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162240" y="54720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V="1">
                <a:off x="3181320" y="5578200"/>
                <a:ext cx="1800" cy="20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V="1">
                <a:off x="3181320" y="5557320"/>
                <a:ext cx="180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173400" y="5578200"/>
                <a:ext cx="504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181320" y="55782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181320" y="557820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 flipV="1">
                <a:off x="3200040" y="5548320"/>
                <a:ext cx="1800" cy="331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 flipV="1">
                <a:off x="3200040" y="5508360"/>
                <a:ext cx="1800" cy="367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189240" y="554508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202200" y="554508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202200" y="55450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 flipV="1">
                <a:off x="3215880" y="5526000"/>
                <a:ext cx="180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>
                <a:off x="3215880" y="5483160"/>
                <a:ext cx="180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210120" y="552600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219480" y="552600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218040" y="55260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V="1">
                <a:off x="3237120" y="5574960"/>
                <a:ext cx="144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>
                <a:off x="3237120" y="5544720"/>
                <a:ext cx="144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229200" y="557532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237120" y="55753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37120" y="55753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V="1">
                <a:off x="3254400" y="5643360"/>
                <a:ext cx="1800" cy="12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V="1">
                <a:off x="3254400" y="5630400"/>
                <a:ext cx="1800" cy="11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5040" y="564336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257640" y="564336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54400" y="564336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 flipV="1">
                <a:off x="3273120" y="562140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 flipV="1">
                <a:off x="3273120" y="559872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265560" y="56181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75280" y="561816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73480" y="561816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3292560" y="5616360"/>
                <a:ext cx="1440" cy="20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V="1">
                <a:off x="3292560" y="559080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83200" y="561348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292560" y="561348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92560" y="56134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V="1">
                <a:off x="3310200" y="5635440"/>
                <a:ext cx="144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3310200" y="5618160"/>
                <a:ext cx="144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301920" y="5634000"/>
                <a:ext cx="8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313080" y="56340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310200" y="56340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H="1" flipV="1">
                <a:off x="3328560" y="5659200"/>
                <a:ext cx="1800" cy="5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 flipV="1">
                <a:off x="3328560" y="5651280"/>
                <a:ext cx="1800" cy="5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321000" y="565920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330720" y="565920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330720" y="565920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V="1">
                <a:off x="3348000" y="5660640"/>
                <a:ext cx="1800" cy="3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3348000" y="5651280"/>
                <a:ext cx="1800" cy="7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338640" y="565920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348000" y="565920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348000" y="565920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V="1">
                <a:off x="3365640" y="5654520"/>
                <a:ext cx="1440" cy="6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3365640" y="5646240"/>
                <a:ext cx="1440" cy="4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357720" y="56512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368880" y="565128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365640" y="56512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3384720" y="5660640"/>
                <a:ext cx="1440" cy="61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 flipV="1">
                <a:off x="3384720" y="5651280"/>
                <a:ext cx="1440" cy="7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376800" y="566100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387960" y="566100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386160" y="56610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V="1">
                <a:off x="3403800" y="5651280"/>
                <a:ext cx="1440" cy="12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3403800" y="5638320"/>
                <a:ext cx="1440" cy="11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394080" y="56512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403800" y="565128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403800" y="56512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3421080" y="5660640"/>
                <a:ext cx="1800" cy="3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3421080" y="5651280"/>
                <a:ext cx="1800" cy="5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85680" y="1780560"/>
              <a:ext cx="4287960" cy="3921120"/>
              <a:chOff x="85680" y="1780560"/>
              <a:chExt cx="4287960" cy="3921120"/>
            </a:xfrm>
          </p:grpSpPr>
          <p:sp>
            <p:nvSpPr>
              <p:cNvPr id="1521" name=""/>
              <p:cNvSpPr/>
              <p:nvPr/>
            </p:nvSpPr>
            <p:spPr>
              <a:xfrm>
                <a:off x="3413160" y="56592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424320" y="565920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421080" y="565920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 flipV="1">
                <a:off x="3439800" y="5650920"/>
                <a:ext cx="1800" cy="97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 flipV="1">
                <a:off x="3439800" y="5641920"/>
                <a:ext cx="1800" cy="7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432240" y="56498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441960" y="56498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441960" y="56498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44988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45924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3476880" y="5649840"/>
                <a:ext cx="144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3476880" y="5634000"/>
                <a:ext cx="144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468600" y="5648400"/>
                <a:ext cx="8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479760" y="56484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476880" y="56484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H="1" flipV="1">
                <a:off x="3495240" y="5664240"/>
                <a:ext cx="1800" cy="2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H="1" flipV="1">
                <a:off x="3495240" y="5659200"/>
                <a:ext cx="1800" cy="5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486240" y="56642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497400" y="56642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497400" y="56642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50532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51468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52440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53232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54168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552840" y="56671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 flipV="1">
                <a:off x="3568320" y="5656320"/>
                <a:ext cx="1800" cy="7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 flipV="1">
                <a:off x="3568320" y="5646600"/>
                <a:ext cx="1800" cy="7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560760" y="56545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571920" y="56545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570480" y="56545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3587760" y="5664240"/>
                <a:ext cx="1800" cy="2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>
                <a:off x="3587760" y="5659200"/>
                <a:ext cx="1800" cy="5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79840" y="56642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591000" y="56642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587760" y="566424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59748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60864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1656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62592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V="1">
                <a:off x="3643560" y="5664240"/>
                <a:ext cx="1440" cy="2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V="1">
                <a:off x="3643560" y="5654520"/>
                <a:ext cx="1440" cy="6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635640" y="566100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643560" y="566100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643560" y="56610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65292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66408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67200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68136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69108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70044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70836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716280" y="5667120"/>
                <a:ext cx="111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729240" y="566712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737160" y="566712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745080" y="5667120"/>
                <a:ext cx="111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75624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76416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772080" y="5667120"/>
                <a:ext cx="111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84680" y="56671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9260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800520" y="5667120"/>
                <a:ext cx="111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81168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81960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82896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840120" y="56671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84804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85776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86712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87504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88476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895920" y="566712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90384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91320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92292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93084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94020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94812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95928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969000" y="566712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97692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98628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99600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003920" y="5667120"/>
                <a:ext cx="1080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01472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024440" y="56671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032360" y="5667120"/>
                <a:ext cx="111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04352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05144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059360" y="5667120"/>
                <a:ext cx="111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071960" y="56671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079880" y="56671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087800" y="5667120"/>
                <a:ext cx="111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09896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10688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114800" y="5667120"/>
                <a:ext cx="111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127760" y="566712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13568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143600" y="5667120"/>
                <a:ext cx="1080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154400" y="5667120"/>
                <a:ext cx="82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16268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417204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17996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19112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200480" y="56671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20840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421812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22748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23540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424656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256280" y="566712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26420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7356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428328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429120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430236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311720" y="56671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319640" y="56671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4329360" y="56671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33872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4346640" y="5667120"/>
                <a:ext cx="111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4357800" y="5667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4367160" y="56671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V="1">
                <a:off x="1214640" y="3220200"/>
                <a:ext cx="784080" cy="1598760"/>
              </a:xfrm>
              <a:custGeom>
                <a:avLst/>
                <a:gdLst/>
                <a:ahLst/>
                <a:rect l="l" t="t" r="r" b="b"/>
                <a:pathLst>
                  <a:path w="549" h="1119">
                    <a:moveTo>
                      <a:pt x="0" y="1119"/>
                    </a:moveTo>
                    <a:lnTo>
                      <a:pt x="13" y="1074"/>
                    </a:lnTo>
                    <a:lnTo>
                      <a:pt x="27" y="1031"/>
                    </a:lnTo>
                    <a:lnTo>
                      <a:pt x="40" y="989"/>
                    </a:lnTo>
                    <a:lnTo>
                      <a:pt x="55" y="947"/>
                    </a:lnTo>
                    <a:lnTo>
                      <a:pt x="69" y="906"/>
                    </a:lnTo>
                    <a:lnTo>
                      <a:pt x="82" y="867"/>
                    </a:lnTo>
                    <a:lnTo>
                      <a:pt x="96" y="830"/>
                    </a:lnTo>
                    <a:lnTo>
                      <a:pt x="109" y="792"/>
                    </a:lnTo>
                    <a:lnTo>
                      <a:pt x="123" y="756"/>
                    </a:lnTo>
                    <a:lnTo>
                      <a:pt x="136" y="720"/>
                    </a:lnTo>
                    <a:lnTo>
                      <a:pt x="151" y="686"/>
                    </a:lnTo>
                    <a:lnTo>
                      <a:pt x="165" y="653"/>
                    </a:lnTo>
                    <a:lnTo>
                      <a:pt x="178" y="620"/>
                    </a:lnTo>
                    <a:lnTo>
                      <a:pt x="192" y="588"/>
                    </a:lnTo>
                    <a:lnTo>
                      <a:pt x="205" y="558"/>
                    </a:lnTo>
                    <a:lnTo>
                      <a:pt x="219" y="528"/>
                    </a:lnTo>
                    <a:lnTo>
                      <a:pt x="234" y="498"/>
                    </a:lnTo>
                    <a:lnTo>
                      <a:pt x="247" y="470"/>
                    </a:lnTo>
                    <a:lnTo>
                      <a:pt x="261" y="443"/>
                    </a:lnTo>
                    <a:lnTo>
                      <a:pt x="274" y="416"/>
                    </a:lnTo>
                    <a:lnTo>
                      <a:pt x="288" y="389"/>
                    </a:lnTo>
                    <a:lnTo>
                      <a:pt x="301" y="363"/>
                    </a:lnTo>
                    <a:lnTo>
                      <a:pt x="316" y="338"/>
                    </a:lnTo>
                    <a:lnTo>
                      <a:pt x="330" y="314"/>
                    </a:lnTo>
                    <a:lnTo>
                      <a:pt x="343" y="290"/>
                    </a:lnTo>
                    <a:lnTo>
                      <a:pt x="357" y="267"/>
                    </a:lnTo>
                    <a:lnTo>
                      <a:pt x="370" y="245"/>
                    </a:lnTo>
                    <a:lnTo>
                      <a:pt x="384" y="222"/>
                    </a:lnTo>
                    <a:lnTo>
                      <a:pt x="399" y="201"/>
                    </a:lnTo>
                    <a:lnTo>
                      <a:pt x="412" y="180"/>
                    </a:lnTo>
                    <a:lnTo>
                      <a:pt x="426" y="161"/>
                    </a:lnTo>
                    <a:lnTo>
                      <a:pt x="439" y="141"/>
                    </a:lnTo>
                    <a:lnTo>
                      <a:pt x="453" y="122"/>
                    </a:lnTo>
                    <a:lnTo>
                      <a:pt x="466" y="102"/>
                    </a:lnTo>
                    <a:lnTo>
                      <a:pt x="481" y="84"/>
                    </a:lnTo>
                    <a:lnTo>
                      <a:pt x="495" y="66"/>
                    </a:lnTo>
                    <a:lnTo>
                      <a:pt x="508" y="50"/>
                    </a:lnTo>
                    <a:lnTo>
                      <a:pt x="522" y="33"/>
                    </a:lnTo>
                    <a:lnTo>
                      <a:pt x="535" y="17"/>
                    </a:lnTo>
                    <a:lnTo>
                      <a:pt x="549" y="0"/>
                    </a:lnTo>
                  </a:path>
                </a:pathLst>
              </a:custGeom>
              <a:noFill/>
              <a:ln cap="rnd"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H="1" flipV="1">
                <a:off x="487440" y="1780560"/>
                <a:ext cx="1440" cy="3886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H="1">
                <a:off x="487080" y="5667120"/>
                <a:ext cx="745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H="1">
                <a:off x="487080" y="557352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H="1">
                <a:off x="487080" y="547848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H="1">
                <a:off x="487080" y="538488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H="1">
                <a:off x="487080" y="529092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H="1">
                <a:off x="487080" y="5195880"/>
                <a:ext cx="745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H="1">
                <a:off x="487080" y="50990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H="1">
                <a:off x="487080" y="50054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H="1">
                <a:off x="487080" y="49100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H="1">
                <a:off x="487080" y="48164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H="1">
                <a:off x="487080" y="4722840"/>
                <a:ext cx="745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H="1">
                <a:off x="487080" y="46274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H="1">
                <a:off x="487080" y="45338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>
                <a:off x="487080" y="443844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>
                <a:off x="487080" y="434340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>
                <a:off x="487080" y="4249800"/>
                <a:ext cx="745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H="1">
                <a:off x="487080" y="415440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>
                <a:off x="487080" y="406080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H="1">
                <a:off x="487080" y="396720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H="1">
                <a:off x="487080" y="387180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>
                <a:off x="487080" y="3778200"/>
                <a:ext cx="745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H="1">
                <a:off x="487080" y="368136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H="1">
                <a:off x="487080" y="358596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>
                <a:off x="487080" y="349236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H="1">
                <a:off x="487080" y="339732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H="1">
                <a:off x="487080" y="3303360"/>
                <a:ext cx="745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>
                <a:off x="487080" y="320976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>
                <a:off x="487080" y="311472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>
                <a:off x="487080" y="302076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>
                <a:off x="487080" y="292572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H="1">
                <a:off x="487080" y="2830320"/>
                <a:ext cx="745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>
                <a:off x="487080" y="273672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>
                <a:off x="487080" y="264168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>
                <a:off x="487080" y="254772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487080" y="245412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487080" y="2359080"/>
                <a:ext cx="745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H="1">
                <a:off x="487080" y="226512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487080" y="216828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487080" y="20732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487080" y="19796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487080" y="1884240"/>
                <a:ext cx="745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487080" y="1884240"/>
                <a:ext cx="745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487080" y="17906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335160" y="5633280"/>
                <a:ext cx="44280" cy="6804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4" y="48"/>
                    </a:moveTo>
                    <a:lnTo>
                      <a:pt x="6" y="45"/>
                    </a:lnTo>
                    <a:lnTo>
                      <a:pt x="1" y="3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1" y="9"/>
                    </a:lnTo>
                    <a:lnTo>
                      <a:pt x="6" y="2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4" y="2"/>
                    </a:lnTo>
                    <a:lnTo>
                      <a:pt x="28" y="9"/>
                    </a:lnTo>
                    <a:lnTo>
                      <a:pt x="31" y="21"/>
                    </a:lnTo>
                    <a:lnTo>
                      <a:pt x="31" y="27"/>
                    </a:lnTo>
                    <a:lnTo>
                      <a:pt x="28" y="39"/>
                    </a:lnTo>
                    <a:lnTo>
                      <a:pt x="24" y="45"/>
                    </a:lnTo>
                    <a:lnTo>
                      <a:pt x="18" y="48"/>
                    </a:lnTo>
                    <a:lnTo>
                      <a:pt x="13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V="1">
                <a:off x="139680" y="516168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4" y="36"/>
                    </a:moveTo>
                    <a:lnTo>
                      <a:pt x="3" y="37"/>
                    </a:lnTo>
                    <a:lnTo>
                      <a:pt x="5" y="42"/>
                    </a:lnTo>
                    <a:lnTo>
                      <a:pt x="8" y="45"/>
                    </a:lnTo>
                    <a:lnTo>
                      <a:pt x="12" y="46"/>
                    </a:lnTo>
                    <a:lnTo>
                      <a:pt x="21" y="46"/>
                    </a:lnTo>
                    <a:lnTo>
                      <a:pt x="26" y="45"/>
                    </a:lnTo>
                    <a:lnTo>
                      <a:pt x="27" y="42"/>
                    </a:lnTo>
                    <a:lnTo>
                      <a:pt x="30" y="37"/>
                    </a:lnTo>
                    <a:lnTo>
                      <a:pt x="30" y="33"/>
                    </a:lnTo>
                    <a:lnTo>
                      <a:pt x="27" y="28"/>
                    </a:lnTo>
                    <a:lnTo>
                      <a:pt x="23" y="22"/>
                    </a:lnTo>
                    <a:lnTo>
                      <a:pt x="0" y="0"/>
                    </a:lnTo>
                    <a:lnTo>
                      <a:pt x="32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V="1">
                <a:off x="204840" y="5161680"/>
                <a:ext cx="44640" cy="6516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28" y="46"/>
                    </a:moveTo>
                    <a:lnTo>
                      <a:pt x="5" y="46"/>
                    </a:lnTo>
                    <a:lnTo>
                      <a:pt x="3" y="27"/>
                    </a:lnTo>
                    <a:lnTo>
                      <a:pt x="5" y="28"/>
                    </a:lnTo>
                    <a:lnTo>
                      <a:pt x="12" y="31"/>
                    </a:lnTo>
                    <a:lnTo>
                      <a:pt x="18" y="31"/>
                    </a:lnTo>
                    <a:lnTo>
                      <a:pt x="26" y="28"/>
                    </a:lnTo>
                    <a:lnTo>
                      <a:pt x="30" y="24"/>
                    </a:lnTo>
                    <a:lnTo>
                      <a:pt x="32" y="18"/>
                    </a:lnTo>
                    <a:lnTo>
                      <a:pt x="32" y="13"/>
                    </a:lnTo>
                    <a:lnTo>
                      <a:pt x="30" y="6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0" y="9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268200" y="5161680"/>
                <a:ext cx="47880" cy="6516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16" y="46"/>
                    </a:moveTo>
                    <a:lnTo>
                      <a:pt x="8" y="45"/>
                    </a:lnTo>
                    <a:lnTo>
                      <a:pt x="3" y="37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3" y="9"/>
                    </a:lnTo>
                    <a:lnTo>
                      <a:pt x="8" y="1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6" y="1"/>
                    </a:lnTo>
                    <a:lnTo>
                      <a:pt x="30" y="9"/>
                    </a:lnTo>
                    <a:lnTo>
                      <a:pt x="33" y="19"/>
                    </a:lnTo>
                    <a:lnTo>
                      <a:pt x="33" y="27"/>
                    </a:lnTo>
                    <a:lnTo>
                      <a:pt x="30" y="37"/>
                    </a:lnTo>
                    <a:lnTo>
                      <a:pt x="26" y="45"/>
                    </a:lnTo>
                    <a:lnTo>
                      <a:pt x="20" y="46"/>
                    </a:lnTo>
                    <a:lnTo>
                      <a:pt x="15" y="46"/>
                    </a:lnTo>
                    <a:lnTo>
                      <a:pt x="16" y="4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335160" y="5161680"/>
                <a:ext cx="44280" cy="65160"/>
              </a:xfrm>
              <a:custGeom>
                <a:avLst/>
                <a:gdLst/>
                <a:ahLst/>
                <a:rect l="l" t="t" r="r" b="b"/>
                <a:pathLst>
                  <a:path w="31" h="46">
                    <a:moveTo>
                      <a:pt x="14" y="46"/>
                    </a:moveTo>
                    <a:lnTo>
                      <a:pt x="6" y="45"/>
                    </a:lnTo>
                    <a:lnTo>
                      <a:pt x="1" y="37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1" y="9"/>
                    </a:lnTo>
                    <a:lnTo>
                      <a:pt x="6" y="1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4" y="1"/>
                    </a:lnTo>
                    <a:lnTo>
                      <a:pt x="28" y="9"/>
                    </a:lnTo>
                    <a:lnTo>
                      <a:pt x="31" y="19"/>
                    </a:lnTo>
                    <a:lnTo>
                      <a:pt x="31" y="27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18" y="46"/>
                    </a:lnTo>
                    <a:lnTo>
                      <a:pt x="13" y="46"/>
                    </a:lnTo>
                    <a:lnTo>
                      <a:pt x="14" y="4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139680" y="4687200"/>
                <a:ext cx="46080" cy="6804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28" y="48"/>
                    </a:moveTo>
                    <a:lnTo>
                      <a:pt x="5" y="48"/>
                    </a:lnTo>
                    <a:lnTo>
                      <a:pt x="3" y="27"/>
                    </a:lnTo>
                    <a:lnTo>
                      <a:pt x="5" y="30"/>
                    </a:lnTo>
                    <a:lnTo>
                      <a:pt x="12" y="31"/>
                    </a:lnTo>
                    <a:lnTo>
                      <a:pt x="18" y="31"/>
                    </a:lnTo>
                    <a:lnTo>
                      <a:pt x="26" y="30"/>
                    </a:lnTo>
                    <a:lnTo>
                      <a:pt x="30" y="25"/>
                    </a:lnTo>
                    <a:lnTo>
                      <a:pt x="32" y="18"/>
                    </a:lnTo>
                    <a:lnTo>
                      <a:pt x="32" y="13"/>
                    </a:lnTo>
                    <a:lnTo>
                      <a:pt x="30" y="7"/>
                    </a:lnTo>
                    <a:lnTo>
                      <a:pt x="26" y="3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0" y="9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204840" y="4687200"/>
                <a:ext cx="44640" cy="6804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14" y="48"/>
                    </a:moveTo>
                    <a:lnTo>
                      <a:pt x="8" y="45"/>
                    </a:lnTo>
                    <a:lnTo>
                      <a:pt x="3" y="3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3" y="9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6" y="3"/>
                    </a:lnTo>
                    <a:lnTo>
                      <a:pt x="30" y="9"/>
                    </a:lnTo>
                    <a:lnTo>
                      <a:pt x="32" y="21"/>
                    </a:lnTo>
                    <a:lnTo>
                      <a:pt x="32" y="27"/>
                    </a:lnTo>
                    <a:lnTo>
                      <a:pt x="30" y="39"/>
                    </a:lnTo>
                    <a:lnTo>
                      <a:pt x="26" y="45"/>
                    </a:lnTo>
                    <a:lnTo>
                      <a:pt x="18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268200" y="4687200"/>
                <a:ext cx="47880" cy="6804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16" y="48"/>
                    </a:moveTo>
                    <a:lnTo>
                      <a:pt x="8" y="45"/>
                    </a:lnTo>
                    <a:lnTo>
                      <a:pt x="3" y="3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3" y="9"/>
                    </a:lnTo>
                    <a:lnTo>
                      <a:pt x="8" y="3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6" y="3"/>
                    </a:lnTo>
                    <a:lnTo>
                      <a:pt x="30" y="9"/>
                    </a:lnTo>
                    <a:lnTo>
                      <a:pt x="33" y="21"/>
                    </a:lnTo>
                    <a:lnTo>
                      <a:pt x="33" y="27"/>
                    </a:lnTo>
                    <a:lnTo>
                      <a:pt x="30" y="39"/>
                    </a:lnTo>
                    <a:lnTo>
                      <a:pt x="26" y="45"/>
                    </a:lnTo>
                    <a:lnTo>
                      <a:pt x="20" y="48"/>
                    </a:lnTo>
                    <a:lnTo>
                      <a:pt x="15" y="48"/>
                    </a:lnTo>
                    <a:lnTo>
                      <a:pt x="16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335160" y="4687200"/>
                <a:ext cx="44280" cy="6804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4" y="48"/>
                    </a:moveTo>
                    <a:lnTo>
                      <a:pt x="6" y="45"/>
                    </a:lnTo>
                    <a:lnTo>
                      <a:pt x="1" y="3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1" y="9"/>
                    </a:lnTo>
                    <a:lnTo>
                      <a:pt x="6" y="3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4" y="3"/>
                    </a:lnTo>
                    <a:lnTo>
                      <a:pt x="28" y="9"/>
                    </a:lnTo>
                    <a:lnTo>
                      <a:pt x="31" y="21"/>
                    </a:lnTo>
                    <a:lnTo>
                      <a:pt x="31" y="27"/>
                    </a:lnTo>
                    <a:lnTo>
                      <a:pt x="28" y="39"/>
                    </a:lnTo>
                    <a:lnTo>
                      <a:pt x="24" y="45"/>
                    </a:lnTo>
                    <a:lnTo>
                      <a:pt x="18" y="48"/>
                    </a:lnTo>
                    <a:lnTo>
                      <a:pt x="13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152640" y="4214880"/>
                <a:ext cx="33120" cy="68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41480" y="4214880"/>
                <a:ext cx="44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204840" y="4214160"/>
                <a:ext cx="44640" cy="6804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28" y="48"/>
                    </a:moveTo>
                    <a:lnTo>
                      <a:pt x="5" y="48"/>
                    </a:lnTo>
                    <a:lnTo>
                      <a:pt x="3" y="27"/>
                    </a:lnTo>
                    <a:lnTo>
                      <a:pt x="5" y="30"/>
                    </a:lnTo>
                    <a:lnTo>
                      <a:pt x="12" y="32"/>
                    </a:lnTo>
                    <a:lnTo>
                      <a:pt x="18" y="32"/>
                    </a:lnTo>
                    <a:lnTo>
                      <a:pt x="26" y="30"/>
                    </a:lnTo>
                    <a:lnTo>
                      <a:pt x="30" y="24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0" y="9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268200" y="4214160"/>
                <a:ext cx="47880" cy="6804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16" y="48"/>
                    </a:moveTo>
                    <a:lnTo>
                      <a:pt x="8" y="45"/>
                    </a:lnTo>
                    <a:lnTo>
                      <a:pt x="3" y="39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3" y="9"/>
                    </a:lnTo>
                    <a:lnTo>
                      <a:pt x="8" y="2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6" y="2"/>
                    </a:lnTo>
                    <a:lnTo>
                      <a:pt x="30" y="9"/>
                    </a:lnTo>
                    <a:lnTo>
                      <a:pt x="33" y="20"/>
                    </a:lnTo>
                    <a:lnTo>
                      <a:pt x="33" y="27"/>
                    </a:lnTo>
                    <a:lnTo>
                      <a:pt x="30" y="39"/>
                    </a:lnTo>
                    <a:lnTo>
                      <a:pt x="26" y="45"/>
                    </a:lnTo>
                    <a:lnTo>
                      <a:pt x="20" y="48"/>
                    </a:lnTo>
                    <a:lnTo>
                      <a:pt x="15" y="48"/>
                    </a:lnTo>
                    <a:lnTo>
                      <a:pt x="16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335160" y="4214160"/>
                <a:ext cx="44280" cy="6804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4" y="48"/>
                    </a:moveTo>
                    <a:lnTo>
                      <a:pt x="6" y="45"/>
                    </a:lnTo>
                    <a:lnTo>
                      <a:pt x="1" y="39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1" y="9"/>
                    </a:lnTo>
                    <a:lnTo>
                      <a:pt x="6" y="2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4" y="2"/>
                    </a:lnTo>
                    <a:lnTo>
                      <a:pt x="28" y="9"/>
                    </a:lnTo>
                    <a:lnTo>
                      <a:pt x="31" y="20"/>
                    </a:lnTo>
                    <a:lnTo>
                      <a:pt x="31" y="27"/>
                    </a:lnTo>
                    <a:lnTo>
                      <a:pt x="28" y="39"/>
                    </a:lnTo>
                    <a:lnTo>
                      <a:pt x="24" y="45"/>
                    </a:lnTo>
                    <a:lnTo>
                      <a:pt x="18" y="48"/>
                    </a:lnTo>
                    <a:lnTo>
                      <a:pt x="13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85680" y="3742560"/>
                <a:ext cx="15840" cy="6660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0" y="37"/>
                    </a:moveTo>
                    <a:lnTo>
                      <a:pt x="4" y="40"/>
                    </a:lnTo>
                    <a:lnTo>
                      <a:pt x="11" y="46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139680" y="374256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14" y="46"/>
                    </a:moveTo>
                    <a:lnTo>
                      <a:pt x="8" y="45"/>
                    </a:lnTo>
                    <a:lnTo>
                      <a:pt x="3" y="37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3" y="9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6" y="1"/>
                    </a:lnTo>
                    <a:lnTo>
                      <a:pt x="30" y="9"/>
                    </a:lnTo>
                    <a:lnTo>
                      <a:pt x="32" y="19"/>
                    </a:lnTo>
                    <a:lnTo>
                      <a:pt x="32" y="27"/>
                    </a:lnTo>
                    <a:lnTo>
                      <a:pt x="30" y="37"/>
                    </a:lnTo>
                    <a:lnTo>
                      <a:pt x="26" y="45"/>
                    </a:lnTo>
                    <a:lnTo>
                      <a:pt x="18" y="46"/>
                    </a:lnTo>
                    <a:lnTo>
                      <a:pt x="14" y="4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204840" y="3742560"/>
                <a:ext cx="44640" cy="6660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14" y="46"/>
                    </a:moveTo>
                    <a:lnTo>
                      <a:pt x="8" y="45"/>
                    </a:lnTo>
                    <a:lnTo>
                      <a:pt x="3" y="37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3" y="9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6" y="1"/>
                    </a:lnTo>
                    <a:lnTo>
                      <a:pt x="30" y="9"/>
                    </a:lnTo>
                    <a:lnTo>
                      <a:pt x="32" y="19"/>
                    </a:lnTo>
                    <a:lnTo>
                      <a:pt x="32" y="27"/>
                    </a:lnTo>
                    <a:lnTo>
                      <a:pt x="30" y="37"/>
                    </a:lnTo>
                    <a:lnTo>
                      <a:pt x="26" y="45"/>
                    </a:lnTo>
                    <a:lnTo>
                      <a:pt x="18" y="46"/>
                    </a:lnTo>
                    <a:lnTo>
                      <a:pt x="14" y="4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268200" y="3742560"/>
                <a:ext cx="47880" cy="6660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16" y="46"/>
                    </a:moveTo>
                    <a:lnTo>
                      <a:pt x="8" y="45"/>
                    </a:lnTo>
                    <a:lnTo>
                      <a:pt x="3" y="37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3" y="9"/>
                    </a:lnTo>
                    <a:lnTo>
                      <a:pt x="8" y="1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6" y="1"/>
                    </a:lnTo>
                    <a:lnTo>
                      <a:pt x="30" y="9"/>
                    </a:lnTo>
                    <a:lnTo>
                      <a:pt x="33" y="19"/>
                    </a:lnTo>
                    <a:lnTo>
                      <a:pt x="33" y="27"/>
                    </a:lnTo>
                    <a:lnTo>
                      <a:pt x="30" y="37"/>
                    </a:lnTo>
                    <a:lnTo>
                      <a:pt x="26" y="45"/>
                    </a:lnTo>
                    <a:lnTo>
                      <a:pt x="20" y="46"/>
                    </a:lnTo>
                    <a:lnTo>
                      <a:pt x="15" y="46"/>
                    </a:lnTo>
                    <a:lnTo>
                      <a:pt x="16" y="4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>
                <a:off x="335160" y="374256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31" h="46">
                    <a:moveTo>
                      <a:pt x="14" y="46"/>
                    </a:moveTo>
                    <a:lnTo>
                      <a:pt x="6" y="45"/>
                    </a:lnTo>
                    <a:lnTo>
                      <a:pt x="1" y="37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1" y="9"/>
                    </a:lnTo>
                    <a:lnTo>
                      <a:pt x="6" y="1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4" y="1"/>
                    </a:lnTo>
                    <a:lnTo>
                      <a:pt x="28" y="9"/>
                    </a:lnTo>
                    <a:lnTo>
                      <a:pt x="31" y="19"/>
                    </a:lnTo>
                    <a:lnTo>
                      <a:pt x="31" y="27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18" y="46"/>
                    </a:lnTo>
                    <a:lnTo>
                      <a:pt x="13" y="46"/>
                    </a:lnTo>
                    <a:lnTo>
                      <a:pt x="14" y="4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85680" y="3268440"/>
                <a:ext cx="15840" cy="6984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0" y="39"/>
                    </a:moveTo>
                    <a:lnTo>
                      <a:pt x="4" y="40"/>
                    </a:lnTo>
                    <a:lnTo>
                      <a:pt x="11" y="48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V="1">
                <a:off x="139680" y="3268440"/>
                <a:ext cx="46080" cy="6984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4" y="36"/>
                    </a:moveTo>
                    <a:lnTo>
                      <a:pt x="3" y="39"/>
                    </a:lnTo>
                    <a:lnTo>
                      <a:pt x="5" y="43"/>
                    </a:lnTo>
                    <a:lnTo>
                      <a:pt x="8" y="45"/>
                    </a:lnTo>
                    <a:lnTo>
                      <a:pt x="12" y="48"/>
                    </a:lnTo>
                    <a:lnTo>
                      <a:pt x="21" y="48"/>
                    </a:lnTo>
                    <a:lnTo>
                      <a:pt x="26" y="45"/>
                    </a:lnTo>
                    <a:lnTo>
                      <a:pt x="27" y="43"/>
                    </a:lnTo>
                    <a:lnTo>
                      <a:pt x="30" y="39"/>
                    </a:lnTo>
                    <a:lnTo>
                      <a:pt x="30" y="34"/>
                    </a:lnTo>
                    <a:lnTo>
                      <a:pt x="27" y="30"/>
                    </a:lnTo>
                    <a:lnTo>
                      <a:pt x="23" y="22"/>
                    </a:lnTo>
                    <a:lnTo>
                      <a:pt x="0" y="0"/>
                    </a:lnTo>
                    <a:lnTo>
                      <a:pt x="32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204840" y="3268440"/>
                <a:ext cx="44640" cy="6984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28" y="48"/>
                    </a:moveTo>
                    <a:lnTo>
                      <a:pt x="5" y="48"/>
                    </a:lnTo>
                    <a:lnTo>
                      <a:pt x="3" y="27"/>
                    </a:lnTo>
                    <a:lnTo>
                      <a:pt x="5" y="30"/>
                    </a:lnTo>
                    <a:lnTo>
                      <a:pt x="12" y="31"/>
                    </a:lnTo>
                    <a:lnTo>
                      <a:pt x="18" y="31"/>
                    </a:lnTo>
                    <a:lnTo>
                      <a:pt x="26" y="30"/>
                    </a:lnTo>
                    <a:lnTo>
                      <a:pt x="30" y="25"/>
                    </a:lnTo>
                    <a:lnTo>
                      <a:pt x="32" y="18"/>
                    </a:lnTo>
                    <a:lnTo>
                      <a:pt x="32" y="13"/>
                    </a:lnTo>
                    <a:lnTo>
                      <a:pt x="30" y="7"/>
                    </a:lnTo>
                    <a:lnTo>
                      <a:pt x="26" y="3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0" y="9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268200" y="3268440"/>
                <a:ext cx="47880" cy="6984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16" y="48"/>
                    </a:moveTo>
                    <a:lnTo>
                      <a:pt x="8" y="45"/>
                    </a:lnTo>
                    <a:lnTo>
                      <a:pt x="3" y="3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3" y="9"/>
                    </a:lnTo>
                    <a:lnTo>
                      <a:pt x="8" y="3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6" y="3"/>
                    </a:lnTo>
                    <a:lnTo>
                      <a:pt x="30" y="9"/>
                    </a:lnTo>
                    <a:lnTo>
                      <a:pt x="33" y="21"/>
                    </a:lnTo>
                    <a:lnTo>
                      <a:pt x="33" y="27"/>
                    </a:lnTo>
                    <a:lnTo>
                      <a:pt x="30" y="39"/>
                    </a:lnTo>
                    <a:lnTo>
                      <a:pt x="26" y="45"/>
                    </a:lnTo>
                    <a:lnTo>
                      <a:pt x="20" y="48"/>
                    </a:lnTo>
                    <a:lnTo>
                      <a:pt x="15" y="48"/>
                    </a:lnTo>
                    <a:lnTo>
                      <a:pt x="16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V="1">
                <a:off x="335160" y="3268440"/>
                <a:ext cx="44280" cy="6984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4" y="48"/>
                    </a:moveTo>
                    <a:lnTo>
                      <a:pt x="6" y="45"/>
                    </a:lnTo>
                    <a:lnTo>
                      <a:pt x="1" y="3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1" y="9"/>
                    </a:lnTo>
                    <a:lnTo>
                      <a:pt x="6" y="3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4" y="3"/>
                    </a:lnTo>
                    <a:lnTo>
                      <a:pt x="28" y="9"/>
                    </a:lnTo>
                    <a:lnTo>
                      <a:pt x="31" y="21"/>
                    </a:lnTo>
                    <a:lnTo>
                      <a:pt x="31" y="27"/>
                    </a:lnTo>
                    <a:lnTo>
                      <a:pt x="28" y="39"/>
                    </a:lnTo>
                    <a:lnTo>
                      <a:pt x="24" y="45"/>
                    </a:lnTo>
                    <a:lnTo>
                      <a:pt x="18" y="48"/>
                    </a:lnTo>
                    <a:lnTo>
                      <a:pt x="13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85680" y="2796480"/>
                <a:ext cx="15840" cy="6804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0" y="38"/>
                    </a:moveTo>
                    <a:lnTo>
                      <a:pt x="4" y="41"/>
                    </a:lnTo>
                    <a:lnTo>
                      <a:pt x="11" y="48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139680" y="2796480"/>
                <a:ext cx="46080" cy="6804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28" y="48"/>
                    </a:moveTo>
                    <a:lnTo>
                      <a:pt x="5" y="48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12" y="32"/>
                    </a:lnTo>
                    <a:lnTo>
                      <a:pt x="18" y="32"/>
                    </a:lnTo>
                    <a:lnTo>
                      <a:pt x="26" y="29"/>
                    </a:lnTo>
                    <a:lnTo>
                      <a:pt x="30" y="24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0" y="9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204840" y="2796480"/>
                <a:ext cx="44640" cy="6804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14" y="48"/>
                    </a:moveTo>
                    <a:lnTo>
                      <a:pt x="8" y="45"/>
                    </a:lnTo>
                    <a:lnTo>
                      <a:pt x="3" y="38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3" y="9"/>
                    </a:lnTo>
                    <a:lnTo>
                      <a:pt x="8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6" y="2"/>
                    </a:lnTo>
                    <a:lnTo>
                      <a:pt x="30" y="9"/>
                    </a:lnTo>
                    <a:lnTo>
                      <a:pt x="32" y="20"/>
                    </a:lnTo>
                    <a:lnTo>
                      <a:pt x="32" y="27"/>
                    </a:lnTo>
                    <a:lnTo>
                      <a:pt x="30" y="38"/>
                    </a:lnTo>
                    <a:lnTo>
                      <a:pt x="26" y="45"/>
                    </a:lnTo>
                    <a:lnTo>
                      <a:pt x="18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268200" y="2796480"/>
                <a:ext cx="47880" cy="6804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16" y="48"/>
                    </a:moveTo>
                    <a:lnTo>
                      <a:pt x="8" y="45"/>
                    </a:lnTo>
                    <a:lnTo>
                      <a:pt x="3" y="38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3" y="9"/>
                    </a:lnTo>
                    <a:lnTo>
                      <a:pt x="8" y="2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6" y="2"/>
                    </a:lnTo>
                    <a:lnTo>
                      <a:pt x="30" y="9"/>
                    </a:lnTo>
                    <a:lnTo>
                      <a:pt x="33" y="20"/>
                    </a:lnTo>
                    <a:lnTo>
                      <a:pt x="33" y="27"/>
                    </a:lnTo>
                    <a:lnTo>
                      <a:pt x="30" y="38"/>
                    </a:lnTo>
                    <a:lnTo>
                      <a:pt x="26" y="45"/>
                    </a:lnTo>
                    <a:lnTo>
                      <a:pt x="20" y="48"/>
                    </a:lnTo>
                    <a:lnTo>
                      <a:pt x="15" y="48"/>
                    </a:lnTo>
                    <a:lnTo>
                      <a:pt x="16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335160" y="2796480"/>
                <a:ext cx="44280" cy="6804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4" y="48"/>
                    </a:moveTo>
                    <a:lnTo>
                      <a:pt x="6" y="45"/>
                    </a:lnTo>
                    <a:lnTo>
                      <a:pt x="1" y="38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1" y="9"/>
                    </a:lnTo>
                    <a:lnTo>
                      <a:pt x="6" y="2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4" y="2"/>
                    </a:lnTo>
                    <a:lnTo>
                      <a:pt x="28" y="9"/>
                    </a:lnTo>
                    <a:lnTo>
                      <a:pt x="31" y="20"/>
                    </a:lnTo>
                    <a:lnTo>
                      <a:pt x="31" y="27"/>
                    </a:lnTo>
                    <a:lnTo>
                      <a:pt x="28" y="38"/>
                    </a:lnTo>
                    <a:lnTo>
                      <a:pt x="24" y="45"/>
                    </a:lnTo>
                    <a:lnTo>
                      <a:pt x="18" y="48"/>
                    </a:lnTo>
                    <a:lnTo>
                      <a:pt x="13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V="1">
                <a:off x="85680" y="2325600"/>
                <a:ext cx="15840" cy="6840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0" y="39"/>
                    </a:moveTo>
                    <a:lnTo>
                      <a:pt x="4" y="42"/>
                    </a:lnTo>
                    <a:lnTo>
                      <a:pt x="11" y="48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152640" y="2325600"/>
                <a:ext cx="3312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41480" y="2325600"/>
                <a:ext cx="44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 flipV="1">
              <a:off x="204840" y="2325600"/>
              <a:ext cx="4464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28" y="48"/>
                  </a:moveTo>
                  <a:lnTo>
                    <a:pt x="5" y="48"/>
                  </a:lnTo>
                  <a:lnTo>
                    <a:pt x="3" y="29"/>
                  </a:lnTo>
                  <a:lnTo>
                    <a:pt x="5" y="30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26" y="30"/>
                  </a:lnTo>
                  <a:lnTo>
                    <a:pt x="30" y="26"/>
                  </a:lnTo>
                  <a:lnTo>
                    <a:pt x="32" y="20"/>
                  </a:lnTo>
                  <a:lnTo>
                    <a:pt x="32" y="15"/>
                  </a:lnTo>
                  <a:lnTo>
                    <a:pt x="30" y="8"/>
                  </a:lnTo>
                  <a:lnTo>
                    <a:pt x="26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5" y="3"/>
                  </a:lnTo>
                  <a:lnTo>
                    <a:pt x="3" y="5"/>
                  </a:lnTo>
                  <a:lnTo>
                    <a:pt x="0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V="1">
              <a:off x="268200" y="2325600"/>
              <a:ext cx="47880" cy="684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16" y="48"/>
                  </a:moveTo>
                  <a:lnTo>
                    <a:pt x="8" y="47"/>
                  </a:lnTo>
                  <a:lnTo>
                    <a:pt x="3" y="3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3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3"/>
                  </a:lnTo>
                  <a:lnTo>
                    <a:pt x="30" y="9"/>
                  </a:lnTo>
                  <a:lnTo>
                    <a:pt x="33" y="21"/>
                  </a:lnTo>
                  <a:lnTo>
                    <a:pt x="33" y="29"/>
                  </a:lnTo>
                  <a:lnTo>
                    <a:pt x="30" y="39"/>
                  </a:lnTo>
                  <a:lnTo>
                    <a:pt x="26" y="47"/>
                  </a:lnTo>
                  <a:lnTo>
                    <a:pt x="20" y="48"/>
                  </a:lnTo>
                  <a:lnTo>
                    <a:pt x="15" y="48"/>
                  </a:lnTo>
                  <a:lnTo>
                    <a:pt x="16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335160" y="2325600"/>
              <a:ext cx="4428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6" y="47"/>
                  </a:lnTo>
                  <a:lnTo>
                    <a:pt x="1" y="3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9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8" y="9"/>
                  </a:lnTo>
                  <a:lnTo>
                    <a:pt x="31" y="21"/>
                  </a:lnTo>
                  <a:lnTo>
                    <a:pt x="31" y="29"/>
                  </a:lnTo>
                  <a:lnTo>
                    <a:pt x="28" y="39"/>
                  </a:lnTo>
                  <a:lnTo>
                    <a:pt x="24" y="47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V="1">
              <a:off x="76320" y="1850760"/>
              <a:ext cx="442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2" y="36"/>
                  </a:moveTo>
                  <a:lnTo>
                    <a:pt x="2" y="39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11" y="48"/>
                  </a:lnTo>
                  <a:lnTo>
                    <a:pt x="20" y="48"/>
                  </a:lnTo>
                  <a:lnTo>
                    <a:pt x="24" y="45"/>
                  </a:lnTo>
                  <a:lnTo>
                    <a:pt x="27" y="43"/>
                  </a:lnTo>
                  <a:lnTo>
                    <a:pt x="29" y="39"/>
                  </a:lnTo>
                  <a:lnTo>
                    <a:pt x="29" y="34"/>
                  </a:lnTo>
                  <a:lnTo>
                    <a:pt x="27" y="30"/>
                  </a:lnTo>
                  <a:lnTo>
                    <a:pt x="23" y="22"/>
                  </a:lnTo>
                  <a:lnTo>
                    <a:pt x="0" y="0"/>
                  </a:lnTo>
                  <a:lnTo>
                    <a:pt x="32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139680" y="185076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14" y="48"/>
                  </a:moveTo>
                  <a:lnTo>
                    <a:pt x="8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0" y="9"/>
                  </a:lnTo>
                  <a:lnTo>
                    <a:pt x="32" y="21"/>
                  </a:lnTo>
                  <a:lnTo>
                    <a:pt x="32" y="27"/>
                  </a:lnTo>
                  <a:lnTo>
                    <a:pt x="30" y="39"/>
                  </a:lnTo>
                  <a:lnTo>
                    <a:pt x="26" y="45"/>
                  </a:lnTo>
                  <a:lnTo>
                    <a:pt x="18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V="1">
              <a:off x="204840" y="1850760"/>
              <a:ext cx="4464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14" y="48"/>
                  </a:moveTo>
                  <a:lnTo>
                    <a:pt x="8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0" y="9"/>
                  </a:lnTo>
                  <a:lnTo>
                    <a:pt x="32" y="21"/>
                  </a:lnTo>
                  <a:lnTo>
                    <a:pt x="32" y="27"/>
                  </a:lnTo>
                  <a:lnTo>
                    <a:pt x="30" y="39"/>
                  </a:lnTo>
                  <a:lnTo>
                    <a:pt x="26" y="45"/>
                  </a:lnTo>
                  <a:lnTo>
                    <a:pt x="18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268200" y="1850760"/>
              <a:ext cx="47880" cy="684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16" y="48"/>
                  </a:moveTo>
                  <a:lnTo>
                    <a:pt x="8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3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3"/>
                  </a:lnTo>
                  <a:lnTo>
                    <a:pt x="30" y="9"/>
                  </a:lnTo>
                  <a:lnTo>
                    <a:pt x="33" y="21"/>
                  </a:lnTo>
                  <a:lnTo>
                    <a:pt x="33" y="27"/>
                  </a:lnTo>
                  <a:lnTo>
                    <a:pt x="30" y="39"/>
                  </a:lnTo>
                  <a:lnTo>
                    <a:pt x="26" y="45"/>
                  </a:lnTo>
                  <a:lnTo>
                    <a:pt x="20" y="48"/>
                  </a:lnTo>
                  <a:lnTo>
                    <a:pt x="15" y="48"/>
                  </a:lnTo>
                  <a:lnTo>
                    <a:pt x="16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335160" y="1850760"/>
              <a:ext cx="4428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6" y="45"/>
                  </a:lnTo>
                  <a:lnTo>
                    <a:pt x="1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" y="9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8" y="9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28" y="39"/>
                  </a:lnTo>
                  <a:lnTo>
                    <a:pt x="24" y="45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88880" y="5667120"/>
              <a:ext cx="388476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487440" y="5594400"/>
              <a:ext cx="1440" cy="72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>
              <a:off x="59868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0812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1936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93204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042920" y="5594400"/>
              <a:ext cx="1800" cy="72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154160" y="5630760"/>
              <a:ext cx="180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26540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376280" y="5630760"/>
              <a:ext cx="180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148608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1596600" y="5594400"/>
              <a:ext cx="1800" cy="72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1707840" y="5630760"/>
              <a:ext cx="180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181944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193212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204336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152800" y="5594400"/>
              <a:ext cx="1440" cy="72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26404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374920" y="5630760"/>
              <a:ext cx="180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487600" y="5630760"/>
              <a:ext cx="180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9884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710080" y="5594400"/>
              <a:ext cx="1440" cy="72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281808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293076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3041280" y="5630760"/>
              <a:ext cx="180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315288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3264120" y="5594400"/>
              <a:ext cx="1440" cy="72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3374640" y="5630760"/>
              <a:ext cx="180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48624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59748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708360" y="5630760"/>
              <a:ext cx="180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819600" y="5594400"/>
              <a:ext cx="1440" cy="72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93084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043520" y="5630760"/>
              <a:ext cx="144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154400" y="5630760"/>
              <a:ext cx="180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4262040" y="5630760"/>
              <a:ext cx="180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4373640" y="5594400"/>
              <a:ext cx="1440" cy="72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463680" y="5716440"/>
              <a:ext cx="4428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7" y="46"/>
                  </a:lnTo>
                  <a:lnTo>
                    <a:pt x="3" y="3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3" y="9"/>
                  </a:lnTo>
                  <a:lnTo>
                    <a:pt x="7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3"/>
                  </a:lnTo>
                  <a:lnTo>
                    <a:pt x="30" y="9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30" y="39"/>
                  </a:lnTo>
                  <a:lnTo>
                    <a:pt x="25" y="46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998640" y="5716440"/>
              <a:ext cx="14400" cy="68400"/>
            </a:xfrm>
            <a:custGeom>
              <a:avLst/>
              <a:gdLst/>
              <a:ahLst/>
              <a:rect l="l" t="t" r="r" b="b"/>
              <a:pathLst>
                <a:path w="10" h="48">
                  <a:moveTo>
                    <a:pt x="0" y="39"/>
                  </a:moveTo>
                  <a:lnTo>
                    <a:pt x="4" y="42"/>
                  </a:lnTo>
                  <a:lnTo>
                    <a:pt x="10" y="48"/>
                  </a:lnTo>
                  <a:lnTo>
                    <a:pt x="10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1052640" y="571644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14" y="48"/>
                  </a:moveTo>
                  <a:lnTo>
                    <a:pt x="6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" y="9"/>
                  </a:lnTo>
                  <a:lnTo>
                    <a:pt x="6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2" y="21"/>
                  </a:lnTo>
                  <a:lnTo>
                    <a:pt x="32" y="28"/>
                  </a:lnTo>
                  <a:lnTo>
                    <a:pt x="29" y="39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1541520" y="5716440"/>
              <a:ext cx="47520" cy="684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4" y="37"/>
                  </a:moveTo>
                  <a:lnTo>
                    <a:pt x="3" y="39"/>
                  </a:lnTo>
                  <a:lnTo>
                    <a:pt x="6" y="43"/>
                  </a:lnTo>
                  <a:lnTo>
                    <a:pt x="8" y="46"/>
                  </a:lnTo>
                  <a:lnTo>
                    <a:pt x="12" y="48"/>
                  </a:lnTo>
                  <a:lnTo>
                    <a:pt x="21" y="48"/>
                  </a:lnTo>
                  <a:lnTo>
                    <a:pt x="26" y="46"/>
                  </a:lnTo>
                  <a:lnTo>
                    <a:pt x="29" y="43"/>
                  </a:lnTo>
                  <a:lnTo>
                    <a:pt x="30" y="39"/>
                  </a:lnTo>
                  <a:lnTo>
                    <a:pt x="30" y="34"/>
                  </a:lnTo>
                  <a:lnTo>
                    <a:pt x="29" y="30"/>
                  </a:lnTo>
                  <a:lnTo>
                    <a:pt x="24" y="22"/>
                  </a:lnTo>
                  <a:lnTo>
                    <a:pt x="0" y="0"/>
                  </a:lnTo>
                  <a:lnTo>
                    <a:pt x="33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1608120" y="5716440"/>
              <a:ext cx="4464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6" y="46"/>
                  </a:lnTo>
                  <a:lnTo>
                    <a:pt x="1" y="3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1" y="9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8" y="9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28" y="39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2098800" y="571644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5" y="48"/>
                  </a:moveTo>
                  <a:lnTo>
                    <a:pt x="29" y="48"/>
                  </a:lnTo>
                  <a:lnTo>
                    <a:pt x="15" y="30"/>
                  </a:lnTo>
                  <a:lnTo>
                    <a:pt x="23" y="30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2" y="18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3"/>
                  </a:lnTo>
                  <a:lnTo>
                    <a:pt x="2" y="4"/>
                  </a:lnTo>
                  <a:lnTo>
                    <a:pt x="0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2162160" y="571644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14" y="48"/>
                  </a:moveTo>
                  <a:lnTo>
                    <a:pt x="6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" y="9"/>
                  </a:lnTo>
                  <a:lnTo>
                    <a:pt x="6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0" y="9"/>
                  </a:lnTo>
                  <a:lnTo>
                    <a:pt x="32" y="21"/>
                  </a:lnTo>
                  <a:lnTo>
                    <a:pt x="32" y="28"/>
                  </a:lnTo>
                  <a:lnTo>
                    <a:pt x="30" y="39"/>
                  </a:lnTo>
                  <a:lnTo>
                    <a:pt x="26" y="46"/>
                  </a:lnTo>
                  <a:lnTo>
                    <a:pt x="18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2654280" y="5716440"/>
              <a:ext cx="47880" cy="4608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23" y="32"/>
                  </a:moveTo>
                  <a:lnTo>
                    <a:pt x="0" y="0"/>
                  </a:lnTo>
                  <a:lnTo>
                    <a:pt x="34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2685600" y="5716440"/>
              <a:ext cx="18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718000" y="5716440"/>
              <a:ext cx="4428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7" y="46"/>
                  </a:lnTo>
                  <a:lnTo>
                    <a:pt x="3" y="3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3" y="9"/>
                  </a:lnTo>
                  <a:lnTo>
                    <a:pt x="7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3"/>
                  </a:lnTo>
                  <a:lnTo>
                    <a:pt x="30" y="9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30" y="39"/>
                  </a:lnTo>
                  <a:lnTo>
                    <a:pt x="25" y="46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3208320" y="571644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28" y="48"/>
                  </a:moveTo>
                  <a:lnTo>
                    <a:pt x="5" y="48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26" y="30"/>
                  </a:lnTo>
                  <a:lnTo>
                    <a:pt x="30" y="25"/>
                  </a:lnTo>
                  <a:lnTo>
                    <a:pt x="32" y="18"/>
                  </a:lnTo>
                  <a:lnTo>
                    <a:pt x="32" y="13"/>
                  </a:lnTo>
                  <a:lnTo>
                    <a:pt x="30" y="7"/>
                  </a:lnTo>
                  <a:lnTo>
                    <a:pt x="26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5" y="3"/>
                  </a:lnTo>
                  <a:lnTo>
                    <a:pt x="3" y="4"/>
                  </a:lnTo>
                  <a:lnTo>
                    <a:pt x="0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3273480" y="5716440"/>
              <a:ext cx="46080" cy="684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14" y="48"/>
                  </a:moveTo>
                  <a:lnTo>
                    <a:pt x="8" y="46"/>
                  </a:lnTo>
                  <a:lnTo>
                    <a:pt x="3" y="3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0" y="9"/>
                  </a:lnTo>
                  <a:lnTo>
                    <a:pt x="33" y="21"/>
                  </a:lnTo>
                  <a:lnTo>
                    <a:pt x="33" y="28"/>
                  </a:lnTo>
                  <a:lnTo>
                    <a:pt x="30" y="39"/>
                  </a:lnTo>
                  <a:lnTo>
                    <a:pt x="26" y="46"/>
                  </a:lnTo>
                  <a:lnTo>
                    <a:pt x="18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3768840" y="5716440"/>
              <a:ext cx="39600" cy="6840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27" y="42"/>
                  </a:moveTo>
                  <a:lnTo>
                    <a:pt x="24" y="46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6" y="46"/>
                  </a:lnTo>
                  <a:lnTo>
                    <a:pt x="1" y="39"/>
                  </a:lnTo>
                  <a:lnTo>
                    <a:pt x="0" y="28"/>
                  </a:lnTo>
                  <a:lnTo>
                    <a:pt x="0" y="16"/>
                  </a:lnTo>
                  <a:lnTo>
                    <a:pt x="1" y="7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8" y="16"/>
                  </a:lnTo>
                  <a:lnTo>
                    <a:pt x="27" y="22"/>
                  </a:lnTo>
                  <a:lnTo>
                    <a:pt x="22" y="28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6" y="28"/>
                  </a:lnTo>
                  <a:lnTo>
                    <a:pt x="1" y="22"/>
                  </a:lnTo>
                  <a:lnTo>
                    <a:pt x="0" y="1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3828960" y="571644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14" y="48"/>
                  </a:moveTo>
                  <a:lnTo>
                    <a:pt x="6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" y="9"/>
                  </a:lnTo>
                  <a:lnTo>
                    <a:pt x="6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2" y="21"/>
                  </a:lnTo>
                  <a:lnTo>
                    <a:pt x="32" y="28"/>
                  </a:lnTo>
                  <a:lnTo>
                    <a:pt x="29" y="39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4334040" y="5716440"/>
              <a:ext cx="3312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319640" y="5716440"/>
              <a:ext cx="4608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4386240" y="5716440"/>
              <a:ext cx="4284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6" y="46"/>
                  </a:lnTo>
                  <a:lnTo>
                    <a:pt x="1" y="3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1" y="9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8" y="9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28" y="39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4664160" y="1523880"/>
            <a:ext cx="4352760" cy="4483080"/>
            <a:chOff x="4664160" y="1523880"/>
            <a:chExt cx="4352760" cy="4483080"/>
          </a:xfrm>
        </p:grpSpPr>
        <p:sp>
          <p:nvSpPr>
            <p:cNvPr id="1784" name=""/>
            <p:cNvSpPr/>
            <p:nvPr/>
          </p:nvSpPr>
          <p:spPr>
            <a:xfrm flipV="1">
              <a:off x="6921360" y="1762920"/>
              <a:ext cx="2040120" cy="950760"/>
            </a:xfrm>
            <a:custGeom>
              <a:avLst/>
              <a:gdLst/>
              <a:ahLst/>
              <a:rect l="l" t="t" r="r" b="b"/>
              <a:pathLst>
                <a:path w="1428" h="666">
                  <a:moveTo>
                    <a:pt x="1" y="0"/>
                  </a:moveTo>
                  <a:lnTo>
                    <a:pt x="0" y="666"/>
                  </a:lnTo>
                  <a:lnTo>
                    <a:pt x="1428" y="666"/>
                  </a:lnTo>
                  <a:lnTo>
                    <a:pt x="1428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6921360" y="1762920"/>
              <a:ext cx="2040120" cy="950760"/>
            </a:xfrm>
            <a:custGeom>
              <a:avLst/>
              <a:gdLst/>
              <a:ahLst/>
              <a:rect l="l" t="t" r="r" b="b"/>
              <a:pathLst>
                <a:path w="1428" h="666">
                  <a:moveTo>
                    <a:pt x="1" y="0"/>
                  </a:moveTo>
                  <a:lnTo>
                    <a:pt x="0" y="666"/>
                  </a:lnTo>
                  <a:lnTo>
                    <a:pt x="1428" y="666"/>
                  </a:lnTo>
                  <a:lnTo>
                    <a:pt x="1428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002360" y="1796760"/>
              <a:ext cx="18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7029000" y="1796760"/>
              <a:ext cx="18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7029360" y="1796040"/>
              <a:ext cx="46080" cy="666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" y="46"/>
                  </a:moveTo>
                  <a:lnTo>
                    <a:pt x="15" y="46"/>
                  </a:lnTo>
                  <a:lnTo>
                    <a:pt x="23" y="45"/>
                  </a:lnTo>
                  <a:lnTo>
                    <a:pt x="27" y="40"/>
                  </a:lnTo>
                  <a:lnTo>
                    <a:pt x="29" y="36"/>
                  </a:lnTo>
                  <a:lnTo>
                    <a:pt x="32" y="28"/>
                  </a:lnTo>
                  <a:lnTo>
                    <a:pt x="32" y="18"/>
                  </a:lnTo>
                  <a:lnTo>
                    <a:pt x="29" y="10"/>
                  </a:lnTo>
                  <a:lnTo>
                    <a:pt x="27" y="6"/>
                  </a:lnTo>
                  <a:lnTo>
                    <a:pt x="23" y="1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002360" y="1931760"/>
              <a:ext cx="18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002360" y="1931760"/>
              <a:ext cx="42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002360" y="1965240"/>
              <a:ext cx="270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002360" y="2000160"/>
              <a:ext cx="42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7062840" y="1955520"/>
              <a:ext cx="1440" cy="446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064280" y="1955520"/>
              <a:ext cx="36720" cy="446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22"/>
                  </a:moveTo>
                  <a:lnTo>
                    <a:pt x="7" y="30"/>
                  </a:lnTo>
                  <a:lnTo>
                    <a:pt x="11" y="31"/>
                  </a:lnTo>
                  <a:lnTo>
                    <a:pt x="17" y="31"/>
                  </a:lnTo>
                  <a:lnTo>
                    <a:pt x="22" y="30"/>
                  </a:lnTo>
                  <a:lnTo>
                    <a:pt x="25" y="22"/>
                  </a:lnTo>
                  <a:lnTo>
                    <a:pt x="25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7128000" y="1931760"/>
              <a:ext cx="17280" cy="6840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1" y="48"/>
                  </a:moveTo>
                  <a:lnTo>
                    <a:pt x="0" y="9"/>
                  </a:lnTo>
                  <a:lnTo>
                    <a:pt x="3" y="3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120080" y="1955520"/>
              <a:ext cx="2052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164360" y="1955520"/>
              <a:ext cx="1440" cy="446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7164360" y="1954800"/>
              <a:ext cx="25560" cy="190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3" y="7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3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7203960" y="1929600"/>
              <a:ext cx="50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3" y="0"/>
                  </a:lnTo>
                  <a:lnTo>
                    <a:pt x="4" y="3"/>
                  </a:lnTo>
                  <a:lnTo>
                    <a:pt x="3" y="4"/>
                  </a:lnTo>
                  <a:lnTo>
                    <a:pt x="0" y="3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207200" y="1955520"/>
              <a:ext cx="1800" cy="446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7229520" y="1955520"/>
              <a:ext cx="38160" cy="4464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0" y="18"/>
                  </a:moveTo>
                  <a:lnTo>
                    <a:pt x="27" y="18"/>
                  </a:lnTo>
                  <a:lnTo>
                    <a:pt x="27" y="22"/>
                  </a:lnTo>
                  <a:lnTo>
                    <a:pt x="25" y="27"/>
                  </a:lnTo>
                  <a:lnTo>
                    <a:pt x="22" y="30"/>
                  </a:lnTo>
                  <a:lnTo>
                    <a:pt x="18" y="31"/>
                  </a:lnTo>
                  <a:lnTo>
                    <a:pt x="12" y="31"/>
                  </a:lnTo>
                  <a:lnTo>
                    <a:pt x="7" y="30"/>
                  </a:lnTo>
                  <a:lnTo>
                    <a:pt x="3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3" y="7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7" y="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7286760" y="1955520"/>
              <a:ext cx="36360" cy="4464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25"/>
                  </a:moveTo>
                  <a:lnTo>
                    <a:pt x="24" y="30"/>
                  </a:lnTo>
                  <a:lnTo>
                    <a:pt x="17" y="31"/>
                  </a:lnTo>
                  <a:lnTo>
                    <a:pt x="11" y="31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8" y="18"/>
                  </a:lnTo>
                  <a:lnTo>
                    <a:pt x="20" y="16"/>
                  </a:lnTo>
                  <a:lnTo>
                    <a:pt x="24" y="13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4" y="3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3" y="3"/>
                  </a:lnTo>
                  <a:lnTo>
                    <a:pt x="0" y="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002360" y="2068200"/>
              <a:ext cx="18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002360" y="2068200"/>
              <a:ext cx="270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>
              <a:off x="7029000" y="2068200"/>
              <a:ext cx="270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7054920" y="2068200"/>
              <a:ext cx="144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V="1">
              <a:off x="7075440" y="2090520"/>
              <a:ext cx="39600" cy="460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" y="18"/>
                  </a:moveTo>
                  <a:lnTo>
                    <a:pt x="27" y="18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3" y="29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8" y="29"/>
                  </a:lnTo>
                  <a:lnTo>
                    <a:pt x="3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3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7" y="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7175520" y="2090520"/>
              <a:ext cx="1440" cy="460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7134120" y="2090520"/>
              <a:ext cx="41400" cy="460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24"/>
                  </a:moveTo>
                  <a:lnTo>
                    <a:pt x="24" y="29"/>
                  </a:lnTo>
                  <a:lnTo>
                    <a:pt x="19" y="32"/>
                  </a:lnTo>
                  <a:lnTo>
                    <a:pt x="12" y="32"/>
                  </a:lnTo>
                  <a:lnTo>
                    <a:pt x="7" y="29"/>
                  </a:lnTo>
                  <a:lnTo>
                    <a:pt x="3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3" y="6"/>
                  </a:lnTo>
                  <a:lnTo>
                    <a:pt x="7" y="2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4" y="2"/>
                  </a:lnTo>
                  <a:lnTo>
                    <a:pt x="28" y="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7201080" y="2090520"/>
              <a:ext cx="1440" cy="460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7202520" y="2090520"/>
              <a:ext cx="31680" cy="4608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23"/>
                  </a:moveTo>
                  <a:lnTo>
                    <a:pt x="5" y="29"/>
                  </a:lnTo>
                  <a:lnTo>
                    <a:pt x="10" y="32"/>
                  </a:lnTo>
                  <a:lnTo>
                    <a:pt x="17" y="32"/>
                  </a:lnTo>
                  <a:lnTo>
                    <a:pt x="22" y="29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002360" y="2205000"/>
              <a:ext cx="180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7002360" y="2205000"/>
              <a:ext cx="46080" cy="3168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22"/>
                  </a:moveTo>
                  <a:lnTo>
                    <a:pt x="21" y="22"/>
                  </a:lnTo>
                  <a:lnTo>
                    <a:pt x="28" y="19"/>
                  </a:lnTo>
                  <a:lnTo>
                    <a:pt x="30" y="18"/>
                  </a:lnTo>
                  <a:lnTo>
                    <a:pt x="33" y="13"/>
                  </a:lnTo>
                  <a:lnTo>
                    <a:pt x="33" y="9"/>
                  </a:lnTo>
                  <a:lnTo>
                    <a:pt x="30" y="4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026120" y="2236680"/>
              <a:ext cx="22320" cy="363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070760" y="2205000"/>
              <a:ext cx="144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070760" y="2205000"/>
              <a:ext cx="2520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7095600" y="2205000"/>
              <a:ext cx="2556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121520" y="2205000"/>
              <a:ext cx="144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7145280" y="2204280"/>
              <a:ext cx="44640" cy="6804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32" y="41"/>
                  </a:moveTo>
                  <a:lnTo>
                    <a:pt x="27" y="45"/>
                  </a:lnTo>
                  <a:lnTo>
                    <a:pt x="21" y="48"/>
                  </a:lnTo>
                  <a:lnTo>
                    <a:pt x="12" y="48"/>
                  </a:lnTo>
                  <a:lnTo>
                    <a:pt x="5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7"/>
                  </a:lnTo>
                  <a:lnTo>
                    <a:pt x="23" y="23"/>
                  </a:lnTo>
                  <a:lnTo>
                    <a:pt x="27" y="21"/>
                  </a:lnTo>
                  <a:lnTo>
                    <a:pt x="30" y="18"/>
                  </a:lnTo>
                  <a:lnTo>
                    <a:pt x="32" y="14"/>
                  </a:lnTo>
                  <a:lnTo>
                    <a:pt x="32" y="8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5" y="3"/>
                  </a:lnTo>
                  <a:lnTo>
                    <a:pt x="0" y="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7002360" y="2340720"/>
              <a:ext cx="46080" cy="666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0" y="46"/>
                  </a:moveTo>
                  <a:lnTo>
                    <a:pt x="0" y="13"/>
                  </a:lnTo>
                  <a:lnTo>
                    <a:pt x="3" y="6"/>
                  </a:lnTo>
                  <a:lnTo>
                    <a:pt x="7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1"/>
                  </a:lnTo>
                  <a:lnTo>
                    <a:pt x="30" y="6"/>
                  </a:lnTo>
                  <a:lnTo>
                    <a:pt x="33" y="13"/>
                  </a:lnTo>
                  <a:lnTo>
                    <a:pt x="33" y="4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075440" y="2341440"/>
              <a:ext cx="18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7075440" y="2340720"/>
              <a:ext cx="42840" cy="66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46"/>
                  </a:moveTo>
                  <a:lnTo>
                    <a:pt x="15" y="46"/>
                  </a:lnTo>
                  <a:lnTo>
                    <a:pt x="22" y="45"/>
                  </a:lnTo>
                  <a:lnTo>
                    <a:pt x="27" y="40"/>
                  </a:lnTo>
                  <a:lnTo>
                    <a:pt x="28" y="36"/>
                  </a:lnTo>
                  <a:lnTo>
                    <a:pt x="31" y="28"/>
                  </a:lnTo>
                  <a:lnTo>
                    <a:pt x="31" y="18"/>
                  </a:lnTo>
                  <a:lnTo>
                    <a:pt x="28" y="10"/>
                  </a:lnTo>
                  <a:lnTo>
                    <a:pt x="27" y="6"/>
                  </a:lnTo>
                  <a:lnTo>
                    <a:pt x="22" y="1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7140600" y="2341440"/>
              <a:ext cx="14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142040" y="2341440"/>
              <a:ext cx="414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142040" y="2373120"/>
              <a:ext cx="270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7201080" y="2341440"/>
              <a:ext cx="14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202520" y="2408040"/>
              <a:ext cx="3636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248600" y="2341440"/>
              <a:ext cx="158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7264440" y="2341440"/>
              <a:ext cx="158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280280" y="2341440"/>
              <a:ext cx="1728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7297200" y="2341440"/>
              <a:ext cx="176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6999120" y="2475720"/>
              <a:ext cx="51120" cy="6804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14" y="48"/>
                  </a:moveTo>
                  <a:lnTo>
                    <a:pt x="9" y="45"/>
                  </a:lnTo>
                  <a:lnTo>
                    <a:pt x="5" y="40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5" y="7"/>
                  </a:lnTo>
                  <a:lnTo>
                    <a:pt x="9" y="3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6" y="18"/>
                  </a:lnTo>
                  <a:lnTo>
                    <a:pt x="36" y="30"/>
                  </a:lnTo>
                  <a:lnTo>
                    <a:pt x="35" y="36"/>
                  </a:lnTo>
                  <a:lnTo>
                    <a:pt x="32" y="40"/>
                  </a:lnTo>
                  <a:lnTo>
                    <a:pt x="27" y="45"/>
                  </a:lnTo>
                  <a:lnTo>
                    <a:pt x="2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64280" y="2476440"/>
              <a:ext cx="2556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7089480" y="2476440"/>
              <a:ext cx="2700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7132680" y="2476440"/>
              <a:ext cx="144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132680" y="2476440"/>
              <a:ext cx="42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132680" y="2508120"/>
              <a:ext cx="252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189920" y="2476440"/>
              <a:ext cx="144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189920" y="2544480"/>
              <a:ext cx="3960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240680" y="2476440"/>
              <a:ext cx="1404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7254360" y="2476440"/>
              <a:ext cx="1764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272360" y="2476440"/>
              <a:ext cx="1440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7286760" y="2476440"/>
              <a:ext cx="1728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6993000" y="2612880"/>
              <a:ext cx="252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018200" y="2612880"/>
              <a:ext cx="270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002360" y="2658960"/>
              <a:ext cx="334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061040" y="2612880"/>
              <a:ext cx="18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061040" y="2679480"/>
              <a:ext cx="3996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>
              <a:off x="7114680" y="2612880"/>
              <a:ext cx="18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116840" y="2679480"/>
              <a:ext cx="396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169040" y="2612160"/>
              <a:ext cx="47880" cy="666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3" y="36"/>
                  </a:moveTo>
                  <a:lnTo>
                    <a:pt x="31" y="41"/>
                  </a:lnTo>
                  <a:lnTo>
                    <a:pt x="27" y="45"/>
                  </a:lnTo>
                  <a:lnTo>
                    <a:pt x="22" y="47"/>
                  </a:lnTo>
                  <a:lnTo>
                    <a:pt x="13" y="47"/>
                  </a:lnTo>
                  <a:lnTo>
                    <a:pt x="9" y="45"/>
                  </a:lnTo>
                  <a:lnTo>
                    <a:pt x="4" y="41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4" y="6"/>
                  </a:lnTo>
                  <a:lnTo>
                    <a:pt x="9" y="2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1" y="6"/>
                  </a:lnTo>
                  <a:lnTo>
                    <a:pt x="33" y="11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7238520" y="2612880"/>
              <a:ext cx="18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284960" y="2612880"/>
              <a:ext cx="18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240680" y="2646000"/>
              <a:ext cx="4428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7302600" y="2612880"/>
              <a:ext cx="252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327800" y="2612880"/>
              <a:ext cx="2556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310520" y="2658960"/>
              <a:ext cx="316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7367760" y="2612880"/>
              <a:ext cx="144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369200" y="2612880"/>
              <a:ext cx="4428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413480" y="2612880"/>
              <a:ext cx="18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812000" y="1836360"/>
              <a:ext cx="6048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V="1">
              <a:off x="7904160" y="1796040"/>
              <a:ext cx="14400" cy="6660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0" y="37"/>
                  </a:moveTo>
                  <a:lnTo>
                    <a:pt x="4" y="40"/>
                  </a:lnTo>
                  <a:lnTo>
                    <a:pt x="10" y="46"/>
                  </a:lnTo>
                  <a:lnTo>
                    <a:pt x="10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7958160" y="1796040"/>
              <a:ext cx="46080" cy="666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15" y="46"/>
                  </a:moveTo>
                  <a:lnTo>
                    <a:pt x="7" y="45"/>
                  </a:lnTo>
                  <a:lnTo>
                    <a:pt x="3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1"/>
                  </a:lnTo>
                  <a:lnTo>
                    <a:pt x="30" y="9"/>
                  </a:lnTo>
                  <a:lnTo>
                    <a:pt x="33" y="19"/>
                  </a:lnTo>
                  <a:lnTo>
                    <a:pt x="33" y="27"/>
                  </a:lnTo>
                  <a:lnTo>
                    <a:pt x="30" y="37"/>
                  </a:lnTo>
                  <a:lnTo>
                    <a:pt x="25" y="45"/>
                  </a:lnTo>
                  <a:lnTo>
                    <a:pt x="19" y="46"/>
                  </a:lnTo>
                  <a:lnTo>
                    <a:pt x="15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8023320" y="1796040"/>
              <a:ext cx="46080" cy="666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5" y="46"/>
                  </a:moveTo>
                  <a:lnTo>
                    <a:pt x="29" y="46"/>
                  </a:lnTo>
                  <a:lnTo>
                    <a:pt x="15" y="28"/>
                  </a:lnTo>
                  <a:lnTo>
                    <a:pt x="23" y="28"/>
                  </a:lnTo>
                  <a:lnTo>
                    <a:pt x="27" y="27"/>
                  </a:lnTo>
                  <a:lnTo>
                    <a:pt x="29" y="24"/>
                  </a:lnTo>
                  <a:lnTo>
                    <a:pt x="32" y="18"/>
                  </a:lnTo>
                  <a:lnTo>
                    <a:pt x="32" y="13"/>
                  </a:lnTo>
                  <a:lnTo>
                    <a:pt x="29" y="6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0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7701120" y="1931760"/>
              <a:ext cx="4428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2" y="36"/>
                  </a:moveTo>
                  <a:lnTo>
                    <a:pt x="1" y="39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9" y="48"/>
                  </a:lnTo>
                  <a:lnTo>
                    <a:pt x="24" y="45"/>
                  </a:lnTo>
                  <a:lnTo>
                    <a:pt x="27" y="43"/>
                  </a:lnTo>
                  <a:lnTo>
                    <a:pt x="28" y="39"/>
                  </a:lnTo>
                  <a:lnTo>
                    <a:pt x="28" y="34"/>
                  </a:lnTo>
                  <a:lnTo>
                    <a:pt x="27" y="30"/>
                  </a:lnTo>
                  <a:lnTo>
                    <a:pt x="22" y="22"/>
                  </a:lnTo>
                  <a:lnTo>
                    <a:pt x="0" y="0"/>
                  </a:lnTo>
                  <a:lnTo>
                    <a:pt x="3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7764480" y="1931760"/>
              <a:ext cx="47520" cy="4608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3" y="32"/>
                  </a:moveTo>
                  <a:lnTo>
                    <a:pt x="0" y="0"/>
                  </a:lnTo>
                  <a:lnTo>
                    <a:pt x="33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7795800" y="1931760"/>
              <a:ext cx="18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7829640" y="1931760"/>
              <a:ext cx="42840" cy="684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30" y="31"/>
                  </a:moveTo>
                  <a:lnTo>
                    <a:pt x="27" y="25"/>
                  </a:lnTo>
                  <a:lnTo>
                    <a:pt x="22" y="21"/>
                  </a:lnTo>
                  <a:lnTo>
                    <a:pt x="16" y="18"/>
                  </a:lnTo>
                  <a:lnTo>
                    <a:pt x="13" y="18"/>
                  </a:lnTo>
                  <a:lnTo>
                    <a:pt x="7" y="21"/>
                  </a:lnTo>
                  <a:lnTo>
                    <a:pt x="3" y="25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3" y="40"/>
                  </a:lnTo>
                  <a:lnTo>
                    <a:pt x="7" y="45"/>
                  </a:lnTo>
                  <a:lnTo>
                    <a:pt x="13" y="48"/>
                  </a:lnTo>
                  <a:lnTo>
                    <a:pt x="16" y="48"/>
                  </a:lnTo>
                  <a:lnTo>
                    <a:pt x="22" y="45"/>
                  </a:lnTo>
                  <a:lnTo>
                    <a:pt x="27" y="40"/>
                  </a:lnTo>
                  <a:lnTo>
                    <a:pt x="30" y="31"/>
                  </a:lnTo>
                  <a:lnTo>
                    <a:pt x="30" y="21"/>
                  </a:lnTo>
                  <a:lnTo>
                    <a:pt x="27" y="9"/>
                  </a:lnTo>
                  <a:lnTo>
                    <a:pt x="22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4" y="3"/>
                  </a:lnTo>
                  <a:lnTo>
                    <a:pt x="3" y="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7893000" y="1931760"/>
              <a:ext cx="4464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5" y="48"/>
                  </a:moveTo>
                  <a:lnTo>
                    <a:pt x="30" y="48"/>
                  </a:lnTo>
                  <a:lnTo>
                    <a:pt x="16" y="30"/>
                  </a:lnTo>
                  <a:lnTo>
                    <a:pt x="22" y="30"/>
                  </a:lnTo>
                  <a:lnTo>
                    <a:pt x="27" y="27"/>
                  </a:lnTo>
                  <a:lnTo>
                    <a:pt x="30" y="25"/>
                  </a:lnTo>
                  <a:lnTo>
                    <a:pt x="31" y="18"/>
                  </a:lnTo>
                  <a:lnTo>
                    <a:pt x="31" y="13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4" y="3"/>
                  </a:lnTo>
                  <a:lnTo>
                    <a:pt x="3" y="4"/>
                  </a:lnTo>
                  <a:lnTo>
                    <a:pt x="0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7961400" y="1931760"/>
              <a:ext cx="42840" cy="684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27" y="40"/>
                  </a:moveTo>
                  <a:lnTo>
                    <a:pt x="25" y="45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7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3" y="7"/>
                  </a:lnTo>
                  <a:lnTo>
                    <a:pt x="7" y="3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2" y="3"/>
                  </a:lnTo>
                  <a:lnTo>
                    <a:pt x="27" y="7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6" y="30"/>
                  </a:lnTo>
                  <a:lnTo>
                    <a:pt x="13" y="30"/>
                  </a:lnTo>
                  <a:lnTo>
                    <a:pt x="7" y="27"/>
                  </a:lnTo>
                  <a:lnTo>
                    <a:pt x="3" y="22"/>
                  </a:lnTo>
                  <a:lnTo>
                    <a:pt x="0" y="1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8023320" y="1931760"/>
              <a:ext cx="47520" cy="4608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3" y="32"/>
                  </a:moveTo>
                  <a:lnTo>
                    <a:pt x="0" y="0"/>
                  </a:lnTo>
                  <a:lnTo>
                    <a:pt x="33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056440" y="1931760"/>
              <a:ext cx="18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7805880" y="2068200"/>
              <a:ext cx="15840" cy="6840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0" y="38"/>
                  </a:moveTo>
                  <a:lnTo>
                    <a:pt x="4" y="41"/>
                  </a:lnTo>
                  <a:lnTo>
                    <a:pt x="11" y="47"/>
                  </a:lnTo>
                  <a:lnTo>
                    <a:pt x="1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873920" y="2068200"/>
              <a:ext cx="3168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861320" y="2068200"/>
              <a:ext cx="4428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7929720" y="2128680"/>
              <a:ext cx="61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2" y="5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7972560" y="2068200"/>
              <a:ext cx="3168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958160" y="2068200"/>
              <a:ext cx="4608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8032680" y="2068200"/>
              <a:ext cx="15840" cy="6840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0" y="38"/>
                  </a:moveTo>
                  <a:lnTo>
                    <a:pt x="4" y="41"/>
                  </a:lnTo>
                  <a:lnTo>
                    <a:pt x="11" y="47"/>
                  </a:lnTo>
                  <a:lnTo>
                    <a:pt x="1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7796160" y="2204280"/>
              <a:ext cx="44640" cy="6804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31" y="32"/>
                  </a:moveTo>
                  <a:lnTo>
                    <a:pt x="27" y="26"/>
                  </a:lnTo>
                  <a:lnTo>
                    <a:pt x="23" y="21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6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5"/>
                  </a:lnTo>
                  <a:lnTo>
                    <a:pt x="14" y="48"/>
                  </a:lnTo>
                  <a:lnTo>
                    <a:pt x="15" y="48"/>
                  </a:lnTo>
                  <a:lnTo>
                    <a:pt x="23" y="45"/>
                  </a:lnTo>
                  <a:lnTo>
                    <a:pt x="27" y="41"/>
                  </a:lnTo>
                  <a:lnTo>
                    <a:pt x="30" y="32"/>
                  </a:lnTo>
                  <a:lnTo>
                    <a:pt x="30" y="21"/>
                  </a:lnTo>
                  <a:lnTo>
                    <a:pt x="27" y="9"/>
                  </a:lnTo>
                  <a:lnTo>
                    <a:pt x="23" y="3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5" y="3"/>
                  </a:lnTo>
                  <a:lnTo>
                    <a:pt x="2" y="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>
              <a:off x="7864560" y="226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5" y="3"/>
                  </a:lnTo>
                  <a:lnTo>
                    <a:pt x="2" y="5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7893000" y="2204280"/>
              <a:ext cx="44640" cy="6804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2" y="48"/>
                  </a:moveTo>
                  <a:lnTo>
                    <a:pt x="4" y="45"/>
                  </a:lnTo>
                  <a:lnTo>
                    <a:pt x="3" y="41"/>
                  </a:lnTo>
                  <a:lnTo>
                    <a:pt x="3" y="36"/>
                  </a:lnTo>
                  <a:lnTo>
                    <a:pt x="4" y="32"/>
                  </a:lnTo>
                  <a:lnTo>
                    <a:pt x="9" y="30"/>
                  </a:lnTo>
                  <a:lnTo>
                    <a:pt x="18" y="27"/>
                  </a:lnTo>
                  <a:lnTo>
                    <a:pt x="25" y="26"/>
                  </a:lnTo>
                  <a:lnTo>
                    <a:pt x="30" y="21"/>
                  </a:lnTo>
                  <a:lnTo>
                    <a:pt x="31" y="17"/>
                  </a:lnTo>
                  <a:lnTo>
                    <a:pt x="31" y="9"/>
                  </a:lnTo>
                  <a:lnTo>
                    <a:pt x="30" y="5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9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6"/>
                  </a:lnTo>
                  <a:lnTo>
                    <a:pt x="13" y="27"/>
                  </a:lnTo>
                  <a:lnTo>
                    <a:pt x="22" y="30"/>
                  </a:lnTo>
                  <a:lnTo>
                    <a:pt x="27" y="32"/>
                  </a:lnTo>
                  <a:lnTo>
                    <a:pt x="30" y="36"/>
                  </a:lnTo>
                  <a:lnTo>
                    <a:pt x="30" y="41"/>
                  </a:lnTo>
                  <a:lnTo>
                    <a:pt x="27" y="45"/>
                  </a:lnTo>
                  <a:lnTo>
                    <a:pt x="21" y="48"/>
                  </a:lnTo>
                  <a:lnTo>
                    <a:pt x="12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7958160" y="2204280"/>
              <a:ext cx="46080" cy="6804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15" y="48"/>
                  </a:moveTo>
                  <a:lnTo>
                    <a:pt x="7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7" y="3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0" y="9"/>
                  </a:lnTo>
                  <a:lnTo>
                    <a:pt x="33" y="21"/>
                  </a:lnTo>
                  <a:lnTo>
                    <a:pt x="33" y="27"/>
                  </a:lnTo>
                  <a:lnTo>
                    <a:pt x="30" y="39"/>
                  </a:lnTo>
                  <a:lnTo>
                    <a:pt x="25" y="45"/>
                  </a:lnTo>
                  <a:lnTo>
                    <a:pt x="19" y="48"/>
                  </a:lnTo>
                  <a:lnTo>
                    <a:pt x="15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8023320" y="2204280"/>
              <a:ext cx="47520" cy="442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23" y="31"/>
                  </a:moveTo>
                  <a:lnTo>
                    <a:pt x="0" y="0"/>
                  </a:lnTo>
                  <a:lnTo>
                    <a:pt x="33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056440" y="2205000"/>
              <a:ext cx="180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7524720" y="24015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2" y="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7551720" y="2340720"/>
              <a:ext cx="47520" cy="666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16" y="46"/>
                  </a:moveTo>
                  <a:lnTo>
                    <a:pt x="8" y="45"/>
                  </a:lnTo>
                  <a:lnTo>
                    <a:pt x="3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9"/>
                  </a:lnTo>
                  <a:lnTo>
                    <a:pt x="8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0" y="9"/>
                  </a:lnTo>
                  <a:lnTo>
                    <a:pt x="33" y="19"/>
                  </a:lnTo>
                  <a:lnTo>
                    <a:pt x="33" y="27"/>
                  </a:lnTo>
                  <a:lnTo>
                    <a:pt x="30" y="37"/>
                  </a:lnTo>
                  <a:lnTo>
                    <a:pt x="26" y="45"/>
                  </a:lnTo>
                  <a:lnTo>
                    <a:pt x="20" y="46"/>
                  </a:lnTo>
                  <a:lnTo>
                    <a:pt x="15" y="46"/>
                  </a:lnTo>
                  <a:lnTo>
                    <a:pt x="16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7618320" y="2340720"/>
              <a:ext cx="44640" cy="66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4" y="46"/>
                  </a:moveTo>
                  <a:lnTo>
                    <a:pt x="6" y="45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9"/>
                  </a:lnTo>
                  <a:lnTo>
                    <a:pt x="6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8" y="9"/>
                  </a:lnTo>
                  <a:lnTo>
                    <a:pt x="31" y="19"/>
                  </a:lnTo>
                  <a:lnTo>
                    <a:pt x="31" y="27"/>
                  </a:lnTo>
                  <a:lnTo>
                    <a:pt x="28" y="37"/>
                  </a:lnTo>
                  <a:lnTo>
                    <a:pt x="24" y="45"/>
                  </a:lnTo>
                  <a:lnTo>
                    <a:pt x="18" y="46"/>
                  </a:lnTo>
                  <a:lnTo>
                    <a:pt x="13" y="46"/>
                  </a:lnTo>
                  <a:lnTo>
                    <a:pt x="14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7683480" y="2340720"/>
              <a:ext cx="44640" cy="66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4" y="46"/>
                  </a:moveTo>
                  <a:lnTo>
                    <a:pt x="6" y="45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9"/>
                  </a:lnTo>
                  <a:lnTo>
                    <a:pt x="6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1"/>
                  </a:lnTo>
                  <a:lnTo>
                    <a:pt x="30" y="9"/>
                  </a:lnTo>
                  <a:lnTo>
                    <a:pt x="31" y="19"/>
                  </a:lnTo>
                  <a:lnTo>
                    <a:pt x="31" y="27"/>
                  </a:lnTo>
                  <a:lnTo>
                    <a:pt x="30" y="37"/>
                  </a:lnTo>
                  <a:lnTo>
                    <a:pt x="25" y="45"/>
                  </a:lnTo>
                  <a:lnTo>
                    <a:pt x="18" y="46"/>
                  </a:lnTo>
                  <a:lnTo>
                    <a:pt x="13" y="46"/>
                  </a:lnTo>
                  <a:lnTo>
                    <a:pt x="14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7746840" y="2340720"/>
              <a:ext cx="44640" cy="66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4" y="46"/>
                  </a:moveTo>
                  <a:lnTo>
                    <a:pt x="7" y="45"/>
                  </a:lnTo>
                  <a:lnTo>
                    <a:pt x="3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9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1"/>
                  </a:lnTo>
                  <a:lnTo>
                    <a:pt x="30" y="9"/>
                  </a:lnTo>
                  <a:lnTo>
                    <a:pt x="31" y="19"/>
                  </a:lnTo>
                  <a:lnTo>
                    <a:pt x="31" y="27"/>
                  </a:lnTo>
                  <a:lnTo>
                    <a:pt x="30" y="37"/>
                  </a:lnTo>
                  <a:lnTo>
                    <a:pt x="25" y="45"/>
                  </a:lnTo>
                  <a:lnTo>
                    <a:pt x="18" y="46"/>
                  </a:lnTo>
                  <a:lnTo>
                    <a:pt x="13" y="46"/>
                  </a:lnTo>
                  <a:lnTo>
                    <a:pt x="14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816680" y="2341440"/>
              <a:ext cx="18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816680" y="2341440"/>
              <a:ext cx="432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816680" y="2373120"/>
              <a:ext cx="2556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816680" y="2408040"/>
              <a:ext cx="432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905600" y="2350800"/>
              <a:ext cx="1800" cy="572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878600" y="2379600"/>
              <a:ext cx="572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7958160" y="2340720"/>
              <a:ext cx="46080" cy="666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15" y="46"/>
                  </a:moveTo>
                  <a:lnTo>
                    <a:pt x="7" y="45"/>
                  </a:lnTo>
                  <a:lnTo>
                    <a:pt x="3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1"/>
                  </a:lnTo>
                  <a:lnTo>
                    <a:pt x="30" y="9"/>
                  </a:lnTo>
                  <a:lnTo>
                    <a:pt x="33" y="19"/>
                  </a:lnTo>
                  <a:lnTo>
                    <a:pt x="33" y="27"/>
                  </a:lnTo>
                  <a:lnTo>
                    <a:pt x="30" y="37"/>
                  </a:lnTo>
                  <a:lnTo>
                    <a:pt x="25" y="45"/>
                  </a:lnTo>
                  <a:lnTo>
                    <a:pt x="19" y="46"/>
                  </a:lnTo>
                  <a:lnTo>
                    <a:pt x="15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8023320" y="2340720"/>
              <a:ext cx="46080" cy="666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4" y="46"/>
                  </a:moveTo>
                  <a:lnTo>
                    <a:pt x="6" y="45"/>
                  </a:lnTo>
                  <a:lnTo>
                    <a:pt x="2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2" y="9"/>
                  </a:lnTo>
                  <a:lnTo>
                    <a:pt x="6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9" y="9"/>
                  </a:lnTo>
                  <a:lnTo>
                    <a:pt x="32" y="19"/>
                  </a:lnTo>
                  <a:lnTo>
                    <a:pt x="32" y="27"/>
                  </a:lnTo>
                  <a:lnTo>
                    <a:pt x="29" y="37"/>
                  </a:lnTo>
                  <a:lnTo>
                    <a:pt x="24" y="45"/>
                  </a:lnTo>
                  <a:lnTo>
                    <a:pt x="18" y="46"/>
                  </a:lnTo>
                  <a:lnTo>
                    <a:pt x="14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7524720" y="2537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0" y="3"/>
                  </a:lnTo>
                  <a:lnTo>
                    <a:pt x="1" y="0"/>
                  </a:lnTo>
                  <a:lnTo>
                    <a:pt x="4" y="3"/>
                  </a:lnTo>
                  <a:lnTo>
                    <a:pt x="1" y="4"/>
                  </a:lnTo>
                  <a:lnTo>
                    <a:pt x="2" y="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7551720" y="2475720"/>
              <a:ext cx="47520" cy="6804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16" y="48"/>
                  </a:moveTo>
                  <a:lnTo>
                    <a:pt x="8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3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3"/>
                  </a:lnTo>
                  <a:lnTo>
                    <a:pt x="30" y="9"/>
                  </a:lnTo>
                  <a:lnTo>
                    <a:pt x="33" y="21"/>
                  </a:lnTo>
                  <a:lnTo>
                    <a:pt x="33" y="27"/>
                  </a:lnTo>
                  <a:lnTo>
                    <a:pt x="30" y="39"/>
                  </a:lnTo>
                  <a:lnTo>
                    <a:pt x="26" y="45"/>
                  </a:lnTo>
                  <a:lnTo>
                    <a:pt x="20" y="48"/>
                  </a:lnTo>
                  <a:lnTo>
                    <a:pt x="15" y="48"/>
                  </a:lnTo>
                  <a:lnTo>
                    <a:pt x="16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7618320" y="2475720"/>
              <a:ext cx="44640" cy="6804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6" y="45"/>
                  </a:lnTo>
                  <a:lnTo>
                    <a:pt x="1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" y="9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8" y="9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28" y="39"/>
                  </a:lnTo>
                  <a:lnTo>
                    <a:pt x="24" y="45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7683480" y="2475720"/>
              <a:ext cx="44640" cy="6804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6" y="45"/>
                  </a:lnTo>
                  <a:lnTo>
                    <a:pt x="1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" y="9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3"/>
                  </a:lnTo>
                  <a:lnTo>
                    <a:pt x="30" y="9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30" y="39"/>
                  </a:lnTo>
                  <a:lnTo>
                    <a:pt x="25" y="45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>
              <a:off x="7746840" y="2475720"/>
              <a:ext cx="44640" cy="6804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7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7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3"/>
                  </a:lnTo>
                  <a:lnTo>
                    <a:pt x="30" y="9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30" y="39"/>
                  </a:lnTo>
                  <a:lnTo>
                    <a:pt x="25" y="45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816680" y="2476440"/>
              <a:ext cx="1800" cy="68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816680" y="2476440"/>
              <a:ext cx="432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816680" y="2508120"/>
              <a:ext cx="2556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816680" y="2544480"/>
              <a:ext cx="4320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905600" y="2487240"/>
              <a:ext cx="1800" cy="572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878600" y="2514240"/>
              <a:ext cx="5724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>
              <a:off x="7958160" y="2475720"/>
              <a:ext cx="46080" cy="6804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15" y="48"/>
                  </a:moveTo>
                  <a:lnTo>
                    <a:pt x="7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7" y="3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0" y="9"/>
                  </a:lnTo>
                  <a:lnTo>
                    <a:pt x="33" y="21"/>
                  </a:lnTo>
                  <a:lnTo>
                    <a:pt x="33" y="27"/>
                  </a:lnTo>
                  <a:lnTo>
                    <a:pt x="30" y="39"/>
                  </a:lnTo>
                  <a:lnTo>
                    <a:pt x="25" y="45"/>
                  </a:lnTo>
                  <a:lnTo>
                    <a:pt x="19" y="48"/>
                  </a:lnTo>
                  <a:lnTo>
                    <a:pt x="15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8023320" y="2475720"/>
              <a:ext cx="46080" cy="6804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14" y="48"/>
                  </a:moveTo>
                  <a:lnTo>
                    <a:pt x="6" y="45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2" y="9"/>
                  </a:lnTo>
                  <a:lnTo>
                    <a:pt x="6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2" y="21"/>
                  </a:lnTo>
                  <a:lnTo>
                    <a:pt x="32" y="27"/>
                  </a:lnTo>
                  <a:lnTo>
                    <a:pt x="29" y="39"/>
                  </a:lnTo>
                  <a:lnTo>
                    <a:pt x="24" y="45"/>
                  </a:lnTo>
                  <a:lnTo>
                    <a:pt x="18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524720" y="2673000"/>
              <a:ext cx="64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4" y="2"/>
                  </a:lnTo>
                  <a:lnTo>
                    <a:pt x="1" y="5"/>
                  </a:lnTo>
                  <a:lnTo>
                    <a:pt x="2" y="5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7551720" y="2612160"/>
              <a:ext cx="47520" cy="666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13" y="47"/>
                  </a:moveTo>
                  <a:lnTo>
                    <a:pt x="6" y="45"/>
                  </a:lnTo>
                  <a:lnTo>
                    <a:pt x="3" y="41"/>
                  </a:lnTo>
                  <a:lnTo>
                    <a:pt x="3" y="36"/>
                  </a:lnTo>
                  <a:lnTo>
                    <a:pt x="6" y="32"/>
                  </a:lnTo>
                  <a:lnTo>
                    <a:pt x="11" y="29"/>
                  </a:lnTo>
                  <a:lnTo>
                    <a:pt x="20" y="27"/>
                  </a:lnTo>
                  <a:lnTo>
                    <a:pt x="26" y="24"/>
                  </a:lnTo>
                  <a:lnTo>
                    <a:pt x="30" y="20"/>
                  </a:lnTo>
                  <a:lnTo>
                    <a:pt x="33" y="15"/>
                  </a:lnTo>
                  <a:lnTo>
                    <a:pt x="33" y="9"/>
                  </a:lnTo>
                  <a:lnTo>
                    <a:pt x="30" y="5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0" y="9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8" y="24"/>
                  </a:lnTo>
                  <a:lnTo>
                    <a:pt x="15" y="27"/>
                  </a:lnTo>
                  <a:lnTo>
                    <a:pt x="24" y="29"/>
                  </a:lnTo>
                  <a:lnTo>
                    <a:pt x="29" y="32"/>
                  </a:lnTo>
                  <a:lnTo>
                    <a:pt x="30" y="36"/>
                  </a:lnTo>
                  <a:lnTo>
                    <a:pt x="30" y="41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2" y="47"/>
                  </a:lnTo>
                  <a:lnTo>
                    <a:pt x="13" y="47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618320" y="2612160"/>
              <a:ext cx="44640" cy="6660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2" y="36"/>
                  </a:moveTo>
                  <a:lnTo>
                    <a:pt x="1" y="38"/>
                  </a:lnTo>
                  <a:lnTo>
                    <a:pt x="4" y="42"/>
                  </a:lnTo>
                  <a:lnTo>
                    <a:pt x="6" y="45"/>
                  </a:lnTo>
                  <a:lnTo>
                    <a:pt x="10" y="47"/>
                  </a:lnTo>
                  <a:lnTo>
                    <a:pt x="19" y="47"/>
                  </a:lnTo>
                  <a:lnTo>
                    <a:pt x="24" y="45"/>
                  </a:lnTo>
                  <a:lnTo>
                    <a:pt x="27" y="42"/>
                  </a:lnTo>
                  <a:lnTo>
                    <a:pt x="28" y="38"/>
                  </a:lnTo>
                  <a:lnTo>
                    <a:pt x="28" y="33"/>
                  </a:lnTo>
                  <a:lnTo>
                    <a:pt x="27" y="29"/>
                  </a:lnTo>
                  <a:lnTo>
                    <a:pt x="22" y="23"/>
                  </a:lnTo>
                  <a:lnTo>
                    <a:pt x="0" y="0"/>
                  </a:lnTo>
                  <a:lnTo>
                    <a:pt x="3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7691400" y="2612160"/>
              <a:ext cx="17640" cy="66600"/>
            </a:xfrm>
            <a:custGeom>
              <a:avLst/>
              <a:gdLst/>
              <a:ahLst/>
              <a:rect l="l" t="t" r="r" b="b"/>
              <a:pathLst>
                <a:path w="12" h="47">
                  <a:moveTo>
                    <a:pt x="0" y="38"/>
                  </a:moveTo>
                  <a:lnTo>
                    <a:pt x="6" y="41"/>
                  </a:lnTo>
                  <a:lnTo>
                    <a:pt x="12" y="47"/>
                  </a:lnTo>
                  <a:lnTo>
                    <a:pt x="12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7751880" y="2612160"/>
              <a:ext cx="39600" cy="6660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27" y="41"/>
                  </a:moveTo>
                  <a:lnTo>
                    <a:pt x="24" y="45"/>
                  </a:lnTo>
                  <a:lnTo>
                    <a:pt x="18" y="47"/>
                  </a:lnTo>
                  <a:lnTo>
                    <a:pt x="13" y="47"/>
                  </a:lnTo>
                  <a:lnTo>
                    <a:pt x="6" y="45"/>
                  </a:lnTo>
                  <a:lnTo>
                    <a:pt x="1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1" y="6"/>
                  </a:lnTo>
                  <a:lnTo>
                    <a:pt x="6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22" y="2"/>
                  </a:lnTo>
                  <a:lnTo>
                    <a:pt x="27" y="6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7" y="23"/>
                  </a:lnTo>
                  <a:lnTo>
                    <a:pt x="22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6" y="27"/>
                  </a:lnTo>
                  <a:lnTo>
                    <a:pt x="1" y="23"/>
                  </a:lnTo>
                  <a:lnTo>
                    <a:pt x="0" y="15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816680" y="2612880"/>
              <a:ext cx="180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816680" y="2612880"/>
              <a:ext cx="432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816680" y="2646000"/>
              <a:ext cx="2556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816680" y="2679480"/>
              <a:ext cx="432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905600" y="2622240"/>
              <a:ext cx="1800" cy="572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878600" y="2651040"/>
              <a:ext cx="572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7958160" y="2612160"/>
              <a:ext cx="46080" cy="666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15" y="47"/>
                  </a:moveTo>
                  <a:lnTo>
                    <a:pt x="7" y="45"/>
                  </a:lnTo>
                  <a:lnTo>
                    <a:pt x="3" y="38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3" y="9"/>
                  </a:lnTo>
                  <a:lnTo>
                    <a:pt x="7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2"/>
                  </a:lnTo>
                  <a:lnTo>
                    <a:pt x="30" y="9"/>
                  </a:lnTo>
                  <a:lnTo>
                    <a:pt x="33" y="20"/>
                  </a:lnTo>
                  <a:lnTo>
                    <a:pt x="33" y="27"/>
                  </a:lnTo>
                  <a:lnTo>
                    <a:pt x="30" y="38"/>
                  </a:lnTo>
                  <a:lnTo>
                    <a:pt x="25" y="45"/>
                  </a:lnTo>
                  <a:lnTo>
                    <a:pt x="19" y="47"/>
                  </a:lnTo>
                  <a:lnTo>
                    <a:pt x="15" y="47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8026560" y="2612160"/>
              <a:ext cx="42840" cy="6660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27" y="41"/>
                  </a:moveTo>
                  <a:lnTo>
                    <a:pt x="25" y="45"/>
                  </a:lnTo>
                  <a:lnTo>
                    <a:pt x="18" y="47"/>
                  </a:lnTo>
                  <a:lnTo>
                    <a:pt x="13" y="47"/>
                  </a:lnTo>
                  <a:lnTo>
                    <a:pt x="7" y="45"/>
                  </a:lnTo>
                  <a:lnTo>
                    <a:pt x="3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3" y="6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7" y="6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7" y="23"/>
                  </a:lnTo>
                  <a:lnTo>
                    <a:pt x="22" y="27"/>
                  </a:lnTo>
                  <a:lnTo>
                    <a:pt x="16" y="29"/>
                  </a:lnTo>
                  <a:lnTo>
                    <a:pt x="13" y="29"/>
                  </a:lnTo>
                  <a:lnTo>
                    <a:pt x="7" y="27"/>
                  </a:lnTo>
                  <a:lnTo>
                    <a:pt x="3" y="23"/>
                  </a:lnTo>
                  <a:lnTo>
                    <a:pt x="0" y="15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6921360" y="2713680"/>
              <a:ext cx="2040120" cy="407880"/>
            </a:xfrm>
            <a:custGeom>
              <a:avLst/>
              <a:gdLst/>
              <a:ahLst/>
              <a:rect l="l" t="t" r="r" b="b"/>
              <a:pathLst>
                <a:path w="1428" h="286">
                  <a:moveTo>
                    <a:pt x="1" y="0"/>
                  </a:moveTo>
                  <a:lnTo>
                    <a:pt x="0" y="286"/>
                  </a:lnTo>
                  <a:lnTo>
                    <a:pt x="1428" y="286"/>
                  </a:lnTo>
                  <a:lnTo>
                    <a:pt x="1428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6921360" y="2713680"/>
              <a:ext cx="2040120" cy="407880"/>
            </a:xfrm>
            <a:custGeom>
              <a:avLst/>
              <a:gdLst/>
              <a:ahLst/>
              <a:rect l="l" t="t" r="r" b="b"/>
              <a:pathLst>
                <a:path w="1428" h="286">
                  <a:moveTo>
                    <a:pt x="1" y="0"/>
                  </a:moveTo>
                  <a:lnTo>
                    <a:pt x="0" y="286"/>
                  </a:lnTo>
                  <a:lnTo>
                    <a:pt x="1428" y="286"/>
                  </a:lnTo>
                  <a:lnTo>
                    <a:pt x="1428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6996240" y="2770920"/>
              <a:ext cx="46080" cy="6804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8"/>
                  </a:moveTo>
                  <a:lnTo>
                    <a:pt x="4" y="48"/>
                  </a:lnTo>
                  <a:lnTo>
                    <a:pt x="8" y="43"/>
                  </a:lnTo>
                  <a:lnTo>
                    <a:pt x="23" y="4"/>
                  </a:lnTo>
                  <a:lnTo>
                    <a:pt x="28" y="0"/>
                  </a:lnTo>
                  <a:lnTo>
                    <a:pt x="32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6993000" y="2770920"/>
              <a:ext cx="52200" cy="6804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6" y="48"/>
                  </a:moveTo>
                  <a:lnTo>
                    <a:pt x="34" y="43"/>
                  </a:lnTo>
                  <a:lnTo>
                    <a:pt x="30" y="37"/>
                  </a:lnTo>
                  <a:lnTo>
                    <a:pt x="6" y="12"/>
                  </a:lnTo>
                  <a:lnTo>
                    <a:pt x="1" y="4"/>
                  </a:lnTo>
                  <a:lnTo>
                    <a:pt x="0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7053120" y="2732040"/>
              <a:ext cx="22320" cy="331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2" y="18"/>
                  </a:moveTo>
                  <a:lnTo>
                    <a:pt x="1" y="21"/>
                  </a:lnTo>
                  <a:lnTo>
                    <a:pt x="3" y="23"/>
                  </a:lnTo>
                  <a:lnTo>
                    <a:pt x="6" y="24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>
              <a:off x="7088040" y="2736720"/>
              <a:ext cx="59040" cy="1029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164360" y="2771640"/>
              <a:ext cx="1440" cy="460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7164360" y="2771640"/>
              <a:ext cx="36720" cy="4608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0" y="23"/>
                  </a:moveTo>
                  <a:lnTo>
                    <a:pt x="7" y="30"/>
                  </a:lnTo>
                  <a:lnTo>
                    <a:pt x="12" y="32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5" y="23"/>
                  </a:lnTo>
                  <a:lnTo>
                    <a:pt x="25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7261200" y="2749320"/>
              <a:ext cx="144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7221600" y="2771640"/>
              <a:ext cx="39600" cy="460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26"/>
                  </a:moveTo>
                  <a:lnTo>
                    <a:pt x="23" y="30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8" y="30"/>
                  </a:lnTo>
                  <a:lnTo>
                    <a:pt x="3" y="26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3" y="8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3"/>
                  </a:lnTo>
                  <a:lnTo>
                    <a:pt x="27" y="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7289640" y="2749320"/>
              <a:ext cx="19080" cy="6840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3" y="48"/>
                  </a:moveTo>
                  <a:lnTo>
                    <a:pt x="8" y="48"/>
                  </a:lnTo>
                  <a:lnTo>
                    <a:pt x="3" y="45"/>
                  </a:ln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280280" y="2771640"/>
              <a:ext cx="2376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7335720" y="2749320"/>
              <a:ext cx="49320" cy="4464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23" y="31"/>
                  </a:moveTo>
                  <a:lnTo>
                    <a:pt x="0" y="0"/>
                  </a:lnTo>
                  <a:lnTo>
                    <a:pt x="34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7367760" y="2749320"/>
              <a:ext cx="144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7412040" y="2749320"/>
              <a:ext cx="15840" cy="6840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0" y="39"/>
                  </a:moveTo>
                  <a:lnTo>
                    <a:pt x="4" y="41"/>
                  </a:lnTo>
                  <a:lnTo>
                    <a:pt x="11" y="48"/>
                  </a:lnTo>
                  <a:lnTo>
                    <a:pt x="1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7469280" y="280980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4" y="3"/>
                  </a:lnTo>
                  <a:lnTo>
                    <a:pt x="3" y="5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7500960" y="2749320"/>
              <a:ext cx="42840" cy="684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28" y="41"/>
                  </a:moveTo>
                  <a:lnTo>
                    <a:pt x="26" y="45"/>
                  </a:lnTo>
                  <a:lnTo>
                    <a:pt x="18" y="48"/>
                  </a:lnTo>
                  <a:lnTo>
                    <a:pt x="14" y="48"/>
                  </a:lnTo>
                  <a:lnTo>
                    <a:pt x="8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3" y="8"/>
                  </a:lnTo>
                  <a:lnTo>
                    <a:pt x="8" y="3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3" y="3"/>
                  </a:lnTo>
                  <a:lnTo>
                    <a:pt x="27" y="8"/>
                  </a:lnTo>
                  <a:lnTo>
                    <a:pt x="30" y="14"/>
                  </a:lnTo>
                  <a:lnTo>
                    <a:pt x="30" y="17"/>
                  </a:lnTo>
                  <a:lnTo>
                    <a:pt x="27" y="23"/>
                  </a:lnTo>
                  <a:lnTo>
                    <a:pt x="23" y="27"/>
                  </a:lnTo>
                  <a:lnTo>
                    <a:pt x="17" y="30"/>
                  </a:lnTo>
                  <a:lnTo>
                    <a:pt x="14" y="30"/>
                  </a:lnTo>
                  <a:lnTo>
                    <a:pt x="8" y="27"/>
                  </a:lnTo>
                  <a:lnTo>
                    <a:pt x="3" y="23"/>
                  </a:lnTo>
                  <a:lnTo>
                    <a:pt x="0" y="1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7567560" y="2749320"/>
              <a:ext cx="39600" cy="6840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27" y="41"/>
                  </a:moveTo>
                  <a:lnTo>
                    <a:pt x="24" y="45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6" y="45"/>
                  </a:lnTo>
                  <a:lnTo>
                    <a:pt x="1" y="39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8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27" y="8"/>
                  </a:lnTo>
                  <a:lnTo>
                    <a:pt x="28" y="14"/>
                  </a:lnTo>
                  <a:lnTo>
                    <a:pt x="28" y="17"/>
                  </a:lnTo>
                  <a:lnTo>
                    <a:pt x="27" y="23"/>
                  </a:lnTo>
                  <a:lnTo>
                    <a:pt x="22" y="27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6" y="27"/>
                  </a:lnTo>
                  <a:lnTo>
                    <a:pt x="1" y="23"/>
                  </a:lnTo>
                  <a:lnTo>
                    <a:pt x="0" y="1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7752960" y="2736720"/>
              <a:ext cx="58680" cy="1029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7958160" y="2749320"/>
              <a:ext cx="46080" cy="684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6" y="48"/>
                  </a:moveTo>
                  <a:lnTo>
                    <a:pt x="30" y="48"/>
                  </a:lnTo>
                  <a:lnTo>
                    <a:pt x="16" y="30"/>
                  </a:lnTo>
                  <a:lnTo>
                    <a:pt x="24" y="30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0" y="8"/>
                  </a:lnTo>
                  <a:lnTo>
                    <a:pt x="25" y="3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3" y="5"/>
                  </a:lnTo>
                  <a:lnTo>
                    <a:pt x="0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8023320" y="274932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11" y="48"/>
                  </a:moveTo>
                  <a:lnTo>
                    <a:pt x="5" y="45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5" y="32"/>
                  </a:lnTo>
                  <a:lnTo>
                    <a:pt x="9" y="30"/>
                  </a:lnTo>
                  <a:lnTo>
                    <a:pt x="18" y="27"/>
                  </a:lnTo>
                  <a:lnTo>
                    <a:pt x="24" y="26"/>
                  </a:lnTo>
                  <a:lnTo>
                    <a:pt x="29" y="21"/>
                  </a:lnTo>
                  <a:lnTo>
                    <a:pt x="32" y="17"/>
                  </a:lnTo>
                  <a:lnTo>
                    <a:pt x="32" y="9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6" y="26"/>
                  </a:lnTo>
                  <a:lnTo>
                    <a:pt x="14" y="27"/>
                  </a:lnTo>
                  <a:lnTo>
                    <a:pt x="23" y="30"/>
                  </a:lnTo>
                  <a:lnTo>
                    <a:pt x="27" y="32"/>
                  </a:lnTo>
                  <a:lnTo>
                    <a:pt x="29" y="36"/>
                  </a:lnTo>
                  <a:lnTo>
                    <a:pt x="29" y="41"/>
                  </a:lnTo>
                  <a:lnTo>
                    <a:pt x="27" y="45"/>
                  </a:lnTo>
                  <a:lnTo>
                    <a:pt x="20" y="48"/>
                  </a:lnTo>
                  <a:lnTo>
                    <a:pt x="11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6999120" y="2885040"/>
              <a:ext cx="49320" cy="6516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36"/>
                  </a:moveTo>
                  <a:lnTo>
                    <a:pt x="32" y="40"/>
                  </a:lnTo>
                  <a:lnTo>
                    <a:pt x="27" y="45"/>
                  </a:lnTo>
                  <a:lnTo>
                    <a:pt x="23" y="46"/>
                  </a:lnTo>
                  <a:lnTo>
                    <a:pt x="14" y="46"/>
                  </a:lnTo>
                  <a:lnTo>
                    <a:pt x="9" y="45"/>
                  </a:lnTo>
                  <a:lnTo>
                    <a:pt x="5" y="40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5" y="6"/>
                  </a:lnTo>
                  <a:lnTo>
                    <a:pt x="9" y="1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2" y="6"/>
                  </a:lnTo>
                  <a:lnTo>
                    <a:pt x="35" y="1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7067520" y="2907360"/>
              <a:ext cx="41400" cy="4284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1" y="31"/>
                  </a:moveTo>
                  <a:lnTo>
                    <a:pt x="6" y="28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6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6"/>
                  </a:lnTo>
                  <a:lnTo>
                    <a:pt x="29" y="13"/>
                  </a:lnTo>
                  <a:lnTo>
                    <a:pt x="29" y="18"/>
                  </a:lnTo>
                  <a:lnTo>
                    <a:pt x="27" y="24"/>
                  </a:lnTo>
                  <a:lnTo>
                    <a:pt x="23" y="28"/>
                  </a:lnTo>
                  <a:lnTo>
                    <a:pt x="18" y="31"/>
                  </a:lnTo>
                  <a:lnTo>
                    <a:pt x="11" y="31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7132680" y="2908080"/>
              <a:ext cx="1440" cy="42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7132680" y="2907360"/>
              <a:ext cx="36360" cy="428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22"/>
                  </a:moveTo>
                  <a:lnTo>
                    <a:pt x="5" y="28"/>
                  </a:lnTo>
                  <a:lnTo>
                    <a:pt x="10" y="31"/>
                  </a:lnTo>
                  <a:lnTo>
                    <a:pt x="17" y="31"/>
                  </a:lnTo>
                  <a:lnTo>
                    <a:pt x="22" y="28"/>
                  </a:lnTo>
                  <a:lnTo>
                    <a:pt x="25" y="22"/>
                  </a:lnTo>
                  <a:lnTo>
                    <a:pt x="25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7189920" y="2907360"/>
              <a:ext cx="37800" cy="4284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24"/>
                  </a:moveTo>
                  <a:lnTo>
                    <a:pt x="22" y="28"/>
                  </a:lnTo>
                  <a:lnTo>
                    <a:pt x="16" y="31"/>
                  </a:lnTo>
                  <a:lnTo>
                    <a:pt x="9" y="31"/>
                  </a:lnTo>
                  <a:lnTo>
                    <a:pt x="3" y="28"/>
                  </a:lnTo>
                  <a:lnTo>
                    <a:pt x="0" y="24"/>
                  </a:lnTo>
                  <a:lnTo>
                    <a:pt x="3" y="19"/>
                  </a:lnTo>
                  <a:lnTo>
                    <a:pt x="7" y="18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9" y="0"/>
                  </a:lnTo>
                  <a:lnTo>
                    <a:pt x="3" y="1"/>
                  </a:lnTo>
                  <a:lnTo>
                    <a:pt x="0" y="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7251840" y="2885040"/>
              <a:ext cx="15840" cy="6516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1" y="46"/>
                  </a:moveTo>
                  <a:lnTo>
                    <a:pt x="0" y="9"/>
                  </a:lnTo>
                  <a:lnTo>
                    <a:pt x="2" y="1"/>
                  </a:lnTo>
                  <a:lnTo>
                    <a:pt x="6" y="0"/>
                  </a:lnTo>
                  <a:lnTo>
                    <a:pt x="1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7242120" y="2908080"/>
              <a:ext cx="2232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323120" y="2908080"/>
              <a:ext cx="1440" cy="42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7284960" y="2907360"/>
              <a:ext cx="38160" cy="4284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4"/>
                  </a:moveTo>
                  <a:lnTo>
                    <a:pt x="22" y="28"/>
                  </a:lnTo>
                  <a:lnTo>
                    <a:pt x="18" y="31"/>
                  </a:lnTo>
                  <a:lnTo>
                    <a:pt x="12" y="31"/>
                  </a:lnTo>
                  <a:lnTo>
                    <a:pt x="7" y="28"/>
                  </a:lnTo>
                  <a:lnTo>
                    <a:pt x="1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348680" y="2908080"/>
              <a:ext cx="1440" cy="42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7348680" y="2907360"/>
              <a:ext cx="36360" cy="428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22"/>
                  </a:moveTo>
                  <a:lnTo>
                    <a:pt x="7" y="28"/>
                  </a:lnTo>
                  <a:lnTo>
                    <a:pt x="12" y="31"/>
                  </a:lnTo>
                  <a:lnTo>
                    <a:pt x="18" y="31"/>
                  </a:lnTo>
                  <a:lnTo>
                    <a:pt x="22" y="28"/>
                  </a:lnTo>
                  <a:lnTo>
                    <a:pt x="25" y="22"/>
                  </a:lnTo>
                  <a:lnTo>
                    <a:pt x="25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7413480" y="2885040"/>
              <a:ext cx="17640" cy="65160"/>
            </a:xfrm>
            <a:custGeom>
              <a:avLst/>
              <a:gdLst/>
              <a:ahLst/>
              <a:rect l="l" t="t" r="r" b="b"/>
              <a:pathLst>
                <a:path w="12" h="46">
                  <a:moveTo>
                    <a:pt x="0" y="46"/>
                  </a:moveTo>
                  <a:lnTo>
                    <a:pt x="0" y="9"/>
                  </a:lnTo>
                  <a:lnTo>
                    <a:pt x="3" y="1"/>
                  </a:lnTo>
                  <a:lnTo>
                    <a:pt x="7" y="0"/>
                  </a:lnTo>
                  <a:lnTo>
                    <a:pt x="12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404120" y="2908080"/>
              <a:ext cx="2376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7805880" y="2885040"/>
              <a:ext cx="15840" cy="6516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0" y="37"/>
                  </a:moveTo>
                  <a:lnTo>
                    <a:pt x="4" y="40"/>
                  </a:lnTo>
                  <a:lnTo>
                    <a:pt x="11" y="46"/>
                  </a:lnTo>
                  <a:lnTo>
                    <a:pt x="1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7861320" y="2885040"/>
              <a:ext cx="44280" cy="65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4" y="46"/>
                  </a:moveTo>
                  <a:lnTo>
                    <a:pt x="8" y="45"/>
                  </a:lnTo>
                  <a:lnTo>
                    <a:pt x="3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9"/>
                  </a:lnTo>
                  <a:lnTo>
                    <a:pt x="8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6" y="1"/>
                  </a:lnTo>
                  <a:lnTo>
                    <a:pt x="30" y="9"/>
                  </a:lnTo>
                  <a:lnTo>
                    <a:pt x="32" y="19"/>
                  </a:lnTo>
                  <a:lnTo>
                    <a:pt x="32" y="27"/>
                  </a:lnTo>
                  <a:lnTo>
                    <a:pt x="30" y="37"/>
                  </a:lnTo>
                  <a:lnTo>
                    <a:pt x="26" y="45"/>
                  </a:lnTo>
                  <a:lnTo>
                    <a:pt x="18" y="46"/>
                  </a:lnTo>
                  <a:lnTo>
                    <a:pt x="14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7929720" y="2945520"/>
              <a:ext cx="612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2" y="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V="1">
              <a:off x="7958160" y="2885760"/>
              <a:ext cx="47520" cy="4464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24" y="31"/>
                  </a:moveTo>
                  <a:lnTo>
                    <a:pt x="0" y="0"/>
                  </a:lnTo>
                  <a:lnTo>
                    <a:pt x="34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991640" y="2885760"/>
              <a:ext cx="1440" cy="651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V="1">
              <a:off x="8023320" y="2885040"/>
              <a:ext cx="46080" cy="65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1" y="46"/>
                  </a:moveTo>
                  <a:lnTo>
                    <a:pt x="5" y="45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5" y="31"/>
                  </a:lnTo>
                  <a:lnTo>
                    <a:pt x="9" y="28"/>
                  </a:lnTo>
                  <a:lnTo>
                    <a:pt x="18" y="27"/>
                  </a:lnTo>
                  <a:lnTo>
                    <a:pt x="24" y="24"/>
                  </a:lnTo>
                  <a:lnTo>
                    <a:pt x="29" y="19"/>
                  </a:lnTo>
                  <a:lnTo>
                    <a:pt x="32" y="15"/>
                  </a:lnTo>
                  <a:lnTo>
                    <a:pt x="32" y="9"/>
                  </a:lnTo>
                  <a:lnTo>
                    <a:pt x="29" y="4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6" y="24"/>
                  </a:lnTo>
                  <a:lnTo>
                    <a:pt x="14" y="27"/>
                  </a:lnTo>
                  <a:lnTo>
                    <a:pt x="23" y="28"/>
                  </a:lnTo>
                  <a:lnTo>
                    <a:pt x="27" y="31"/>
                  </a:lnTo>
                  <a:lnTo>
                    <a:pt x="29" y="36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0" y="46"/>
                  </a:lnTo>
                  <a:lnTo>
                    <a:pt x="11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8147160" y="2885760"/>
              <a:ext cx="1440" cy="651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8115480" y="2917440"/>
              <a:ext cx="6156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115480" y="2950920"/>
              <a:ext cx="6156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8340840" y="2945520"/>
              <a:ext cx="612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2" y="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8380440" y="2885040"/>
              <a:ext cx="15840" cy="6516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0" y="37"/>
                  </a:moveTo>
                  <a:lnTo>
                    <a:pt x="4" y="40"/>
                  </a:lnTo>
                  <a:lnTo>
                    <a:pt x="11" y="46"/>
                  </a:lnTo>
                  <a:lnTo>
                    <a:pt x="1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8434440" y="2885040"/>
              <a:ext cx="46080" cy="65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8" y="46"/>
                  </a:moveTo>
                  <a:lnTo>
                    <a:pt x="5" y="46"/>
                  </a:lnTo>
                  <a:lnTo>
                    <a:pt x="2" y="27"/>
                  </a:lnTo>
                  <a:lnTo>
                    <a:pt x="5" y="28"/>
                  </a:lnTo>
                  <a:lnTo>
                    <a:pt x="11" y="31"/>
                  </a:lnTo>
                  <a:lnTo>
                    <a:pt x="18" y="31"/>
                  </a:lnTo>
                  <a:lnTo>
                    <a:pt x="24" y="28"/>
                  </a:lnTo>
                  <a:lnTo>
                    <a:pt x="29" y="24"/>
                  </a:lnTo>
                  <a:lnTo>
                    <a:pt x="32" y="18"/>
                  </a:lnTo>
                  <a:lnTo>
                    <a:pt x="32" y="13"/>
                  </a:lnTo>
                  <a:lnTo>
                    <a:pt x="29" y="6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0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8499600" y="2885760"/>
              <a:ext cx="48960" cy="446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23" y="31"/>
                  </a:moveTo>
                  <a:lnTo>
                    <a:pt x="0" y="0"/>
                  </a:lnTo>
                  <a:lnTo>
                    <a:pt x="35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531280" y="2885760"/>
              <a:ext cx="1440" cy="651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8562960" y="2885040"/>
              <a:ext cx="44640" cy="6516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31"/>
                  </a:moveTo>
                  <a:lnTo>
                    <a:pt x="27" y="24"/>
                  </a:lnTo>
                  <a:lnTo>
                    <a:pt x="23" y="19"/>
                  </a:lnTo>
                  <a:lnTo>
                    <a:pt x="17" y="18"/>
                  </a:lnTo>
                  <a:lnTo>
                    <a:pt x="14" y="18"/>
                  </a:lnTo>
                  <a:lnTo>
                    <a:pt x="8" y="19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3" y="40"/>
                  </a:lnTo>
                  <a:lnTo>
                    <a:pt x="8" y="45"/>
                  </a:lnTo>
                  <a:lnTo>
                    <a:pt x="14" y="46"/>
                  </a:lnTo>
                  <a:lnTo>
                    <a:pt x="17" y="46"/>
                  </a:lnTo>
                  <a:lnTo>
                    <a:pt x="23" y="45"/>
                  </a:lnTo>
                  <a:lnTo>
                    <a:pt x="27" y="40"/>
                  </a:lnTo>
                  <a:lnTo>
                    <a:pt x="30" y="31"/>
                  </a:lnTo>
                  <a:lnTo>
                    <a:pt x="30" y="19"/>
                  </a:lnTo>
                  <a:lnTo>
                    <a:pt x="27" y="9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5" y="1"/>
                  </a:lnTo>
                  <a:lnTo>
                    <a:pt x="3" y="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H="1">
              <a:off x="8631360" y="2885760"/>
              <a:ext cx="1440" cy="651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632800" y="2885760"/>
              <a:ext cx="4140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632800" y="2917440"/>
              <a:ext cx="2556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632800" y="2950920"/>
              <a:ext cx="4140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694720" y="2923920"/>
              <a:ext cx="5724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8775720" y="2885040"/>
              <a:ext cx="44280" cy="6516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4" y="46"/>
                  </a:moveTo>
                  <a:lnTo>
                    <a:pt x="6" y="45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9"/>
                  </a:lnTo>
                  <a:lnTo>
                    <a:pt x="6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8" y="9"/>
                  </a:lnTo>
                  <a:lnTo>
                    <a:pt x="31" y="19"/>
                  </a:lnTo>
                  <a:lnTo>
                    <a:pt x="31" y="27"/>
                  </a:lnTo>
                  <a:lnTo>
                    <a:pt x="28" y="37"/>
                  </a:lnTo>
                  <a:lnTo>
                    <a:pt x="24" y="45"/>
                  </a:lnTo>
                  <a:lnTo>
                    <a:pt x="18" y="46"/>
                  </a:lnTo>
                  <a:lnTo>
                    <a:pt x="13" y="46"/>
                  </a:lnTo>
                  <a:lnTo>
                    <a:pt x="14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8848800" y="2885040"/>
              <a:ext cx="17280" cy="65160"/>
            </a:xfrm>
            <a:custGeom>
              <a:avLst/>
              <a:gdLst/>
              <a:ahLst/>
              <a:rect l="l" t="t" r="r" b="b"/>
              <a:pathLst>
                <a:path w="12" h="46">
                  <a:moveTo>
                    <a:pt x="0" y="37"/>
                  </a:moveTo>
                  <a:lnTo>
                    <a:pt x="4" y="40"/>
                  </a:lnTo>
                  <a:lnTo>
                    <a:pt x="12" y="46"/>
                  </a:lnTo>
                  <a:lnTo>
                    <a:pt x="12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999120" y="302076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32" y="40"/>
                  </a:moveTo>
                  <a:lnTo>
                    <a:pt x="27" y="45"/>
                  </a:lnTo>
                  <a:lnTo>
                    <a:pt x="21" y="48"/>
                  </a:lnTo>
                  <a:lnTo>
                    <a:pt x="11" y="48"/>
                  </a:lnTo>
                  <a:lnTo>
                    <a:pt x="5" y="45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5" y="30"/>
                  </a:lnTo>
                  <a:lnTo>
                    <a:pt x="9" y="27"/>
                  </a:lnTo>
                  <a:lnTo>
                    <a:pt x="23" y="22"/>
                  </a:lnTo>
                  <a:lnTo>
                    <a:pt x="27" y="21"/>
                  </a:lnTo>
                  <a:lnTo>
                    <a:pt x="30" y="18"/>
                  </a:lnTo>
                  <a:lnTo>
                    <a:pt x="32" y="13"/>
                  </a:lnTo>
                  <a:lnTo>
                    <a:pt x="32" y="7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5" y="3"/>
                  </a:lnTo>
                  <a:lnTo>
                    <a:pt x="0" y="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7067520" y="3020760"/>
              <a:ext cx="144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3" name=""/>
            <p:cNvGrpSpPr/>
            <p:nvPr/>
          </p:nvGrpSpPr>
          <p:grpSpPr>
            <a:xfrm>
              <a:off x="5075280" y="1523880"/>
              <a:ext cx="3886200" cy="4483080"/>
              <a:chOff x="5075280" y="1523880"/>
              <a:chExt cx="3886200" cy="4483080"/>
            </a:xfrm>
          </p:grpSpPr>
          <p:sp>
            <p:nvSpPr>
              <p:cNvPr id="1984" name=""/>
              <p:cNvSpPr/>
              <p:nvPr/>
            </p:nvSpPr>
            <p:spPr>
              <a:xfrm flipV="1">
                <a:off x="7089840" y="3044520"/>
                <a:ext cx="42840" cy="4464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3" y="31"/>
                    </a:moveTo>
                    <a:lnTo>
                      <a:pt x="8" y="30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3" y="7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3"/>
                    </a:lnTo>
                    <a:lnTo>
                      <a:pt x="27" y="7"/>
                    </a:lnTo>
                    <a:lnTo>
                      <a:pt x="30" y="13"/>
                    </a:lnTo>
                    <a:lnTo>
                      <a:pt x="30" y="18"/>
                    </a:lnTo>
                    <a:lnTo>
                      <a:pt x="27" y="25"/>
                    </a:lnTo>
                    <a:lnTo>
                      <a:pt x="23" y="30"/>
                    </a:lnTo>
                    <a:lnTo>
                      <a:pt x="18" y="31"/>
                    </a:lnTo>
                    <a:lnTo>
                      <a:pt x="12" y="31"/>
                    </a:lnTo>
                    <a:lnTo>
                      <a:pt x="13" y="3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156440" y="3044520"/>
                <a:ext cx="144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V="1">
                <a:off x="7156440" y="3044520"/>
                <a:ext cx="38160" cy="4464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0" y="25"/>
                    </a:moveTo>
                    <a:lnTo>
                      <a:pt x="4" y="30"/>
                    </a:lnTo>
                    <a:lnTo>
                      <a:pt x="9" y="31"/>
                    </a:lnTo>
                    <a:lnTo>
                      <a:pt x="15" y="31"/>
                    </a:lnTo>
                    <a:lnTo>
                      <a:pt x="19" y="30"/>
                    </a:lnTo>
                    <a:lnTo>
                      <a:pt x="24" y="25"/>
                    </a:lnTo>
                    <a:lnTo>
                      <a:pt x="27" y="18"/>
                    </a:lnTo>
                    <a:lnTo>
                      <a:pt x="27" y="13"/>
                    </a:lnTo>
                    <a:lnTo>
                      <a:pt x="24" y="7"/>
                    </a:lnTo>
                    <a:lnTo>
                      <a:pt x="19" y="3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0" y="7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V="1">
                <a:off x="7213680" y="3044520"/>
                <a:ext cx="38160" cy="4464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1" y="18"/>
                    </a:moveTo>
                    <a:lnTo>
                      <a:pt x="27" y="18"/>
                    </a:lnTo>
                    <a:lnTo>
                      <a:pt x="27" y="22"/>
                    </a:lnTo>
                    <a:lnTo>
                      <a:pt x="24" y="27"/>
                    </a:lnTo>
                    <a:lnTo>
                      <a:pt x="23" y="30"/>
                    </a:lnTo>
                    <a:lnTo>
                      <a:pt x="18" y="31"/>
                    </a:lnTo>
                    <a:lnTo>
                      <a:pt x="11" y="31"/>
                    </a:lnTo>
                    <a:lnTo>
                      <a:pt x="6" y="30"/>
                    </a:lnTo>
                    <a:lnTo>
                      <a:pt x="2" y="2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" y="7"/>
                    </a:lnTo>
                    <a:lnTo>
                      <a:pt x="6" y="3"/>
                    </a:lnTo>
                    <a:lnTo>
                      <a:pt x="11" y="0"/>
                    </a:lnTo>
                    <a:lnTo>
                      <a:pt x="18" y="0"/>
                    </a:lnTo>
                    <a:lnTo>
                      <a:pt x="23" y="3"/>
                    </a:lnTo>
                    <a:lnTo>
                      <a:pt x="27" y="7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442280" y="3058920"/>
                <a:ext cx="572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7524720" y="3082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1" y="0"/>
                    </a:lnTo>
                    <a:lnTo>
                      <a:pt x="4" y="3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H="1">
                <a:off x="7567200" y="3020760"/>
                <a:ext cx="3348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553160" y="3020760"/>
                <a:ext cx="460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7618320" y="3020760"/>
                <a:ext cx="44640" cy="6840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27" y="48"/>
                    </a:moveTo>
                    <a:lnTo>
                      <a:pt x="4" y="48"/>
                    </a:lnTo>
                    <a:lnTo>
                      <a:pt x="1" y="27"/>
                    </a:lnTo>
                    <a:lnTo>
                      <a:pt x="4" y="30"/>
                    </a:lnTo>
                    <a:lnTo>
                      <a:pt x="10" y="31"/>
                    </a:lnTo>
                    <a:lnTo>
                      <a:pt x="18" y="31"/>
                    </a:lnTo>
                    <a:lnTo>
                      <a:pt x="24" y="30"/>
                    </a:lnTo>
                    <a:lnTo>
                      <a:pt x="28" y="25"/>
                    </a:lnTo>
                    <a:lnTo>
                      <a:pt x="31" y="18"/>
                    </a:lnTo>
                    <a:lnTo>
                      <a:pt x="31" y="13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4" y="3"/>
                    </a:lnTo>
                    <a:lnTo>
                      <a:pt x="1" y="4"/>
                    </a:lnTo>
                    <a:lnTo>
                      <a:pt x="0" y="9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V="1">
                <a:off x="7684920" y="3020760"/>
                <a:ext cx="43200" cy="6840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29" y="40"/>
                    </a:moveTo>
                    <a:lnTo>
                      <a:pt x="26" y="45"/>
                    </a:lnTo>
                    <a:lnTo>
                      <a:pt x="20" y="48"/>
                    </a:lnTo>
                    <a:lnTo>
                      <a:pt x="15" y="48"/>
                    </a:lnTo>
                    <a:lnTo>
                      <a:pt x="8" y="45"/>
                    </a:lnTo>
                    <a:lnTo>
                      <a:pt x="3" y="39"/>
                    </a:lnTo>
                    <a:lnTo>
                      <a:pt x="0" y="27"/>
                    </a:lnTo>
                    <a:lnTo>
                      <a:pt x="0" y="16"/>
                    </a:lnTo>
                    <a:lnTo>
                      <a:pt x="3" y="7"/>
                    </a:lnTo>
                    <a:lnTo>
                      <a:pt x="8" y="3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4" y="3"/>
                    </a:lnTo>
                    <a:lnTo>
                      <a:pt x="29" y="7"/>
                    </a:lnTo>
                    <a:lnTo>
                      <a:pt x="30" y="13"/>
                    </a:lnTo>
                    <a:lnTo>
                      <a:pt x="30" y="16"/>
                    </a:lnTo>
                    <a:lnTo>
                      <a:pt x="29" y="22"/>
                    </a:lnTo>
                    <a:lnTo>
                      <a:pt x="24" y="27"/>
                    </a:lnTo>
                    <a:lnTo>
                      <a:pt x="17" y="30"/>
                    </a:lnTo>
                    <a:lnTo>
                      <a:pt x="15" y="30"/>
                    </a:lnTo>
                    <a:lnTo>
                      <a:pt x="8" y="27"/>
                    </a:lnTo>
                    <a:lnTo>
                      <a:pt x="3" y="22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V="1">
                <a:off x="7746840" y="3020760"/>
                <a:ext cx="44640" cy="6840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27" y="48"/>
                    </a:moveTo>
                    <a:lnTo>
                      <a:pt x="4" y="48"/>
                    </a:lnTo>
                    <a:lnTo>
                      <a:pt x="3" y="27"/>
                    </a:lnTo>
                    <a:lnTo>
                      <a:pt x="4" y="30"/>
                    </a:lnTo>
                    <a:lnTo>
                      <a:pt x="12" y="31"/>
                    </a:lnTo>
                    <a:lnTo>
                      <a:pt x="18" y="31"/>
                    </a:lnTo>
                    <a:lnTo>
                      <a:pt x="25" y="30"/>
                    </a:lnTo>
                    <a:lnTo>
                      <a:pt x="30" y="25"/>
                    </a:lnTo>
                    <a:lnTo>
                      <a:pt x="31" y="18"/>
                    </a:lnTo>
                    <a:lnTo>
                      <a:pt x="31" y="13"/>
                    </a:lnTo>
                    <a:lnTo>
                      <a:pt x="30" y="7"/>
                    </a:lnTo>
                    <a:lnTo>
                      <a:pt x="25" y="3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0" y="9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816680" y="3020760"/>
                <a:ext cx="180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816680" y="3020760"/>
                <a:ext cx="4320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816680" y="3052440"/>
                <a:ext cx="255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816680" y="3089160"/>
                <a:ext cx="4320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878600" y="3058920"/>
                <a:ext cx="572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V="1">
                <a:off x="7958160" y="302076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15" y="48"/>
                    </a:moveTo>
                    <a:lnTo>
                      <a:pt x="7" y="45"/>
                    </a:lnTo>
                    <a:lnTo>
                      <a:pt x="3" y="3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3" y="9"/>
                    </a:lnTo>
                    <a:lnTo>
                      <a:pt x="7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5" y="3"/>
                    </a:lnTo>
                    <a:lnTo>
                      <a:pt x="30" y="9"/>
                    </a:lnTo>
                    <a:lnTo>
                      <a:pt x="33" y="21"/>
                    </a:lnTo>
                    <a:lnTo>
                      <a:pt x="33" y="27"/>
                    </a:lnTo>
                    <a:lnTo>
                      <a:pt x="30" y="39"/>
                    </a:lnTo>
                    <a:lnTo>
                      <a:pt x="25" y="45"/>
                    </a:lnTo>
                    <a:lnTo>
                      <a:pt x="19" y="48"/>
                    </a:lnTo>
                    <a:lnTo>
                      <a:pt x="15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8032680" y="3020760"/>
                <a:ext cx="15840" cy="6840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0" y="39"/>
                    </a:moveTo>
                    <a:lnTo>
                      <a:pt x="4" y="40"/>
                    </a:lnTo>
                    <a:lnTo>
                      <a:pt x="11" y="48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8147160" y="3020760"/>
                <a:ext cx="144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8115480" y="3052440"/>
                <a:ext cx="615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8115480" y="3089160"/>
                <a:ext cx="615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8340840" y="30826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3"/>
                    </a:lnTo>
                    <a:lnTo>
                      <a:pt x="2" y="4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H="1">
                <a:off x="8383680" y="3020760"/>
                <a:ext cx="3312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8372520" y="3020760"/>
                <a:ext cx="442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8434440" y="302076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11" y="48"/>
                    </a:moveTo>
                    <a:lnTo>
                      <a:pt x="5" y="45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5" y="31"/>
                    </a:lnTo>
                    <a:lnTo>
                      <a:pt x="9" y="30"/>
                    </a:lnTo>
                    <a:lnTo>
                      <a:pt x="18" y="27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32" y="16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0" y="0"/>
                    </a:lnTo>
                    <a:lnTo>
                      <a:pt x="11" y="0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6" y="25"/>
                    </a:lnTo>
                    <a:lnTo>
                      <a:pt x="14" y="27"/>
                    </a:lnTo>
                    <a:lnTo>
                      <a:pt x="23" y="30"/>
                    </a:lnTo>
                    <a:lnTo>
                      <a:pt x="27" y="31"/>
                    </a:lnTo>
                    <a:lnTo>
                      <a:pt x="29" y="36"/>
                    </a:lnTo>
                    <a:lnTo>
                      <a:pt x="29" y="40"/>
                    </a:lnTo>
                    <a:lnTo>
                      <a:pt x="27" y="45"/>
                    </a:lnTo>
                    <a:lnTo>
                      <a:pt x="20" y="48"/>
                    </a:lnTo>
                    <a:lnTo>
                      <a:pt x="11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8499600" y="302076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2" y="36"/>
                    </a:moveTo>
                    <a:lnTo>
                      <a:pt x="2" y="39"/>
                    </a:lnTo>
                    <a:lnTo>
                      <a:pt x="5" y="43"/>
                    </a:lnTo>
                    <a:lnTo>
                      <a:pt x="8" y="45"/>
                    </a:lnTo>
                    <a:lnTo>
                      <a:pt x="12" y="48"/>
                    </a:lnTo>
                    <a:lnTo>
                      <a:pt x="21" y="48"/>
                    </a:lnTo>
                    <a:lnTo>
                      <a:pt x="26" y="45"/>
                    </a:lnTo>
                    <a:lnTo>
                      <a:pt x="27" y="43"/>
                    </a:lnTo>
                    <a:lnTo>
                      <a:pt x="30" y="39"/>
                    </a:lnTo>
                    <a:lnTo>
                      <a:pt x="30" y="34"/>
                    </a:lnTo>
                    <a:lnTo>
                      <a:pt x="27" y="30"/>
                    </a:lnTo>
                    <a:lnTo>
                      <a:pt x="23" y="22"/>
                    </a:lnTo>
                    <a:lnTo>
                      <a:pt x="0" y="0"/>
                    </a:lnTo>
                    <a:lnTo>
                      <a:pt x="32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8562960" y="302076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13" y="48"/>
                    </a:moveTo>
                    <a:lnTo>
                      <a:pt x="5" y="45"/>
                    </a:lnTo>
                    <a:lnTo>
                      <a:pt x="3" y="40"/>
                    </a:lnTo>
                    <a:lnTo>
                      <a:pt x="3" y="36"/>
                    </a:lnTo>
                    <a:lnTo>
                      <a:pt x="5" y="31"/>
                    </a:lnTo>
                    <a:lnTo>
                      <a:pt x="9" y="30"/>
                    </a:lnTo>
                    <a:lnTo>
                      <a:pt x="18" y="27"/>
                    </a:lnTo>
                    <a:lnTo>
                      <a:pt x="26" y="25"/>
                    </a:lnTo>
                    <a:lnTo>
                      <a:pt x="30" y="21"/>
                    </a:lnTo>
                    <a:lnTo>
                      <a:pt x="32" y="16"/>
                    </a:lnTo>
                    <a:lnTo>
                      <a:pt x="32" y="9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3" y="21"/>
                    </a:lnTo>
                    <a:lnTo>
                      <a:pt x="8" y="25"/>
                    </a:lnTo>
                    <a:lnTo>
                      <a:pt x="14" y="27"/>
                    </a:lnTo>
                    <a:lnTo>
                      <a:pt x="23" y="30"/>
                    </a:lnTo>
                    <a:lnTo>
                      <a:pt x="27" y="31"/>
                    </a:lnTo>
                    <a:lnTo>
                      <a:pt x="30" y="36"/>
                    </a:lnTo>
                    <a:lnTo>
                      <a:pt x="30" y="40"/>
                    </a:lnTo>
                    <a:lnTo>
                      <a:pt x="27" y="45"/>
                    </a:lnTo>
                    <a:lnTo>
                      <a:pt x="21" y="48"/>
                    </a:lnTo>
                    <a:lnTo>
                      <a:pt x="12" y="48"/>
                    </a:lnTo>
                    <a:lnTo>
                      <a:pt x="13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H="1">
                <a:off x="8631360" y="3020760"/>
                <a:ext cx="144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8632800" y="3020760"/>
                <a:ext cx="4140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8632800" y="3052440"/>
                <a:ext cx="255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8632800" y="3089160"/>
                <a:ext cx="4140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8694720" y="3058920"/>
                <a:ext cx="572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V="1">
                <a:off x="8775720" y="3020760"/>
                <a:ext cx="44280" cy="6840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4" y="48"/>
                    </a:moveTo>
                    <a:lnTo>
                      <a:pt x="6" y="45"/>
                    </a:lnTo>
                    <a:lnTo>
                      <a:pt x="1" y="3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1" y="9"/>
                    </a:lnTo>
                    <a:lnTo>
                      <a:pt x="6" y="3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4" y="3"/>
                    </a:lnTo>
                    <a:lnTo>
                      <a:pt x="28" y="9"/>
                    </a:lnTo>
                    <a:lnTo>
                      <a:pt x="31" y="21"/>
                    </a:lnTo>
                    <a:lnTo>
                      <a:pt x="31" y="27"/>
                    </a:lnTo>
                    <a:lnTo>
                      <a:pt x="28" y="39"/>
                    </a:lnTo>
                    <a:lnTo>
                      <a:pt x="24" y="45"/>
                    </a:lnTo>
                    <a:lnTo>
                      <a:pt x="18" y="48"/>
                    </a:lnTo>
                    <a:lnTo>
                      <a:pt x="13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8840880" y="3020760"/>
                <a:ext cx="44280" cy="6840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5" y="48"/>
                    </a:moveTo>
                    <a:lnTo>
                      <a:pt x="28" y="48"/>
                    </a:lnTo>
                    <a:lnTo>
                      <a:pt x="15" y="30"/>
                    </a:lnTo>
                    <a:lnTo>
                      <a:pt x="22" y="30"/>
                    </a:lnTo>
                    <a:lnTo>
                      <a:pt x="27" y="27"/>
                    </a:lnTo>
                    <a:lnTo>
                      <a:pt x="28" y="25"/>
                    </a:lnTo>
                    <a:lnTo>
                      <a:pt x="31" y="18"/>
                    </a:lnTo>
                    <a:lnTo>
                      <a:pt x="31" y="13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4" y="3"/>
                    </a:lnTo>
                    <a:lnTo>
                      <a:pt x="1" y="4"/>
                    </a:lnTo>
                    <a:lnTo>
                      <a:pt x="0" y="9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>
                <a:off x="5178600" y="1550880"/>
                <a:ext cx="1440" cy="1443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5095800" y="1599120"/>
                <a:ext cx="82800" cy="95400"/>
              </a:xfrm>
              <a:custGeom>
                <a:avLst/>
                <a:gdLst/>
                <a:ahLst/>
                <a:rect l="l" t="t" r="r" b="b"/>
                <a:pathLst>
                  <a:path w="58" h="67">
                    <a:moveTo>
                      <a:pt x="58" y="54"/>
                    </a:moveTo>
                    <a:lnTo>
                      <a:pt x="48" y="63"/>
                    </a:lnTo>
                    <a:lnTo>
                      <a:pt x="38" y="67"/>
                    </a:lnTo>
                    <a:lnTo>
                      <a:pt x="24" y="67"/>
                    </a:lnTo>
                    <a:lnTo>
                      <a:pt x="14" y="63"/>
                    </a:lnTo>
                    <a:lnTo>
                      <a:pt x="5" y="54"/>
                    </a:lnTo>
                    <a:lnTo>
                      <a:pt x="0" y="39"/>
                    </a:lnTo>
                    <a:lnTo>
                      <a:pt x="0" y="28"/>
                    </a:lnTo>
                    <a:lnTo>
                      <a:pt x="5" y="15"/>
                    </a:lnTo>
                    <a:lnTo>
                      <a:pt x="14" y="4"/>
                    </a:lnTo>
                    <a:lnTo>
                      <a:pt x="24" y="0"/>
                    </a:lnTo>
                    <a:lnTo>
                      <a:pt x="38" y="0"/>
                    </a:lnTo>
                    <a:lnTo>
                      <a:pt x="48" y="4"/>
                    </a:lnTo>
                    <a:lnTo>
                      <a:pt x="57" y="1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5234040" y="1550880"/>
                <a:ext cx="1440" cy="1443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235480" y="1550880"/>
                <a:ext cx="96840" cy="1443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>
                <a:off x="5331960" y="1550880"/>
                <a:ext cx="1800" cy="1443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H="1">
                <a:off x="5373720" y="1523880"/>
                <a:ext cx="123840" cy="2221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618160" y="1550880"/>
                <a:ext cx="1440" cy="1443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V="1">
                <a:off x="5533920" y="1599120"/>
                <a:ext cx="84240" cy="95400"/>
              </a:xfrm>
              <a:custGeom>
                <a:avLst/>
                <a:gdLst/>
                <a:ahLst/>
                <a:rect l="l" t="t" r="r" b="b"/>
                <a:pathLst>
                  <a:path w="59" h="67">
                    <a:moveTo>
                      <a:pt x="59" y="54"/>
                    </a:moveTo>
                    <a:lnTo>
                      <a:pt x="48" y="63"/>
                    </a:lnTo>
                    <a:lnTo>
                      <a:pt x="39" y="67"/>
                    </a:lnTo>
                    <a:lnTo>
                      <a:pt x="24" y="67"/>
                    </a:lnTo>
                    <a:lnTo>
                      <a:pt x="14" y="63"/>
                    </a:lnTo>
                    <a:lnTo>
                      <a:pt x="5" y="54"/>
                    </a:lnTo>
                    <a:lnTo>
                      <a:pt x="0" y="39"/>
                    </a:lnTo>
                    <a:lnTo>
                      <a:pt x="0" y="28"/>
                    </a:lnTo>
                    <a:lnTo>
                      <a:pt x="5" y="15"/>
                    </a:lnTo>
                    <a:lnTo>
                      <a:pt x="14" y="4"/>
                    </a:lnTo>
                    <a:lnTo>
                      <a:pt x="24" y="0"/>
                    </a:lnTo>
                    <a:lnTo>
                      <a:pt x="39" y="0"/>
                    </a:lnTo>
                    <a:lnTo>
                      <a:pt x="48" y="4"/>
                    </a:lnTo>
                    <a:lnTo>
                      <a:pt x="59" y="1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H="1">
                <a:off x="5698800" y="1599840"/>
                <a:ext cx="20520" cy="95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V="1">
                <a:off x="5659560" y="1599120"/>
                <a:ext cx="109440" cy="19080"/>
              </a:xfrm>
              <a:custGeom>
                <a:avLst/>
                <a:gdLst/>
                <a:ahLst/>
                <a:rect l="l" t="t" r="r" b="b"/>
                <a:pathLst>
                  <a:path w="77" h="13">
                    <a:moveTo>
                      <a:pt x="0" y="0"/>
                    </a:moveTo>
                    <a:lnTo>
                      <a:pt x="8" y="9"/>
                    </a:lnTo>
                    <a:lnTo>
                      <a:pt x="23" y="13"/>
                    </a:lnTo>
                    <a:lnTo>
                      <a:pt x="77" y="13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8523360" y="5886360"/>
                <a:ext cx="17280" cy="81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V="1">
                <a:off x="8488440" y="5886360"/>
                <a:ext cx="92160" cy="1728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0" y="0"/>
                    </a:moveTo>
                    <a:lnTo>
                      <a:pt x="7" y="8"/>
                    </a:lnTo>
                    <a:lnTo>
                      <a:pt x="19" y="12"/>
                    </a:lnTo>
                    <a:lnTo>
                      <a:pt x="64" y="1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V="1">
                <a:off x="8615520" y="5821200"/>
                <a:ext cx="41040" cy="185760"/>
              </a:xfrm>
              <a:custGeom>
                <a:avLst/>
                <a:gdLst/>
                <a:ahLst/>
                <a:rect l="l" t="t" r="r" b="b"/>
                <a:pathLst>
                  <a:path w="29" h="130">
                    <a:moveTo>
                      <a:pt x="29" y="130"/>
                    </a:moveTo>
                    <a:lnTo>
                      <a:pt x="21" y="121"/>
                    </a:lnTo>
                    <a:lnTo>
                      <a:pt x="12" y="109"/>
                    </a:lnTo>
                    <a:lnTo>
                      <a:pt x="5" y="94"/>
                    </a:lnTo>
                    <a:lnTo>
                      <a:pt x="0" y="73"/>
                    </a:lnTo>
                    <a:lnTo>
                      <a:pt x="0" y="57"/>
                    </a:lnTo>
                    <a:lnTo>
                      <a:pt x="5" y="37"/>
                    </a:lnTo>
                    <a:lnTo>
                      <a:pt x="12" y="21"/>
                    </a:lnTo>
                    <a:lnTo>
                      <a:pt x="21" y="9"/>
                    </a:lnTo>
                    <a:lnTo>
                      <a:pt x="29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H="1">
                <a:off x="8695800" y="5886360"/>
                <a:ext cx="1800" cy="81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V="1">
                <a:off x="8697960" y="5885640"/>
                <a:ext cx="61920" cy="8100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41"/>
                    </a:moveTo>
                    <a:lnTo>
                      <a:pt x="11" y="53"/>
                    </a:lnTo>
                    <a:lnTo>
                      <a:pt x="20" y="57"/>
                    </a:lnTo>
                    <a:lnTo>
                      <a:pt x="32" y="57"/>
                    </a:lnTo>
                    <a:lnTo>
                      <a:pt x="40" y="53"/>
                    </a:lnTo>
                    <a:lnTo>
                      <a:pt x="44" y="41"/>
                    </a:lnTo>
                    <a:lnTo>
                      <a:pt x="44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V="1">
                <a:off x="8802720" y="5885640"/>
                <a:ext cx="61920" cy="8100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44" y="45"/>
                    </a:moveTo>
                    <a:lnTo>
                      <a:pt x="40" y="53"/>
                    </a:lnTo>
                    <a:lnTo>
                      <a:pt x="28" y="57"/>
                    </a:lnTo>
                    <a:lnTo>
                      <a:pt x="15" y="57"/>
                    </a:lnTo>
                    <a:lnTo>
                      <a:pt x="3" y="53"/>
                    </a:lnTo>
                    <a:lnTo>
                      <a:pt x="0" y="45"/>
                    </a:lnTo>
                    <a:lnTo>
                      <a:pt x="3" y="38"/>
                    </a:lnTo>
                    <a:lnTo>
                      <a:pt x="12" y="33"/>
                    </a:lnTo>
                    <a:lnTo>
                      <a:pt x="31" y="29"/>
                    </a:lnTo>
                    <a:lnTo>
                      <a:pt x="40" y="26"/>
                    </a:lnTo>
                    <a:lnTo>
                      <a:pt x="43" y="17"/>
                    </a:lnTo>
                    <a:lnTo>
                      <a:pt x="43" y="12"/>
                    </a:lnTo>
                    <a:lnTo>
                      <a:pt x="40" y="5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3" y="5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8901000" y="5821200"/>
                <a:ext cx="38160" cy="185760"/>
              </a:xfrm>
              <a:custGeom>
                <a:avLst/>
                <a:gdLst/>
                <a:ahLst/>
                <a:rect l="l" t="t" r="r" b="b"/>
                <a:pathLst>
                  <a:path w="27" h="130">
                    <a:moveTo>
                      <a:pt x="0" y="130"/>
                    </a:moveTo>
                    <a:lnTo>
                      <a:pt x="7" y="121"/>
                    </a:lnTo>
                    <a:lnTo>
                      <a:pt x="15" y="109"/>
                    </a:lnTo>
                    <a:lnTo>
                      <a:pt x="24" y="94"/>
                    </a:lnTo>
                    <a:lnTo>
                      <a:pt x="27" y="73"/>
                    </a:lnTo>
                    <a:lnTo>
                      <a:pt x="27" y="57"/>
                    </a:lnTo>
                    <a:lnTo>
                      <a:pt x="24" y="37"/>
                    </a:lnTo>
                    <a:lnTo>
                      <a:pt x="15" y="21"/>
                    </a:lnTo>
                    <a:lnTo>
                      <a:pt x="7" y="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5075280" y="1762560"/>
                <a:ext cx="3886200" cy="3886200"/>
              </a:xfrm>
              <a:custGeom>
                <a:avLst/>
                <a:gdLst/>
                <a:ahLst/>
                <a:rect l="l" t="t" r="r" b="b"/>
                <a:pathLst>
                  <a:path w="2721" h="2721">
                    <a:moveTo>
                      <a:pt x="1" y="0"/>
                    </a:moveTo>
                    <a:lnTo>
                      <a:pt x="0" y="2721"/>
                    </a:lnTo>
                    <a:lnTo>
                      <a:pt x="2721" y="2721"/>
                    </a:lnTo>
                    <a:lnTo>
                      <a:pt x="2721" y="0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076720" y="56498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08464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092560" y="5649840"/>
                <a:ext cx="111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10372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11164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12136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132520" y="56498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14044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14980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15952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16744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17680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187960" y="56498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19588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20524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21496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22288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23224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243400" y="56498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25132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26104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27040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27832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28804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295960" y="5649840"/>
                <a:ext cx="111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30712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316480" y="56498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32440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33412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34348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H="1" flipV="1">
                <a:off x="5362560" y="5633640"/>
                <a:ext cx="1440" cy="4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flipV="1">
                <a:off x="5362560" y="5628600"/>
                <a:ext cx="1440" cy="3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351400" y="563400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362560" y="56340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362560" y="56340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 flipV="1">
                <a:off x="5378040" y="5333760"/>
                <a:ext cx="180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H="1" flipV="1">
                <a:off x="5378040" y="5308200"/>
                <a:ext cx="1800" cy="21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372280" y="533376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381640" y="533376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80200" y="53337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V="1">
                <a:off x="5398920" y="4390920"/>
                <a:ext cx="1800" cy="56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5398920" y="4333320"/>
                <a:ext cx="1800" cy="57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391000" y="4390920"/>
                <a:ext cx="50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402160" y="4390920"/>
                <a:ext cx="50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398920" y="43909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H="1" flipV="1">
                <a:off x="5417640" y="3735000"/>
                <a:ext cx="1800" cy="58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 flipV="1">
                <a:off x="5417640" y="3676320"/>
                <a:ext cx="1800" cy="59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407200" y="373536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9800" y="373536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419800" y="37353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H="1" flipV="1">
                <a:off x="5433480" y="2817720"/>
                <a:ext cx="1800" cy="64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H="1" flipV="1">
                <a:off x="5433480" y="2746080"/>
                <a:ext cx="180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427720" y="281448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437080" y="281448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435640" y="28144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V="1">
                <a:off x="5454720" y="2469960"/>
                <a:ext cx="1440" cy="61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5454720" y="2403360"/>
                <a:ext cx="1440" cy="61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446800" y="2466720"/>
                <a:ext cx="46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454720" y="24667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454720" y="24667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H="1" flipV="1">
                <a:off x="5473800" y="2355480"/>
                <a:ext cx="1440" cy="59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H="1" flipV="1">
                <a:off x="5473800" y="2295000"/>
                <a:ext cx="1440" cy="58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462640" y="235548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475240" y="235548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475240" y="235548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H="1" flipV="1">
                <a:off x="5490720" y="2285280"/>
                <a:ext cx="1800" cy="55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 flipV="1">
                <a:off x="5490720" y="2226600"/>
                <a:ext cx="1800" cy="55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483160" y="228564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492880" y="228564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491080" y="228564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V="1">
                <a:off x="5510160" y="2207880"/>
                <a:ext cx="1800" cy="54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5510160" y="2151000"/>
                <a:ext cx="1800" cy="55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502240" y="220644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510160" y="22064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510160" y="220644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V="1">
                <a:off x="5527800" y="2209320"/>
                <a:ext cx="1440" cy="52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flipV="1">
                <a:off x="5527800" y="2153880"/>
                <a:ext cx="1440" cy="54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519880" y="22078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530680" y="220788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527800" y="22078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 flipV="1">
                <a:off x="5546880" y="2302920"/>
                <a:ext cx="1440" cy="50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 flipV="1">
                <a:off x="5546880" y="2248920"/>
                <a:ext cx="1440" cy="50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538960" y="230004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548320" y="230004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548320" y="230004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5565600" y="2439720"/>
                <a:ext cx="1800" cy="47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V="1">
                <a:off x="5565600" y="2388960"/>
                <a:ext cx="1800" cy="47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556240" y="243648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565600" y="243648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565600" y="243648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V="1">
                <a:off x="5583240" y="2444040"/>
                <a:ext cx="1440" cy="47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V="1">
                <a:off x="5583240" y="2393640"/>
                <a:ext cx="1440" cy="46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575320" y="24415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5586480" y="244152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5583240" y="24415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 flipV="1">
                <a:off x="5602320" y="2530440"/>
                <a:ext cx="1440" cy="47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H="1" flipV="1">
                <a:off x="5602320" y="2478960"/>
                <a:ext cx="1440" cy="47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594400" y="25272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605560" y="252720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603760" y="25272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5621400" y="2620800"/>
                <a:ext cx="1440" cy="46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V="1">
                <a:off x="5621400" y="2572920"/>
                <a:ext cx="1440" cy="44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611680" y="26208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621400" y="262080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621400" y="26208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V="1">
                <a:off x="5638680" y="2666520"/>
                <a:ext cx="1800" cy="44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5638680" y="2620440"/>
                <a:ext cx="1800" cy="44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5630760" y="26668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5641920" y="266688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5638680" y="26668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H="1" flipV="1">
                <a:off x="5657400" y="2774520"/>
                <a:ext cx="1800" cy="44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H="1" flipV="1">
                <a:off x="5657400" y="2728440"/>
                <a:ext cx="1800" cy="4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649840" y="277488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661000" y="277488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659560" y="27748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5676840" y="2779200"/>
                <a:ext cx="1800" cy="4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5676840" y="2731680"/>
                <a:ext cx="1800" cy="4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667480" y="27763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676840" y="277632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676840" y="27763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5694480" y="2880720"/>
                <a:ext cx="1440" cy="4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V="1">
                <a:off x="5694480" y="2836440"/>
                <a:ext cx="1440" cy="4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686560" y="28796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697360" y="2879640"/>
                <a:ext cx="8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694480" y="28796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H="1" flipV="1">
                <a:off x="5713560" y="2960280"/>
                <a:ext cx="1440" cy="4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H="1" flipV="1">
                <a:off x="5713560" y="2917080"/>
                <a:ext cx="1440" cy="41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705640" y="29606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715000" y="29606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715000" y="29606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5734080" y="3058560"/>
                <a:ext cx="1440" cy="41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5734080" y="3015720"/>
                <a:ext cx="1440" cy="41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722920" y="30574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734080" y="30574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734080" y="30574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V="1">
                <a:off x="5749920" y="3094920"/>
                <a:ext cx="1440" cy="41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5749920" y="3052080"/>
                <a:ext cx="1440" cy="41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5742000" y="3093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5753160" y="30938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5749920" y="30938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H="1" flipV="1">
                <a:off x="5769000" y="3082680"/>
                <a:ext cx="144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H="1" flipV="1">
                <a:off x="5769000" y="3039840"/>
                <a:ext cx="144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759280" y="3082680"/>
                <a:ext cx="82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5770440" y="308268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770440" y="308268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 flipV="1">
                <a:off x="5785920" y="3160440"/>
                <a:ext cx="180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 flipV="1">
                <a:off x="5785920" y="3117600"/>
                <a:ext cx="180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778360" y="31572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"/>
            <p:cNvGrpSpPr/>
            <p:nvPr/>
          </p:nvGrpSpPr>
          <p:grpSpPr>
            <a:xfrm>
              <a:off x="5788080" y="3157200"/>
              <a:ext cx="741240" cy="1576440"/>
              <a:chOff x="5788080" y="3157200"/>
              <a:chExt cx="741240" cy="1576440"/>
            </a:xfrm>
          </p:grpSpPr>
          <p:sp>
            <p:nvSpPr>
              <p:cNvPr id="2185" name=""/>
              <p:cNvSpPr/>
              <p:nvPr/>
            </p:nvSpPr>
            <p:spPr>
              <a:xfrm>
                <a:off x="5789520" y="31572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788080" y="315720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5805360" y="3246120"/>
                <a:ext cx="1800" cy="38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V="1">
                <a:off x="5805360" y="3203280"/>
                <a:ext cx="180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797440" y="32428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808600" y="324288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805360" y="324288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H="1" flipV="1">
                <a:off x="5824080" y="3207600"/>
                <a:ext cx="1800" cy="39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flipH="1" flipV="1">
                <a:off x="5824080" y="3164760"/>
                <a:ext cx="1800" cy="39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815080" y="32050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826240" y="32050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826240" y="32050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H="1" flipV="1">
                <a:off x="5842080" y="3251160"/>
                <a:ext cx="144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H="1" flipV="1">
                <a:off x="5842080" y="3207600"/>
                <a:ext cx="1440" cy="39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834160" y="32493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845320" y="32493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843520" y="324936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5862600" y="3377520"/>
                <a:ext cx="1800" cy="39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V="1">
                <a:off x="5862600" y="3336840"/>
                <a:ext cx="180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853240" y="337788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864400" y="337788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62600" y="337788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H="1" flipV="1">
                <a:off x="5880240" y="3470040"/>
                <a:ext cx="1440" cy="38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H="1" flipV="1">
                <a:off x="5880240" y="3430440"/>
                <a:ext cx="1440" cy="38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870520" y="34686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881680" y="34686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881680" y="34686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H="1" flipV="1">
                <a:off x="5897160" y="3492360"/>
                <a:ext cx="1800" cy="38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H="1" flipV="1">
                <a:off x="5897160" y="3450960"/>
                <a:ext cx="180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891040" y="349056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900760" y="34905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99320" y="34905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V="1">
                <a:off x="5918040" y="3500280"/>
                <a:ext cx="1800" cy="38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5918040" y="3460320"/>
                <a:ext cx="1800" cy="37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08680" y="349848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18040" y="34984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918040" y="349848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H="1" flipV="1">
                <a:off x="5935680" y="3646080"/>
                <a:ext cx="1440" cy="363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 flipV="1">
                <a:off x="5935680" y="3606480"/>
                <a:ext cx="1440" cy="38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925960" y="3646440"/>
                <a:ext cx="8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937120" y="36464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937120" y="364644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H="1" flipV="1">
                <a:off x="5952600" y="3581280"/>
                <a:ext cx="1800" cy="39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H="1" flipV="1">
                <a:off x="5952600" y="3542760"/>
                <a:ext cx="1800" cy="363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946840" y="358128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956200" y="35812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954760" y="35812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V="1">
                <a:off x="5973840" y="36871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V="1">
                <a:off x="5973840" y="364896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964120" y="368748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973840" y="36874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973840" y="36874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V="1">
                <a:off x="5991120" y="3697200"/>
                <a:ext cx="1800" cy="38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 flipV="1">
                <a:off x="5991120" y="3658680"/>
                <a:ext cx="1800" cy="363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5981760" y="369720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5992920" y="36972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5991120" y="36972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flipH="1" flipV="1">
                <a:off x="6008760" y="3769920"/>
                <a:ext cx="1440" cy="363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H="1" flipV="1">
                <a:off x="6008760" y="3735360"/>
                <a:ext cx="1440" cy="331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002280" y="377028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012000" y="377028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6010200" y="37702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flipV="1">
                <a:off x="6029280" y="3821040"/>
                <a:ext cx="1800" cy="331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flipV="1">
                <a:off x="6029280" y="3781080"/>
                <a:ext cx="1800" cy="367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6019920" y="381780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029280" y="38178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029280" y="38178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V="1">
                <a:off x="6046920" y="384264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V="1">
                <a:off x="6046920" y="3805200"/>
                <a:ext cx="1440" cy="331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6037200" y="384156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6048360" y="38415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046920" y="38415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 flipV="1">
                <a:off x="6063840" y="4006800"/>
                <a:ext cx="180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H="1" flipV="1">
                <a:off x="6063840" y="396972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058080" y="4005000"/>
                <a:ext cx="46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067440" y="400500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066000" y="400500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V="1">
                <a:off x="6084720" y="3931560"/>
                <a:ext cx="1800" cy="33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6084720" y="389340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075360" y="392868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084720" y="3928680"/>
                <a:ext cx="82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084720" y="392868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V="1">
                <a:off x="6102360" y="3995640"/>
                <a:ext cx="144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V="1">
                <a:off x="6102360" y="3958560"/>
                <a:ext cx="1440" cy="33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093000" y="399240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105600" y="399240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6102360" y="39924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 flipV="1">
                <a:off x="6119280" y="4093920"/>
                <a:ext cx="180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H="1" flipV="1">
                <a:off x="6119280" y="4060080"/>
                <a:ext cx="1800" cy="32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113520" y="409248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122880" y="409248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121440" y="40924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V="1">
                <a:off x="6140520" y="4111560"/>
                <a:ext cx="144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V="1">
                <a:off x="6140520" y="4078080"/>
                <a:ext cx="1440" cy="30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130800" y="41115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6140520" y="41115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140520" y="41115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6157800" y="4108320"/>
                <a:ext cx="1800" cy="331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6157800" y="4074840"/>
                <a:ext cx="180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6148440" y="410832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161040" y="410832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6157800" y="41083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H="1" flipV="1">
                <a:off x="6176520" y="4171680"/>
                <a:ext cx="180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H="1" flipV="1">
                <a:off x="6176520" y="4136760"/>
                <a:ext cx="180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168960" y="416844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176880" y="416844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6176880" y="416844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V="1">
                <a:off x="6195960" y="4163760"/>
                <a:ext cx="1800" cy="30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flipV="1">
                <a:off x="6195960" y="4128840"/>
                <a:ext cx="180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186600" y="416052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195960" y="41605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195960" y="416052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flipV="1">
                <a:off x="6213600" y="4214520"/>
                <a:ext cx="144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V="1">
                <a:off x="6213600" y="4179600"/>
                <a:ext cx="144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205680" y="42145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216480" y="4214520"/>
                <a:ext cx="504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213600" y="42145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 flipV="1">
                <a:off x="6232680" y="4278240"/>
                <a:ext cx="1440" cy="31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H="1" flipV="1">
                <a:off x="6232680" y="4246200"/>
                <a:ext cx="1440" cy="30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221520" y="42782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234120" y="42782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234120" y="42782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flipH="1" flipV="1">
                <a:off x="6248520" y="4275000"/>
                <a:ext cx="1440" cy="30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H="1" flipV="1">
                <a:off x="6248520" y="4241520"/>
                <a:ext cx="1440" cy="30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242040" y="42750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251400" y="427500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249960" y="42750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6269040" y="4319280"/>
                <a:ext cx="1440" cy="28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V="1">
                <a:off x="6269040" y="4287600"/>
                <a:ext cx="1440" cy="30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261120" y="4317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272280" y="431784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269040" y="43178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H="1" flipV="1">
                <a:off x="6288120" y="4382640"/>
                <a:ext cx="144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H="1" flipV="1">
                <a:off x="6288120" y="4350600"/>
                <a:ext cx="144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276960" y="438120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289560" y="438120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6289560" y="438120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 flipV="1">
                <a:off x="6305040" y="4387320"/>
                <a:ext cx="180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 flipV="1">
                <a:off x="6305040" y="4355640"/>
                <a:ext cx="180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297480" y="43858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307200" y="438588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305400" y="438588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flipV="1">
                <a:off x="6324480" y="4496760"/>
                <a:ext cx="180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V="1">
                <a:off x="6324480" y="4466520"/>
                <a:ext cx="180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316560" y="4493880"/>
                <a:ext cx="504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327720" y="449388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324480" y="449388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 flipH="1" flipV="1">
                <a:off x="6343200" y="4468320"/>
                <a:ext cx="180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H="1" flipV="1">
                <a:off x="6343200" y="4438080"/>
                <a:ext cx="180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334200" y="44686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345360" y="446868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345360" y="44686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 flipV="1">
                <a:off x="6361200" y="4515840"/>
                <a:ext cx="144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 flipV="1">
                <a:off x="6361200" y="4485960"/>
                <a:ext cx="1440" cy="28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6353280" y="45147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362640" y="451476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362640" y="451476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6380280" y="4561920"/>
                <a:ext cx="144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V="1">
                <a:off x="6380280" y="4533480"/>
                <a:ext cx="144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372360" y="456228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6380280" y="456228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380280" y="45622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H="1" flipV="1">
                <a:off x="6399360" y="4544280"/>
                <a:ext cx="144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H="1" flipV="1">
                <a:off x="6399360" y="4514400"/>
                <a:ext cx="144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389640" y="454464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400800" y="454464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400800" y="454464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 flipV="1">
                <a:off x="6416280" y="4561920"/>
                <a:ext cx="180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H="1" flipV="1">
                <a:off x="6416280" y="4533480"/>
                <a:ext cx="180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6408720" y="45622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419880" y="45622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6418440" y="45622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 flipV="1">
                <a:off x="6435720" y="4604760"/>
                <a:ext cx="144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V="1">
                <a:off x="6435720" y="4576320"/>
                <a:ext cx="144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427800" y="460512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435720" y="460512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6435720" y="46051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V="1">
                <a:off x="6453360" y="4674600"/>
                <a:ext cx="144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V="1">
                <a:off x="6453360" y="4647600"/>
                <a:ext cx="144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6445080" y="4674960"/>
                <a:ext cx="8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456240" y="46749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6453360" y="46749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 flipV="1">
                <a:off x="6471720" y="4630320"/>
                <a:ext cx="180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flipH="1" flipV="1">
                <a:off x="6471720" y="4601520"/>
                <a:ext cx="180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464160" y="46306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475320" y="463068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473880" y="46306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flipV="1">
                <a:off x="6491160" y="4698360"/>
                <a:ext cx="180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V="1">
                <a:off x="6491160" y="4670280"/>
                <a:ext cx="1800" cy="25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481800" y="46987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491160" y="46987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491160" y="469872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V="1">
                <a:off x="6508800" y="4663440"/>
                <a:ext cx="144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V="1">
                <a:off x="6508800" y="4635000"/>
                <a:ext cx="144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6500880" y="46638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6512040" y="46638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6508800" y="466380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 flipV="1">
                <a:off x="6527880" y="4708440"/>
                <a:ext cx="1440" cy="25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flipV="1">
                <a:off x="6527880" y="4681440"/>
                <a:ext cx="1440" cy="25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519960" y="47084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5" name=""/>
            <p:cNvGrpSpPr/>
            <p:nvPr/>
          </p:nvGrpSpPr>
          <p:grpSpPr>
            <a:xfrm>
              <a:off x="6529320" y="4708440"/>
              <a:ext cx="741240" cy="652320"/>
              <a:chOff x="6529320" y="4708440"/>
              <a:chExt cx="741240" cy="652320"/>
            </a:xfrm>
          </p:grpSpPr>
          <p:sp>
            <p:nvSpPr>
              <p:cNvPr id="2386" name=""/>
              <p:cNvSpPr/>
              <p:nvPr/>
            </p:nvSpPr>
            <p:spPr>
              <a:xfrm>
                <a:off x="6531120" y="470844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529320" y="470844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V="1">
                <a:off x="6548400" y="4768560"/>
                <a:ext cx="180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V="1">
                <a:off x="6548400" y="4741200"/>
                <a:ext cx="180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537240" y="47671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548400" y="47671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548400" y="47671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V="1">
                <a:off x="6564240" y="4776120"/>
                <a:ext cx="180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V="1">
                <a:off x="6564240" y="4749480"/>
                <a:ext cx="180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556320" y="47764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567480" y="47764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564240" y="477648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H="1" flipV="1">
                <a:off x="6582960" y="4848120"/>
                <a:ext cx="180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H="1" flipV="1">
                <a:off x="6582960" y="4822560"/>
                <a:ext cx="180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576840" y="4846320"/>
                <a:ext cx="504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586560" y="4846320"/>
                <a:ext cx="46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585120" y="48463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6603840" y="4871880"/>
                <a:ext cx="180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6603840" y="4846320"/>
                <a:ext cx="180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593040" y="48718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603840" y="48718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603840" y="48718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V="1">
                <a:off x="6620040" y="4846320"/>
                <a:ext cx="144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V="1">
                <a:off x="6620040" y="4818960"/>
                <a:ext cx="144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611760" y="4846320"/>
                <a:ext cx="82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622920" y="48463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620040" y="48463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H="1" flipV="1">
                <a:off x="6638400" y="4867200"/>
                <a:ext cx="180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flipH="1" flipV="1">
                <a:off x="6638400" y="4841640"/>
                <a:ext cx="180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632640" y="486720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6640560" y="48672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6640560" y="48672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V="1">
                <a:off x="6659640" y="493020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V="1">
                <a:off x="6659640" y="4905000"/>
                <a:ext cx="144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648480" y="49273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659640" y="49273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659640" y="49273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6676920" y="4904640"/>
                <a:ext cx="180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6676920" y="4879800"/>
                <a:ext cx="1800" cy="25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667560" y="490500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678720" y="490500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6676920" y="490500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H="1" flipV="1">
                <a:off x="6694560" y="494460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H="1" flipV="1">
                <a:off x="6694560" y="4920840"/>
                <a:ext cx="1440" cy="21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6684840" y="49431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6696000" y="49431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6696000" y="494316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H="1" flipV="1">
                <a:off x="6711480" y="4947840"/>
                <a:ext cx="1800" cy="21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H="1" flipV="1">
                <a:off x="6711480" y="4922280"/>
                <a:ext cx="180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6705720" y="494820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6715080" y="49482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6713640" y="49482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732720" y="495720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732720" y="4931640"/>
                <a:ext cx="1440" cy="241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6723000" y="495612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734160" y="495612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732720" y="49561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H="1" flipV="1">
                <a:off x="6749640" y="504936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H="1" flipV="1">
                <a:off x="6749640" y="5025600"/>
                <a:ext cx="1800" cy="21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6740640" y="50479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6751800" y="50479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6751800" y="50479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H="1" flipV="1">
                <a:off x="6767640" y="5008320"/>
                <a:ext cx="144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H="1" flipV="1">
                <a:off x="6767640" y="4987440"/>
                <a:ext cx="144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6761160" y="50083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770520" y="5008320"/>
                <a:ext cx="82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6769080" y="50083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788160" y="5055840"/>
                <a:ext cx="1440" cy="20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88160" y="503352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778800" y="505440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6789600" y="50544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788160" y="50544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H="1" flipV="1">
                <a:off x="6805080" y="5038200"/>
                <a:ext cx="180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H="1" flipV="1">
                <a:off x="6805080" y="5015880"/>
                <a:ext cx="180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796080" y="50367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6807240" y="50367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807240" y="50367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H="1" flipV="1">
                <a:off x="6823080" y="507636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H="1" flipV="1">
                <a:off x="6823080" y="5054400"/>
                <a:ext cx="144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816600" y="507672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826320" y="50767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824520" y="50767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6843600" y="5054400"/>
                <a:ext cx="180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6843600" y="5030280"/>
                <a:ext cx="180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834240" y="505440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843600" y="50544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843600" y="50544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 flipV="1">
                <a:off x="6861240" y="5103360"/>
                <a:ext cx="144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H="1" flipV="1">
                <a:off x="6861240" y="5079600"/>
                <a:ext cx="1440" cy="21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851520" y="51019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862680" y="51019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6862680" y="510192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 flipV="1">
                <a:off x="6878160" y="5090760"/>
                <a:ext cx="1800" cy="20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 flipV="1">
                <a:off x="6878160" y="5068440"/>
                <a:ext cx="180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872400" y="509076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881760" y="50907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880320" y="50907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V="1">
                <a:off x="6899400" y="5119560"/>
                <a:ext cx="144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6899400" y="5096880"/>
                <a:ext cx="144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889680" y="511632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899400" y="51163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899400" y="51163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6916680" y="513504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V="1">
                <a:off x="6916680" y="5114880"/>
                <a:ext cx="1800" cy="187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907320" y="513540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918480" y="51354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916680" y="51354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 flipV="1">
                <a:off x="6934320" y="514152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 flipV="1">
                <a:off x="6934320" y="511920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927840" y="514188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937200" y="514188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935760" y="51418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V="1">
                <a:off x="6954840" y="514152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V="1">
                <a:off x="6954840" y="511920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45480" y="514008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54840" y="51400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954840" y="51400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V="1">
                <a:off x="6972480" y="518436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V="1">
                <a:off x="6972480" y="516204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962760" y="51829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975360" y="51829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972480" y="51829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H="1" flipV="1">
                <a:off x="6989760" y="5146200"/>
                <a:ext cx="144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H="1" flipV="1">
                <a:off x="6989760" y="5122440"/>
                <a:ext cx="1440" cy="21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83280" y="514476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514476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6991200" y="514476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V="1">
                <a:off x="7010280" y="5122440"/>
                <a:ext cx="1800" cy="21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V="1">
                <a:off x="7010280" y="5098680"/>
                <a:ext cx="1800" cy="20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000920" y="51228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010280" y="51228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010280" y="51228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7027920" y="518436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V="1">
                <a:off x="7027920" y="516204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018200" y="51829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031160" y="518292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027920" y="51829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H="1" flipV="1">
                <a:off x="7047000" y="5154480"/>
                <a:ext cx="144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H="1" flipV="1">
                <a:off x="7047000" y="513180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039080" y="515448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048440" y="515448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047000" y="51544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7066080" y="519696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7066080" y="517464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056360" y="51955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066080" y="519552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7066080" y="51955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V="1">
                <a:off x="7083360" y="518256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7083360" y="515880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7075440" y="51796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086600" y="517968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083360" y="517968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 flipV="1">
                <a:off x="7102080" y="5209560"/>
                <a:ext cx="180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H="1" flipV="1">
                <a:off x="7102080" y="518904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7094520" y="520848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104240" y="520848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7104240" y="52084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V="1">
                <a:off x="7121520" y="5219280"/>
                <a:ext cx="144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7121520" y="519696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112160" y="521784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121520" y="521784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121520" y="521784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V="1">
                <a:off x="7139160" y="5248080"/>
                <a:ext cx="144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7139160" y="5227560"/>
                <a:ext cx="144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130880" y="5248080"/>
                <a:ext cx="8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7142040" y="5248080"/>
                <a:ext cx="50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139160" y="52480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 flipV="1">
                <a:off x="7157520" y="52387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H="1" flipV="1">
                <a:off x="7157520" y="521748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147080" y="523548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7159680" y="523548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159680" y="52354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 flipV="1">
                <a:off x="7175520" y="5304960"/>
                <a:ext cx="1440" cy="14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H="1" flipV="1">
                <a:off x="7175520" y="5285880"/>
                <a:ext cx="1440" cy="14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167600" y="53035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176960" y="5303520"/>
                <a:ext cx="97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175520" y="53035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V="1">
                <a:off x="7194600" y="5303520"/>
                <a:ext cx="144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7194600" y="5283000"/>
                <a:ext cx="144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7186680" y="53002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7197840" y="5300280"/>
                <a:ext cx="61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7194600" y="53002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 flipV="1">
                <a:off x="7213680" y="5283000"/>
                <a:ext cx="144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H="1" flipV="1">
                <a:off x="7213680" y="5263560"/>
                <a:ext cx="144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7203960" y="52815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7215120" y="52815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215120" y="528156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 flipV="1">
                <a:off x="7230600" y="532116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H="1" flipV="1">
                <a:off x="7230600" y="530352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223040" y="53193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232760" y="531936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232760" y="53193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V="1">
                <a:off x="7250040" y="534348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7250040" y="532584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242120" y="534348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253280" y="534348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250040" y="53434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 flipV="1">
                <a:off x="7268760" y="533016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H="1" flipV="1">
                <a:off x="7268760" y="531108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259760" y="53290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6" name=""/>
            <p:cNvGrpSpPr/>
            <p:nvPr/>
          </p:nvGrpSpPr>
          <p:grpSpPr>
            <a:xfrm>
              <a:off x="7270920" y="5290920"/>
              <a:ext cx="739440" cy="355320"/>
              <a:chOff x="7270920" y="5290920"/>
              <a:chExt cx="739440" cy="355320"/>
            </a:xfrm>
          </p:grpSpPr>
          <p:sp>
            <p:nvSpPr>
              <p:cNvPr id="2587" name=""/>
              <p:cNvSpPr/>
              <p:nvPr/>
            </p:nvSpPr>
            <p:spPr>
              <a:xfrm>
                <a:off x="7270920" y="532908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270920" y="53290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H="1" flipV="1">
                <a:off x="7286760" y="5308200"/>
                <a:ext cx="1440" cy="205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flipH="1" flipV="1">
                <a:off x="7286760" y="5290920"/>
                <a:ext cx="144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278840" y="53085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7289640" y="53085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7288200" y="53085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7305840" y="5373360"/>
                <a:ext cx="144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 flipV="1">
                <a:off x="7305840" y="5356080"/>
                <a:ext cx="144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297560" y="537192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305840" y="537192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305840" y="53719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H="1" flipV="1">
                <a:off x="7324200" y="538632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H="1" flipV="1">
                <a:off x="7324200" y="536868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315200" y="53845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326360" y="538452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326360" y="53845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H="1" flipV="1">
                <a:off x="7342200" y="5401800"/>
                <a:ext cx="1440" cy="14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 flipH="1" flipV="1">
                <a:off x="7342200" y="5385960"/>
                <a:ext cx="144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7334280" y="54021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345440" y="54021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343640" y="540216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7361280" y="5389200"/>
                <a:ext cx="144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V="1">
                <a:off x="7361280" y="5371920"/>
                <a:ext cx="144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353360" y="538632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361280" y="538632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361280" y="53863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7378560" y="5427360"/>
                <a:ext cx="1800" cy="12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7378560" y="5409720"/>
                <a:ext cx="1800" cy="14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370640" y="5424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381800" y="542412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378560" y="542412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 flipV="1">
                <a:off x="7397280" y="538128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H="1" flipV="1">
                <a:off x="7397280" y="536184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7389720" y="537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400880" y="537984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399440" y="53798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7418520" y="5432040"/>
                <a:ext cx="1440" cy="12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7418520" y="5416200"/>
                <a:ext cx="1440" cy="12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407360" y="54291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418520" y="54291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418520" y="54291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V="1">
                <a:off x="7434360" y="5457240"/>
                <a:ext cx="144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7434360" y="5441400"/>
                <a:ext cx="144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426440" y="54576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437600" y="54576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434360" y="54576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 flipV="1">
                <a:off x="7453440" y="5403600"/>
                <a:ext cx="144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H="1" flipV="1">
                <a:off x="7453440" y="5384160"/>
                <a:ext cx="144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446960" y="540216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456320" y="5402160"/>
                <a:ext cx="50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454880" y="54021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V="1">
                <a:off x="7473960" y="5435280"/>
                <a:ext cx="144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7473960" y="5417640"/>
                <a:ext cx="1440" cy="14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462800" y="54352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473960" y="54352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473960" y="54352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V="1">
                <a:off x="7489800" y="5437080"/>
                <a:ext cx="144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7489800" y="5417640"/>
                <a:ext cx="1440" cy="14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481880" y="54352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493040" y="543528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489800" y="54352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 flipV="1">
                <a:off x="7508880" y="5440320"/>
                <a:ext cx="144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H="1" flipV="1">
                <a:off x="7508880" y="5422680"/>
                <a:ext cx="144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502400" y="5440320"/>
                <a:ext cx="50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512120" y="544032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510320" y="54403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7529400" y="5457600"/>
                <a:ext cx="180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7529400" y="5439960"/>
                <a:ext cx="180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518240" y="54543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529400" y="545436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529400" y="545436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V="1">
                <a:off x="7547040" y="5478120"/>
                <a:ext cx="1440" cy="12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547040" y="5460840"/>
                <a:ext cx="144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537320" y="54752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548480" y="54752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547040" y="54752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 flipV="1">
                <a:off x="7563960" y="5497200"/>
                <a:ext cx="1800" cy="12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H="1" flipV="1">
                <a:off x="7563960" y="5479560"/>
                <a:ext cx="180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558200" y="549576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566120" y="54957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566120" y="54957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7585200" y="5484600"/>
                <a:ext cx="144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585200" y="5465160"/>
                <a:ext cx="144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575480" y="54831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585200" y="54831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585200" y="54831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V="1">
                <a:off x="7602480" y="5517720"/>
                <a:ext cx="180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602480" y="5501880"/>
                <a:ext cx="180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593120" y="551808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604280" y="551808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602480" y="55180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 flipV="1">
                <a:off x="7620120" y="5497200"/>
                <a:ext cx="144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H="1" flipV="1">
                <a:off x="7620120" y="5478120"/>
                <a:ext cx="144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610400" y="54957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621560" y="54957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621560" y="54957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 flipV="1">
                <a:off x="7637040" y="5530320"/>
                <a:ext cx="180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H="1" flipV="1">
                <a:off x="7637040" y="5514480"/>
                <a:ext cx="180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631280" y="55274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640640" y="55274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639200" y="5527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V="1">
                <a:off x="7658280" y="5518080"/>
                <a:ext cx="144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658280" y="5500440"/>
                <a:ext cx="144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648560" y="551808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661160" y="5518080"/>
                <a:ext cx="50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658280" y="55180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 flipV="1">
                <a:off x="7675560" y="5526000"/>
                <a:ext cx="144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H="1" flipV="1">
                <a:off x="7675560" y="5504760"/>
                <a:ext cx="144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666200" y="552600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677000" y="55260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677000" y="55260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 flipV="1">
                <a:off x="7693200" y="5487840"/>
                <a:ext cx="144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H="1" flipV="1">
                <a:off x="7693200" y="5460840"/>
                <a:ext cx="144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86720" y="54846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696080" y="54846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94640" y="54846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V="1">
                <a:off x="7713720" y="5547600"/>
                <a:ext cx="144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713720" y="5530680"/>
                <a:ext cx="144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704000" y="554796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716960" y="5547960"/>
                <a:ext cx="46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55479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 flipV="1">
                <a:off x="7732800" y="5563800"/>
                <a:ext cx="1440" cy="14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H="1" flipV="1">
                <a:off x="7732800" y="5546520"/>
                <a:ext cx="1440" cy="14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21640" y="556416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732800" y="55641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32800" y="55641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 flipV="1">
                <a:off x="7748640" y="5533560"/>
                <a:ext cx="144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H="1" flipV="1">
                <a:off x="7748640" y="5504760"/>
                <a:ext cx="144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742160" y="553392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751880" y="553392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50080" y="55339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V="1">
                <a:off x="7769160" y="5532120"/>
                <a:ext cx="180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69160" y="5503320"/>
                <a:ext cx="1800" cy="27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61240" y="5530680"/>
                <a:ext cx="46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769160" y="55306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69160" y="55306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 flipV="1">
                <a:off x="7787880" y="557820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H="1" flipV="1">
                <a:off x="7787880" y="556092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777080" y="557676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790040" y="557676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790040" y="55767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 flipV="1">
                <a:off x="7803720" y="5546160"/>
                <a:ext cx="180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H="1" flipV="1">
                <a:off x="7803720" y="5514480"/>
                <a:ext cx="1800" cy="28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797960" y="554508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807320" y="554508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805880" y="55450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V="1">
                <a:off x="7824960" y="552564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824960" y="5484600"/>
                <a:ext cx="1440" cy="38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816680" y="5522760"/>
                <a:ext cx="50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824960" y="55227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824960" y="55227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V="1">
                <a:off x="7842240" y="5606640"/>
                <a:ext cx="1440" cy="12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7842240" y="5590800"/>
                <a:ext cx="1440" cy="129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832880" y="560376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845480" y="560376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842240" y="56037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 flipV="1">
                <a:off x="7861320" y="553968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H="1" flipV="1">
                <a:off x="7861320" y="55033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853400" y="55386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862760" y="55386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861320" y="55386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V="1">
                <a:off x="7880400" y="5581440"/>
                <a:ext cx="144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7880400" y="5555880"/>
                <a:ext cx="144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870680" y="55814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880400" y="55814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880400" y="5581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V="1">
                <a:off x="7897680" y="5608440"/>
                <a:ext cx="1800" cy="22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7897680" y="5586120"/>
                <a:ext cx="1800" cy="20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889760" y="56084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900920" y="56084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897680" y="560844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 flipV="1">
                <a:off x="7916400" y="5630400"/>
                <a:ext cx="1800" cy="11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H="1" flipV="1">
                <a:off x="7916400" y="5619600"/>
                <a:ext cx="1800" cy="93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908840" y="56307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918560" y="563076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918560" y="56307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V="1">
                <a:off x="7935840" y="5590440"/>
                <a:ext cx="1800" cy="255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7935840" y="5565600"/>
                <a:ext cx="1800" cy="237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926480" y="558936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935840" y="558936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935840" y="558936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V="1">
                <a:off x="7953480" y="5636520"/>
                <a:ext cx="1440" cy="97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7953480" y="5625360"/>
                <a:ext cx="1440" cy="8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945560" y="56340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956720" y="563400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953480" y="56340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 flipV="1">
                <a:off x="7972560" y="5631840"/>
                <a:ext cx="1440" cy="97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H="1" flipV="1">
                <a:off x="7972560" y="5619240"/>
                <a:ext cx="1440" cy="111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964640" y="563076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975440" y="5630760"/>
                <a:ext cx="50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7974000" y="56307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V="1">
                <a:off x="7991640" y="5634000"/>
                <a:ext cx="1440" cy="936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7991640" y="5620680"/>
                <a:ext cx="1440" cy="97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981920" y="5632200"/>
                <a:ext cx="79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991640" y="5632200"/>
                <a:ext cx="9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7991640" y="563220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V="1">
                <a:off x="8008920" y="5641560"/>
                <a:ext cx="1440" cy="4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008920" y="5631840"/>
                <a:ext cx="1440" cy="4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001000" y="563868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7" name=""/>
            <p:cNvGrpSpPr/>
            <p:nvPr/>
          </p:nvGrpSpPr>
          <p:grpSpPr>
            <a:xfrm>
              <a:off x="4673520" y="1763280"/>
              <a:ext cx="4287960" cy="3921480"/>
              <a:chOff x="4673520" y="1763280"/>
              <a:chExt cx="4287960" cy="3921480"/>
            </a:xfrm>
          </p:grpSpPr>
          <p:sp>
            <p:nvSpPr>
              <p:cNvPr id="2788" name=""/>
              <p:cNvSpPr/>
              <p:nvPr/>
            </p:nvSpPr>
            <p:spPr>
              <a:xfrm>
                <a:off x="8012160" y="563868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8008920" y="56386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 flipH="1" flipV="1">
                <a:off x="8028000" y="5620680"/>
                <a:ext cx="144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flipH="1" flipV="1">
                <a:off x="8028000" y="5603760"/>
                <a:ext cx="144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8020080" y="562104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8029440" y="5621040"/>
                <a:ext cx="64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8029440" y="562104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V="1">
                <a:off x="8047080" y="5641560"/>
                <a:ext cx="1440" cy="4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flipV="1">
                <a:off x="8047080" y="5633640"/>
                <a:ext cx="1440" cy="4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8037360" y="56419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8047080" y="564192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8047080" y="56419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V="1">
                <a:off x="8064360" y="560664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V="1">
                <a:off x="8064360" y="556848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8056440" y="56037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8067600" y="56037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8064360" y="560376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H="1" flipV="1">
                <a:off x="8083080" y="5646240"/>
                <a:ext cx="1800" cy="3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 flipH="1" flipV="1">
                <a:off x="8083080" y="5638320"/>
                <a:ext cx="1800" cy="4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8074080" y="56466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8085240" y="564660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8085240" y="56466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 flipH="1" flipV="1">
                <a:off x="8101080" y="5641560"/>
                <a:ext cx="1440" cy="4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H="1" flipV="1">
                <a:off x="8101080" y="5632200"/>
                <a:ext cx="1440" cy="6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8093160" y="56419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8104320" y="56419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8102520" y="56419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 flipV="1">
                <a:off x="8120160" y="5643000"/>
                <a:ext cx="1440" cy="3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8120160" y="5633640"/>
                <a:ext cx="1440" cy="4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8112240" y="564192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123400" y="564192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8120160" y="56419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flipH="1" flipV="1">
                <a:off x="8139240" y="5643000"/>
                <a:ext cx="1440" cy="3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 flipH="1" flipV="1">
                <a:off x="8139240" y="5636880"/>
                <a:ext cx="1440" cy="50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8129520" y="564336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8140680" y="564336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8140680" y="56433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H="1" flipV="1">
                <a:off x="8156160" y="5646240"/>
                <a:ext cx="1800" cy="3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H="1" flipV="1">
                <a:off x="8156160" y="5641560"/>
                <a:ext cx="1800" cy="4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148600" y="56466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159760" y="56466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158320" y="56466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V="1">
                <a:off x="8175600" y="5646240"/>
                <a:ext cx="1440" cy="3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 flipV="1">
                <a:off x="8175600" y="5641920"/>
                <a:ext cx="14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8167680" y="56466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8178840" y="56466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8175600" y="56466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H="1" flipV="1">
                <a:off x="8194680" y="5646240"/>
                <a:ext cx="1440" cy="3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 flipH="1" flipV="1">
                <a:off x="8194680" y="5643000"/>
                <a:ext cx="1440" cy="3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8185320" y="56466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8196120" y="56466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8196120" y="56466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820404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821376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V="1">
                <a:off x="8231040" y="5646240"/>
                <a:ext cx="1800" cy="3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 flipV="1">
                <a:off x="8231040" y="5641920"/>
                <a:ext cx="180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8223120" y="564660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8231040" y="564660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8231040" y="56466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 flipH="1" flipV="1">
                <a:off x="8249760" y="5646240"/>
                <a:ext cx="1800" cy="3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 flipH="1" flipV="1">
                <a:off x="8249760" y="5641560"/>
                <a:ext cx="1800" cy="4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8240760" y="56466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8251920" y="564660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8251920" y="56466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825984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826920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27892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828828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29620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8304120" y="5649840"/>
                <a:ext cx="111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8317080" y="56498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8325000" y="56498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8332920" y="5649840"/>
                <a:ext cx="111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834408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835200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359920" y="5649840"/>
                <a:ext cx="1080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8372520" y="56498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838044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8388360" y="5649840"/>
                <a:ext cx="111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839952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840744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841680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8427960" y="56498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843588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844560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845496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846288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847260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8483760" y="56498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849168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850104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851076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851868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852804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853596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854712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8556480" y="56498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856440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857412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858348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8591400" y="5649840"/>
                <a:ext cx="111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860256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8612280" y="56498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8620200" y="5649840"/>
                <a:ext cx="111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863136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863928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8647200" y="5649840"/>
                <a:ext cx="111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8659800" y="56498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8667720" y="56498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8675640" y="5649840"/>
                <a:ext cx="111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868680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869472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8702640" y="5649840"/>
                <a:ext cx="111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8715240" y="56498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872316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8731080" y="5649840"/>
                <a:ext cx="111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874224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875016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875988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876780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877896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8788320" y="56498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879624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880596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881532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882324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83440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8844120" y="5649840"/>
                <a:ext cx="61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885204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886140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887112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887904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888984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8899560" y="56498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8907480" y="5649840"/>
                <a:ext cx="9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8916840" y="5649840"/>
                <a:ext cx="97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892656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8934480" y="5649840"/>
                <a:ext cx="111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8945640" y="5649840"/>
                <a:ext cx="79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8955000" y="5649840"/>
                <a:ext cx="64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5802480" y="3170160"/>
                <a:ext cx="725400" cy="1558800"/>
              </a:xfrm>
              <a:custGeom>
                <a:avLst/>
                <a:gdLst/>
                <a:ahLst/>
                <a:rect l="l" t="t" r="r" b="b"/>
                <a:pathLst>
                  <a:path w="508" h="1091">
                    <a:moveTo>
                      <a:pt x="0" y="1091"/>
                    </a:moveTo>
                    <a:lnTo>
                      <a:pt x="13" y="1046"/>
                    </a:lnTo>
                    <a:lnTo>
                      <a:pt x="27" y="1001"/>
                    </a:lnTo>
                    <a:lnTo>
                      <a:pt x="40" y="957"/>
                    </a:lnTo>
                    <a:lnTo>
                      <a:pt x="55" y="915"/>
                    </a:lnTo>
                    <a:lnTo>
                      <a:pt x="69" y="873"/>
                    </a:lnTo>
                    <a:lnTo>
                      <a:pt x="82" y="834"/>
                    </a:lnTo>
                    <a:lnTo>
                      <a:pt x="96" y="795"/>
                    </a:lnTo>
                    <a:lnTo>
                      <a:pt x="109" y="756"/>
                    </a:lnTo>
                    <a:lnTo>
                      <a:pt x="123" y="720"/>
                    </a:lnTo>
                    <a:lnTo>
                      <a:pt x="136" y="684"/>
                    </a:lnTo>
                    <a:lnTo>
                      <a:pt x="151" y="648"/>
                    </a:lnTo>
                    <a:lnTo>
                      <a:pt x="165" y="614"/>
                    </a:lnTo>
                    <a:lnTo>
                      <a:pt x="178" y="581"/>
                    </a:lnTo>
                    <a:lnTo>
                      <a:pt x="192" y="549"/>
                    </a:lnTo>
                    <a:lnTo>
                      <a:pt x="205" y="518"/>
                    </a:lnTo>
                    <a:lnTo>
                      <a:pt x="219" y="486"/>
                    </a:lnTo>
                    <a:lnTo>
                      <a:pt x="234" y="456"/>
                    </a:lnTo>
                    <a:lnTo>
                      <a:pt x="247" y="428"/>
                    </a:lnTo>
                    <a:lnTo>
                      <a:pt x="261" y="399"/>
                    </a:lnTo>
                    <a:lnTo>
                      <a:pt x="274" y="372"/>
                    </a:lnTo>
                    <a:lnTo>
                      <a:pt x="288" y="345"/>
                    </a:lnTo>
                    <a:lnTo>
                      <a:pt x="301" y="318"/>
                    </a:lnTo>
                    <a:lnTo>
                      <a:pt x="316" y="293"/>
                    </a:lnTo>
                    <a:lnTo>
                      <a:pt x="330" y="269"/>
                    </a:lnTo>
                    <a:lnTo>
                      <a:pt x="343" y="245"/>
                    </a:lnTo>
                    <a:lnTo>
                      <a:pt x="357" y="221"/>
                    </a:lnTo>
                    <a:lnTo>
                      <a:pt x="370" y="198"/>
                    </a:lnTo>
                    <a:lnTo>
                      <a:pt x="384" y="176"/>
                    </a:lnTo>
                    <a:lnTo>
                      <a:pt x="399" y="155"/>
                    </a:lnTo>
                    <a:lnTo>
                      <a:pt x="412" y="134"/>
                    </a:lnTo>
                    <a:lnTo>
                      <a:pt x="426" y="113"/>
                    </a:lnTo>
                    <a:lnTo>
                      <a:pt x="439" y="93"/>
                    </a:lnTo>
                    <a:lnTo>
                      <a:pt x="453" y="74"/>
                    </a:lnTo>
                    <a:lnTo>
                      <a:pt x="466" y="54"/>
                    </a:lnTo>
                    <a:lnTo>
                      <a:pt x="481" y="36"/>
                    </a:lnTo>
                    <a:lnTo>
                      <a:pt x="495" y="18"/>
                    </a:lnTo>
                    <a:lnTo>
                      <a:pt x="508" y="0"/>
                    </a:lnTo>
                  </a:path>
                </a:pathLst>
              </a:custGeom>
              <a:noFill/>
              <a:ln cap="rnd"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H="1" flipV="1">
                <a:off x="5075280" y="1763280"/>
                <a:ext cx="1440" cy="3886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H="1">
                <a:off x="5074920" y="5649840"/>
                <a:ext cx="745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H="1">
                <a:off x="5074920" y="555588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H="1">
                <a:off x="5074920" y="54608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H="1">
                <a:off x="5074920" y="53672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H="1">
                <a:off x="5074920" y="52736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H="1">
                <a:off x="5074920" y="5179680"/>
                <a:ext cx="745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H="1">
                <a:off x="5074920" y="508608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H="1">
                <a:off x="5074920" y="49910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H="1">
                <a:off x="5074920" y="489708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H="1">
                <a:off x="5074920" y="480348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H="1">
                <a:off x="5074920" y="4708440"/>
                <a:ext cx="745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H="1">
                <a:off x="5074920" y="461448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H="1">
                <a:off x="5074920" y="45194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H="1">
                <a:off x="5074920" y="44258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H="1">
                <a:off x="5074920" y="43322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H="1">
                <a:off x="5074920" y="4236840"/>
                <a:ext cx="745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H="1">
                <a:off x="5074920" y="41432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H="1">
                <a:off x="5074920" y="40496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H="1">
                <a:off x="5074920" y="39542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H="1">
                <a:off x="5074920" y="38606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H="1">
                <a:off x="5074920" y="3768480"/>
                <a:ext cx="745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H="1">
                <a:off x="5074920" y="367488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H="1">
                <a:off x="5074920" y="357948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H="1">
                <a:off x="5074920" y="348588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H="1">
                <a:off x="5074920" y="339228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H="1">
                <a:off x="5074920" y="3296880"/>
                <a:ext cx="745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H="1">
                <a:off x="5074920" y="320328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H="1">
                <a:off x="5074920" y="31082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H="1">
                <a:off x="5074920" y="301428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H="1">
                <a:off x="5074920" y="292068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H="1">
                <a:off x="5074920" y="2825640"/>
                <a:ext cx="745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 flipH="1">
                <a:off x="5074920" y="27320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 flipH="1">
                <a:off x="5074920" y="26366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H="1">
                <a:off x="5074920" y="25430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H="1">
                <a:off x="5074920" y="24494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H="1">
                <a:off x="5074920" y="2355480"/>
                <a:ext cx="745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H="1">
                <a:off x="5074920" y="226188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H="1">
                <a:off x="5074920" y="21668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H="1">
                <a:off x="5074920" y="20732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H="1">
                <a:off x="5074920" y="1979280"/>
                <a:ext cx="3636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H="1">
                <a:off x="5074920" y="1884240"/>
                <a:ext cx="745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H="1">
                <a:off x="5074920" y="1884240"/>
                <a:ext cx="7452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H="1">
                <a:off x="5074920" y="1790640"/>
                <a:ext cx="3636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923000" y="5616360"/>
                <a:ext cx="44280" cy="6840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4" y="48"/>
                    </a:moveTo>
                    <a:lnTo>
                      <a:pt x="6" y="45"/>
                    </a:lnTo>
                    <a:lnTo>
                      <a:pt x="1" y="3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1" y="9"/>
                    </a:lnTo>
                    <a:lnTo>
                      <a:pt x="6" y="2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4" y="2"/>
                    </a:lnTo>
                    <a:lnTo>
                      <a:pt x="28" y="9"/>
                    </a:lnTo>
                    <a:lnTo>
                      <a:pt x="31" y="21"/>
                    </a:lnTo>
                    <a:lnTo>
                      <a:pt x="31" y="27"/>
                    </a:lnTo>
                    <a:lnTo>
                      <a:pt x="28" y="39"/>
                    </a:lnTo>
                    <a:lnTo>
                      <a:pt x="24" y="45"/>
                    </a:lnTo>
                    <a:lnTo>
                      <a:pt x="18" y="48"/>
                    </a:lnTo>
                    <a:lnTo>
                      <a:pt x="13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727520" y="514584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32" h="47">
                    <a:moveTo>
                      <a:pt x="4" y="36"/>
                    </a:moveTo>
                    <a:lnTo>
                      <a:pt x="3" y="38"/>
                    </a:lnTo>
                    <a:lnTo>
                      <a:pt x="5" y="42"/>
                    </a:lnTo>
                    <a:lnTo>
                      <a:pt x="8" y="45"/>
                    </a:lnTo>
                    <a:lnTo>
                      <a:pt x="12" y="47"/>
                    </a:lnTo>
                    <a:lnTo>
                      <a:pt x="21" y="47"/>
                    </a:lnTo>
                    <a:lnTo>
                      <a:pt x="26" y="45"/>
                    </a:lnTo>
                    <a:lnTo>
                      <a:pt x="27" y="42"/>
                    </a:lnTo>
                    <a:lnTo>
                      <a:pt x="30" y="38"/>
                    </a:lnTo>
                    <a:lnTo>
                      <a:pt x="30" y="33"/>
                    </a:lnTo>
                    <a:lnTo>
                      <a:pt x="27" y="29"/>
                    </a:lnTo>
                    <a:lnTo>
                      <a:pt x="23" y="23"/>
                    </a:lnTo>
                    <a:lnTo>
                      <a:pt x="0" y="0"/>
                    </a:lnTo>
                    <a:lnTo>
                      <a:pt x="32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792680" y="514584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32" h="47">
                    <a:moveTo>
                      <a:pt x="28" y="47"/>
                    </a:moveTo>
                    <a:lnTo>
                      <a:pt x="5" y="47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12" y="32"/>
                    </a:lnTo>
                    <a:lnTo>
                      <a:pt x="18" y="32"/>
                    </a:lnTo>
                    <a:lnTo>
                      <a:pt x="26" y="29"/>
                    </a:lnTo>
                    <a:lnTo>
                      <a:pt x="30" y="24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0" y="9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856040" y="5145840"/>
                <a:ext cx="47880" cy="6660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16" y="47"/>
                    </a:moveTo>
                    <a:lnTo>
                      <a:pt x="8" y="45"/>
                    </a:lnTo>
                    <a:lnTo>
                      <a:pt x="3" y="38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3" y="9"/>
                    </a:lnTo>
                    <a:lnTo>
                      <a:pt x="8" y="2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6" y="2"/>
                    </a:lnTo>
                    <a:lnTo>
                      <a:pt x="30" y="9"/>
                    </a:lnTo>
                    <a:lnTo>
                      <a:pt x="33" y="20"/>
                    </a:lnTo>
                    <a:lnTo>
                      <a:pt x="33" y="27"/>
                    </a:lnTo>
                    <a:lnTo>
                      <a:pt x="30" y="38"/>
                    </a:lnTo>
                    <a:lnTo>
                      <a:pt x="26" y="45"/>
                    </a:lnTo>
                    <a:lnTo>
                      <a:pt x="20" y="47"/>
                    </a:lnTo>
                    <a:lnTo>
                      <a:pt x="15" y="47"/>
                    </a:lnTo>
                    <a:lnTo>
                      <a:pt x="16" y="4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923000" y="514584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14" y="47"/>
                    </a:moveTo>
                    <a:lnTo>
                      <a:pt x="6" y="45"/>
                    </a:lnTo>
                    <a:lnTo>
                      <a:pt x="1" y="38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1" y="9"/>
                    </a:lnTo>
                    <a:lnTo>
                      <a:pt x="6" y="2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4" y="2"/>
                    </a:lnTo>
                    <a:lnTo>
                      <a:pt x="28" y="9"/>
                    </a:lnTo>
                    <a:lnTo>
                      <a:pt x="31" y="20"/>
                    </a:lnTo>
                    <a:lnTo>
                      <a:pt x="31" y="27"/>
                    </a:lnTo>
                    <a:lnTo>
                      <a:pt x="28" y="38"/>
                    </a:lnTo>
                    <a:lnTo>
                      <a:pt x="24" y="45"/>
                    </a:lnTo>
                    <a:lnTo>
                      <a:pt x="18" y="47"/>
                    </a:lnTo>
                    <a:lnTo>
                      <a:pt x="13" y="47"/>
                    </a:lnTo>
                    <a:lnTo>
                      <a:pt x="14" y="4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4727520" y="467496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28" y="48"/>
                    </a:moveTo>
                    <a:lnTo>
                      <a:pt x="5" y="48"/>
                    </a:lnTo>
                    <a:lnTo>
                      <a:pt x="3" y="27"/>
                    </a:lnTo>
                    <a:lnTo>
                      <a:pt x="5" y="30"/>
                    </a:lnTo>
                    <a:lnTo>
                      <a:pt x="12" y="31"/>
                    </a:lnTo>
                    <a:lnTo>
                      <a:pt x="18" y="31"/>
                    </a:lnTo>
                    <a:lnTo>
                      <a:pt x="26" y="30"/>
                    </a:lnTo>
                    <a:lnTo>
                      <a:pt x="30" y="25"/>
                    </a:lnTo>
                    <a:lnTo>
                      <a:pt x="32" y="18"/>
                    </a:lnTo>
                    <a:lnTo>
                      <a:pt x="32" y="13"/>
                    </a:lnTo>
                    <a:lnTo>
                      <a:pt x="30" y="7"/>
                    </a:lnTo>
                    <a:lnTo>
                      <a:pt x="26" y="3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0" y="9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792680" y="4674960"/>
                <a:ext cx="44280" cy="684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14" y="48"/>
                    </a:moveTo>
                    <a:lnTo>
                      <a:pt x="8" y="45"/>
                    </a:lnTo>
                    <a:lnTo>
                      <a:pt x="3" y="3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3" y="9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6" y="3"/>
                    </a:lnTo>
                    <a:lnTo>
                      <a:pt x="30" y="9"/>
                    </a:lnTo>
                    <a:lnTo>
                      <a:pt x="32" y="21"/>
                    </a:lnTo>
                    <a:lnTo>
                      <a:pt x="32" y="27"/>
                    </a:lnTo>
                    <a:lnTo>
                      <a:pt x="30" y="39"/>
                    </a:lnTo>
                    <a:lnTo>
                      <a:pt x="26" y="45"/>
                    </a:lnTo>
                    <a:lnTo>
                      <a:pt x="18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856040" y="4674960"/>
                <a:ext cx="47880" cy="684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16" y="48"/>
                    </a:moveTo>
                    <a:lnTo>
                      <a:pt x="8" y="45"/>
                    </a:lnTo>
                    <a:lnTo>
                      <a:pt x="3" y="3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3" y="9"/>
                    </a:lnTo>
                    <a:lnTo>
                      <a:pt x="8" y="3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6" y="3"/>
                    </a:lnTo>
                    <a:lnTo>
                      <a:pt x="30" y="9"/>
                    </a:lnTo>
                    <a:lnTo>
                      <a:pt x="33" y="21"/>
                    </a:lnTo>
                    <a:lnTo>
                      <a:pt x="33" y="27"/>
                    </a:lnTo>
                    <a:lnTo>
                      <a:pt x="30" y="39"/>
                    </a:lnTo>
                    <a:lnTo>
                      <a:pt x="26" y="45"/>
                    </a:lnTo>
                    <a:lnTo>
                      <a:pt x="20" y="48"/>
                    </a:lnTo>
                    <a:lnTo>
                      <a:pt x="15" y="48"/>
                    </a:lnTo>
                    <a:lnTo>
                      <a:pt x="16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4923000" y="4674960"/>
                <a:ext cx="44280" cy="6840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4" y="48"/>
                    </a:moveTo>
                    <a:lnTo>
                      <a:pt x="6" y="45"/>
                    </a:lnTo>
                    <a:lnTo>
                      <a:pt x="1" y="3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1" y="9"/>
                    </a:lnTo>
                    <a:lnTo>
                      <a:pt x="6" y="3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4" y="3"/>
                    </a:lnTo>
                    <a:lnTo>
                      <a:pt x="28" y="9"/>
                    </a:lnTo>
                    <a:lnTo>
                      <a:pt x="31" y="21"/>
                    </a:lnTo>
                    <a:lnTo>
                      <a:pt x="31" y="27"/>
                    </a:lnTo>
                    <a:lnTo>
                      <a:pt x="28" y="39"/>
                    </a:lnTo>
                    <a:lnTo>
                      <a:pt x="24" y="45"/>
                    </a:lnTo>
                    <a:lnTo>
                      <a:pt x="18" y="48"/>
                    </a:lnTo>
                    <a:lnTo>
                      <a:pt x="13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H="1">
                <a:off x="4739760" y="4203360"/>
                <a:ext cx="33480" cy="68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729320" y="4203360"/>
                <a:ext cx="4428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792680" y="4203360"/>
                <a:ext cx="44280" cy="684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28" y="48"/>
                    </a:moveTo>
                    <a:lnTo>
                      <a:pt x="5" y="48"/>
                    </a:lnTo>
                    <a:lnTo>
                      <a:pt x="3" y="27"/>
                    </a:lnTo>
                    <a:lnTo>
                      <a:pt x="5" y="30"/>
                    </a:lnTo>
                    <a:lnTo>
                      <a:pt x="12" y="31"/>
                    </a:lnTo>
                    <a:lnTo>
                      <a:pt x="18" y="31"/>
                    </a:lnTo>
                    <a:lnTo>
                      <a:pt x="26" y="30"/>
                    </a:lnTo>
                    <a:lnTo>
                      <a:pt x="30" y="25"/>
                    </a:lnTo>
                    <a:lnTo>
                      <a:pt x="32" y="18"/>
                    </a:lnTo>
                    <a:lnTo>
                      <a:pt x="32" y="13"/>
                    </a:lnTo>
                    <a:lnTo>
                      <a:pt x="30" y="6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0" y="9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856040" y="4203360"/>
                <a:ext cx="47880" cy="684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16" y="48"/>
                    </a:moveTo>
                    <a:lnTo>
                      <a:pt x="8" y="45"/>
                    </a:lnTo>
                    <a:lnTo>
                      <a:pt x="3" y="3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3" y="9"/>
                    </a:lnTo>
                    <a:lnTo>
                      <a:pt x="8" y="1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6" y="1"/>
                    </a:lnTo>
                    <a:lnTo>
                      <a:pt x="30" y="9"/>
                    </a:lnTo>
                    <a:lnTo>
                      <a:pt x="33" y="21"/>
                    </a:lnTo>
                    <a:lnTo>
                      <a:pt x="33" y="27"/>
                    </a:lnTo>
                    <a:lnTo>
                      <a:pt x="30" y="39"/>
                    </a:lnTo>
                    <a:lnTo>
                      <a:pt x="26" y="45"/>
                    </a:lnTo>
                    <a:lnTo>
                      <a:pt x="20" y="48"/>
                    </a:lnTo>
                    <a:lnTo>
                      <a:pt x="15" y="48"/>
                    </a:lnTo>
                    <a:lnTo>
                      <a:pt x="16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923000" y="4203360"/>
                <a:ext cx="44280" cy="6840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4" y="48"/>
                    </a:moveTo>
                    <a:lnTo>
                      <a:pt x="6" y="45"/>
                    </a:lnTo>
                    <a:lnTo>
                      <a:pt x="1" y="3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1" y="9"/>
                    </a:lnTo>
                    <a:lnTo>
                      <a:pt x="6" y="1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4" y="1"/>
                    </a:lnTo>
                    <a:lnTo>
                      <a:pt x="28" y="9"/>
                    </a:lnTo>
                    <a:lnTo>
                      <a:pt x="31" y="21"/>
                    </a:lnTo>
                    <a:lnTo>
                      <a:pt x="31" y="27"/>
                    </a:lnTo>
                    <a:lnTo>
                      <a:pt x="28" y="39"/>
                    </a:lnTo>
                    <a:lnTo>
                      <a:pt x="24" y="45"/>
                    </a:lnTo>
                    <a:lnTo>
                      <a:pt x="18" y="48"/>
                    </a:lnTo>
                    <a:lnTo>
                      <a:pt x="13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673520" y="3735360"/>
                <a:ext cx="15840" cy="6480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0" y="37"/>
                    </a:moveTo>
                    <a:lnTo>
                      <a:pt x="4" y="40"/>
                    </a:lnTo>
                    <a:lnTo>
                      <a:pt x="11" y="46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8" name=""/>
            <p:cNvSpPr/>
            <p:nvPr/>
          </p:nvSpPr>
          <p:spPr>
            <a:xfrm flipV="1">
              <a:off x="4727520" y="3735360"/>
              <a:ext cx="46080" cy="64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4" y="46"/>
                  </a:moveTo>
                  <a:lnTo>
                    <a:pt x="8" y="45"/>
                  </a:lnTo>
                  <a:lnTo>
                    <a:pt x="3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9"/>
                  </a:lnTo>
                  <a:lnTo>
                    <a:pt x="8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6" y="1"/>
                  </a:lnTo>
                  <a:lnTo>
                    <a:pt x="30" y="9"/>
                  </a:lnTo>
                  <a:lnTo>
                    <a:pt x="32" y="19"/>
                  </a:lnTo>
                  <a:lnTo>
                    <a:pt x="32" y="27"/>
                  </a:lnTo>
                  <a:lnTo>
                    <a:pt x="30" y="37"/>
                  </a:lnTo>
                  <a:lnTo>
                    <a:pt x="26" y="45"/>
                  </a:lnTo>
                  <a:lnTo>
                    <a:pt x="18" y="46"/>
                  </a:lnTo>
                  <a:lnTo>
                    <a:pt x="14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 flipV="1">
              <a:off x="4792680" y="3735360"/>
              <a:ext cx="44280" cy="64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4" y="46"/>
                  </a:moveTo>
                  <a:lnTo>
                    <a:pt x="8" y="45"/>
                  </a:lnTo>
                  <a:lnTo>
                    <a:pt x="3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9"/>
                  </a:lnTo>
                  <a:lnTo>
                    <a:pt x="8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6" y="1"/>
                  </a:lnTo>
                  <a:lnTo>
                    <a:pt x="30" y="9"/>
                  </a:lnTo>
                  <a:lnTo>
                    <a:pt x="32" y="19"/>
                  </a:lnTo>
                  <a:lnTo>
                    <a:pt x="32" y="27"/>
                  </a:lnTo>
                  <a:lnTo>
                    <a:pt x="30" y="37"/>
                  </a:lnTo>
                  <a:lnTo>
                    <a:pt x="26" y="45"/>
                  </a:lnTo>
                  <a:lnTo>
                    <a:pt x="18" y="46"/>
                  </a:lnTo>
                  <a:lnTo>
                    <a:pt x="14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 flipV="1">
              <a:off x="4856040" y="3735360"/>
              <a:ext cx="47880" cy="648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16" y="46"/>
                  </a:moveTo>
                  <a:lnTo>
                    <a:pt x="8" y="45"/>
                  </a:lnTo>
                  <a:lnTo>
                    <a:pt x="3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9"/>
                  </a:lnTo>
                  <a:lnTo>
                    <a:pt x="8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0" y="9"/>
                  </a:lnTo>
                  <a:lnTo>
                    <a:pt x="33" y="19"/>
                  </a:lnTo>
                  <a:lnTo>
                    <a:pt x="33" y="27"/>
                  </a:lnTo>
                  <a:lnTo>
                    <a:pt x="30" y="37"/>
                  </a:lnTo>
                  <a:lnTo>
                    <a:pt x="26" y="45"/>
                  </a:lnTo>
                  <a:lnTo>
                    <a:pt x="20" y="46"/>
                  </a:lnTo>
                  <a:lnTo>
                    <a:pt x="15" y="46"/>
                  </a:lnTo>
                  <a:lnTo>
                    <a:pt x="16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 flipV="1">
              <a:off x="4923000" y="3735360"/>
              <a:ext cx="44280" cy="648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4" y="46"/>
                  </a:moveTo>
                  <a:lnTo>
                    <a:pt x="6" y="45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9"/>
                  </a:lnTo>
                  <a:lnTo>
                    <a:pt x="6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8" y="9"/>
                  </a:lnTo>
                  <a:lnTo>
                    <a:pt x="31" y="19"/>
                  </a:lnTo>
                  <a:lnTo>
                    <a:pt x="31" y="27"/>
                  </a:lnTo>
                  <a:lnTo>
                    <a:pt x="28" y="37"/>
                  </a:lnTo>
                  <a:lnTo>
                    <a:pt x="24" y="45"/>
                  </a:lnTo>
                  <a:lnTo>
                    <a:pt x="18" y="46"/>
                  </a:lnTo>
                  <a:lnTo>
                    <a:pt x="13" y="46"/>
                  </a:lnTo>
                  <a:lnTo>
                    <a:pt x="14" y="4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flipV="1">
              <a:off x="4673520" y="3263040"/>
              <a:ext cx="15840" cy="6804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0" y="39"/>
                  </a:moveTo>
                  <a:lnTo>
                    <a:pt x="4" y="41"/>
                  </a:lnTo>
                  <a:lnTo>
                    <a:pt x="11" y="48"/>
                  </a:lnTo>
                  <a:lnTo>
                    <a:pt x="1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 flipV="1">
              <a:off x="4727520" y="3263040"/>
              <a:ext cx="46080" cy="6804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4" y="36"/>
                  </a:moveTo>
                  <a:lnTo>
                    <a:pt x="3" y="39"/>
                  </a:lnTo>
                  <a:lnTo>
                    <a:pt x="5" y="44"/>
                  </a:lnTo>
                  <a:lnTo>
                    <a:pt x="8" y="45"/>
                  </a:lnTo>
                  <a:lnTo>
                    <a:pt x="12" y="48"/>
                  </a:lnTo>
                  <a:lnTo>
                    <a:pt x="21" y="48"/>
                  </a:lnTo>
                  <a:lnTo>
                    <a:pt x="26" y="45"/>
                  </a:lnTo>
                  <a:lnTo>
                    <a:pt x="27" y="44"/>
                  </a:lnTo>
                  <a:lnTo>
                    <a:pt x="30" y="39"/>
                  </a:lnTo>
                  <a:lnTo>
                    <a:pt x="30" y="35"/>
                  </a:lnTo>
                  <a:lnTo>
                    <a:pt x="27" y="30"/>
                  </a:lnTo>
                  <a:lnTo>
                    <a:pt x="23" y="23"/>
                  </a:lnTo>
                  <a:lnTo>
                    <a:pt x="0" y="0"/>
                  </a:lnTo>
                  <a:lnTo>
                    <a:pt x="32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 flipV="1">
              <a:off x="4792680" y="3263040"/>
              <a:ext cx="44280" cy="6804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28" y="48"/>
                  </a:moveTo>
                  <a:lnTo>
                    <a:pt x="5" y="48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12" y="32"/>
                  </a:lnTo>
                  <a:lnTo>
                    <a:pt x="18" y="32"/>
                  </a:lnTo>
                  <a:lnTo>
                    <a:pt x="26" y="30"/>
                  </a:lnTo>
                  <a:lnTo>
                    <a:pt x="30" y="26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0" y="8"/>
                  </a:lnTo>
                  <a:lnTo>
                    <a:pt x="26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5" y="3"/>
                  </a:lnTo>
                  <a:lnTo>
                    <a:pt x="3" y="5"/>
                  </a:lnTo>
                  <a:lnTo>
                    <a:pt x="0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 flipV="1">
              <a:off x="4856040" y="3263040"/>
              <a:ext cx="47880" cy="6804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16" y="48"/>
                  </a:moveTo>
                  <a:lnTo>
                    <a:pt x="8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3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3"/>
                  </a:lnTo>
                  <a:lnTo>
                    <a:pt x="30" y="9"/>
                  </a:lnTo>
                  <a:lnTo>
                    <a:pt x="33" y="21"/>
                  </a:lnTo>
                  <a:lnTo>
                    <a:pt x="33" y="27"/>
                  </a:lnTo>
                  <a:lnTo>
                    <a:pt x="30" y="39"/>
                  </a:lnTo>
                  <a:lnTo>
                    <a:pt x="26" y="45"/>
                  </a:lnTo>
                  <a:lnTo>
                    <a:pt x="20" y="48"/>
                  </a:lnTo>
                  <a:lnTo>
                    <a:pt x="15" y="48"/>
                  </a:lnTo>
                  <a:lnTo>
                    <a:pt x="16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 flipV="1">
              <a:off x="4923000" y="3263040"/>
              <a:ext cx="44280" cy="6804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6" y="45"/>
                  </a:lnTo>
                  <a:lnTo>
                    <a:pt x="1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" y="9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8" y="9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28" y="39"/>
                  </a:lnTo>
                  <a:lnTo>
                    <a:pt x="24" y="45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flipV="1">
              <a:off x="4673520" y="2792160"/>
              <a:ext cx="15840" cy="6840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0" y="39"/>
                  </a:moveTo>
                  <a:lnTo>
                    <a:pt x="4" y="41"/>
                  </a:lnTo>
                  <a:lnTo>
                    <a:pt x="11" y="48"/>
                  </a:lnTo>
                  <a:lnTo>
                    <a:pt x="1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 flipV="1">
              <a:off x="4727520" y="279216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28" y="48"/>
                  </a:moveTo>
                  <a:lnTo>
                    <a:pt x="5" y="48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12" y="32"/>
                  </a:lnTo>
                  <a:lnTo>
                    <a:pt x="18" y="32"/>
                  </a:lnTo>
                  <a:lnTo>
                    <a:pt x="26" y="30"/>
                  </a:lnTo>
                  <a:lnTo>
                    <a:pt x="30" y="26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0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V="1">
              <a:off x="4792680" y="2792160"/>
              <a:ext cx="442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14" y="48"/>
                  </a:moveTo>
                  <a:lnTo>
                    <a:pt x="8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0" y="9"/>
                  </a:lnTo>
                  <a:lnTo>
                    <a:pt x="32" y="21"/>
                  </a:lnTo>
                  <a:lnTo>
                    <a:pt x="32" y="27"/>
                  </a:lnTo>
                  <a:lnTo>
                    <a:pt x="30" y="39"/>
                  </a:lnTo>
                  <a:lnTo>
                    <a:pt x="26" y="45"/>
                  </a:lnTo>
                  <a:lnTo>
                    <a:pt x="18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V="1">
              <a:off x="4856040" y="2792160"/>
              <a:ext cx="47880" cy="684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16" y="48"/>
                  </a:moveTo>
                  <a:lnTo>
                    <a:pt x="8" y="45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0" y="9"/>
                  </a:lnTo>
                  <a:lnTo>
                    <a:pt x="33" y="21"/>
                  </a:lnTo>
                  <a:lnTo>
                    <a:pt x="33" y="27"/>
                  </a:lnTo>
                  <a:lnTo>
                    <a:pt x="30" y="39"/>
                  </a:lnTo>
                  <a:lnTo>
                    <a:pt x="26" y="45"/>
                  </a:lnTo>
                  <a:lnTo>
                    <a:pt x="20" y="48"/>
                  </a:lnTo>
                  <a:lnTo>
                    <a:pt x="15" y="48"/>
                  </a:lnTo>
                  <a:lnTo>
                    <a:pt x="16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 flipV="1">
              <a:off x="4923000" y="2792160"/>
              <a:ext cx="4428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6" y="45"/>
                  </a:lnTo>
                  <a:lnTo>
                    <a:pt x="1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" y="9"/>
                  </a:lnTo>
                  <a:lnTo>
                    <a:pt x="6" y="2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8" y="9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28" y="39"/>
                  </a:lnTo>
                  <a:lnTo>
                    <a:pt x="24" y="45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4673520" y="2321640"/>
              <a:ext cx="15840" cy="6660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0" y="38"/>
                  </a:moveTo>
                  <a:lnTo>
                    <a:pt x="4" y="41"/>
                  </a:lnTo>
                  <a:lnTo>
                    <a:pt x="11" y="47"/>
                  </a:lnTo>
                  <a:lnTo>
                    <a:pt x="11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 flipH="1">
              <a:off x="4739760" y="2322360"/>
              <a:ext cx="33480" cy="66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729320" y="2322360"/>
              <a:ext cx="44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V="1">
              <a:off x="4792680" y="2321640"/>
              <a:ext cx="44280" cy="6660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8" y="47"/>
                  </a:moveTo>
                  <a:lnTo>
                    <a:pt x="5" y="47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12" y="32"/>
                  </a:lnTo>
                  <a:lnTo>
                    <a:pt x="18" y="32"/>
                  </a:lnTo>
                  <a:lnTo>
                    <a:pt x="26" y="29"/>
                  </a:lnTo>
                  <a:lnTo>
                    <a:pt x="30" y="24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0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 flipV="1">
              <a:off x="4856040" y="2321640"/>
              <a:ext cx="47880" cy="666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16" y="47"/>
                  </a:moveTo>
                  <a:lnTo>
                    <a:pt x="8" y="45"/>
                  </a:lnTo>
                  <a:lnTo>
                    <a:pt x="3" y="38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3" y="9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0" y="9"/>
                  </a:lnTo>
                  <a:lnTo>
                    <a:pt x="33" y="20"/>
                  </a:lnTo>
                  <a:lnTo>
                    <a:pt x="33" y="27"/>
                  </a:lnTo>
                  <a:lnTo>
                    <a:pt x="30" y="38"/>
                  </a:lnTo>
                  <a:lnTo>
                    <a:pt x="26" y="45"/>
                  </a:lnTo>
                  <a:lnTo>
                    <a:pt x="20" y="47"/>
                  </a:lnTo>
                  <a:lnTo>
                    <a:pt x="15" y="47"/>
                  </a:lnTo>
                  <a:lnTo>
                    <a:pt x="16" y="47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 flipV="1">
              <a:off x="4923000" y="2321640"/>
              <a:ext cx="44280" cy="6660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14" y="47"/>
                  </a:moveTo>
                  <a:lnTo>
                    <a:pt x="6" y="45"/>
                  </a:lnTo>
                  <a:lnTo>
                    <a:pt x="1" y="38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9"/>
                  </a:lnTo>
                  <a:lnTo>
                    <a:pt x="6" y="2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8" y="9"/>
                  </a:lnTo>
                  <a:lnTo>
                    <a:pt x="31" y="20"/>
                  </a:lnTo>
                  <a:lnTo>
                    <a:pt x="31" y="27"/>
                  </a:lnTo>
                  <a:lnTo>
                    <a:pt x="28" y="38"/>
                  </a:lnTo>
                  <a:lnTo>
                    <a:pt x="24" y="45"/>
                  </a:lnTo>
                  <a:lnTo>
                    <a:pt x="18" y="47"/>
                  </a:lnTo>
                  <a:lnTo>
                    <a:pt x="13" y="47"/>
                  </a:lnTo>
                  <a:lnTo>
                    <a:pt x="14" y="47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V="1">
              <a:off x="4664160" y="1850760"/>
              <a:ext cx="442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2" y="36"/>
                  </a:moveTo>
                  <a:lnTo>
                    <a:pt x="2" y="39"/>
                  </a:lnTo>
                  <a:lnTo>
                    <a:pt x="5" y="43"/>
                  </a:lnTo>
                  <a:lnTo>
                    <a:pt x="6" y="46"/>
                  </a:lnTo>
                  <a:lnTo>
                    <a:pt x="11" y="48"/>
                  </a:lnTo>
                  <a:lnTo>
                    <a:pt x="20" y="48"/>
                  </a:lnTo>
                  <a:lnTo>
                    <a:pt x="24" y="46"/>
                  </a:lnTo>
                  <a:lnTo>
                    <a:pt x="27" y="43"/>
                  </a:lnTo>
                  <a:lnTo>
                    <a:pt x="29" y="39"/>
                  </a:lnTo>
                  <a:lnTo>
                    <a:pt x="29" y="34"/>
                  </a:lnTo>
                  <a:lnTo>
                    <a:pt x="27" y="30"/>
                  </a:lnTo>
                  <a:lnTo>
                    <a:pt x="23" y="22"/>
                  </a:lnTo>
                  <a:lnTo>
                    <a:pt x="0" y="0"/>
                  </a:lnTo>
                  <a:lnTo>
                    <a:pt x="32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 flipV="1">
              <a:off x="4727520" y="185076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14" y="48"/>
                  </a:moveTo>
                  <a:lnTo>
                    <a:pt x="8" y="46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0" y="9"/>
                  </a:lnTo>
                  <a:lnTo>
                    <a:pt x="32" y="21"/>
                  </a:lnTo>
                  <a:lnTo>
                    <a:pt x="32" y="27"/>
                  </a:lnTo>
                  <a:lnTo>
                    <a:pt x="30" y="39"/>
                  </a:lnTo>
                  <a:lnTo>
                    <a:pt x="26" y="46"/>
                  </a:lnTo>
                  <a:lnTo>
                    <a:pt x="18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 flipV="1">
              <a:off x="4792680" y="1850760"/>
              <a:ext cx="442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14" y="48"/>
                  </a:moveTo>
                  <a:lnTo>
                    <a:pt x="8" y="46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0" y="9"/>
                  </a:lnTo>
                  <a:lnTo>
                    <a:pt x="32" y="21"/>
                  </a:lnTo>
                  <a:lnTo>
                    <a:pt x="32" y="27"/>
                  </a:lnTo>
                  <a:lnTo>
                    <a:pt x="30" y="39"/>
                  </a:lnTo>
                  <a:lnTo>
                    <a:pt x="26" y="46"/>
                  </a:lnTo>
                  <a:lnTo>
                    <a:pt x="18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V="1">
              <a:off x="4856040" y="1850760"/>
              <a:ext cx="47880" cy="684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16" y="48"/>
                  </a:moveTo>
                  <a:lnTo>
                    <a:pt x="8" y="46"/>
                  </a:lnTo>
                  <a:lnTo>
                    <a:pt x="3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3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3"/>
                  </a:lnTo>
                  <a:lnTo>
                    <a:pt x="30" y="9"/>
                  </a:lnTo>
                  <a:lnTo>
                    <a:pt x="33" y="21"/>
                  </a:lnTo>
                  <a:lnTo>
                    <a:pt x="33" y="27"/>
                  </a:lnTo>
                  <a:lnTo>
                    <a:pt x="30" y="39"/>
                  </a:lnTo>
                  <a:lnTo>
                    <a:pt x="26" y="46"/>
                  </a:lnTo>
                  <a:lnTo>
                    <a:pt x="20" y="48"/>
                  </a:lnTo>
                  <a:lnTo>
                    <a:pt x="15" y="48"/>
                  </a:lnTo>
                  <a:lnTo>
                    <a:pt x="16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4923000" y="1850760"/>
              <a:ext cx="4428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6" y="46"/>
                  </a:lnTo>
                  <a:lnTo>
                    <a:pt x="1" y="3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" y="9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8" y="9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28" y="39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076720" y="5649840"/>
              <a:ext cx="388476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 flipH="1">
              <a:off x="5075280" y="5576760"/>
              <a:ext cx="1440" cy="730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518652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529596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40720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51988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5630760" y="5576760"/>
              <a:ext cx="1800" cy="730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574200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585324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5964120" y="5613120"/>
              <a:ext cx="180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 flipH="1">
              <a:off x="607392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H="1">
              <a:off x="6184440" y="5576760"/>
              <a:ext cx="1800" cy="730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>
              <a:off x="629604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 flipH="1">
              <a:off x="640728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H="1">
              <a:off x="651996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H="1">
              <a:off x="6630480" y="5613120"/>
              <a:ext cx="180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740640" y="5576760"/>
              <a:ext cx="1440" cy="730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851520" y="5613120"/>
              <a:ext cx="180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96276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7075440" y="5613120"/>
              <a:ext cx="180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718668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297560" y="5576760"/>
              <a:ext cx="1800" cy="730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H="1">
              <a:off x="7405200" y="5613120"/>
              <a:ext cx="180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H="1">
              <a:off x="7517880" y="5613120"/>
              <a:ext cx="180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7629120" y="5613120"/>
              <a:ext cx="180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H="1">
              <a:off x="774072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H="1">
              <a:off x="7851240" y="5576760"/>
              <a:ext cx="1800" cy="730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7962480" y="5613120"/>
              <a:ext cx="180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07408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18532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296200" y="5613120"/>
              <a:ext cx="180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407440" y="5576760"/>
              <a:ext cx="1440" cy="730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51868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631360" y="5613120"/>
              <a:ext cx="144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742240" y="5613120"/>
              <a:ext cx="180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H="1">
              <a:off x="8849880" y="5613120"/>
              <a:ext cx="1800" cy="36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H="1">
              <a:off x="8961480" y="5576760"/>
              <a:ext cx="1440" cy="730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5051520" y="5698800"/>
              <a:ext cx="4428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7" y="46"/>
                  </a:lnTo>
                  <a:lnTo>
                    <a:pt x="3" y="3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3" y="9"/>
                  </a:lnTo>
                  <a:lnTo>
                    <a:pt x="7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3"/>
                  </a:lnTo>
                  <a:lnTo>
                    <a:pt x="30" y="9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30" y="39"/>
                  </a:lnTo>
                  <a:lnTo>
                    <a:pt x="25" y="46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 flipV="1">
              <a:off x="5586480" y="5698800"/>
              <a:ext cx="14400" cy="68400"/>
            </a:xfrm>
            <a:custGeom>
              <a:avLst/>
              <a:gdLst/>
              <a:ahLst/>
              <a:rect l="l" t="t" r="r" b="b"/>
              <a:pathLst>
                <a:path w="10" h="48">
                  <a:moveTo>
                    <a:pt x="0" y="39"/>
                  </a:moveTo>
                  <a:lnTo>
                    <a:pt x="4" y="42"/>
                  </a:lnTo>
                  <a:lnTo>
                    <a:pt x="10" y="48"/>
                  </a:lnTo>
                  <a:lnTo>
                    <a:pt x="10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5640480" y="569880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14" y="48"/>
                  </a:moveTo>
                  <a:lnTo>
                    <a:pt x="6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" y="9"/>
                  </a:lnTo>
                  <a:lnTo>
                    <a:pt x="6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2" y="21"/>
                  </a:lnTo>
                  <a:lnTo>
                    <a:pt x="32" y="28"/>
                  </a:lnTo>
                  <a:lnTo>
                    <a:pt x="29" y="39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V="1">
              <a:off x="6129360" y="5698800"/>
              <a:ext cx="47520" cy="684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4" y="37"/>
                  </a:moveTo>
                  <a:lnTo>
                    <a:pt x="3" y="39"/>
                  </a:lnTo>
                  <a:lnTo>
                    <a:pt x="6" y="43"/>
                  </a:lnTo>
                  <a:lnTo>
                    <a:pt x="8" y="46"/>
                  </a:lnTo>
                  <a:lnTo>
                    <a:pt x="12" y="48"/>
                  </a:lnTo>
                  <a:lnTo>
                    <a:pt x="21" y="48"/>
                  </a:lnTo>
                  <a:lnTo>
                    <a:pt x="26" y="46"/>
                  </a:lnTo>
                  <a:lnTo>
                    <a:pt x="29" y="43"/>
                  </a:lnTo>
                  <a:lnTo>
                    <a:pt x="30" y="39"/>
                  </a:lnTo>
                  <a:lnTo>
                    <a:pt x="30" y="34"/>
                  </a:lnTo>
                  <a:lnTo>
                    <a:pt x="29" y="30"/>
                  </a:lnTo>
                  <a:lnTo>
                    <a:pt x="24" y="22"/>
                  </a:lnTo>
                  <a:lnTo>
                    <a:pt x="0" y="0"/>
                  </a:lnTo>
                  <a:lnTo>
                    <a:pt x="33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V="1">
              <a:off x="6195960" y="5698800"/>
              <a:ext cx="4464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6" y="46"/>
                  </a:lnTo>
                  <a:lnTo>
                    <a:pt x="1" y="3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1" y="9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8" y="9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28" y="39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V="1">
              <a:off x="6686640" y="569880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5" y="48"/>
                  </a:moveTo>
                  <a:lnTo>
                    <a:pt x="29" y="48"/>
                  </a:lnTo>
                  <a:lnTo>
                    <a:pt x="15" y="30"/>
                  </a:lnTo>
                  <a:lnTo>
                    <a:pt x="23" y="30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2" y="18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3"/>
                  </a:lnTo>
                  <a:lnTo>
                    <a:pt x="2" y="4"/>
                  </a:lnTo>
                  <a:lnTo>
                    <a:pt x="0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 flipV="1">
              <a:off x="6750000" y="569880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14" y="48"/>
                  </a:moveTo>
                  <a:lnTo>
                    <a:pt x="6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" y="9"/>
                  </a:lnTo>
                  <a:lnTo>
                    <a:pt x="6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0" y="9"/>
                  </a:lnTo>
                  <a:lnTo>
                    <a:pt x="32" y="21"/>
                  </a:lnTo>
                  <a:lnTo>
                    <a:pt x="32" y="28"/>
                  </a:lnTo>
                  <a:lnTo>
                    <a:pt x="30" y="39"/>
                  </a:lnTo>
                  <a:lnTo>
                    <a:pt x="26" y="46"/>
                  </a:lnTo>
                  <a:lnTo>
                    <a:pt x="18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 flipV="1">
              <a:off x="7242120" y="5698800"/>
              <a:ext cx="47520" cy="4608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23" y="32"/>
                  </a:moveTo>
                  <a:lnTo>
                    <a:pt x="0" y="0"/>
                  </a:lnTo>
                  <a:lnTo>
                    <a:pt x="34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 flipH="1">
              <a:off x="7273440" y="5698800"/>
              <a:ext cx="180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 flipV="1">
              <a:off x="7305840" y="5698800"/>
              <a:ext cx="4428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7" y="46"/>
                  </a:lnTo>
                  <a:lnTo>
                    <a:pt x="3" y="3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3" y="9"/>
                  </a:lnTo>
                  <a:lnTo>
                    <a:pt x="7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3"/>
                  </a:lnTo>
                  <a:lnTo>
                    <a:pt x="30" y="9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30" y="39"/>
                  </a:lnTo>
                  <a:lnTo>
                    <a:pt x="25" y="46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 flipV="1">
              <a:off x="7796160" y="569880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28" y="48"/>
                  </a:moveTo>
                  <a:lnTo>
                    <a:pt x="5" y="48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26" y="30"/>
                  </a:lnTo>
                  <a:lnTo>
                    <a:pt x="30" y="25"/>
                  </a:lnTo>
                  <a:lnTo>
                    <a:pt x="32" y="18"/>
                  </a:lnTo>
                  <a:lnTo>
                    <a:pt x="32" y="13"/>
                  </a:lnTo>
                  <a:lnTo>
                    <a:pt x="30" y="7"/>
                  </a:lnTo>
                  <a:lnTo>
                    <a:pt x="26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5" y="3"/>
                  </a:lnTo>
                  <a:lnTo>
                    <a:pt x="3" y="4"/>
                  </a:lnTo>
                  <a:lnTo>
                    <a:pt x="0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V="1">
              <a:off x="7861320" y="5698800"/>
              <a:ext cx="46080" cy="684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14" y="48"/>
                  </a:moveTo>
                  <a:lnTo>
                    <a:pt x="8" y="46"/>
                  </a:lnTo>
                  <a:lnTo>
                    <a:pt x="3" y="3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0" y="9"/>
                  </a:lnTo>
                  <a:lnTo>
                    <a:pt x="33" y="21"/>
                  </a:lnTo>
                  <a:lnTo>
                    <a:pt x="33" y="28"/>
                  </a:lnTo>
                  <a:lnTo>
                    <a:pt x="30" y="39"/>
                  </a:lnTo>
                  <a:lnTo>
                    <a:pt x="26" y="46"/>
                  </a:lnTo>
                  <a:lnTo>
                    <a:pt x="18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 flipV="1">
              <a:off x="8356680" y="5698800"/>
              <a:ext cx="39600" cy="6840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27" y="42"/>
                  </a:moveTo>
                  <a:lnTo>
                    <a:pt x="24" y="46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6" y="46"/>
                  </a:lnTo>
                  <a:lnTo>
                    <a:pt x="1" y="39"/>
                  </a:lnTo>
                  <a:lnTo>
                    <a:pt x="0" y="28"/>
                  </a:lnTo>
                  <a:lnTo>
                    <a:pt x="0" y="16"/>
                  </a:lnTo>
                  <a:lnTo>
                    <a:pt x="1" y="7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8" y="16"/>
                  </a:lnTo>
                  <a:lnTo>
                    <a:pt x="27" y="22"/>
                  </a:lnTo>
                  <a:lnTo>
                    <a:pt x="22" y="28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6" y="28"/>
                  </a:lnTo>
                  <a:lnTo>
                    <a:pt x="1" y="22"/>
                  </a:lnTo>
                  <a:lnTo>
                    <a:pt x="0" y="1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V="1">
              <a:off x="8416800" y="5698800"/>
              <a:ext cx="46080" cy="684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14" y="48"/>
                  </a:moveTo>
                  <a:lnTo>
                    <a:pt x="6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" y="9"/>
                  </a:lnTo>
                  <a:lnTo>
                    <a:pt x="6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2" y="21"/>
                  </a:lnTo>
                  <a:lnTo>
                    <a:pt x="32" y="28"/>
                  </a:lnTo>
                  <a:lnTo>
                    <a:pt x="29" y="39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H="1">
              <a:off x="8921880" y="5698800"/>
              <a:ext cx="33120" cy="68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907480" y="5698800"/>
              <a:ext cx="4608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 flipV="1">
              <a:off x="8974080" y="5698800"/>
              <a:ext cx="42840" cy="684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4" y="48"/>
                  </a:moveTo>
                  <a:lnTo>
                    <a:pt x="6" y="46"/>
                  </a:lnTo>
                  <a:lnTo>
                    <a:pt x="1" y="3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1" y="9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8" y="9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28" y="39"/>
                  </a:lnTo>
                  <a:lnTo>
                    <a:pt x="24" y="46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4" y="4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7" name=""/>
          <p:cNvSpPr/>
          <p:nvPr/>
        </p:nvSpPr>
        <p:spPr>
          <a:xfrm>
            <a:off x="3210120" y="426708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7855200" y="426708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2362320" y="3048120"/>
            <a:ext cx="2057400" cy="759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6858000" y="3048120"/>
            <a:ext cx="2057400" cy="759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1163160" y="7128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Work in progress  .. Just look at the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93D-2259-4278-9235-B46B5DC40A6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2" name=""/>
          <p:cNvGrpSpPr/>
          <p:nvPr/>
        </p:nvGrpSpPr>
        <p:grpSpPr>
          <a:xfrm>
            <a:off x="395280" y="2349360"/>
            <a:ext cx="4033800" cy="3627720"/>
            <a:chOff x="395280" y="2349360"/>
            <a:chExt cx="4033800" cy="3627720"/>
          </a:xfrm>
        </p:grpSpPr>
        <p:sp>
          <p:nvSpPr>
            <p:cNvPr id="3073" name=""/>
            <p:cNvSpPr/>
            <p:nvPr/>
          </p:nvSpPr>
          <p:spPr>
            <a:xfrm>
              <a:off x="395280" y="2349360"/>
              <a:ext cx="4033800" cy="3627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395280" y="2349360"/>
              <a:ext cx="4033800" cy="36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75" name="" descr=""/>
            <p:cNvPicPr/>
            <p:nvPr/>
          </p:nvPicPr>
          <p:blipFill>
            <a:blip r:embed="rId1"/>
            <a:stretch/>
          </p:blipFill>
          <p:spPr>
            <a:xfrm>
              <a:off x="395280" y="5670720"/>
              <a:ext cx="4033800" cy="3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6" name="" descr=""/>
            <p:cNvPicPr/>
            <p:nvPr/>
          </p:nvPicPr>
          <p:blipFill>
            <a:blip r:embed="rId2"/>
            <a:stretch/>
          </p:blipFill>
          <p:spPr>
            <a:xfrm>
              <a:off x="395280" y="5366160"/>
              <a:ext cx="40338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7" name="" descr=""/>
            <p:cNvPicPr/>
            <p:nvPr/>
          </p:nvPicPr>
          <p:blipFill>
            <a:blip r:embed="rId3"/>
            <a:stretch/>
          </p:blipFill>
          <p:spPr>
            <a:xfrm>
              <a:off x="395280" y="5060160"/>
              <a:ext cx="4033800" cy="3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8" name="" descr=""/>
            <p:cNvPicPr/>
            <p:nvPr/>
          </p:nvPicPr>
          <p:blipFill>
            <a:blip r:embed="rId4"/>
            <a:stretch/>
          </p:blipFill>
          <p:spPr>
            <a:xfrm>
              <a:off x="395280" y="4755240"/>
              <a:ext cx="40338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9" name="" descr=""/>
            <p:cNvPicPr/>
            <p:nvPr/>
          </p:nvPicPr>
          <p:blipFill>
            <a:blip r:embed="rId5"/>
            <a:stretch/>
          </p:blipFill>
          <p:spPr>
            <a:xfrm>
              <a:off x="395280" y="4449600"/>
              <a:ext cx="4033800" cy="30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0" name="" descr=""/>
            <p:cNvPicPr/>
            <p:nvPr/>
          </p:nvPicPr>
          <p:blipFill>
            <a:blip r:embed="rId6"/>
            <a:stretch/>
          </p:blipFill>
          <p:spPr>
            <a:xfrm>
              <a:off x="395280" y="4143240"/>
              <a:ext cx="4033800" cy="3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1" name="" descr=""/>
            <p:cNvPicPr/>
            <p:nvPr/>
          </p:nvPicPr>
          <p:blipFill>
            <a:blip r:embed="rId7"/>
            <a:stretch/>
          </p:blipFill>
          <p:spPr>
            <a:xfrm>
              <a:off x="395280" y="3838680"/>
              <a:ext cx="40338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2" name="" descr=""/>
            <p:cNvPicPr/>
            <p:nvPr/>
          </p:nvPicPr>
          <p:blipFill>
            <a:blip r:embed="rId8"/>
            <a:stretch/>
          </p:blipFill>
          <p:spPr>
            <a:xfrm>
              <a:off x="395280" y="3532680"/>
              <a:ext cx="4033800" cy="3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3" name="" descr=""/>
            <p:cNvPicPr/>
            <p:nvPr/>
          </p:nvPicPr>
          <p:blipFill>
            <a:blip r:embed="rId9"/>
            <a:stretch/>
          </p:blipFill>
          <p:spPr>
            <a:xfrm>
              <a:off x="395280" y="3228120"/>
              <a:ext cx="40338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4" name="" descr=""/>
            <p:cNvPicPr/>
            <p:nvPr/>
          </p:nvPicPr>
          <p:blipFill>
            <a:blip r:embed="rId10"/>
            <a:stretch/>
          </p:blipFill>
          <p:spPr>
            <a:xfrm>
              <a:off x="395280" y="2921760"/>
              <a:ext cx="4033800" cy="3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5" name="" descr=""/>
            <p:cNvPicPr/>
            <p:nvPr/>
          </p:nvPicPr>
          <p:blipFill>
            <a:blip r:embed="rId11"/>
            <a:stretch/>
          </p:blipFill>
          <p:spPr>
            <a:xfrm>
              <a:off x="395280" y="2616840"/>
              <a:ext cx="40338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6" name="" descr=""/>
            <p:cNvPicPr/>
            <p:nvPr/>
          </p:nvPicPr>
          <p:blipFill>
            <a:blip r:embed="rId12"/>
            <a:stretch/>
          </p:blipFill>
          <p:spPr>
            <a:xfrm>
              <a:off x="395280" y="2349360"/>
              <a:ext cx="4033800" cy="26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7" name=""/>
          <p:cNvSpPr/>
          <p:nvPr/>
        </p:nvSpPr>
        <p:spPr>
          <a:xfrm>
            <a:off x="971640" y="836640"/>
            <a:ext cx="2260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= exp.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=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8" name="" descr=""/>
          <p:cNvPicPr/>
          <p:nvPr/>
        </p:nvPicPr>
        <p:blipFill>
          <a:blip r:embed="rId13"/>
          <a:stretch/>
        </p:blipFill>
        <p:spPr>
          <a:xfrm>
            <a:off x="5003640" y="2276640"/>
            <a:ext cx="3861000" cy="386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B93-046E-4875-B791-0BF8387F2CD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"/>
          <p:cNvSpPr/>
          <p:nvPr/>
        </p:nvSpPr>
        <p:spPr>
          <a:xfrm>
            <a:off x="272160" y="79200"/>
            <a:ext cx="69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ations from 2002 data LARGE ANGLE p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304920" y="75564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er stat.: not so important for s.a. analysis,  helps for large angl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roved Trigger: L3 trigger helps to selec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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events, CV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stable background conditions: improve FILFO  systematic error as evaluated for s.a. analysis  (biggest error of exp. systema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1" name=""/>
          <p:cNvGrpSpPr/>
          <p:nvPr/>
        </p:nvGrpSpPr>
        <p:grpSpPr>
          <a:xfrm>
            <a:off x="2173320" y="2205000"/>
            <a:ext cx="4343040" cy="1904760"/>
            <a:chOff x="2173320" y="2205000"/>
            <a:chExt cx="4343040" cy="1904760"/>
          </a:xfrm>
        </p:grpSpPr>
        <p:pic>
          <p:nvPicPr>
            <p:cNvPr id="3092" name="" descr=""/>
            <p:cNvPicPr/>
            <p:nvPr/>
          </p:nvPicPr>
          <p:blipFill>
            <a:blip r:embed="rId4"/>
            <a:stretch/>
          </p:blipFill>
          <p:spPr>
            <a:xfrm>
              <a:off x="2173320" y="2205000"/>
              <a:ext cx="43430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3" name=""/>
            <p:cNvSpPr/>
            <p:nvPr/>
          </p:nvSpPr>
          <p:spPr>
            <a:xfrm>
              <a:off x="4824720" y="3863520"/>
              <a:ext cx="52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[MeV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4706280" y="2313720"/>
              <a:ext cx="142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Times New Roman"/>
                </a:rPr>
                <a:t>2001 runs (&gt;19057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687920" y="255348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2002 ru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6" name=""/>
          <p:cNvSpPr/>
          <p:nvPr/>
        </p:nvSpPr>
        <p:spPr>
          <a:xfrm>
            <a:off x="220320" y="4724280"/>
            <a:ext cx="81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Theory si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rovement in luminosity (MC generator BABAY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rovement in PHOKHARA: v4 (FSR for muons, ISR/FSR flag on phot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KHARA (generator for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ackgrou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251280" y="4292640"/>
            <a:ext cx="88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ocessing 2002 data with new FILFO would greatly improve systematic err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3D6-E134-444A-AE0C-7FB2C484FF3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"/>
          <p:cNvSpPr/>
          <p:nvPr/>
        </p:nvSpPr>
        <p:spPr>
          <a:xfrm>
            <a:off x="170280" y="5724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angle ppg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9" name=""/>
          <p:cNvGrpSpPr/>
          <p:nvPr/>
        </p:nvGrpSpPr>
        <p:grpSpPr>
          <a:xfrm>
            <a:off x="228600" y="1309680"/>
            <a:ext cx="3362400" cy="3224880"/>
            <a:chOff x="228600" y="1309680"/>
            <a:chExt cx="3362400" cy="3224880"/>
          </a:xfrm>
        </p:grpSpPr>
        <p:pic>
          <p:nvPicPr>
            <p:cNvPr id="3100" name="" descr=""/>
            <p:cNvPicPr/>
            <p:nvPr/>
          </p:nvPicPr>
          <p:blipFill>
            <a:blip r:embed="rId1"/>
            <a:stretch/>
          </p:blipFill>
          <p:spPr>
            <a:xfrm>
              <a:off x="228600" y="1309680"/>
              <a:ext cx="3329280" cy="28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1" name=""/>
            <p:cNvSpPr/>
            <p:nvPr/>
          </p:nvSpPr>
          <p:spPr>
            <a:xfrm>
              <a:off x="2895840" y="4128840"/>
              <a:ext cx="6951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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1222200" y="1309680"/>
              <a:ext cx="138312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lack=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ed=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reen=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704880" y="1852560"/>
              <a:ext cx="0" cy="2133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3086280" y="1842840"/>
              <a:ext cx="0" cy="2133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1266840" y="2376360"/>
              <a:ext cx="0" cy="1600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562480" y="2376360"/>
              <a:ext cx="0" cy="1600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7" name="" descr=""/>
          <p:cNvPicPr/>
          <p:nvPr/>
        </p:nvPicPr>
        <p:blipFill>
          <a:blip r:embed="rId2"/>
          <a:stretch/>
        </p:blipFill>
        <p:spPr>
          <a:xfrm>
            <a:off x="5413320" y="3284640"/>
            <a:ext cx="3048120" cy="2925720"/>
          </a:xfrm>
          <a:prstGeom prst="rect">
            <a:avLst/>
          </a:prstGeom>
          <a:ln w="0">
            <a:noFill/>
          </a:ln>
        </p:spPr>
      </p:pic>
      <p:sp>
        <p:nvSpPr>
          <p:cNvPr id="3108" name=""/>
          <p:cNvSpPr/>
          <p:nvPr/>
        </p:nvSpPr>
        <p:spPr>
          <a:xfrm>
            <a:off x="7229160" y="6140520"/>
            <a:ext cx="1186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(GeV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5770080" y="3124080"/>
            <a:ext cx="13831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lack=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d=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reen=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3694680" y="838080"/>
            <a:ext cx="49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rge angle = 5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1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5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13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7350480" y="3200400"/>
            <a:ext cx="15994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fter trkmass 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442800" y="4797360"/>
            <a:ext cx="42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but photon tagging is possible 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nematical cuts to rejec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3911400" y="1295280"/>
            <a:ext cx="44535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background sour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rejected by the likelih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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less than in the s.a. analys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ll reject by the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tr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more than in the s.a. analys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tr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s not en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609480" y="5419800"/>
            <a:ext cx="381240" cy="333360"/>
          </a:xfrm>
          <a:prstGeom prst="rightArrow">
            <a:avLst>
              <a:gd name="adj1" fmla="val 50000"/>
              <a:gd name="adj2" fmla="val 2859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437-CB94-45E0-B912-0F17A9D6517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"/>
          <p:cNvSpPr/>
          <p:nvPr/>
        </p:nvSpPr>
        <p:spPr>
          <a:xfrm>
            <a:off x="255600" y="8568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dicated cuts for PPG L.A.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6" name="" descr=""/>
          <p:cNvPicPr/>
          <p:nvPr/>
        </p:nvPicPr>
        <p:blipFill>
          <a:blip r:embed="rId1"/>
          <a:stretch/>
        </p:blipFill>
        <p:spPr>
          <a:xfrm>
            <a:off x="304920" y="1386000"/>
            <a:ext cx="3581280" cy="3396960"/>
          </a:xfrm>
          <a:prstGeom prst="rect">
            <a:avLst/>
          </a:prstGeom>
          <a:ln w="0">
            <a:noFill/>
          </a:ln>
        </p:spPr>
      </p:pic>
      <p:sp>
        <p:nvSpPr>
          <p:cNvPr id="3117" name=""/>
          <p:cNvSpPr/>
          <p:nvPr/>
        </p:nvSpPr>
        <p:spPr>
          <a:xfrm>
            <a:off x="4347720" y="1447920"/>
            <a:ext cx="1919880" cy="82404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lack=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Red=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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M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Green=</a:t>
            </a:r>
            <a:r>
              <a:rPr b="0" lang="en-US" sz="1600" spc="-1" strike="noStrike">
                <a:solidFill>
                  <a:srgbClr val="00ff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ff00"/>
                </a:solidFill>
                <a:latin typeface="Symbol"/>
                <a:ea typeface="Symbol"/>
              </a:rPr>
              <a:t></a:t>
            </a:r>
            <a:r>
              <a:rPr b="0" lang="en-US" sz="1600" spc="-1" strike="noStrike">
                <a:solidFill>
                  <a:srgbClr val="00ff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ff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ff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ff00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>
                <a:solidFill>
                  <a:srgbClr val="00ff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(M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3113280" y="4662360"/>
            <a:ext cx="750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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1965240" y="838080"/>
            <a:ext cx="57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rther request: at least 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large angl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 rot="16200000">
            <a:off x="-317880" y="1769400"/>
            <a:ext cx="125496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inv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(M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1" name="" descr=""/>
          <p:cNvPicPr/>
          <p:nvPr/>
        </p:nvPicPr>
        <p:blipFill>
          <a:blip r:embed="rId3"/>
          <a:stretch/>
        </p:blipFill>
        <p:spPr>
          <a:xfrm>
            <a:off x="5410080" y="2746440"/>
            <a:ext cx="3505320" cy="3355920"/>
          </a:xfrm>
          <a:prstGeom prst="rect">
            <a:avLst/>
          </a:prstGeom>
          <a:ln w="0">
            <a:noFill/>
          </a:ln>
        </p:spPr>
      </p:pic>
      <p:sp>
        <p:nvSpPr>
          <p:cNvPr id="3122" name=""/>
          <p:cNvSpPr/>
          <p:nvPr/>
        </p:nvSpPr>
        <p:spPr>
          <a:xfrm rot="16200000">
            <a:off x="4730760" y="2996640"/>
            <a:ext cx="1117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8307360" y="5991120"/>
            <a:ext cx="74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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 flipH="1">
            <a:off x="3733560" y="1905120"/>
            <a:ext cx="5331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6143760" y="232416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219960" y="5084640"/>
            <a:ext cx="478332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angle between the 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est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clust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mi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clust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mi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799920" y="167652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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1447920" y="2133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CD0-7612-44CE-9E4B-05B1E32EB3D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44160" y="-100080"/>
            <a:ext cx="74674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KLOE measurement of Kl3 sl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152280" y="685800"/>
            <a:ext cx="87631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oft kinematic cuts to reject pp and ppp for both ke3 k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Ke3 PID selection :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OF + NN(EMC energy related) for ke3 hy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Km3 PID selection: TOF  + NN km3 .and. NOT(NN for ke3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ID efficiency controlled (data-vs-MC) by using tight kine sel (90% pur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o rad correction, resolution effects included: 5%, 10% accuracy on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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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1" name=""/>
          <p:cNvGrpSpPr/>
          <p:nvPr/>
        </p:nvGrpSpPr>
        <p:grpSpPr>
          <a:xfrm>
            <a:off x="152280" y="2705040"/>
            <a:ext cx="8624880" cy="3605040"/>
            <a:chOff x="152280" y="2705040"/>
            <a:chExt cx="8624880" cy="3605040"/>
          </a:xfrm>
        </p:grpSpPr>
        <p:pic>
          <p:nvPicPr>
            <p:cNvPr id="3132" name="" descr=""/>
            <p:cNvPicPr/>
            <p:nvPr/>
          </p:nvPicPr>
          <p:blipFill>
            <a:blip r:embed="rId1"/>
            <a:srcRect l="0" t="11285" r="0" b="11285"/>
            <a:stretch/>
          </p:blipFill>
          <p:spPr>
            <a:xfrm>
              <a:off x="152280" y="2705040"/>
              <a:ext cx="4096080" cy="33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3" name="" descr=""/>
            <p:cNvPicPr/>
            <p:nvPr/>
          </p:nvPicPr>
          <p:blipFill>
            <a:blip r:embed="rId2"/>
            <a:srcRect l="0" t="11285" r="0" b="11285"/>
            <a:stretch/>
          </p:blipFill>
          <p:spPr>
            <a:xfrm>
              <a:off x="4684680" y="2735280"/>
              <a:ext cx="4092480" cy="337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4" name=""/>
            <p:cNvGrpSpPr/>
            <p:nvPr/>
          </p:nvGrpSpPr>
          <p:grpSpPr>
            <a:xfrm>
              <a:off x="2422440" y="3125160"/>
              <a:ext cx="5715000" cy="3184920"/>
              <a:chOff x="2422440" y="3125160"/>
              <a:chExt cx="5715000" cy="3184920"/>
            </a:xfrm>
          </p:grpSpPr>
          <p:sp>
            <p:nvSpPr>
              <p:cNvPr id="3135" name=""/>
              <p:cNvSpPr/>
              <p:nvPr/>
            </p:nvSpPr>
            <p:spPr>
              <a:xfrm>
                <a:off x="7223040" y="3125160"/>
                <a:ext cx="625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422440" y="3290400"/>
                <a:ext cx="584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e3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803680" y="5943960"/>
                <a:ext cx="761760" cy="36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Tre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451640" y="5943960"/>
                <a:ext cx="685800" cy="36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Tre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0C6-1876-4632-94CB-BFC3378B12E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3632" t="17095" r="12108" b="17095"/>
          <a:stretch/>
        </p:blipFill>
        <p:spPr>
          <a:xfrm>
            <a:off x="11160" y="1027080"/>
            <a:ext cx="4451400" cy="4923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12760" y="-2700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c0099"/>
                </a:solidFill>
                <a:latin typeface="Arial"/>
              </a:rPr>
              <a:t>Background considerations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3632" t="17095" r="12108" b="17095"/>
          <a:stretch/>
        </p:blipFill>
        <p:spPr>
          <a:xfrm>
            <a:off x="4572000" y="1027080"/>
            <a:ext cx="4451400" cy="492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2880" y="5589720"/>
            <a:ext cx="78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tinuous improvement in the background condition is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 the last weeks the situation is even better than at the end of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5960" y="69228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riggered Machine Backgro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KG   =  trigger lv2 rate  –  cosmic-ray events  –  physic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00 Hz                        100 Hz @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0920" y="3573000"/>
            <a:ext cx="9074160" cy="7308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15C-DDB2-4419-9A5A-E71BC1D789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685440" y="-27360"/>
            <a:ext cx="71262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us vith B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3603960" y="126828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1" name=""/>
          <p:cNvGrpSpPr/>
          <p:nvPr/>
        </p:nvGrpSpPr>
        <p:grpSpPr>
          <a:xfrm>
            <a:off x="2134080" y="907920"/>
            <a:ext cx="4525560" cy="903960"/>
            <a:chOff x="2134080" y="907920"/>
            <a:chExt cx="4525560" cy="903960"/>
          </a:xfrm>
        </p:grpSpPr>
        <p:sp>
          <p:nvSpPr>
            <p:cNvPr id="3142" name=""/>
            <p:cNvSpPr/>
            <p:nvPr/>
          </p:nvSpPr>
          <p:spPr>
            <a:xfrm>
              <a:off x="2134080" y="907920"/>
              <a:ext cx="724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|V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211120" y="1371240"/>
              <a:ext cx="61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575160" y="907920"/>
              <a:ext cx="46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861800" y="1365120"/>
              <a:ext cx="36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772160" y="90792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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505480" y="907920"/>
              <a:ext cx="1085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K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5601240" y="1371240"/>
              <a:ext cx="959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K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836800" y="1157040"/>
              <a:ext cx="25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0.5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0.05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240280" y="13539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3611880" y="1341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4881600" y="13413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5592960" y="13413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2976480" y="1724040"/>
            <a:ext cx="3192840" cy="464400"/>
            <a:chOff x="2976480" y="1724040"/>
            <a:chExt cx="3192840" cy="464400"/>
          </a:xfrm>
        </p:grpSpPr>
        <p:sp>
          <p:nvSpPr>
            <p:cNvPr id="3155" name=""/>
            <p:cNvSpPr/>
            <p:nvPr/>
          </p:nvSpPr>
          <p:spPr>
            <a:xfrm>
              <a:off x="3215520" y="1727280"/>
              <a:ext cx="22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4195800" y="172872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3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581800" y="172872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976480" y="172404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59" name=""/>
              <p:cNvSpPr txBox="1"/>
              <p:nvPr/>
            </p:nvSpPr>
            <p:spPr>
              <a:xfrm>
                <a:off x="123840" y="3851280"/>
                <a:ext cx="43974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</m:e>
                      <m: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0" name=""/>
              <p:cNvSpPr txBox="1"/>
              <p:nvPr/>
            </p:nvSpPr>
            <p:spPr>
              <a:xfrm>
                <a:off x="4780080" y="3814920"/>
                <a:ext cx="34844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7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s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1" name=""/>
          <p:cNvSpPr/>
          <p:nvPr/>
        </p:nvSpPr>
        <p:spPr>
          <a:xfrm>
            <a:off x="8402760" y="40561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2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2" name=""/>
              <p:cNvSpPr txBox="1"/>
              <p:nvPr/>
            </p:nvSpPr>
            <p:spPr>
              <a:xfrm>
                <a:off x="34920" y="2505240"/>
                <a:ext cx="42609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</m:e>
                      <m: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3" name=""/>
          <p:cNvSpPr/>
          <p:nvPr/>
        </p:nvSpPr>
        <p:spPr>
          <a:xfrm>
            <a:off x="8320320" y="26845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3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4" name=""/>
              <p:cNvSpPr txBox="1"/>
              <p:nvPr/>
            </p:nvSpPr>
            <p:spPr>
              <a:xfrm>
                <a:off x="4697280" y="2581200"/>
                <a:ext cx="34848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6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s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5" name=""/>
          <p:cNvSpPr/>
          <p:nvPr/>
        </p:nvSpPr>
        <p:spPr>
          <a:xfrm>
            <a:off x="4835520" y="4348080"/>
            <a:ext cx="3809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1400" spc="-1" strike="noStrike" baseline="30000">
                <a:solidFill>
                  <a:srgbClr val="3333cc"/>
                </a:solidFill>
                <a:latin typeface="Times New Roman"/>
              </a:rPr>
              <a:t>cut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50 MeV (Chiang ‘7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228600" y="5084640"/>
            <a:ext cx="8686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/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lculable from the slopes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vector and scalar form factor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1028880" y="5516640"/>
            <a:ext cx="71625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670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0.0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.018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0.0013, from ISTRA+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280080" y="4686480"/>
            <a:ext cx="705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/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671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0.0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direct measurement for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from KEK-E246 20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971640" y="5877000"/>
            <a:ext cx="716256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668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0.00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017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04, from one-loo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0" name=""/>
              <p:cNvSpPr txBox="1"/>
              <p:nvPr/>
            </p:nvSpPr>
            <p:spPr>
              <a:xfrm>
                <a:off x="2844720" y="3073320"/>
                <a:ext cx="52675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9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st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rm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1" name=""/>
          <p:cNvSpPr/>
          <p:nvPr/>
        </p:nvSpPr>
        <p:spPr>
          <a:xfrm>
            <a:off x="8190000" y="32940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70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1059480" y="31291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(E865,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B196-7C0F-4E60-AFCB-D684D376CA4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4920" y="-100080"/>
            <a:ext cx="77724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rged Kaons tag s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4" name=""/>
          <p:cNvGrpSpPr/>
          <p:nvPr/>
        </p:nvGrpSpPr>
        <p:grpSpPr>
          <a:xfrm>
            <a:off x="4500720" y="1773360"/>
            <a:ext cx="4343040" cy="4395240"/>
            <a:chOff x="4500720" y="1773360"/>
            <a:chExt cx="4343040" cy="4395240"/>
          </a:xfrm>
        </p:grpSpPr>
        <p:pic>
          <p:nvPicPr>
            <p:cNvPr id="3175" name="" descr=""/>
            <p:cNvPicPr/>
            <p:nvPr/>
          </p:nvPicPr>
          <p:blipFill>
            <a:blip r:embed="rId1"/>
            <a:srcRect l="16405" t="9140" r="18749" b="3765"/>
            <a:stretch/>
          </p:blipFill>
          <p:spPr>
            <a:xfrm>
              <a:off x="4500720" y="1773360"/>
              <a:ext cx="4343040" cy="43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6" name=""/>
            <p:cNvSpPr/>
            <p:nvPr/>
          </p:nvSpPr>
          <p:spPr>
            <a:xfrm>
              <a:off x="6280560" y="3146400"/>
              <a:ext cx="39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6000840" y="2489400"/>
              <a:ext cx="39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6193080" y="4053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302240" y="4453200"/>
              <a:ext cx="38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892760" y="3726720"/>
              <a:ext cx="1499760" cy="828720"/>
            </a:xfrm>
            <a:prstGeom prst="line">
              <a:avLst/>
            </a:prstGeom>
            <a:ln w="2232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5713560" y="4546800"/>
              <a:ext cx="678600" cy="971280"/>
            </a:xfrm>
            <a:prstGeom prst="line">
              <a:avLst/>
            </a:prstGeom>
            <a:ln w="2232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189760" y="34779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608800" y="48391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4" name=""/>
          <p:cNvSpPr/>
          <p:nvPr/>
        </p:nvSpPr>
        <p:spPr>
          <a:xfrm>
            <a:off x="152280" y="907920"/>
            <a:ext cx="441972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 events with a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 from 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mentum cu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 Me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30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y vertex in fiducial volume: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c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T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5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body decay identified in kaon rest fram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 pointing into the calori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ed cluster on the Barrel with E&gt;90 MeV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c Trigger satisfied by muon cluster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5089680" y="930240"/>
            <a:ext cx="374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BR measurement via a Tag techn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53B-FED3-4F86-8D98-D902527DB4F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250920" y="-163440"/>
            <a:ext cx="7772400" cy="78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ged Kaons (Kl3) selection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76320" y="1438200"/>
            <a:ext cx="4572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l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-prong kaon decay vertex in the fiducial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ject two-body dec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5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earch: 2 neutral clusters in EmC, with ToF matching the K decay vertex 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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)&lt;3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pectrum of charged daughter mass,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from TOF measur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123840" y="541008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0" lang="en-GB" sz="2400" spc="-1" strike="noStrike" baseline="30000">
                <a:solidFill>
                  <a:srgbClr val="009900"/>
                </a:solidFill>
                <a:latin typeface="Times New Roman"/>
              </a:rPr>
              <a:t>decay</a:t>
            </a:r>
            <a:r>
              <a:rPr b="0" lang="en-GB" sz="2400" spc="-1" strike="noStrike" baseline="-25000">
                <a:solidFill>
                  <a:srgbClr val="009900"/>
                </a:solidFill>
                <a:latin typeface="Times New Roman"/>
              </a:rPr>
              <a:t>K 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= t</a:t>
            </a:r>
            <a:r>
              <a:rPr b="0" lang="en-GB" sz="2400" spc="-1" strike="noStrike" baseline="-25000">
                <a:solidFill>
                  <a:srgbClr val="009900"/>
                </a:solidFill>
                <a:latin typeface="Times New Roman"/>
              </a:rPr>
              <a:t>lept 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-L</a:t>
            </a:r>
            <a:r>
              <a:rPr b="0" lang="en-GB" sz="2400" spc="-1" strike="noStrike" baseline="-25000">
                <a:solidFill>
                  <a:srgbClr val="009900"/>
                </a:solidFill>
                <a:latin typeface="Times New Roman"/>
              </a:rPr>
              <a:t>lept 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/(</a:t>
            </a:r>
            <a:r>
              <a:rPr b="0" lang="en-GB" sz="2400" spc="-1" strike="noStrike">
                <a:solidFill>
                  <a:srgbClr val="0099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25000">
                <a:solidFill>
                  <a:srgbClr val="009900"/>
                </a:solidFill>
                <a:latin typeface="Times New Roman"/>
              </a:rPr>
              <a:t>lept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c) = </a:t>
            </a:r>
            <a:r>
              <a:rPr b="0" lang="en-GB" sz="2400" spc="-1" strike="noStrike">
                <a:solidFill>
                  <a:srgbClr val="009900"/>
                </a:solidFill>
                <a:latin typeface="Symbol"/>
                <a:ea typeface="Symbol"/>
              </a:rPr>
              <a:t>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-L</a:t>
            </a:r>
            <a:r>
              <a:rPr b="0" lang="en-GB" sz="24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/c</a:t>
            </a:r>
            <a:r>
              <a:rPr b="0" lang="en-GB" sz="2400" spc="-1" strike="noStrike">
                <a:solidFill>
                  <a:srgbClr val="0099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9" name=""/>
          <p:cNvGrpSpPr/>
          <p:nvPr/>
        </p:nvGrpSpPr>
        <p:grpSpPr>
          <a:xfrm>
            <a:off x="4724280" y="1268280"/>
            <a:ext cx="4343040" cy="4395600"/>
            <a:chOff x="4724280" y="1268280"/>
            <a:chExt cx="4343040" cy="4395600"/>
          </a:xfrm>
        </p:grpSpPr>
        <p:pic>
          <p:nvPicPr>
            <p:cNvPr id="3190" name="" descr=""/>
            <p:cNvPicPr/>
            <p:nvPr/>
          </p:nvPicPr>
          <p:blipFill>
            <a:blip r:embed="rId1"/>
            <a:srcRect l="16405" t="9140" r="18749" b="3765"/>
            <a:stretch/>
          </p:blipFill>
          <p:spPr>
            <a:xfrm>
              <a:off x="4724280" y="1268280"/>
              <a:ext cx="4343040" cy="43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1" name=""/>
            <p:cNvSpPr/>
            <p:nvPr/>
          </p:nvSpPr>
          <p:spPr>
            <a:xfrm>
              <a:off x="6504120" y="2641320"/>
              <a:ext cx="39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224400" y="1984320"/>
              <a:ext cx="39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6416640" y="35485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7525800" y="3948480"/>
              <a:ext cx="38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116320" y="3222000"/>
              <a:ext cx="1499760" cy="828720"/>
            </a:xfrm>
            <a:prstGeom prst="line">
              <a:avLst/>
            </a:prstGeom>
            <a:ln w="2232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H="1">
              <a:off x="5937120" y="4042080"/>
              <a:ext cx="678600" cy="971280"/>
            </a:xfrm>
            <a:prstGeom prst="line">
              <a:avLst/>
            </a:prstGeom>
            <a:ln w="2232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413320" y="2973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832360" y="43340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AA1-B91D-410D-90F7-D1E68C08A01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9" name="" descr=""/>
          <p:cNvPicPr/>
          <p:nvPr/>
        </p:nvPicPr>
        <p:blipFill>
          <a:blip r:embed="rId1">
            <a:lum contrast="100000"/>
          </a:blip>
          <a:srcRect l="8683" t="29340" r="20158" b="13607"/>
          <a:stretch/>
        </p:blipFill>
        <p:spPr>
          <a:xfrm>
            <a:off x="0" y="3357720"/>
            <a:ext cx="3657600" cy="2931840"/>
          </a:xfrm>
          <a:prstGeom prst="rect">
            <a:avLst/>
          </a:prstGeom>
          <a:ln w="0">
            <a:noFill/>
          </a:ln>
        </p:spPr>
      </p:pic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-181080" y="-100080"/>
            <a:ext cx="77724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rged Kaons (Kl3) selection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1" name="" descr=""/>
          <p:cNvPicPr/>
          <p:nvPr/>
        </p:nvPicPr>
        <p:blipFill>
          <a:blip r:embed="rId2">
            <a:lum contrast="18000"/>
          </a:blip>
          <a:srcRect l="2939" t="14421" r="15570" b="9827"/>
          <a:stretch/>
        </p:blipFill>
        <p:spPr>
          <a:xfrm>
            <a:off x="3657600" y="914400"/>
            <a:ext cx="5486400" cy="5100480"/>
          </a:xfrm>
          <a:prstGeom prst="rect">
            <a:avLst/>
          </a:prstGeom>
          <a:ln w="0">
            <a:noFill/>
          </a:ln>
        </p:spPr>
      </p:pic>
      <p:sp>
        <p:nvSpPr>
          <p:cNvPr id="3202" name=""/>
          <p:cNvSpPr/>
          <p:nvPr/>
        </p:nvSpPr>
        <p:spPr>
          <a:xfrm>
            <a:off x="152280" y="1146240"/>
            <a:ext cx="3657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trum of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e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2001-2002 data-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80p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t with a linear combination of Ke3 and 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shapes, and background contribu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29480" y="4952880"/>
            <a:ext cx="10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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2680560" y="4572000"/>
            <a:ext cx="10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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2139840" y="3581280"/>
            <a:ext cx="8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</a:t>
            </a:r>
            <a:r>
              <a:rPr b="0" lang="en-US" sz="2400" spc="-1" strike="noStrike" baseline="30000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838080" y="5486400"/>
            <a:ext cx="152640" cy="5335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 flipH="1">
            <a:off x="2209320" y="4952880"/>
            <a:ext cx="38124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 flipH="1">
            <a:off x="1742400" y="3879360"/>
            <a:ext cx="400680" cy="31788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86E-AA05-4738-88F2-67E924A833E4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58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ckground rejection-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0" name="" descr=""/>
          <p:cNvPicPr/>
          <p:nvPr/>
        </p:nvPicPr>
        <p:blipFill>
          <a:blip r:embed="rId1">
            <a:lum contrast="100000"/>
          </a:blip>
          <a:srcRect l="7533" t="21308" r="20158" b="12126"/>
          <a:stretch/>
        </p:blipFill>
        <p:spPr>
          <a:xfrm>
            <a:off x="4495680" y="914400"/>
            <a:ext cx="3581640" cy="3297240"/>
          </a:xfrm>
          <a:prstGeom prst="rect">
            <a:avLst/>
          </a:prstGeom>
          <a:ln w="0">
            <a:noFill/>
          </a:ln>
        </p:spPr>
      </p:pic>
      <p:pic>
        <p:nvPicPr>
          <p:cNvPr id="3211" name="" descr=""/>
          <p:cNvPicPr/>
          <p:nvPr/>
        </p:nvPicPr>
        <p:blipFill>
          <a:blip r:embed="rId2">
            <a:lum contrast="100000"/>
          </a:blip>
          <a:srcRect l="10977" t="19144" r="19676" b="13824"/>
          <a:stretch/>
        </p:blipFill>
        <p:spPr>
          <a:xfrm>
            <a:off x="228600" y="969840"/>
            <a:ext cx="3809880" cy="3683160"/>
          </a:xfrm>
          <a:prstGeom prst="rect">
            <a:avLst/>
          </a:prstGeom>
          <a:ln w="0">
            <a:noFill/>
          </a:ln>
        </p:spPr>
      </p:pic>
      <p:sp>
        <p:nvSpPr>
          <p:cNvPr id="3212" name=""/>
          <p:cNvSpPr/>
          <p:nvPr/>
        </p:nvSpPr>
        <p:spPr>
          <a:xfrm>
            <a:off x="249120" y="4724280"/>
            <a:ext cx="39625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itz decay, give a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e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der the Ke3 peak; they are rejected cutting on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trum (&lt;100MeV)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mentum from a kinematic f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4600440" y="4292640"/>
            <a:ext cx="47246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earl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a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e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der the 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pe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mentum from a kinematic f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of missing momen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t on momentum of the secondary track in th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st frame (P&gt;60 M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2440440" y="4022640"/>
            <a:ext cx="183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i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3143160" y="1660680"/>
            <a:ext cx="12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</a:t>
            </a:r>
            <a:r>
              <a:rPr b="0" lang="en-US" sz="2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3276720" y="2666880"/>
            <a:ext cx="0" cy="138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5506920" y="91440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</a:t>
            </a:r>
            <a:r>
              <a:rPr b="0" lang="en-US" sz="2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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6934320" y="1508040"/>
            <a:ext cx="12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7386480" y="2193840"/>
            <a:ext cx="13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7484760" y="3429000"/>
            <a:ext cx="12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cc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</a:t>
            </a:r>
            <a:r>
              <a:rPr b="0" lang="en-US" sz="2000" spc="-1" strike="noStrike" baseline="30000">
                <a:solidFill>
                  <a:srgbClr val="00cc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cc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7772400" y="38862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M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5943600" y="2352600"/>
            <a:ext cx="0" cy="138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523-BF2E-461E-A6E6-7322DF8C2952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685800" y="-171360"/>
            <a:ext cx="69105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ckground rejection-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4" name="" descr=""/>
          <p:cNvPicPr/>
          <p:nvPr/>
        </p:nvPicPr>
        <p:blipFill>
          <a:blip r:embed="rId1">
            <a:lum contrast="100000"/>
          </a:blip>
          <a:srcRect l="8683" t="30490" r="20158" b="13271"/>
          <a:stretch/>
        </p:blipFill>
        <p:spPr>
          <a:xfrm>
            <a:off x="76320" y="2719440"/>
            <a:ext cx="4267080" cy="3373560"/>
          </a:xfrm>
          <a:prstGeom prst="rect">
            <a:avLst/>
          </a:prstGeom>
          <a:ln w="0">
            <a:noFill/>
          </a:ln>
        </p:spPr>
      </p:pic>
      <p:sp>
        <p:nvSpPr>
          <p:cNvPr id="3225" name=""/>
          <p:cNvSpPr/>
          <p:nvPr/>
        </p:nvSpPr>
        <p:spPr>
          <a:xfrm>
            <a:off x="304920" y="1054080"/>
            <a:ext cx="358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evious cuts reject 85% of backgroun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fficiency on the signal is 85% for Ke3 and 80% for 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6" name="" descr=""/>
          <p:cNvPicPr/>
          <p:nvPr/>
        </p:nvPicPr>
        <p:blipFill>
          <a:blip r:embed="rId2">
            <a:lum contrast="12000"/>
          </a:blip>
          <a:srcRect l="1795" t="14421" r="14421" b="9827"/>
          <a:stretch/>
        </p:blipFill>
        <p:spPr>
          <a:xfrm>
            <a:off x="3786120" y="836640"/>
            <a:ext cx="525780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4FC-3FDD-42CE-848B-BF45B7A266BA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"/>
          <p:cNvSpPr/>
          <p:nvPr/>
        </p:nvSpPr>
        <p:spPr>
          <a:xfrm>
            <a:off x="169200" y="1752480"/>
            <a:ext cx="891180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(data) = 4 even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elected as signal, with efficiency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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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(bkg) = 3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.4 (stat.)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0.2 (sys.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kg events expected from M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olding the proper BKG uncertainty we ge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8" name=""/>
          <p:cNvGrpSpPr/>
          <p:nvPr/>
        </p:nvGrpSpPr>
        <p:grpSpPr>
          <a:xfrm>
            <a:off x="2971800" y="5210280"/>
            <a:ext cx="4800240" cy="1005120"/>
            <a:chOff x="2971800" y="5210280"/>
            <a:chExt cx="4800240" cy="1005120"/>
          </a:xfrm>
        </p:grpSpPr>
        <p:sp>
          <p:nvSpPr>
            <p:cNvPr id="3229" name=""/>
            <p:cNvSpPr/>
            <p:nvPr/>
          </p:nvSpPr>
          <p:spPr>
            <a:xfrm>
              <a:off x="2971800" y="5410080"/>
              <a:ext cx="4800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000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| =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        &lt; 2.4 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0" name=""/>
            <p:cNvGrpSpPr/>
            <p:nvPr/>
          </p:nvGrpSpPr>
          <p:grpSpPr>
            <a:xfrm>
              <a:off x="4019040" y="5210280"/>
              <a:ext cx="2414160" cy="1005120"/>
              <a:chOff x="4019040" y="5210280"/>
              <a:chExt cx="2414160" cy="1005120"/>
            </a:xfrm>
          </p:grpSpPr>
          <p:sp>
            <p:nvSpPr>
              <p:cNvPr id="3231" name=""/>
              <p:cNvSpPr/>
              <p:nvPr/>
            </p:nvSpPr>
            <p:spPr>
              <a:xfrm>
                <a:off x="4100400" y="5210280"/>
                <a:ext cx="19252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A(K</a:t>
                </a:r>
                <a:r>
                  <a:rPr b="0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4100760" y="5740200"/>
                <a:ext cx="19342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A(K</a:t>
                </a:r>
                <a:r>
                  <a:rPr b="0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4135680" y="5708520"/>
                <a:ext cx="21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4019040" y="5316840"/>
                <a:ext cx="0" cy="83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433200" y="5288760"/>
                <a:ext cx="0" cy="83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6" name=""/>
          <p:cNvSpPr/>
          <p:nvPr/>
        </p:nvSpPr>
        <p:spPr>
          <a:xfrm>
            <a:off x="2848320" y="4597560"/>
            <a:ext cx="129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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2941560" y="464328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281880" y="4363920"/>
            <a:ext cx="254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(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4161600" y="4359240"/>
            <a:ext cx="344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 2.1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-7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2854800" y="4114800"/>
            <a:ext cx="129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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152280" y="3290760"/>
            <a:ext cx="906804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ize to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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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unts in same data set 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38x10</a:t>
            </a:r>
            <a:r>
              <a:rPr b="1" lang="en-US" sz="2600" spc="-1" strike="noStrike" baseline="30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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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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5837760" y="2666880"/>
            <a:ext cx="302292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5.8  @ 90% 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212760" y="914400"/>
            <a:ext cx="8550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L optimized by varying in MC: Signal-Box definition,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fi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d the  residual 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nergy 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= 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/2-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We fi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306000" y="545004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is translate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0" y="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0099"/>
                </a:solidFill>
                <a:latin typeface="Symbol"/>
                <a:ea typeface="Symbol"/>
              </a:rPr>
              <a:t></a:t>
            </a:r>
            <a:r>
              <a:rPr b="0" lang="it-IT" sz="4000" spc="-1" strike="noStrike" baseline="-25000">
                <a:solidFill>
                  <a:srgbClr val="cc0099"/>
                </a:solidFill>
                <a:latin typeface="Arial"/>
              </a:rPr>
              <a:t>s </a:t>
            </a:r>
            <a:r>
              <a:rPr b="0" lang="it-IT" sz="40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it-IT" sz="4000" spc="-1" strike="noStrike">
                <a:solidFill>
                  <a:srgbClr val="cc0099"/>
                </a:solidFill>
                <a:latin typeface="Arial"/>
              </a:rPr>
              <a:t>3</a:t>
            </a:r>
            <a:r>
              <a:rPr b="0" lang="it-IT" sz="4000" spc="-1" strike="noStrike">
                <a:solidFill>
                  <a:srgbClr val="cc0099"/>
                </a:solidFill>
                <a:latin typeface="Symbol"/>
                <a:ea typeface="Symbol"/>
              </a:rPr>
              <a:t></a:t>
            </a:r>
            <a:r>
              <a:rPr b="0" lang="it-IT" sz="4000" spc="-1" strike="noStrike" baseline="30000">
                <a:solidFill>
                  <a:srgbClr val="cc0099"/>
                </a:solidFill>
                <a:latin typeface="Arial"/>
              </a:rPr>
              <a:t>0</a:t>
            </a:r>
            <a:r>
              <a:rPr b="0" lang="it-IT" sz="4000" spc="-1" strike="noStrike">
                <a:solidFill>
                  <a:srgbClr val="cc0099"/>
                </a:solidFill>
                <a:latin typeface="Arial"/>
              </a:rPr>
              <a:t>: preliminary res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 rot="1713600">
            <a:off x="7014240" y="4267080"/>
            <a:ext cx="22762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Kloe 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488-FDFD-4AF4-AAA4-017C98895F3C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"/>
          <p:cNvSpPr/>
          <p:nvPr/>
        </p:nvSpPr>
        <p:spPr>
          <a:xfrm>
            <a:off x="228600" y="1144440"/>
            <a:ext cx="3505320" cy="14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nematic closure: obtai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momentum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P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rom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est for presence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utrin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8" name=""/>
          <p:cNvGrpSpPr/>
          <p:nvPr/>
        </p:nvGrpSpPr>
        <p:grpSpPr>
          <a:xfrm>
            <a:off x="3885840" y="914400"/>
            <a:ext cx="5333400" cy="4913640"/>
            <a:chOff x="3885840" y="914400"/>
            <a:chExt cx="5333400" cy="4913640"/>
          </a:xfrm>
        </p:grpSpPr>
        <p:pic>
          <p:nvPicPr>
            <p:cNvPr id="3249" name="" descr=""/>
            <p:cNvPicPr/>
            <p:nvPr/>
          </p:nvPicPr>
          <p:blipFill>
            <a:blip r:embed="rId1"/>
            <a:srcRect l="30786" t="38105" r="3159" b="12722"/>
            <a:stretch/>
          </p:blipFill>
          <p:spPr>
            <a:xfrm>
              <a:off x="4483800" y="914400"/>
              <a:ext cx="4492440" cy="45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0" name=""/>
            <p:cNvSpPr/>
            <p:nvPr/>
          </p:nvSpPr>
          <p:spPr>
            <a:xfrm>
              <a:off x="4843080" y="2442600"/>
              <a:ext cx="1119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539680" y="542376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6899400" y="54291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245480" y="5290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3885840" y="46191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3885840" y="39560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3885840" y="32385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3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6325920" y="5429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4918320" y="542376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885840" y="25552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3885840" y="18403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4283280" y="542376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533360" y="54291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670640" y="1400760"/>
              <a:ext cx="2546640" cy="9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si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bk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885840" y="1177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6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148960" y="54291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782560" y="54291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7" name=""/>
          <p:cNvSpPr/>
          <p:nvPr/>
        </p:nvSpPr>
        <p:spPr>
          <a:xfrm>
            <a:off x="6227640" y="5791320"/>
            <a:ext cx="246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mis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–c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mis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228600" y="4495680"/>
            <a:ext cx="365760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number of signal counts by fitting data to a linear combination of MC spectra for signal and B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9" name=""/>
          <p:cNvGrpSpPr/>
          <p:nvPr/>
        </p:nvGrpSpPr>
        <p:grpSpPr>
          <a:xfrm>
            <a:off x="152280" y="3017880"/>
            <a:ext cx="3796920" cy="997560"/>
            <a:chOff x="152280" y="3017880"/>
            <a:chExt cx="3796920" cy="997560"/>
          </a:xfrm>
        </p:grpSpPr>
        <p:sp>
          <p:nvSpPr>
            <p:cNvPr id="3270" name=""/>
            <p:cNvSpPr/>
            <p:nvPr/>
          </p:nvSpPr>
          <p:spPr>
            <a:xfrm>
              <a:off x="152280" y="3017880"/>
              <a:ext cx="379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is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305360" y="3079800"/>
              <a:ext cx="132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52280" y="3505320"/>
              <a:ext cx="379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is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|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– 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– 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3" name=""/>
          <p:cNvSpPr/>
          <p:nvPr/>
        </p:nvSpPr>
        <p:spPr>
          <a:xfrm>
            <a:off x="0" y="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0099"/>
                </a:solidFill>
                <a:latin typeface="Symbol"/>
                <a:ea typeface="Symbol"/>
              </a:rPr>
              <a:t></a:t>
            </a:r>
            <a:r>
              <a:rPr b="0" lang="it-IT" sz="4000" spc="-1" strike="noStrike" baseline="-25000">
                <a:solidFill>
                  <a:srgbClr val="cc0099"/>
                </a:solidFill>
                <a:latin typeface="Arial"/>
              </a:rPr>
              <a:t>s </a:t>
            </a:r>
            <a:r>
              <a:rPr b="0" lang="it-IT" sz="4000" spc="-1" strike="noStrike">
                <a:solidFill>
                  <a:srgbClr val="cc0099"/>
                </a:solidFill>
                <a:latin typeface="Symbol"/>
                <a:ea typeface="Symbol"/>
              </a:rPr>
              <a:t></a:t>
            </a:r>
            <a:r>
              <a:rPr b="0" lang="it-IT" sz="40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it-IT" sz="4000" spc="-1" strike="noStrike">
                <a:solidFill>
                  <a:srgbClr val="cc0099"/>
                </a:solidFill>
                <a:latin typeface="Symbol"/>
                <a:ea typeface="Symbol"/>
              </a:rPr>
              <a:t></a:t>
            </a:r>
            <a:r>
              <a:rPr b="0" lang="it-IT" sz="4000" spc="-1" strike="noStrike">
                <a:solidFill>
                  <a:srgbClr val="cc0099"/>
                </a:solidFill>
                <a:latin typeface="Arial"/>
              </a:rPr>
              <a:t>decay: events cou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770-A812-489D-900E-91ED48FE6A0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7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quality cri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5" name="" descr=""/>
          <p:cNvPicPr/>
          <p:nvPr/>
        </p:nvPicPr>
        <p:blipFill>
          <a:blip r:embed="rId1"/>
          <a:srcRect l="3686" t="32341" r="4034" b="39034"/>
          <a:stretch/>
        </p:blipFill>
        <p:spPr>
          <a:xfrm>
            <a:off x="3022560" y="914400"/>
            <a:ext cx="6095880" cy="2676600"/>
          </a:xfrm>
          <a:prstGeom prst="rect">
            <a:avLst/>
          </a:prstGeom>
          <a:ln w="0">
            <a:noFill/>
          </a:ln>
        </p:spPr>
      </p:pic>
      <p:pic>
        <p:nvPicPr>
          <p:cNvPr id="3276" name="" descr=""/>
          <p:cNvPicPr/>
          <p:nvPr/>
        </p:nvPicPr>
        <p:blipFill>
          <a:blip r:embed="rId2"/>
          <a:srcRect l="4208" t="32096" r="4208" b="39406"/>
          <a:stretch/>
        </p:blipFill>
        <p:spPr>
          <a:xfrm>
            <a:off x="3060720" y="3517920"/>
            <a:ext cx="6057720" cy="2668680"/>
          </a:xfrm>
          <a:prstGeom prst="rect">
            <a:avLst/>
          </a:prstGeom>
          <a:ln w="0">
            <a:noFill/>
          </a:ln>
        </p:spPr>
      </p:pic>
      <p:sp>
        <p:nvSpPr>
          <p:cNvPr id="3277" name=""/>
          <p:cNvSpPr/>
          <p:nvPr/>
        </p:nvSpPr>
        <p:spPr>
          <a:xfrm>
            <a:off x="3775320" y="100332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 (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3775320" y="363204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 (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6319800" y="542916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un number in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6324480" y="279396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un number in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76320" y="944640"/>
            <a:ext cx="3124080" cy="52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01520">
              <a:lnSpc>
                <a:spcPct val="9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1-MeV change in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 reflects on a 0.5% variation of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accep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101520">
              <a:lnSpc>
                <a:spcPct val="9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ivide data set according to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 valu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279720">
              <a:lnSpc>
                <a:spcPct val="9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Max variation inside a period,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200 k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279720">
              <a:lnSpc>
                <a:spcPct val="9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Max integrated luminosity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5 pb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101520">
              <a:lnSpc>
                <a:spcPct val="9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ims at rejecting runs acquired during instable conditions (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 rapid chang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79C-5B01-443F-91BF-06D8AA60712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395280" y="-157680"/>
            <a:ext cx="8229600" cy="7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quality cri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76320" y="990720"/>
            <a:ext cx="304776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44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 to segment data set also assures (even if not always...) stable conditions of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moment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19044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afe estimates of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momentum and luminous point position are requi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19044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 run-by-run correspondence between data and Monte Carlo must h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4" name="" descr=""/>
          <p:cNvPicPr/>
          <p:nvPr/>
        </p:nvPicPr>
        <p:blipFill>
          <a:blip r:embed="rId1"/>
          <a:srcRect l="5262" t="31973" r="3860" b="39406"/>
          <a:stretch/>
        </p:blipFill>
        <p:spPr>
          <a:xfrm>
            <a:off x="3276720" y="990720"/>
            <a:ext cx="5753160" cy="2565360"/>
          </a:xfrm>
          <a:prstGeom prst="rect">
            <a:avLst/>
          </a:prstGeom>
          <a:ln w="0">
            <a:noFill/>
          </a:ln>
        </p:spPr>
      </p:pic>
      <p:pic>
        <p:nvPicPr>
          <p:cNvPr id="3285" name="" descr=""/>
          <p:cNvPicPr/>
          <p:nvPr/>
        </p:nvPicPr>
        <p:blipFill>
          <a:blip r:embed="rId2"/>
          <a:srcRect l="5262" t="32096" r="4034" b="39529"/>
          <a:stretch/>
        </p:blipFill>
        <p:spPr>
          <a:xfrm>
            <a:off x="3276720" y="3522600"/>
            <a:ext cx="5753160" cy="2548080"/>
          </a:xfrm>
          <a:prstGeom prst="rect">
            <a:avLst/>
          </a:prstGeom>
          <a:ln w="0">
            <a:noFill/>
          </a:ln>
        </p:spPr>
      </p:pic>
      <p:sp>
        <p:nvSpPr>
          <p:cNvPr id="3286" name=""/>
          <p:cNvSpPr/>
          <p:nvPr/>
        </p:nvSpPr>
        <p:spPr>
          <a:xfrm>
            <a:off x="3885480" y="1104840"/>
            <a:ext cx="174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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6319800" y="542916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un number in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6324480" y="279396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un number in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3890160" y="3632040"/>
            <a:ext cx="174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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2590920" y="1981080"/>
            <a:ext cx="1828800" cy="99072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338-934C-4E36-95B7-1CA634A2DAE7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1120" y="-27000"/>
            <a:ext cx="7239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c0099"/>
                </a:solidFill>
                <a:latin typeface="Arial"/>
              </a:rPr>
              <a:t>Background considerations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3632" t="17095" r="12108" b="17095"/>
          <a:stretch/>
        </p:blipFill>
        <p:spPr>
          <a:xfrm>
            <a:off x="119160" y="1017720"/>
            <a:ext cx="4459320" cy="4932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3632" t="17095" r="12108" b="17095"/>
          <a:stretch/>
        </p:blipFill>
        <p:spPr>
          <a:xfrm>
            <a:off x="4572000" y="1027080"/>
            <a:ext cx="4451400" cy="4923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03240" y="5805360"/>
            <a:ext cx="699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milar considerations apply also to the charged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6600" y="6922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CH triggered machine BKG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C lv2 rate  –  cosmic-ray events  –     physic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60 Hz                       50 Hz @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0920" y="3860280"/>
            <a:ext cx="9074160" cy="7308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BD8-5A52-49C1-B7B2-8EB8A689D2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990360" y="-76320"/>
            <a:ext cx="5257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– BR’s and A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2" name="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3293" name=""/>
          <p:cNvSpPr/>
          <p:nvPr/>
        </p:nvSpPr>
        <p:spPr>
          <a:xfrm>
            <a:off x="914400" y="4950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4" name=""/>
          <p:cNvGrpSpPr/>
          <p:nvPr/>
        </p:nvGrpSpPr>
        <p:grpSpPr>
          <a:xfrm>
            <a:off x="152280" y="1447920"/>
            <a:ext cx="6858000" cy="1938960"/>
            <a:chOff x="152280" y="1447920"/>
            <a:chExt cx="6858000" cy="1938960"/>
          </a:xfrm>
        </p:grpSpPr>
        <p:sp>
          <p:nvSpPr>
            <p:cNvPr id="3295" name=""/>
            <p:cNvSpPr/>
            <p:nvPr/>
          </p:nvSpPr>
          <p:spPr>
            <a:xfrm>
              <a:off x="533520" y="1447920"/>
              <a:ext cx="5867280" cy="19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152280" y="3016080"/>
              <a:ext cx="6858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ublished result:  (6.9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0.34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omic Sans MS"/>
                </a:rPr>
                <a:t>stat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0.15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omic Sans MS"/>
                </a:rPr>
                <a:t>syst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) 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-4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, KLOE ’0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7" name=""/>
          <p:cNvSpPr/>
          <p:nvPr/>
        </p:nvSpPr>
        <p:spPr>
          <a:xfrm>
            <a:off x="304920" y="3708360"/>
            <a:ext cx="3962160" cy="10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= (-2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9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tat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6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yst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)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                         First measurement of A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S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228600" y="4952880"/>
            <a:ext cx="8534520" cy="1466640"/>
          </a:xfrm>
          <a:prstGeom prst="rect">
            <a:avLst/>
          </a:prstGeom>
          <a:solidFill>
            <a:srgbClr val="ffffff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With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2 f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KLOE can measu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t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or competitive limit on CPT violation need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to 1.5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20 fb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cfr. CPLEAR ’98   Re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δ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(3.0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± 3.4 )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4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152280" y="1371600"/>
            <a:ext cx="792504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BR</a:t>
            </a:r>
            <a:r>
              <a:rPr b="1" i="1" lang="it-IT" sz="2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i="1" lang="it-IT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it-IT" sz="2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i="1" lang="it-IT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i="1" lang="it-IT" sz="2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it-IT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ν</a:t>
            </a:r>
            <a:r>
              <a:rPr b="1" i="1" lang="en-US" sz="22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 = (3.54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±</a:t>
            </a:r>
            <a:r>
              <a:rPr b="1" lang="it-IT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0.05</a:t>
            </a:r>
            <a:r>
              <a:rPr b="1" lang="it-IT" sz="2200" spc="-1" strike="noStrike" baseline="-25000">
                <a:solidFill>
                  <a:srgbClr val="ff0000"/>
                </a:solidFill>
                <a:latin typeface="Comic Sans MS"/>
              </a:rPr>
              <a:t>stat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±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 0.05</a:t>
            </a:r>
            <a:r>
              <a:rPr b="1" lang="it-IT" sz="2200" spc="-1" strike="noStrike" baseline="-25000">
                <a:solidFill>
                  <a:srgbClr val="ff0000"/>
                </a:solidFill>
                <a:latin typeface="Comic Sans MS"/>
              </a:rPr>
              <a:t>syst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×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10</a:t>
            </a:r>
            <a:r>
              <a:rPr b="1" lang="it-IT" sz="2200" spc="-1" strike="noStrike" baseline="30000">
                <a:solidFill>
                  <a:srgbClr val="ff0000"/>
                </a:solidFill>
                <a:latin typeface="Comic Sans MS"/>
              </a:rPr>
              <a:t>-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BR</a:t>
            </a:r>
            <a:r>
              <a:rPr b="1" i="1" lang="en-US" sz="2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i="1" lang="it-IT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π</a:t>
            </a:r>
            <a:r>
              <a:rPr b="1" i="1" lang="it-IT" sz="26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+</a:t>
            </a:r>
            <a:r>
              <a:rPr b="1" i="1" lang="it-IT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i="1" lang="it-IT" sz="26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1" i="1" lang="it-IT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ν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 = (3.54 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±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 0.05</a:t>
            </a:r>
            <a:r>
              <a:rPr b="1" lang="it-IT" sz="2200" spc="-1" strike="noStrike" baseline="-25000">
                <a:solidFill>
                  <a:srgbClr val="000099"/>
                </a:solidFill>
                <a:latin typeface="Comic Sans MS"/>
              </a:rPr>
              <a:t>stat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±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 0.04</a:t>
            </a:r>
            <a:r>
              <a:rPr b="1" lang="it-IT" sz="2200" spc="-1" strike="noStrike" baseline="-25000">
                <a:solidFill>
                  <a:srgbClr val="000099"/>
                </a:solidFill>
                <a:latin typeface="Comic Sans MS"/>
              </a:rPr>
              <a:t>syst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×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 10</a:t>
            </a:r>
            <a:r>
              <a:rPr b="1" lang="it-IT" sz="2200" spc="-1" strike="noStrike" baseline="30000">
                <a:solidFill>
                  <a:srgbClr val="000099"/>
                </a:solidFill>
                <a:latin typeface="Comic Sans MS"/>
              </a:rPr>
              <a:t>-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R(</a:t>
            </a:r>
            <a:r>
              <a:rPr b="1" i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it-IT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i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it-IT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i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= (7.09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±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0.07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Comic Sans MS"/>
              </a:rPr>
              <a:t>stat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±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0.08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Comic Sans MS"/>
              </a:rPr>
              <a:t>syst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×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1" lang="it-IT" sz="22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152280" y="944640"/>
            <a:ext cx="617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KLOE preliminary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450 pb</a:t>
            </a:r>
            <a:r>
              <a:rPr b="0" lang="it-IT" sz="2200" spc="-1" strike="noStrike" baseline="30000">
                <a:solidFill>
                  <a:srgbClr val="ff0000"/>
                </a:solidFill>
                <a:latin typeface="Comic Sans MS"/>
              </a:rPr>
              <a:t>-1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’01+’02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4800600" y="342900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4711680" y="3565440"/>
            <a:ext cx="4059360" cy="1119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Comic Sans MS"/>
              </a:rPr>
              <a:t>Compare to results for A</a:t>
            </a:r>
            <a:r>
              <a:rPr b="0" lang="it-IT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it-IT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KTeV  (3.322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±0.058±0.047)</a:t>
            </a:r>
            <a:r>
              <a:rPr b="0" lang="it-IT" sz="20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0</a:t>
            </a:r>
            <a:r>
              <a:rPr b="0" lang="it-IT" sz="2000" spc="-1" strike="noStrike" baseline="30000">
                <a:solidFill>
                  <a:srgbClr val="000099"/>
                </a:solidFill>
                <a:latin typeface="Comic Sans MS"/>
                <a:ea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NA48   (3.317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±0.070±0.072)</a:t>
            </a:r>
            <a:r>
              <a:rPr b="0" lang="it-IT" sz="20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0</a:t>
            </a:r>
            <a:r>
              <a:rPr b="0" lang="it-IT" sz="2000" spc="-1" strike="noStrike" baseline="30000">
                <a:solidFill>
                  <a:srgbClr val="000099"/>
                </a:solidFill>
                <a:latin typeface="Comic Sans MS"/>
                <a:ea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EF1-4844-4266-B6B4-1A95289AFD6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"/>
          <p:cNvSpPr/>
          <p:nvPr/>
        </p:nvSpPr>
        <p:spPr>
          <a:xfrm>
            <a:off x="76320" y="95724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d measurement from E821@BNL,  averaging results f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2660760" y="1514520"/>
            <a:ext cx="37922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(11 659 208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6)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5874480" y="2400480"/>
            <a:ext cx="2504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 658 470.4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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6991200" y="2781360"/>
            <a:ext cx="137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5.4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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4811040" y="3162240"/>
            <a:ext cx="1631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hadroni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4805280" y="2781360"/>
            <a:ext cx="124128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weak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6749280" y="3162240"/>
            <a:ext cx="822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4820040" y="2400480"/>
            <a:ext cx="122616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QED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1" name="" descr=""/>
          <p:cNvPicPr/>
          <p:nvPr/>
        </p:nvPicPr>
        <p:blipFill>
          <a:blip r:embed="rId1"/>
          <a:srcRect l="39788" t="41751" r="32979" b="37280"/>
          <a:stretch/>
        </p:blipFill>
        <p:spPr>
          <a:xfrm>
            <a:off x="6400800" y="3886200"/>
            <a:ext cx="1400040" cy="1523880"/>
          </a:xfrm>
          <a:prstGeom prst="rect">
            <a:avLst/>
          </a:prstGeom>
          <a:ln w="0">
            <a:noFill/>
          </a:ln>
        </p:spPr>
      </p:pic>
      <p:sp>
        <p:nvSpPr>
          <p:cNvPr id="3312" name=""/>
          <p:cNvSpPr/>
          <p:nvPr/>
        </p:nvSpPr>
        <p:spPr>
          <a:xfrm>
            <a:off x="304920" y="42670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ertainty on lowest-order hadronic vacuum polarization  domin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1447920" y="5410080"/>
            <a:ext cx="54100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Hadronic correction to the 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 propagator not calculable  by p-QCD for low M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4" name=""/>
          <p:cNvGrpSpPr/>
          <p:nvPr/>
        </p:nvGrpSpPr>
        <p:grpSpPr>
          <a:xfrm>
            <a:off x="76320" y="2666880"/>
            <a:ext cx="4495680" cy="720000"/>
            <a:chOff x="76320" y="2666880"/>
            <a:chExt cx="4495680" cy="720000"/>
          </a:xfrm>
        </p:grpSpPr>
        <p:sp>
          <p:nvSpPr>
            <p:cNvPr id="3315" name=""/>
            <p:cNvSpPr/>
            <p:nvPr/>
          </p:nvSpPr>
          <p:spPr>
            <a:xfrm>
              <a:off x="76320" y="2666880"/>
              <a:ext cx="4495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tributions to the SM prediction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99720" y="3041640"/>
              <a:ext cx="158004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</a:rPr>
                <a:t>-10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unit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7" name=""/>
          <p:cNvSpPr/>
          <p:nvPr/>
        </p:nvSpPr>
        <p:spPr>
          <a:xfrm>
            <a:off x="7632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0099"/>
                </a:solidFill>
                <a:latin typeface="Arial"/>
              </a:rPr>
              <a:t>a</a:t>
            </a:r>
            <a:r>
              <a:rPr b="0" lang="it-IT" sz="4000" spc="-1" strike="noStrike" baseline="-25000">
                <a:solidFill>
                  <a:srgbClr val="cc0099"/>
                </a:solidFill>
                <a:latin typeface="Symbol"/>
                <a:ea typeface="Symbol"/>
              </a:rPr>
              <a:t></a:t>
            </a:r>
            <a:r>
              <a:rPr b="0" lang="it-IT" sz="4000" spc="-1" strike="noStrike">
                <a:solidFill>
                  <a:srgbClr val="cc0099"/>
                </a:solidFill>
                <a:latin typeface="Arial"/>
              </a:rPr>
              <a:t>-  SM  prediction vs experi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4510800" y="2473200"/>
            <a:ext cx="41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BC9-198F-4708-BA6E-0DD5D4925A4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"/>
          <p:cNvSpPr/>
          <p:nvPr/>
        </p:nvSpPr>
        <p:spPr>
          <a:xfrm>
            <a:off x="155520" y="3657600"/>
            <a:ext cx="77468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cess 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@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 &lt; 1 GeV contributes  66% to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h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93240" y="4089240"/>
            <a:ext cx="424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estimates o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a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249120" y="4525920"/>
            <a:ext cx="889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vs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t an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llider, varying the beam energy (CMD2, 0.9% rel. uncertaint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264600" y="5288040"/>
            <a:ext cx="7433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the spectral function from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LEP, CESR da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614520" y="914400"/>
            <a:ext cx="7692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persion integral relates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h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vac-pol) to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adr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4" name="" descr=""/>
          <p:cNvPicPr/>
          <p:nvPr/>
        </p:nvPicPr>
        <p:blipFill>
          <a:blip r:embed="rId1"/>
          <a:srcRect l="17684" t="40760" r="18028" b="38816"/>
          <a:stretch/>
        </p:blipFill>
        <p:spPr>
          <a:xfrm>
            <a:off x="2057400" y="1452600"/>
            <a:ext cx="5283360" cy="1187280"/>
          </a:xfrm>
          <a:prstGeom prst="rect">
            <a:avLst/>
          </a:prstGeom>
          <a:ln w="0">
            <a:noFill/>
          </a:ln>
        </p:spPr>
      </p:pic>
      <p:pic>
        <p:nvPicPr>
          <p:cNvPr id="3325" name="" descr=""/>
          <p:cNvPicPr/>
          <p:nvPr/>
        </p:nvPicPr>
        <p:blipFill>
          <a:blip r:embed="rId2"/>
          <a:srcRect l="16310" t="44166" r="16652" b="43194"/>
          <a:stretch/>
        </p:blipFill>
        <p:spPr>
          <a:xfrm>
            <a:off x="1295280" y="2730600"/>
            <a:ext cx="6235920" cy="831600"/>
          </a:xfrm>
          <a:prstGeom prst="rect">
            <a:avLst/>
          </a:prstGeom>
          <a:ln w="0">
            <a:noFill/>
          </a:ln>
        </p:spPr>
      </p:pic>
      <p:sp>
        <p:nvSpPr>
          <p:cNvPr id="3326" name=""/>
          <p:cNvSpPr/>
          <p:nvPr/>
        </p:nvSpPr>
        <p:spPr>
          <a:xfrm>
            <a:off x="58320" y="5719680"/>
            <a:ext cx="51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ever, 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e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– a 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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20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7632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0099"/>
                </a:solidFill>
                <a:latin typeface="Arial"/>
              </a:rPr>
              <a:t>a</a:t>
            </a:r>
            <a:r>
              <a:rPr b="0" lang="it-IT" sz="4000" spc="-1" strike="noStrike" baseline="-25000">
                <a:solidFill>
                  <a:srgbClr val="cc0099"/>
                </a:solidFill>
                <a:latin typeface="Symbol"/>
                <a:ea typeface="Symbol"/>
              </a:rPr>
              <a:t></a:t>
            </a:r>
            <a:r>
              <a:rPr b="0" lang="it-IT" sz="4000" spc="-1" strike="noStrike">
                <a:solidFill>
                  <a:srgbClr val="cc0099"/>
                </a:solidFill>
                <a:latin typeface="Arial"/>
              </a:rPr>
              <a:t>-  SM  prediction vs experi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A0E3-ACDB-433F-B126-488CEACEECD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"/>
          <p:cNvSpPr/>
          <p:nvPr/>
        </p:nvSpPr>
        <p:spPr>
          <a:xfrm>
            <a:off x="76320" y="3429000"/>
            <a:ext cx="419076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7388640" y="5867280"/>
            <a:ext cx="172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e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4192200" y="5486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76320" y="1371600"/>
            <a:ext cx="4267080" cy="141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had-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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0.35&lt;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0.95 GeV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(389.2 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 0.8 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 4.7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Arial"/>
              </a:rPr>
              <a:t>sys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 3.9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)10</a:t>
            </a:r>
            <a:r>
              <a:rPr b="0" lang="en-US" sz="2200" spc="-1" strike="noStrike" baseline="30000">
                <a:solidFill>
                  <a:srgbClr val="3333cc"/>
                </a:solidFill>
                <a:latin typeface="Arial"/>
              </a:rPr>
              <a:t>-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0" y="2971800"/>
            <a:ext cx="41911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had-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0.37&lt; 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0.93 GeV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225720" y="914400"/>
            <a:ext cx="40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ng the dispersion integ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355320" y="2514600"/>
            <a:ext cx="32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arison with CMD2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5" name=""/>
          <p:cNvGrpSpPr/>
          <p:nvPr/>
        </p:nvGrpSpPr>
        <p:grpSpPr>
          <a:xfrm>
            <a:off x="176040" y="3467160"/>
            <a:ext cx="3990960" cy="1610280"/>
            <a:chOff x="176040" y="3467160"/>
            <a:chExt cx="3990960" cy="1610280"/>
          </a:xfrm>
        </p:grpSpPr>
        <p:sp>
          <p:nvSpPr>
            <p:cNvPr id="3336" name=""/>
            <p:cNvSpPr/>
            <p:nvPr/>
          </p:nvSpPr>
          <p:spPr>
            <a:xfrm>
              <a:off x="176040" y="3809880"/>
              <a:ext cx="39481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lang="en-US" sz="2200" spc="-1" strike="noStrike">
                  <a:solidFill>
                    <a:srgbClr val="3333cc"/>
                  </a:solidFill>
                  <a:latin typeface="Arial"/>
                </a:rPr>
                <a:t>376.5 </a:t>
              </a:r>
              <a:r>
                <a:rPr b="0" lang="en-US" sz="2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>
                  <a:solidFill>
                    <a:srgbClr val="3333cc"/>
                  </a:solidFill>
                  <a:latin typeface="Arial"/>
                </a:rPr>
                <a:t> 0.8</a:t>
              </a:r>
              <a:r>
                <a:rPr b="0" lang="en-US" sz="2200" spc="-1" strike="noStrike" baseline="-25000">
                  <a:solidFill>
                    <a:srgbClr val="3333cc"/>
                  </a:solidFill>
                  <a:latin typeface="Arial"/>
                </a:rPr>
                <a:t>stat</a:t>
              </a:r>
              <a:r>
                <a:rPr b="0" lang="en-US" sz="2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>
                  <a:solidFill>
                    <a:srgbClr val="3333cc"/>
                  </a:solidFill>
                  <a:latin typeface="Arial"/>
                </a:rPr>
                <a:t> 5.9</a:t>
              </a:r>
              <a:r>
                <a:rPr b="0" lang="en-US" sz="2200" spc="-1" strike="noStrike" baseline="-25000">
                  <a:solidFill>
                    <a:srgbClr val="3333cc"/>
                  </a:solidFill>
                  <a:latin typeface="Arial"/>
                </a:rPr>
                <a:t>sys+th</a:t>
              </a:r>
              <a:r>
                <a:rPr b="0" lang="en-US" sz="2200" spc="-1" strike="noStrike">
                  <a:solidFill>
                    <a:srgbClr val="3333cc"/>
                  </a:solidFill>
                  <a:latin typeface="Arial"/>
                </a:rPr>
                <a:t>) 10</a:t>
              </a:r>
              <a:r>
                <a:rPr b="0" lang="en-US" sz="2200" spc="-1" strike="noStrike" baseline="30000">
                  <a:solidFill>
                    <a:srgbClr val="3333cc"/>
                  </a:solidFill>
                  <a:latin typeface="Arial"/>
                </a:rPr>
                <a:t>-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18880" y="4602240"/>
              <a:ext cx="39481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378.6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2.7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Arial"/>
                </a:rPr>
                <a:t>stat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2.3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Arial"/>
                </a:rPr>
                <a:t>sys+th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) 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1370160" y="3467160"/>
              <a:ext cx="924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Arial"/>
                </a:rPr>
                <a:t>KLO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1342440" y="4221000"/>
              <a:ext cx="97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MD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0" name=""/>
          <p:cNvSpPr/>
          <p:nvPr/>
        </p:nvSpPr>
        <p:spPr>
          <a:xfrm>
            <a:off x="4320" y="5105520"/>
            <a:ext cx="312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asurements ag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35280" y="5486400"/>
            <a:ext cx="427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iscrepancy confirm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2" name=""/>
          <p:cNvGrpSpPr/>
          <p:nvPr/>
        </p:nvGrpSpPr>
        <p:grpSpPr>
          <a:xfrm>
            <a:off x="4248720" y="1600200"/>
            <a:ext cx="4971240" cy="4303800"/>
            <a:chOff x="4248720" y="1600200"/>
            <a:chExt cx="4971240" cy="4303800"/>
          </a:xfrm>
        </p:grpSpPr>
        <p:pic>
          <p:nvPicPr>
            <p:cNvPr id="3343" name="" descr=""/>
            <p:cNvPicPr/>
            <p:nvPr/>
          </p:nvPicPr>
          <p:blipFill>
            <a:blip r:embed="rId1">
              <a:lum contrast="6000"/>
            </a:blip>
            <a:srcRect l="11437" t="18537" r="14360" b="24413"/>
            <a:stretch/>
          </p:blipFill>
          <p:spPr>
            <a:xfrm>
              <a:off x="4572000" y="1600200"/>
              <a:ext cx="4647960" cy="43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4" name=""/>
            <p:cNvSpPr/>
            <p:nvPr/>
          </p:nvSpPr>
          <p:spPr>
            <a:xfrm>
              <a:off x="4824000" y="1769760"/>
              <a:ext cx="768960" cy="579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7137720" y="2648520"/>
              <a:ext cx="198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MD2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7012080" y="2202480"/>
              <a:ext cx="193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LOE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511960" y="54889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7010640" y="54889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.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547480" y="54889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248720" y="3954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248720" y="2242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4248720" y="4818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4248720" y="3113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4" name=""/>
          <p:cNvSpPr/>
          <p:nvPr/>
        </p:nvSpPr>
        <p:spPr>
          <a:xfrm>
            <a:off x="6364440" y="990720"/>
            <a:ext cx="4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6557040" y="1219320"/>
            <a:ext cx="90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6661800" y="9540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6754320" y="758880"/>
            <a:ext cx="7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7403760" y="888840"/>
            <a:ext cx="170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|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4419720" y="914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0" y="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Preliminary result :   a</a:t>
            </a:r>
            <a:r>
              <a:rPr b="0" lang="en-US" sz="4400" spc="-1" strike="noStrike">
                <a:solidFill>
                  <a:srgbClr val="cc0099"/>
                </a:solidFill>
                <a:latin typeface="Symbol"/>
                <a:ea typeface="Symbol"/>
              </a:rPr>
              <a:t>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4C4-7E10-4766-B960-3B67E6F20BCC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"/>
          <p:cNvSpPr/>
          <p:nvPr/>
        </p:nvSpPr>
        <p:spPr>
          <a:xfrm>
            <a:off x="179280" y="-171360"/>
            <a:ext cx="8137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1d15b7"/>
                </a:solidFill>
                <a:latin typeface="Times New Roman"/>
              </a:rPr>
              <a:t>Summary of systematics ppg s.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250920" y="765000"/>
            <a:ext cx="4724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xperim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Times New Roman"/>
              </a:rPr>
              <a:t>Reconstr. Filter  0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ckin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0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D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ck Mas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KG subtr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foldin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0.9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4572000" y="836640"/>
            <a:ext cx="4724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Luminosity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0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Vacum Pol.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0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FSR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0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H(s</a:t>
            </a:r>
            <a:r>
              <a:rPr b="0" lang="it-IT" sz="20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)                  0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TOTAL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0.9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3DA-3AE5-4027-B45D-2D440C29D1A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4" name="" descr=""/>
          <p:cNvPicPr/>
          <p:nvPr/>
        </p:nvPicPr>
        <p:blipFill>
          <a:blip r:embed="rId1"/>
          <a:srcRect l="0" t="11049" r="0" b="5524"/>
          <a:stretch/>
        </p:blipFill>
        <p:spPr>
          <a:xfrm>
            <a:off x="2336760" y="777960"/>
            <a:ext cx="6627960" cy="5530680"/>
          </a:xfrm>
          <a:prstGeom prst="rect">
            <a:avLst/>
          </a:prstGeom>
          <a:ln w="0">
            <a:noFill/>
          </a:ln>
        </p:spPr>
      </p:pic>
      <p:sp>
        <p:nvSpPr>
          <p:cNvPr id="3365" name=""/>
          <p:cNvSpPr/>
          <p:nvPr/>
        </p:nvSpPr>
        <p:spPr>
          <a:xfrm>
            <a:off x="1413360" y="-27000"/>
            <a:ext cx="595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d60093"/>
                </a:solidFill>
                <a:latin typeface="Arial"/>
              </a:rPr>
              <a:t>LUM vs currents 2002 vs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685-D2BF-4CCB-AF04-A58EC8A7A9A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"/>
          <p:cNvSpPr/>
          <p:nvPr/>
        </p:nvSpPr>
        <p:spPr>
          <a:xfrm>
            <a:off x="227160" y="9000"/>
            <a:ext cx="607356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L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decays: Tag bi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951840" y="914400"/>
            <a:ext cx="6602040" cy="46980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lightly different Tagging efficieny among K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topolog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8" name=""/>
          <p:cNvGrpSpPr/>
          <p:nvPr/>
        </p:nvGrpSpPr>
        <p:grpSpPr>
          <a:xfrm>
            <a:off x="528480" y="1600200"/>
            <a:ext cx="4002120" cy="3807000"/>
            <a:chOff x="528480" y="1600200"/>
            <a:chExt cx="4002120" cy="3807000"/>
          </a:xfrm>
        </p:grpSpPr>
        <p:pic>
          <p:nvPicPr>
            <p:cNvPr id="3369" name="" descr=""/>
            <p:cNvPicPr/>
            <p:nvPr/>
          </p:nvPicPr>
          <p:blipFill>
            <a:blip r:embed="rId1"/>
            <a:srcRect l="18004" t="10197" r="18753" b="4776"/>
            <a:stretch/>
          </p:blipFill>
          <p:spPr>
            <a:xfrm>
              <a:off x="528480" y="1600200"/>
              <a:ext cx="4002120" cy="38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0" name=""/>
            <p:cNvSpPr/>
            <p:nvPr/>
          </p:nvSpPr>
          <p:spPr>
            <a:xfrm>
              <a:off x="2567520" y="1856880"/>
              <a:ext cx="151920" cy="102960"/>
            </a:xfrm>
            <a:prstGeom prst="roundRect">
              <a:avLst>
                <a:gd name="adj" fmla="val 156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2622960" y="1966680"/>
              <a:ext cx="109440" cy="1080"/>
            </a:xfrm>
            <a:prstGeom prst="line">
              <a:avLst/>
            </a:prstGeom>
            <a:ln w="9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2" name=""/>
          <p:cNvSpPr/>
          <p:nvPr/>
        </p:nvSpPr>
        <p:spPr>
          <a:xfrm flipV="1">
            <a:off x="2532240" y="1565280"/>
            <a:ext cx="1116000" cy="1946160"/>
          </a:xfrm>
          <a:prstGeom prst="line">
            <a:avLst/>
          </a:prstGeom>
          <a:ln w="367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 rot="17940000">
            <a:off x="2493720" y="1797480"/>
            <a:ext cx="1457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600" spc="-1" strike="noStrike" baseline="-33000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4851360" y="1636560"/>
            <a:ext cx="41004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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neutr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~ 100%  trigger  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data/MC agre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2832120" y="2967120"/>
            <a:ext cx="1179360" cy="25200"/>
          </a:xfrm>
          <a:prstGeom prst="line">
            <a:avLst/>
          </a:prstGeom>
          <a:ln w="18360">
            <a:solidFill>
              <a:srgbClr val="e6e6e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2832120" y="2967120"/>
            <a:ext cx="716040" cy="1693800"/>
          </a:xfrm>
          <a:prstGeom prst="line">
            <a:avLst/>
          </a:prstGeom>
          <a:ln w="18360">
            <a:solidFill>
              <a:srgbClr val="e6e6e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 flipH="1">
            <a:off x="1472760" y="2967120"/>
            <a:ext cx="1360440" cy="1685880"/>
          </a:xfrm>
          <a:prstGeom prst="line">
            <a:avLst/>
          </a:prstGeom>
          <a:ln w="18360">
            <a:solidFill>
              <a:srgbClr val="e6e6e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 flipH="1">
            <a:off x="942840" y="2967120"/>
            <a:ext cx="1890720" cy="766800"/>
          </a:xfrm>
          <a:prstGeom prst="line">
            <a:avLst/>
          </a:prstGeom>
          <a:ln w="18360">
            <a:solidFill>
              <a:srgbClr val="e6e6e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 flipH="1" flipV="1">
            <a:off x="1717560" y="2180880"/>
            <a:ext cx="1116000" cy="787320"/>
          </a:xfrm>
          <a:prstGeom prst="line">
            <a:avLst/>
          </a:prstGeom>
          <a:ln w="18360">
            <a:solidFill>
              <a:srgbClr val="e6e6e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4019400" y="2933640"/>
            <a:ext cx="144720" cy="95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3552840" y="4697280"/>
            <a:ext cx="144360" cy="95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1608120" y="2104920"/>
            <a:ext cx="144360" cy="95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1320840" y="4626000"/>
            <a:ext cx="144360" cy="95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816120" y="3689280"/>
            <a:ext cx="144360" cy="95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2579760" y="1889280"/>
            <a:ext cx="144360" cy="9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 flipH="1" flipV="1">
            <a:off x="2653920" y="1977840"/>
            <a:ext cx="196920" cy="973080"/>
          </a:xfrm>
          <a:prstGeom prst="line">
            <a:avLst/>
          </a:prstGeom>
          <a:ln w="18360">
            <a:solidFill>
              <a:srgbClr val="e6e6e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2832120" y="2921040"/>
            <a:ext cx="6336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1714320" y="4003560"/>
            <a:ext cx="1249560" cy="435600"/>
          </a:xfrm>
          <a:prstGeom prst="roundRect">
            <a:avLst>
              <a:gd name="adj" fmla="val 3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000" spc="-1" strike="noStrike" baseline="-33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4F1-DCD1-444E-9D43-1DD5C45037B0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"/>
          <p:cNvSpPr/>
          <p:nvPr/>
        </p:nvSpPr>
        <p:spPr>
          <a:xfrm>
            <a:off x="227160" y="69480"/>
            <a:ext cx="822636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L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decays: Tag bi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951840" y="914400"/>
            <a:ext cx="6602040" cy="46980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lightly different Tagging efficieny among K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topolog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1" name=""/>
          <p:cNvGrpSpPr/>
          <p:nvPr/>
        </p:nvGrpSpPr>
        <p:grpSpPr>
          <a:xfrm>
            <a:off x="528480" y="1600200"/>
            <a:ext cx="4002120" cy="3807000"/>
            <a:chOff x="528480" y="1600200"/>
            <a:chExt cx="4002120" cy="3807000"/>
          </a:xfrm>
        </p:grpSpPr>
        <p:pic>
          <p:nvPicPr>
            <p:cNvPr id="3392" name="" descr=""/>
            <p:cNvPicPr/>
            <p:nvPr/>
          </p:nvPicPr>
          <p:blipFill>
            <a:blip r:embed="rId1"/>
            <a:srcRect l="18004" t="10197" r="18753" b="4776"/>
            <a:stretch/>
          </p:blipFill>
          <p:spPr>
            <a:xfrm>
              <a:off x="528480" y="1600200"/>
              <a:ext cx="4002120" cy="38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3" name=""/>
            <p:cNvSpPr/>
            <p:nvPr/>
          </p:nvSpPr>
          <p:spPr>
            <a:xfrm>
              <a:off x="2567520" y="1856880"/>
              <a:ext cx="151920" cy="102960"/>
            </a:xfrm>
            <a:prstGeom prst="roundRect">
              <a:avLst>
                <a:gd name="adj" fmla="val 156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2622960" y="1966680"/>
              <a:ext cx="109440" cy="1080"/>
            </a:xfrm>
            <a:prstGeom prst="line">
              <a:avLst/>
            </a:prstGeom>
            <a:ln w="9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5" name=""/>
          <p:cNvSpPr/>
          <p:nvPr/>
        </p:nvSpPr>
        <p:spPr>
          <a:xfrm flipV="1">
            <a:off x="2532240" y="1565280"/>
            <a:ext cx="1116000" cy="1946160"/>
          </a:xfrm>
          <a:prstGeom prst="line">
            <a:avLst/>
          </a:prstGeom>
          <a:ln w="367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 rot="17940000">
            <a:off x="2133360" y="2445120"/>
            <a:ext cx="1457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600" spc="-1" strike="noStrike" baseline="-33000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4851360" y="1636560"/>
            <a:ext cx="410040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2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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interaction,  punch-troug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0%           17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igger 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5%           65%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/MC agreement at ~ 9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sible source of system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certainty at  ~ 1-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5824440" y="5394240"/>
            <a:ext cx="792360" cy="1800"/>
          </a:xfrm>
          <a:prstGeom prst="line">
            <a:avLst/>
          </a:prstGeom>
          <a:ln w="12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4700520" y="5791320"/>
            <a:ext cx="460692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Tagging with  K</a:t>
            </a:r>
            <a:r>
              <a:rPr b="0" lang="en-GB" sz="2200" spc="-1" strike="noStrike" baseline="-33000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autoTrigger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~2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1714320" y="4003560"/>
            <a:ext cx="1249560" cy="435600"/>
          </a:xfrm>
          <a:prstGeom prst="roundRect">
            <a:avLst>
              <a:gd name="adj" fmla="val 3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000" spc="-1" strike="noStrike" baseline="-33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730-5334-4654-94C9-D6339ED884E9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"/>
          <p:cNvSpPr/>
          <p:nvPr/>
        </p:nvSpPr>
        <p:spPr>
          <a:xfrm>
            <a:off x="227160" y="69480"/>
            <a:ext cx="822636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L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decays: Tag bi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789480" y="914400"/>
            <a:ext cx="6926400" cy="46980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ligthely different Tagging efficicieny among K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topolog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3" name=""/>
          <p:cNvGrpSpPr/>
          <p:nvPr/>
        </p:nvGrpSpPr>
        <p:grpSpPr>
          <a:xfrm>
            <a:off x="528480" y="1600200"/>
            <a:ext cx="4002120" cy="3807000"/>
            <a:chOff x="528480" y="1600200"/>
            <a:chExt cx="4002120" cy="3807000"/>
          </a:xfrm>
        </p:grpSpPr>
        <p:pic>
          <p:nvPicPr>
            <p:cNvPr id="3404" name="" descr=""/>
            <p:cNvPicPr/>
            <p:nvPr/>
          </p:nvPicPr>
          <p:blipFill>
            <a:blip r:embed="rId1"/>
            <a:srcRect l="18004" t="10197" r="18753" b="4776"/>
            <a:stretch/>
          </p:blipFill>
          <p:spPr>
            <a:xfrm>
              <a:off x="528480" y="1600200"/>
              <a:ext cx="4002120" cy="38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5" name=""/>
            <p:cNvSpPr/>
            <p:nvPr/>
          </p:nvSpPr>
          <p:spPr>
            <a:xfrm>
              <a:off x="2567520" y="1856880"/>
              <a:ext cx="151920" cy="102960"/>
            </a:xfrm>
            <a:prstGeom prst="roundRect">
              <a:avLst>
                <a:gd name="adj" fmla="val 156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2622960" y="1966680"/>
              <a:ext cx="109440" cy="1080"/>
            </a:xfrm>
            <a:prstGeom prst="line">
              <a:avLst/>
            </a:prstGeom>
            <a:ln w="9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7" name=""/>
          <p:cNvSpPr/>
          <p:nvPr/>
        </p:nvSpPr>
        <p:spPr>
          <a:xfrm>
            <a:off x="2597040" y="1965240"/>
            <a:ext cx="393840" cy="922320"/>
          </a:xfrm>
          <a:custGeom>
            <a:avLst/>
            <a:gdLst/>
            <a:ahLst/>
            <a:rect l="l" t="t" r="r" b="b"/>
            <a:pathLst>
              <a:path w="1092" h="2563">
                <a:moveTo>
                  <a:pt x="59" y="0"/>
                </a:moveTo>
                <a:lnTo>
                  <a:pt x="45" y="36"/>
                </a:lnTo>
                <a:lnTo>
                  <a:pt x="34" y="74"/>
                </a:lnTo>
                <a:lnTo>
                  <a:pt x="23" y="116"/>
                </a:lnTo>
                <a:lnTo>
                  <a:pt x="15" y="159"/>
                </a:lnTo>
                <a:lnTo>
                  <a:pt x="8" y="206"/>
                </a:lnTo>
                <a:lnTo>
                  <a:pt x="3" y="255"/>
                </a:lnTo>
                <a:lnTo>
                  <a:pt x="1" y="306"/>
                </a:lnTo>
                <a:lnTo>
                  <a:pt x="0" y="360"/>
                </a:lnTo>
                <a:lnTo>
                  <a:pt x="1" y="415"/>
                </a:lnTo>
                <a:lnTo>
                  <a:pt x="3" y="474"/>
                </a:lnTo>
                <a:lnTo>
                  <a:pt x="9" y="534"/>
                </a:lnTo>
                <a:lnTo>
                  <a:pt x="14" y="595"/>
                </a:lnTo>
                <a:lnTo>
                  <a:pt x="23" y="658"/>
                </a:lnTo>
                <a:lnTo>
                  <a:pt x="33" y="723"/>
                </a:lnTo>
                <a:lnTo>
                  <a:pt x="46" y="788"/>
                </a:lnTo>
                <a:lnTo>
                  <a:pt x="59" y="855"/>
                </a:lnTo>
                <a:lnTo>
                  <a:pt x="75" y="922"/>
                </a:lnTo>
                <a:lnTo>
                  <a:pt x="92" y="990"/>
                </a:lnTo>
                <a:lnTo>
                  <a:pt x="110" y="1059"/>
                </a:lnTo>
                <a:lnTo>
                  <a:pt x="131" y="1128"/>
                </a:lnTo>
                <a:lnTo>
                  <a:pt x="152" y="1197"/>
                </a:lnTo>
                <a:lnTo>
                  <a:pt x="177" y="1267"/>
                </a:lnTo>
                <a:lnTo>
                  <a:pt x="201" y="1336"/>
                </a:lnTo>
                <a:lnTo>
                  <a:pt x="228" y="1405"/>
                </a:lnTo>
                <a:lnTo>
                  <a:pt x="255" y="1473"/>
                </a:lnTo>
                <a:lnTo>
                  <a:pt x="284" y="1541"/>
                </a:lnTo>
                <a:lnTo>
                  <a:pt x="313" y="1608"/>
                </a:lnTo>
                <a:lnTo>
                  <a:pt x="344" y="1673"/>
                </a:lnTo>
                <a:lnTo>
                  <a:pt x="376" y="1738"/>
                </a:lnTo>
                <a:lnTo>
                  <a:pt x="410" y="1801"/>
                </a:lnTo>
                <a:lnTo>
                  <a:pt x="443" y="1863"/>
                </a:lnTo>
                <a:lnTo>
                  <a:pt x="478" y="1922"/>
                </a:lnTo>
                <a:lnTo>
                  <a:pt x="513" y="1980"/>
                </a:lnTo>
                <a:lnTo>
                  <a:pt x="549" y="2037"/>
                </a:lnTo>
                <a:lnTo>
                  <a:pt x="585" y="2091"/>
                </a:lnTo>
                <a:lnTo>
                  <a:pt x="622" y="2143"/>
                </a:lnTo>
                <a:lnTo>
                  <a:pt x="658" y="2192"/>
                </a:lnTo>
                <a:lnTo>
                  <a:pt x="696" y="2239"/>
                </a:lnTo>
                <a:lnTo>
                  <a:pt x="733" y="2284"/>
                </a:lnTo>
                <a:lnTo>
                  <a:pt x="771" y="2325"/>
                </a:lnTo>
                <a:lnTo>
                  <a:pt x="808" y="2364"/>
                </a:lnTo>
                <a:lnTo>
                  <a:pt x="845" y="2399"/>
                </a:lnTo>
                <a:lnTo>
                  <a:pt x="881" y="2432"/>
                </a:lnTo>
                <a:lnTo>
                  <a:pt x="918" y="2462"/>
                </a:lnTo>
                <a:lnTo>
                  <a:pt x="954" y="2489"/>
                </a:lnTo>
                <a:lnTo>
                  <a:pt x="989" y="2512"/>
                </a:lnTo>
                <a:lnTo>
                  <a:pt x="1024" y="2532"/>
                </a:lnTo>
                <a:lnTo>
                  <a:pt x="1058" y="2549"/>
                </a:lnTo>
                <a:lnTo>
                  <a:pt x="1091" y="2562"/>
                </a:lnTo>
              </a:path>
            </a:pathLst>
          </a:custGeom>
          <a:noFill/>
          <a:ln w="18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 flipV="1">
            <a:off x="2532240" y="1565280"/>
            <a:ext cx="1116000" cy="1946160"/>
          </a:xfrm>
          <a:prstGeom prst="line">
            <a:avLst/>
          </a:prstGeom>
          <a:ln w="367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2847960" y="2833560"/>
            <a:ext cx="1241280" cy="220680"/>
          </a:xfrm>
          <a:custGeom>
            <a:avLst/>
            <a:gdLst/>
            <a:ahLst/>
            <a:rect l="l" t="t" r="r" b="b"/>
            <a:pathLst>
              <a:path w="3450" h="612">
                <a:moveTo>
                  <a:pt x="0" y="393"/>
                </a:moveTo>
                <a:lnTo>
                  <a:pt x="38" y="416"/>
                </a:lnTo>
                <a:lnTo>
                  <a:pt x="79" y="437"/>
                </a:lnTo>
                <a:lnTo>
                  <a:pt x="125" y="458"/>
                </a:lnTo>
                <a:lnTo>
                  <a:pt x="174" y="478"/>
                </a:lnTo>
                <a:lnTo>
                  <a:pt x="228" y="496"/>
                </a:lnTo>
                <a:lnTo>
                  <a:pt x="285" y="513"/>
                </a:lnTo>
                <a:lnTo>
                  <a:pt x="345" y="529"/>
                </a:lnTo>
                <a:lnTo>
                  <a:pt x="410" y="544"/>
                </a:lnTo>
                <a:lnTo>
                  <a:pt x="477" y="557"/>
                </a:lnTo>
                <a:lnTo>
                  <a:pt x="548" y="568"/>
                </a:lnTo>
                <a:lnTo>
                  <a:pt x="621" y="580"/>
                </a:lnTo>
                <a:lnTo>
                  <a:pt x="698" y="589"/>
                </a:lnTo>
                <a:lnTo>
                  <a:pt x="776" y="596"/>
                </a:lnTo>
                <a:lnTo>
                  <a:pt x="857" y="602"/>
                </a:lnTo>
                <a:lnTo>
                  <a:pt x="940" y="606"/>
                </a:lnTo>
                <a:lnTo>
                  <a:pt x="1025" y="610"/>
                </a:lnTo>
                <a:lnTo>
                  <a:pt x="1111" y="611"/>
                </a:lnTo>
                <a:lnTo>
                  <a:pt x="1200" y="611"/>
                </a:lnTo>
                <a:lnTo>
                  <a:pt x="1289" y="610"/>
                </a:lnTo>
                <a:lnTo>
                  <a:pt x="1379" y="606"/>
                </a:lnTo>
                <a:lnTo>
                  <a:pt x="1470" y="601"/>
                </a:lnTo>
                <a:lnTo>
                  <a:pt x="1562" y="596"/>
                </a:lnTo>
                <a:lnTo>
                  <a:pt x="1654" y="588"/>
                </a:lnTo>
                <a:lnTo>
                  <a:pt x="1747" y="579"/>
                </a:lnTo>
                <a:lnTo>
                  <a:pt x="1838" y="568"/>
                </a:lnTo>
                <a:lnTo>
                  <a:pt x="1930" y="556"/>
                </a:lnTo>
                <a:lnTo>
                  <a:pt x="2020" y="544"/>
                </a:lnTo>
                <a:lnTo>
                  <a:pt x="2111" y="529"/>
                </a:lnTo>
                <a:lnTo>
                  <a:pt x="2200" y="512"/>
                </a:lnTo>
                <a:lnTo>
                  <a:pt x="2288" y="496"/>
                </a:lnTo>
                <a:lnTo>
                  <a:pt x="2374" y="477"/>
                </a:lnTo>
                <a:lnTo>
                  <a:pt x="2459" y="458"/>
                </a:lnTo>
                <a:lnTo>
                  <a:pt x="2541" y="437"/>
                </a:lnTo>
                <a:lnTo>
                  <a:pt x="2622" y="415"/>
                </a:lnTo>
                <a:lnTo>
                  <a:pt x="2700" y="392"/>
                </a:lnTo>
                <a:lnTo>
                  <a:pt x="2776" y="368"/>
                </a:lnTo>
                <a:lnTo>
                  <a:pt x="2849" y="344"/>
                </a:lnTo>
                <a:lnTo>
                  <a:pt x="2919" y="318"/>
                </a:lnTo>
                <a:lnTo>
                  <a:pt x="2985" y="291"/>
                </a:lnTo>
                <a:lnTo>
                  <a:pt x="3048" y="264"/>
                </a:lnTo>
                <a:lnTo>
                  <a:pt x="3109" y="236"/>
                </a:lnTo>
                <a:lnTo>
                  <a:pt x="3165" y="208"/>
                </a:lnTo>
                <a:lnTo>
                  <a:pt x="3217" y="179"/>
                </a:lnTo>
                <a:lnTo>
                  <a:pt x="3267" y="150"/>
                </a:lnTo>
                <a:lnTo>
                  <a:pt x="3312" y="120"/>
                </a:lnTo>
                <a:lnTo>
                  <a:pt x="3352" y="91"/>
                </a:lnTo>
                <a:lnTo>
                  <a:pt x="3389" y="61"/>
                </a:lnTo>
                <a:lnTo>
                  <a:pt x="3421" y="30"/>
                </a:lnTo>
                <a:lnTo>
                  <a:pt x="3449" y="0"/>
                </a:lnTo>
              </a:path>
            </a:pathLst>
          </a:custGeom>
          <a:noFill/>
          <a:ln w="18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2832120" y="2921040"/>
            <a:ext cx="6336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 rot="17940000">
            <a:off x="2493720" y="1797480"/>
            <a:ext cx="1457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600" spc="-1" strike="noStrike" baseline="-33000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4741920" y="1636560"/>
            <a:ext cx="44384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2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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char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ew % decrease of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baseline="-33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0" lang="en-GB" sz="22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reconstru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fficiency at small R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Times New Roman"/>
              </a:rPr>
              <a:t>KL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ood data/MC agreement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ypical correction 0.5%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0.1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Typical biases for K</a:t>
            </a:r>
            <a:r>
              <a:rPr b="0" lang="en-GB" sz="2200" spc="-1" strike="noStrike" baseline="-33000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autoTrigger 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harged          neutr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0.985              1.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714320" y="4003560"/>
            <a:ext cx="1249560" cy="435600"/>
          </a:xfrm>
          <a:prstGeom prst="roundRect">
            <a:avLst>
              <a:gd name="adj" fmla="val 3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000" spc="-1" strike="noStrike" baseline="-33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044-1941-4AB5-8A3A-343589F9EED6}" type="slidenum">
              <a:t>78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5840" y="10800"/>
            <a:ext cx="7921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DAQ  and online moni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1760" y="836640"/>
            <a:ext cx="82738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2(Hz) = &lt;BKG&gt;  +  2600 (cosm)  +  100*L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3(Hz) = &lt;BKG&gt;  +  900 (cosm)    +  100*L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ly we hav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450 Hz bk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 have RL2 (RL3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.6 (2) k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EvSize&gt; around 2.6 KB,  total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2 throughput 9 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3 on disk: 5.2 MB/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Q can still easily handle it with 4 ACQ 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21988" r="0" b="21988"/>
          <a:stretch/>
        </p:blipFill>
        <p:spPr>
          <a:xfrm>
            <a:off x="449280" y="2670120"/>
            <a:ext cx="4410000" cy="3495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0" t="21988" r="0" b="21988"/>
          <a:stretch/>
        </p:blipFill>
        <p:spPr>
          <a:xfrm>
            <a:off x="4699080" y="2670120"/>
            <a:ext cx="4410000" cy="3495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3080" y="2852640"/>
            <a:ext cx="10429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L2 (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84720" y="2852640"/>
            <a:ext cx="10429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L2 (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1920" y="5950080"/>
            <a:ext cx="71100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19920" y="5950080"/>
            <a:ext cx="71100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BAD3-8DF2-47E5-9071-62E0A79D36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36360" y="-60480"/>
            <a:ext cx="828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c0099"/>
                </a:solidFill>
                <a:latin typeface="Arial"/>
              </a:rPr>
              <a:t>Running conditions and feed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9181400">
            <a:off x="24480" y="2169720"/>
            <a:ext cx="388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inuous KLOE-D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-feedback helped to  keep background under control and to  maintain the beam energy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300 keV from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25643" r="0" b="4274"/>
          <a:stretch/>
        </p:blipFill>
        <p:spPr>
          <a:xfrm>
            <a:off x="3635280" y="844560"/>
            <a:ext cx="5292720" cy="5251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0" y="1004760"/>
            <a:ext cx="175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RT(s)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23160" y="990720"/>
            <a:ext cx="175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x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3505320"/>
            <a:ext cx="175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Xv&gt;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3505320"/>
            <a:ext cx="175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Zv&gt;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5715000"/>
            <a:ext cx="3962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27082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E1D-1D27-46EC-BF12-A962CD5636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8:06:21Z</dcterms:created>
  <dc:creator>miscetti</dc:creator>
  <dc:description/>
  <dc:language>en-US</dc:language>
  <cp:lastModifiedBy>bossi</cp:lastModifiedBy>
  <dcterms:modified xsi:type="dcterms:W3CDTF">2004-09-19T09:07:53Z</dcterms:modified>
  <cp:revision>287</cp:revision>
  <dc:subject/>
  <dc:title>Titolo del Seminario </dc:title>
</cp:coreProperties>
</file>