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E6F0-E6FF-4BA6-A9C1-7E0937683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5204-C304-4F36-8CBC-279AA2B8B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0B38-79FB-42DA-ACBE-D8EAFC1CA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86FF-B66B-4D48-B71E-9EC9532D9A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F2B3-9E8E-419D-9EC6-D378E1578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841B-57B9-45DB-9A17-77DC94811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8D5F-B43E-4F75-8EF2-A91A313B6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4118-5FD2-4C32-9CC6-73AAFE14A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6510-0CBE-4831-A330-C1DC3646A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7451-5437-4F79-A684-380ADA5A2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6387-3D6A-47B2-9E68-3EB66A456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9F22-A095-4F7B-8232-6DBF2873B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02A2-BD38-401C-B58E-E6E9102F14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21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Sabino Meola                  LNF Spring School “Bruno Touschek”                            16-20 May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e6d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526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d348"/>
                </a:solidFill>
                <a:latin typeface="Times New Roman"/>
              </a:rPr>
              <a:t>Recent Progress on Charged Kaon decays from KL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3883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Kl3 BR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268280"/>
            <a:ext cx="71280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DG value: 4.8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0.0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76640"/>
            <a:ext cx="889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6d34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6d34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d34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6d348"/>
                </a:solidFill>
                <a:latin typeface="Times New Roman"/>
              </a:rPr>
              <a:t>Absolute BR measurement using as normalization sample both ta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6d34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d34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6d348"/>
                </a:solidFill>
                <a:latin typeface="Times New Roman"/>
              </a:rPr>
              <a:t>Counting K</a:t>
            </a:r>
            <a:r>
              <a:rPr b="0" lang="en-US" sz="2400" spc="-1" strike="noStrike" baseline="30000">
                <a:solidFill>
                  <a:srgbClr val="e6d348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e6d348"/>
                </a:solidFill>
                <a:latin typeface="Times New Roman"/>
              </a:rPr>
              <a:t>l3 from the fit of a m</a:t>
            </a:r>
            <a:r>
              <a:rPr b="0" lang="en-US" sz="2400" spc="-1" strike="noStrike" baseline="30000">
                <a:solidFill>
                  <a:srgbClr val="e6d34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6d348"/>
                </a:solidFill>
                <a:latin typeface="Times New Roman"/>
              </a:rPr>
              <a:t> lepton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3883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Kl3 BR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724280" y="2004840"/>
            <a:ext cx="4343040" cy="4395600"/>
            <a:chOff x="4724280" y="2004840"/>
            <a:chExt cx="4343040" cy="43956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rcRect l="16405" t="9140" r="18749" b="3765"/>
            <a:stretch/>
          </p:blipFill>
          <p:spPr>
            <a:xfrm>
              <a:off x="4724280" y="2004840"/>
              <a:ext cx="4343040" cy="43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504120" y="337788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24400" y="2720880"/>
              <a:ext cx="39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16640" y="4285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25800" y="4685040"/>
              <a:ext cx="38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16320" y="3958560"/>
              <a:ext cx="1499760" cy="82872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937120" y="4778640"/>
              <a:ext cx="678600" cy="97128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13320" y="3709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32360" y="50706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320" y="838080"/>
            <a:ext cx="457200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 1-prong kaon decay vertex in the fiducial volume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cm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VT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50 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search: 2 neutral clusters in EmC, with ToF matching the K decay vert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 Reject two-body dec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95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 daughter track extrapol. to E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 Spectrum of charged daughter mass, m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, from TOF measur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3840" y="464832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d348"/>
                </a:solidFill>
                <a:latin typeface="Times New Roman"/>
              </a:rPr>
              <a:t>t</a:t>
            </a:r>
            <a:r>
              <a:rPr b="0" lang="en-GB" sz="2400" spc="-1" strike="noStrike" baseline="30000">
                <a:solidFill>
                  <a:srgbClr val="e6d348"/>
                </a:solidFill>
                <a:latin typeface="Times New Roman"/>
              </a:rPr>
              <a:t>decay</a:t>
            </a:r>
            <a:r>
              <a:rPr b="0" lang="en-GB" sz="2400" spc="-1" strike="noStrike" baseline="-25000">
                <a:solidFill>
                  <a:srgbClr val="e6d348"/>
                </a:solidFill>
                <a:latin typeface="Times New Roman"/>
              </a:rPr>
              <a:t>K </a:t>
            </a:r>
            <a:r>
              <a:rPr b="0" lang="en-GB" sz="2400" spc="-1" strike="noStrike">
                <a:solidFill>
                  <a:srgbClr val="e6d348"/>
                </a:solidFill>
                <a:latin typeface="Times New Roman"/>
              </a:rPr>
              <a:t>= t</a:t>
            </a:r>
            <a:r>
              <a:rPr b="0" lang="en-GB" sz="2400" spc="-1" strike="noStrike" baseline="-25000">
                <a:solidFill>
                  <a:srgbClr val="e6d348"/>
                </a:solidFill>
                <a:latin typeface="Times New Roman"/>
              </a:rPr>
              <a:t>lept </a:t>
            </a:r>
            <a:r>
              <a:rPr b="0" lang="en-GB" sz="2400" spc="-1" strike="noStrike">
                <a:solidFill>
                  <a:srgbClr val="e6d348"/>
                </a:solidFill>
                <a:latin typeface="Times New Roman"/>
              </a:rPr>
              <a:t>-L</a:t>
            </a:r>
            <a:r>
              <a:rPr b="0" lang="en-GB" sz="2400" spc="-1" strike="noStrike" baseline="-25000">
                <a:solidFill>
                  <a:srgbClr val="e6d348"/>
                </a:solidFill>
                <a:latin typeface="Times New Roman"/>
              </a:rPr>
              <a:t>lept </a:t>
            </a:r>
            <a:r>
              <a:rPr b="0" lang="en-GB" sz="2400" spc="-1" strike="noStrike">
                <a:solidFill>
                  <a:srgbClr val="e6d348"/>
                </a:solidFill>
                <a:latin typeface="Times New Roman"/>
              </a:rPr>
              <a:t>/(</a:t>
            </a:r>
            <a:r>
              <a:rPr b="0" lang="en-GB" sz="2400" spc="-1" strike="noStrike">
                <a:solidFill>
                  <a:srgbClr val="e6d348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25000">
                <a:solidFill>
                  <a:srgbClr val="e6d348"/>
                </a:solidFill>
                <a:latin typeface="Times New Roman"/>
              </a:rPr>
              <a:t>lept</a:t>
            </a:r>
            <a:r>
              <a:rPr b="0" lang="en-GB" sz="2400" spc="-1" strike="noStrike">
                <a:solidFill>
                  <a:srgbClr val="e6d348"/>
                </a:solidFill>
                <a:latin typeface="Times New Roman"/>
              </a:rPr>
              <a:t>c) = </a:t>
            </a:r>
            <a:r>
              <a:rPr b="0" lang="en-GB" sz="2400" spc="-1" strike="noStrike">
                <a:solidFill>
                  <a:srgbClr val="e6d348"/>
                </a:solidFill>
                <a:latin typeface="Symbol"/>
                <a:ea typeface="Symbol"/>
              </a:rPr>
              <a:t></a:t>
            </a:r>
            <a:r>
              <a:rPr b="0" lang="en-GB" sz="2400" spc="-1" strike="noStrike">
                <a:solidFill>
                  <a:srgbClr val="e6d348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e6d348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e6d348"/>
                </a:solidFill>
                <a:latin typeface="Times New Roman"/>
              </a:rPr>
              <a:t>-L</a:t>
            </a:r>
            <a:r>
              <a:rPr b="0" lang="en-GB" sz="2400" spc="-1" strike="noStrike" baseline="-25000">
                <a:solidFill>
                  <a:srgbClr val="e6d348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e6d348"/>
                </a:solidFill>
                <a:latin typeface="Times New Roman"/>
              </a:rPr>
              <a:t>/c</a:t>
            </a:r>
            <a:r>
              <a:rPr b="0" lang="en-GB" sz="2400" spc="-1" strike="noStrike">
                <a:solidFill>
                  <a:srgbClr val="e6d348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Fit with a linear combination of Ke3 and 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shapes, and background con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3883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Kl3 BR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981000"/>
            <a:ext cx="72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trum of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l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2001-2002 data-set, Tag 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176" t="10183" r="28558" b="10862"/>
          <a:stretch/>
        </p:blipFill>
        <p:spPr>
          <a:xfrm>
            <a:off x="1835280" y="1484280"/>
            <a:ext cx="5661000" cy="498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1516" t="10183" r="28558" b="11386"/>
          <a:stretch/>
        </p:blipFill>
        <p:spPr>
          <a:xfrm>
            <a:off x="3564000" y="692280"/>
            <a:ext cx="5580000" cy="4452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0" y="2060640"/>
                <a:ext cx="356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l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ec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txNeu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c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k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755640" y="0"/>
            <a:ext cx="8388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Kl3 BR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26920" y="5229360"/>
          <a:ext cx="7812000" cy="1304640"/>
        </p:xfrm>
        <a:graphic>
          <a:graphicData uri="http://schemas.openxmlformats.org/drawingml/2006/table">
            <a:tbl>
              <a:tblPr/>
              <a:tblGrid>
                <a:gridCol w="839880"/>
                <a:gridCol w="1865160"/>
                <a:gridCol w="1830600"/>
                <a:gridCol w="1674720"/>
                <a:gridCol w="1601640"/>
              </a:tblGrid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K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K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K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K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 02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3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77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188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94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096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586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925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465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6948360" cy="3946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6120" y="1125360"/>
            <a:ext cx="202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i="1" lang="it-IT" sz="2800" spc="-1" strike="noStrike" baseline="-25000">
                <a:solidFill>
                  <a:srgbClr val="ffffff"/>
                </a:solidFill>
                <a:latin typeface="Times New Roman"/>
              </a:rPr>
              <a:t>us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i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1" i="1" lang="it-IT" sz="28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it-IT" sz="2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l-G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084640"/>
            <a:ext cx="8569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e are evaluating the systematics and our accurac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ill be comparable with the BNL measure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0"/>
            <a:ext cx="8388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Kl3 BR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Charged Kaon Life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435640" y="3357720"/>
                <a:ext cx="33843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n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1325520"/>
            <a:ext cx="6248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1e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The Particle Data Group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not in agreement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it-IT" sz="2800" spc="-1" strike="noStrike">
                <a:solidFill>
                  <a:srgbClr val="eaea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219640" cy="374328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0" y="2565360"/>
            <a:ext cx="8931240" cy="3789360"/>
            <a:chOff x="0" y="2565360"/>
            <a:chExt cx="8931240" cy="3789360"/>
          </a:xfrm>
        </p:grpSpPr>
        <p:grpSp>
          <p:nvGrpSpPr>
            <p:cNvPr id="131" name=""/>
            <p:cNvGrpSpPr/>
            <p:nvPr/>
          </p:nvGrpSpPr>
          <p:grpSpPr>
            <a:xfrm>
              <a:off x="5394240" y="3327480"/>
              <a:ext cx="3537000" cy="1613880"/>
              <a:chOff x="5394240" y="3327480"/>
              <a:chExt cx="3537000" cy="161388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5394240" y="4470120"/>
                    <a:ext cx="3537000" cy="47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ns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33" name=""/>
              <p:cNvGrpSpPr/>
              <p:nvPr/>
            </p:nvGrpSpPr>
            <p:grpSpPr>
              <a:xfrm>
                <a:off x="5638680" y="3327480"/>
                <a:ext cx="3200400" cy="533160"/>
                <a:chOff x="5638680" y="3327480"/>
                <a:chExt cx="3200400" cy="5331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638680" y="3327480"/>
                  <a:ext cx="3200400" cy="533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5638680" y="3327480"/>
                  <a:ext cx="3200400" cy="533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0" y="2565360"/>
              <a:ext cx="5257800" cy="378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3883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Charged Kaon Life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565360"/>
            <a:ext cx="5257800" cy="42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d348"/>
                </a:solidFill>
                <a:latin typeface="Comic Sans MS"/>
              </a:rPr>
              <a:t>2 independent methods to measure </a:t>
            </a:r>
            <a:r>
              <a:rPr b="0" lang="en-US" sz="2200" spc="-1" strike="noStrike">
                <a:solidFill>
                  <a:srgbClr val="e6d348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 baseline="-25000">
                <a:solidFill>
                  <a:srgbClr val="e6d348"/>
                </a:solidFill>
                <a:latin typeface="Comic Sans MS"/>
              </a:rPr>
              <a:t>K</a:t>
            </a:r>
            <a:r>
              <a:rPr b="0" lang="en-US" sz="2200" spc="-1" strike="noStrike" baseline="-25000">
                <a:solidFill>
                  <a:srgbClr val="e6d348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e6d348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e6d348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valuation of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K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epping along the    charged kaon track up to decay verte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king into account the dE/dx loss in the gas mixture of the DC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e6d348"/>
                </a:solidFill>
                <a:latin typeface="Comic Sans MS"/>
              </a:rPr>
              <a:t>length measurements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K track of the tagging side is extrapolated to the signal hemisphere and the time measurements of the 2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’s from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decay are used to evaluate the K TOF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e6d348"/>
                </a:solidFill>
                <a:latin typeface="Comic Sans MS"/>
              </a:rPr>
              <a:t>time measurements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00560" y="2492280"/>
            <a:ext cx="3943440" cy="4203000"/>
            <a:chOff x="5200560" y="2492280"/>
            <a:chExt cx="3943440" cy="420300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rcRect l="19532" t="20938" r="25457" b="8559"/>
            <a:stretch/>
          </p:blipFill>
          <p:spPr>
            <a:xfrm>
              <a:off x="5200560" y="2492280"/>
              <a:ext cx="3943440" cy="37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670160" y="6254640"/>
              <a:ext cx="139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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(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0" y="981000"/>
            <a:ext cx="4427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arge stat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good re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kaon decays on 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measures for both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3883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Charged Kaon Life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302000" y="620640"/>
            <a:ext cx="4819320" cy="5687640"/>
            <a:chOff x="4302000" y="620640"/>
            <a:chExt cx="4819320" cy="5687640"/>
          </a:xfrm>
        </p:grpSpPr>
        <p:grpSp>
          <p:nvGrpSpPr>
            <p:cNvPr id="145" name=""/>
            <p:cNvGrpSpPr/>
            <p:nvPr/>
          </p:nvGrpSpPr>
          <p:grpSpPr>
            <a:xfrm>
              <a:off x="4302000" y="620640"/>
              <a:ext cx="4819320" cy="5687640"/>
              <a:chOff x="4302000" y="620640"/>
              <a:chExt cx="4819320" cy="56876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4302000" y="2060280"/>
                <a:ext cx="4819320" cy="4248000"/>
                <a:chOff x="4302000" y="2060280"/>
                <a:chExt cx="4819320" cy="424800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4302000" y="2060280"/>
                  <a:ext cx="4766040" cy="4248000"/>
                  <a:chOff x="4302000" y="2060280"/>
                  <a:chExt cx="4766040" cy="4248000"/>
                </a:xfrm>
              </p:grpSpPr>
              <p:pic>
                <p:nvPicPr>
                  <p:cNvPr id="148" name="" descr=""/>
                  <p:cNvPicPr/>
                  <p:nvPr/>
                </p:nvPicPr>
                <p:blipFill>
                  <a:blip r:embed="rId1"/>
                  <a:srcRect l="21851" t="24483" r="15938" b="13468"/>
                  <a:stretch/>
                </p:blipFill>
                <p:spPr>
                  <a:xfrm>
                    <a:off x="4473000" y="2060280"/>
                    <a:ext cx="45950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4302000" y="2234160"/>
                    <a:ext cx="4542120" cy="3918240"/>
                    <a:chOff x="4302000" y="2234160"/>
                    <a:chExt cx="4542120" cy="391824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7776000" y="4410360"/>
                      <a:ext cx="447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2400" spc="-1" strike="noStrike" baseline="30000">
                          <a:solidFill>
                            <a:srgbClr val="0099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7622280" y="5816160"/>
                      <a:ext cx="105876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E</a:t>
                      </a:r>
                      <a:r>
                        <a:rPr b="1" lang="it-IT" sz="1400" spc="-1" strike="noStrike" baseline="-25000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,</a:t>
                      </a:r>
                      <a:r>
                        <a:rPr b="1" lang="it-IT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t</a:t>
                      </a:r>
                      <a:r>
                        <a:rPr b="1" lang="it-IT" sz="1400" spc="-1" strike="noStrike" baseline="-25000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,x</a:t>
                      </a:r>
                      <a:r>
                        <a:rPr b="1" lang="it-IT" sz="1400" spc="-1" strike="noStrike" baseline="-25000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7749720" y="3142800"/>
                      <a:ext cx="446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cc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400" spc="-1" strike="noStrike" baseline="30000">
                          <a:solidFill>
                            <a:srgbClr val="00ccff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7968600" y="2234160"/>
                      <a:ext cx="87552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cc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,x</a:t>
                      </a:r>
                      <a:r>
                        <a:rPr b="0" lang="en-US" sz="1800" spc="-1" strike="noStrike" baseline="-25000">
                          <a:solidFill>
                            <a:srgbClr val="00cc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,</a:t>
                      </a:r>
                      <a:r>
                        <a:rPr b="0" lang="it-IT" sz="1800" spc="-1" strike="noStrike">
                          <a:solidFill>
                            <a:srgbClr val="00ccff"/>
                          </a:solidFill>
                          <a:latin typeface="Comic Sans MS"/>
                        </a:rPr>
                        <a:t>t</a:t>
                      </a:r>
                      <a:r>
                        <a:rPr b="0" lang="it-IT" sz="2400" spc="-1" strike="noStrike" baseline="-25000">
                          <a:solidFill>
                            <a:srgbClr val="00cc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5048280" y="3917160"/>
                      <a:ext cx="92628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</a:t>
                      </a:r>
                      <a:r>
                        <a:rPr b="0" lang="it-IT" sz="2400" spc="-1" strike="noStrike" baseline="-25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</a:t>
                      </a:r>
                      <a:r>
                        <a:rPr b="0" lang="it-IT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t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4302000" y="4022280"/>
                      <a:ext cx="36540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</a:t>
                      </a:r>
                      <a:r>
                        <a:rPr b="0" lang="it-IT" sz="2400" spc="-1" strike="noStrike" baseline="-25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489720" y="3458880"/>
                      <a:ext cx="403200" cy="405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800" spc="-1" strike="noStrike" baseline="-25000">
                          <a:solidFill>
                            <a:srgbClr val="0066ff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182000" y="4199400"/>
                      <a:ext cx="403200" cy="405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800" spc="-1" strike="noStrike" baseline="-25000">
                          <a:solidFill>
                            <a:srgbClr val="ff99ff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659640" y="4162680"/>
                      <a:ext cx="339480" cy="405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</a:t>
                      </a:r>
                      <a:r>
                        <a:rPr b="0" lang="it-IT" sz="18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7116120" y="3704760"/>
                      <a:ext cx="322560" cy="405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l</a:t>
                      </a:r>
                      <a:r>
                        <a:rPr b="0" lang="it-IT" sz="1800" spc="-1" strike="noStrike" baseline="-25000">
                          <a:solidFill>
                            <a:srgbClr val="ff99ff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7327440" y="3498480"/>
                      <a:ext cx="294480" cy="28080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268400" y="3147120"/>
                      <a:ext cx="383400" cy="405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x</a:t>
                      </a:r>
                      <a:r>
                        <a:rPr b="0" lang="it-IT" sz="1800" spc="-1" strike="noStrike" baseline="-25000">
                          <a:solidFill>
                            <a:srgbClr val="ff99ff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2" name=""/>
                <p:cNvSpPr/>
                <p:nvPr/>
              </p:nvSpPr>
              <p:spPr>
                <a:xfrm>
                  <a:off x="8384040" y="4870080"/>
                  <a:ext cx="7372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9900"/>
                      </a:solidFill>
                      <a:latin typeface="Comic Sans MS"/>
                    </a:rPr>
                    <a:t>E</a:t>
                  </a:r>
                  <a:r>
                    <a:rPr b="1" lang="it-IT" sz="1400" spc="-1" strike="noStrike" baseline="-25000">
                      <a:solidFill>
                        <a:srgbClr val="009900"/>
                      </a:solidFill>
                      <a:latin typeface="Symbol"/>
                      <a:ea typeface="Symbol"/>
                    </a:rPr>
                    <a:t></a:t>
                  </a:r>
                  <a:r>
                    <a:rPr b="1" lang="en-US" sz="1400" spc="-1" strike="noStrike">
                      <a:solidFill>
                        <a:srgbClr val="009900"/>
                      </a:solidFill>
                      <a:latin typeface="Comic Sans MS"/>
                    </a:rPr>
                    <a:t>,</a:t>
                  </a:r>
                  <a:r>
                    <a:rPr b="1" lang="it-IT" sz="1400" spc="-1" strike="noStrike">
                      <a:solidFill>
                        <a:srgbClr val="009900"/>
                      </a:solidFill>
                      <a:latin typeface="Comic Sans MS"/>
                    </a:rPr>
                    <a:t>t</a:t>
                  </a:r>
                  <a:r>
                    <a:rPr b="1" lang="it-IT" sz="1400" spc="-1" strike="noStrike" baseline="-25000">
                      <a:solidFill>
                        <a:srgbClr val="009900"/>
                      </a:solidFill>
                      <a:latin typeface="Symbol"/>
                      <a:ea typeface="Symbol"/>
                    </a:rPr>
                    <a:t></a:t>
                  </a:r>
                  <a:r>
                    <a:rPr b="1" lang="en-US" sz="1400" spc="-1" strike="noStrike">
                      <a:solidFill>
                        <a:srgbClr val="009900"/>
                      </a:solidFill>
                      <a:latin typeface="Comic Sans MS"/>
                    </a:rPr>
                    <a:t>,x</a:t>
                  </a:r>
                  <a:r>
                    <a:rPr b="1" lang="it-IT" sz="1400" spc="-1" strike="noStrike" baseline="-25000">
                      <a:solidFill>
                        <a:srgbClr val="009900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4711680" y="620640"/>
                <a:ext cx="3743640" cy="13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The neutral vertex method allows to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estimate the reconstruction  efficiency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6732720" y="227664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50920" y="2276640"/>
            <a:ext cx="3336120" cy="2803320"/>
            <a:chOff x="250920" y="2276640"/>
            <a:chExt cx="3336120" cy="280332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50920" y="2276640"/>
                  <a:ext cx="2700360" cy="11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vn &amp; v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v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395280" y="3740040"/>
              <a:ext cx="3191760" cy="1339920"/>
              <a:chOff x="395280" y="3740040"/>
              <a:chExt cx="3191760" cy="13399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395280" y="4076640"/>
                <a:ext cx="1447920" cy="681480"/>
                <a:chOff x="395280" y="4076640"/>
                <a:chExt cx="1447920" cy="681480"/>
              </a:xfrm>
            </p:grpSpPr>
            <p:sp>
              <p:nvSpPr>
                <p:cNvPr id="169" name=""/>
                <p:cNvSpPr/>
                <p:nvPr/>
              </p:nvSpPr>
              <p:spPr>
                <a:xfrm flipH="1">
                  <a:off x="395280" y="4076640"/>
                  <a:ext cx="1447920" cy="381240"/>
                </a:xfrm>
                <a:custGeom>
                  <a:avLst/>
                  <a:gdLst/>
                  <a:ahLst/>
                  <a:rect l="l" t="t" r="r" b="b"/>
                  <a:pathLst>
                    <a:path w="912" h="240">
                      <a:moveTo>
                        <a:pt x="912" y="144"/>
                      </a:moveTo>
                      <a:cubicBezTo>
                        <a:pt x="872" y="108"/>
                        <a:pt x="832" y="72"/>
                        <a:pt x="768" y="48"/>
                      </a:cubicBezTo>
                      <a:cubicBezTo>
                        <a:pt x="704" y="24"/>
                        <a:pt x="608" y="0"/>
                        <a:pt x="528" y="0"/>
                      </a:cubicBezTo>
                      <a:cubicBezTo>
                        <a:pt x="448" y="0"/>
                        <a:pt x="360" y="24"/>
                        <a:pt x="288" y="48"/>
                      </a:cubicBezTo>
                      <a:cubicBezTo>
                        <a:pt x="216" y="72"/>
                        <a:pt x="144" y="112"/>
                        <a:pt x="96" y="144"/>
                      </a:cubicBezTo>
                      <a:cubicBezTo>
                        <a:pt x="48" y="176"/>
                        <a:pt x="16" y="224"/>
                        <a:pt x="0" y="240"/>
                      </a:cubicBezTo>
                    </a:path>
                  </a:pathLst>
                </a:custGeom>
                <a:noFill/>
                <a:ln cap="sq" w="50760">
                  <a:solidFill>
                    <a:srgbClr val="eaea1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42600" y="4329000"/>
                  <a:ext cx="7722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200" spc="-1" strike="noStrike">
                      <a:solidFill>
                        <a:srgbClr val="ffffff"/>
                      </a:solidFill>
                      <a:latin typeface="Times New Roman"/>
                    </a:rPr>
                    <a:t>kaon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1932120" y="4386240"/>
                <a:ext cx="1030320" cy="693720"/>
              </a:xfrm>
              <a:custGeom>
                <a:avLst/>
                <a:gdLst/>
                <a:ahLst/>
                <a:rect l="l" t="t" r="r" b="b"/>
                <a:pathLst>
                  <a:path w="649" h="437">
                    <a:moveTo>
                      <a:pt x="0" y="46"/>
                    </a:moveTo>
                    <a:cubicBezTo>
                      <a:pt x="49" y="25"/>
                      <a:pt x="99" y="4"/>
                      <a:pt x="167" y="2"/>
                    </a:cubicBezTo>
                    <a:cubicBezTo>
                      <a:pt x="236" y="0"/>
                      <a:pt x="341" y="0"/>
                      <a:pt x="410" y="36"/>
                    </a:cubicBezTo>
                    <a:cubicBezTo>
                      <a:pt x="479" y="72"/>
                      <a:pt x="543" y="154"/>
                      <a:pt x="583" y="221"/>
                    </a:cubicBezTo>
                    <a:cubicBezTo>
                      <a:pt x="623" y="288"/>
                      <a:pt x="635" y="392"/>
                      <a:pt x="649" y="437"/>
                    </a:cubicBezTo>
                  </a:path>
                </a:pathLst>
              </a:custGeom>
              <a:noFill/>
              <a:ln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19840" y="3740040"/>
                <a:ext cx="1267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Times New Roman"/>
                  </a:rPr>
                  <a:t>charged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Times New Roman"/>
                  </a:rPr>
                  <a:t>daughte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694160" y="4076640"/>
                <a:ext cx="375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4400" spc="-1" strike="noStrike">
                    <a:solidFill>
                      <a:srgbClr val="ccccff"/>
                    </a:solidFill>
                    <a:latin typeface="Times New Roman"/>
                    <a:ea typeface="Times New Roman"/>
                  </a:rPr>
                  <a:t>•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0"/>
            <a:ext cx="8388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Charged Kaon Life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1125360"/>
            <a:ext cx="3887280" cy="4392360"/>
            <a:chOff x="0" y="1125360"/>
            <a:chExt cx="3887280" cy="439236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0" y="1125360"/>
              <a:ext cx="388728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010240" y="2562120"/>
              <a:ext cx="117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</a:t>
              </a:r>
              <a:r>
                <a:rPr b="1" lang="it-IT" sz="20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</a:t>
              </a:r>
              <a:r>
                <a:rPr b="1" lang="it-IT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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256360" y="1125360"/>
            <a:ext cx="3887280" cy="4392360"/>
            <a:chOff x="5256360" y="1125360"/>
            <a:chExt cx="3887280" cy="43923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256360" y="1125360"/>
              <a:ext cx="388728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268040" y="2484360"/>
              <a:ext cx="117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</a:t>
              </a:r>
              <a:r>
                <a:rPr b="1" lang="it-IT" sz="2000" spc="-1" strike="noStrike" baseline="30000">
                  <a:solidFill>
                    <a:srgbClr val="0000ff"/>
                  </a:solidFill>
                  <a:latin typeface="Symbol"/>
                  <a:ea typeface="Symbol"/>
                </a:rPr>
                <a:t></a:t>
              </a:r>
              <a:r>
                <a:rPr b="1" lang="it-IT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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851280" y="1916280"/>
            <a:ext cx="144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true 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 Unicode MS"/>
                <a:ea typeface="Times New Roman"/>
              </a:rPr>
              <a:t>reco 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50920" y="206064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03640" y="2349360"/>
            <a:ext cx="2890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116000" y="292392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835280" y="44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372360" y="299736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093080" y="44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5440" y="5661000"/>
            <a:ext cx="214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1e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eaea1e"/>
                </a:solidFill>
                <a:latin typeface="Times New Roman"/>
              </a:rPr>
              <a:t>+</a:t>
            </a:r>
            <a:r>
              <a:rPr b="1" lang="en-US" sz="2400" spc="-1" strike="noStrike" baseline="-25000">
                <a:solidFill>
                  <a:srgbClr val="eaea1e"/>
                </a:solidFill>
                <a:latin typeface="Times New Roman"/>
              </a:rPr>
              <a:t>true </a:t>
            </a:r>
            <a:r>
              <a:rPr b="1" lang="en-US" sz="2400" spc="-1" strike="noStrike">
                <a:solidFill>
                  <a:srgbClr val="eaea1e"/>
                </a:solidFill>
                <a:latin typeface="Times New Roman"/>
              </a:rPr>
              <a:t>= 12.37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09280" y="5516640"/>
            <a:ext cx="256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it-IT" sz="2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it-IT" sz="2000" spc="-1" strike="noStrike" baseline="-25000">
                <a:solidFill>
                  <a:srgbClr val="ffffff"/>
                </a:solidFill>
                <a:latin typeface="Times New Roman"/>
              </a:rPr>
              <a:t>MC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= (12.38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0.06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)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07840" y="6093000"/>
            <a:ext cx="253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it-IT" sz="2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it-IT" sz="2000" spc="-1" strike="noStrike" baseline="-25000">
                <a:solidFill>
                  <a:srgbClr val="ffffff"/>
                </a:solidFill>
                <a:latin typeface="Times New Roman"/>
              </a:rPr>
              <a:t>MC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= (12.38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0.06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)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55640" y="0"/>
            <a:ext cx="8388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Charged Kaon Life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0880" y="1994040"/>
                <a:ext cx="29718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β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36600" y="4425840"/>
                <a:ext cx="3397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94" name=""/>
          <p:cNvGrpSpPr/>
          <p:nvPr/>
        </p:nvGrpSpPr>
        <p:grpSpPr>
          <a:xfrm>
            <a:off x="3886200" y="914400"/>
            <a:ext cx="4723920" cy="5028840"/>
            <a:chOff x="3886200" y="914400"/>
            <a:chExt cx="4723920" cy="5028840"/>
          </a:xfrm>
        </p:grpSpPr>
        <p:sp>
          <p:nvSpPr>
            <p:cNvPr id="195" name=""/>
            <p:cNvSpPr/>
            <p:nvPr/>
          </p:nvSpPr>
          <p:spPr>
            <a:xfrm>
              <a:off x="3886200" y="914400"/>
              <a:ext cx="4723920" cy="502884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057920" y="1013040"/>
              <a:ext cx="4319280" cy="4830840"/>
              <a:chOff x="4057920" y="1013040"/>
              <a:chExt cx="4319280" cy="483084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4511880" y="1042200"/>
                <a:ext cx="1440" cy="157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4428720" y="1092960"/>
                <a:ext cx="83160" cy="1062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54"/>
                    </a:moveTo>
                    <a:lnTo>
                      <a:pt x="48" y="64"/>
                    </a:lnTo>
                    <a:lnTo>
                      <a:pt x="38" y="69"/>
                    </a:lnTo>
                    <a:lnTo>
                      <a:pt x="24" y="69"/>
                    </a:lnTo>
                    <a:lnTo>
                      <a:pt x="14" y="64"/>
                    </a:lnTo>
                    <a:lnTo>
                      <a:pt x="5" y="54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5" y="15"/>
                    </a:lnTo>
                    <a:lnTo>
                      <a:pt x="14" y="6"/>
                    </a:lnTo>
                    <a:lnTo>
                      <a:pt x="24" y="0"/>
                    </a:lnTo>
                    <a:lnTo>
                      <a:pt x="38" y="0"/>
                    </a:lnTo>
                    <a:lnTo>
                      <a:pt x="48" y="6"/>
                    </a:lnTo>
                    <a:lnTo>
                      <a:pt x="57" y="1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4567680" y="1042200"/>
                <a:ext cx="1440" cy="157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69120" y="1042200"/>
                <a:ext cx="97200" cy="157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4666320" y="1042200"/>
                <a:ext cx="1800" cy="157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708440" y="1013040"/>
                <a:ext cx="124560" cy="238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54680" y="1042200"/>
                <a:ext cx="1440" cy="1576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4869720" y="1092960"/>
                <a:ext cx="84600" cy="10620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59" y="54"/>
                    </a:moveTo>
                    <a:lnTo>
                      <a:pt x="48" y="64"/>
                    </a:lnTo>
                    <a:lnTo>
                      <a:pt x="39" y="69"/>
                    </a:lnTo>
                    <a:lnTo>
                      <a:pt x="24" y="69"/>
                    </a:lnTo>
                    <a:lnTo>
                      <a:pt x="14" y="64"/>
                    </a:lnTo>
                    <a:lnTo>
                      <a:pt x="5" y="54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5" y="15"/>
                    </a:lnTo>
                    <a:lnTo>
                      <a:pt x="14" y="6"/>
                    </a:lnTo>
                    <a:lnTo>
                      <a:pt x="24" y="0"/>
                    </a:lnTo>
                    <a:lnTo>
                      <a:pt x="39" y="0"/>
                    </a:lnTo>
                    <a:lnTo>
                      <a:pt x="48" y="6"/>
                    </a:lnTo>
                    <a:lnTo>
                      <a:pt x="59" y="1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5036040" y="1093680"/>
                <a:ext cx="20520" cy="1062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996440" y="1092960"/>
                <a:ext cx="110160" cy="21960"/>
              </a:xfrm>
              <a:custGeom>
                <a:avLst/>
                <a:gdLst/>
                <a:ahLst/>
                <a:rect l="l" t="t" r="r" b="b"/>
                <a:pathLst>
                  <a:path w="77" h="15">
                    <a:moveTo>
                      <a:pt x="0" y="0"/>
                    </a:moveTo>
                    <a:lnTo>
                      <a:pt x="8" y="10"/>
                    </a:lnTo>
                    <a:lnTo>
                      <a:pt x="23" y="15"/>
                    </a:lnTo>
                    <a:lnTo>
                      <a:pt x="77" y="1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7880400" y="5713920"/>
                <a:ext cx="17280" cy="87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7845120" y="5713200"/>
                <a:ext cx="92520" cy="1908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0" y="0"/>
                    </a:moveTo>
                    <a:lnTo>
                      <a:pt x="7" y="8"/>
                    </a:lnTo>
                    <a:lnTo>
                      <a:pt x="19" y="12"/>
                    </a:lnTo>
                    <a:lnTo>
                      <a:pt x="64" y="1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973280" y="5643000"/>
                <a:ext cx="41040" cy="200520"/>
              </a:xfrm>
              <a:custGeom>
                <a:avLst/>
                <a:gdLst/>
                <a:ahLst/>
                <a:rect l="l" t="t" r="r" b="b"/>
                <a:pathLst>
                  <a:path w="29" h="130">
                    <a:moveTo>
                      <a:pt x="29" y="130"/>
                    </a:moveTo>
                    <a:lnTo>
                      <a:pt x="21" y="121"/>
                    </a:lnTo>
                    <a:lnTo>
                      <a:pt x="12" y="109"/>
                    </a:lnTo>
                    <a:lnTo>
                      <a:pt x="5" y="94"/>
                    </a:lnTo>
                    <a:lnTo>
                      <a:pt x="0" y="73"/>
                    </a:lnTo>
                    <a:lnTo>
                      <a:pt x="0" y="57"/>
                    </a:lnTo>
                    <a:lnTo>
                      <a:pt x="5" y="37"/>
                    </a:lnTo>
                    <a:lnTo>
                      <a:pt x="12" y="21"/>
                    </a:lnTo>
                    <a:lnTo>
                      <a:pt x="21" y="9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8053920" y="5713920"/>
                <a:ext cx="1800" cy="87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8056080" y="5713200"/>
                <a:ext cx="62280" cy="8748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41"/>
                    </a:moveTo>
                    <a:lnTo>
                      <a:pt x="11" y="53"/>
                    </a:lnTo>
                    <a:lnTo>
                      <a:pt x="20" y="57"/>
                    </a:lnTo>
                    <a:lnTo>
                      <a:pt x="32" y="57"/>
                    </a:lnTo>
                    <a:lnTo>
                      <a:pt x="40" y="53"/>
                    </a:lnTo>
                    <a:lnTo>
                      <a:pt x="44" y="41"/>
                    </a:lnTo>
                    <a:lnTo>
                      <a:pt x="44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8161560" y="5713200"/>
                <a:ext cx="62280" cy="8748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44" y="45"/>
                    </a:moveTo>
                    <a:lnTo>
                      <a:pt x="40" y="53"/>
                    </a:lnTo>
                    <a:lnTo>
                      <a:pt x="28" y="57"/>
                    </a:lnTo>
                    <a:lnTo>
                      <a:pt x="15" y="57"/>
                    </a:lnTo>
                    <a:lnTo>
                      <a:pt x="3" y="53"/>
                    </a:lnTo>
                    <a:lnTo>
                      <a:pt x="0" y="45"/>
                    </a:lnTo>
                    <a:lnTo>
                      <a:pt x="3" y="38"/>
                    </a:lnTo>
                    <a:lnTo>
                      <a:pt x="12" y="33"/>
                    </a:lnTo>
                    <a:lnTo>
                      <a:pt x="31" y="29"/>
                    </a:lnTo>
                    <a:lnTo>
                      <a:pt x="40" y="26"/>
                    </a:lnTo>
                    <a:lnTo>
                      <a:pt x="43" y="17"/>
                    </a:lnTo>
                    <a:lnTo>
                      <a:pt x="43" y="12"/>
                    </a:lnTo>
                    <a:lnTo>
                      <a:pt x="40" y="5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3" y="5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8260560" y="5643000"/>
                <a:ext cx="38160" cy="200520"/>
              </a:xfrm>
              <a:custGeom>
                <a:avLst/>
                <a:gdLst/>
                <a:ahLst/>
                <a:rect l="l" t="t" r="r" b="b"/>
                <a:pathLst>
                  <a:path w="27" h="130">
                    <a:moveTo>
                      <a:pt x="0" y="130"/>
                    </a:moveTo>
                    <a:lnTo>
                      <a:pt x="7" y="121"/>
                    </a:lnTo>
                    <a:lnTo>
                      <a:pt x="15" y="109"/>
                    </a:lnTo>
                    <a:lnTo>
                      <a:pt x="24" y="94"/>
                    </a:lnTo>
                    <a:lnTo>
                      <a:pt x="27" y="73"/>
                    </a:lnTo>
                    <a:lnTo>
                      <a:pt x="27" y="57"/>
                    </a:lnTo>
                    <a:lnTo>
                      <a:pt x="24" y="37"/>
                    </a:lnTo>
                    <a:lnTo>
                      <a:pt x="15" y="21"/>
                    </a:lnTo>
                    <a:lnTo>
                      <a:pt x="7" y="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4407840" y="1249560"/>
                <a:ext cx="3913560" cy="4207680"/>
              </a:xfrm>
              <a:custGeom>
                <a:avLst/>
                <a:gdLst/>
                <a:ahLst/>
                <a:rect l="l" t="t" r="r" b="b"/>
                <a:pathLst>
                  <a:path w="2721" h="2721">
                    <a:moveTo>
                      <a:pt x="1" y="0"/>
                    </a:moveTo>
                    <a:lnTo>
                      <a:pt x="0" y="2721"/>
                    </a:lnTo>
                    <a:lnTo>
                      <a:pt x="2721" y="2721"/>
                    </a:lnTo>
                    <a:lnTo>
                      <a:pt x="2721" y="0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09280" y="5457600"/>
                <a:ext cx="648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417200" y="545760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25480" y="5457600"/>
                <a:ext cx="1116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36640" y="545760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44560" y="5457600"/>
                <a:ext cx="97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54280" y="5457600"/>
                <a:ext cx="936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65440" y="5457600"/>
                <a:ext cx="61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73720" y="545760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83080" y="5457600"/>
                <a:ext cx="97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492800" y="545760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00720" y="5457600"/>
                <a:ext cx="936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510080" y="5457600"/>
                <a:ext cx="97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521600" y="5457600"/>
                <a:ext cx="648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29520" y="545760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38880" y="5457600"/>
                <a:ext cx="97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48600" y="545760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556520" y="5457600"/>
                <a:ext cx="936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565880" y="5457600"/>
                <a:ext cx="97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77400" y="5457600"/>
                <a:ext cx="648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85320" y="545760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95040" y="5457600"/>
                <a:ext cx="936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04400" y="545760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12320" y="5457600"/>
                <a:ext cx="97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22040" y="545760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30320" y="5457600"/>
                <a:ext cx="1116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41480" y="545760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50840" y="5457600"/>
                <a:ext cx="648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58760" y="5457600"/>
                <a:ext cx="97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8480" y="5457600"/>
                <a:ext cx="936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78200" y="545760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4697280" y="5421600"/>
                <a:ext cx="1440" cy="82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4697280" y="5404680"/>
                <a:ext cx="1440" cy="115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86120" y="5418360"/>
                <a:ext cx="97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280" y="541836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97280" y="54183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4712760" y="3416040"/>
                <a:ext cx="1800" cy="29376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4712760" y="3116520"/>
                <a:ext cx="1800" cy="29736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07000" y="3413880"/>
                <a:ext cx="61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16360" y="3413880"/>
                <a:ext cx="936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14920" y="34138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734000" y="2814120"/>
                <a:ext cx="1800" cy="1476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734000" y="2669760"/>
                <a:ext cx="1800" cy="1440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25720" y="2814120"/>
                <a:ext cx="504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37240" y="2814120"/>
                <a:ext cx="504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34000" y="281412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4752720" y="2652480"/>
                <a:ext cx="1800" cy="874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flipV="1">
                <a:off x="4752720" y="2562840"/>
                <a:ext cx="1800" cy="874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42280" y="2652840"/>
                <a:ext cx="936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754880" y="2652840"/>
                <a:ext cx="61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754880" y="26528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flipV="1">
                <a:off x="4768560" y="2174760"/>
                <a:ext cx="1800" cy="720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4768560" y="2100960"/>
                <a:ext cx="1800" cy="720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62800" y="2174760"/>
                <a:ext cx="61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72160" y="2174760"/>
                <a:ext cx="97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770720" y="21747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4790160" y="1882440"/>
                <a:ext cx="1440" cy="583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4790160" y="1820160"/>
                <a:ext cx="1440" cy="601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82240" y="1881000"/>
                <a:ext cx="46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790160" y="188100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790160" y="188100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4809240" y="1854720"/>
                <a:ext cx="1440" cy="478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4809240" y="1803240"/>
                <a:ext cx="1440" cy="496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98080" y="1855080"/>
                <a:ext cx="936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10680" y="1855080"/>
                <a:ext cx="64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10680" y="18550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4826160" y="1749960"/>
                <a:ext cx="1800" cy="428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4826160" y="1705680"/>
                <a:ext cx="1800" cy="410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18600" y="175032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28320" y="1750320"/>
                <a:ext cx="936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26520" y="17503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845960" y="1751400"/>
                <a:ext cx="1800" cy="37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4845960" y="1713960"/>
                <a:ext cx="1800" cy="360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38040" y="1751760"/>
                <a:ext cx="46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845960" y="1751760"/>
                <a:ext cx="97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845960" y="175176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4863600" y="1770480"/>
                <a:ext cx="1440" cy="324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863600" y="1732680"/>
                <a:ext cx="1440" cy="360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55680" y="176904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66480" y="1769040"/>
                <a:ext cx="64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63600" y="17690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4883040" y="1703160"/>
                <a:ext cx="1440" cy="2916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4883040" y="1669320"/>
                <a:ext cx="1440" cy="3096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74760" y="170064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84480" y="1700640"/>
                <a:ext cx="64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84480" y="17006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901760" y="1770480"/>
                <a:ext cx="1800" cy="2736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901760" y="1741320"/>
                <a:ext cx="1800" cy="2736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92400" y="1770480"/>
                <a:ext cx="648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901760" y="1770480"/>
                <a:ext cx="97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901760" y="177048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4919400" y="1909800"/>
                <a:ext cx="1440" cy="2556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4919400" y="1885680"/>
                <a:ext cx="1440" cy="2196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911480" y="191016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22640" y="1910160"/>
                <a:ext cx="61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19400" y="19101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4938840" y="1932120"/>
                <a:ext cx="1440" cy="241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4938840" y="1908000"/>
                <a:ext cx="1440" cy="241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930560" y="1932480"/>
                <a:ext cx="64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942080" y="1932480"/>
                <a:ext cx="46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40280" y="19324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4957920" y="2054160"/>
                <a:ext cx="1440" cy="205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4957920" y="2030400"/>
                <a:ext cx="1440" cy="223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948200" y="205272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57920" y="2052720"/>
                <a:ext cx="936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57920" y="20527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4975200" y="2103840"/>
                <a:ext cx="1800" cy="2196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4975200" y="2085120"/>
                <a:ext cx="1800" cy="172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67280" y="210420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8440" y="2104200"/>
                <a:ext cx="64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5200" y="21042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4994280" y="2234520"/>
                <a:ext cx="1800" cy="190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4994280" y="2214000"/>
                <a:ext cx="1800" cy="190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86720" y="2233440"/>
                <a:ext cx="64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97880" y="2233440"/>
                <a:ext cx="46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96440" y="2233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5013720" y="2360160"/>
                <a:ext cx="1800" cy="1836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013720" y="2341440"/>
                <a:ext cx="1800" cy="172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04360" y="236052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13720" y="2360520"/>
                <a:ext cx="97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013720" y="23605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5031360" y="2399400"/>
                <a:ext cx="1440" cy="154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5031360" y="2380680"/>
                <a:ext cx="1440" cy="154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3440" y="239652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034240" y="2396520"/>
                <a:ext cx="82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31360" y="23965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>
                <a:off x="5050800" y="2456280"/>
                <a:ext cx="1440" cy="133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5050800" y="2437200"/>
                <a:ext cx="1440" cy="154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42880" y="2453040"/>
                <a:ext cx="61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52240" y="2453040"/>
                <a:ext cx="648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052240" y="245304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5071320" y="2549160"/>
                <a:ext cx="1440" cy="133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071320" y="2531880"/>
                <a:ext cx="1440" cy="133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60160" y="254952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071320" y="254952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71320" y="25495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087520" y="2637000"/>
                <a:ext cx="1440" cy="100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5087520" y="2619720"/>
                <a:ext cx="1440" cy="118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79240" y="263376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90760" y="2633760"/>
                <a:ext cx="61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87520" y="26337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5106600" y="2628360"/>
                <a:ext cx="1440" cy="154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5106600" y="2612520"/>
                <a:ext cx="1440" cy="154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96880" y="2628720"/>
                <a:ext cx="82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08040" y="2628720"/>
                <a:ext cx="64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08040" y="26287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5123520" y="2697120"/>
                <a:ext cx="1800" cy="136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>
                <a:off x="5123520" y="2683440"/>
                <a:ext cx="1800" cy="100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15960" y="269712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27120" y="269712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25680" y="26971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143320" y="2750040"/>
                <a:ext cx="1800" cy="133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5143320" y="2736720"/>
                <a:ext cx="1800" cy="118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135040" y="275040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146560" y="2750400"/>
                <a:ext cx="648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143320" y="27504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5162040" y="2813760"/>
                <a:ext cx="1800" cy="133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flipV="1">
                <a:off x="5162040" y="2800080"/>
                <a:ext cx="1800" cy="1332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153040" y="281412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64200" y="281412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164200" y="28141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5180040" y="2836080"/>
                <a:ext cx="1440" cy="10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5180040" y="2822400"/>
                <a:ext cx="1440" cy="10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72120" y="283320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83280" y="2833200"/>
                <a:ext cx="79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81480" y="28332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5200920" y="2944440"/>
                <a:ext cx="1800" cy="118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00920" y="2930760"/>
                <a:ext cx="1800" cy="118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91560" y="2943000"/>
                <a:ext cx="61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202720" y="2943000"/>
                <a:ext cx="6120" cy="1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200920" y="294300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flipV="1">
                <a:off x="5218560" y="2999520"/>
                <a:ext cx="1440" cy="136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>
                <a:off x="5218560" y="2989080"/>
                <a:ext cx="1440" cy="82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208840" y="299952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220000" y="299952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220000" y="2999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>
                <a:off x="5235480" y="3002760"/>
                <a:ext cx="1800" cy="10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5235480" y="2990880"/>
                <a:ext cx="1800" cy="828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229360" y="3003120"/>
                <a:ext cx="648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239080" y="3003120"/>
                <a:ext cx="7920" cy="180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237640" y="30031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5256720" y="3078360"/>
                <a:ext cx="1800" cy="10440"/>
              </a:xfrm>
              <a:prstGeom prst="line">
                <a:avLst/>
              </a:prstGeom>
              <a:ln cap="rnd"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5247360" y="3064680"/>
                <a:ext cx="757080" cy="1526040"/>
                <a:chOff x="5247360" y="3064680"/>
                <a:chExt cx="757080" cy="1526040"/>
              </a:xfrm>
            </p:grpSpPr>
            <p:sp>
              <p:nvSpPr>
                <p:cNvPr id="397" name=""/>
                <p:cNvSpPr/>
                <p:nvPr/>
              </p:nvSpPr>
              <p:spPr>
                <a:xfrm flipV="1">
                  <a:off x="5256720" y="3064680"/>
                  <a:ext cx="1800" cy="11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247360" y="307692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256720" y="307692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256720" y="30769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flipV="1">
                  <a:off x="5274360" y="3147480"/>
                  <a:ext cx="1440" cy="100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 flipV="1">
                  <a:off x="5274360" y="313488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264640" y="3147480"/>
                  <a:ext cx="82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275800" y="314748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275800" y="31474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5291280" y="3195000"/>
                  <a:ext cx="180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5291280" y="3181320"/>
                  <a:ext cx="1800" cy="11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285520" y="319392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94880" y="319392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293440" y="31939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5312880" y="324504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5312880" y="3231720"/>
                  <a:ext cx="1440" cy="100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303160" y="324180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312880" y="324180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312880" y="32418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5330160" y="3295080"/>
                  <a:ext cx="1800" cy="100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5330160" y="3282840"/>
                  <a:ext cx="180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320800" y="3295080"/>
                  <a:ext cx="936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331960" y="329508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330160" y="32950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flipV="1">
                  <a:off x="5347800" y="3324600"/>
                  <a:ext cx="1440" cy="100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 flipV="1">
                  <a:off x="5347800" y="331344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341320" y="33224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351040" y="332244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349240" y="33224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5368680" y="3370680"/>
                  <a:ext cx="1800" cy="100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5368680" y="3359880"/>
                  <a:ext cx="180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359320" y="337068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68680" y="337068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368680" y="33706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5386320" y="340812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5386320" y="339768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376600" y="340668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387760" y="34066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386320" y="340668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flipV="1">
                  <a:off x="5403240" y="3453120"/>
                  <a:ext cx="180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 flipV="1">
                  <a:off x="5403240" y="344484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397480" y="3453480"/>
                  <a:ext cx="46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406840" y="345348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405400" y="34534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V="1">
                  <a:off x="5424480" y="3538800"/>
                  <a:ext cx="180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V="1">
                  <a:off x="5424480" y="3526920"/>
                  <a:ext cx="1800" cy="10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415120" y="353772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424480" y="3537720"/>
                  <a:ext cx="82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424480" y="35377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5442120" y="3556080"/>
                  <a:ext cx="1440" cy="10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V="1">
                  <a:off x="5442120" y="354600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32760" y="3554640"/>
                  <a:ext cx="936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445360" y="355464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442120" y="35546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flipV="1">
                  <a:off x="5459040" y="361116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 flipV="1">
                  <a:off x="5459040" y="3598920"/>
                  <a:ext cx="180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453280" y="360792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462640" y="360792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461200" y="360792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5480640" y="3654360"/>
                  <a:ext cx="1440" cy="86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>
                  <a:off x="5480640" y="3645360"/>
                  <a:ext cx="144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470920" y="365436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80640" y="365436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480640" y="365436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5497920" y="3681360"/>
                  <a:ext cx="1800" cy="10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5497920" y="3673080"/>
                  <a:ext cx="180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488560" y="3681720"/>
                  <a:ext cx="936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501160" y="368172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497920" y="36817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flipV="1">
                  <a:off x="5516640" y="3693600"/>
                  <a:ext cx="180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 flipV="1">
                  <a:off x="5516640" y="3681360"/>
                  <a:ext cx="180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509080" y="369252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517000" y="369252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517000" y="36925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V="1">
                  <a:off x="5536440" y="3786480"/>
                  <a:ext cx="180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>
                  <a:off x="5536440" y="3777840"/>
                  <a:ext cx="180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527080" y="378684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536440" y="3786840"/>
                  <a:ext cx="97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536440" y="378684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554080" y="3791520"/>
                  <a:ext cx="144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5554080" y="3779280"/>
                  <a:ext cx="144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546160" y="37882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556960" y="3788280"/>
                  <a:ext cx="50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554080" y="378828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>
                  <a:off x="5573520" y="381564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flipV="1">
                  <a:off x="5573520" y="3805920"/>
                  <a:ext cx="144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562000" y="3816000"/>
                  <a:ext cx="936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574960" y="381600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574960" y="381600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flipV="1">
                  <a:off x="5589360" y="388620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 flipV="1">
                  <a:off x="5589360" y="3877920"/>
                  <a:ext cx="144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582880" y="388656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592240" y="3886560"/>
                  <a:ext cx="97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590800" y="388656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5609880" y="3951360"/>
                  <a:ext cx="144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5609880" y="394128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601960" y="395172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613120" y="3951720"/>
                  <a:ext cx="46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609880" y="395172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 flipV="1">
                  <a:off x="5629320" y="3977640"/>
                  <a:ext cx="144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5629320" y="3968280"/>
                  <a:ext cx="144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617800" y="3974040"/>
                  <a:ext cx="97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630760" y="397404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630760" y="397404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>
                  <a:off x="5646240" y="4032720"/>
                  <a:ext cx="180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flipV="1">
                  <a:off x="5646240" y="4024080"/>
                  <a:ext cx="180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638680" y="403056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648400" y="403056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646600" y="403056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5665680" y="4038840"/>
                  <a:ext cx="180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5665680" y="4030200"/>
                  <a:ext cx="180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657760" y="4037760"/>
                  <a:ext cx="50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668920" y="403776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665680" y="403776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 flipV="1">
                  <a:off x="5684760" y="407556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 flipV="1">
                  <a:off x="5684760" y="4064760"/>
                  <a:ext cx="180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75400" y="40719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686920" y="407196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686920" y="407196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 flipV="1">
                  <a:off x="5702760" y="412308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 flipV="1">
                  <a:off x="5702760" y="411336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694840" y="412200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704200" y="4122000"/>
                  <a:ext cx="97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704200" y="412200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5721840" y="4149000"/>
                  <a:ext cx="144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5721840" y="4140360"/>
                  <a:ext cx="144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13920" y="4149360"/>
                  <a:ext cx="46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721840" y="414936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721840" y="414936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 flipV="1">
                  <a:off x="5741280" y="4140360"/>
                  <a:ext cx="144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 flipV="1">
                  <a:off x="5741280" y="4131720"/>
                  <a:ext cx="144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731200" y="414072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742720" y="414072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742720" y="414072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 flipV="1">
                  <a:off x="5758200" y="4196160"/>
                  <a:ext cx="180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 flipV="1">
                  <a:off x="5758200" y="418752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750640" y="41961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761800" y="41961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760360" y="419616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5777640" y="424872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5777640" y="423900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769720" y="424728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777640" y="4247280"/>
                  <a:ext cx="936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777640" y="42472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5795640" y="423864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5795640" y="4230360"/>
                  <a:ext cx="144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787000" y="4236840"/>
                  <a:ext cx="82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798520" y="42368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795640" y="42368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>
                  <a:off x="5814000" y="4265640"/>
                  <a:ext cx="180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 flipV="1">
                  <a:off x="5814000" y="4257360"/>
                  <a:ext cx="180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06440" y="42645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817600" y="4264560"/>
                  <a:ext cx="46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816160" y="426456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5833440" y="4302000"/>
                  <a:ext cx="180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5833440" y="429372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824080" y="429876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833440" y="429876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833440" y="429876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5851440" y="434484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V="1">
                  <a:off x="5851440" y="4336200"/>
                  <a:ext cx="144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843520" y="43437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4680" y="43437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851440" y="434376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>
                  <a:off x="5870520" y="4348440"/>
                  <a:ext cx="144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 flipV="1">
                  <a:off x="5870520" y="434016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862600" y="434880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873760" y="4348800"/>
                  <a:ext cx="46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871960" y="434880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V="1">
                  <a:off x="5891040" y="444168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V="1">
                  <a:off x="5891040" y="443304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79880" y="44380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891040" y="44380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891040" y="443808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5907240" y="444168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V="1">
                  <a:off x="5907240" y="443304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899320" y="44380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910480" y="44380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07240" y="443808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 flipV="1">
                  <a:off x="5925960" y="4448520"/>
                  <a:ext cx="180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 flipV="1">
                  <a:off x="5925960" y="4437720"/>
                  <a:ext cx="180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919840" y="4446720"/>
                  <a:ext cx="50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929560" y="4446720"/>
                  <a:ext cx="46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928120" y="444672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V="1">
                  <a:off x="5946840" y="4528800"/>
                  <a:ext cx="180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5946840" y="4521960"/>
                  <a:ext cx="180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936040" y="45291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946840" y="45291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946840" y="452916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V="1">
                  <a:off x="5963400" y="4530600"/>
                  <a:ext cx="144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V="1">
                  <a:off x="5963400" y="4521960"/>
                  <a:ext cx="144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955120" y="4529160"/>
                  <a:ext cx="82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966280" y="45291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963400" y="452916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flipV="1">
                  <a:off x="5981760" y="454500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>
                  <a:off x="5981760" y="4536360"/>
                  <a:ext cx="180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976000" y="4542840"/>
                  <a:ext cx="46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983920" y="45428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983920" y="45428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V="1">
                  <a:off x="6003000" y="458748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5992200" y="4580640"/>
                <a:ext cx="753840" cy="740880"/>
                <a:chOff x="5992200" y="4580640"/>
                <a:chExt cx="753840" cy="740880"/>
              </a:xfrm>
            </p:grpSpPr>
            <p:sp>
              <p:nvSpPr>
                <p:cNvPr id="598" name=""/>
                <p:cNvSpPr/>
                <p:nvPr/>
              </p:nvSpPr>
              <p:spPr>
                <a:xfrm flipV="1">
                  <a:off x="6003360" y="4580640"/>
                  <a:ext cx="144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992200" y="458640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003360" y="458640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003360" y="458640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6020640" y="4609800"/>
                  <a:ext cx="180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V="1">
                  <a:off x="6020640" y="4604760"/>
                  <a:ext cx="180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011280" y="461016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022440" y="461016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020640" y="461016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flipV="1">
                  <a:off x="6038280" y="4632480"/>
                  <a:ext cx="1440" cy="2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flipV="1">
                  <a:off x="6038280" y="462420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028560" y="463248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039720" y="463248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039720" y="46324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>
                  <a:off x="6055560" y="4656240"/>
                  <a:ext cx="180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>
                  <a:off x="6055560" y="4650840"/>
                  <a:ext cx="180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049800" y="465480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059160" y="465480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057720" y="465480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6076800" y="465120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6076800" y="464292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067080" y="465120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078240" y="465120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076800" y="46512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 flipV="1">
                  <a:off x="6093720" y="4705920"/>
                  <a:ext cx="180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 flipV="1">
                  <a:off x="6093720" y="469764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084720" y="47062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095880" y="47062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095880" y="470628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 flipV="1">
                  <a:off x="6112080" y="470808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H="1" flipV="1">
                  <a:off x="6112080" y="469728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105600" y="470628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114960" y="4706280"/>
                  <a:ext cx="82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13520" y="470628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6132600" y="4728960"/>
                  <a:ext cx="144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V="1">
                  <a:off x="6132600" y="472176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23240" y="472896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134040" y="472896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132600" y="472896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 flipV="1">
                  <a:off x="6149520" y="476316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 flipV="1">
                  <a:off x="6149520" y="4758120"/>
                  <a:ext cx="1800" cy="2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140520" y="47631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151680" y="47631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151680" y="476316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 flipV="1">
                  <a:off x="6167880" y="4752360"/>
                  <a:ext cx="144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>
                  <a:off x="6167880" y="474408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161400" y="475272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171120" y="475272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169320" y="475272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V="1">
                  <a:off x="6188400" y="476676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6188400" y="475812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179040" y="476316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188400" y="47631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188400" y="476316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6206040" y="479592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6206040" y="479016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196320" y="4795920"/>
                  <a:ext cx="97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07840" y="479592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207840" y="47959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6223320" y="4804560"/>
                  <a:ext cx="1800" cy="2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6223320" y="479592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217560" y="480096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226920" y="48009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6225480" y="480096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6244560" y="484236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6244560" y="4833720"/>
                  <a:ext cx="144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234840" y="484020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244560" y="484020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244560" y="48402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V="1">
                  <a:off x="6262200" y="4826520"/>
                  <a:ext cx="180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V="1">
                  <a:off x="6262200" y="4819320"/>
                  <a:ext cx="180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252480" y="4826880"/>
                  <a:ext cx="936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264000" y="482688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262200" y="48268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H="1" flipV="1">
                  <a:off x="6279840" y="4883040"/>
                  <a:ext cx="144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H="1" flipV="1">
                  <a:off x="6279840" y="487800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273360" y="488340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282720" y="488340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281280" y="4883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V="1">
                  <a:off x="6300360" y="481932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V="1">
                  <a:off x="6300360" y="480924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291000" y="481824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00360" y="48182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6300360" y="48182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V="1">
                  <a:off x="6318360" y="4847400"/>
                  <a:ext cx="144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6318360" y="484020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308280" y="4847400"/>
                  <a:ext cx="97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321240" y="484740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318360" y="484740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 flipV="1">
                  <a:off x="6335640" y="485964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 flipV="1">
                  <a:off x="6335640" y="485100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329160" y="485604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338880" y="485604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337080" y="485604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6356160" y="4865760"/>
                  <a:ext cx="180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6356160" y="485604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346800" y="486468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356160" y="486468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356160" y="48646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6374160" y="488304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6374160" y="487800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364080" y="488340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377400" y="488340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374160" y="4883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 flipV="1">
                  <a:off x="6393240" y="4891320"/>
                  <a:ext cx="144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 flipV="1">
                  <a:off x="6393240" y="488304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385320" y="488880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394680" y="488880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393240" y="488880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V="1">
                  <a:off x="6412320" y="491220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V="1">
                  <a:off x="6412320" y="490212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402600" y="491076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412320" y="4910760"/>
                  <a:ext cx="936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412320" y="491076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6429960" y="495216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V="1">
                  <a:off x="6429960" y="4943160"/>
                  <a:ext cx="180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421680" y="49485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433200" y="494856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29960" y="494856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 flipV="1">
                  <a:off x="6448680" y="495720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 flipV="1">
                  <a:off x="6448680" y="494856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441120" y="495720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450840" y="495720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450840" y="495720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V="1">
                  <a:off x="6468120" y="498492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6468120" y="497628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458760" y="498132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468120" y="4981320"/>
                  <a:ext cx="936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468120" y="49813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V="1">
                  <a:off x="6486120" y="500832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V="1">
                  <a:off x="6486120" y="500328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477840" y="5008680"/>
                  <a:ext cx="82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489000" y="5008680"/>
                  <a:ext cx="50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486120" y="500868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H="1" flipV="1">
                  <a:off x="6504480" y="505872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 flipV="1">
                  <a:off x="6504480" y="505008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494040" y="505512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06640" y="505512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506640" y="505512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H="1" flipV="1">
                  <a:off x="6522480" y="508788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 flipV="1">
                  <a:off x="6522480" y="5078880"/>
                  <a:ext cx="144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514560" y="50864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523920" y="5086440"/>
                  <a:ext cx="97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522480" y="50864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6541920" y="5139000"/>
                  <a:ext cx="144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6541920" y="513396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534000" y="513936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545160" y="513936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541920" y="513936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flipV="1">
                  <a:off x="6561000" y="512064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flipV="1">
                  <a:off x="6561000" y="511524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551280" y="51206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562440" y="512064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562440" y="512064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flipV="1">
                  <a:off x="6577920" y="516204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flipV="1">
                  <a:off x="6577920" y="515700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570360" y="51620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580080" y="5162040"/>
                  <a:ext cx="936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580080" y="51620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V="1">
                  <a:off x="6597720" y="518400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V="1">
                  <a:off x="6597720" y="5177520"/>
                  <a:ext cx="1800" cy="2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589800" y="5184000"/>
                  <a:ext cx="46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600960" y="518400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597720" y="51840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 flipV="1">
                  <a:off x="6616440" y="5203080"/>
                  <a:ext cx="1800" cy="2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 flipV="1">
                  <a:off x="6616440" y="519480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607440" y="51998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618600" y="519984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618600" y="51998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 flipV="1">
                  <a:off x="6634440" y="522180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 flipV="1">
                  <a:off x="6634440" y="521676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626520" y="522180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637320" y="522180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635880" y="52218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6653880" y="522540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V="1">
                  <a:off x="6653880" y="521820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645600" y="522180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653880" y="522180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653880" y="52218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flipV="1">
                  <a:off x="6672240" y="5263200"/>
                  <a:ext cx="180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flipV="1">
                  <a:off x="6672240" y="5258160"/>
                  <a:ext cx="180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6663240" y="526320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674400" y="526320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674400" y="526320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6690240" y="5268240"/>
                  <a:ext cx="14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flipV="1">
                  <a:off x="6690240" y="525924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682320" y="52646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693840" y="52646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691680" y="52646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6709680" y="527184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709680" y="5268240"/>
                  <a:ext cx="14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701760" y="527184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709680" y="5271840"/>
                  <a:ext cx="936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6709680" y="52718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V="1">
                  <a:off x="6726960" y="5276520"/>
                  <a:ext cx="180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V="1">
                  <a:off x="6726960" y="526824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719040" y="52732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730200" y="52732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726960" y="527328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738120" y="532008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748560" y="5304960"/>
                <a:ext cx="782640" cy="154080"/>
                <a:chOff x="6748560" y="5304960"/>
                <a:chExt cx="782640" cy="15408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750000" y="5320440"/>
                  <a:ext cx="46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748560" y="53204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V="1">
                  <a:off x="6767640" y="531000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V="1">
                  <a:off x="6767640" y="530496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756480" y="531000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767640" y="531000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767640" y="531000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V="1">
                  <a:off x="6783480" y="5320440"/>
                  <a:ext cx="1440" cy="2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V="1">
                  <a:off x="6783480" y="531468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775560" y="53204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786720" y="53204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783480" y="53204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 flipV="1">
                  <a:off x="6802920" y="5343840"/>
                  <a:ext cx="14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 flipV="1">
                  <a:off x="6802920" y="533880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796080" y="5342400"/>
                  <a:ext cx="46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805800" y="5342400"/>
                  <a:ext cx="50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804360" y="534240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V="1">
                  <a:off x="6823440" y="533736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V="1">
                  <a:off x="6823440" y="5331600"/>
                  <a:ext cx="14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812280" y="533412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823440" y="533412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823440" y="5334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>
                  <a:off x="6839280" y="535104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6839280" y="534600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831360" y="53474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842520" y="53474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839280" y="53474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flipV="1">
                  <a:off x="6858720" y="534600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flipV="1">
                  <a:off x="6858720" y="534240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851880" y="5344200"/>
                  <a:ext cx="50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61960" y="534420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60160" y="53442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6879240" y="5360760"/>
                  <a:ext cx="180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868080" y="536472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879240" y="536472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879240" y="536472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887160" y="5366520"/>
                  <a:ext cx="97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898320" y="536652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896880" y="53665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flipV="1">
                  <a:off x="6914160" y="5371200"/>
                  <a:ext cx="180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flipV="1">
                  <a:off x="6914160" y="5366520"/>
                  <a:ext cx="1800" cy="2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908400" y="5371560"/>
                  <a:ext cx="46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916320" y="53715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916320" y="537156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V="1">
                  <a:off x="6935400" y="5369400"/>
                  <a:ext cx="14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V="1">
                  <a:off x="6935400" y="5364360"/>
                  <a:ext cx="14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925680" y="536976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935400" y="536976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935400" y="536976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V="1">
                  <a:off x="6952680" y="5371200"/>
                  <a:ext cx="180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V="1">
                  <a:off x="6952680" y="5366520"/>
                  <a:ext cx="1800" cy="2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943320" y="5371560"/>
                  <a:ext cx="936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954480" y="537156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6952680" y="537156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 flipV="1">
                  <a:off x="6970680" y="5378040"/>
                  <a:ext cx="14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960960" y="538020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972120" y="538020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972120" y="538020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 flipV="1">
                  <a:off x="6987600" y="5388840"/>
                  <a:ext cx="180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 flipV="1">
                  <a:off x="6987600" y="5383800"/>
                  <a:ext cx="180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981840" y="538884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991200" y="53888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989760" y="53888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7008840" y="5378040"/>
                  <a:ext cx="144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7008840" y="537516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999120" y="537840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012080" y="5378400"/>
                  <a:ext cx="50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7008840" y="5378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7026480" y="5402160"/>
                  <a:ext cx="14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flipV="1">
                  <a:off x="7026480" y="539748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017120" y="540252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027920" y="540252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7027920" y="540252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 flipV="1">
                  <a:off x="7044120" y="538524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7044120" y="537984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7037640" y="538524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047000" y="53852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7045560" y="53852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7065000" y="538884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V="1">
                  <a:off x="7065000" y="538380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054920" y="538884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7068240" y="5388840"/>
                  <a:ext cx="46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065000" y="53888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7084080" y="5402160"/>
                  <a:ext cx="14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flipV="1">
                  <a:off x="7084080" y="539748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7072920" y="540252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084080" y="540252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084080" y="540252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>
                  <a:off x="7099920" y="5407560"/>
                  <a:ext cx="14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7099920" y="5402160"/>
                  <a:ext cx="14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093440" y="540756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103160" y="540756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101360" y="540756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7120800" y="5407200"/>
                  <a:ext cx="180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7120800" y="5402160"/>
                  <a:ext cx="180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7112520" y="5407560"/>
                  <a:ext cx="46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7120800" y="540756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120800" y="540756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7139520" y="539748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>
                  <a:off x="7139520" y="5389920"/>
                  <a:ext cx="180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128720" y="539388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141680" y="539388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7141680" y="539388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 flipV="1">
                  <a:off x="7155360" y="5407200"/>
                  <a:ext cx="180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 flipV="1">
                  <a:off x="7155360" y="5404320"/>
                  <a:ext cx="1800" cy="2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149600" y="540756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158960" y="540756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157520" y="540756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7176960" y="542484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V="1">
                  <a:off x="7176960" y="542160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7168680" y="5424840"/>
                  <a:ext cx="50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176960" y="54248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176960" y="54248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V="1">
                  <a:off x="7194240" y="540720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V="1">
                  <a:off x="7194240" y="5397120"/>
                  <a:ext cx="1440" cy="68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184880" y="540756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197480" y="540756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7194240" y="540756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 flipV="1">
                  <a:off x="7213320" y="5422680"/>
                  <a:ext cx="14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 flipV="1">
                  <a:off x="7213320" y="5415480"/>
                  <a:ext cx="1440" cy="5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205400" y="542160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14760" y="542160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13320" y="542160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V="1">
                  <a:off x="7232760" y="541800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V="1">
                  <a:off x="7232760" y="541080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223040" y="54158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232760" y="54158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232760" y="54158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V="1">
                  <a:off x="7250040" y="5412960"/>
                  <a:ext cx="1800" cy="100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V="1">
                  <a:off x="7250040" y="5404320"/>
                  <a:ext cx="1800" cy="6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242120" y="54129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253280" y="541296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250040" y="541296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 flipV="1">
                  <a:off x="7268760" y="5407200"/>
                  <a:ext cx="1800" cy="10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 flipV="1">
                  <a:off x="7268760" y="5390280"/>
                  <a:ext cx="1800" cy="136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261200" y="540432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271280" y="540432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271280" y="54043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7288560" y="543168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V="1">
                  <a:off x="7288560" y="5424840"/>
                  <a:ext cx="180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279200" y="542988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288560" y="5429880"/>
                  <a:ext cx="97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288560" y="54298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V="1">
                  <a:off x="7306200" y="5429880"/>
                  <a:ext cx="1440" cy="50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7306200" y="542124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298280" y="54266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309440" y="5426640"/>
                  <a:ext cx="61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306200" y="54266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 flipV="1">
                  <a:off x="7325640" y="5438520"/>
                  <a:ext cx="144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flipV="1">
                  <a:off x="7325640" y="5431320"/>
                  <a:ext cx="1440" cy="32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317360" y="543672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328520" y="5436720"/>
                  <a:ext cx="504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327080" y="543672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7344720" y="5429880"/>
                  <a:ext cx="1440" cy="100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V="1">
                  <a:off x="7344720" y="5415480"/>
                  <a:ext cx="1440" cy="10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335000" y="542664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344720" y="5426640"/>
                  <a:ext cx="936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44720" y="542664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V="1">
                  <a:off x="7362000" y="5376600"/>
                  <a:ext cx="1440" cy="496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V="1">
                  <a:off x="7362000" y="5320440"/>
                  <a:ext cx="1440" cy="5112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354080" y="537516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365240" y="537516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362000" y="537516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flipV="1">
                  <a:off x="7381440" y="5424480"/>
                  <a:ext cx="1440" cy="1332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 flipV="1">
                  <a:off x="7381440" y="5407200"/>
                  <a:ext cx="1440" cy="15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373160" y="54230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382880" y="54230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382880" y="54230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390800" y="545724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40052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V="1">
                  <a:off x="7417800" y="5431320"/>
                  <a:ext cx="1800" cy="11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V="1">
                  <a:off x="7417800" y="5417640"/>
                  <a:ext cx="1800" cy="118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409880" y="54316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421040" y="543168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417800" y="543168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42788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439040" y="545724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 flipV="1">
                  <a:off x="7454880" y="5429520"/>
                  <a:ext cx="1440" cy="234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 flipV="1">
                  <a:off x="7454880" y="5403960"/>
                  <a:ext cx="1440" cy="2196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446960" y="542988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458120" y="542988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456320" y="54298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V="1">
                  <a:off x="7473960" y="5443560"/>
                  <a:ext cx="1440" cy="100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V="1">
                  <a:off x="7473960" y="5429520"/>
                  <a:ext cx="1440" cy="82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466040" y="543996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477200" y="543996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73960" y="543996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flipV="1">
                  <a:off x="7493400" y="5438520"/>
                  <a:ext cx="1440" cy="100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flipV="1">
                  <a:off x="7493400" y="5426640"/>
                  <a:ext cx="1440" cy="100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483680" y="5438520"/>
                  <a:ext cx="792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94840" y="543852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494840" y="54385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flipV="1">
                  <a:off x="7510320" y="5434560"/>
                  <a:ext cx="1800" cy="1332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 flipV="1">
                  <a:off x="7510320" y="5415480"/>
                  <a:ext cx="1800" cy="1548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502760" y="54316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513920" y="543168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512480" y="543168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V="1">
                  <a:off x="7529760" y="5436360"/>
                  <a:ext cx="1440" cy="1692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V="1">
                  <a:off x="7529760" y="5415840"/>
                  <a:ext cx="1440" cy="1872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521840" y="543492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4057920" y="1093680"/>
                <a:ext cx="4263120" cy="4401360"/>
                <a:chOff x="4057920" y="1093680"/>
                <a:chExt cx="4263120" cy="440136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533000" y="5435280"/>
                  <a:ext cx="6480" cy="144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529760" y="54352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53948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55064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55856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56828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57764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585560" y="545724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59564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60680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614720" y="545400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625880" y="545400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624080" y="54540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63380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64316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65144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659360" y="5457240"/>
                  <a:ext cx="111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672320" y="545724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680240" y="545724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688160" y="5457240"/>
                  <a:ext cx="111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69968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70760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715520" y="5457240"/>
                  <a:ext cx="1080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728120" y="54572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73604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743960" y="5457240"/>
                  <a:ext cx="111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75548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76340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772760" y="545724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783920" y="54572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79184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80192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81128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819200" y="545724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782892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840080" y="545724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84800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857720" y="545724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86744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87536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88472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892640" y="545724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90380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913520" y="54572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921440" y="545724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93116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94052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948440" y="5457240"/>
                  <a:ext cx="111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95996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969680" y="545724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977600" y="5457240"/>
                  <a:ext cx="111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98876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99668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8004600" y="5457240"/>
                  <a:ext cx="111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8017560" y="54572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025480" y="54572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8033400" y="5457240"/>
                  <a:ext cx="111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804456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805248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8060400" y="5457240"/>
                  <a:ext cx="111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8073360" y="54572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808128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8089200" y="5457240"/>
                  <a:ext cx="111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810036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8108280" y="545724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811836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812628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813744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8146800" y="54572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8154720" y="545724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16444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817416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8182080" y="545724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819324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8202960" y="5457240"/>
                  <a:ext cx="61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21088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220600" y="545724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823032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823824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824904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8258760" y="54572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8266680" y="5457240"/>
                  <a:ext cx="93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8276400" y="5457240"/>
                  <a:ext cx="97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828612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8294040" y="5457240"/>
                  <a:ext cx="1116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8305200" y="5457240"/>
                  <a:ext cx="792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8314560" y="5457240"/>
                  <a:ext cx="6480" cy="1800"/>
                </a:xfrm>
                <a:prstGeom prst="line">
                  <a:avLst/>
                </a:prstGeom>
                <a:ln cap="rnd"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H="1" flipV="1">
                  <a:off x="4407840" y="1249560"/>
                  <a:ext cx="1440" cy="420732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>
                  <a:off x="4407840" y="5457240"/>
                  <a:ext cx="7488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H="1">
                  <a:off x="4407480" y="536652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>
                  <a:off x="4407480" y="527688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4407480" y="518616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>
                  <a:off x="4407480" y="509652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4407840" y="5005800"/>
                  <a:ext cx="7488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4407480" y="491436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>
                  <a:off x="4407480" y="482328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H="1">
                  <a:off x="4407480" y="473400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>
                  <a:off x="4407480" y="464292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H="1">
                  <a:off x="4407840" y="4553640"/>
                  <a:ext cx="7488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H="1">
                  <a:off x="4407480" y="446220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H="1">
                  <a:off x="4407480" y="437292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>
                  <a:off x="4407480" y="428040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>
                  <a:off x="4407480" y="418752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>
                  <a:off x="4407840" y="4097880"/>
                  <a:ext cx="7488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>
                  <a:off x="4407480" y="400680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H="1">
                  <a:off x="4407480" y="391752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H="1">
                  <a:off x="4407480" y="382608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H="1">
                  <a:off x="4407480" y="373680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H="1">
                  <a:off x="4407840" y="3645720"/>
                  <a:ext cx="7488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flipH="1">
                  <a:off x="4407480" y="355500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flipH="1">
                  <a:off x="4407480" y="346356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H="1">
                  <a:off x="4407480" y="337428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H="1">
                  <a:off x="4407480" y="328320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flipH="1">
                  <a:off x="4407840" y="3193920"/>
                  <a:ext cx="7488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H="1">
                  <a:off x="4407480" y="310284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H="1">
                  <a:off x="4407480" y="301356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>
                  <a:off x="4407480" y="292068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H="1">
                  <a:off x="4407480" y="283104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>
                  <a:off x="4407840" y="2740320"/>
                  <a:ext cx="7488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>
                  <a:off x="4407480" y="264708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H="1">
                  <a:off x="4407480" y="255780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H="1">
                  <a:off x="4407480" y="246672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>
                  <a:off x="4407480" y="237744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H="1">
                  <a:off x="4407840" y="2286360"/>
                  <a:ext cx="7488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>
                  <a:off x="4407480" y="219528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>
                  <a:off x="4407480" y="210420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H="1">
                  <a:off x="4407480" y="201492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>
                  <a:off x="4407480" y="192384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>
                  <a:off x="4407840" y="1834560"/>
                  <a:ext cx="7488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>
                  <a:off x="4407480" y="174312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4407480" y="165384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>
                  <a:off x="4407480" y="1562760"/>
                  <a:ext cx="36360" cy="1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4407480" y="147168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4407840" y="1380240"/>
                  <a:ext cx="7488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H="1">
                  <a:off x="4407840" y="1380240"/>
                  <a:ext cx="7488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4407480" y="1290960"/>
                  <a:ext cx="363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V="1">
                  <a:off x="4254480" y="542160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1" h="48">
                      <a:moveTo>
                        <a:pt x="14" y="48"/>
                      </a:moveTo>
                      <a:lnTo>
                        <a:pt x="6" y="45"/>
                      </a:lnTo>
                      <a:lnTo>
                        <a:pt x="1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1" y="9"/>
                      </a:lnTo>
                      <a:lnTo>
                        <a:pt x="6" y="2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2"/>
                      </a:lnTo>
                      <a:lnTo>
                        <a:pt x="28" y="9"/>
                      </a:lnTo>
                      <a:lnTo>
                        <a:pt x="31" y="21"/>
                      </a:lnTo>
                      <a:lnTo>
                        <a:pt x="31" y="27"/>
                      </a:lnTo>
                      <a:lnTo>
                        <a:pt x="28" y="39"/>
                      </a:lnTo>
                      <a:lnTo>
                        <a:pt x="24" y="45"/>
                      </a:lnTo>
                      <a:lnTo>
                        <a:pt x="18" y="48"/>
                      </a:lnTo>
                      <a:lnTo>
                        <a:pt x="13" y="48"/>
                      </a:lnTo>
                      <a:lnTo>
                        <a:pt x="14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V="1">
                  <a:off x="4123440" y="496800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28" y="48"/>
                      </a:moveTo>
                      <a:lnTo>
                        <a:pt x="5" y="48"/>
                      </a:lnTo>
                      <a:lnTo>
                        <a:pt x="3" y="27"/>
                      </a:lnTo>
                      <a:lnTo>
                        <a:pt x="5" y="30"/>
                      </a:lnTo>
                      <a:lnTo>
                        <a:pt x="12" y="31"/>
                      </a:lnTo>
                      <a:lnTo>
                        <a:pt x="18" y="31"/>
                      </a:lnTo>
                      <a:lnTo>
                        <a:pt x="26" y="30"/>
                      </a:lnTo>
                      <a:lnTo>
                        <a:pt x="30" y="25"/>
                      </a:lnTo>
                      <a:lnTo>
                        <a:pt x="32" y="18"/>
                      </a:lnTo>
                      <a:lnTo>
                        <a:pt x="32" y="13"/>
                      </a:lnTo>
                      <a:lnTo>
                        <a:pt x="30" y="7"/>
                      </a:lnTo>
                      <a:lnTo>
                        <a:pt x="26" y="3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V="1">
                  <a:off x="4187160" y="4968000"/>
                  <a:ext cx="47880" cy="73440"/>
                </a:xfrm>
                <a:custGeom>
                  <a:avLst/>
                  <a:gdLst/>
                  <a:ahLst/>
                  <a:rect l="l" t="t" r="r" b="b"/>
                  <a:pathLst>
                    <a:path w="33" h="48">
                      <a:moveTo>
                        <a:pt x="16" y="48"/>
                      </a:moveTo>
                      <a:lnTo>
                        <a:pt x="8" y="45"/>
                      </a:lnTo>
                      <a:lnTo>
                        <a:pt x="3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3" y="9"/>
                      </a:lnTo>
                      <a:lnTo>
                        <a:pt x="8" y="3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6" y="3"/>
                      </a:lnTo>
                      <a:lnTo>
                        <a:pt x="30" y="9"/>
                      </a:lnTo>
                      <a:lnTo>
                        <a:pt x="33" y="21"/>
                      </a:lnTo>
                      <a:lnTo>
                        <a:pt x="33" y="27"/>
                      </a:lnTo>
                      <a:lnTo>
                        <a:pt x="30" y="39"/>
                      </a:lnTo>
                      <a:lnTo>
                        <a:pt x="26" y="45"/>
                      </a:lnTo>
                      <a:lnTo>
                        <a:pt x="20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V="1">
                  <a:off x="4254480" y="496800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1" h="48">
                      <a:moveTo>
                        <a:pt x="14" y="48"/>
                      </a:moveTo>
                      <a:lnTo>
                        <a:pt x="6" y="45"/>
                      </a:lnTo>
                      <a:lnTo>
                        <a:pt x="1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1" y="9"/>
                      </a:lnTo>
                      <a:lnTo>
                        <a:pt x="6" y="3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3"/>
                      </a:lnTo>
                      <a:lnTo>
                        <a:pt x="28" y="9"/>
                      </a:lnTo>
                      <a:lnTo>
                        <a:pt x="31" y="21"/>
                      </a:lnTo>
                      <a:lnTo>
                        <a:pt x="31" y="27"/>
                      </a:lnTo>
                      <a:lnTo>
                        <a:pt x="28" y="39"/>
                      </a:lnTo>
                      <a:lnTo>
                        <a:pt x="24" y="45"/>
                      </a:lnTo>
                      <a:lnTo>
                        <a:pt x="18" y="48"/>
                      </a:lnTo>
                      <a:lnTo>
                        <a:pt x="13" y="48"/>
                      </a:lnTo>
                      <a:lnTo>
                        <a:pt x="14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4069080" y="4515840"/>
                  <a:ext cx="14400" cy="73440"/>
                </a:xfrm>
                <a:custGeom>
                  <a:avLst/>
                  <a:gdLst/>
                  <a:ahLst/>
                  <a:rect l="l" t="t" r="r" b="b"/>
                  <a:pathLst>
                    <a:path w="10" h="48">
                      <a:moveTo>
                        <a:pt x="0" y="39"/>
                      </a:moveTo>
                      <a:lnTo>
                        <a:pt x="4" y="42"/>
                      </a:lnTo>
                      <a:lnTo>
                        <a:pt x="10" y="48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V="1">
                  <a:off x="4123440" y="451584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14" y="48"/>
                      </a:moveTo>
                      <a:lnTo>
                        <a:pt x="8" y="47"/>
                      </a:lnTo>
                      <a:lnTo>
                        <a:pt x="3" y="39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3" y="11"/>
                      </a:lnTo>
                      <a:lnTo>
                        <a:pt x="8" y="3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26" y="3"/>
                      </a:lnTo>
                      <a:lnTo>
                        <a:pt x="30" y="11"/>
                      </a:lnTo>
                      <a:lnTo>
                        <a:pt x="32" y="21"/>
                      </a:lnTo>
                      <a:lnTo>
                        <a:pt x="32" y="29"/>
                      </a:lnTo>
                      <a:lnTo>
                        <a:pt x="30" y="39"/>
                      </a:lnTo>
                      <a:lnTo>
                        <a:pt x="26" y="47"/>
                      </a:lnTo>
                      <a:lnTo>
                        <a:pt x="18" y="48"/>
                      </a:lnTo>
                      <a:lnTo>
                        <a:pt x="14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V="1">
                  <a:off x="4187160" y="4515840"/>
                  <a:ext cx="47880" cy="73440"/>
                </a:xfrm>
                <a:custGeom>
                  <a:avLst/>
                  <a:gdLst/>
                  <a:ahLst/>
                  <a:rect l="l" t="t" r="r" b="b"/>
                  <a:pathLst>
                    <a:path w="33" h="48">
                      <a:moveTo>
                        <a:pt x="16" y="48"/>
                      </a:moveTo>
                      <a:lnTo>
                        <a:pt x="8" y="47"/>
                      </a:lnTo>
                      <a:lnTo>
                        <a:pt x="3" y="39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3" y="11"/>
                      </a:lnTo>
                      <a:lnTo>
                        <a:pt x="8" y="3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6" y="3"/>
                      </a:lnTo>
                      <a:lnTo>
                        <a:pt x="30" y="11"/>
                      </a:lnTo>
                      <a:lnTo>
                        <a:pt x="33" y="21"/>
                      </a:lnTo>
                      <a:lnTo>
                        <a:pt x="33" y="29"/>
                      </a:lnTo>
                      <a:lnTo>
                        <a:pt x="30" y="39"/>
                      </a:lnTo>
                      <a:lnTo>
                        <a:pt x="26" y="47"/>
                      </a:lnTo>
                      <a:lnTo>
                        <a:pt x="20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V="1">
                  <a:off x="4254480" y="451584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1" h="48">
                      <a:moveTo>
                        <a:pt x="14" y="48"/>
                      </a:moveTo>
                      <a:lnTo>
                        <a:pt x="6" y="47"/>
                      </a:lnTo>
                      <a:lnTo>
                        <a:pt x="1" y="39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1"/>
                      </a:lnTo>
                      <a:lnTo>
                        <a:pt x="6" y="3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3"/>
                      </a:lnTo>
                      <a:lnTo>
                        <a:pt x="28" y="11"/>
                      </a:lnTo>
                      <a:lnTo>
                        <a:pt x="31" y="21"/>
                      </a:lnTo>
                      <a:lnTo>
                        <a:pt x="31" y="29"/>
                      </a:lnTo>
                      <a:lnTo>
                        <a:pt x="28" y="39"/>
                      </a:lnTo>
                      <a:lnTo>
                        <a:pt x="24" y="47"/>
                      </a:lnTo>
                      <a:lnTo>
                        <a:pt x="18" y="48"/>
                      </a:lnTo>
                      <a:lnTo>
                        <a:pt x="13" y="48"/>
                      </a:lnTo>
                      <a:lnTo>
                        <a:pt x="14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V="1">
                  <a:off x="4069080" y="4061880"/>
                  <a:ext cx="14400" cy="73440"/>
                </a:xfrm>
                <a:custGeom>
                  <a:avLst/>
                  <a:gdLst/>
                  <a:ahLst/>
                  <a:rect l="l" t="t" r="r" b="b"/>
                  <a:pathLst>
                    <a:path w="10" h="48">
                      <a:moveTo>
                        <a:pt x="0" y="38"/>
                      </a:moveTo>
                      <a:lnTo>
                        <a:pt x="4" y="41"/>
                      </a:lnTo>
                      <a:lnTo>
                        <a:pt x="10" y="48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flipV="1">
                  <a:off x="4123440" y="406188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28" y="48"/>
                      </a:moveTo>
                      <a:lnTo>
                        <a:pt x="5" y="48"/>
                      </a:lnTo>
                      <a:lnTo>
                        <a:pt x="3" y="27"/>
                      </a:lnTo>
                      <a:lnTo>
                        <a:pt x="5" y="29"/>
                      </a:lnTo>
                      <a:lnTo>
                        <a:pt x="12" y="32"/>
                      </a:lnTo>
                      <a:lnTo>
                        <a:pt x="18" y="32"/>
                      </a:lnTo>
                      <a:lnTo>
                        <a:pt x="26" y="29"/>
                      </a:lnTo>
                      <a:lnTo>
                        <a:pt x="30" y="24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6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5" y="2"/>
                      </a:lnTo>
                      <a:lnTo>
                        <a:pt x="3" y="5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4187160" y="4061880"/>
                  <a:ext cx="47880" cy="73440"/>
                </a:xfrm>
                <a:custGeom>
                  <a:avLst/>
                  <a:gdLst/>
                  <a:ahLst/>
                  <a:rect l="l" t="t" r="r" b="b"/>
                  <a:pathLst>
                    <a:path w="33" h="48">
                      <a:moveTo>
                        <a:pt x="16" y="48"/>
                      </a:moveTo>
                      <a:lnTo>
                        <a:pt x="8" y="45"/>
                      </a:lnTo>
                      <a:lnTo>
                        <a:pt x="3" y="38"/>
                      </a:lnTo>
                      <a:lnTo>
                        <a:pt x="0" y="27"/>
                      </a:lnTo>
                      <a:lnTo>
                        <a:pt x="0" y="20"/>
                      </a:lnTo>
                      <a:lnTo>
                        <a:pt x="3" y="9"/>
                      </a:lnTo>
                      <a:lnTo>
                        <a:pt x="8" y="2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6" y="2"/>
                      </a:lnTo>
                      <a:lnTo>
                        <a:pt x="30" y="9"/>
                      </a:lnTo>
                      <a:lnTo>
                        <a:pt x="33" y="20"/>
                      </a:lnTo>
                      <a:lnTo>
                        <a:pt x="33" y="27"/>
                      </a:lnTo>
                      <a:lnTo>
                        <a:pt x="30" y="38"/>
                      </a:lnTo>
                      <a:lnTo>
                        <a:pt x="26" y="45"/>
                      </a:lnTo>
                      <a:lnTo>
                        <a:pt x="20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V="1">
                  <a:off x="4254480" y="406188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1" h="48">
                      <a:moveTo>
                        <a:pt x="14" y="48"/>
                      </a:moveTo>
                      <a:lnTo>
                        <a:pt x="6" y="45"/>
                      </a:lnTo>
                      <a:lnTo>
                        <a:pt x="1" y="38"/>
                      </a:lnTo>
                      <a:lnTo>
                        <a:pt x="0" y="27"/>
                      </a:lnTo>
                      <a:lnTo>
                        <a:pt x="0" y="20"/>
                      </a:lnTo>
                      <a:lnTo>
                        <a:pt x="1" y="9"/>
                      </a:lnTo>
                      <a:lnTo>
                        <a:pt x="6" y="2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2"/>
                      </a:lnTo>
                      <a:lnTo>
                        <a:pt x="28" y="9"/>
                      </a:lnTo>
                      <a:lnTo>
                        <a:pt x="31" y="20"/>
                      </a:lnTo>
                      <a:lnTo>
                        <a:pt x="31" y="27"/>
                      </a:lnTo>
                      <a:lnTo>
                        <a:pt x="28" y="38"/>
                      </a:lnTo>
                      <a:lnTo>
                        <a:pt x="24" y="45"/>
                      </a:lnTo>
                      <a:lnTo>
                        <a:pt x="18" y="48"/>
                      </a:lnTo>
                      <a:lnTo>
                        <a:pt x="13" y="48"/>
                      </a:lnTo>
                      <a:lnTo>
                        <a:pt x="14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057920" y="3607200"/>
                  <a:ext cx="46080" cy="7380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4" y="36"/>
                      </a:moveTo>
                      <a:lnTo>
                        <a:pt x="3" y="39"/>
                      </a:lnTo>
                      <a:lnTo>
                        <a:pt x="5" y="43"/>
                      </a:lnTo>
                      <a:lnTo>
                        <a:pt x="8" y="45"/>
                      </a:lnTo>
                      <a:lnTo>
                        <a:pt x="12" y="48"/>
                      </a:lnTo>
                      <a:lnTo>
                        <a:pt x="21" y="48"/>
                      </a:lnTo>
                      <a:lnTo>
                        <a:pt x="26" y="45"/>
                      </a:lnTo>
                      <a:lnTo>
                        <a:pt x="27" y="43"/>
                      </a:lnTo>
                      <a:lnTo>
                        <a:pt x="30" y="39"/>
                      </a:lnTo>
                      <a:lnTo>
                        <a:pt x="30" y="34"/>
                      </a:lnTo>
                      <a:lnTo>
                        <a:pt x="27" y="30"/>
                      </a:lnTo>
                      <a:lnTo>
                        <a:pt x="23" y="22"/>
                      </a:lnTo>
                      <a:lnTo>
                        <a:pt x="0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V="1">
                  <a:off x="4123440" y="3607200"/>
                  <a:ext cx="44280" cy="7380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14" y="48"/>
                      </a:moveTo>
                      <a:lnTo>
                        <a:pt x="8" y="45"/>
                      </a:lnTo>
                      <a:lnTo>
                        <a:pt x="3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3" y="9"/>
                      </a:lnTo>
                      <a:lnTo>
                        <a:pt x="8" y="3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26" y="3"/>
                      </a:lnTo>
                      <a:lnTo>
                        <a:pt x="30" y="9"/>
                      </a:lnTo>
                      <a:lnTo>
                        <a:pt x="32" y="21"/>
                      </a:lnTo>
                      <a:lnTo>
                        <a:pt x="32" y="27"/>
                      </a:lnTo>
                      <a:lnTo>
                        <a:pt x="30" y="39"/>
                      </a:lnTo>
                      <a:lnTo>
                        <a:pt x="26" y="45"/>
                      </a:lnTo>
                      <a:lnTo>
                        <a:pt x="18" y="48"/>
                      </a:lnTo>
                      <a:lnTo>
                        <a:pt x="14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V="1">
                  <a:off x="4187160" y="3607200"/>
                  <a:ext cx="47880" cy="73800"/>
                </a:xfrm>
                <a:custGeom>
                  <a:avLst/>
                  <a:gdLst/>
                  <a:ahLst/>
                  <a:rect l="l" t="t" r="r" b="b"/>
                  <a:pathLst>
                    <a:path w="33" h="48">
                      <a:moveTo>
                        <a:pt x="16" y="48"/>
                      </a:moveTo>
                      <a:lnTo>
                        <a:pt x="8" y="45"/>
                      </a:lnTo>
                      <a:lnTo>
                        <a:pt x="3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3" y="9"/>
                      </a:lnTo>
                      <a:lnTo>
                        <a:pt x="8" y="3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6" y="3"/>
                      </a:lnTo>
                      <a:lnTo>
                        <a:pt x="30" y="9"/>
                      </a:lnTo>
                      <a:lnTo>
                        <a:pt x="33" y="21"/>
                      </a:lnTo>
                      <a:lnTo>
                        <a:pt x="33" y="27"/>
                      </a:lnTo>
                      <a:lnTo>
                        <a:pt x="30" y="39"/>
                      </a:lnTo>
                      <a:lnTo>
                        <a:pt x="26" y="45"/>
                      </a:lnTo>
                      <a:lnTo>
                        <a:pt x="20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V="1">
                  <a:off x="4254480" y="3607200"/>
                  <a:ext cx="44280" cy="73800"/>
                </a:xfrm>
                <a:custGeom>
                  <a:avLst/>
                  <a:gdLst/>
                  <a:ahLst/>
                  <a:rect l="l" t="t" r="r" b="b"/>
                  <a:pathLst>
                    <a:path w="31" h="48">
                      <a:moveTo>
                        <a:pt x="14" y="48"/>
                      </a:moveTo>
                      <a:lnTo>
                        <a:pt x="6" y="45"/>
                      </a:lnTo>
                      <a:lnTo>
                        <a:pt x="1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1" y="9"/>
                      </a:lnTo>
                      <a:lnTo>
                        <a:pt x="6" y="3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3"/>
                      </a:lnTo>
                      <a:lnTo>
                        <a:pt x="28" y="9"/>
                      </a:lnTo>
                      <a:lnTo>
                        <a:pt x="31" y="21"/>
                      </a:lnTo>
                      <a:lnTo>
                        <a:pt x="31" y="27"/>
                      </a:lnTo>
                      <a:lnTo>
                        <a:pt x="28" y="39"/>
                      </a:lnTo>
                      <a:lnTo>
                        <a:pt x="24" y="45"/>
                      </a:lnTo>
                      <a:lnTo>
                        <a:pt x="18" y="48"/>
                      </a:lnTo>
                      <a:lnTo>
                        <a:pt x="13" y="48"/>
                      </a:lnTo>
                      <a:lnTo>
                        <a:pt x="14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4057920" y="3156120"/>
                  <a:ext cx="46080" cy="7344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4" y="38"/>
                      </a:moveTo>
                      <a:lnTo>
                        <a:pt x="3" y="39"/>
                      </a:lnTo>
                      <a:lnTo>
                        <a:pt x="5" y="44"/>
                      </a:lnTo>
                      <a:lnTo>
                        <a:pt x="8" y="47"/>
                      </a:lnTo>
                      <a:lnTo>
                        <a:pt x="12" y="48"/>
                      </a:lnTo>
                      <a:lnTo>
                        <a:pt x="21" y="48"/>
                      </a:lnTo>
                      <a:lnTo>
                        <a:pt x="26" y="47"/>
                      </a:lnTo>
                      <a:lnTo>
                        <a:pt x="27" y="44"/>
                      </a:lnTo>
                      <a:lnTo>
                        <a:pt x="30" y="39"/>
                      </a:lnTo>
                      <a:lnTo>
                        <a:pt x="30" y="35"/>
                      </a:lnTo>
                      <a:lnTo>
                        <a:pt x="27" y="30"/>
                      </a:lnTo>
                      <a:lnTo>
                        <a:pt x="23" y="23"/>
                      </a:lnTo>
                      <a:lnTo>
                        <a:pt x="0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V="1">
                  <a:off x="4123440" y="315612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28" y="48"/>
                      </a:moveTo>
                      <a:lnTo>
                        <a:pt x="5" y="48"/>
                      </a:lnTo>
                      <a:lnTo>
                        <a:pt x="3" y="27"/>
                      </a:lnTo>
                      <a:lnTo>
                        <a:pt x="5" y="30"/>
                      </a:lnTo>
                      <a:lnTo>
                        <a:pt x="12" y="32"/>
                      </a:lnTo>
                      <a:lnTo>
                        <a:pt x="18" y="32"/>
                      </a:lnTo>
                      <a:lnTo>
                        <a:pt x="26" y="30"/>
                      </a:lnTo>
                      <a:lnTo>
                        <a:pt x="30" y="26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8"/>
                      </a:lnTo>
                      <a:lnTo>
                        <a:pt x="26" y="3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V="1">
                  <a:off x="4187160" y="3156120"/>
                  <a:ext cx="47880" cy="73440"/>
                </a:xfrm>
                <a:custGeom>
                  <a:avLst/>
                  <a:gdLst/>
                  <a:ahLst/>
                  <a:rect l="l" t="t" r="r" b="b"/>
                  <a:pathLst>
                    <a:path w="33" h="48">
                      <a:moveTo>
                        <a:pt x="16" y="48"/>
                      </a:moveTo>
                      <a:lnTo>
                        <a:pt x="8" y="47"/>
                      </a:lnTo>
                      <a:lnTo>
                        <a:pt x="3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3" y="9"/>
                      </a:lnTo>
                      <a:lnTo>
                        <a:pt x="8" y="3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6" y="3"/>
                      </a:lnTo>
                      <a:lnTo>
                        <a:pt x="30" y="9"/>
                      </a:lnTo>
                      <a:lnTo>
                        <a:pt x="33" y="21"/>
                      </a:lnTo>
                      <a:lnTo>
                        <a:pt x="33" y="27"/>
                      </a:lnTo>
                      <a:lnTo>
                        <a:pt x="30" y="39"/>
                      </a:lnTo>
                      <a:lnTo>
                        <a:pt x="26" y="47"/>
                      </a:lnTo>
                      <a:lnTo>
                        <a:pt x="20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V="1">
                  <a:off x="4254480" y="315612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1" h="48">
                      <a:moveTo>
                        <a:pt x="14" y="48"/>
                      </a:moveTo>
                      <a:lnTo>
                        <a:pt x="6" y="47"/>
                      </a:lnTo>
                      <a:lnTo>
                        <a:pt x="1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1" y="9"/>
                      </a:lnTo>
                      <a:lnTo>
                        <a:pt x="6" y="3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3"/>
                      </a:lnTo>
                      <a:lnTo>
                        <a:pt x="28" y="9"/>
                      </a:lnTo>
                      <a:lnTo>
                        <a:pt x="31" y="21"/>
                      </a:lnTo>
                      <a:lnTo>
                        <a:pt x="31" y="27"/>
                      </a:lnTo>
                      <a:lnTo>
                        <a:pt x="28" y="39"/>
                      </a:lnTo>
                      <a:lnTo>
                        <a:pt x="24" y="47"/>
                      </a:lnTo>
                      <a:lnTo>
                        <a:pt x="18" y="48"/>
                      </a:lnTo>
                      <a:lnTo>
                        <a:pt x="13" y="48"/>
                      </a:lnTo>
                      <a:lnTo>
                        <a:pt x="14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V="1">
                  <a:off x="4057920" y="2703960"/>
                  <a:ext cx="46080" cy="72000"/>
                </a:xfrm>
                <a:custGeom>
                  <a:avLst/>
                  <a:gdLst/>
                  <a:ahLst/>
                  <a:rect l="l" t="t" r="r" b="b"/>
                  <a:pathLst>
                    <a:path w="32" h="47">
                      <a:moveTo>
                        <a:pt x="5" y="47"/>
                      </a:moveTo>
                      <a:lnTo>
                        <a:pt x="30" y="47"/>
                      </a:lnTo>
                      <a:lnTo>
                        <a:pt x="17" y="29"/>
                      </a:lnTo>
                      <a:lnTo>
                        <a:pt x="23" y="29"/>
                      </a:lnTo>
                      <a:lnTo>
                        <a:pt x="27" y="27"/>
                      </a:lnTo>
                      <a:lnTo>
                        <a:pt x="30" y="24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6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5" y="2"/>
                      </a:lnTo>
                      <a:lnTo>
                        <a:pt x="3" y="5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V="1">
                  <a:off x="4123440" y="2703960"/>
                  <a:ext cx="44280" cy="72000"/>
                </a:xfrm>
                <a:custGeom>
                  <a:avLst/>
                  <a:gdLst/>
                  <a:ahLst/>
                  <a:rect l="l" t="t" r="r" b="b"/>
                  <a:pathLst>
                    <a:path w="32" h="47">
                      <a:moveTo>
                        <a:pt x="14" y="47"/>
                      </a:moveTo>
                      <a:lnTo>
                        <a:pt x="8" y="45"/>
                      </a:lnTo>
                      <a:lnTo>
                        <a:pt x="3" y="38"/>
                      </a:lnTo>
                      <a:lnTo>
                        <a:pt x="0" y="27"/>
                      </a:lnTo>
                      <a:lnTo>
                        <a:pt x="0" y="20"/>
                      </a:lnTo>
                      <a:lnTo>
                        <a:pt x="3" y="9"/>
                      </a:ln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26" y="2"/>
                      </a:lnTo>
                      <a:lnTo>
                        <a:pt x="30" y="9"/>
                      </a:lnTo>
                      <a:lnTo>
                        <a:pt x="32" y="20"/>
                      </a:lnTo>
                      <a:lnTo>
                        <a:pt x="32" y="27"/>
                      </a:lnTo>
                      <a:lnTo>
                        <a:pt x="30" y="38"/>
                      </a:lnTo>
                      <a:lnTo>
                        <a:pt x="26" y="45"/>
                      </a:lnTo>
                      <a:lnTo>
                        <a:pt x="18" y="47"/>
                      </a:lnTo>
                      <a:lnTo>
                        <a:pt x="14" y="47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4187160" y="2703960"/>
                  <a:ext cx="47880" cy="72000"/>
                </a:xfrm>
                <a:custGeom>
                  <a:avLst/>
                  <a:gdLst/>
                  <a:ahLst/>
                  <a:rect l="l" t="t" r="r" b="b"/>
                  <a:pathLst>
                    <a:path w="33" h="47">
                      <a:moveTo>
                        <a:pt x="16" y="47"/>
                      </a:moveTo>
                      <a:lnTo>
                        <a:pt x="8" y="45"/>
                      </a:lnTo>
                      <a:lnTo>
                        <a:pt x="3" y="38"/>
                      </a:lnTo>
                      <a:lnTo>
                        <a:pt x="0" y="27"/>
                      </a:lnTo>
                      <a:lnTo>
                        <a:pt x="0" y="20"/>
                      </a:lnTo>
                      <a:lnTo>
                        <a:pt x="3" y="9"/>
                      </a:lnTo>
                      <a:lnTo>
                        <a:pt x="8" y="2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6" y="2"/>
                      </a:lnTo>
                      <a:lnTo>
                        <a:pt x="30" y="9"/>
                      </a:lnTo>
                      <a:lnTo>
                        <a:pt x="33" y="20"/>
                      </a:lnTo>
                      <a:lnTo>
                        <a:pt x="33" y="27"/>
                      </a:lnTo>
                      <a:lnTo>
                        <a:pt x="30" y="38"/>
                      </a:lnTo>
                      <a:lnTo>
                        <a:pt x="26" y="45"/>
                      </a:lnTo>
                      <a:lnTo>
                        <a:pt x="20" y="47"/>
                      </a:lnTo>
                      <a:lnTo>
                        <a:pt x="15" y="47"/>
                      </a:lnTo>
                      <a:lnTo>
                        <a:pt x="16" y="47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V="1">
                  <a:off x="4254480" y="2703960"/>
                  <a:ext cx="44280" cy="7200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14" y="47"/>
                      </a:moveTo>
                      <a:lnTo>
                        <a:pt x="6" y="45"/>
                      </a:lnTo>
                      <a:lnTo>
                        <a:pt x="1" y="38"/>
                      </a:lnTo>
                      <a:lnTo>
                        <a:pt x="0" y="27"/>
                      </a:lnTo>
                      <a:lnTo>
                        <a:pt x="0" y="20"/>
                      </a:lnTo>
                      <a:lnTo>
                        <a:pt x="1" y="9"/>
                      </a:lnTo>
                      <a:lnTo>
                        <a:pt x="6" y="2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2"/>
                      </a:lnTo>
                      <a:lnTo>
                        <a:pt x="28" y="9"/>
                      </a:lnTo>
                      <a:lnTo>
                        <a:pt x="31" y="20"/>
                      </a:lnTo>
                      <a:lnTo>
                        <a:pt x="31" y="27"/>
                      </a:lnTo>
                      <a:lnTo>
                        <a:pt x="28" y="38"/>
                      </a:lnTo>
                      <a:lnTo>
                        <a:pt x="24" y="45"/>
                      </a:lnTo>
                      <a:lnTo>
                        <a:pt x="18" y="47"/>
                      </a:lnTo>
                      <a:lnTo>
                        <a:pt x="13" y="47"/>
                      </a:lnTo>
                      <a:lnTo>
                        <a:pt x="14" y="47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V="1">
                  <a:off x="4057920" y="2247840"/>
                  <a:ext cx="46080" cy="7380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5" y="48"/>
                      </a:moveTo>
                      <a:lnTo>
                        <a:pt x="30" y="48"/>
                      </a:lnTo>
                      <a:lnTo>
                        <a:pt x="17" y="30"/>
                      </a:lnTo>
                      <a:lnTo>
                        <a:pt x="23" y="30"/>
                      </a:lnTo>
                      <a:lnTo>
                        <a:pt x="27" y="27"/>
                      </a:lnTo>
                      <a:lnTo>
                        <a:pt x="30" y="25"/>
                      </a:lnTo>
                      <a:lnTo>
                        <a:pt x="32" y="18"/>
                      </a:lnTo>
                      <a:lnTo>
                        <a:pt x="32" y="13"/>
                      </a:lnTo>
                      <a:lnTo>
                        <a:pt x="30" y="6"/>
                      </a:lnTo>
                      <a:lnTo>
                        <a:pt x="26" y="1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5" y="1"/>
                      </a:lnTo>
                      <a:lnTo>
                        <a:pt x="3" y="4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4123440" y="2247840"/>
                  <a:ext cx="44280" cy="7380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28" y="48"/>
                      </a:moveTo>
                      <a:lnTo>
                        <a:pt x="5" y="48"/>
                      </a:lnTo>
                      <a:lnTo>
                        <a:pt x="3" y="27"/>
                      </a:lnTo>
                      <a:lnTo>
                        <a:pt x="5" y="30"/>
                      </a:lnTo>
                      <a:lnTo>
                        <a:pt x="12" y="31"/>
                      </a:lnTo>
                      <a:lnTo>
                        <a:pt x="18" y="31"/>
                      </a:lnTo>
                      <a:lnTo>
                        <a:pt x="26" y="30"/>
                      </a:lnTo>
                      <a:lnTo>
                        <a:pt x="30" y="25"/>
                      </a:lnTo>
                      <a:lnTo>
                        <a:pt x="32" y="18"/>
                      </a:lnTo>
                      <a:lnTo>
                        <a:pt x="32" y="13"/>
                      </a:lnTo>
                      <a:lnTo>
                        <a:pt x="30" y="6"/>
                      </a:lnTo>
                      <a:lnTo>
                        <a:pt x="26" y="1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5" y="1"/>
                      </a:lnTo>
                      <a:lnTo>
                        <a:pt x="3" y="4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V="1">
                  <a:off x="4187160" y="2247840"/>
                  <a:ext cx="47880" cy="73800"/>
                </a:xfrm>
                <a:custGeom>
                  <a:avLst/>
                  <a:gdLst/>
                  <a:ahLst/>
                  <a:rect l="l" t="t" r="r" b="b"/>
                  <a:pathLst>
                    <a:path w="33" h="48">
                      <a:moveTo>
                        <a:pt x="16" y="48"/>
                      </a:moveTo>
                      <a:lnTo>
                        <a:pt x="8" y="45"/>
                      </a:lnTo>
                      <a:lnTo>
                        <a:pt x="3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3" y="9"/>
                      </a:lnTo>
                      <a:lnTo>
                        <a:pt x="8" y="1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6" y="1"/>
                      </a:lnTo>
                      <a:lnTo>
                        <a:pt x="30" y="9"/>
                      </a:lnTo>
                      <a:lnTo>
                        <a:pt x="33" y="21"/>
                      </a:lnTo>
                      <a:lnTo>
                        <a:pt x="33" y="27"/>
                      </a:lnTo>
                      <a:lnTo>
                        <a:pt x="30" y="39"/>
                      </a:lnTo>
                      <a:lnTo>
                        <a:pt x="26" y="45"/>
                      </a:lnTo>
                      <a:lnTo>
                        <a:pt x="20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V="1">
                  <a:off x="4254480" y="2247840"/>
                  <a:ext cx="44280" cy="73800"/>
                </a:xfrm>
                <a:custGeom>
                  <a:avLst/>
                  <a:gdLst/>
                  <a:ahLst/>
                  <a:rect l="l" t="t" r="r" b="b"/>
                  <a:pathLst>
                    <a:path w="31" h="48">
                      <a:moveTo>
                        <a:pt x="14" y="48"/>
                      </a:moveTo>
                      <a:lnTo>
                        <a:pt x="6" y="45"/>
                      </a:lnTo>
                      <a:lnTo>
                        <a:pt x="1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1" y="9"/>
                      </a:lnTo>
                      <a:lnTo>
                        <a:pt x="6" y="1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1"/>
                      </a:lnTo>
                      <a:lnTo>
                        <a:pt x="28" y="9"/>
                      </a:lnTo>
                      <a:lnTo>
                        <a:pt x="31" y="21"/>
                      </a:lnTo>
                      <a:lnTo>
                        <a:pt x="31" y="27"/>
                      </a:lnTo>
                      <a:lnTo>
                        <a:pt x="28" y="39"/>
                      </a:lnTo>
                      <a:lnTo>
                        <a:pt x="24" y="45"/>
                      </a:lnTo>
                      <a:lnTo>
                        <a:pt x="18" y="48"/>
                      </a:lnTo>
                      <a:lnTo>
                        <a:pt x="13" y="48"/>
                      </a:lnTo>
                      <a:lnTo>
                        <a:pt x="14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flipV="1">
                  <a:off x="4057920" y="1796040"/>
                  <a:ext cx="50760" cy="4788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23" y="31"/>
                      </a:moveTo>
                      <a:lnTo>
                        <a:pt x="0" y="0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091400" y="1796760"/>
                  <a:ext cx="1440" cy="73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V="1">
                  <a:off x="4123440" y="179676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14" y="48"/>
                      </a:moveTo>
                      <a:lnTo>
                        <a:pt x="8" y="45"/>
                      </a:lnTo>
                      <a:lnTo>
                        <a:pt x="3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3" y="9"/>
                      </a:lnTo>
                      <a:lnTo>
                        <a:pt x="8" y="3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26" y="3"/>
                      </a:lnTo>
                      <a:lnTo>
                        <a:pt x="30" y="9"/>
                      </a:lnTo>
                      <a:lnTo>
                        <a:pt x="32" y="21"/>
                      </a:lnTo>
                      <a:lnTo>
                        <a:pt x="32" y="27"/>
                      </a:lnTo>
                      <a:lnTo>
                        <a:pt x="30" y="39"/>
                      </a:lnTo>
                      <a:lnTo>
                        <a:pt x="26" y="45"/>
                      </a:lnTo>
                      <a:lnTo>
                        <a:pt x="18" y="48"/>
                      </a:lnTo>
                      <a:lnTo>
                        <a:pt x="14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V="1">
                  <a:off x="4187160" y="1796760"/>
                  <a:ext cx="47880" cy="73440"/>
                </a:xfrm>
                <a:custGeom>
                  <a:avLst/>
                  <a:gdLst/>
                  <a:ahLst/>
                  <a:rect l="l" t="t" r="r" b="b"/>
                  <a:pathLst>
                    <a:path w="33" h="48">
                      <a:moveTo>
                        <a:pt x="16" y="48"/>
                      </a:moveTo>
                      <a:lnTo>
                        <a:pt x="8" y="45"/>
                      </a:lnTo>
                      <a:lnTo>
                        <a:pt x="3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3" y="9"/>
                      </a:lnTo>
                      <a:lnTo>
                        <a:pt x="8" y="3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6" y="3"/>
                      </a:lnTo>
                      <a:lnTo>
                        <a:pt x="30" y="9"/>
                      </a:lnTo>
                      <a:lnTo>
                        <a:pt x="33" y="21"/>
                      </a:lnTo>
                      <a:lnTo>
                        <a:pt x="33" y="27"/>
                      </a:lnTo>
                      <a:lnTo>
                        <a:pt x="30" y="39"/>
                      </a:lnTo>
                      <a:lnTo>
                        <a:pt x="26" y="45"/>
                      </a:lnTo>
                      <a:lnTo>
                        <a:pt x="20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V="1">
                  <a:off x="4254480" y="179676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1" h="48">
                      <a:moveTo>
                        <a:pt x="14" y="48"/>
                      </a:moveTo>
                      <a:lnTo>
                        <a:pt x="6" y="45"/>
                      </a:lnTo>
                      <a:lnTo>
                        <a:pt x="1" y="39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1" y="9"/>
                      </a:lnTo>
                      <a:lnTo>
                        <a:pt x="6" y="3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3"/>
                      </a:lnTo>
                      <a:lnTo>
                        <a:pt x="28" y="9"/>
                      </a:lnTo>
                      <a:lnTo>
                        <a:pt x="31" y="21"/>
                      </a:lnTo>
                      <a:lnTo>
                        <a:pt x="31" y="27"/>
                      </a:lnTo>
                      <a:lnTo>
                        <a:pt x="28" y="39"/>
                      </a:lnTo>
                      <a:lnTo>
                        <a:pt x="24" y="45"/>
                      </a:lnTo>
                      <a:lnTo>
                        <a:pt x="18" y="48"/>
                      </a:lnTo>
                      <a:lnTo>
                        <a:pt x="13" y="48"/>
                      </a:lnTo>
                      <a:lnTo>
                        <a:pt x="14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4057920" y="1343880"/>
                  <a:ext cx="50760" cy="47880"/>
                </a:xfrm>
                <a:custGeom>
                  <a:avLst/>
                  <a:gdLst/>
                  <a:ahLst/>
                  <a:rect l="l" t="t" r="r" b="b"/>
                  <a:pathLst>
                    <a:path w="35" h="32">
                      <a:moveTo>
                        <a:pt x="23" y="32"/>
                      </a:moveTo>
                      <a:lnTo>
                        <a:pt x="0" y="0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091400" y="1344600"/>
                  <a:ext cx="1440" cy="734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4123440" y="134460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28" y="48"/>
                      </a:moveTo>
                      <a:lnTo>
                        <a:pt x="5" y="48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12" y="33"/>
                      </a:lnTo>
                      <a:lnTo>
                        <a:pt x="18" y="33"/>
                      </a:lnTo>
                      <a:lnTo>
                        <a:pt x="26" y="30"/>
                      </a:lnTo>
                      <a:lnTo>
                        <a:pt x="30" y="25"/>
                      </a:lnTo>
                      <a:lnTo>
                        <a:pt x="32" y="19"/>
                      </a:lnTo>
                      <a:lnTo>
                        <a:pt x="32" y="15"/>
                      </a:lnTo>
                      <a:lnTo>
                        <a:pt x="30" y="7"/>
                      </a:lnTo>
                      <a:lnTo>
                        <a:pt x="26" y="3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flipV="1">
                  <a:off x="4187160" y="1344600"/>
                  <a:ext cx="47880" cy="73440"/>
                </a:xfrm>
                <a:custGeom>
                  <a:avLst/>
                  <a:gdLst/>
                  <a:ahLst/>
                  <a:rect l="l" t="t" r="r" b="b"/>
                  <a:pathLst>
                    <a:path w="33" h="48">
                      <a:moveTo>
                        <a:pt x="16" y="48"/>
                      </a:moveTo>
                      <a:lnTo>
                        <a:pt x="8" y="46"/>
                      </a:lnTo>
                      <a:lnTo>
                        <a:pt x="3" y="39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3" y="10"/>
                      </a:lnTo>
                      <a:lnTo>
                        <a:pt x="8" y="3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6" y="3"/>
                      </a:lnTo>
                      <a:lnTo>
                        <a:pt x="30" y="10"/>
                      </a:lnTo>
                      <a:lnTo>
                        <a:pt x="33" y="21"/>
                      </a:lnTo>
                      <a:lnTo>
                        <a:pt x="33" y="28"/>
                      </a:lnTo>
                      <a:lnTo>
                        <a:pt x="30" y="39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V="1">
                  <a:off x="4254480" y="1344600"/>
                  <a:ext cx="44280" cy="73440"/>
                </a:xfrm>
                <a:custGeom>
                  <a:avLst/>
                  <a:gdLst/>
                  <a:ahLst/>
                  <a:rect l="l" t="t" r="r" b="b"/>
                  <a:pathLst>
                    <a:path w="31" h="48">
                      <a:moveTo>
                        <a:pt x="14" y="48"/>
                      </a:moveTo>
                      <a:lnTo>
                        <a:pt x="6" y="46"/>
                      </a:lnTo>
                      <a:lnTo>
                        <a:pt x="1" y="39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1" y="10"/>
                      </a:lnTo>
                      <a:lnTo>
                        <a:pt x="6" y="3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3"/>
                      </a:lnTo>
                      <a:lnTo>
                        <a:pt x="28" y="10"/>
                      </a:lnTo>
                      <a:lnTo>
                        <a:pt x="31" y="21"/>
                      </a:lnTo>
                      <a:lnTo>
                        <a:pt x="31" y="28"/>
                      </a:lnTo>
                      <a:lnTo>
                        <a:pt x="28" y="39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3" y="48"/>
                      </a:lnTo>
                      <a:lnTo>
                        <a:pt x="14" y="48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102560" y="1146960"/>
                  <a:ext cx="33120" cy="4788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4100760" y="1146960"/>
                  <a:ext cx="36720" cy="4788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V="1">
                  <a:off x="4198320" y="1123560"/>
                  <a:ext cx="17640" cy="70200"/>
                </a:xfrm>
                <a:custGeom>
                  <a:avLst/>
                  <a:gdLst/>
                  <a:ahLst/>
                  <a:rect l="l" t="t" r="r" b="b"/>
                  <a:pathLst>
                    <a:path w="12" h="46">
                      <a:moveTo>
                        <a:pt x="0" y="37"/>
                      </a:moveTo>
                      <a:lnTo>
                        <a:pt x="4" y="40"/>
                      </a:lnTo>
                      <a:lnTo>
                        <a:pt x="12" y="4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4254480" y="1123560"/>
                  <a:ext cx="44280" cy="70200"/>
                </a:xfrm>
                <a:custGeom>
                  <a:avLst/>
                  <a:gdLst/>
                  <a:ahLst/>
                  <a:rect l="l" t="t" r="r" b="b"/>
                  <a:pathLst>
                    <a:path w="31" h="46">
                      <a:moveTo>
                        <a:pt x="14" y="46"/>
                      </a:moveTo>
                      <a:lnTo>
                        <a:pt x="6" y="45"/>
                      </a:lnTo>
                      <a:lnTo>
                        <a:pt x="1" y="37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1" y="9"/>
                      </a:lnTo>
                      <a:lnTo>
                        <a:pt x="6" y="1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1"/>
                      </a:lnTo>
                      <a:lnTo>
                        <a:pt x="28" y="9"/>
                      </a:lnTo>
                      <a:lnTo>
                        <a:pt x="31" y="19"/>
                      </a:lnTo>
                      <a:lnTo>
                        <a:pt x="31" y="27"/>
                      </a:lnTo>
                      <a:lnTo>
                        <a:pt x="28" y="37"/>
                      </a:lnTo>
                      <a:lnTo>
                        <a:pt x="24" y="45"/>
                      </a:lnTo>
                      <a:lnTo>
                        <a:pt x="18" y="46"/>
                      </a:lnTo>
                      <a:lnTo>
                        <a:pt x="13" y="46"/>
                      </a:lnTo>
                      <a:lnTo>
                        <a:pt x="14" y="46"/>
                      </a:lnTo>
                      <a:close/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V="1">
                  <a:off x="4334400" y="1093680"/>
                  <a:ext cx="36360" cy="5832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2" y="29"/>
                      </a:moveTo>
                      <a:lnTo>
                        <a:pt x="2" y="30"/>
                      </a:lnTo>
                      <a:lnTo>
                        <a:pt x="3" y="35"/>
                      </a:lnTo>
                      <a:lnTo>
                        <a:pt x="5" y="36"/>
                      </a:lnTo>
                      <a:lnTo>
                        <a:pt x="9" y="38"/>
                      </a:lnTo>
                      <a:lnTo>
                        <a:pt x="17" y="38"/>
                      </a:lnTo>
                      <a:lnTo>
                        <a:pt x="20" y="36"/>
                      </a:lnTo>
                      <a:lnTo>
                        <a:pt x="21" y="35"/>
                      </a:lnTo>
                      <a:lnTo>
                        <a:pt x="23" y="30"/>
                      </a:lnTo>
                      <a:lnTo>
                        <a:pt x="23" y="27"/>
                      </a:lnTo>
                      <a:lnTo>
                        <a:pt x="21" y="23"/>
                      </a:lnTo>
                      <a:lnTo>
                        <a:pt x="18" y="18"/>
                      </a:lnTo>
                      <a:lnTo>
                        <a:pt x="0" y="0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409280" y="5457240"/>
                  <a:ext cx="3911760" cy="18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H="1">
                  <a:off x="4407840" y="5378400"/>
                  <a:ext cx="1440" cy="788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>
                  <a:off x="4519800" y="5418000"/>
                  <a:ext cx="144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630320" y="5418000"/>
                  <a:ext cx="144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742280" y="5418000"/>
                  <a:ext cx="144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855680" y="5418000"/>
                  <a:ext cx="144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967280" y="5378400"/>
                  <a:ext cx="1800" cy="788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5079240" y="5418000"/>
                  <a:ext cx="144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5191200" y="5418000"/>
                  <a:ext cx="144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5302800" y="5418000"/>
                  <a:ext cx="180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flipH="1">
                  <a:off x="5413680" y="5418000"/>
                  <a:ext cx="144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5524920" y="5378400"/>
                  <a:ext cx="1800" cy="788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flipH="1">
                  <a:off x="5637240" y="5418000"/>
                  <a:ext cx="144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flipH="1">
                  <a:off x="5749200" y="5418000"/>
                  <a:ext cx="144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5862600" y="5418000"/>
                  <a:ext cx="144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 flipH="1">
                  <a:off x="5973840" y="5418000"/>
                  <a:ext cx="180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6084720" y="5378400"/>
                  <a:ext cx="1440" cy="788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6196680" y="5418000"/>
                  <a:ext cx="180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6308640" y="5418000"/>
                  <a:ext cx="144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6422040" y="5418000"/>
                  <a:ext cx="180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6534000" y="5418000"/>
                  <a:ext cx="1440" cy="392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>
                <a:off x="6645960" y="5378760"/>
                <a:ext cx="1800" cy="78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6754320" y="5418360"/>
                <a:ext cx="1800" cy="3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6867720" y="5418360"/>
                <a:ext cx="1800" cy="3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6979680" y="5418360"/>
                <a:ext cx="1800" cy="3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7092360" y="5418360"/>
                <a:ext cx="1440" cy="3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7203600" y="5378760"/>
                <a:ext cx="1800" cy="78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7315560" y="5418360"/>
                <a:ext cx="1800" cy="3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427880" y="5418360"/>
                <a:ext cx="1440" cy="3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539840" y="5418360"/>
                <a:ext cx="1440" cy="3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651440" y="5418360"/>
                <a:ext cx="1800" cy="3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763760" y="5378760"/>
                <a:ext cx="1440" cy="78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875720" y="5418360"/>
                <a:ext cx="1440" cy="3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989120" y="5418360"/>
                <a:ext cx="1440" cy="3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100720" y="5418360"/>
                <a:ext cx="1800" cy="3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8209080" y="5418360"/>
                <a:ext cx="1800" cy="3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8321400" y="5378760"/>
                <a:ext cx="1440" cy="78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4384080" y="5510520"/>
                <a:ext cx="44280" cy="738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7" y="46"/>
                    </a:lnTo>
                    <a:lnTo>
                      <a:pt x="3" y="39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3" y="9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0" y="9"/>
                    </a:lnTo>
                    <a:lnTo>
                      <a:pt x="31" y="21"/>
                    </a:lnTo>
                    <a:lnTo>
                      <a:pt x="31" y="28"/>
                    </a:lnTo>
                    <a:lnTo>
                      <a:pt x="30" y="39"/>
                    </a:lnTo>
                    <a:lnTo>
                      <a:pt x="25" y="46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4922640" y="5510520"/>
                <a:ext cx="14400" cy="73800"/>
              </a:xfrm>
              <a:custGeom>
                <a:avLst/>
                <a:gdLst/>
                <a:ahLst/>
                <a:rect l="l" t="t" r="r" b="b"/>
                <a:pathLst>
                  <a:path w="10" h="48">
                    <a:moveTo>
                      <a:pt x="0" y="39"/>
                    </a:moveTo>
                    <a:lnTo>
                      <a:pt x="4" y="42"/>
                    </a:lnTo>
                    <a:lnTo>
                      <a:pt x="10" y="48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4977000" y="5510520"/>
                <a:ext cx="46080" cy="738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14" y="48"/>
                    </a:moveTo>
                    <a:lnTo>
                      <a:pt x="6" y="46"/>
                    </a:lnTo>
                    <a:lnTo>
                      <a:pt x="2" y="39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6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4" y="3"/>
                    </a:lnTo>
                    <a:lnTo>
                      <a:pt x="29" y="9"/>
                    </a:lnTo>
                    <a:lnTo>
                      <a:pt x="32" y="21"/>
                    </a:lnTo>
                    <a:lnTo>
                      <a:pt x="32" y="28"/>
                    </a:lnTo>
                    <a:lnTo>
                      <a:pt x="29" y="39"/>
                    </a:lnTo>
                    <a:lnTo>
                      <a:pt x="24" y="46"/>
                    </a:lnTo>
                    <a:lnTo>
                      <a:pt x="18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5469480" y="5510520"/>
                <a:ext cx="47520" cy="738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4" y="37"/>
                    </a:moveTo>
                    <a:lnTo>
                      <a:pt x="3" y="39"/>
                    </a:lnTo>
                    <a:lnTo>
                      <a:pt x="6" y="43"/>
                    </a:lnTo>
                    <a:lnTo>
                      <a:pt x="8" y="46"/>
                    </a:lnTo>
                    <a:lnTo>
                      <a:pt x="12" y="48"/>
                    </a:lnTo>
                    <a:lnTo>
                      <a:pt x="21" y="48"/>
                    </a:lnTo>
                    <a:lnTo>
                      <a:pt x="26" y="46"/>
                    </a:lnTo>
                    <a:lnTo>
                      <a:pt x="29" y="43"/>
                    </a:lnTo>
                    <a:lnTo>
                      <a:pt x="30" y="39"/>
                    </a:lnTo>
                    <a:lnTo>
                      <a:pt x="30" y="34"/>
                    </a:lnTo>
                    <a:lnTo>
                      <a:pt x="29" y="30"/>
                    </a:lnTo>
                    <a:lnTo>
                      <a:pt x="24" y="22"/>
                    </a:lnTo>
                    <a:lnTo>
                      <a:pt x="0" y="0"/>
                    </a:lnTo>
                    <a:lnTo>
                      <a:pt x="33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5536440" y="5510520"/>
                <a:ext cx="44640" cy="738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6" y="46"/>
                    </a:lnTo>
                    <a:lnTo>
                      <a:pt x="1" y="39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1" y="9"/>
                    </a:lnTo>
                    <a:lnTo>
                      <a:pt x="6" y="3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3"/>
                    </a:lnTo>
                    <a:lnTo>
                      <a:pt x="28" y="9"/>
                    </a:lnTo>
                    <a:lnTo>
                      <a:pt x="31" y="21"/>
                    </a:lnTo>
                    <a:lnTo>
                      <a:pt x="31" y="28"/>
                    </a:lnTo>
                    <a:lnTo>
                      <a:pt x="28" y="39"/>
                    </a:lnTo>
                    <a:lnTo>
                      <a:pt x="24" y="46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6030720" y="5510520"/>
                <a:ext cx="46080" cy="738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5" y="48"/>
                    </a:moveTo>
                    <a:lnTo>
                      <a:pt x="29" y="48"/>
                    </a:lnTo>
                    <a:lnTo>
                      <a:pt x="15" y="30"/>
                    </a:lnTo>
                    <a:lnTo>
                      <a:pt x="23" y="30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2" y="13"/>
                    </a:lnTo>
                    <a:lnTo>
                      <a:pt x="29" y="7"/>
                    </a:lnTo>
                    <a:lnTo>
                      <a:pt x="24" y="3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6094440" y="5510520"/>
                <a:ext cx="46080" cy="738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14" y="48"/>
                    </a:moveTo>
                    <a:lnTo>
                      <a:pt x="6" y="46"/>
                    </a:lnTo>
                    <a:lnTo>
                      <a:pt x="2" y="39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6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6" y="3"/>
                    </a:lnTo>
                    <a:lnTo>
                      <a:pt x="30" y="9"/>
                    </a:lnTo>
                    <a:lnTo>
                      <a:pt x="32" y="21"/>
                    </a:lnTo>
                    <a:lnTo>
                      <a:pt x="32" y="28"/>
                    </a:lnTo>
                    <a:lnTo>
                      <a:pt x="30" y="39"/>
                    </a:lnTo>
                    <a:lnTo>
                      <a:pt x="26" y="46"/>
                    </a:lnTo>
                    <a:lnTo>
                      <a:pt x="18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6590160" y="5511240"/>
                <a:ext cx="47520" cy="4968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23" y="32"/>
                    </a:moveTo>
                    <a:lnTo>
                      <a:pt x="0" y="0"/>
                    </a:lnTo>
                    <a:lnTo>
                      <a:pt x="34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6621480" y="5511240"/>
                <a:ext cx="1800" cy="73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6654240" y="5510520"/>
                <a:ext cx="44280" cy="738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7" y="46"/>
                    </a:lnTo>
                    <a:lnTo>
                      <a:pt x="3" y="39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3" y="9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0" y="9"/>
                    </a:lnTo>
                    <a:lnTo>
                      <a:pt x="31" y="21"/>
                    </a:lnTo>
                    <a:lnTo>
                      <a:pt x="31" y="28"/>
                    </a:lnTo>
                    <a:lnTo>
                      <a:pt x="30" y="39"/>
                    </a:lnTo>
                    <a:lnTo>
                      <a:pt x="25" y="46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7148160" y="5510520"/>
                <a:ext cx="46080" cy="738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28" y="48"/>
                    </a:moveTo>
                    <a:lnTo>
                      <a:pt x="5" y="48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12" y="33"/>
                    </a:lnTo>
                    <a:lnTo>
                      <a:pt x="18" y="33"/>
                    </a:lnTo>
                    <a:lnTo>
                      <a:pt x="26" y="30"/>
                    </a:lnTo>
                    <a:lnTo>
                      <a:pt x="30" y="25"/>
                    </a:lnTo>
                    <a:lnTo>
                      <a:pt x="32" y="18"/>
                    </a:lnTo>
                    <a:lnTo>
                      <a:pt x="32" y="13"/>
                    </a:lnTo>
                    <a:lnTo>
                      <a:pt x="30" y="7"/>
                    </a:lnTo>
                    <a:lnTo>
                      <a:pt x="26" y="3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0" y="9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7213680" y="5510520"/>
                <a:ext cx="46080" cy="738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4" y="48"/>
                    </a:moveTo>
                    <a:lnTo>
                      <a:pt x="8" y="46"/>
                    </a:lnTo>
                    <a:lnTo>
                      <a:pt x="3" y="39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3" y="9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6" y="3"/>
                    </a:lnTo>
                    <a:lnTo>
                      <a:pt x="30" y="9"/>
                    </a:lnTo>
                    <a:lnTo>
                      <a:pt x="33" y="21"/>
                    </a:lnTo>
                    <a:lnTo>
                      <a:pt x="33" y="28"/>
                    </a:lnTo>
                    <a:lnTo>
                      <a:pt x="30" y="39"/>
                    </a:lnTo>
                    <a:lnTo>
                      <a:pt x="26" y="46"/>
                    </a:lnTo>
                    <a:lnTo>
                      <a:pt x="18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V="1">
                <a:off x="7712640" y="5510520"/>
                <a:ext cx="39600" cy="73800"/>
              </a:xfrm>
              <a:custGeom>
                <a:avLst/>
                <a:gdLst/>
                <a:ahLst/>
                <a:rect l="l" t="t" r="r" b="b"/>
                <a:pathLst>
                  <a:path w="28" h="48">
                    <a:moveTo>
                      <a:pt x="27" y="42"/>
                    </a:moveTo>
                    <a:lnTo>
                      <a:pt x="24" y="46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6" y="46"/>
                    </a:lnTo>
                    <a:lnTo>
                      <a:pt x="1" y="39"/>
                    </a:lnTo>
                    <a:lnTo>
                      <a:pt x="0" y="28"/>
                    </a:lnTo>
                    <a:lnTo>
                      <a:pt x="0" y="16"/>
                    </a:lnTo>
                    <a:lnTo>
                      <a:pt x="1" y="7"/>
                    </a:lnTo>
                    <a:lnTo>
                      <a:pt x="6" y="3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22" y="3"/>
                    </a:lnTo>
                    <a:lnTo>
                      <a:pt x="27" y="7"/>
                    </a:lnTo>
                    <a:lnTo>
                      <a:pt x="28" y="13"/>
                    </a:lnTo>
                    <a:lnTo>
                      <a:pt x="28" y="16"/>
                    </a:lnTo>
                    <a:lnTo>
                      <a:pt x="27" y="22"/>
                    </a:lnTo>
                    <a:lnTo>
                      <a:pt x="22" y="28"/>
                    </a:lnTo>
                    <a:lnTo>
                      <a:pt x="15" y="30"/>
                    </a:lnTo>
                    <a:lnTo>
                      <a:pt x="13" y="30"/>
                    </a:lnTo>
                    <a:lnTo>
                      <a:pt x="6" y="28"/>
                    </a:lnTo>
                    <a:lnTo>
                      <a:pt x="1" y="22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V="1">
                <a:off x="7773120" y="5510520"/>
                <a:ext cx="46080" cy="738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14" y="48"/>
                    </a:moveTo>
                    <a:lnTo>
                      <a:pt x="6" y="46"/>
                    </a:lnTo>
                    <a:lnTo>
                      <a:pt x="2" y="39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6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4" y="3"/>
                    </a:lnTo>
                    <a:lnTo>
                      <a:pt x="29" y="9"/>
                    </a:lnTo>
                    <a:lnTo>
                      <a:pt x="32" y="21"/>
                    </a:lnTo>
                    <a:lnTo>
                      <a:pt x="32" y="28"/>
                    </a:lnTo>
                    <a:lnTo>
                      <a:pt x="29" y="39"/>
                    </a:lnTo>
                    <a:lnTo>
                      <a:pt x="24" y="46"/>
                    </a:lnTo>
                    <a:lnTo>
                      <a:pt x="18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8281800" y="5511240"/>
                <a:ext cx="33120" cy="73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267040" y="5511240"/>
                <a:ext cx="460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8334360" y="5510520"/>
                <a:ext cx="42840" cy="7380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4" y="48"/>
                    </a:moveTo>
                    <a:lnTo>
                      <a:pt x="6" y="46"/>
                    </a:lnTo>
                    <a:lnTo>
                      <a:pt x="1" y="39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1" y="9"/>
                    </a:lnTo>
                    <a:lnTo>
                      <a:pt x="6" y="3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4" y="3"/>
                    </a:lnTo>
                    <a:lnTo>
                      <a:pt x="28" y="9"/>
                    </a:lnTo>
                    <a:lnTo>
                      <a:pt x="31" y="21"/>
                    </a:lnTo>
                    <a:lnTo>
                      <a:pt x="31" y="28"/>
                    </a:lnTo>
                    <a:lnTo>
                      <a:pt x="28" y="39"/>
                    </a:lnTo>
                    <a:lnTo>
                      <a:pt x="24" y="46"/>
                    </a:lnTo>
                    <a:lnTo>
                      <a:pt x="18" y="48"/>
                    </a:lnTo>
                    <a:lnTo>
                      <a:pt x="13" y="48"/>
                    </a:lnTo>
                    <a:lnTo>
                      <a:pt x="14" y="4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2708280"/>
            <a:ext cx="8785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us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d the CKM matrix unitarity probl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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K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 measur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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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 measur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ged Kaon life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2200" y="1268280"/>
            <a:ext cx="8620920" cy="489960"/>
          </a:xfrm>
          <a:prstGeom prst="rect">
            <a:avLst/>
          </a:prstGeom>
          <a:noFill/>
          <a:ln w="9360">
            <a:solidFill>
              <a:srgbClr val="e6d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d348"/>
                </a:solidFill>
                <a:latin typeface="Times New Roman"/>
              </a:rPr>
              <a:t>K</a:t>
            </a:r>
            <a:r>
              <a:rPr b="0" lang="en-US" sz="2600" spc="-1" strike="noStrike" baseline="30000">
                <a:solidFill>
                  <a:srgbClr val="e6d348"/>
                </a:solidFill>
                <a:latin typeface="Times New Roman"/>
              </a:rPr>
              <a:t>±</a:t>
            </a:r>
            <a:r>
              <a:rPr b="0" lang="en-US" sz="2600" spc="-1" strike="noStrike">
                <a:solidFill>
                  <a:srgbClr val="e6d348"/>
                </a:solidFill>
                <a:latin typeface="Symbol"/>
                <a:ea typeface="Symbol"/>
              </a:rPr>
              <a:t></a:t>
            </a:r>
            <a:r>
              <a:rPr b="0" lang="en-US" sz="2600" spc="-1" strike="noStrike" baseline="30000">
                <a:solidFill>
                  <a:srgbClr val="e6d348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e6d348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 baseline="30000">
                <a:solidFill>
                  <a:srgbClr val="e6d348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e6d348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 baseline="30000">
                <a:solidFill>
                  <a:srgbClr val="e6d348"/>
                </a:solidFill>
                <a:latin typeface="Times New Roman"/>
              </a:rPr>
              <a:t>±</a:t>
            </a:r>
            <a:r>
              <a:rPr b="0" lang="en-US" sz="2600" spc="-1" strike="noStrike">
                <a:solidFill>
                  <a:srgbClr val="e6d348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e6d348"/>
                </a:solidFill>
                <a:latin typeface="Symbol"/>
                <a:ea typeface="Symbol"/>
              </a:rPr>
              <a:t></a:t>
            </a:r>
            <a:r>
              <a:rPr b="0" lang="en-US" sz="2600" spc="-1" strike="noStrike">
                <a:solidFill>
                  <a:srgbClr val="e6d348"/>
                </a:solidFill>
                <a:latin typeface="Times New Roman"/>
              </a:rPr>
              <a:t>’) BR already measured </a:t>
            </a:r>
            <a:r>
              <a:rPr b="0" i="1" lang="en-US" sz="2600" spc="-1" strike="noStrike">
                <a:solidFill>
                  <a:srgbClr val="e6d348"/>
                </a:solidFill>
                <a:latin typeface="Times New Roman"/>
              </a:rPr>
              <a:t>Phys. Lett. </a:t>
            </a:r>
            <a:r>
              <a:rPr b="0" lang="en-US" sz="2600" spc="-1" strike="noStrike">
                <a:solidFill>
                  <a:srgbClr val="e6d348"/>
                </a:solidFill>
                <a:latin typeface="Times New Roman"/>
              </a:rPr>
              <a:t>B597 2 (200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/>
          <p:nvPr/>
        </p:nvSpPr>
        <p:spPr>
          <a:xfrm>
            <a:off x="4927680" y="1060560"/>
            <a:ext cx="3987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our fami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good vertex (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 69%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kaon hits  associated to daughter track (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 20%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aughter hits associated to kaon track (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 5%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kaon broken track(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 6%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038480" cy="4343400"/>
          </a:xfrm>
          <a:prstGeom prst="rect">
            <a:avLst/>
          </a:prstGeom>
          <a:ln w="0">
            <a:noFill/>
          </a:ln>
        </p:spPr>
      </p:pic>
      <p:grpSp>
        <p:nvGrpSpPr>
          <p:cNvPr id="1235" name=""/>
          <p:cNvGrpSpPr/>
          <p:nvPr/>
        </p:nvGrpSpPr>
        <p:grpSpPr>
          <a:xfrm>
            <a:off x="4800600" y="1197000"/>
            <a:ext cx="4343040" cy="4343040"/>
            <a:chOff x="4800600" y="1197000"/>
            <a:chExt cx="4343040" cy="4343040"/>
          </a:xfrm>
        </p:grpSpPr>
        <p:pic>
          <p:nvPicPr>
            <p:cNvPr id="1236" name="" descr=""/>
            <p:cNvPicPr/>
            <p:nvPr/>
          </p:nvPicPr>
          <p:blipFill>
            <a:blip r:embed="rId2"/>
            <a:stretch/>
          </p:blipFill>
          <p:spPr>
            <a:xfrm>
              <a:off x="4800600" y="1197000"/>
              <a:ext cx="4028400" cy="43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>
              <a:off x="6154200" y="2825640"/>
              <a:ext cx="2989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ff"/>
                  </a:solidFill>
                  <a:latin typeface="Times New Roman"/>
                </a:rPr>
                <a:t>Daughter P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ff"/>
                  </a:solidFill>
                  <a:latin typeface="Times New Roman"/>
                </a:rPr>
                <a:t>with kaon mass hypothe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755640" y="0"/>
            <a:ext cx="8388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Charged Kaon Life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41008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ut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t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10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755640" y="0"/>
            <a:ext cx="8388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Charged Kaon Life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5238360" y="1299600"/>
            <a:ext cx="3095280" cy="1068120"/>
            <a:chOff x="5238360" y="1299600"/>
            <a:chExt cx="3095280" cy="1068120"/>
          </a:xfrm>
        </p:grpSpPr>
        <p:sp>
          <p:nvSpPr>
            <p:cNvPr id="1242" name=""/>
            <p:cNvSpPr/>
            <p:nvPr/>
          </p:nvSpPr>
          <p:spPr>
            <a:xfrm rot="211800">
              <a:off x="5251320" y="1406520"/>
              <a:ext cx="1809720" cy="493920"/>
            </a:xfrm>
            <a:custGeom>
              <a:avLst/>
              <a:gdLst/>
              <a:ahLst/>
              <a:rect l="l" t="t" r="r" b="b"/>
              <a:pathLst>
                <a:path w="1140" h="311">
                  <a:moveTo>
                    <a:pt x="0" y="311"/>
                  </a:moveTo>
                  <a:cubicBezTo>
                    <a:pt x="38" y="279"/>
                    <a:pt x="150" y="168"/>
                    <a:pt x="228" y="119"/>
                  </a:cubicBezTo>
                  <a:cubicBezTo>
                    <a:pt x="306" y="70"/>
                    <a:pt x="386" y="34"/>
                    <a:pt x="468" y="17"/>
                  </a:cubicBezTo>
                  <a:cubicBezTo>
                    <a:pt x="550" y="0"/>
                    <a:pt x="638" y="2"/>
                    <a:pt x="720" y="17"/>
                  </a:cubicBezTo>
                  <a:cubicBezTo>
                    <a:pt x="802" y="32"/>
                    <a:pt x="890" y="68"/>
                    <a:pt x="960" y="107"/>
                  </a:cubicBezTo>
                  <a:cubicBezTo>
                    <a:pt x="1030" y="146"/>
                    <a:pt x="1103" y="221"/>
                    <a:pt x="1140" y="25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211800">
              <a:off x="7066080" y="1335960"/>
              <a:ext cx="1209960" cy="561960"/>
            </a:xfrm>
            <a:custGeom>
              <a:avLst/>
              <a:gdLst/>
              <a:ahLst/>
              <a:rect l="l" t="t" r="r" b="b"/>
              <a:pathLst>
                <a:path w="762" h="354">
                  <a:moveTo>
                    <a:pt x="0" y="354"/>
                  </a:moveTo>
                  <a:lnTo>
                    <a:pt x="762" y="0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211800">
              <a:off x="7035480" y="1899360"/>
              <a:ext cx="1285920" cy="428760"/>
            </a:xfrm>
            <a:custGeom>
              <a:avLst/>
              <a:gdLst/>
              <a:ahLst/>
              <a:rect l="l" t="t" r="r" b="b"/>
              <a:pathLst>
                <a:path w="810" h="270">
                  <a:moveTo>
                    <a:pt x="0" y="0"/>
                  </a:moveTo>
                  <a:lnTo>
                    <a:pt x="810" y="270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7226280" y="158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1e"/>
                </a:solidFill>
                <a:latin typeface="Symbol"/>
                <a:ea typeface="Symbol"/>
              </a:rPr>
              <a:t></a:t>
            </a:r>
            <a:r>
              <a:rPr b="1" lang="it-IT" sz="2400" spc="-1" strike="noStrike">
                <a:solidFill>
                  <a:srgbClr val="eaea1e"/>
                </a:solidFill>
                <a:latin typeface="Times New Roman"/>
              </a:rPr>
              <a:t>from </a:t>
            </a:r>
            <a:r>
              <a:rPr b="1" lang="it-IT" sz="2400" spc="-1" strike="noStrike">
                <a:solidFill>
                  <a:srgbClr val="eaea1e"/>
                </a:solidFill>
                <a:latin typeface="Symbol"/>
                <a:ea typeface="Symbol"/>
              </a:rPr>
              <a:t></a:t>
            </a:r>
            <a:r>
              <a:rPr b="1" lang="it-IT" sz="2400" spc="-1" strike="noStrike" baseline="30000">
                <a:solidFill>
                  <a:srgbClr val="eaea1e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755640" y="1663560"/>
                <a:ext cx="2637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of</m:t>
                        </m:r>
                      </m:e>
                      <m:sub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±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1222200" y="325116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±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48" name=""/>
          <p:cNvGrpSpPr/>
          <p:nvPr/>
        </p:nvGrpSpPr>
        <p:grpSpPr>
          <a:xfrm>
            <a:off x="5184720" y="3098880"/>
            <a:ext cx="3565440" cy="2450520"/>
            <a:chOff x="5184720" y="3098880"/>
            <a:chExt cx="3565440" cy="2450520"/>
          </a:xfrm>
        </p:grpSpPr>
        <p:sp>
          <p:nvSpPr>
            <p:cNvPr id="1249" name=""/>
            <p:cNvSpPr/>
            <p:nvPr/>
          </p:nvSpPr>
          <p:spPr>
            <a:xfrm>
              <a:off x="5184720" y="3098880"/>
              <a:ext cx="3565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Times New Roman"/>
                </a:rPr>
                <a:t>We u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Times New Roman"/>
                </a:rPr>
                <a:t>neutral and charged verte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0" name=""/>
                <p:cNvSpPr txBox="1"/>
                <p:nvPr/>
              </p:nvSpPr>
              <p:spPr>
                <a:xfrm>
                  <a:off x="5565600" y="4595400"/>
                  <a:ext cx="259668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vn &amp; v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c &amp; π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1200240" y="4646520"/>
                <a:ext cx="22366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±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2" name=""/>
          <p:cNvSpPr/>
          <p:nvPr/>
        </p:nvSpPr>
        <p:spPr>
          <a:xfrm>
            <a:off x="5606280" y="16002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1e"/>
                </a:solidFill>
                <a:latin typeface="Times New Roman"/>
              </a:rPr>
              <a:t>ka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260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KLOE experiment can contribute to the extraction of the CKM matrix element |Vus| also studying the charged kaon dec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measured the absolute BR(K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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with high prec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mileptonic absolute BR and lifetime forthco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are collecting data with the aim to reach 2 fb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is will allow us to measure the Kl3 form factors and rare BR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</a:t>
            </a:r>
            <a:r>
              <a:rPr b="0" lang="en-US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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K’e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340000" y="4424400"/>
            <a:ext cx="216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V</a:t>
            </a:r>
            <a:r>
              <a:rPr b="0" lang="it-IT" sz="4000" spc="-1" strike="noStrike" baseline="-25000">
                <a:solidFill>
                  <a:srgbClr val="e6d348"/>
                </a:solidFill>
                <a:latin typeface="Times New Roman"/>
              </a:rPr>
              <a:t>us </a:t>
            </a: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and the CKM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287440" y="1052640"/>
                <a:ext cx="422928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∝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sup>
                        </m:sSubSup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131840" y="2637000"/>
                <a:ext cx="65214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τ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⊕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  <m:r>
                      <m:t xml:space="preserve">⊕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" name=""/>
          <p:cNvGrpSpPr/>
          <p:nvPr/>
        </p:nvGrpSpPr>
        <p:grpSpPr>
          <a:xfrm>
            <a:off x="0" y="3789360"/>
            <a:ext cx="9144000" cy="2449080"/>
            <a:chOff x="0" y="3789360"/>
            <a:chExt cx="9144000" cy="2449080"/>
          </a:xfrm>
        </p:grpSpPr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2411280" y="4941720"/>
                  <a:ext cx="4392720" cy="12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Γ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μν</m:t>
                          </m:r>
                          <m:r>
                            <m:t xml:space="preserve">(</m:t>
                          </m:r>
                          <m:r>
                            <m:t xml:space="preserve">γ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Γ</m:t>
                          </m:r>
                          <m:r>
                            <m:t xml:space="preserve">(</m:t>
                          </m:r>
                          <m:r>
                            <m:t xml:space="preserve">π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μν</m:t>
                          </m:r>
                          <m:r>
                            <m:t xml:space="preserve">(</m:t>
                          </m:r>
                          <m:r>
                            <m:t xml:space="preserve">γ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∝</m:t>
                      </m:r>
                      <m:f>
                        <m:num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s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d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0" y="3789360"/>
              <a:ext cx="9144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It is possible to measure V</a:t>
              </a:r>
              <a:r>
                <a:rPr b="0" lang="en-US" sz="2300" spc="-1" strike="noStrike" baseline="-25000">
                  <a:solidFill>
                    <a:srgbClr val="ffffff"/>
                  </a:solidFill>
                  <a:latin typeface="Times New Roman"/>
                </a:rPr>
                <a:t>us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also by considering K</a:t>
              </a:r>
              <a:r>
                <a:rPr b="0" lang="en-US" sz="2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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and </a:t>
              </a:r>
              <a:r>
                <a:rPr b="0" lang="en-US" sz="2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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decay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hep-ph/0402299)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Vus and the CKM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6948360" cy="4770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6120" y="1700280"/>
            <a:ext cx="202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i="1" lang="it-IT" sz="2800" spc="-1" strike="noStrike" baseline="-25000">
                <a:solidFill>
                  <a:srgbClr val="ffffff"/>
                </a:solidFill>
                <a:latin typeface="Times New Roman"/>
              </a:rPr>
              <a:t>us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i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1" i="1" lang="it-IT" sz="28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it-IT" sz="2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l-G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3760" y="2982960"/>
            <a:ext cx="4572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3950" r="6665" b="12000"/>
          <a:stretch/>
        </p:blipFill>
        <p:spPr>
          <a:xfrm>
            <a:off x="1476360" y="836640"/>
            <a:ext cx="6191280" cy="5513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Vus and the CKM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The tagging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067280" y="692280"/>
            <a:ext cx="5076720" cy="391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64000" y="4292640"/>
            <a:ext cx="2737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agging method allo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asurement of absol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00" y="2852640"/>
            <a:ext cx="3871800" cy="3621960"/>
            <a:chOff x="7200" y="2852640"/>
            <a:chExt cx="3871800" cy="36219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rcRect l="14917" t="25224" r="14917" b="25224"/>
            <a:stretch/>
          </p:blipFill>
          <p:spPr>
            <a:xfrm>
              <a:off x="682560" y="3162240"/>
              <a:ext cx="305100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718360" y="3089160"/>
              <a:ext cx="1160640" cy="36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Kinem.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30800" y="613728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1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40640" y="613728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81800" y="613728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2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59600" y="613728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2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1720" y="522288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640" y="354636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3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1720" y="438444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00" y="285264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Ev/0.5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" y="3165480"/>
              <a:ext cx="29844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</a:t>
              </a:r>
              <a:r>
                <a:rPr b="1" lang="en-US" sz="1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  </a:t>
              </a: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it: </a:t>
              </a:r>
              <a:r>
                <a:rPr b="0" lang="it-IT" sz="20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</a:t>
              </a:r>
              <a:r>
                <a:rPr b="0" lang="it-IT" sz="2000" spc="-1" strike="noStrike" baseline="30000">
                  <a:solidFill>
                    <a:srgbClr val="009900"/>
                  </a:solidFill>
                  <a:latin typeface="Symbol"/>
                  <a:ea typeface="Symbol"/>
                </a:rPr>
                <a:t>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</a:t>
              </a:r>
              <a:r>
                <a:rPr b="0" lang="it-IT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2349360"/>
            <a:ext cx="414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 beam tagged from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,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6004080"/>
            <a:ext cx="237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105 tags/pb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07920"/>
            <a:ext cx="4140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tection of a 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(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) guarantees the presence of a 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(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) with known momentum and direction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a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3883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K</a:t>
            </a:r>
            <a:r>
              <a:rPr b="0" lang="it-IT" sz="4000" spc="-1" strike="noStrike">
                <a:solidFill>
                  <a:srgbClr val="e6d348"/>
                </a:solidFill>
                <a:latin typeface="Symbol"/>
                <a:ea typeface="Symbol"/>
              </a:rPr>
              <a:t></a:t>
            </a: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BR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716280"/>
            <a:ext cx="7920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d348"/>
                </a:solidFill>
                <a:latin typeface="Times New Roman"/>
              </a:rPr>
              <a:t>The signal selection starts requiring a </a:t>
            </a:r>
            <a:r>
              <a:rPr b="0" lang="en-US" sz="2400" spc="-1" strike="noStrike">
                <a:solidFill>
                  <a:srgbClr val="e6d348"/>
                </a:solidFill>
                <a:latin typeface="Symbol"/>
                <a:ea typeface="Symbol"/>
              </a:rPr>
              <a:t></a:t>
            </a:r>
            <a:r>
              <a:rPr b="0" lang="en-US" sz="2400" spc="-1" strike="noStrike">
                <a:solidFill>
                  <a:srgbClr val="e6d348"/>
                </a:solidFill>
                <a:latin typeface="Times New Roman"/>
              </a:rPr>
              <a:t>tag and the K decay vert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d348"/>
                </a:solidFill>
                <a:latin typeface="Times New Roman"/>
              </a:rPr>
              <a:t>The background is defined as all events with a</a:t>
            </a:r>
            <a:r>
              <a:rPr b="0" lang="it-IT" sz="2400" spc="-1" strike="noStrike">
                <a:solidFill>
                  <a:srgbClr val="e6d348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e6d348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e6d348"/>
                </a:solidFill>
                <a:latin typeface="Symbol"/>
                <a:ea typeface="Symbol"/>
              </a:rPr>
              <a:t></a:t>
            </a:r>
            <a:r>
              <a:rPr b="0" lang="it-IT" sz="2400" spc="-1" strike="noStrike">
                <a:solidFill>
                  <a:srgbClr val="e6d348"/>
                </a:solidFill>
                <a:latin typeface="Times New Roman"/>
              </a:rPr>
              <a:t>in the final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04400" y="1700280"/>
            <a:ext cx="35758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mic Sans MS"/>
              </a:rPr>
              <a:t>PDG fit = 0.6343 </a:t>
            </a:r>
            <a:r>
              <a:rPr b="1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</a:t>
            </a:r>
            <a:r>
              <a:rPr b="1" lang="en-GB" sz="2300" spc="-1" strike="noStrike">
                <a:solidFill>
                  <a:srgbClr val="ffffff"/>
                </a:solidFill>
                <a:latin typeface="Comic Sans MS"/>
              </a:rPr>
              <a:t>0.00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46040" y="2492280"/>
            <a:ext cx="48348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mic Sans MS"/>
              </a:rPr>
              <a:t>Chiang = 0.6324 </a:t>
            </a:r>
            <a:r>
              <a:rPr b="1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</a:t>
            </a:r>
            <a:r>
              <a:rPr b="1" lang="en-GB" sz="2300" spc="-1" strike="noStrike">
                <a:solidFill>
                  <a:srgbClr val="ffffff"/>
                </a:solidFill>
                <a:latin typeface="Comic Sans MS"/>
              </a:rPr>
              <a:t>0.0044</a:t>
            </a:r>
            <a:r>
              <a:rPr b="1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</a:t>
            </a:r>
            <a:r>
              <a:rPr b="1" lang="en-GB" sz="23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K</a:t>
            </a:r>
            <a:r>
              <a:rPr b="0" lang="it-IT" sz="4000" spc="-1" strike="noStrike">
                <a:solidFill>
                  <a:srgbClr val="e6d348"/>
                </a:solidFill>
                <a:latin typeface="Symbol"/>
                <a:ea typeface="Symbol"/>
              </a:rPr>
              <a:t></a:t>
            </a: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BR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81360"/>
            <a:ext cx="370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ackground is du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ays with 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f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, it is estimated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07920"/>
            <a:ext cx="3708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* is the momentum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ged secondary calcul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kaon rest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hp of pion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924360" y="1413000"/>
            <a:ext cx="5219280" cy="5111280"/>
            <a:chOff x="3924360" y="1413000"/>
            <a:chExt cx="5219280" cy="5111280"/>
          </a:xfrm>
        </p:grpSpPr>
        <p:pic>
          <p:nvPicPr>
            <p:cNvPr id="84" name="" descr=""/>
            <p:cNvPicPr/>
            <p:nvPr/>
          </p:nvPicPr>
          <p:blipFill>
            <a:blip r:embed="rId1"/>
            <a:srcRect l="5328" t="0" r="2503" b="1467"/>
            <a:stretch/>
          </p:blipFill>
          <p:spPr>
            <a:xfrm>
              <a:off x="3924360" y="1413000"/>
              <a:ext cx="5219280" cy="51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flipV="1">
              <a:off x="6457320" y="1677600"/>
              <a:ext cx="1440" cy="3853800"/>
            </a:xfrm>
            <a:prstGeom prst="line">
              <a:avLst/>
            </a:prstGeom>
            <a:ln w="2160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57320" y="3708000"/>
              <a:ext cx="2572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69480" y="3106440"/>
              <a:ext cx="1409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7000"/>
                </a:lnSpc>
                <a:spcBef>
                  <a:spcPts val="774"/>
                </a:spcBef>
                <a:spcAft>
                  <a:spcPts val="774"/>
                </a:spcAft>
                <a:tabLst>
                  <a:tab algn="l" pos="0"/>
                  <a:tab algn="l" pos="657360"/>
                  <a:tab algn="l" pos="13129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</a:t>
              </a:r>
              <a:r>
                <a:rPr b="0" lang="en-GB" sz="2200" spc="-1" strike="noStrike">
                  <a:solidFill>
                    <a:srgbClr val="000000"/>
                  </a:solidFill>
                  <a:latin typeface="Comic Sans MS"/>
                </a:rPr>
                <a:t> reg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356000" y="692280"/>
            <a:ext cx="440388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l-GR" sz="2800" spc="-1" strike="noStrike">
                <a:solidFill>
                  <a:srgbClr val="008000"/>
                </a:solidFill>
                <a:latin typeface="Times New Roman"/>
              </a:rPr>
              <a:t>ππ</a:t>
            </a:r>
            <a:r>
              <a:rPr b="0" lang="it-IT" sz="2800" spc="-1" strike="noStrike" baseline="30000">
                <a:solidFill>
                  <a:srgbClr val="008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l-GR" sz="2800" spc="-1" strike="noStrike">
                <a:solidFill>
                  <a:srgbClr val="3333cc"/>
                </a:solidFill>
                <a:latin typeface="Times New Roman"/>
              </a:rPr>
              <a:t>π</a:t>
            </a:r>
            <a:r>
              <a:rPr b="0" lang="it-IT" sz="28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l-GR" sz="2800" spc="-1" strike="noStrike">
                <a:solidFill>
                  <a:srgbClr val="ff9900"/>
                </a:solidFill>
                <a:latin typeface="Times New Roman"/>
              </a:rPr>
              <a:t>π</a:t>
            </a:r>
            <a:r>
              <a:rPr b="0" lang="it-IT" sz="2800" spc="-1" strike="noStrike" baseline="30000">
                <a:solidFill>
                  <a:srgbClr val="ff99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ff9900"/>
                </a:solidFill>
                <a:latin typeface="Symbol"/>
                <a:ea typeface="Symbol"/>
              </a:rPr>
              <a:t>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194697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3883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K</a:t>
            </a:r>
            <a:r>
              <a:rPr b="0" lang="it-IT" sz="4000" spc="-1" strike="noStrike">
                <a:solidFill>
                  <a:srgbClr val="e6d348"/>
                </a:solidFill>
                <a:latin typeface="Symbol"/>
                <a:ea typeface="Symbol"/>
              </a:rPr>
              <a:t></a:t>
            </a:r>
            <a:r>
              <a:rPr b="0" lang="it-IT" sz="4000" spc="-1" strike="noStrike">
                <a:solidFill>
                  <a:srgbClr val="e6d348"/>
                </a:solidFill>
                <a:latin typeface="Times New Roman"/>
              </a:rPr>
              <a:t>BR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5300640"/>
            <a:ext cx="2544840" cy="1025640"/>
          </a:xfrm>
          <a:prstGeom prst="roundRect">
            <a:avLst>
              <a:gd name="adj" fmla="val 139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1080" y="1019160"/>
            <a:ext cx="8567640" cy="538200"/>
          </a:xfrm>
          <a:prstGeom prst="roundRect">
            <a:avLst>
              <a:gd name="adj" fmla="val 139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125360"/>
            <a:ext cx="842472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5000"/>
                <a:tab algn="l" pos="5504040"/>
                <a:tab algn="l" pos="6191280"/>
                <a:tab algn="l" pos="6878520"/>
                <a:tab algn="l" pos="7567560"/>
                <a:tab algn="l" pos="8255160"/>
                <a:tab algn="l" pos="8683560"/>
                <a:tab algn="l" pos="9551880"/>
                <a:tab algn="l" pos="104202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BR K</a:t>
            </a:r>
            <a:r>
              <a:rPr b="1" lang="en-GB" sz="2300" spc="-1" strike="noStrike" baseline="33000">
                <a:solidFill>
                  <a:srgbClr val="ff0000"/>
                </a:solidFill>
                <a:latin typeface="Comic Sans MS"/>
              </a:rPr>
              <a:t>+</a:t>
            </a:r>
            <a:r>
              <a:rPr b="1" lang="en-GB" sz="23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GB" sz="2300" spc="-1" strike="noStrike">
                <a:solidFill>
                  <a:srgbClr val="ff0000"/>
                </a:solidFill>
                <a:latin typeface="StarSymbol"/>
              </a:rPr>
              <a:t> </a:t>
            </a:r>
            <a:r>
              <a:rPr b="1" lang="en-GB" sz="23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GB" sz="23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GB" sz="2300" spc="-1" strike="noStrike">
                <a:solidFill>
                  <a:srgbClr val="ff0000"/>
                </a:solidFill>
                <a:latin typeface="Symbol"/>
                <a:ea typeface="Symbol"/>
              </a:rPr>
              <a:t></a:t>
            </a: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 = 0.6366 </a:t>
            </a:r>
            <a:r>
              <a:rPr b="1" lang="en-GB" sz="23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 0.0009 (stat.) </a:t>
            </a:r>
            <a:r>
              <a:rPr b="1" lang="en-GB" sz="23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 0.0012 (syst.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3950" r="6665" b="12000"/>
          <a:stretch/>
        </p:blipFill>
        <p:spPr>
          <a:xfrm>
            <a:off x="4681440" y="1844640"/>
            <a:ext cx="4462560" cy="4597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4400" y="3284640"/>
            <a:ext cx="370872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Comic Sans MS"/>
              </a:rPr>
              <a:t>K</a:t>
            </a:r>
            <a:r>
              <a:rPr b="1" i="1" lang="it-IT" sz="2400" spc="-1" strike="noStrike">
                <a:solidFill>
                  <a:srgbClr val="ffffff"/>
                </a:solidFill>
                <a:latin typeface="Comic Sans MS"/>
              </a:rPr>
              <a:t> /f</a:t>
            </a:r>
            <a:r>
              <a:rPr b="1" i="1" lang="it-IT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=1.210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±0.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MILC Coll. hep-lat/04070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77760" y="2276640"/>
            <a:ext cx="372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Following the method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hep-ph/0406324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292640"/>
            <a:ext cx="327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Vud=0.9740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±0.0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superallowed </a:t>
            </a:r>
            <a:r>
              <a:rPr b="1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deca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39680" y="5589720"/>
            <a:ext cx="21859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GB" sz="2300" spc="-1" strike="noStrike" baseline="-33000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en-GB" sz="2300" spc="-1" strike="noStrike">
                <a:solidFill>
                  <a:srgbClr val="ff0000"/>
                </a:solidFill>
                <a:latin typeface="Comic Sans MS"/>
              </a:rPr>
              <a:t> = 0.2223 (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Sabby</cp:lastModifiedBy>
  <dcterms:modified xsi:type="dcterms:W3CDTF">2005-05-20T08:37:48Z</dcterms:modified>
  <cp:revision>888</cp:revision>
  <dc:subject/>
  <dc:title>PowerPoint Presentation</dc:title>
</cp:coreProperties>
</file>