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10.jpeg" ContentType="image/jpeg"/>
  <Override PartName="/ppt/media/image5.png" ContentType="image/png"/>
  <Override PartName="/ppt/media/image35.jpeg" ContentType="image/jpeg"/>
  <Override PartName="/ppt/media/image8.png" ContentType="image/png"/>
  <Override PartName="/ppt/media/image1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32.png" ContentType="image/png"/>
  <Override PartName="/ppt/media/image12.png" ContentType="image/png"/>
  <Override PartName="/ppt/media/image34.jpeg" ContentType="image/jpeg"/>
  <Override PartName="/ppt/media/image36.png" ContentType="image/png"/>
  <Override PartName="/ppt/media/image37.wmf" ContentType="image/x-wmf"/>
  <Override PartName="/ppt/media/image9.jpeg" ContentType="image/jpeg"/>
  <Override PartName="/ppt/media/image23.wmf" ContentType="image/x-wmf"/>
  <Override PartName="/ppt/media/image7.gif" ContentType="image/gif"/>
  <Override PartName="/ppt/media/image20.png" ContentType="image/png"/>
  <Override PartName="/ppt/media/image2.jpeg" ContentType="image/jpeg"/>
  <Override PartName="/ppt/media/image18.wmf" ContentType="image/x-wmf"/>
  <Override PartName="/ppt/media/image13.png" ContentType="image/png"/>
  <Override PartName="/ppt/media/image6.jpeg" ContentType="image/jpeg"/>
  <Override PartName="/ppt/media/image30.png" ContentType="image/png"/>
  <Override PartName="/ppt/media/image28.wmf" ContentType="image/x-wmf"/>
  <Override PartName="/ppt/media/image1.png" ContentType="image/png"/>
  <Override PartName="/ppt/media/image15.png" ContentType="image/png"/>
  <Override PartName="/ppt/media/image16.png" ContentType="image/png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6EE0-317E-4CCF-BC9E-AB4F1612FFE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39760" y="70164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25200" y="4357440"/>
            <a:ext cx="5010120" cy="40798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tri KLCRA frazione 30%, trigger effi 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nch trough frazione 17%, trigger effi 6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la anche del klcra e del punch through che danno conrtibuti al tag b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ffi autotrigger 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ichi taglio sull’angolo di apertura tra i pioni perchè il bias è minore per I decadimenti simmetrici, effi tag 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39760" y="70164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25200" y="4357440"/>
            <a:ext cx="5010120" cy="40798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l fit è a 3 componenti perchè la shape del p+p- è tenuta fissa. Questo perchè il decadimento non interessa la misura di V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l fondo p+p-p0 che rimane nel sample neutro viene soppresso richiedendo E&gt;50MeV per I fotoni e un limite sull’apertura angol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39760" y="70164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25200" y="4357440"/>
            <a:ext cx="5010120" cy="40798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 sistematica sulla vita media è dovuta alla grossa incertezza sul valore usato. L’errore del 0.8% comporta un’incertezza di 0.64% sul valore dei BR misur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guardo la shape del p+p-, questa non compare nella misura delle sistematich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39760" y="70164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25200" y="4357440"/>
            <a:ext cx="5010120" cy="40798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contributo dei decadimenti rari è del tutto trascurabile e non è la causa vera della somma dei BR diversa d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39760" y="70164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25200" y="4357440"/>
            <a:ext cx="5010120" cy="40798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 calcola Lk di tutti I fotoni.  Il valore di LK usato è dato dalla media pesata per l’energia dei 2 più vicini, se questi sono più vicini di 5 sigma. Posso fare la media pesata perchè la risoluzione sul vertice neutro va come a/sqrt(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 media è accettata solo se c’è almeno un altro fotone più vicino di 5 sigma al vertice trovat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39760" y="70164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25200" y="4357440"/>
            <a:ext cx="5010120" cy="40798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 calcola Lk di tutti I fotoni.  Il valore di LK usato è dato dalla media pesata per l’energia dei 2 più vicini, se questi sono più vicini di 5 sigma. Posso fare la media pesata perchè la risoluzione sul vertice neutro va come a/sqrt(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 media è accettata solo se c’è almeno un altro fotone più vicino di 5 sigma al vertice trovat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152640" y="37800"/>
            <a:ext cx="9219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320" y="3339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152640" y="37800"/>
            <a:ext cx="9219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93360" y="990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320" y="3339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293360" y="3339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52640" y="37800"/>
            <a:ext cx="9219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858760" y="990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41200" y="990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320" y="3339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858760" y="3339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41200" y="3339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-152640" y="37800"/>
            <a:ext cx="9219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32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152640" y="37800"/>
            <a:ext cx="9219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152640" y="37800"/>
            <a:ext cx="9219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293360" y="990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52640" y="37800"/>
            <a:ext cx="9219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-152640" y="37800"/>
            <a:ext cx="9219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52640" y="37800"/>
            <a:ext cx="9219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93360" y="990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320" y="3339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152640" y="37800"/>
            <a:ext cx="9219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93360" y="990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293360" y="3339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152640" y="37800"/>
            <a:ext cx="9219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93360" y="990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320" y="3339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152640" y="37800"/>
            <a:ext cx="9219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3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" Target="slide25.xml"/><Relationship Id="rId6" Type="http://schemas.openxmlformats.org/officeDocument/2006/relationships/slide" Target="slide26.xm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wmf"/><Relationship Id="rId6" Type="http://schemas.openxmlformats.org/officeDocument/2006/relationships/slide" Target="slide27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30.png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" Target="slide23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image" Target="../media/image2.jpeg"/><Relationship Id="rId7" Type="http://schemas.openxmlformats.org/officeDocument/2006/relationships/slide" Target="slide22.xml"/><Relationship Id="rId8" Type="http://schemas.openxmlformats.org/officeDocument/2006/relationships/slide" Target="slide22.xml"/><Relationship Id="rId9" Type="http://schemas.openxmlformats.org/officeDocument/2006/relationships/slide" Target="slide22.xml"/><Relationship Id="rId10" Type="http://schemas.openxmlformats.org/officeDocument/2006/relationships/slide" Target="slide22.xml"/><Relationship Id="rId11" Type="http://schemas.openxmlformats.org/officeDocument/2006/relationships/slide" Target="slide22.xml"/><Relationship Id="rId12" Type="http://schemas.openxmlformats.org/officeDocument/2006/relationships/slide" Target="slide22.xml"/><Relationship Id="rId13" Type="http://schemas.openxmlformats.org/officeDocument/2006/relationships/slide" Target="slide22.xml"/><Relationship Id="rId14" Type="http://schemas.openxmlformats.org/officeDocument/2006/relationships/slide" Target="slide22.xml"/><Relationship Id="rId15" Type="http://schemas.openxmlformats.org/officeDocument/2006/relationships/slide" Target="slide22.xml"/><Relationship Id="rId16" Type="http://schemas.openxmlformats.org/officeDocument/2006/relationships/slide" Target="slide22.xml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11326" b="0"/>
          <a:stretch/>
        </p:blipFill>
        <p:spPr>
          <a:xfrm>
            <a:off x="36360" y="76320"/>
            <a:ext cx="4104000" cy="306540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08000" y="693360"/>
            <a:ext cx="435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Recent KLOE results on neutral kaon decays</a:t>
            </a:r>
            <a:endParaRPr b="0" i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56000" y="2060640"/>
            <a:ext cx="4572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Times New Roman"/>
              </a:rPr>
              <a:t>Matteo Mart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ff"/>
                </a:solidFill>
                <a:latin typeface="Times New Roman"/>
              </a:rPr>
              <a:t>INFN Laboratori Nazionali di Frasca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Times New Roman"/>
              </a:rPr>
              <a:t>On behalf of the KLOE Collab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4959360"/>
            <a:ext cx="254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imes New Roman"/>
              </a:rPr>
              <a:t>LNF Spring School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imes New Roman"/>
              </a:rPr>
              <a:t>May 20</a:t>
            </a:r>
            <a:r>
              <a:rPr b="1" lang="en-GB" sz="2000" spc="-1" strike="noStrike" baseline="30000">
                <a:solidFill>
                  <a:srgbClr val="000099"/>
                </a:solidFill>
                <a:latin typeface="Times New Roman"/>
              </a:rPr>
              <a:t>th </a:t>
            </a:r>
            <a:r>
              <a:rPr b="1" lang="en-GB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820000" y="6524640"/>
            <a:ext cx="32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1435800">
            <a:off x="-2557080" y="2276280"/>
            <a:ext cx="2232000" cy="1319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95280" y="-1827360"/>
            <a:ext cx="2171880" cy="156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45087E-006 L 0.37413 0.38659 E">
                                      <p:cBhvr>
                                        <p:cTn id="6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413 0.38659 C 0.47969 0.27029 0.58524 0.15445 0.68646 0.14913 C 0.78733 0.14428 0.88386 0.24948 0.98056 0.35491 E">
                                      <p:cBhvr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0.01064 L -0.00851 0.96648 E">
                                      <p:cBhvr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500000">
                                      <p:cBhvr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1 0.96647 L -0.00851 0.74613 E">
                                      <p:cBhvr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">
                                      <p:cBhvr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1 0.74613 L -0.00851 0.93503 E">
                                      <p:cBhvr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358000" y="2781360"/>
            <a:ext cx="4664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8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8800" spc="-1" strike="noStrike">
                <a:solidFill>
                  <a:srgbClr val="000000"/>
                </a:solidFill>
                <a:latin typeface="Times New Roman"/>
              </a:rPr>
              <a:t> decay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124000" y="1751040"/>
            <a:ext cx="5400720" cy="31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92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041920" y="-41400"/>
            <a:ext cx="392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</a:t>
            </a:r>
            <a:r>
              <a:rPr b="0" i="1" lang="it-IT" sz="32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S</a:t>
            </a:r>
            <a:r>
              <a:rPr b="0" i="1" lang="it-IT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semileptonic dec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03680" y="7959600"/>
            <a:ext cx="358200" cy="481680"/>
          </a:xfrm>
          <a:custGeom>
            <a:avLst/>
            <a:gdLst>
              <a:gd name="textAreaLeft" fmla="*/ 360 w 358200"/>
              <a:gd name="textAreaRight" fmla="*/ 357840 w 358200"/>
              <a:gd name="textAreaTop" fmla="*/ 360 h 481680"/>
              <a:gd name="textAreaBottom" fmla="*/ 481320 h 481680"/>
            </a:gdLst>
            <a:ahLst/>
            <a:rect l="textAreaLeft" t="textAreaTop" r="textAreaRight" b="textAreaBottom"/>
            <a:pathLst>
              <a:path w="21600" h="29039">
                <a:moveTo>
                  <a:pt x="101" y="0"/>
                </a:moveTo>
                <a:arcTo wR="101" hR="101" stAng="16200000" swAng="-5400000"/>
                <a:lnTo>
                  <a:pt x="0" y="28938"/>
                </a:lnTo>
                <a:arcTo wR="101" hR="101" stAng="10800000" swAng="-5400000"/>
                <a:lnTo>
                  <a:pt x="21499" y="29039"/>
                </a:lnTo>
                <a:arcTo wR="101" hR="101" stAng="5400000" swAng="-5400000"/>
                <a:lnTo>
                  <a:pt x="21600" y="101"/>
                </a:lnTo>
                <a:arcTo wR="101" hR="10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080" y="6742080"/>
            <a:ext cx="31892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864560" y="54000"/>
            <a:ext cx="1241280" cy="7333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6320" y="533520"/>
            <a:ext cx="7543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033960" y="6524640"/>
            <a:ext cx="3110040" cy="333360"/>
            <a:chOff x="6033960" y="6524640"/>
            <a:chExt cx="3110040" cy="333360"/>
          </a:xfrm>
        </p:grpSpPr>
        <p:sp>
          <p:nvSpPr>
            <p:cNvPr id="199" name=""/>
            <p:cNvSpPr/>
            <p:nvPr/>
          </p:nvSpPr>
          <p:spPr>
            <a:xfrm>
              <a:off x="6033960" y="6742080"/>
              <a:ext cx="27352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748720" y="6524640"/>
              <a:ext cx="39528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352680" y="6580080"/>
            <a:ext cx="25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M. Martini, Spring Schoo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160" y="736560"/>
            <a:ext cx="8245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PT test is also performed measuring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semileptonic asymmetri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95280" y="1436760"/>
          <a:ext cx="4392720" cy="82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36760"/>
                    <a:ext cx="43927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5602680" y="1603440"/>
            <a:ext cx="298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it-IT" sz="24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it-IT" sz="2400" spc="-1" strike="noStrike">
                <a:solidFill>
                  <a:srgbClr val="000099"/>
                </a:solidFill>
                <a:latin typeface="Times New Roman"/>
              </a:rPr>
              <a:t>-A</a:t>
            </a:r>
            <a:r>
              <a:rPr b="1" lang="it-IT" sz="2400" spc="-1" strike="noStrike" baseline="-25000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it-IT" sz="2400" spc="-1" strike="noStrike">
                <a:solidFill>
                  <a:srgbClr val="000099"/>
                </a:solidFill>
                <a:latin typeface="Times New Roman"/>
              </a:rPr>
              <a:t>=0 if CPT 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3840" y="2496960"/>
            <a:ext cx="52621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it-IT" sz="2200" spc="-1" strike="noStrike" baseline="-25000">
                <a:solidFill>
                  <a:srgbClr val="0000ff"/>
                </a:solidFill>
                <a:latin typeface="Times New Roman"/>
              </a:rPr>
              <a:t>L</a:t>
            </a:r>
            <a:r>
              <a:rPr b="0" lang="it-IT" sz="2200" spc="-1" strike="noStrike">
                <a:solidFill>
                  <a:srgbClr val="0000ff"/>
                </a:solidFill>
                <a:latin typeface="Times New Roman"/>
              </a:rPr>
              <a:t>=(3.322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± </a:t>
            </a:r>
            <a:r>
              <a:rPr b="0" lang="it-IT" sz="2200" spc="-1" strike="noStrike">
                <a:solidFill>
                  <a:srgbClr val="0000ff"/>
                </a:solidFill>
                <a:latin typeface="Times New Roman"/>
              </a:rPr>
              <a:t>0.058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± </a:t>
            </a:r>
            <a:r>
              <a:rPr b="0" lang="it-IT" sz="2200" spc="-1" strike="noStrike">
                <a:solidFill>
                  <a:srgbClr val="0000ff"/>
                </a:solidFill>
                <a:latin typeface="Times New Roman"/>
              </a:rPr>
              <a:t>0.047)</a:t>
            </a:r>
            <a:r>
              <a:rPr b="0" lang="it-IT" sz="2200" spc="-1" strike="noStrike">
                <a:solidFill>
                  <a:srgbClr val="0000ff"/>
                </a:solidFill>
                <a:latin typeface="Arial Unicode MS"/>
              </a:rPr>
              <a:t>x</a:t>
            </a:r>
            <a:r>
              <a:rPr b="0" lang="it-IT" sz="22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it-IT" sz="2200" spc="-1" strike="noStrike" baseline="30000">
                <a:solidFill>
                  <a:srgbClr val="0000ff"/>
                </a:solidFill>
                <a:latin typeface="Times New Roman"/>
              </a:rPr>
              <a:t>-3</a:t>
            </a:r>
            <a:r>
              <a:rPr b="0" lang="it-IT" sz="2200" spc="-1" strike="noStrike">
                <a:solidFill>
                  <a:srgbClr val="0000ff"/>
                </a:solidFill>
                <a:latin typeface="Times New Roman"/>
              </a:rPr>
              <a:t> KTeV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8000" y="3284640"/>
            <a:ext cx="87487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LOE looks for semileptonic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cays in events with a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crash tag and 2 tracks from the I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2920" y="4292640"/>
            <a:ext cx="900108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e separation with time of fl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two charge modes are independently measur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diative corrections included in MC generators (signal spectru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nsitive to the presence of a photon in the final stat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604360" y="6553080"/>
            <a:ext cx="53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041920" y="-41400"/>
            <a:ext cx="392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</a:t>
            </a:r>
            <a:r>
              <a:rPr b="0" i="1" lang="it-IT" sz="32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S</a:t>
            </a:r>
            <a:r>
              <a:rPr b="0" i="1" lang="it-IT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semileptonic dec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03680" y="7959600"/>
            <a:ext cx="358200" cy="481680"/>
          </a:xfrm>
          <a:custGeom>
            <a:avLst/>
            <a:gdLst>
              <a:gd name="textAreaLeft" fmla="*/ 360 w 358200"/>
              <a:gd name="textAreaRight" fmla="*/ 357840 w 358200"/>
              <a:gd name="textAreaTop" fmla="*/ 360 h 481680"/>
              <a:gd name="textAreaBottom" fmla="*/ 481320 h 481680"/>
            </a:gdLst>
            <a:ahLst/>
            <a:rect l="textAreaLeft" t="textAreaTop" r="textAreaRight" b="textAreaBottom"/>
            <a:pathLst>
              <a:path w="21600" h="29039">
                <a:moveTo>
                  <a:pt x="101" y="0"/>
                </a:moveTo>
                <a:arcTo wR="101" hR="101" stAng="16200000" swAng="-5400000"/>
                <a:lnTo>
                  <a:pt x="0" y="28938"/>
                </a:lnTo>
                <a:arcTo wR="101" hR="101" stAng="10800000" swAng="-5400000"/>
                <a:lnTo>
                  <a:pt x="21499" y="29039"/>
                </a:lnTo>
                <a:arcTo wR="101" hR="101" stAng="5400000" swAng="-5400000"/>
                <a:lnTo>
                  <a:pt x="21600" y="101"/>
                </a:lnTo>
                <a:arcTo wR="101" hR="10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3080" y="6742080"/>
            <a:ext cx="31892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864560" y="54000"/>
            <a:ext cx="1241280" cy="7333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6320" y="533520"/>
            <a:ext cx="7543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7840" y="5349960"/>
            <a:ext cx="5689440" cy="81036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BR(K</a:t>
            </a:r>
            <a:r>
              <a:rPr b="1" lang="it-IT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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) = (7.09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0.07</a:t>
            </a:r>
            <a:r>
              <a:rPr b="1" lang="it-IT" sz="2200" spc="-1" strike="noStrike" baseline="-25000">
                <a:solidFill>
                  <a:srgbClr val="000000"/>
                </a:solidFill>
                <a:latin typeface="Times New Roman"/>
              </a:rPr>
              <a:t>stat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0.08</a:t>
            </a:r>
            <a:r>
              <a:rPr b="1" lang="it-IT" sz="2200" spc="-1" strike="noStrike" baseline="-25000">
                <a:solidFill>
                  <a:srgbClr val="000000"/>
                </a:solidFill>
                <a:latin typeface="Times New Roman"/>
              </a:rPr>
              <a:t>syst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) 10</a:t>
            </a:r>
            <a:r>
              <a:rPr b="1" lang="it-IT" sz="22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033960" y="6524640"/>
            <a:ext cx="3110040" cy="333360"/>
            <a:chOff x="6033960" y="6524640"/>
            <a:chExt cx="3110040" cy="333360"/>
          </a:xfrm>
        </p:grpSpPr>
        <p:sp>
          <p:nvSpPr>
            <p:cNvPr id="217" name=""/>
            <p:cNvSpPr/>
            <p:nvPr/>
          </p:nvSpPr>
          <p:spPr>
            <a:xfrm>
              <a:off x="6033960" y="6742080"/>
              <a:ext cx="27352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748720" y="6524640"/>
              <a:ext cx="39528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352680" y="6580080"/>
            <a:ext cx="25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M. Martini, Spring Schoo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rcRect l="0" t="0" r="47746" b="0"/>
          <a:stretch/>
        </p:blipFill>
        <p:spPr>
          <a:xfrm>
            <a:off x="5927760" y="836640"/>
            <a:ext cx="3036960" cy="2665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rcRect l="51065" t="0" r="0" b="0"/>
          <a:stretch/>
        </p:blipFill>
        <p:spPr>
          <a:xfrm>
            <a:off x="6049800" y="3429000"/>
            <a:ext cx="2843280" cy="2664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4920" y="692280"/>
            <a:ext cx="57783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inematic closure: use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obtain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momentum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 test for presence of neutrin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014640"/>
            <a:ext cx="57960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rmine number of signal counts by fitting data to a linear combination of MC spectra for signal and background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sig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~ 22000 ev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00000" y="1793880"/>
            <a:ext cx="3492360" cy="962640"/>
            <a:chOff x="900000" y="1793880"/>
            <a:chExt cx="3492360" cy="962640"/>
          </a:xfrm>
        </p:grpSpPr>
        <p:sp>
          <p:nvSpPr>
            <p:cNvPr id="225" name=""/>
            <p:cNvSpPr/>
            <p:nvPr/>
          </p:nvSpPr>
          <p:spPr>
            <a:xfrm>
              <a:off x="900000" y="1793880"/>
              <a:ext cx="349236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miss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lang="en-US" sz="22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0" lang="en-US" sz="22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– E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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– E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60560" y="185580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000" y="2281320"/>
              <a:ext cx="349236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miss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= |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– P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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– P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e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69280" y="6021360"/>
            <a:ext cx="5970240" cy="4752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it-IT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9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Times New Roman"/>
              </a:rPr>
              <a:t>stat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6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Times New Roman"/>
              </a:rPr>
              <a:t>syst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 10</a:t>
            </a:r>
            <a:r>
              <a:rPr b="1" lang="en-US" sz="2200" spc="-1" strike="noStrike" baseline="30000">
                <a:solidFill>
                  <a:srgbClr val="ff0000"/>
                </a:solidFill>
                <a:latin typeface="Times New Roman"/>
              </a:rPr>
              <a:t>-3          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first measuremen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604360" y="6553080"/>
            <a:ext cx="53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 rot="20607000">
            <a:off x="1331640" y="5445000"/>
            <a:ext cx="3552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15000"/>
                  </a:srgbClr>
                </a:solidFill>
                <a:latin typeface="Arial Black"/>
              </a:rPr>
              <a:t>PRELIMINA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15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108000" y="4941720"/>
            <a:ext cx="5638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Published result:  (6.91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0.34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ta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0.15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y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KLOE ’0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rcRect l="2319" t="8869" r="9565" b="8869"/>
          <a:stretch/>
        </p:blipFill>
        <p:spPr>
          <a:xfrm>
            <a:off x="4210200" y="1700280"/>
            <a:ext cx="4897440" cy="4572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6360" y="-17136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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 decays: first observation</a:t>
            </a:r>
            <a:endParaRPr b="0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080" y="6742080"/>
            <a:ext cx="31892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74400" y="1951200"/>
            <a:ext cx="17017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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001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Sig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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cc00"/>
                </a:solidFill>
                <a:latin typeface="Symbol"/>
                <a:ea typeface="Symbol"/>
              </a:rPr>
              <a:t>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57200" y="6162840"/>
            <a:ext cx="236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cc00"/>
                </a:solidFill>
                <a:latin typeface="Comic Sans MS"/>
              </a:rPr>
              <a:t>E</a:t>
            </a:r>
            <a:r>
              <a:rPr b="0" lang="it-IT" sz="2400" spc="-1" strike="noStrike" baseline="-25000">
                <a:solidFill>
                  <a:srgbClr val="00cc00"/>
                </a:solidFill>
                <a:latin typeface="Comic Sans MS"/>
              </a:rPr>
              <a:t>miss</a:t>
            </a:r>
            <a:r>
              <a:rPr b="0" lang="it-IT" sz="2400" spc="-1" strike="noStrike">
                <a:solidFill>
                  <a:srgbClr val="00cc00"/>
                </a:solidFill>
                <a:latin typeface="Comic Sans MS"/>
              </a:rPr>
              <a:t>-cP</a:t>
            </a:r>
            <a:r>
              <a:rPr b="0" lang="it-IT" sz="2400" spc="-1" strike="noStrike" baseline="-25000">
                <a:solidFill>
                  <a:srgbClr val="00cc00"/>
                </a:solidFill>
                <a:latin typeface="Comic Sans MS"/>
              </a:rPr>
              <a:t>miss</a:t>
            </a:r>
            <a:r>
              <a:rPr b="0" lang="it-IT" sz="2400" spc="-1" strike="noStrike">
                <a:solidFill>
                  <a:srgbClr val="00cc00"/>
                </a:solidFill>
                <a:latin typeface="Comic Sans MS"/>
              </a:rPr>
              <a:t>(Me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320" y="692280"/>
            <a:ext cx="656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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decay, only seen before, never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920" y="1217520"/>
            <a:ext cx="873432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lection requiring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crash + 2 tracks from IP with 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490 MeV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reject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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920" y="2260440"/>
            <a:ext cx="38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F identification: compa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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ected flight times, rejec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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k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280" y="3581280"/>
            <a:ext cx="39960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inematic closu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omentum,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obtained using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used to test the presence of the neutrin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50920" y="5218200"/>
          <a:ext cx="3564000" cy="116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5218200"/>
                    <a:ext cx="356400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6033960" y="6742080"/>
            <a:ext cx="27352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7864560" y="54000"/>
            <a:ext cx="1241280" cy="733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76320" y="533520"/>
            <a:ext cx="7543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604360" y="6553080"/>
            <a:ext cx="53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6580080"/>
            <a:ext cx="25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M. Martini, Spring Schoo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359800" y="2781360"/>
            <a:ext cx="4700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8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8800" spc="-1" strike="noStrike">
                <a:solidFill>
                  <a:srgbClr val="000000"/>
                </a:solidFill>
                <a:latin typeface="Times New Roman"/>
              </a:rPr>
              <a:t> decay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124000" y="1751040"/>
            <a:ext cx="5400720" cy="31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6360" y="-1411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99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-dominant BR</a:t>
            </a:r>
            <a:endParaRPr b="0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3080" y="6742080"/>
            <a:ext cx="31892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33960" y="6742080"/>
            <a:ext cx="27352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864560" y="54000"/>
            <a:ext cx="1241280" cy="733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76320" y="533520"/>
            <a:ext cx="7543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560" y="692280"/>
            <a:ext cx="8912160" cy="60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surement of the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bsolute BR is a unique possibility at t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factory (accuracy &lt;1%) thanks to the tagging and to the large KLOE acceptance for the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BR are inclusive of rad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OE can measure in the same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lute branching fraction (instead of rat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fe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1+2002 data sampl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 p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5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gge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million tagged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evaluate the absolute BR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million tagged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ed to evaluate systematic uncertain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million of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direct measurement of the life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d 99.64% of the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ays 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K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l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K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604360" y="6553080"/>
            <a:ext cx="53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52680" y="6580080"/>
            <a:ext cx="25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M. Martini, Spring Schoo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6360" y="-1411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99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-dominant BR</a:t>
            </a:r>
            <a:endParaRPr b="0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080" y="6742080"/>
            <a:ext cx="31892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33960" y="6742080"/>
            <a:ext cx="27352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7864560" y="54000"/>
            <a:ext cx="1241280" cy="7333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76320" y="533520"/>
            <a:ext cx="7543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240" y="620640"/>
            <a:ext cx="6645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solute BR </a:t>
            </a:r>
            <a:r>
              <a:rPr b="0" lang="en-US" sz="2000" spc="-1" strike="noStrike" u="sng">
                <a:solidFill>
                  <a:srgbClr val="cc00cc"/>
                </a:solidFill>
                <a:uFillTx/>
                <a:latin typeface="Times New Roman"/>
                <a:hlinkClick r:id="rId2" action="ppaction://hlinksldjump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51.5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44 ns, PRD 6 (1972), 1834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08000" y="1268280"/>
          <a:ext cx="5041800" cy="1784160"/>
        </p:xfrm>
        <a:graphic>
          <a:graphicData uri="http://schemas.openxmlformats.org/drawingml/2006/table">
            <a:tbl>
              <a:tblPr/>
              <a:tblGrid>
                <a:gridCol w="1897200"/>
                <a:gridCol w="487080"/>
                <a:gridCol w="2657520"/>
              </a:tblGrid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(K</a:t>
                      </a:r>
                      <a:r>
                        <a:rPr b="1" lang="it-IT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049 ± 0.0010 ± 0.00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(K</a:t>
                      </a:r>
                      <a:r>
                        <a:rPr b="1" lang="it-IT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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726 ± 0.0008 ± 0.0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(K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018 ± 0.0004 ± 0.0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(K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276 ± 0.0006 ± 0.0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8604360" y="6553080"/>
            <a:ext cx="53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52680" y="6580080"/>
            <a:ext cx="25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M. Martini, Spring Schoo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5508720" y="1978200"/>
          <a:ext cx="3529080" cy="44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1978200"/>
                    <a:ext cx="352908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19080" y="3319560"/>
            <a:ext cx="6190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per limit on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isible BR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5050"/>
                </a:solidFill>
                <a:latin typeface="Times New Roman"/>
              </a:rPr>
              <a:t>7.5 ·10</a:t>
            </a:r>
            <a:r>
              <a:rPr b="1" lang="en-US" sz="2000" spc="-1" strike="noStrike" baseline="30000">
                <a:solidFill>
                  <a:srgbClr val="ff5050"/>
                </a:solidFill>
                <a:latin typeface="Times New Roman"/>
              </a:rPr>
              <a:t>-3</a:t>
            </a:r>
            <a:r>
              <a:rPr b="1" lang="en-US" sz="2000" spc="-1" strike="noStrike">
                <a:solidFill>
                  <a:srgbClr val="ff5050"/>
                </a:solidFill>
                <a:latin typeface="Times New Roman"/>
              </a:rPr>
              <a:t> @ 90% C.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94240" y="4730760"/>
            <a:ext cx="4048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it-IT" sz="2200" spc="-1" strike="noStrike" baseline="-25000">
                <a:solidFill>
                  <a:srgbClr val="ff0000"/>
                </a:solidFill>
                <a:latin typeface="Times New Roman"/>
              </a:rPr>
              <a:t>KL </a:t>
            </a:r>
            <a:r>
              <a:rPr b="1" lang="it-IT" sz="2200" spc="-1" strike="noStrike">
                <a:solidFill>
                  <a:srgbClr val="ff0000"/>
                </a:solidFill>
                <a:latin typeface="Times New Roman"/>
              </a:rPr>
              <a:t>= (50.72 ± 0.14</a:t>
            </a:r>
            <a:r>
              <a:rPr b="1" lang="it-IT" sz="2200" spc="-1" strike="noStrike" baseline="-25000">
                <a:solidFill>
                  <a:srgbClr val="ff0000"/>
                </a:solidFill>
                <a:latin typeface="Times New Roman"/>
              </a:rPr>
              <a:t>stat</a:t>
            </a:r>
            <a:r>
              <a:rPr b="1" lang="it-IT" sz="2200" spc="-1" strike="noStrike">
                <a:solidFill>
                  <a:srgbClr val="ff0000"/>
                </a:solidFill>
                <a:latin typeface="Times New Roman"/>
              </a:rPr>
              <a:t> ± 0.36</a:t>
            </a:r>
            <a:r>
              <a:rPr b="1" lang="it-IT" sz="2200" spc="-1" strike="noStrike" baseline="-25000">
                <a:solidFill>
                  <a:srgbClr val="ff0000"/>
                </a:solidFill>
                <a:latin typeface="Times New Roman"/>
              </a:rPr>
              <a:t>sys</a:t>
            </a:r>
            <a:r>
              <a:rPr b="1" lang="it-IT" sz="2200" spc="-1" strike="noStrike">
                <a:solidFill>
                  <a:srgbClr val="ff0000"/>
                </a:solidFill>
                <a:latin typeface="Times New Roman"/>
              </a:rPr>
              <a:t>)  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-36360" y="3879720"/>
            <a:ext cx="8567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R depends on the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ifetime through the acceptance: Assuming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=1, we obtain an </a:t>
            </a:r>
            <a:r>
              <a:rPr b="0" lang="en-US" sz="2000" spc="-1" strike="noStrike" u="sng">
                <a:solidFill>
                  <a:srgbClr val="cc00cc"/>
                </a:solidFill>
                <a:uFillTx/>
                <a:latin typeface="Times New Roman"/>
                <a:hlinkClick r:id="rId5" action="ppaction://hlinksldjump"/>
              </a:rPr>
              <a:t>indirect measureme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the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ifetim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14360" y="2479680"/>
            <a:ext cx="31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Rare decays from PDG (0.003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920" y="5330880"/>
            <a:ext cx="87850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also been measured </a:t>
            </a:r>
            <a:r>
              <a:rPr b="0" lang="en-US" sz="2000" spc="-1" strike="noStrike" u="sng">
                <a:solidFill>
                  <a:srgbClr val="cc00cc"/>
                </a:solidFill>
                <a:uFillTx/>
                <a:latin typeface="Times New Roman"/>
                <a:hlinkClick r:id="rId6" action="ppaction://hlinksldjump"/>
              </a:rPr>
              <a:t>direct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agged by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Using a sample of 400 p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e obta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85000" y="6170760"/>
            <a:ext cx="46947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it-IT" sz="2200" spc="-1" strike="noStrike">
                <a:solidFill>
                  <a:srgbClr val="ff0000"/>
                </a:solidFill>
                <a:latin typeface="Times New Roman"/>
              </a:rPr>
              <a:t>(KLOE)= (50.87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± </a:t>
            </a:r>
            <a:r>
              <a:rPr b="1" lang="it-IT" sz="2200" spc="-1" strike="noStrike">
                <a:solidFill>
                  <a:srgbClr val="ff0000"/>
                </a:solidFill>
                <a:latin typeface="Times New Roman"/>
              </a:rPr>
              <a:t>0.16</a:t>
            </a:r>
            <a:r>
              <a:rPr b="1" lang="it-IT" sz="2200" spc="-1" strike="noStrike" baseline="-25000">
                <a:solidFill>
                  <a:srgbClr val="ff0000"/>
                </a:solidFill>
                <a:latin typeface="Times New Roman"/>
              </a:rPr>
              <a:t>stat</a:t>
            </a:r>
            <a:r>
              <a:rPr b="1" lang="it-IT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± </a:t>
            </a:r>
            <a:r>
              <a:rPr b="1" lang="it-IT" sz="2200" spc="-1" strike="noStrike">
                <a:solidFill>
                  <a:srgbClr val="ff0000"/>
                </a:solidFill>
                <a:latin typeface="Times New Roman"/>
              </a:rPr>
              <a:t>0.26</a:t>
            </a:r>
            <a:r>
              <a:rPr b="1" lang="it-IT" sz="2200" spc="-1" strike="noStrike" baseline="-25000">
                <a:solidFill>
                  <a:srgbClr val="ff0000"/>
                </a:solidFill>
                <a:latin typeface="Times New Roman"/>
              </a:rPr>
              <a:t>sys</a:t>
            </a:r>
            <a:r>
              <a:rPr b="1" lang="it-IT" sz="2200" spc="-1" strike="noStrike">
                <a:solidFill>
                  <a:srgbClr val="ff0000"/>
                </a:solidFill>
                <a:latin typeface="Times New Roman"/>
              </a:rPr>
              <a:t>) 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19640" y="1197000"/>
            <a:ext cx="216000" cy="1944720"/>
          </a:xfrm>
          <a:custGeom>
            <a:avLst/>
            <a:gdLst>
              <a:gd name="textAreaLeft" fmla="*/ 0 w 216000"/>
              <a:gd name="textAreaRight" fmla="*/ 7812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-1411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000099"/>
                </a:solidFill>
                <a:latin typeface="Times New Roman"/>
              </a:rPr>
              <a:t>us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 calculation</a:t>
            </a:r>
            <a:endParaRPr b="0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080" y="6742080"/>
            <a:ext cx="31892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33960" y="6742080"/>
            <a:ext cx="27352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864560" y="54000"/>
            <a:ext cx="1241280" cy="7333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6320" y="533520"/>
            <a:ext cx="7543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320" y="696960"/>
            <a:ext cx="883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st precise test of unitarity possible at present comes from 1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row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-6840" y="1765440"/>
            <a:ext cx="886752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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0.0042 ±0.0019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DG0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|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0015        from super-allowed 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rmi transitions, 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dec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|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0011        from semileptonic kaon decays (PDG 2002 f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14640" y="1230480"/>
            <a:ext cx="5130720" cy="475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|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|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|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|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1 –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-34920" y="4876920"/>
            <a:ext cx="91980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form factor at zero momentum transfer,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ure theory calculation (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T, latti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phase space integral, 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hort distance corrections  (1.023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mentum dependence of  vector and scalar form factors  (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 and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,t =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imes New Roman"/>
              </a:rPr>
              <a:t>e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magnetic correction (amplitude and phase space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80" y="3011400"/>
            <a:ext cx="541260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| from neutral K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l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partial decay width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641520" y="3618000"/>
          <a:ext cx="7789680" cy="120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1520" y="3618000"/>
                    <a:ext cx="778968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7068960" y="6021360"/>
          <a:ext cx="1463760" cy="609480"/>
        </p:xfrm>
        <a:graphic>
          <a:graphicData uri="http://schemas.openxmlformats.org/drawingml/2006/table">
            <a:tbl>
              <a:tblPr/>
              <a:tblGrid>
                <a:gridCol w="731880"/>
                <a:gridCol w="7318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e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8604360" y="6553080"/>
            <a:ext cx="53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52680" y="6580080"/>
            <a:ext cx="25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M. Martini, Spring Schoo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3203640" y="836640"/>
            <a:ext cx="5905440" cy="5400720"/>
            <a:chOff x="3203640" y="836640"/>
            <a:chExt cx="5905440" cy="5400720"/>
          </a:xfrm>
        </p:grpSpPr>
        <p:grpSp>
          <p:nvGrpSpPr>
            <p:cNvPr id="292" name=""/>
            <p:cNvGrpSpPr/>
            <p:nvPr/>
          </p:nvGrpSpPr>
          <p:grpSpPr>
            <a:xfrm>
              <a:off x="3203640" y="836640"/>
              <a:ext cx="5905440" cy="5400720"/>
              <a:chOff x="3203640" y="836640"/>
              <a:chExt cx="5905440" cy="5400720"/>
            </a:xfrm>
          </p:grpSpPr>
          <p:pic>
            <p:nvPicPr>
              <p:cNvPr id="293" name="" descr=""/>
              <p:cNvPicPr/>
              <p:nvPr/>
            </p:nvPicPr>
            <p:blipFill>
              <a:blip r:embed="rId1"/>
              <a:srcRect l="2213" t="0" r="0" b="0"/>
              <a:stretch/>
            </p:blipFill>
            <p:spPr>
              <a:xfrm>
                <a:off x="3492360" y="836640"/>
                <a:ext cx="5616720" cy="540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"/>
              <p:cNvSpPr/>
              <p:nvPr/>
            </p:nvSpPr>
            <p:spPr>
              <a:xfrm>
                <a:off x="3203640" y="979560"/>
                <a:ext cx="504720" cy="50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4343400" y="2386080"/>
              <a:ext cx="3433680" cy="1190520"/>
            </a:xfrm>
            <a:prstGeom prst="rect">
              <a:avLst/>
            </a:prstGeom>
            <a:solidFill>
              <a:srgbClr val="ffcc66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65920" y="2673360"/>
              <a:ext cx="1281240" cy="895320"/>
            </a:xfrm>
            <a:prstGeom prst="rect">
              <a:avLst/>
            </a:prstGeom>
            <a:solidFill>
              <a:srgbClr val="ffcc66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73080" y="6742080"/>
            <a:ext cx="31892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33960" y="6742080"/>
            <a:ext cx="27352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7864560" y="54000"/>
            <a:ext cx="1241280" cy="7333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76320" y="533520"/>
            <a:ext cx="7543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8000" y="-141120"/>
            <a:ext cx="7848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000099"/>
                </a:solidFill>
                <a:latin typeface="Times New Roman"/>
              </a:rPr>
              <a:t>us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 calc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765000"/>
            <a:ext cx="3429000" cy="33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are our resu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Symbol"/>
                <a:ea typeface="Symbol"/>
              </a:rPr>
              <a:t></a:t>
            </a:r>
            <a:r>
              <a:rPr b="1" lang="en-GB" sz="2000" spc="-1" strike="noStrike" baseline="-33000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GB" sz="2000" spc="-1" strike="noStrike">
                <a:solidFill>
                  <a:srgbClr val="008000"/>
                </a:solidFill>
                <a:latin typeface="Symbol"/>
                <a:ea typeface="Symbol"/>
              </a:rPr>
              <a:t></a:t>
            </a:r>
            <a:r>
              <a:rPr b="1" lang="en-GB" sz="20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1" lang="en-GB" sz="2000" spc="-1" strike="noStrike">
                <a:solidFill>
                  <a:srgbClr val="008000"/>
                </a:solidFill>
                <a:latin typeface="Symbol"/>
                <a:ea typeface="Symbol"/>
              </a:rPr>
              <a:t></a:t>
            </a:r>
            <a:r>
              <a:rPr b="1" lang="en-GB" sz="2000" spc="-1" strike="noStrike">
                <a:solidFill>
                  <a:srgbClr val="008000"/>
                </a:solidFill>
                <a:latin typeface="Times New Roman"/>
              </a:rPr>
              <a:t>from KL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44794"/>
                </a:solidFill>
                <a:latin typeface="Symbol"/>
                <a:ea typeface="Symbol"/>
              </a:rPr>
              <a:t></a:t>
            </a:r>
            <a:r>
              <a:rPr b="1" lang="en-GB" sz="2000" spc="-1" strike="noStrike" baseline="-33000">
                <a:solidFill>
                  <a:srgbClr val="944794"/>
                </a:solidFill>
                <a:latin typeface="Times New Roman"/>
              </a:rPr>
              <a:t>L</a:t>
            </a:r>
            <a:r>
              <a:rPr b="1" lang="en-GB" sz="2000" spc="-1" strike="noStrike">
                <a:solidFill>
                  <a:srgbClr val="944794"/>
                </a:solidFill>
                <a:latin typeface="Symbol"/>
                <a:ea typeface="Symbol"/>
              </a:rPr>
              <a:t></a:t>
            </a:r>
            <a:r>
              <a:rPr b="1" lang="en-GB" sz="2000" spc="-1" strike="noStrike">
                <a:solidFill>
                  <a:srgbClr val="944794"/>
                </a:solidFill>
                <a:latin typeface="Times New Roman"/>
                <a:ea typeface="Times New Roman"/>
              </a:rPr>
              <a:t>l</a:t>
            </a:r>
            <a:r>
              <a:rPr b="1" lang="en-GB" sz="2000" spc="-1" strike="noStrike">
                <a:solidFill>
                  <a:srgbClr val="944794"/>
                </a:solidFill>
                <a:latin typeface="Symbol"/>
                <a:ea typeface="Symbol"/>
              </a:rPr>
              <a:t></a:t>
            </a:r>
            <a:r>
              <a:rPr b="1" lang="en-GB" sz="2000" spc="-1" strike="noStrike">
                <a:solidFill>
                  <a:srgbClr val="944794"/>
                </a:solidFill>
                <a:latin typeface="Times New Roman"/>
              </a:rPr>
              <a:t>from KL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</a:t>
            </a:r>
            <a:r>
              <a:rPr b="1" lang="en-GB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</a:t>
            </a:r>
            <a:r>
              <a:rPr b="1" lang="en-GB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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 from E865</a:t>
            </a:r>
            <a:r>
              <a:rPr b="1" lang="en-GB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Symbol"/>
                <a:ea typeface="Symbol"/>
              </a:rPr>
              <a:t></a:t>
            </a:r>
            <a:r>
              <a:rPr b="1" lang="en-GB" sz="2000" spc="-1" strike="noStrike" baseline="-33000">
                <a:solidFill>
                  <a:srgbClr val="0000cc"/>
                </a:solidFill>
                <a:latin typeface="Times New Roman"/>
              </a:rPr>
              <a:t>L</a:t>
            </a:r>
            <a:r>
              <a:rPr b="1" lang="en-GB" sz="2000" spc="-1" strike="noStrike">
                <a:solidFill>
                  <a:srgbClr val="0000cc"/>
                </a:solidFill>
                <a:latin typeface="Symbol"/>
                <a:ea typeface="Symbol"/>
              </a:rPr>
              <a:t></a:t>
            </a:r>
            <a:r>
              <a:rPr b="1" lang="en-GB" sz="2000" spc="-1" strike="noStrike">
                <a:solidFill>
                  <a:srgbClr val="0000cc"/>
                </a:solidFill>
                <a:latin typeface="Times New Roman"/>
              </a:rPr>
              <a:t>l</a:t>
            </a:r>
            <a:r>
              <a:rPr b="1" lang="en-GB" sz="2000" spc="-1" strike="noStrike">
                <a:solidFill>
                  <a:srgbClr val="0000cc"/>
                </a:solidFill>
                <a:latin typeface="Symbol"/>
                <a:ea typeface="Symbol"/>
              </a:rPr>
              <a:t></a:t>
            </a:r>
            <a:r>
              <a:rPr b="1" lang="en-GB" sz="2000" spc="-1" strike="noStrike">
                <a:solidFill>
                  <a:srgbClr val="0000cc"/>
                </a:solidFill>
                <a:latin typeface="Times New Roman"/>
              </a:rPr>
              <a:t>from KT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9720"/>
                </a:solidFill>
                <a:latin typeface="Symbol"/>
                <a:ea typeface="Symbol"/>
              </a:rPr>
              <a:t></a:t>
            </a:r>
            <a:r>
              <a:rPr b="1" lang="en-GB" sz="2000" spc="-1" strike="noStrike" baseline="-33000">
                <a:solidFill>
                  <a:srgbClr val="e09720"/>
                </a:solidFill>
                <a:latin typeface="Times New Roman"/>
              </a:rPr>
              <a:t>L</a:t>
            </a:r>
            <a:r>
              <a:rPr b="1" lang="en-GB" sz="2000" spc="-1" strike="noStrike">
                <a:solidFill>
                  <a:srgbClr val="e09720"/>
                </a:solidFill>
                <a:latin typeface="Symbol"/>
                <a:ea typeface="Symbol"/>
              </a:rPr>
              <a:t></a:t>
            </a:r>
            <a:r>
              <a:rPr b="1" lang="en-GB" sz="2000" spc="-1" strike="noStrike">
                <a:solidFill>
                  <a:srgbClr val="e09720"/>
                </a:solidFill>
                <a:latin typeface="Times New Roman"/>
              </a:rPr>
              <a:t>e</a:t>
            </a:r>
            <a:r>
              <a:rPr b="1" lang="en-GB" sz="2000" spc="-1" strike="noStrike">
                <a:solidFill>
                  <a:srgbClr val="e09720"/>
                </a:solidFill>
                <a:latin typeface="Symbol"/>
                <a:ea typeface="Symbol"/>
              </a:rPr>
              <a:t></a:t>
            </a:r>
            <a:r>
              <a:rPr b="1" lang="en-GB" sz="2000" spc="-1" strike="noStrike">
                <a:solidFill>
                  <a:srgbClr val="e09720"/>
                </a:solidFill>
                <a:latin typeface="Times New Roman"/>
              </a:rPr>
              <a:t>from NA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9720"/>
                </a:solidFill>
                <a:latin typeface="Symbol"/>
                <a:ea typeface="Symbol"/>
              </a:rPr>
              <a:t></a:t>
            </a:r>
            <a:r>
              <a:rPr b="1" lang="en-GB" sz="2000" spc="-1" strike="noStrike" baseline="33000">
                <a:solidFill>
                  <a:srgbClr val="e09720"/>
                </a:solidFill>
                <a:latin typeface="Times New Roman"/>
              </a:rPr>
              <a:t>+/-</a:t>
            </a:r>
            <a:r>
              <a:rPr b="1" lang="en-GB" sz="2000" spc="-1" strike="noStrike">
                <a:solidFill>
                  <a:srgbClr val="e09720"/>
                </a:solidFill>
                <a:latin typeface="Symbol"/>
                <a:ea typeface="Symbol"/>
              </a:rPr>
              <a:t></a:t>
            </a:r>
            <a:r>
              <a:rPr b="1" lang="en-GB" sz="2000" spc="-1" strike="noStrike">
                <a:solidFill>
                  <a:srgbClr val="e09720"/>
                </a:solidFill>
                <a:latin typeface="Times New Roman"/>
              </a:rPr>
              <a:t>e</a:t>
            </a:r>
            <a:r>
              <a:rPr b="1" lang="en-GB" sz="2000" spc="-1" strike="noStrike">
                <a:solidFill>
                  <a:srgbClr val="e09720"/>
                </a:solidFill>
                <a:latin typeface="Symbol"/>
                <a:ea typeface="Symbol"/>
              </a:rPr>
              <a:t></a:t>
            </a:r>
            <a:r>
              <a:rPr b="1" lang="en-GB" sz="2000" spc="-1" strike="noStrike">
                <a:solidFill>
                  <a:srgbClr val="e09720"/>
                </a:solidFill>
                <a:latin typeface="Times New Roman"/>
              </a:rPr>
              <a:t>from NA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(K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) from PDG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604360" y="6553080"/>
            <a:ext cx="53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52680" y="6580080"/>
            <a:ext cx="25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M. Martini, Spring Schoo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54560" y="3105000"/>
            <a:ext cx="4707000" cy="223920"/>
          </a:xfrm>
          <a:prstGeom prst="rect">
            <a:avLst/>
          </a:prstGeom>
          <a:solidFill>
            <a:srgbClr val="ff33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95280" y="3213000"/>
            <a:ext cx="4247640" cy="2122560"/>
            <a:chOff x="395280" y="3213000"/>
            <a:chExt cx="4247640" cy="2122560"/>
          </a:xfrm>
        </p:grpSpPr>
        <p:sp>
          <p:nvSpPr>
            <p:cNvPr id="307" name=""/>
            <p:cNvSpPr/>
            <p:nvPr/>
          </p:nvSpPr>
          <p:spPr>
            <a:xfrm>
              <a:off x="395280" y="4510080"/>
              <a:ext cx="2304720" cy="825480"/>
            </a:xfrm>
            <a:prstGeom prst="rect">
              <a:avLst/>
            </a:prstGeom>
            <a:solidFill>
              <a:srgbClr val="ff3300">
                <a:alpha val="51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CKM workshop 20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700000" y="3213000"/>
              <a:ext cx="1942920" cy="17287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808200" y="5189400"/>
            <a:ext cx="5492520" cy="1227960"/>
            <a:chOff x="808200" y="5189400"/>
            <a:chExt cx="5492520" cy="1227960"/>
          </a:xfrm>
        </p:grpSpPr>
        <p:sp>
          <p:nvSpPr>
            <p:cNvPr id="310" name=""/>
            <p:cNvSpPr/>
            <p:nvPr/>
          </p:nvSpPr>
          <p:spPr>
            <a:xfrm>
              <a:off x="4283280" y="5189400"/>
              <a:ext cx="2017440" cy="574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556000" y="5548320"/>
              <a:ext cx="1655640" cy="504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08200" y="5713560"/>
              <a:ext cx="1747800" cy="703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D 6 (1972), 183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586560" y="5157720"/>
            <a:ext cx="2017800" cy="5749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8000" y="-10044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0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3080" y="6742080"/>
            <a:ext cx="31892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33960" y="6742080"/>
            <a:ext cx="27352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7864560" y="54000"/>
            <a:ext cx="1241280" cy="7333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6320" y="533520"/>
            <a:ext cx="7543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20" y="690480"/>
            <a:ext cx="85168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With the data collected during 2001-2002 data taking, KLOE h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d the best upper limit on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d the main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R’s with 0.5%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d in two independent ways the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ifetim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0.5 %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ant contribution to the measurement of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Next in l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 search for  BR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 result on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 of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mileptonic form factor slo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LOE expects to collect 2 f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the end of 2005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s allowing to improve the search for rare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cays and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erference stud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604360" y="6553080"/>
            <a:ext cx="53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52680" y="6580080"/>
            <a:ext cx="25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M. Martini, Spring Schoo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669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DA</a:t>
            </a:r>
            <a:r>
              <a:rPr b="0" i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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NE: the Frascati </a:t>
            </a:r>
            <a:r>
              <a:rPr b="0" i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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- factory</a:t>
            </a:r>
            <a:endParaRPr b="0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533520"/>
            <a:ext cx="7543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103400" cy="739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8834" r="0" b="1275"/>
          <a:stretch/>
        </p:blipFill>
        <p:spPr>
          <a:xfrm>
            <a:off x="1440" y="1116000"/>
            <a:ext cx="3656160" cy="5056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24360" y="981000"/>
            <a:ext cx="5181480" cy="2401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2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llider @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= M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= 1019.4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interaction region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KLOE –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R/FINU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1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eparate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en-US" sz="20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en-US" sz="20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rin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inimize beam-beam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rossing angle: 12.5 mr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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.5 MeV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6580080"/>
            <a:ext cx="25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M. Martini, Spring Schoo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080" y="6742080"/>
            <a:ext cx="31892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33960" y="6742080"/>
            <a:ext cx="28180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04360" y="6553080"/>
            <a:ext cx="53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4067280" y="3284640"/>
            <a:ext cx="481968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059280" y="2708280"/>
            <a:ext cx="340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99"/>
                </a:solidFill>
                <a:latin typeface="Times New Roman"/>
              </a:rPr>
              <a:t>Backu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50714" b="0"/>
          <a:stretch/>
        </p:blipFill>
        <p:spPr>
          <a:xfrm>
            <a:off x="1258920" y="2492280"/>
            <a:ext cx="1698480" cy="20354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rcRect l="50714" t="0" r="0" b="0"/>
          <a:stretch/>
        </p:blipFill>
        <p:spPr>
          <a:xfrm>
            <a:off x="6516720" y="2492280"/>
            <a:ext cx="1695240" cy="20322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8748720" y="6524640"/>
            <a:ext cx="39528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041920" y="-41400"/>
            <a:ext cx="392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</a:t>
            </a:r>
            <a:r>
              <a:rPr b="0" i="1" lang="it-IT" sz="32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S</a:t>
            </a:r>
            <a:r>
              <a:rPr b="0" i="1" lang="it-IT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semileptonic dec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03680" y="7959600"/>
            <a:ext cx="358200" cy="481680"/>
          </a:xfrm>
          <a:custGeom>
            <a:avLst/>
            <a:gdLst>
              <a:gd name="textAreaLeft" fmla="*/ 360 w 358200"/>
              <a:gd name="textAreaRight" fmla="*/ 357840 w 358200"/>
              <a:gd name="textAreaTop" fmla="*/ 360 h 481680"/>
              <a:gd name="textAreaBottom" fmla="*/ 481320 h 481680"/>
            </a:gdLst>
            <a:ahLst/>
            <a:rect l="textAreaLeft" t="textAreaTop" r="textAreaRight" b="textAreaBottom"/>
            <a:pathLst>
              <a:path w="21600" h="29039">
                <a:moveTo>
                  <a:pt x="101" y="0"/>
                </a:moveTo>
                <a:arcTo wR="101" hR="101" stAng="16200000" swAng="-5400000"/>
                <a:lnTo>
                  <a:pt x="0" y="28938"/>
                </a:lnTo>
                <a:arcTo wR="101" hR="101" stAng="10800000" swAng="-5400000"/>
                <a:lnTo>
                  <a:pt x="21499" y="29039"/>
                </a:lnTo>
                <a:arcTo wR="101" hR="101" stAng="5400000" swAng="-5400000"/>
                <a:lnTo>
                  <a:pt x="21600" y="101"/>
                </a:lnTo>
                <a:arcTo wR="101" hR="10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3080" y="6742080"/>
            <a:ext cx="31892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7864560" y="54000"/>
            <a:ext cx="1241280" cy="7333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76320" y="533520"/>
            <a:ext cx="7543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6033960" y="6524640"/>
            <a:ext cx="3110040" cy="333360"/>
            <a:chOff x="6033960" y="6524640"/>
            <a:chExt cx="3110040" cy="333360"/>
          </a:xfrm>
        </p:grpSpPr>
        <p:sp>
          <p:nvSpPr>
            <p:cNvPr id="332" name=""/>
            <p:cNvSpPr/>
            <p:nvPr/>
          </p:nvSpPr>
          <p:spPr>
            <a:xfrm>
              <a:off x="6033960" y="6742080"/>
              <a:ext cx="27352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748720" y="6524640"/>
              <a:ext cx="39528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352680" y="6580080"/>
            <a:ext cx="25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M. Martini, Spring Schoo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rcRect l="33160" t="36123" r="878" b="14806"/>
          <a:stretch/>
        </p:blipFill>
        <p:spPr>
          <a:xfrm>
            <a:off x="4211640" y="990720"/>
            <a:ext cx="4788000" cy="50418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4363920" y="1523880"/>
            <a:ext cx="270360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—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M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si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04960" y="5437080"/>
            <a:ext cx="177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–c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M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8920" y="836640"/>
            <a:ext cx="34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gnal spectrum sensitive to the presence of a photon in the final st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8000" y="2209680"/>
            <a:ext cx="3435480" cy="1434600"/>
          </a:xfrm>
          <a:prstGeom prst="rect">
            <a:avLst/>
          </a:prstGeom>
          <a:noFill/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00"/>
                </a:solidFill>
                <a:latin typeface="Times New Roman"/>
              </a:rPr>
              <a:t>Include radiative effects through an IR-finite treatment in MC (no energy cutoff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8000" y="3878280"/>
            <a:ext cx="335268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 efficiency  is evaluated by charge,  using data control sampl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ing close to IP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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 (24.1±0.1± 0.2)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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 (23.6±0.1 ± 0.2)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020000" y="604080"/>
            <a:ext cx="1993680" cy="2331360"/>
            <a:chOff x="7020000" y="604080"/>
            <a:chExt cx="1993680" cy="2331360"/>
          </a:xfrm>
        </p:grpSpPr>
        <p:grpSp>
          <p:nvGrpSpPr>
            <p:cNvPr id="342" name=""/>
            <p:cNvGrpSpPr/>
            <p:nvPr/>
          </p:nvGrpSpPr>
          <p:grpSpPr>
            <a:xfrm>
              <a:off x="7020000" y="604080"/>
              <a:ext cx="1993680" cy="2331360"/>
              <a:chOff x="7020000" y="604080"/>
              <a:chExt cx="1993680" cy="2331360"/>
            </a:xfrm>
          </p:grpSpPr>
          <p:pic>
            <p:nvPicPr>
              <p:cNvPr id="343" name="" descr=""/>
              <p:cNvPicPr/>
              <p:nvPr/>
            </p:nvPicPr>
            <p:blipFill>
              <a:blip r:embed="rId1"/>
              <a:srcRect l="19728" t="11379" r="18994" b="7325"/>
              <a:stretch/>
            </p:blipFill>
            <p:spPr>
              <a:xfrm>
                <a:off x="7020000" y="1012680"/>
                <a:ext cx="1993680" cy="192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 flipV="1">
                <a:off x="7988400" y="1050120"/>
                <a:ext cx="718560" cy="941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8195600">
                <a:off x="8205480" y="844200"/>
                <a:ext cx="775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r>
                  <a:rPr b="1" lang="en-US" sz="1600" spc="-1" strike="noStrike" baseline="-25000">
                    <a:solidFill>
                      <a:srgbClr val="ff0000"/>
                    </a:solidFill>
                    <a:latin typeface="Times New Roman"/>
                  </a:rPr>
                  <a:t>L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 di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997040" y="1138320"/>
                <a:ext cx="146160" cy="619920"/>
              </a:xfrm>
              <a:custGeom>
                <a:avLst/>
                <a:gdLst/>
                <a:ahLst/>
                <a:rect l="l" t="t" r="r" b="b"/>
                <a:pathLst>
                  <a:path w="120" h="508">
                    <a:moveTo>
                      <a:pt x="36" y="0"/>
                    </a:moveTo>
                    <a:cubicBezTo>
                      <a:pt x="43" y="20"/>
                      <a:pt x="28" y="51"/>
                      <a:pt x="24" y="72"/>
                    </a:cubicBezTo>
                    <a:cubicBezTo>
                      <a:pt x="23" y="80"/>
                      <a:pt x="22" y="88"/>
                      <a:pt x="20" y="96"/>
                    </a:cubicBezTo>
                    <a:cubicBezTo>
                      <a:pt x="18" y="104"/>
                      <a:pt x="12" y="120"/>
                      <a:pt x="12" y="120"/>
                    </a:cubicBezTo>
                    <a:cubicBezTo>
                      <a:pt x="7" y="152"/>
                      <a:pt x="3" y="183"/>
                      <a:pt x="0" y="216"/>
                    </a:cubicBezTo>
                    <a:cubicBezTo>
                      <a:pt x="6" y="233"/>
                      <a:pt x="1" y="252"/>
                      <a:pt x="4" y="272"/>
                    </a:cubicBezTo>
                    <a:cubicBezTo>
                      <a:pt x="12" y="329"/>
                      <a:pt x="25" y="377"/>
                      <a:pt x="56" y="424"/>
                    </a:cubicBezTo>
                    <a:cubicBezTo>
                      <a:pt x="70" y="445"/>
                      <a:pt x="66" y="465"/>
                      <a:pt x="88" y="480"/>
                    </a:cubicBezTo>
                    <a:cubicBezTo>
                      <a:pt x="91" y="484"/>
                      <a:pt x="92" y="489"/>
                      <a:pt x="96" y="492"/>
                    </a:cubicBezTo>
                    <a:cubicBezTo>
                      <a:pt x="103" y="498"/>
                      <a:pt x="120" y="495"/>
                      <a:pt x="120" y="508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153280" y="1773000"/>
                <a:ext cx="624240" cy="82800"/>
              </a:xfrm>
              <a:custGeom>
                <a:avLst/>
                <a:gdLst/>
                <a:ahLst/>
                <a:rect l="l" t="t" r="r" b="b"/>
                <a:pathLst>
                  <a:path w="512" h="68">
                    <a:moveTo>
                      <a:pt x="0" y="0"/>
                    </a:moveTo>
                    <a:cubicBezTo>
                      <a:pt x="32" y="11"/>
                      <a:pt x="20" y="20"/>
                      <a:pt x="52" y="20"/>
                    </a:cubicBezTo>
                    <a:cubicBezTo>
                      <a:pt x="63" y="20"/>
                      <a:pt x="63" y="30"/>
                      <a:pt x="66" y="32"/>
                    </a:cubicBezTo>
                    <a:cubicBezTo>
                      <a:pt x="74" y="37"/>
                      <a:pt x="84" y="36"/>
                      <a:pt x="84" y="36"/>
                    </a:cubicBezTo>
                    <a:cubicBezTo>
                      <a:pt x="99" y="58"/>
                      <a:pt x="134" y="63"/>
                      <a:pt x="160" y="68"/>
                    </a:cubicBezTo>
                    <a:cubicBezTo>
                      <a:pt x="242" y="66"/>
                      <a:pt x="326" y="68"/>
                      <a:pt x="408" y="56"/>
                    </a:cubicBezTo>
                    <a:cubicBezTo>
                      <a:pt x="416" y="53"/>
                      <a:pt x="424" y="50"/>
                      <a:pt x="432" y="48"/>
                    </a:cubicBezTo>
                    <a:cubicBezTo>
                      <a:pt x="439" y="47"/>
                      <a:pt x="445" y="46"/>
                      <a:pt x="452" y="44"/>
                    </a:cubicBezTo>
                    <a:cubicBezTo>
                      <a:pt x="460" y="42"/>
                      <a:pt x="476" y="36"/>
                      <a:pt x="476" y="36"/>
                    </a:cubicBezTo>
                    <a:cubicBezTo>
                      <a:pt x="499" y="13"/>
                      <a:pt x="477" y="32"/>
                      <a:pt x="500" y="20"/>
                    </a:cubicBezTo>
                    <a:cubicBezTo>
                      <a:pt x="504" y="18"/>
                      <a:pt x="512" y="12"/>
                      <a:pt x="512" y="12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8099640" y="1716840"/>
              <a:ext cx="110880" cy="1108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6360" y="-1411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99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-dominant BR</a:t>
            </a:r>
            <a:endParaRPr b="0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3080" y="6742080"/>
            <a:ext cx="31892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33960" y="6742080"/>
            <a:ext cx="27352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7864560" y="54000"/>
            <a:ext cx="1241280" cy="7333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76320" y="533520"/>
            <a:ext cx="7543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984360" y="2421000"/>
            <a:ext cx="988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3284640"/>
            <a:ext cx="6732720" cy="16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utral dec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trigger efficiency for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ays in FV /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action in EMC /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unch-th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Requires the K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ions to satisfy the trigger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1844640"/>
            <a:ext cx="6985080" cy="15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rged dec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erence effect between tracks from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s  the reconstruction efficiency for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small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Cut on the opening angle of K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p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948360" y="2836080"/>
            <a:ext cx="2087640" cy="2383560"/>
            <a:chOff x="6948360" y="2836080"/>
            <a:chExt cx="2087640" cy="2383560"/>
          </a:xfrm>
        </p:grpSpPr>
        <p:grpSp>
          <p:nvGrpSpPr>
            <p:cNvPr id="358" name=""/>
            <p:cNvGrpSpPr/>
            <p:nvPr/>
          </p:nvGrpSpPr>
          <p:grpSpPr>
            <a:xfrm>
              <a:off x="6948360" y="2836080"/>
              <a:ext cx="2087640" cy="2383560"/>
              <a:chOff x="6948360" y="2836080"/>
              <a:chExt cx="2087640" cy="2383560"/>
            </a:xfrm>
          </p:grpSpPr>
          <p:pic>
            <p:nvPicPr>
              <p:cNvPr id="359" name="" descr=""/>
              <p:cNvPicPr/>
              <p:nvPr/>
            </p:nvPicPr>
            <p:blipFill>
              <a:blip r:embed="rId3"/>
              <a:srcRect l="19728" t="11379" r="18994" b="7325"/>
              <a:stretch/>
            </p:blipFill>
            <p:spPr>
              <a:xfrm>
                <a:off x="6948360" y="3208680"/>
                <a:ext cx="2087640" cy="20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 flipV="1">
                <a:off x="7961400" y="3239280"/>
                <a:ext cx="752400" cy="984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195600">
                <a:off x="8132040" y="3076200"/>
                <a:ext cx="775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r>
                  <a:rPr b="1" lang="en-US" sz="1600" spc="-1" strike="noStrike" baseline="-25000">
                    <a:solidFill>
                      <a:srgbClr val="ff0000"/>
                    </a:solidFill>
                    <a:latin typeface="Times New Roman"/>
                  </a:rPr>
                  <a:t>L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 di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90440" y="4542840"/>
                <a:ext cx="988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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049240" y="3324960"/>
                <a:ext cx="173520" cy="57960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223120" y="3904560"/>
                <a:ext cx="579960" cy="114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223120" y="3904560"/>
                <a:ext cx="347400" cy="925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7295760" y="3904560"/>
                <a:ext cx="927360" cy="925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7064640" y="3904560"/>
                <a:ext cx="1158480" cy="404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 flipV="1">
                <a:off x="7411680" y="3498480"/>
                <a:ext cx="811080" cy="40608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164440" y="3845880"/>
                <a:ext cx="116280" cy="1159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7382520" y="3484440"/>
              <a:ext cx="115920" cy="5724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990560" y="3324960"/>
              <a:ext cx="115920" cy="5724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772840" y="3991320"/>
              <a:ext cx="115920" cy="5724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541720" y="4831200"/>
              <a:ext cx="115920" cy="5760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238160" y="4772520"/>
              <a:ext cx="115920" cy="5760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05600" y="4281120"/>
              <a:ext cx="115920" cy="57240"/>
            </a:xfrm>
            <a:prstGeom prst="ellipse">
              <a:avLst/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0" y="549360"/>
            <a:ext cx="738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ag efficiency slightly depends on the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p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2046240" y="981000"/>
          <a:ext cx="2603520" cy="1077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46240" y="981000"/>
                    <a:ext cx="260352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250920" y="558972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these requireme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ag bias is reduced to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6" action="ppaction://hlinksldjump"/>
              </a:rPr>
              <a:t>1-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4500720" y="5661000"/>
          <a:ext cx="4392360" cy="720720"/>
        </p:xfrm>
        <a:graphic>
          <a:graphicData uri="http://schemas.openxmlformats.org/drawingml/2006/table">
            <a:tbl>
              <a:tblPr/>
              <a:tblGrid>
                <a:gridCol w="563400"/>
                <a:gridCol w="876240"/>
                <a:gridCol w="1008000"/>
                <a:gridCol w="1008360"/>
                <a:gridCol w="936360"/>
              </a:tblGrid>
              <a:tr h="34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400" spc="-1" strike="noStrike" baseline="30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400" spc="-1" strike="noStrike" baseline="30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400" spc="-1" strike="noStrike" baseline="30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4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e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4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4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400" spc="-1" strike="noStrike" baseline="30000">
                          <a:solidFill>
                            <a:srgbClr val="000099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r>
                        <a:rPr b="1" lang="it-IT" sz="1600" spc="-1" strike="noStrike" baseline="-25000">
                          <a:solidFill>
                            <a:srgbClr val="ff0000"/>
                          </a:solidFill>
                          <a:latin typeface="Times New Roman"/>
                        </a:rPr>
                        <a:t>t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998(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986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984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.017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381" name=""/>
          <p:cNvSpPr/>
          <p:nvPr/>
        </p:nvSpPr>
        <p:spPr>
          <a:xfrm>
            <a:off x="3352680" y="6580080"/>
            <a:ext cx="25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M. Martini, Spring Schoo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6360" y="-1411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99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-dominant BR</a:t>
            </a:r>
            <a:endParaRPr b="0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080" y="6742080"/>
            <a:ext cx="31892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33960" y="6742080"/>
            <a:ext cx="27352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6320" y="533520"/>
            <a:ext cx="7543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rcRect l="4782" t="11680" r="8255" b="8307"/>
          <a:stretch/>
        </p:blipFill>
        <p:spPr>
          <a:xfrm>
            <a:off x="5076720" y="836640"/>
            <a:ext cx="4032360" cy="3709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6093000" y="4792680"/>
            <a:ext cx="251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Lesser of Pmiss-Emiss in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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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hyp. (Me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8000" y="620640"/>
            <a:ext cx="4824360" cy="2756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Charged decay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ed by closing the  kinematic at the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tex:        |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-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cc00cc"/>
                </a:solidFill>
                <a:uFillTx/>
                <a:latin typeface="Times New Roman"/>
                <a:hlinkClick r:id="rId2" action="ppaction://hlinksldjump"/>
              </a:rPr>
              <a:t>Radiative correctio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ly  included i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onte Carlo 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are fit with a linear combination of 3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C shap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9280" y="3500280"/>
            <a:ext cx="4753080" cy="31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Neutral decay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hoton </a:t>
            </a:r>
            <a:r>
              <a:rPr b="0" lang="en-US" sz="2000" spc="-1" strike="noStrike" u="sng">
                <a:solidFill>
                  <a:srgbClr val="cc00cc"/>
                </a:solidFill>
                <a:uFillTx/>
                <a:latin typeface="Times New Roman"/>
                <a:hlinkClick r:id="rId3" action="ppaction://hlinksldjump"/>
              </a:rPr>
              <a:t>vertex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nstruc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using cluster time/position an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ledge  of the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mentum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rom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ed inside FV. Inclusive cou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hoton multiplicit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election efficiency 99.2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idual bkg (mainl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subtra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08000" y="3429000"/>
            <a:ext cx="4824360" cy="316872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2680" y="6580080"/>
            <a:ext cx="25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M. Martini, Spring Schoo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848720" y="115920"/>
            <a:ext cx="118728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>
            <a:hlinkClick r:id="rId4" action="ppaction://hlinksldjump"/>
          </p:cNvPr>
          <p:cNvSpPr/>
          <p:nvPr/>
        </p:nvSpPr>
        <p:spPr>
          <a:xfrm>
            <a:off x="8065440" y="15084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6360" y="-1411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99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-dominant BR</a:t>
            </a:r>
            <a:endParaRPr b="0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080" y="6742080"/>
            <a:ext cx="31892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33960" y="6742080"/>
            <a:ext cx="27352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7864560" y="54000"/>
            <a:ext cx="1241280" cy="7333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76320" y="533520"/>
            <a:ext cx="7543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2240" y="662040"/>
            <a:ext cx="778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bsolute BR result 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K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51.5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0.44 ns, PRD 6 (1972), 183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971640" y="1359000"/>
          <a:ext cx="6697440" cy="2100240"/>
        </p:xfrm>
        <a:graphic>
          <a:graphicData uri="http://schemas.openxmlformats.org/drawingml/2006/table">
            <a:tbl>
              <a:tblPr/>
              <a:tblGrid>
                <a:gridCol w="2520720"/>
                <a:gridCol w="648000"/>
                <a:gridCol w="3528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(K</a:t>
                      </a:r>
                      <a:r>
                        <a:rPr b="0" lang="it-IT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049 ± 0.0010 ± 0.00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(K</a:t>
                      </a:r>
                      <a:r>
                        <a:rPr b="0" lang="it-IT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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726 ± 0.0008 ± 0.00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(K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018 ± 0.0004 ± 0.00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(K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276 ± 0.0006 ± 0.0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971640" y="4221000"/>
          <a:ext cx="6696000" cy="2286000"/>
        </p:xfrm>
        <a:graphic>
          <a:graphicData uri="http://schemas.openxmlformats.org/drawingml/2006/table">
            <a:tbl>
              <a:tblPr/>
              <a:tblGrid>
                <a:gridCol w="1339920"/>
                <a:gridCol w="1338120"/>
                <a:gridCol w="1339920"/>
                <a:gridCol w="1338120"/>
                <a:gridCol w="13399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it-IT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e</a:t>
                      </a:r>
                      <a:r>
                        <a:rPr b="0" lang="it-IT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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400" spc="-1" strike="noStrike" baseline="30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400" spc="-1" strike="noStrike" baseline="30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400" spc="-1" strike="noStrike" baseline="30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400" spc="-1" strike="noStrike" baseline="30000">
                          <a:solidFill>
                            <a:srgbClr val="000099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el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00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00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00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00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ha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000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000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00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Tag bi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00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000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00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000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Life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00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00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00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.0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402" name=""/>
          <p:cNvSpPr/>
          <p:nvPr/>
        </p:nvSpPr>
        <p:spPr>
          <a:xfrm>
            <a:off x="70920" y="3594240"/>
            <a:ext cx="48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tributions to the systematic err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52680" y="6580080"/>
            <a:ext cx="25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M. Martini, Spring Schoo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6360" y="-1411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99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-dominant BR</a:t>
            </a:r>
            <a:endParaRPr b="0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3080" y="6742080"/>
            <a:ext cx="31892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33960" y="6742080"/>
            <a:ext cx="27352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320" y="533520"/>
            <a:ext cx="7543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539640" y="1484280"/>
          <a:ext cx="4249800" cy="5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42498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"/>
          <p:cNvSpPr/>
          <p:nvPr/>
        </p:nvSpPr>
        <p:spPr>
          <a:xfrm>
            <a:off x="5508720" y="141300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are decays from PD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0.003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3640" y="2251080"/>
            <a:ext cx="737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per limit on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isible BR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7.5 ·10</a:t>
            </a:r>
            <a:r>
              <a:rPr b="1" lang="en-US" sz="2400" spc="-1" strike="noStrike" baseline="30000">
                <a:solidFill>
                  <a:srgbClr val="ff5050"/>
                </a:solidFill>
                <a:latin typeface="Times New Roman"/>
              </a:rPr>
              <a:t>-3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 @ 90% C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35280" y="4076640"/>
            <a:ext cx="5113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ssum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R=1, we obtain an indirect measurement of the K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lifetime: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85200" y="5373720"/>
            <a:ext cx="440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</a:rPr>
              <a:t>KL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= (50.72 ± 0.14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</a:rPr>
              <a:t>stat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± 0.36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</a:rPr>
              <a:t>sys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) 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40" y="73980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umming up the obtained BR’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126720" y="2852640"/>
            <a:ext cx="3365640" cy="3607560"/>
            <a:chOff x="126720" y="2852640"/>
            <a:chExt cx="3365640" cy="3607560"/>
          </a:xfrm>
        </p:grpSpPr>
        <p:pic>
          <p:nvPicPr>
            <p:cNvPr id="416" name="" descr=""/>
            <p:cNvPicPr/>
            <p:nvPr/>
          </p:nvPicPr>
          <p:blipFill>
            <a:blip r:embed="rId3"/>
            <a:srcRect l="22991" t="0" r="0" b="0"/>
            <a:stretch/>
          </p:blipFill>
          <p:spPr>
            <a:xfrm>
              <a:off x="455760" y="2852640"/>
              <a:ext cx="3036600" cy="32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126720" y="3068640"/>
              <a:ext cx="54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r>
                <a:rPr b="1" lang="it-IT" sz="2400" spc="-1" strike="noStrike" baseline="-25000">
                  <a:solidFill>
                    <a:srgbClr val="ff0000"/>
                  </a:solidFill>
                  <a:latin typeface="Times New Roman"/>
                </a:rPr>
                <a:t>F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6520" y="5950080"/>
              <a:ext cx="249264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</a:t>
              </a:r>
              <a:r>
                <a:rPr b="1" lang="it-IT" sz="2400" spc="-1" strike="noStrike" baseline="-25000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it-IT" sz="2400" spc="-1" strike="noStrike">
                  <a:solidFill>
                    <a:srgbClr val="ff0000"/>
                  </a:solidFill>
                  <a:latin typeface="Times New Roman"/>
                </a:rPr>
                <a:t> (c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 flipV="1">
            <a:off x="2627280" y="4797000"/>
            <a:ext cx="0" cy="9939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1006200" y="4832280"/>
            <a:ext cx="163332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22560" y="5059440"/>
            <a:ext cx="13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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 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35280" y="3141720"/>
            <a:ext cx="5112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 depends on the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fetime through the accept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352680" y="6580080"/>
            <a:ext cx="25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M. Martini, Spring Schoo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848720" y="115920"/>
            <a:ext cx="118728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>
            <a:hlinkClick r:id="rId4" action="ppaction://hlinksldjump"/>
          </p:cNvPr>
          <p:cNvSpPr/>
          <p:nvPr/>
        </p:nvSpPr>
        <p:spPr>
          <a:xfrm>
            <a:off x="8065440" y="15084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rcRect l="0" t="0" r="0" b="939"/>
          <a:stretch/>
        </p:blipFill>
        <p:spPr>
          <a:xfrm>
            <a:off x="4498920" y="558720"/>
            <a:ext cx="4537080" cy="40561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2160" y="620640"/>
            <a:ext cx="28692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sample used 400 p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1484280"/>
            <a:ext cx="4643280" cy="2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least 3 neutral cluster in EM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% background (mainl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ertex reconstructed by TOF usin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 time/position and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ment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rom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3080" y="6742080"/>
            <a:ext cx="31892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33960" y="6742080"/>
            <a:ext cx="27352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6320" y="533520"/>
            <a:ext cx="7543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360" y="-141120"/>
            <a:ext cx="7848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99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 lifetime from K</a:t>
            </a:r>
            <a:r>
              <a:rPr b="0" i="1" lang="en-US" sz="3200" spc="-1" strike="noStrike" baseline="-25000">
                <a:solidFill>
                  <a:srgbClr val="000099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 3</a:t>
            </a:r>
            <a:r>
              <a:rPr b="0" i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52680" y="6580080"/>
            <a:ext cx="25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M. Martini, Spring Schoo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4076640"/>
            <a:ext cx="4572000" cy="21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t with exponential function between  6 to 25 ns (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F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atics dominat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ledge of photon efficienc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d from 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3924360" y="4869000"/>
          <a:ext cx="5111640" cy="1500120"/>
        </p:xfrm>
        <a:graphic>
          <a:graphicData uri="http://schemas.openxmlformats.org/drawingml/2006/table">
            <a:tbl>
              <a:tblPr/>
              <a:tblGrid>
                <a:gridCol w="1584360"/>
                <a:gridCol w="2232000"/>
                <a:gridCol w="129528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PDG, FI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.8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 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) 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olsburg, 197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1.5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 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4) 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 Mev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KLO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50.87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± </a:t>
                      </a: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16</a:t>
                      </a:r>
                      <a:r>
                        <a:rPr b="1" lang="it-IT" sz="1400" spc="-1" strike="noStrike" baseline="-25000">
                          <a:solidFill>
                            <a:srgbClr val="ff0000"/>
                          </a:solidFill>
                          <a:latin typeface="Times New Roman"/>
                        </a:rPr>
                        <a:t>stat</a:t>
                      </a: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± </a:t>
                      </a: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26</a:t>
                      </a:r>
                      <a:r>
                        <a:rPr b="1" lang="it-IT" sz="1400" spc="-1" strike="noStrike" baseline="-25000">
                          <a:solidFill>
                            <a:srgbClr val="ff0000"/>
                          </a:solidFill>
                          <a:latin typeface="Times New Roman"/>
                        </a:rPr>
                        <a:t>sys</a:t>
                      </a: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) 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.5 Mev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436" name=""/>
          <p:cNvSpPr/>
          <p:nvPr/>
        </p:nvSpPr>
        <p:spPr>
          <a:xfrm>
            <a:off x="7848720" y="115920"/>
            <a:ext cx="118728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>
            <a:hlinkClick r:id="rId2" action="ppaction://hlinksldjump"/>
          </p:cNvPr>
          <p:cNvSpPr/>
          <p:nvPr/>
        </p:nvSpPr>
        <p:spPr>
          <a:xfrm>
            <a:off x="8065440" y="15084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"/>
          <p:cNvGrpSpPr/>
          <p:nvPr/>
        </p:nvGrpSpPr>
        <p:grpSpPr>
          <a:xfrm>
            <a:off x="304920" y="1981080"/>
            <a:ext cx="4114800" cy="3956040"/>
            <a:chOff x="304920" y="1981080"/>
            <a:chExt cx="4114800" cy="3956040"/>
          </a:xfrm>
        </p:grpSpPr>
        <p:pic>
          <p:nvPicPr>
            <p:cNvPr id="439" name="" descr=""/>
            <p:cNvPicPr/>
            <p:nvPr/>
          </p:nvPicPr>
          <p:blipFill>
            <a:blip r:embed="rId1"/>
            <a:stretch/>
          </p:blipFill>
          <p:spPr>
            <a:xfrm>
              <a:off x="304920" y="1981080"/>
              <a:ext cx="411480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1086480" y="2438280"/>
              <a:ext cx="94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</a:t>
              </a:r>
              <a:r>
                <a:rPr b="1" lang="it-IT" sz="2400" spc="-1" strike="noStrike" baseline="30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</a:t>
              </a:r>
              <a:r>
                <a:rPr b="1" lang="it-IT" sz="2400" spc="-1" strike="noStrike" baseline="30000">
                  <a:solidFill>
                    <a:srgbClr val="ff3300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</a:t>
              </a:r>
              <a:r>
                <a:rPr b="1" lang="it-IT" sz="2400" spc="-1" strike="noStrike" baseline="30000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914560" y="3504960"/>
              <a:ext cx="93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</a:t>
              </a:r>
              <a:r>
                <a:rPr b="1" lang="it-IT" sz="2400" spc="-1" strike="noStrike" baseline="30000">
                  <a:solidFill>
                    <a:srgbClr val="0000ff"/>
                  </a:solidFill>
                  <a:latin typeface="Times New Roman"/>
                </a:rPr>
                <a:t>+</a:t>
              </a: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</a:t>
              </a:r>
              <a:r>
                <a:rPr b="1" lang="it-IT" sz="2400" spc="-1" strike="noStrike" baseline="30000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</a:t>
              </a:r>
              <a:r>
                <a:rPr b="1" lang="it-IT" sz="2400" spc="-1" strike="noStrike" baseline="30000">
                  <a:solidFill>
                    <a:srgbClr val="0000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982160" y="3809880"/>
              <a:ext cx="64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68840" y="4038480"/>
              <a:ext cx="68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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76320" y="533520"/>
            <a:ext cx="7543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3080" y="6742080"/>
            <a:ext cx="31892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38840" y="857160"/>
            <a:ext cx="60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gging efficiency before and after corre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08000" y="-10008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i="1" lang="it-IT" sz="3200" spc="-1" strike="noStrike" baseline="-25000">
                <a:solidFill>
                  <a:srgbClr val="0000ff"/>
                </a:solidFill>
                <a:latin typeface="Times New Roman"/>
              </a:rPr>
              <a:t>L</a:t>
            </a: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 absolute BR’s: tag b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6033960" y="6524640"/>
            <a:ext cx="3110040" cy="333360"/>
            <a:chOff x="6033960" y="6524640"/>
            <a:chExt cx="3110040" cy="333360"/>
          </a:xfrm>
        </p:grpSpPr>
        <p:sp>
          <p:nvSpPr>
            <p:cNvPr id="450" name=""/>
            <p:cNvSpPr/>
            <p:nvPr/>
          </p:nvSpPr>
          <p:spPr>
            <a:xfrm>
              <a:off x="6033960" y="6742080"/>
              <a:ext cx="27352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748720" y="6524640"/>
              <a:ext cx="39528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7848720" y="115920"/>
            <a:ext cx="118728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>
            <a:hlinkClick r:id="rId3" action="ppaction://hlinksldjump"/>
          </p:cNvPr>
          <p:cNvSpPr/>
          <p:nvPr/>
        </p:nvSpPr>
        <p:spPr>
          <a:xfrm>
            <a:off x="8065440" y="15084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352680" y="6580080"/>
            <a:ext cx="25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M. Martini, Spring Schoo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rcRect l="0" t="0" r="7689" b="4014"/>
          <a:stretch/>
        </p:blipFill>
        <p:spPr>
          <a:xfrm>
            <a:off x="4356000" y="476280"/>
            <a:ext cx="4465800" cy="400356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rcRect l="0" t="0" r="7788" b="3887"/>
          <a:stretch/>
        </p:blipFill>
        <p:spPr>
          <a:xfrm>
            <a:off x="108000" y="490680"/>
            <a:ext cx="4465440" cy="41623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76320" y="533520"/>
            <a:ext cx="7543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3080" y="6742080"/>
            <a:ext cx="31892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08000" y="-10008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i="1" lang="it-IT" sz="3200" spc="-1" strike="noStrike" baseline="-25000">
                <a:solidFill>
                  <a:srgbClr val="0000ff"/>
                </a:solidFill>
                <a:latin typeface="Times New Roman"/>
              </a:rPr>
              <a:t>L</a:t>
            </a: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 absolute BR’s: radiative cor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8760" y="4653000"/>
            <a:ext cx="87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adiation is included in the MC simulation for all K dec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-P shape is checked using Ke3/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enriched samples obtained from an independent calorimetric selection: TOF, E/p and cluster centroid 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3 BR changes by 2% neglecting the radiative t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6033960" y="6524640"/>
            <a:ext cx="3110040" cy="333360"/>
            <a:chOff x="6033960" y="6524640"/>
            <a:chExt cx="3110040" cy="333360"/>
          </a:xfrm>
        </p:grpSpPr>
        <p:sp>
          <p:nvSpPr>
            <p:cNvPr id="462" name=""/>
            <p:cNvSpPr/>
            <p:nvPr/>
          </p:nvSpPr>
          <p:spPr>
            <a:xfrm>
              <a:off x="6033960" y="6742080"/>
              <a:ext cx="27352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748720" y="6524640"/>
              <a:ext cx="39528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7848720" y="115920"/>
            <a:ext cx="118728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>
            <a:hlinkClick r:id="rId3" action="ppaction://hlinksldjump"/>
          </p:cNvPr>
          <p:cNvSpPr/>
          <p:nvPr/>
        </p:nvSpPr>
        <p:spPr>
          <a:xfrm>
            <a:off x="8065440" y="15084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352680" y="6580080"/>
            <a:ext cx="25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M. Martini, Spring Schoo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4371840" y="1197000"/>
            <a:ext cx="4311720" cy="4896000"/>
            <a:chOff x="4371840" y="1197000"/>
            <a:chExt cx="4311720" cy="4896000"/>
          </a:xfrm>
        </p:grpSpPr>
        <p:pic>
          <p:nvPicPr>
            <p:cNvPr id="468" name="" descr=""/>
            <p:cNvPicPr/>
            <p:nvPr/>
          </p:nvPicPr>
          <p:blipFill>
            <a:blip r:embed="rId1"/>
            <a:stretch/>
          </p:blipFill>
          <p:spPr>
            <a:xfrm>
              <a:off x="4371840" y="1197000"/>
              <a:ext cx="431172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6588000" y="5084640"/>
              <a:ext cx="21600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0" y="1628640"/>
            <a:ext cx="43560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 3 neutral cluster in EM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 9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ertex reconstructed by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F using cluster time/posi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ment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rom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d for 2 variables: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468360" y="4687920"/>
          <a:ext cx="2663640" cy="104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4687920"/>
                    <a:ext cx="266364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73080" y="6742080"/>
            <a:ext cx="31892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320" y="533520"/>
            <a:ext cx="7543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360" y="-141120"/>
            <a:ext cx="7848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99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 lifetime from K</a:t>
            </a:r>
            <a:r>
              <a:rPr b="0" i="1" lang="en-US" sz="3200" spc="-1" strike="noStrike" baseline="-25000">
                <a:solidFill>
                  <a:srgbClr val="000099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 3</a:t>
            </a:r>
            <a:r>
              <a:rPr b="0" i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748840" y="1360440"/>
            <a:ext cx="208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75280" y="5084640"/>
            <a:ext cx="1584360" cy="0"/>
          </a:xfrm>
          <a:prstGeom prst="line">
            <a:avLst/>
          </a:prstGeom>
          <a:ln w="38160">
            <a:solidFill>
              <a:srgbClr val="00cc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659640" y="5084640"/>
            <a:ext cx="1584360" cy="0"/>
          </a:xfrm>
          <a:prstGeom prst="line">
            <a:avLst/>
          </a:prstGeom>
          <a:ln w="38160">
            <a:solidFill>
              <a:srgbClr val="00cc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5600160" y="5117760"/>
            <a:ext cx="1038600" cy="583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6876720" y="4365720"/>
            <a:ext cx="1366920" cy="64764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 flipV="1" rot="20680200">
            <a:off x="4709520" y="4183200"/>
            <a:ext cx="3428640" cy="93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 rot="18457200">
            <a:off x="6262920" y="4676760"/>
            <a:ext cx="2475360" cy="217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96611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966114"/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507560" y="4653000"/>
            <a:ext cx="4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l-GR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π</a:t>
            </a:r>
            <a:r>
              <a:rPr b="1" lang="it-IT" sz="2000" spc="-1" strike="noStrike" baseline="30000">
                <a:solidFill>
                  <a:srgbClr val="000099"/>
                </a:solidFill>
                <a:latin typeface="Times New Roman"/>
                <a:ea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521400" y="5950080"/>
            <a:ext cx="5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l-GR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π</a:t>
            </a:r>
            <a:r>
              <a:rPr b="1" lang="it-IT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it-IT" sz="2000" spc="-1" strike="noStrike" baseline="30000">
                <a:solidFill>
                  <a:srgbClr val="000099"/>
                </a:solidFill>
                <a:latin typeface="Times New Roman"/>
                <a:ea typeface="Times New Roman"/>
              </a:rPr>
              <a:t>-</a:t>
            </a:r>
            <a:r>
              <a:rPr b="1" lang="it-IT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2760" y="435924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Symbol"/>
                <a:ea typeface="Symbol"/>
              </a:rPr>
              <a:t>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6033960" y="6524640"/>
            <a:ext cx="3110040" cy="333360"/>
            <a:chOff x="6033960" y="6524640"/>
            <a:chExt cx="3110040" cy="333360"/>
          </a:xfrm>
        </p:grpSpPr>
        <p:sp>
          <p:nvSpPr>
            <p:cNvPr id="487" name=""/>
            <p:cNvSpPr/>
            <p:nvPr/>
          </p:nvSpPr>
          <p:spPr>
            <a:xfrm>
              <a:off x="6033960" y="6742080"/>
              <a:ext cx="27352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748720" y="6524640"/>
              <a:ext cx="39528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7848720" y="115920"/>
            <a:ext cx="118728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rId4" action="ppaction://hlinksldjump"/>
          </p:cNvPr>
          <p:cNvSpPr/>
          <p:nvPr/>
        </p:nvSpPr>
        <p:spPr>
          <a:xfrm>
            <a:off x="8065440" y="15084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352680" y="6580080"/>
            <a:ext cx="25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M. Martini, Spring Schoo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7640" y="-100440"/>
            <a:ext cx="366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The KLOE detector</a:t>
            </a:r>
            <a:endParaRPr b="0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3890" t="1440" r="4887" b="0"/>
          <a:stretch/>
        </p:blipFill>
        <p:spPr>
          <a:xfrm>
            <a:off x="2843280" y="1341360"/>
            <a:ext cx="3544920" cy="4245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320" y="533520"/>
            <a:ext cx="7543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794720" y="115920"/>
            <a:ext cx="1241280" cy="73332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0" y="836640"/>
            <a:ext cx="3924360" cy="936720"/>
            <a:chOff x="0" y="836640"/>
            <a:chExt cx="3924360" cy="936720"/>
          </a:xfrm>
        </p:grpSpPr>
        <p:sp>
          <p:nvSpPr>
            <p:cNvPr id="67" name=""/>
            <p:cNvSpPr/>
            <p:nvPr/>
          </p:nvSpPr>
          <p:spPr>
            <a:xfrm>
              <a:off x="0" y="836640"/>
              <a:ext cx="2590920" cy="70380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uperconducting coi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0.52 T)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27280" y="1197000"/>
              <a:ext cx="1297080" cy="576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08000" y="3933720"/>
            <a:ext cx="3959280" cy="2682000"/>
            <a:chOff x="108000" y="3933720"/>
            <a:chExt cx="3959280" cy="2682000"/>
          </a:xfrm>
        </p:grpSpPr>
        <p:sp>
          <p:nvSpPr>
            <p:cNvPr id="70" name=""/>
            <p:cNvSpPr/>
            <p:nvPr/>
          </p:nvSpPr>
          <p:spPr>
            <a:xfrm>
              <a:off x="108000" y="4259160"/>
              <a:ext cx="2448000" cy="2356560"/>
            </a:xfrm>
            <a:prstGeom prst="rect">
              <a:avLst/>
            </a:prstGeom>
            <a:solidFill>
              <a:srgbClr val="000099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Drift cha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Gas mixture: 90% He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+ 10% 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4 m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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3.75 m, CF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fr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12582 stereo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stereo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sense wi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almost squared cel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2556000" y="3933720"/>
              <a:ext cx="1511280" cy="1440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716360" y="1197000"/>
            <a:ext cx="4391280" cy="2167200"/>
            <a:chOff x="4716360" y="1197000"/>
            <a:chExt cx="4391280" cy="2167200"/>
          </a:xfrm>
        </p:grpSpPr>
        <p:sp>
          <p:nvSpPr>
            <p:cNvPr id="73" name=""/>
            <p:cNvSpPr/>
            <p:nvPr/>
          </p:nvSpPr>
          <p:spPr>
            <a:xfrm>
              <a:off x="6659640" y="1197000"/>
              <a:ext cx="2448000" cy="2167200"/>
            </a:xfrm>
            <a:prstGeom prst="rect">
              <a:avLst/>
            </a:prstGeom>
            <a:solidFill>
              <a:srgbClr val="009900"/>
            </a:solidFill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l-Be beam pipe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spherical, 10 cm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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0.5 mm thick)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nstrumented permanent magnet quadrupoles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32 PMT’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4716360" y="2205000"/>
              <a:ext cx="1943280" cy="10796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580000" y="4041720"/>
            <a:ext cx="3564000" cy="2502360"/>
            <a:chOff x="5580000" y="4041720"/>
            <a:chExt cx="3564000" cy="2502360"/>
          </a:xfrm>
        </p:grpSpPr>
        <p:sp>
          <p:nvSpPr>
            <p:cNvPr id="76" name=""/>
            <p:cNvSpPr/>
            <p:nvPr/>
          </p:nvSpPr>
          <p:spPr>
            <a:xfrm>
              <a:off x="6480000" y="4400640"/>
              <a:ext cx="2664000" cy="21434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lectromagnetic calori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lead/scintillating fibers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1 mm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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, 15 X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4880 PMT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98% solid a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overage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5580000" y="4041720"/>
              <a:ext cx="936720" cy="1511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344760" y="6580080"/>
            <a:ext cx="26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M. Martini, IFAE 2005 Cata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080" y="6742080"/>
            <a:ext cx="31892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33960" y="6742080"/>
            <a:ext cx="28180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-53280" y="620640"/>
            <a:ext cx="2844000" cy="3636000"/>
            <a:chOff x="-53280" y="620640"/>
            <a:chExt cx="2844000" cy="3636000"/>
          </a:xfrm>
        </p:grpSpPr>
        <p:sp>
          <p:nvSpPr>
            <p:cNvPr id="82" name=""/>
            <p:cNvSpPr/>
            <p:nvPr/>
          </p:nvSpPr>
          <p:spPr>
            <a:xfrm>
              <a:off x="-53280" y="3143160"/>
              <a:ext cx="2762640" cy="11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312"/>
                </a:spcBef>
                <a:tabLst>
                  <a:tab algn="l" pos="0"/>
                  <a:tab algn="l" pos="74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</a:t>
              </a:r>
              <a:r>
                <a:rPr b="1" lang="en-US" sz="1600" spc="-1" strike="noStrike" baseline="-25000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/p</a:t>
              </a:r>
              <a:r>
                <a:rPr b="1" lang="en-US" sz="16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</a:t>
              </a: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0.4 % </a:t>
              </a:r>
              <a:r>
                <a:rPr b="0" lang="en-US" sz="1000" spc="-1" strike="noStrike">
                  <a:solidFill>
                    <a:srgbClr val="000099"/>
                  </a:solidFill>
                  <a:latin typeface="Times New Roman"/>
                </a:rPr>
                <a:t>(tracks with </a:t>
              </a:r>
              <a:r>
                <a:rPr b="0" lang="en-US" sz="1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0" lang="en-US" sz="1000" spc="-1" strike="noStrike">
                  <a:solidFill>
                    <a:srgbClr val="000099"/>
                  </a:solidFill>
                  <a:latin typeface="Times New Roman"/>
                </a:rPr>
                <a:t> &gt; 45</a:t>
              </a:r>
              <a:r>
                <a:rPr b="0" lang="en-US" sz="1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°</a:t>
              </a:r>
              <a:r>
                <a:rPr b="0" lang="en-US" sz="10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74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</a:t>
              </a:r>
              <a:r>
                <a:rPr b="1" lang="en-US" sz="1600" spc="-1" strike="noStrike" baseline="-25000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hit</a:t>
              </a:r>
              <a:r>
                <a:rPr b="1" lang="en-US" sz="16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</a:t>
              </a: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150 </a:t>
              </a:r>
              <a:r>
                <a:rPr b="1" lang="en-US" sz="16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</a:t>
              </a: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m (xy), 2 mm (z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74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</a:t>
              </a:r>
              <a:r>
                <a:rPr b="1" lang="en-US" sz="1600" spc="-1" strike="noStrike" baseline="-25000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vertex</a:t>
              </a: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  ~1 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74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</a:t>
              </a: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(M</a:t>
              </a:r>
              <a:r>
                <a:rPr b="1" lang="en-US" sz="1600" spc="-1" strike="noStrike" baseline="-25000">
                  <a:solidFill>
                    <a:srgbClr val="000099"/>
                  </a:solidFill>
                  <a:latin typeface="Symbol"/>
                  <a:ea typeface="Symbol"/>
                </a:rPr>
                <a:t></a:t>
              </a: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)  ~1 M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3"/>
            <a:srcRect l="10399" t="84" r="15748" b="0"/>
            <a:stretch/>
          </p:blipFill>
          <p:spPr>
            <a:xfrm>
              <a:off x="179280" y="620640"/>
              <a:ext cx="2611440" cy="2408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84" name=""/>
          <p:cNvGrpSpPr/>
          <p:nvPr/>
        </p:nvGrpSpPr>
        <p:grpSpPr>
          <a:xfrm>
            <a:off x="6334200" y="1052640"/>
            <a:ext cx="2809800" cy="3316320"/>
            <a:chOff x="6334200" y="1052640"/>
            <a:chExt cx="2809800" cy="3316320"/>
          </a:xfrm>
        </p:grpSpPr>
        <p:pic>
          <p:nvPicPr>
            <p:cNvPr id="85" name="" descr=""/>
            <p:cNvPicPr/>
            <p:nvPr/>
          </p:nvPicPr>
          <p:blipFill>
            <a:blip r:embed="rId4"/>
            <a:srcRect l="16410" t="3117" r="2338" b="3117"/>
            <a:stretch/>
          </p:blipFill>
          <p:spPr>
            <a:xfrm>
              <a:off x="6478560" y="1052640"/>
              <a:ext cx="2665440" cy="233352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86" name=""/>
            <p:cNvSpPr/>
            <p:nvPr/>
          </p:nvSpPr>
          <p:spPr>
            <a:xfrm>
              <a:off x="6334200" y="3532680"/>
              <a:ext cx="2809800" cy="8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75000"/>
                </a:lnSpc>
                <a:spcBef>
                  <a:spcPts val="400"/>
                </a:spcBef>
                <a:tabLst>
                  <a:tab algn="l" pos="0"/>
                  <a:tab algn="l" pos="915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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/E</a:t>
              </a:r>
              <a:r>
                <a:rPr b="1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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5.7% /</a:t>
              </a:r>
              <a:r>
                <a:rPr b="1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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E(Ge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400"/>
                </a:spcBef>
                <a:tabLst>
                  <a:tab algn="l" pos="0"/>
                  <a:tab algn="l" pos="915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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 54 ps /</a:t>
              </a:r>
              <a:r>
                <a:rPr b="1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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E(GeV) </a:t>
              </a:r>
              <a:r>
                <a:rPr b="1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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 50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5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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vtx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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) ~ 2 cm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0" lang="en-US" sz="10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</a:t>
              </a: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</a:rPr>
                <a:t> from K</a:t>
              </a:r>
              <a:r>
                <a:rPr b="0" lang="en-US" sz="1000" spc="-1" strike="noStrike" baseline="-25000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0" lang="en-US" sz="10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r>
                <a:rPr b="0" lang="en-US" sz="1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0" lang="en-US" sz="10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0" lang="en-US" sz="1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0" lang="en-US" sz="10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</a:t>
              </a: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8604360" y="6553080"/>
            <a:ext cx="53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24000" y="-100440"/>
            <a:ext cx="7421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Kaon production and properties</a:t>
            </a:r>
            <a:endParaRPr b="0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797360"/>
            <a:ext cx="442764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= 6 mm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cays near 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30360" indent="-630360">
              <a:spcBef>
                <a:spcPts val="561"/>
              </a:spcBef>
              <a:tabLst>
                <a:tab algn="l" pos="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30360" indent="-6303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L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3.4 m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ppreciable accept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30360" indent="-630360">
              <a:spcBef>
                <a:spcPts val="561"/>
              </a:spcBef>
              <a:tabLst>
                <a:tab algn="l" pos="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~0.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30360" indent="-630360">
              <a:spcBef>
                <a:spcPts val="561"/>
              </a:spcBef>
              <a:tabLst>
                <a:tab algn="l" pos="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  <a:tab algn="l" pos="635652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SL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~</a:t>
            </a:r>
            <a:r>
              <a:rPr b="0" lang="it-IT" sz="1800" spc="-1" strike="noStrike">
                <a:solidFill>
                  <a:srgbClr val="000099"/>
                </a:solidFill>
                <a:latin typeface="Times New Roman"/>
              </a:rPr>
              <a:t>10</a:t>
            </a:r>
            <a:r>
              <a:rPr b="0" lang="it-IT" sz="1800" spc="-1" strike="noStrike" baseline="30000">
                <a:solidFill>
                  <a:srgbClr val="000099"/>
                </a:solidFill>
                <a:latin typeface="Times New Roman"/>
              </a:rPr>
              <a:t>6 </a:t>
            </a:r>
            <a:r>
              <a:rPr b="0" lang="it-IT" sz="1800" spc="-1" strike="noStrike">
                <a:solidFill>
                  <a:srgbClr val="000099"/>
                </a:solidFill>
                <a:latin typeface="Times New Roman"/>
              </a:rPr>
              <a:t>/pb</a:t>
            </a:r>
            <a:r>
              <a:rPr b="0" lang="it-IT" sz="1800" spc="-1" strike="noStrike" baseline="30000">
                <a:solidFill>
                  <a:srgbClr val="000099"/>
                </a:solidFill>
                <a:latin typeface="Times New Roman"/>
              </a:rPr>
              <a:t>-1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;  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it-IT" sz="1800" spc="-1" strike="noStrike">
                <a:solidFill>
                  <a:srgbClr val="000099"/>
                </a:solidFill>
                <a:latin typeface="Times New Roman"/>
              </a:rPr>
              <a:t>110 MeV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0040" y="4197240"/>
            <a:ext cx="281916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700360" y="2521080"/>
          <a:ext cx="334944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521080"/>
                    <a:ext cx="334944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0" y="3422520"/>
            <a:ext cx="889308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agging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bservation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S,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K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,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signals presence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L,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K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,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ise measurement of absolute BR’s and interference measurement 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080" y="1297080"/>
            <a:ext cx="5123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produced in pure J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979200" y="1868400"/>
            <a:ext cx="3938040" cy="480240"/>
            <a:chOff x="979200" y="1868400"/>
            <a:chExt cx="3938040" cy="480240"/>
          </a:xfrm>
        </p:grpSpPr>
        <p:sp>
          <p:nvSpPr>
            <p:cNvPr id="96" name=""/>
            <p:cNvSpPr/>
            <p:nvPr/>
          </p:nvSpPr>
          <p:spPr>
            <a:xfrm>
              <a:off x="2673000" y="1873440"/>
              <a:ext cx="325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79200" y="1868400"/>
              <a:ext cx="1008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(K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67760" y="1873440"/>
              <a:ext cx="11494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996200" y="2112480"/>
              <a:ext cx="70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14360" y="2112480"/>
              <a:ext cx="70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864560" y="54000"/>
            <a:ext cx="1241280" cy="733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320" y="533520"/>
            <a:ext cx="7543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0" y="692280"/>
            <a:ext cx="8620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son decays at rest providing monochromatic and pure kaon be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08240" y="1946160"/>
            <a:ext cx="21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min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5051520"/>
            <a:ext cx="457200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= 0.9 m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60%  acceptance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on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Symbol"/>
                <a:ea typeface="Symbol"/>
              </a:rPr>
              <a:t>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~ 1.5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</a:t>
            </a:r>
            <a:r>
              <a:rPr b="0" lang="it-IT" sz="1800" spc="-1" strike="noStrike">
                <a:solidFill>
                  <a:srgbClr val="009900"/>
                </a:solidFill>
                <a:latin typeface="Times New Roman"/>
              </a:rPr>
              <a:t>10</a:t>
            </a:r>
            <a:r>
              <a:rPr b="0" lang="it-IT" sz="1800" spc="-1" strike="noStrike" baseline="30000">
                <a:solidFill>
                  <a:srgbClr val="009900"/>
                </a:solidFill>
                <a:latin typeface="Times New Roman"/>
              </a:rPr>
              <a:t>6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9900"/>
                </a:solidFill>
                <a:latin typeface="Times New Roman"/>
              </a:rPr>
              <a:t>/pb</a:t>
            </a:r>
            <a:r>
              <a:rPr b="0" lang="it-IT" sz="1800" spc="-1" strike="noStrike" baseline="30000">
                <a:solidFill>
                  <a:srgbClr val="009900"/>
                </a:solidFill>
                <a:latin typeface="Times New Roman"/>
              </a:rPr>
              <a:t>-1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;  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it-IT" sz="1800" spc="-1" strike="noStrike">
                <a:solidFill>
                  <a:srgbClr val="009900"/>
                </a:solidFill>
                <a:latin typeface="Times New Roman"/>
              </a:rPr>
              <a:t>127 MeV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080" y="6742080"/>
            <a:ext cx="31892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33960" y="6742080"/>
            <a:ext cx="28180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08720" y="3573360"/>
            <a:ext cx="1224000" cy="216000"/>
          </a:xfrm>
          <a:prstGeom prst="rightArrow">
            <a:avLst>
              <a:gd name="adj1" fmla="val 50000"/>
              <a:gd name="adj2" fmla="val 141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604360" y="6553080"/>
            <a:ext cx="53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6580080"/>
            <a:ext cx="25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M. Martini, Spring Schoo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2920" y="-171360"/>
            <a:ext cx="5419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Tagging of K</a:t>
            </a:r>
            <a:r>
              <a:rPr b="0" i="1" lang="en-US" sz="32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 and K</a:t>
            </a:r>
            <a:r>
              <a:rPr b="0" i="1" lang="en-US" sz="3200" spc="-1" strike="noStrike" baseline="-25000">
                <a:solidFill>
                  <a:srgbClr val="000099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 “beams”</a:t>
            </a:r>
            <a:endParaRPr b="0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57040" y="844560"/>
            <a:ext cx="4267440" cy="5420160"/>
            <a:chOff x="257040" y="844560"/>
            <a:chExt cx="4267440" cy="5420160"/>
          </a:xfrm>
        </p:grpSpPr>
        <p:sp>
          <p:nvSpPr>
            <p:cNvPr id="113" name=""/>
            <p:cNvSpPr/>
            <p:nvPr/>
          </p:nvSpPr>
          <p:spPr>
            <a:xfrm>
              <a:off x="257040" y="4825800"/>
              <a:ext cx="4267440" cy="14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tagged by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vertex at 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fficiency ~ 70%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gular resolution: ~ 1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omentum resolution: ~ 1 Me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rcRect l="17158" t="10197" r="19502" b="4776"/>
            <a:stretch/>
          </p:blipFill>
          <p:spPr>
            <a:xfrm>
              <a:off x="351000" y="844560"/>
              <a:ext cx="3993840" cy="38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487520" y="2392200"/>
              <a:ext cx="12762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26640" y="3054240"/>
              <a:ext cx="1206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09840" y="2843280"/>
              <a:ext cx="304920" cy="228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724280" y="836640"/>
            <a:ext cx="4267440" cy="5428080"/>
            <a:chOff x="4724280" y="836640"/>
            <a:chExt cx="4267440" cy="542808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rcRect l="18004" t="10197" r="18753" b="4776"/>
            <a:stretch/>
          </p:blipFill>
          <p:spPr>
            <a:xfrm>
              <a:off x="4818240" y="836640"/>
              <a:ext cx="4003560" cy="39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724280" y="4825800"/>
              <a:ext cx="4267440" cy="14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tagged by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interaction in Em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fficiency ~ 30%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gular resolution: ~ 1°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.3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omentum resolution: ~ 1 Me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72480" y="938160"/>
              <a:ext cx="1881000" cy="8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“crash”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= 0.22 (TOF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6813360" y="1243080"/>
              <a:ext cx="120600" cy="14983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61000" y="2787480"/>
              <a:ext cx="13921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864560" y="54000"/>
            <a:ext cx="1241280" cy="733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6320" y="533520"/>
            <a:ext cx="7543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22480" y="6168960"/>
            <a:ext cx="21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Arial Unicode MS"/>
              </a:rPr>
              <a:t>x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it-IT" sz="2400" spc="-1" strike="noStrike" baseline="30000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tags/pb</a:t>
            </a:r>
            <a:r>
              <a:rPr b="1" lang="it-IT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77280" y="6168960"/>
            <a:ext cx="20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it-IT" sz="2400" spc="-1" strike="noStrike">
                <a:solidFill>
                  <a:srgbClr val="ff0000"/>
                </a:solidFill>
                <a:latin typeface="Arial Unicode MS"/>
              </a:rPr>
              <a:t>x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it-IT" sz="2400" spc="-1" strike="noStrike" baseline="30000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tags/pb</a:t>
            </a:r>
            <a:r>
              <a:rPr b="1" lang="it-IT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80" y="6742080"/>
            <a:ext cx="31892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33960" y="6742080"/>
            <a:ext cx="28180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604360" y="6553080"/>
            <a:ext cx="53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6580080"/>
            <a:ext cx="25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M. Martini, Spring Schoo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6080" y="-360"/>
            <a:ext cx="6919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Neutral Kaon physics at KLOE</a:t>
            </a:r>
            <a:endParaRPr b="0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864560" y="54000"/>
            <a:ext cx="1241280" cy="733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320" y="533520"/>
            <a:ext cx="7543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0" y="6742080"/>
            <a:ext cx="31892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33960" y="6742080"/>
            <a:ext cx="28180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604360" y="6553080"/>
            <a:ext cx="53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6580080"/>
            <a:ext cx="25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M. Martini, Spring Schoo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00" y="765000"/>
            <a:ext cx="232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Rare Ka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deca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9160" y="2514600"/>
            <a:ext cx="2231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it-IT" sz="28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 deca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0520" y="4208400"/>
            <a:ext cx="2242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it-IT" sz="2800" spc="-1" strike="noStrike" baseline="-25000">
                <a:solidFill>
                  <a:srgbClr val="000099"/>
                </a:solidFill>
                <a:latin typeface="Times New Roman"/>
              </a:rPr>
              <a:t>L</a:t>
            </a: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 deca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69720" y="765000"/>
            <a:ext cx="526212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3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</a:rPr>
              <a:t>0         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(hep-ex/05050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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(in progr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46720" y="2349360"/>
            <a:ext cx="627696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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(PLB535 2002+upd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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(first observ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86520" y="4076640"/>
            <a:ext cx="449640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ominant K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BR     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(final resul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lifetime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(final resul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9880" y="5749920"/>
            <a:ext cx="127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99"/>
                </a:solidFill>
                <a:latin typeface="Times New Roman"/>
              </a:rPr>
              <a:t>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1989000"/>
            <a:ext cx="7920000" cy="71640"/>
          </a:xfrm>
          <a:custGeom>
            <a:avLst/>
            <a:gdLst>
              <a:gd name="textAreaLeft" fmla="*/ 1080000 w 7920000"/>
              <a:gd name="textAreaRight" fmla="*/ 6840000 w 7920000"/>
              <a:gd name="textAreaTop" fmla="*/ 9720 h 71640"/>
              <a:gd name="textAreaBottom" fmla="*/ 6192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448" y="21600"/>
                </a:lnTo>
                <a:lnTo>
                  <a:pt x="2152" y="21600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3716280"/>
            <a:ext cx="7920000" cy="71640"/>
          </a:xfrm>
          <a:custGeom>
            <a:avLst/>
            <a:gdLst>
              <a:gd name="textAreaLeft" fmla="*/ 1080000 w 7920000"/>
              <a:gd name="textAreaRight" fmla="*/ 6840000 w 7920000"/>
              <a:gd name="textAreaTop" fmla="*/ 9720 h 71640"/>
              <a:gd name="textAreaBottom" fmla="*/ 6192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448" y="21600"/>
                </a:lnTo>
                <a:lnTo>
                  <a:pt x="2152" y="21600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5445000"/>
            <a:ext cx="7920000" cy="71640"/>
          </a:xfrm>
          <a:custGeom>
            <a:avLst/>
            <a:gdLst>
              <a:gd name="textAreaLeft" fmla="*/ 1080000 w 7920000"/>
              <a:gd name="textAreaRight" fmla="*/ 6840000 w 7920000"/>
              <a:gd name="textAreaTop" fmla="*/ 9720 h 71640"/>
              <a:gd name="textAreaBottom" fmla="*/ 6192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448" y="21600"/>
                </a:lnTo>
                <a:lnTo>
                  <a:pt x="2152" y="21600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97600" y="5734080"/>
            <a:ext cx="480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US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rom K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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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(final resul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059200" y="2781360"/>
            <a:ext cx="560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800" spc="-1" strike="noStrike">
                <a:solidFill>
                  <a:srgbClr val="000000"/>
                </a:solidFill>
                <a:latin typeface="Times New Roman"/>
              </a:rPr>
              <a:t>Rare decay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195640" y="1751040"/>
            <a:ext cx="5400720" cy="31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8880" y="-27000"/>
            <a:ext cx="74678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i="1" lang="en-US" sz="32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</a:t>
            </a:r>
            <a:r>
              <a:rPr b="0" i="1" lang="en-US" sz="32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</a:t>
            </a:r>
            <a:r>
              <a:rPr b="0" i="1" lang="en-US" sz="32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</a:t>
            </a:r>
            <a:r>
              <a:rPr b="0" i="1" lang="en-US" sz="32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 – Test of CP and CPT</a:t>
            </a:r>
            <a:endParaRPr b="0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533520"/>
            <a:ext cx="7543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080" y="6742080"/>
            <a:ext cx="31892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33960" y="6742080"/>
            <a:ext cx="27352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4000" y="1197000"/>
          <a:ext cx="8208720" cy="1368360"/>
        </p:xfrm>
        <a:graphic>
          <a:graphicData uri="http://schemas.openxmlformats.org/drawingml/2006/table">
            <a:tbl>
              <a:tblPr/>
              <a:tblGrid>
                <a:gridCol w="5260680"/>
                <a:gridCol w="2948040"/>
              </a:tblGrid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 prediction: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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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|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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|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 giving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(K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= 1.9 10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st limit from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irect search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SND ’99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(K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&lt; 1.4 10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ference meas.  NA48 ’05: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(K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&lt; 7.4 10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0" y="595440"/>
            <a:ext cx="8991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servation of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signals CP in mixing and/or in deca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204720" y="620640"/>
            <a:ext cx="3589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604360" y="6553080"/>
            <a:ext cx="53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6580080"/>
            <a:ext cx="25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M. Martini, Spring Schoo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920" y="3844800"/>
            <a:ext cx="89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Preselected signal sample (K</a:t>
            </a:r>
            <a:r>
              <a:rPr b="1" lang="en-US" sz="2200" spc="-1" strike="noStrike" baseline="-25000">
                <a:solidFill>
                  <a:srgbClr val="333399"/>
                </a:solidFill>
                <a:latin typeface="Times New Roman"/>
              </a:rPr>
              <a:t>LCRASH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and 6 photons):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39538 ev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Normalization Sample (K</a:t>
            </a:r>
            <a:r>
              <a:rPr b="1" lang="en-US" sz="2200" spc="-1" strike="noStrike" baseline="-25000">
                <a:solidFill>
                  <a:srgbClr val="333399"/>
                </a:solidFill>
                <a:latin typeface="Times New Roman"/>
              </a:rPr>
              <a:t>LCRASH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and 4 photons):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23.5</a:t>
            </a:r>
            <a:r>
              <a:rPr b="1" lang="en-US" sz="2200" spc="-1" strike="noStrike">
                <a:solidFill>
                  <a:srgbClr val="ff0000"/>
                </a:solidFill>
                <a:latin typeface="Arial Unicode MS"/>
              </a:rPr>
              <a:t>x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en-US" sz="2200" spc="-1" strike="noStrike" baseline="30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ev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920" y="33415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DATA = 450 pb</a:t>
            </a:r>
            <a:r>
              <a:rPr b="1" lang="en-US" sz="2000" spc="-1" strike="noStrike" baseline="30000">
                <a:solidFill>
                  <a:srgbClr val="008000"/>
                </a:solidFill>
                <a:latin typeface="Times New Roman"/>
              </a:rPr>
              <a:t>-1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 (2001+2002);   MC = 0.9 fb</a:t>
            </a:r>
            <a:r>
              <a:rPr b="1" lang="en-US" sz="2000" spc="-1" strike="noStrike" baseline="30000">
                <a:solidFill>
                  <a:srgbClr val="008000"/>
                </a:solidFill>
                <a:latin typeface="Times New Roman"/>
              </a:rPr>
              <a:t>-1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 (all available statist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560" y="278136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In our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920" y="4827600"/>
            <a:ext cx="820908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A kinematic fit is applied on the K</a:t>
            </a:r>
            <a:r>
              <a:rPr b="1" lang="en-US" sz="2200" spc="-1" strike="noStrike" baseline="-25000">
                <a:solidFill>
                  <a:srgbClr val="333399"/>
                </a:solidFill>
                <a:latin typeface="Times New Roman"/>
              </a:rPr>
              <a:t>s 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side requiring th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conservation of 4-momentum.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5734080"/>
            <a:ext cx="882000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ther discriminating variables have been developed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1" lang="it-IT" sz="2200" spc="-1" strike="noStrike">
                <a:solidFill>
                  <a:srgbClr val="ff0000"/>
                </a:solidFill>
                <a:latin typeface="Symbol"/>
                <a:ea typeface="Symbol"/>
              </a:rPr>
              <a:t></a:t>
            </a:r>
            <a:r>
              <a:rPr b="1" lang="it-IT" sz="2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1" lang="it-IT" sz="2200" spc="-1" strike="noStrike">
                <a:solidFill>
                  <a:srgbClr val="ff0000"/>
                </a:solidFill>
                <a:latin typeface="Symbol"/>
                <a:ea typeface="Symbol"/>
              </a:rPr>
              <a:t></a:t>
            </a:r>
            <a:r>
              <a:rPr b="1" lang="it-IT" sz="22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it-IT" sz="2200" spc="-1" strike="noStrike">
                <a:solidFill>
                  <a:srgbClr val="ff0000"/>
                </a:solidFill>
                <a:latin typeface="Symbol"/>
                <a:ea typeface="Symbol"/>
              </a:rPr>
              <a:t>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to reject the major bkg K</a:t>
            </a:r>
            <a:r>
              <a:rPr b="1" lang="it-IT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+2 fake photon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from machine bkg / shower fragm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79920" y="1890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7864560" y="54000"/>
            <a:ext cx="124128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920" y="-1411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Search for K</a:t>
            </a:r>
            <a:r>
              <a:rPr b="0" i="1" lang="en-US" sz="32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</a:t>
            </a:r>
            <a:r>
              <a:rPr b="0" i="1" lang="en-US" sz="32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</a:t>
            </a:r>
            <a:r>
              <a:rPr b="0" i="1" lang="en-US" sz="32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</a:t>
            </a:r>
            <a:r>
              <a:rPr b="0" i="1" lang="en-US" sz="32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320" y="533520"/>
            <a:ext cx="7543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3080" y="6742080"/>
            <a:ext cx="31892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33960" y="6742080"/>
            <a:ext cx="27352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604360" y="6553080"/>
            <a:ext cx="53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52680" y="6580080"/>
            <a:ext cx="25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M. Martini, Spring Schoo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20640"/>
            <a:ext cx="8153280" cy="9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reduce bkg we define a signal box in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lan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also apply a track veto and a final cut on residual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nergy: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(K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-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1687680"/>
            <a:ext cx="41054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sel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(data) = 2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24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sel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(bkg) =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3.13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.82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stat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.37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</a:rPr>
              <a:t>sy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MC ex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508720" y="2805120"/>
            <a:ext cx="3564000" cy="2890080"/>
            <a:chOff x="5508720" y="2805120"/>
            <a:chExt cx="3564000" cy="289008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rcRect l="12438" t="38699" r="13791" b="7987"/>
            <a:stretch/>
          </p:blipFill>
          <p:spPr>
            <a:xfrm>
              <a:off x="5724720" y="2805120"/>
              <a:ext cx="3024000" cy="28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616960" y="5254560"/>
              <a:ext cx="455760" cy="440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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08720" y="2878200"/>
              <a:ext cx="513000" cy="440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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77080" y="2908440"/>
              <a:ext cx="1752840" cy="6141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MC K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 3</a:t>
              </a:r>
              <a:r>
                <a:rPr b="1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1" lang="en-US" sz="16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0" y="4357800"/>
            <a:ext cx="57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translates into a limit on |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@90% C.L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68360" y="3149640"/>
          <a:ext cx="4608360" cy="102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3149640"/>
                    <a:ext cx="460836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826920" y="4943520"/>
          <a:ext cx="4195800" cy="71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4943520"/>
                    <a:ext cx="41958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81720" y="1881360"/>
            <a:ext cx="308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e end of analysis cha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3640" y="1628640"/>
            <a:ext cx="144360" cy="936720"/>
          </a:xfrm>
          <a:custGeom>
            <a:avLst/>
            <a:gdLst>
              <a:gd name="textAreaLeft" fmla="*/ 92160 w 144360"/>
              <a:gd name="textAreaRight" fmla="*/ 144360 w 14436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5574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We derive @90% C.L.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7864560" y="54000"/>
            <a:ext cx="1241280" cy="733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2560" y="5896080"/>
            <a:ext cx="8840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 direct search for </a:t>
            </a:r>
            <a:r>
              <a:rPr b="0" lang="en-US" sz="2000" spc="-1" strike="noStrike" u="sng">
                <a:solidFill>
                  <a:srgbClr val="cc00cc"/>
                </a:solidFill>
                <a:uFillTx/>
                <a:latin typeface="Times New Roman"/>
                <a:hlinkClick r:id="rId7" action="ppaction://hlinksldjump"/>
              </a:rPr>
              <a:t>K</a:t>
            </a:r>
            <a:r>
              <a:rPr b="0" lang="en-US" sz="2000" spc="-1" strike="noStrike" u="sng" baseline="-25000">
                <a:solidFill>
                  <a:srgbClr val="cc00cc"/>
                </a:solidFill>
                <a:uFillTx/>
                <a:latin typeface="Times New Roman"/>
                <a:hlinkClick r:id="rId8" action="ppaction://hlinksldjump"/>
              </a:rPr>
              <a:t>S</a:t>
            </a:r>
            <a:r>
              <a:rPr b="0" lang="en-US" sz="2000" spc="-1" strike="noStrike" u="sng" baseline="-25000">
                <a:solidFill>
                  <a:srgbClr val="cc00cc"/>
                </a:solidFill>
                <a:uFillTx/>
                <a:latin typeface="Symbol"/>
                <a:ea typeface="Symbol"/>
                <a:hlinkClick r:id="rId9" action="ppaction://hlinksldjump"/>
              </a:rPr>
              <a:t></a:t>
            </a:r>
            <a:r>
              <a:rPr b="0" lang="en-US" sz="2000" spc="-1" strike="noStrike" u="sng" baseline="-25000">
                <a:solidFill>
                  <a:srgbClr val="cc00cc"/>
                </a:solidFill>
                <a:uFillTx/>
                <a:latin typeface="Symbol"/>
                <a:ea typeface="Symbol"/>
                <a:hlinkClick r:id="rId10" action="ppaction://hlinksldjump"/>
              </a:rPr>
              <a:t>p</a:t>
            </a:r>
            <a:r>
              <a:rPr b="0" lang="en-US" sz="2000" spc="-1" strike="noStrike" u="sng" baseline="30000">
                <a:solidFill>
                  <a:srgbClr val="cc00cc"/>
                </a:solidFill>
                <a:uFillTx/>
                <a:latin typeface="Symbol"/>
                <a:ea typeface="Symbol"/>
                <a:hlinkClick r:id="rId11" action="ppaction://hlinksldjump"/>
              </a:rPr>
              <a:t>+</a:t>
            </a:r>
            <a:r>
              <a:rPr b="0" lang="en-US" sz="2000" spc="-1" strike="noStrike" u="sng" baseline="30000">
                <a:solidFill>
                  <a:srgbClr val="cc00cc"/>
                </a:solidFill>
                <a:uFillTx/>
                <a:latin typeface="Symbol"/>
                <a:ea typeface="Symbol"/>
                <a:hlinkClick r:id="rId12" action="ppaction://hlinksldjump"/>
              </a:rPr>
              <a:t>p</a:t>
            </a:r>
            <a:r>
              <a:rPr b="0" lang="en-US" sz="2000" spc="-1" strike="noStrike" u="sng" baseline="30000">
                <a:solidFill>
                  <a:srgbClr val="cc00cc"/>
                </a:solidFill>
                <a:uFillTx/>
                <a:latin typeface="Symbol"/>
                <a:ea typeface="Symbol"/>
                <a:hlinkClick r:id="rId13" action="ppaction://hlinksldjump"/>
              </a:rPr>
              <a:t>-</a:t>
            </a:r>
            <a:r>
              <a:rPr b="0" lang="en-US" sz="2000" spc="-1" strike="noStrike" u="sng" baseline="30000">
                <a:solidFill>
                  <a:srgbClr val="cc00cc"/>
                </a:solidFill>
                <a:uFillTx/>
                <a:latin typeface="Symbol"/>
                <a:ea typeface="Symbol"/>
                <a:hlinkClick r:id="rId14" action="ppaction://hlinksldjump"/>
              </a:rPr>
              <a:t>p</a:t>
            </a:r>
            <a:r>
              <a:rPr b="0" lang="en-US" sz="2000" spc="-1" strike="noStrike" u="sng" baseline="30000">
                <a:solidFill>
                  <a:srgbClr val="cc00cc"/>
                </a:solidFill>
                <a:uFillTx/>
                <a:latin typeface="Symbol"/>
                <a:ea typeface="Symbol"/>
                <a:hlinkClick r:id="rId15" action="ppaction://hlinksldjump"/>
              </a:rPr>
              <a:t>0</a:t>
            </a:r>
            <a:r>
              <a:rPr b="0" lang="en-US" sz="2000" spc="-1" strike="noStrike" u="sng" baseline="30000">
                <a:solidFill>
                  <a:srgbClr val="cc00cc"/>
                </a:solidFill>
                <a:uFillTx/>
                <a:latin typeface="Symbol"/>
                <a:ea typeface="Symbol"/>
                <a:hlinkClick r:id="rId16" action="ppaction://hlinksldjump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s in progress (BR=3</a:t>
            </a:r>
            <a:r>
              <a:rPr b="1" lang="en-US" sz="2000" spc="-1" strike="noStrike">
                <a:solidFill>
                  <a:srgbClr val="0000ff"/>
                </a:solidFill>
                <a:latin typeface="Arial Unicode MS"/>
              </a:rPr>
              <a:t>x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en-US" sz="2000" spc="-1" strike="noStrike" baseline="30000">
                <a:solidFill>
                  <a:srgbClr val="0000ff"/>
                </a:solidFill>
                <a:latin typeface="Times New Roman"/>
              </a:rPr>
              <a:t>-7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he  decay amplitude is composed by CPC and CPV pa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9T08:44:10Z</dcterms:created>
  <dc:creator>ospiti2</dc:creator>
  <dc:description/>
  <dc:language>en-US</dc:language>
  <cp:lastModifiedBy> Matteo Martini</cp:lastModifiedBy>
  <dcterms:modified xsi:type="dcterms:W3CDTF">2005-05-20T17:26:50Z</dcterms:modified>
  <cp:revision>476</cp:revision>
  <dc:subject/>
  <dc:title>Risultati dell’esperimento KLOE a DAFNE</dc:title>
</cp:coreProperties>
</file>