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20.png" ContentType="image/png"/>
  <Override PartName="/ppt/media/image11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12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33.png" ContentType="image/png"/>
  <Override PartName="/ppt/media/image13.png" ContentType="image/png"/>
  <Override PartName="/ppt/media/image36.wmf" ContentType="image/x-wmf"/>
  <Override PartName="/ppt/media/image37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F563-66CD-4E4A-9340-F2C5AA612C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933F0-1CC6-4ABB-A4A2-C7505CC7F7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3AFD4-FDFD-4244-AD6C-E16029FAB9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5EED-4F7F-457A-876D-CD887A98DA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55C0-F486-45E8-AF85-9C24A78361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E45EF-DD30-424F-8A52-AB8D26663C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2DCC-5BEA-4E4C-A6D7-F9D5256519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6E67-A368-41AD-B126-A8B14E7724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2DE7B-1959-4225-A953-C2F06A0030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E81A7-2919-486B-910C-1D0E49D86E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E501-D08F-4B6C-B582-C7EBFB8EE5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A274-EC81-43EB-80CF-10A4BAF81D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kloe_logo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2286000" cy="13557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80880" y="2057400"/>
            <a:ext cx="8305920" cy="0"/>
          </a:xfrm>
          <a:prstGeom prst="line">
            <a:avLst/>
          </a:prstGeom>
          <a:ln w="349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49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57200" y="6248520"/>
            <a:ext cx="8305920" cy="0"/>
          </a:xfrm>
          <a:prstGeom prst="line">
            <a:avLst/>
          </a:prstGeom>
          <a:ln w="349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kloe_logo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218960" cy="722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ldNum" idx="1"/>
          </p:nvPr>
        </p:nvSpPr>
        <p:spPr>
          <a:xfrm>
            <a:off x="7086240" y="61722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85CD-0163-4F8E-AED9-9F0ADBC56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6324480"/>
            <a:ext cx="1600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. Martemian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579132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itute for Theoretical and Experimental Physics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cow, Rus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259092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51814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. Martemian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4876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Recent results of the KLOE experim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5909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876920" y="13716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img04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411480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12" name=""/>
          <p:cNvGrpSpPr/>
          <p:nvPr/>
        </p:nvGrpSpPr>
        <p:grpSpPr>
          <a:xfrm>
            <a:off x="2854800" y="-2144520"/>
            <a:ext cx="5901840" cy="9316440"/>
            <a:chOff x="2854800" y="-2144520"/>
            <a:chExt cx="5901840" cy="9316440"/>
          </a:xfrm>
        </p:grpSpPr>
        <p:sp>
          <p:nvSpPr>
            <p:cNvPr id="213" name=""/>
            <p:cNvSpPr/>
            <p:nvPr/>
          </p:nvSpPr>
          <p:spPr>
            <a:xfrm rot="16200000">
              <a:off x="935280" y="-225000"/>
              <a:ext cx="9316440" cy="547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96" y="21522"/>
                  </a:moveTo>
                  <a:arcTo wR="10800" hR="10800" stAng="4986504" swAng="4162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96" y="21522"/>
                  </a:moveTo>
                  <a:arcTo wR="10800" hR="10800" stAng="4986504" swAng="416230"/>
                </a:path>
              </a:pathLst>
            </a:custGeom>
            <a:solidFill>
              <a:srgbClr val="ffffff"/>
            </a:solidFill>
            <a:ln w="9360">
              <a:solidFill>
                <a:srgbClr val="0000d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6838200" y="2278080"/>
              <a:ext cx="519480" cy="545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5930640" y="2242080"/>
              <a:ext cx="169920" cy="62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41600" y="2408040"/>
              <a:ext cx="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6200000">
              <a:off x="7571520" y="2315520"/>
              <a:ext cx="507960" cy="451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200000">
              <a:off x="7651080" y="2308320"/>
              <a:ext cx="354960" cy="48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6200000">
              <a:off x="6321960" y="2392560"/>
              <a:ext cx="319680" cy="309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7140600" y="1708920"/>
              <a:ext cx="208080" cy="1839600"/>
            </a:xfrm>
            <a:custGeom>
              <a:avLst/>
              <a:gdLst/>
              <a:ahLst/>
              <a:rect l="l" t="t" r="r" b="b"/>
              <a:pathLst>
                <a:path w="204" h="2707">
                  <a:moveTo>
                    <a:pt x="90" y="0"/>
                  </a:moveTo>
                  <a:lnTo>
                    <a:pt x="90" y="450"/>
                  </a:lnTo>
                  <a:lnTo>
                    <a:pt x="54" y="739"/>
                  </a:lnTo>
                  <a:lnTo>
                    <a:pt x="54" y="1537"/>
                  </a:lnTo>
                  <a:lnTo>
                    <a:pt x="0" y="1855"/>
                  </a:lnTo>
                  <a:lnTo>
                    <a:pt x="0" y="2707"/>
                  </a:lnTo>
                  <a:lnTo>
                    <a:pt x="204" y="270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6200000">
              <a:off x="6399000" y="2390760"/>
              <a:ext cx="164520" cy="31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6200000">
              <a:off x="6978600" y="2275920"/>
              <a:ext cx="238320" cy="54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200000">
              <a:off x="7143840" y="1553760"/>
              <a:ext cx="201600" cy="1839600"/>
            </a:xfrm>
            <a:custGeom>
              <a:avLst/>
              <a:gdLst/>
              <a:ahLst/>
              <a:rect l="l" t="t" r="r" b="b"/>
              <a:pathLst>
                <a:path w="198" h="2707">
                  <a:moveTo>
                    <a:pt x="108" y="0"/>
                  </a:moveTo>
                  <a:lnTo>
                    <a:pt x="108" y="450"/>
                  </a:lnTo>
                  <a:lnTo>
                    <a:pt x="144" y="739"/>
                  </a:lnTo>
                  <a:lnTo>
                    <a:pt x="144" y="1537"/>
                  </a:lnTo>
                  <a:lnTo>
                    <a:pt x="198" y="1855"/>
                  </a:lnTo>
                  <a:lnTo>
                    <a:pt x="198" y="2707"/>
                  </a:lnTo>
                  <a:lnTo>
                    <a:pt x="0" y="270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6824520" y="1285920"/>
              <a:ext cx="73080" cy="2539800"/>
            </a:xfrm>
            <a:custGeom>
              <a:avLst/>
              <a:gdLst/>
              <a:ahLst/>
              <a:rect l="l" t="t" r="r" b="b"/>
              <a:pathLst>
                <a:path w="72" h="3739">
                  <a:moveTo>
                    <a:pt x="36" y="0"/>
                  </a:moveTo>
                  <a:lnTo>
                    <a:pt x="0" y="3739"/>
                  </a:lnTo>
                  <a:lnTo>
                    <a:pt x="72" y="3739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cf30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8097840" y="2547720"/>
              <a:ext cx="12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8057520" y="2547720"/>
              <a:ext cx="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869240" y="2547720"/>
              <a:ext cx="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724520" y="2547720"/>
              <a:ext cx="12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682400" y="2547720"/>
              <a:ext cx="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7536240" y="2547720"/>
              <a:ext cx="12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495560" y="2547720"/>
              <a:ext cx="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347600" y="2547720"/>
              <a:ext cx="12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306560" y="2547720"/>
              <a:ext cx="1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1120" y="254772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120800" y="2547720"/>
              <a:ext cx="1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6974280" y="254772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932520" y="2547720"/>
              <a:ext cx="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784560" y="2547720"/>
              <a:ext cx="1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744600" y="2547720"/>
              <a:ext cx="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598080" y="254772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557760" y="2547720"/>
              <a:ext cx="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412320" y="2547720"/>
              <a:ext cx="12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369480" y="2547720"/>
              <a:ext cx="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222960" y="2547720"/>
              <a:ext cx="12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181560" y="2547720"/>
              <a:ext cx="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035760" y="2547720"/>
              <a:ext cx="12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994360" y="2547720"/>
              <a:ext cx="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847840" y="2547720"/>
              <a:ext cx="12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807520" y="2547720"/>
              <a:ext cx="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659920" y="2547720"/>
              <a:ext cx="12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619240" y="2547720"/>
              <a:ext cx="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473080" y="254772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432400" y="2547720"/>
              <a:ext cx="1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5550480" y="2494440"/>
              <a:ext cx="77400" cy="117000"/>
              <a:chOff x="5550480" y="2494440"/>
              <a:chExt cx="77400" cy="117000"/>
            </a:xfrm>
          </p:grpSpPr>
          <p:sp>
            <p:nvSpPr>
              <p:cNvPr id="255" name=""/>
              <p:cNvSpPr/>
              <p:nvPr/>
            </p:nvSpPr>
            <p:spPr>
              <a:xfrm rot="16200000">
                <a:off x="5569920" y="2535840"/>
                <a:ext cx="42840" cy="28440"/>
              </a:xfrm>
              <a:prstGeom prst="ellipse">
                <a:avLst/>
              </a:prstGeom>
              <a:solidFill>
                <a:srgbClr val="ff64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5550480" y="2494440"/>
                <a:ext cx="77400" cy="117000"/>
                <a:chOff x="5550480" y="2494440"/>
                <a:chExt cx="77400" cy="117000"/>
              </a:xfrm>
            </p:grpSpPr>
            <p:sp>
              <p:nvSpPr>
                <p:cNvPr id="257" name=""/>
                <p:cNvSpPr/>
                <p:nvPr/>
              </p:nvSpPr>
              <p:spPr>
                <a:xfrm flipV="1">
                  <a:off x="5579280" y="2554920"/>
                  <a:ext cx="241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5591520" y="2537640"/>
                  <a:ext cx="360" cy="3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V="1">
                  <a:off x="5591520" y="2494440"/>
                  <a:ext cx="360" cy="2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591520" y="2593080"/>
                  <a:ext cx="360" cy="1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5616000" y="2554920"/>
                  <a:ext cx="1188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5550480" y="2554920"/>
                  <a:ext cx="1620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3" name=""/>
            <p:cNvSpPr/>
            <p:nvPr/>
          </p:nvSpPr>
          <p:spPr>
            <a:xfrm>
              <a:off x="5608800" y="2751120"/>
              <a:ext cx="0" cy="514800"/>
            </a:xfrm>
            <a:prstGeom prst="line">
              <a:avLst/>
            </a:prstGeom>
            <a:ln w="93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120" y="2751120"/>
              <a:ext cx="1080" cy="514800"/>
            </a:xfrm>
            <a:prstGeom prst="line">
              <a:avLst/>
            </a:prstGeom>
            <a:ln w="93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55960" y="2864160"/>
              <a:ext cx="61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d4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cc"/>
                  </a:solidFill>
                  <a:latin typeface="Times New Roman"/>
                </a:rPr>
                <a:t>45 cm</a:t>
              </a:r>
              <a:r>
                <a:rPr b="0" lang="en-US" sz="1800" spc="-1" strike="noStrike">
                  <a:solidFill>
                    <a:srgbClr val="0000d4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47880" y="1905120"/>
              <a:ext cx="895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Times New Roman"/>
                </a:rPr>
                <a:t>0.5 mm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673600" y="2176560"/>
              <a:ext cx="158040" cy="164880"/>
            </a:xfrm>
            <a:prstGeom prst="line">
              <a:avLst/>
            </a:prstGeom>
            <a:ln w="9360">
              <a:solidFill>
                <a:srgbClr val="0000d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66760" y="2101680"/>
              <a:ext cx="389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d4"/>
                  </a:solidFill>
                  <a:latin typeface="Times New Roman"/>
                </a:rPr>
                <a:t>9</a:t>
              </a:r>
              <a:r>
                <a:rPr b="0" lang="en-US" sz="1600" spc="-1" strike="noStrike">
                  <a:solidFill>
                    <a:srgbClr val="0000cc"/>
                  </a:solidFill>
                  <a:latin typeface="Times New Roman"/>
                </a:rPr>
                <a:t>°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61320" y="3249360"/>
              <a:ext cx="2651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Times New Roman"/>
                </a:rPr>
                <a:t>permanent  magnet  quadrupo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 flipV="1">
              <a:off x="6590520" y="2736360"/>
              <a:ext cx="372240" cy="486000"/>
            </a:xfrm>
            <a:prstGeom prst="line">
              <a:avLst/>
            </a:prstGeom>
            <a:ln w="9360">
              <a:solidFill>
                <a:srgbClr val="0000d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969240" y="2883960"/>
              <a:ext cx="58680" cy="331560"/>
            </a:xfrm>
            <a:prstGeom prst="line">
              <a:avLst/>
            </a:prstGeom>
            <a:ln w="9360">
              <a:solidFill>
                <a:srgbClr val="0000d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968160" y="2845800"/>
              <a:ext cx="714600" cy="382680"/>
            </a:xfrm>
            <a:prstGeom prst="line">
              <a:avLst/>
            </a:prstGeom>
            <a:ln w="9360">
              <a:solidFill>
                <a:srgbClr val="0000d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5593680" y="1904760"/>
              <a:ext cx="2869200" cy="636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911360" y="2541240"/>
              <a:ext cx="45360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32760" y="2352960"/>
              <a:ext cx="288360" cy="38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15000" y="2472840"/>
              <a:ext cx="10080" cy="63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712840" y="2564640"/>
              <a:ext cx="8640" cy="6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38680" y="3184200"/>
              <a:ext cx="6620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39800" y="2544840"/>
              <a:ext cx="12024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39800" y="2344680"/>
              <a:ext cx="12024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5299920" y="2544840"/>
              <a:ext cx="0" cy="2397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299920" y="2098440"/>
              <a:ext cx="0" cy="2397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31720" y="2737800"/>
              <a:ext cx="68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Times New Roman"/>
                </a:rPr>
                <a:t>10 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4876920" y="3733920"/>
            <a:ext cx="38862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12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Be walls minimize regeneration, multiple scattering, and energy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drupoles improves the rejection of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a factor of 5 and decrease machine 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1360" y="38052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QCAL and beam pip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4190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KLOE physic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1219320"/>
            <a:ext cx="43434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Kaon 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66ff"/>
                </a:solidFill>
                <a:latin typeface="Times New Roman"/>
              </a:rPr>
              <a:t>CP violation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Double rati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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Interferenc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,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1, 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66ff"/>
                </a:solidFill>
                <a:latin typeface="Times New Roman"/>
              </a:rPr>
              <a:t>Semileptonic assymetry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66ff"/>
                </a:solidFill>
                <a:latin typeface="Times New Roman"/>
              </a:rPr>
              <a:t>Rare 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K</a:t>
            </a:r>
            <a:r>
              <a:rPr b="0" lang="en-US" sz="1800" spc="-1" strike="noStrike" baseline="-25000">
                <a:solidFill>
                  <a:srgbClr val="0066ff"/>
                </a:solidFill>
                <a:latin typeface="Times New Roman"/>
              </a:rPr>
              <a:t>S</a:t>
            </a:r>
            <a:r>
              <a:rPr b="0" lang="ru-RU" sz="1800" spc="-1" strike="noStrike">
                <a:solidFill>
                  <a:srgbClr val="0066ff"/>
                </a:solidFill>
                <a:latin typeface="Times New Roman"/>
              </a:rPr>
              <a:t>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66ff"/>
                </a:solidFill>
                <a:latin typeface="Times New Roman"/>
              </a:rPr>
              <a:t>Kaon form factor (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K</a:t>
            </a:r>
            <a:r>
              <a:rPr b="0" lang="en-US" sz="1800" spc="-1" strike="noStrike" baseline="-25000">
                <a:solidFill>
                  <a:srgbClr val="0066ff"/>
                </a:solidFill>
                <a:latin typeface="Times New Roman"/>
              </a:rPr>
              <a:t>L </a:t>
            </a:r>
            <a:r>
              <a:rPr b="0" lang="en-US" sz="18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>
                <a:solidFill>
                  <a:srgbClr val="0066ff"/>
                </a:solidFill>
                <a:latin typeface="Times New Roman"/>
              </a:rPr>
              <a:t>l</a:t>
            </a:r>
            <a:r>
              <a:rPr b="0" lang="ru-RU" sz="1800" spc="-1" strike="noStrike">
                <a:solidFill>
                  <a:srgbClr val="0066ff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, K</a:t>
            </a:r>
            <a:r>
              <a:rPr b="0" lang="en-US" sz="18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lang="ru-RU" sz="20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</a:t>
            </a:r>
            <a:r>
              <a:rPr b="0" lang="ru-RU" sz="2000" spc="-1" strike="noStrike" baseline="30000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l</a:t>
            </a:r>
            <a:r>
              <a:rPr b="0" lang="ru-RU" sz="1800" spc="-1" strike="noStrike">
                <a:solidFill>
                  <a:srgbClr val="0066ff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66ff"/>
                </a:solidFill>
                <a:latin typeface="Times New Roman"/>
              </a:rPr>
              <a:t>Kaon regeneration at low ener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1295280"/>
            <a:ext cx="297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29200" y="1295280"/>
            <a:ext cx="3406680" cy="27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Radiative </a:t>
            </a:r>
            <a:r>
              <a:rPr b="0" lang="ru-RU" sz="2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dec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Branching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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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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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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03720" y="4419720"/>
            <a:ext cx="3026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Hadronic cross sectio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66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(e</a:t>
            </a:r>
            <a:r>
              <a:rPr b="0" lang="en-US" sz="1800" spc="-1" strike="noStrike" baseline="30000">
                <a:solidFill>
                  <a:srgbClr val="0066ff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66ff"/>
                </a:solidFill>
                <a:latin typeface="Symbol"/>
                <a:ea typeface="Symbol"/>
              </a:rPr>
              <a:t>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85800" y="4876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81480" y="4876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8080" y="4952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380520"/>
            <a:ext cx="564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Measurement of Re(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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1219320"/>
            <a:ext cx="7010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625760" y="1460520"/>
                <a:ext cx="58687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f>
                              <m:num>
                                <m:r>
                                  <m:t xml:space="preserve">ε</m:t>
                                </m:r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457200" y="2666880"/>
            <a:ext cx="4114800" cy="2508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ord average data (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(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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LO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is to measure Re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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a double ratio with a sensitivity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-4 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otal statistic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 f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52578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i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35128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4876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236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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s tagging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52880" y="1371600"/>
            <a:ext cx="320040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Ks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Selection cu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Eclust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0 MeV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|cos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clust)| 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0.195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0.2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Tagging efficiency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30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990720" y="1295280"/>
          <a:ext cx="26334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2633400" cy="28195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1371600" y="1676520"/>
            <a:ext cx="3808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15238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– cr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1981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 baseline="30000">
                <a:solidFill>
                  <a:srgbClr val="3366ff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23880" y="2819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 baseline="30000">
                <a:solidFill>
                  <a:srgbClr val="33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4267080"/>
            <a:ext cx="304812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Ks tagging by identification of K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interacting in the EmC  (K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cras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3276360" cy="1575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257800" y="5486400"/>
            <a:ext cx="304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Nominal velocity of 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in the rest frame of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0.2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257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2000 data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5.4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K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L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ras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2001 data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6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10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K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cr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85800" y="4876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4952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Ratio 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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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/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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s 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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/ 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2819520" cy="2251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762120" y="56386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ck IP momentum (MeV/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581280" cy="23605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09480" y="1108080"/>
            <a:ext cx="29718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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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- t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track from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0 &lt; p &lt; 300 MeV/c for rejection o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lt; 15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th tracks impinged to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3886200"/>
            <a:ext cx="3581280" cy="21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election efficiency by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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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surement of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170 Me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lded with theoretica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 spectr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ion efficienc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7.6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0.2)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85800" y="4876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4952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Ratio 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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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/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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s 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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/ I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219320"/>
            <a:ext cx="289548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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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neutral clusters from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gt; 20 MeV, co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lt; 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 t - R/C | &lt; min(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 3 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3424320" cy="2633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2666880" y="3733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2578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s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57800" y="495288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oton detection efficiency as function of expecte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nergy and different polar angle reg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724280" y="1371600"/>
            <a:ext cx="3581640" cy="18194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4724280" y="3200400"/>
            <a:ext cx="35816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4876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Ratio 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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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/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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s 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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/ II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087720" cy="28591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114800" y="44956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KLOE 2000 data    2.239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0.003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(stat.)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0.015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(sys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DG 2000                2.197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0.0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5562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otal error 0.68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1530360"/>
            <a:ext cx="32767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surement was done on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7 pb</a:t>
            </a:r>
            <a:r>
              <a:rPr b="0" lang="en-US" sz="16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tegrated during year 2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1.098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0.788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1600" spc="-1" strike="noStrike" baseline="30000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94320" y="5510160"/>
            <a:ext cx="2494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hys.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ett.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B 538 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(2002)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,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080" y="2971800"/>
            <a:ext cx="304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lative contributions to the final systematic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923760" y="3738600"/>
          <a:ext cx="3435480" cy="1789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3760" y="3738600"/>
                    <a:ext cx="343548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85800" y="4876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81480" y="4876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952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BR (Ks</a:t>
            </a:r>
            <a:r>
              <a:rPr b="0" lang="ru-RU" sz="3600" spc="-1" strike="noStrike">
                <a:solidFill>
                  <a:srgbClr val="0066ff"/>
                </a:solidFill>
                <a:latin typeface="Symbol"/>
                <a:ea typeface="Symbol"/>
              </a:rPr>
              <a:t></a:t>
            </a: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e</a:t>
            </a:r>
            <a:r>
              <a:rPr b="0" lang="ru-RU" sz="3600" spc="-1" strike="noStrike">
                <a:solidFill>
                  <a:srgbClr val="0066ff"/>
                </a:solidFill>
                <a:latin typeface="Symbol"/>
                <a:ea typeface="Symbol"/>
              </a:rPr>
              <a:t></a:t>
            </a: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)  / 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1371600"/>
            <a:ext cx="4114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3087720" cy="32004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04920" y="1295280"/>
            <a:ext cx="4876560" cy="28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oti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 o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 rule :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Ks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means BR(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(6.70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0.07)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1600" spc="-1" strike="noStrike" baseline="30000">
                <a:solidFill>
                  <a:srgbClr val="ff0000"/>
                </a:solidFill>
                <a:latin typeface="Times New Roman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ly one measurement was d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BR(Ks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7.2 </a:t>
            </a:r>
            <a:r>
              <a:rPr b="0" lang="ru-RU" sz="16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1.4) x 10</a:t>
            </a:r>
            <a:r>
              <a:rPr b="0" lang="ru-RU" sz="1600" spc="-1" strike="noStrike" baseline="30000">
                <a:solidFill>
                  <a:srgbClr val="ff0000"/>
                </a:solidFill>
                <a:latin typeface="Times New Roman"/>
              </a:rPr>
              <a:t>-4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CMD2, 75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3 ev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4114800"/>
            <a:ext cx="4343400" cy="20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rese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as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rged vertex with  r&lt;8cm , |z|&lt;10c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tracks with associated with EmC clu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Kinematical preselection : two tracks from IP, cut on M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and P(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72200" y="5029200"/>
            <a:ext cx="1905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ical selected event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Ks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5800" y="4876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81480" y="4876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BR (Ks</a:t>
            </a:r>
            <a:r>
              <a:rPr b="0" lang="ru-RU" sz="3600" spc="-1" strike="noStrike">
                <a:solidFill>
                  <a:srgbClr val="0066ff"/>
                </a:solidFill>
                <a:latin typeface="Symbol"/>
                <a:ea typeface="Symbol"/>
              </a:rPr>
              <a:t></a:t>
            </a: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e</a:t>
            </a:r>
            <a:r>
              <a:rPr b="0" lang="ru-RU" sz="3600" spc="-1" strike="noStrike">
                <a:solidFill>
                  <a:srgbClr val="0066ff"/>
                </a:solidFill>
                <a:latin typeface="Symbol"/>
                <a:ea typeface="Symbol"/>
              </a:rPr>
              <a:t></a:t>
            </a: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)  / I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1371600"/>
            <a:ext cx="4114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838080" y="1157400"/>
            <a:ext cx="2476800" cy="2271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 rot="16200000">
            <a:off x="-21240" y="1774080"/>
            <a:ext cx="1293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(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(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838080" y="3500280"/>
            <a:ext cx="2448000" cy="22910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057400" y="5715000"/>
            <a:ext cx="1219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(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(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62520" y="1295280"/>
            <a:ext cx="4647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67080" y="1371600"/>
            <a:ext cx="2895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05520" y="1447920"/>
            <a:ext cx="29718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e /</a:t>
            </a:r>
            <a:r>
              <a:rPr b="0" lang="ru-RU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TOF iden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Time difference of particle x :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L/(c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Time difference in </a:t>
            </a:r>
            <a:r>
              <a:rPr b="0" lang="ru-RU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e / e</a:t>
            </a:r>
            <a:r>
              <a:rPr b="0" lang="ru-RU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hypothesis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t(e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t(e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For rejection of </a:t>
            </a:r>
            <a:r>
              <a:rPr b="0" lang="ru-RU" sz="1600" spc="-1" strike="noStrike">
                <a:solidFill>
                  <a:srgbClr val="ff0000"/>
                </a:solidFill>
                <a:latin typeface="Symbol"/>
                <a:ea typeface="Symbol"/>
              </a:rPr>
              <a:t>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event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| &gt; 1.5 n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e / e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event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1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|D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t(e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| &lt; 1 n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|D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t(e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| &gt; 3 n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or 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05320" y="1295280"/>
            <a:ext cx="15238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s of the time difference in the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vs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mass hypothesis for 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27432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Ks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</a:t>
            </a:r>
            <a:r>
              <a:rPr b="0" lang="en-US" sz="16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90720" y="46483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Ks semileptonic</a:t>
            </a:r>
            <a:r>
              <a:rPr b="0" lang="en-US" sz="16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85800" y="4876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81480" y="4876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BR (Ks</a:t>
            </a:r>
            <a:r>
              <a:rPr b="0" lang="ru-RU" sz="3600" spc="-1" strike="noStrike">
                <a:solidFill>
                  <a:srgbClr val="0066ff"/>
                </a:solidFill>
                <a:latin typeface="Symbol"/>
                <a:ea typeface="Symbol"/>
              </a:rPr>
              <a:t></a:t>
            </a: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e</a:t>
            </a:r>
            <a:r>
              <a:rPr b="0" lang="ru-RU" sz="3600" spc="-1" strike="noStrike">
                <a:solidFill>
                  <a:srgbClr val="0066ff"/>
                </a:solidFill>
                <a:latin typeface="Symbol"/>
                <a:ea typeface="Symbol"/>
              </a:rPr>
              <a:t></a:t>
            </a: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)  / II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1371600"/>
            <a:ext cx="4114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3267360" cy="32767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219320" y="160020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Data 17 pb</a:t>
            </a:r>
            <a:r>
              <a:rPr b="0" lang="en-US" sz="1600" spc="-1" strike="noStrike" baseline="30000">
                <a:solidFill>
                  <a:srgbClr val="0000ff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MC Signal + Bkg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05520" y="1143000"/>
            <a:ext cx="3657600" cy="33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Kinematical iden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Fi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ss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MC spectra for signal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ackground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all selection efficienc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1.9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7)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lize to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ecay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.64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Statistical error 4.9 %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lower with data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66680" y="4800600"/>
            <a:ext cx="2895840" cy="10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ak at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0  corresponds to a clean signal of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05520" y="4267080"/>
            <a:ext cx="3581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KLOE 2000  :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BR (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Ks</a:t>
            </a:r>
            <a:r>
              <a:rPr b="0" lang="ru-RU" sz="1600" spc="-1" strike="noStrike">
                <a:solidFill>
                  <a:srgbClr val="0000ff"/>
                </a:solidFill>
                <a:latin typeface="Symbol"/>
                <a:ea typeface="Symbol"/>
              </a:rPr>
              <a:t>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ru-RU" sz="1600" spc="-1" strike="noStrike">
                <a:solidFill>
                  <a:srgbClr val="0000ff"/>
                </a:solidFill>
                <a:latin typeface="Symbol"/>
                <a:ea typeface="Symbol"/>
              </a:rPr>
              <a:t>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) =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6.91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0.34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stat.)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0.15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syst.)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)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19320" y="25146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Yield = 627 </a:t>
            </a:r>
            <a:r>
              <a:rPr b="1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30 ev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7800" y="5029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otal error 5.3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94320" y="5486400"/>
            <a:ext cx="2494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hys.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ett. B 535 (2002), 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28480" y="3657600"/>
          <a:ext cx="4043520" cy="23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3657600"/>
                    <a:ext cx="4043520" cy="23623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724280" y="3657600"/>
            <a:ext cx="388620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en-US" sz="20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t p = 127 MeV/c 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95 cm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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t p = 110 MeV/c 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0.6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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t p = 110 MeV/c 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343 c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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1360" y="380520"/>
            <a:ext cx="6249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KLOE physics at 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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- factor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819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in decays of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10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144792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llider at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- p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1600200"/>
            <a:ext cx="3505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-Italic"/>
              </a:rPr>
              <a:t> </a:t>
            </a:r>
            <a:r>
              <a:rPr b="0" lang="de-DE" sz="2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0" lang="de-DE" sz="2400" spc="-1" strike="noStrike">
                <a:solidFill>
                  <a:srgbClr val="0000ff"/>
                </a:solidFill>
                <a:latin typeface="Times-Italic"/>
              </a:rPr>
              <a:t> </a:t>
            </a:r>
            <a:r>
              <a:rPr b="0" lang="de-DE" sz="2400" spc="-1" strike="noStrike">
                <a:solidFill>
                  <a:srgbClr val="0000ff"/>
                </a:solidFill>
                <a:latin typeface="Times-Italic"/>
              </a:rPr>
              <a:t>(1020)</a:t>
            </a: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 with </a:t>
            </a:r>
            <a:r>
              <a:rPr b="0" lang="de-DE" sz="2400" spc="-1" strike="noStrike">
                <a:solidFill>
                  <a:srgbClr val="0000ff"/>
                </a:solidFill>
                <a:latin typeface="Times-Italic"/>
              </a:rPr>
              <a:t>J</a:t>
            </a:r>
            <a:r>
              <a:rPr b="0" lang="de-DE" sz="2400" spc="-1" strike="noStrike" baseline="30000">
                <a:solidFill>
                  <a:srgbClr val="0000ff"/>
                </a:solidFill>
                <a:latin typeface="Times-Italic"/>
              </a:rPr>
              <a:t>PC </a:t>
            </a:r>
            <a:r>
              <a:rPr b="0" lang="de-DE" sz="2400" spc="-1" strike="noStrike">
                <a:solidFill>
                  <a:srgbClr val="0000ff"/>
                </a:solidFill>
                <a:latin typeface="Times-Italic"/>
              </a:rPr>
              <a:t>= 1</a:t>
            </a:r>
            <a:r>
              <a:rPr b="0" lang="de-DE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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e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3.2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= 1020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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= 4.4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3520" y="3808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Charged kaon’s phys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Charged kaon’s physics / 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5562720" y="11430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562720" y="3581280"/>
            <a:ext cx="2666880" cy="23860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4724280" y="1219320"/>
            <a:ext cx="1295640" cy="1554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—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MC</a:t>
            </a:r>
            <a:r>
              <a:rPr b="0" lang="en-US" sz="16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tal spec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—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16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</a:t>
            </a:r>
            <a:r>
              <a:rPr b="0" lang="en-US" sz="16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ff"/>
                </a:solidFill>
                <a:latin typeface="Times New Roman"/>
              </a:rPr>
              <a:t>— </a:t>
            </a:r>
            <a:r>
              <a:rPr b="0" lang="en-US" sz="1600" spc="-1" strike="noStrike">
                <a:solidFill>
                  <a:srgbClr val="cc00ff"/>
                </a:solidFill>
                <a:latin typeface="Times New Roman"/>
              </a:rPr>
              <a:t>K</a:t>
            </a:r>
            <a:r>
              <a:rPr b="0" lang="en-US" sz="1600" spc="-1" strike="noStrike" baseline="30000">
                <a:solidFill>
                  <a:srgbClr val="cc00ff"/>
                </a:solidFill>
                <a:latin typeface="Symbol"/>
                <a:ea typeface="Symbol"/>
              </a:rPr>
              <a:t></a:t>
            </a:r>
            <a:r>
              <a:rPr b="0" lang="en-US" sz="1600" spc="-1" strike="noStrike">
                <a:solidFill>
                  <a:srgbClr val="cc00ff"/>
                </a:solidFill>
                <a:latin typeface="Symbol"/>
                <a:ea typeface="Symbol"/>
              </a:rPr>
              <a:t></a:t>
            </a:r>
            <a:r>
              <a:rPr b="0" lang="en-US" sz="1600" spc="-1" strike="noStrike" baseline="30000">
                <a:solidFill>
                  <a:srgbClr val="cc00ff"/>
                </a:solidFill>
                <a:latin typeface="Symbol"/>
                <a:ea typeface="Symbol"/>
              </a:rPr>
              <a:t></a:t>
            </a:r>
            <a:r>
              <a:rPr b="0" lang="en-US" sz="16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cc00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—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Three body decay</a:t>
            </a:r>
            <a:r>
              <a:rPr b="0" lang="en-US" sz="1600" spc="-1" strike="noStrike">
                <a:solidFill>
                  <a:srgbClr val="cc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1371600"/>
            <a:ext cx="3200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1447920"/>
            <a:ext cx="373356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am has a large statistics, or 49 % of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ecays, but is hard for track reco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ow kaons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27 MeV/c) has energy losses up to 30 MeV/c (20 %) by mo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ple scattering makes charged kaons difficult for reconstruction proced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gging strategy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cc00ff"/>
                </a:solidFill>
                <a:latin typeface="Symbol"/>
                <a:ea typeface="Symbol"/>
              </a:rPr>
              <a:t></a:t>
            </a:r>
            <a:r>
              <a:rPr b="0" lang="en-US" sz="1600" spc="-1" strike="noStrike" baseline="30000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Times New Roman"/>
              </a:rPr>
              <a:t>- pea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round 205 MeV/c, has a trigger efficienc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00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- pea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round 235 MeV/c, has a low contamination from other dec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th decays can be used for tag of the charged kaon dec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38862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- p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19920" y="39625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cc00ff"/>
                </a:solidFill>
                <a:latin typeface="Symbol"/>
                <a:ea typeface="Symbol"/>
              </a:rPr>
              <a:t></a:t>
            </a:r>
            <a:r>
              <a:rPr b="0" lang="en-US" sz="16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Times New Roman"/>
              </a:rPr>
              <a:t>- p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533520" y="3808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Charged kaon’s phys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Charged kaon’s physics / I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3520" y="1371600"/>
            <a:ext cx="3200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520" y="1981080"/>
            <a:ext cx="8076960" cy="19558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surement o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ross section (at the peak and by energy sc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tio BR(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/BR(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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for estimation DC possi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surement of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ugh BR( Ke3)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imation of form factors Ke3 and K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surement of BR(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estimation of Dalitz plot 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1295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Recent results of charged kaon phy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071720" y="690084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380880" y="4114800"/>
          <a:ext cx="8312400" cy="22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114800"/>
                    <a:ext cx="831240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4876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1720" y="380520"/>
            <a:ext cx="6478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</a:t>
            </a:r>
            <a:r>
              <a:rPr b="0" lang="en-US" sz="3600" spc="-1" strike="noStrike">
                <a:solidFill>
                  <a:srgbClr val="0066ff"/>
                </a:solidFill>
                <a:latin typeface="SymbolProp BT"/>
                <a:ea typeface="SymbolProp BT"/>
              </a:rPr>
              <a:t>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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'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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, 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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/ 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2120" y="1143000"/>
            <a:ext cx="3276360" cy="37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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can probe the gluonic content o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'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lated to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'-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ixing parameters and determines the mixing angle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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In the quark flavour basis the mixing can be described by one parameter - angle </a:t>
            </a:r>
            <a:r>
              <a:rPr b="0" lang="ru-RU" sz="1600" spc="-1" strike="noStrike">
                <a:solidFill>
                  <a:srgbClr val="0000ff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p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838080" y="2438280"/>
                <a:ext cx="1663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5257800" y="2209680"/>
            <a:ext cx="3505320" cy="15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e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al stat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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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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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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2720" y="4114800"/>
            <a:ext cx="342900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sible background :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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dditional photon detected due to accidental or splitting clusters) ,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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KsK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decaying near the interaction reg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152280" y="4876920"/>
                <a:ext cx="403884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</m:den>
                            </m:f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Pη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η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4419720" y="4724280"/>
                <a:ext cx="9777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419720" y="5562720"/>
                <a:ext cx="927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5334120" y="1371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t sample : 16 p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om 2000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181480" y="4876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4952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1720" y="380520"/>
            <a:ext cx="6478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</a:t>
            </a:r>
            <a:r>
              <a:rPr b="0" lang="en-US" sz="3600" spc="-1" strike="noStrike">
                <a:solidFill>
                  <a:srgbClr val="0066ff"/>
                </a:solidFill>
                <a:latin typeface="SymbolProp BT"/>
                <a:ea typeface="SymbolProp BT"/>
              </a:rPr>
              <a:t>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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'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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, 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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/ I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5105520" y="1143000"/>
            <a:ext cx="2666880" cy="24112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5334120" y="3581280"/>
            <a:ext cx="2403360" cy="24386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33520" y="3733920"/>
            <a:ext cx="335268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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 background fro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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liptic cut in the plane of the two phot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3520" y="5105520"/>
            <a:ext cx="40384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50210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2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vents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37 %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20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vents,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23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520" y="1219320"/>
            <a:ext cx="457200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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tex with opposite charge track from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ee photons with E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gt; 10 MeV an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lt;15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ained kinematic f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20 Mev  &lt; E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rad &lt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0 M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 550 M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4876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81480" y="4876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38080" y="4952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1720" y="380520"/>
            <a:ext cx="6478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</a:t>
            </a:r>
            <a:r>
              <a:rPr b="0" lang="en-US" sz="3600" spc="-1" strike="noStrike">
                <a:solidFill>
                  <a:srgbClr val="0066ff"/>
                </a:solidFill>
                <a:latin typeface="SymbolProp BT"/>
                <a:ea typeface="SymbolProp BT"/>
              </a:rPr>
              <a:t>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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'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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, 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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/ II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rcRect l="26564" t="10217" r="9376" b="8063"/>
          <a:stretch/>
        </p:blipFill>
        <p:spPr>
          <a:xfrm>
            <a:off x="5257800" y="2666880"/>
            <a:ext cx="3581280" cy="2132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6027480" y="5334120"/>
            <a:ext cx="2494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hys.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ett. B 541 (2002),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4920" y="2971800"/>
            <a:ext cx="45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BR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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(1.297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003) % (PDG)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2280" y="3581280"/>
            <a:ext cx="510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BR(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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'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(6.10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0.61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(stat.)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0.43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(syst.)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000" spc="-1" strike="noStrike" baseline="30000">
                <a:solidFill>
                  <a:srgbClr val="0000ff"/>
                </a:solidFill>
                <a:latin typeface="Times New Rom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47242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ing ang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ru-RU" sz="2400" spc="-1" strike="noStrike">
                <a:solidFill>
                  <a:srgbClr val="0000ff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=  (41.8 </a:t>
            </a:r>
            <a:r>
              <a:rPr b="0" lang="ru-RU" sz="1800" spc="-1" strike="noStrike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1.7)</a:t>
            </a:r>
            <a:r>
              <a:rPr b="0" lang="ru-RU" sz="1800" spc="-1" strike="noStrike" baseline="30000">
                <a:solidFill>
                  <a:srgbClr val="0000ff"/>
                </a:solidFill>
                <a:latin typeface="Times New Roman"/>
              </a:rPr>
              <a:t>0 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ff"/>
                </a:solidFill>
                <a:latin typeface="Symbol"/>
                <a:ea typeface="Symbol"/>
              </a:rPr>
              <a:t>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=  – (12.9 </a:t>
            </a:r>
            <a:r>
              <a:rPr b="0" lang="ru-RU" sz="1800" spc="-1" strike="noStrike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1.7)</a:t>
            </a:r>
            <a:r>
              <a:rPr b="0" lang="ru-RU" sz="18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ru-RU" sz="16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80880" y="1295280"/>
                <a:ext cx="48387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γ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γ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γ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γ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γγ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γγ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K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5257800" y="1828800"/>
            <a:ext cx="2971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0.95  (interference with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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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3520" y="2514600"/>
            <a:ext cx="41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R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(4.70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0.47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(stat.)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0.31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(syst.)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0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143000" y="4114800"/>
                <a:ext cx="27176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DG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BR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85800" y="4876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38080" y="4952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1360" y="380520"/>
            <a:ext cx="6707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</a:t>
            </a:r>
            <a:r>
              <a:rPr b="0" lang="en-US" sz="3600" spc="-1" strike="noStrike">
                <a:solidFill>
                  <a:srgbClr val="0066ff"/>
                </a:solidFill>
                <a:latin typeface="SymbolProp BT"/>
                <a:ea typeface="SymbolProp BT"/>
              </a:rPr>
              <a:t>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(a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(980), f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(980) ) +  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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1219320"/>
            <a:ext cx="441972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otiv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980) and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980) are not easily described a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q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tates and other interpretations are suggested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qqq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tates (lower mas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K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olecule (m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~2m(K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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est mass scala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q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o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05520" y="1219320"/>
            <a:ext cx="327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collected in the year 2000, 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6 pb</a:t>
            </a:r>
            <a:r>
              <a:rPr b="1" lang="en-US" sz="1600" spc="-1" strike="noStrike" baseline="30000">
                <a:solidFill>
                  <a:srgbClr val="0000ff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 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on decay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370080" y="4411800"/>
            <a:ext cx="8580240" cy="1608840"/>
            <a:chOff x="370080" y="4411800"/>
            <a:chExt cx="8580240" cy="1608840"/>
          </a:xfrm>
        </p:grpSpPr>
        <p:sp>
          <p:nvSpPr>
            <p:cNvPr id="430" name=""/>
            <p:cNvSpPr/>
            <p:nvPr/>
          </p:nvSpPr>
          <p:spPr>
            <a:xfrm>
              <a:off x="473040" y="541044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82520" y="5105520"/>
              <a:ext cx="8384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20960" y="5410440"/>
              <a:ext cx="990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911320" y="4953240"/>
              <a:ext cx="3812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11320" y="541044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8068200">
              <a:off x="815760" y="4762440"/>
              <a:ext cx="1087560" cy="249120"/>
            </a:xfrm>
            <a:custGeom>
              <a:avLst/>
              <a:gdLst/>
              <a:ahLst/>
              <a:rect l="l" t="t" r="r" b="b"/>
              <a:pathLst>
                <a:path w="685" h="157">
                  <a:moveTo>
                    <a:pt x="0" y="65"/>
                  </a:moveTo>
                  <a:cubicBezTo>
                    <a:pt x="9" y="88"/>
                    <a:pt x="13" y="130"/>
                    <a:pt x="33" y="146"/>
                  </a:cubicBezTo>
                  <a:cubicBezTo>
                    <a:pt x="36" y="148"/>
                    <a:pt x="62" y="156"/>
                    <a:pt x="65" y="157"/>
                  </a:cubicBezTo>
                  <a:cubicBezTo>
                    <a:pt x="70" y="156"/>
                    <a:pt x="97" y="151"/>
                    <a:pt x="103" y="146"/>
                  </a:cubicBezTo>
                  <a:cubicBezTo>
                    <a:pt x="124" y="129"/>
                    <a:pt x="126" y="88"/>
                    <a:pt x="142" y="65"/>
                  </a:cubicBezTo>
                  <a:cubicBezTo>
                    <a:pt x="153" y="29"/>
                    <a:pt x="158" y="12"/>
                    <a:pt x="196" y="0"/>
                  </a:cubicBezTo>
                  <a:cubicBezTo>
                    <a:pt x="251" y="13"/>
                    <a:pt x="234" y="42"/>
                    <a:pt x="261" y="81"/>
                  </a:cubicBezTo>
                  <a:cubicBezTo>
                    <a:pt x="273" y="121"/>
                    <a:pt x="286" y="130"/>
                    <a:pt x="321" y="141"/>
                  </a:cubicBezTo>
                  <a:cubicBezTo>
                    <a:pt x="340" y="135"/>
                    <a:pt x="354" y="130"/>
                    <a:pt x="370" y="119"/>
                  </a:cubicBezTo>
                  <a:cubicBezTo>
                    <a:pt x="385" y="72"/>
                    <a:pt x="390" y="24"/>
                    <a:pt x="440" y="5"/>
                  </a:cubicBezTo>
                  <a:cubicBezTo>
                    <a:pt x="451" y="9"/>
                    <a:pt x="465" y="8"/>
                    <a:pt x="473" y="16"/>
                  </a:cubicBezTo>
                  <a:cubicBezTo>
                    <a:pt x="481" y="24"/>
                    <a:pt x="478" y="39"/>
                    <a:pt x="484" y="49"/>
                  </a:cubicBezTo>
                  <a:cubicBezTo>
                    <a:pt x="500" y="77"/>
                    <a:pt x="523" y="125"/>
                    <a:pt x="554" y="136"/>
                  </a:cubicBezTo>
                  <a:cubicBezTo>
                    <a:pt x="590" y="131"/>
                    <a:pt x="608" y="136"/>
                    <a:pt x="620" y="103"/>
                  </a:cubicBezTo>
                  <a:cubicBezTo>
                    <a:pt x="623" y="80"/>
                    <a:pt x="628" y="35"/>
                    <a:pt x="652" y="21"/>
                  </a:cubicBezTo>
                  <a:cubicBezTo>
                    <a:pt x="663" y="14"/>
                    <a:pt x="685" y="0"/>
                    <a:pt x="68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06560" y="5334120"/>
              <a:ext cx="15228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44640" y="5334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35360" y="5334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25720" y="4876920"/>
              <a:ext cx="15264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25720" y="518184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25720" y="54864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82920" y="4724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17680" y="4732560"/>
              <a:ext cx="48326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K)                   from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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(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K) g(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K)         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(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 g(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        M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M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spect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85840" y="5029200"/>
              <a:ext cx="51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62560" y="5683320"/>
              <a:ext cx="268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aon loop                 final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3040" y="4934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35760" y="51055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35760" y="54104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0080" y="4476960"/>
              <a:ext cx="105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adiative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1905120" y="3962520"/>
            <a:ext cx="6553080" cy="7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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sitive to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ature: phenomenological framework 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kaon loop mod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1905120"/>
            <a:ext cx="3733920" cy="20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alysis used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ca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al st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cay analyzed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al state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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tracks + 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al state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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5800" y="4876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81480" y="4876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478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</a:t>
            </a:r>
            <a:r>
              <a:rPr b="0" lang="en-US" sz="3600" spc="-1" strike="noStrike">
                <a:solidFill>
                  <a:srgbClr val="0066ff"/>
                </a:solidFill>
                <a:latin typeface="SymbolProp BT"/>
                <a:ea typeface="SymbolProp BT"/>
              </a:rPr>
              <a:t>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(f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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</a:rPr>
              <a:t>0 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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4952880" y="1219320"/>
            <a:ext cx="3124440" cy="29844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5646600" y="5791320"/>
            <a:ext cx="2494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hys.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ett. B 537 (2002),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18160" y="4194000"/>
            <a:ext cx="419724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t to the M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pectrum (kaon lo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ibutions fro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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 negative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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contribution is neglig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8600" y="3657600"/>
            <a:ext cx="45720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R(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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1.09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0.03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(stat.)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0.05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(syst.)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DG :   (1.08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17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09)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3520" y="1138320"/>
            <a:ext cx="4038480" cy="22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with E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gt; 7 M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nematic f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sible backgroun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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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32767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2438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61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0280" y="4572000"/>
            <a:ext cx="3312000" cy="16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t res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(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7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/4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79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0.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Ge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/g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5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0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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6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0.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4876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4876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478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</a:t>
            </a:r>
            <a:r>
              <a:rPr b="0" lang="en-US" sz="3600" spc="-1" strike="noStrike">
                <a:solidFill>
                  <a:srgbClr val="0066ff"/>
                </a:solidFill>
                <a:latin typeface="SymbolProp BT"/>
                <a:ea typeface="SymbolProp BT"/>
              </a:rPr>
              <a:t>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(a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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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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646240" y="5791320"/>
            <a:ext cx="25963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hys.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ett. B 536 (2002), 2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5334120" y="1295280"/>
            <a:ext cx="3047760" cy="28879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5562720" y="25146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ampl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8280" y="2209680"/>
            <a:ext cx="479448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916 events at background N = 309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R(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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) = (8.5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0.5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(stat.)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0.6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(syst.)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</a:rPr>
              <a:t>-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520" y="1143000"/>
            <a:ext cx="327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vestigation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as done by two sampl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(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3520" y="306216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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 charged tracks + 5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4600" y="3581280"/>
            <a:ext cx="479448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197 events at background N = 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R(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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) = (8.0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0.6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(stat.)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0.5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(syst.)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</a:rPr>
              <a:t>-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4920" y="4800600"/>
            <a:ext cx="426708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M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984.8  MeV  (PDG) fit to the M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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tra giv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/4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4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0.0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/g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35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0.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0880" y="44197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t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67920" y="4597560"/>
            <a:ext cx="34956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R(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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) = (7.4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0.7)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R(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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R(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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484320" y="41148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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Me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05520" y="1219320"/>
            <a:ext cx="1676160" cy="1067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—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—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</a:t>
            </a:r>
            <a:r>
              <a:rPr b="0" lang="en-US" sz="16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ff"/>
                </a:solidFill>
                <a:latin typeface="Times New Roman"/>
              </a:rPr>
              <a:t>0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—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en-US" sz="1600" spc="-1" strike="noStrike" baseline="30000">
                <a:solidFill>
                  <a:srgbClr val="008000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en-US" sz="1600" spc="-1" strike="noStrike" baseline="30000">
                <a:solidFill>
                  <a:srgbClr val="008000"/>
                </a:solidFill>
                <a:latin typeface="Times New Roman"/>
              </a:rPr>
              <a:t>–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</a:t>
            </a:r>
            <a:r>
              <a:rPr b="0" lang="en-US" sz="1600" spc="-1" strike="noStrike" baseline="30000">
                <a:solidFill>
                  <a:srgbClr val="008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8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457200" y="13716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rison of fit results with predictions based on the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kaon loop mod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uggested by Achasov-Ivanchenko, (Nucl.Phys.B315(1989), 46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66680" y="4876920"/>
            <a:ext cx="701064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arameters compatible with 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 mo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arameters not well described by th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4q model (2001 Data </a:t>
            </a:r>
            <a:r>
              <a:rPr b="0" lang="it-IT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ore accurate study of a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Summary of fit resul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611280" y="2286000"/>
          <a:ext cx="8048520" cy="262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86000"/>
                    <a:ext cx="8048520" cy="26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3733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(e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e</a:t>
            </a:r>
            <a:r>
              <a:rPr b="0" lang="en-US" sz="36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hadron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ppg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2209680" cy="169992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380880" y="1219320"/>
            <a:ext cx="4496040" cy="21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LOE can measure hadronic cross section using radiation return method (studying the process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dron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LOE energy range is responsible for 67 %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for 17 % o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" y="34290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olute cross section of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easured 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362320" y="3809880"/>
                <a:ext cx="44193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d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ππγ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π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bkg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Δ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π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lect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cept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609480" y="4724280"/>
            <a:ext cx="81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amples corresponds to an integrated luminosity 22.6 p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hows a well understanding of background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imes New Roman"/>
              </a:rPr>
              <a:t>bk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cies (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selec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acce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and luminosity 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nient measurement of hadronic cross section at level &lt; 1 % will come on 2002 data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3808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DAPHNE 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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-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752480"/>
            <a:ext cx="4343400" cy="3058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sign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jectory (m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m energy (MeV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5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 number of bunch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nch spacing (n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2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nch current (mA)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nch luminosity (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    4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4647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DAPHNE 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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- factor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486400" y="1295280"/>
            <a:ext cx="3048120" cy="4572000"/>
            <a:chOff x="5486400" y="1295280"/>
            <a:chExt cx="3048120" cy="4572000"/>
          </a:xfrm>
        </p:grpSpPr>
        <p:pic>
          <p:nvPicPr>
            <p:cNvPr id="98" name="dafnelay" descr=""/>
            <p:cNvPicPr/>
            <p:nvPr/>
          </p:nvPicPr>
          <p:blipFill>
            <a:blip r:embed="rId1"/>
            <a:stretch/>
          </p:blipFill>
          <p:spPr>
            <a:xfrm>
              <a:off x="5486400" y="1295280"/>
              <a:ext cx="30481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469560" y="3872160"/>
              <a:ext cx="65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Comic Sans MS"/>
                </a:rPr>
                <a:t>DE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kloe_logo" descr=""/>
            <p:cNvPicPr/>
            <p:nvPr/>
          </p:nvPicPr>
          <p:blipFill>
            <a:blip r:embed="rId2"/>
            <a:stretch/>
          </p:blipFill>
          <p:spPr>
            <a:xfrm>
              <a:off x="6704640" y="5029920"/>
              <a:ext cx="426240" cy="2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finudalogocol1" descr=""/>
            <p:cNvPicPr/>
            <p:nvPr/>
          </p:nvPicPr>
          <p:blipFill>
            <a:blip r:embed="rId3"/>
            <a:stretch/>
          </p:blipFill>
          <p:spPr>
            <a:xfrm>
              <a:off x="6765840" y="3420360"/>
              <a:ext cx="373680" cy="3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dear_logosmall" descr=""/>
            <p:cNvPicPr/>
            <p:nvPr/>
          </p:nvPicPr>
          <p:blipFill>
            <a:blip r:embed="rId4"/>
            <a:stretch/>
          </p:blipFill>
          <p:spPr>
            <a:xfrm>
              <a:off x="6278400" y="3484440"/>
              <a:ext cx="498240" cy="32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577080" y="5291280"/>
            <a:ext cx="4749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tal luminosity (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        5x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5562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Conclusion and perspectiv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031040" y="7848720"/>
            <a:ext cx="1372716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 improved continuosly during the first two years of KLOE data taking and bigger improvements are expected withi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KLOE detector is performing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  2000 data we measur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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40000">
                <a:solidFill>
                  <a:srgbClr val="3333cc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40000">
                <a:solidFill>
                  <a:srgbClr val="3333cc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</a:t>
            </a:r>
            <a:r>
              <a:rPr b="0" lang="en-US" sz="20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</a:t>
            </a:r>
            <a:r>
              <a:rPr b="0" lang="en-US" sz="2000" spc="-1" strike="noStrike" baseline="40000">
                <a:solidFill>
                  <a:srgbClr val="3333cc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</a:t>
            </a:r>
            <a:r>
              <a:rPr b="0" lang="en-US" sz="20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</a:t>
            </a:r>
            <a:r>
              <a:rPr b="0" lang="en-US" sz="20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2001 data we continue previous items and expect results fr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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K 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±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ay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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ays ( BR ~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ISR to &lt; 1% statistical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9480" y="1295280"/>
            <a:ext cx="8001000" cy="4795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FNE improved continuosly during the two yesr of KLOE data taking and collecte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0 p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s runs showed a good performance of the KLOE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2000 we measured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i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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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</a:t>
            </a:r>
            <a:r>
              <a:rPr b="0" lang="en-US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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</a:t>
            </a:r>
            <a:r>
              <a:rPr b="0" lang="en-US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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hyscal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 PDG values are improve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dera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 of 2001 data in progres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200 p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 Expected new results ar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rare Ks decays ( BR ~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2) 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cay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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3) charged kaon physics, 4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dronic cross section (with error &lt; 1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808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DAFNE present para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562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DAFNE present paramet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300pbhr" descr="file:///C:/Documents%20and%20Settings/mario%20antonelli/Desktop/300pbhr.jpg"/>
          <p:cNvPicPr/>
          <p:nvPr/>
        </p:nvPicPr>
        <p:blipFill>
          <a:blip r:embed="rId1"/>
          <a:srcRect l="9214" t="13167" r="7938" b="0"/>
          <a:stretch/>
        </p:blipFill>
        <p:spPr>
          <a:xfrm>
            <a:off x="4800600" y="1371600"/>
            <a:ext cx="3809880" cy="2629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871520" y="4038480"/>
            <a:ext cx="3310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urrent DAFN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September 200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~ 7.5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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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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L / month ~ 100 pb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it-IT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447920"/>
            <a:ext cx="4114800" cy="39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DAFNE history from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993300"/>
                </a:solidFill>
                <a:latin typeface="Times New Roman Cyr"/>
              </a:rPr>
              <a:t>1999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 : data taking just started (</a:t>
            </a:r>
            <a:r>
              <a:rPr b="0" lang="en-US" sz="1800" spc="-1" strike="noStrike">
                <a:solidFill>
                  <a:srgbClr val="993300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993300"/>
                </a:solidFill>
                <a:latin typeface="Times New Roman Cyr"/>
              </a:rPr>
              <a:t> 2 pb</a:t>
            </a:r>
            <a:r>
              <a:rPr b="0" lang="en-US" sz="1800" spc="-1" strike="noStrike" baseline="30000">
                <a:solidFill>
                  <a:srgbClr val="993300"/>
                </a:solidFill>
                <a:latin typeface="Times New Roman Cyr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 Cyr"/>
              </a:rPr>
              <a:t>2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 : first KLOE published resul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  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ff0000"/>
                </a:solidFill>
                <a:latin typeface="Times New Roman Cyr"/>
              </a:rPr>
              <a:t> 20 pb</a:t>
            </a:r>
            <a:r>
              <a:rPr b="0" lang="en-US" sz="1800" spc="-1" strike="noStrike" baseline="30000">
                <a:solidFill>
                  <a:srgbClr val="ff0000"/>
                </a:solidFill>
                <a:latin typeface="Times New Roman Cyr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Published </a:t>
            </a:r>
            <a:r>
              <a:rPr b="0" lang="en-US" sz="1800" spc="-1" strike="noStrike">
                <a:solidFill>
                  <a:srgbClr val="ff0000"/>
                </a:solidFill>
                <a:latin typeface="Times New Roman Cyr"/>
              </a:rPr>
              <a:t>4 NIM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 papers and </a:t>
            </a:r>
            <a:r>
              <a:rPr b="0" lang="en-US" sz="1800" spc="-1" strike="noStrike">
                <a:solidFill>
                  <a:srgbClr val="ff0000"/>
                </a:solidFill>
                <a:latin typeface="Times New Roman Cyr"/>
              </a:rPr>
              <a:t>5 PL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 pa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Times New Roman Cyr"/>
              </a:rPr>
              <a:t>2001</a:t>
            </a:r>
            <a:r>
              <a:rPr b="0" lang="it-IT" sz="18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ECHMath"/>
                <a:ea typeface="TECHMath"/>
              </a:rPr>
              <a:t>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imes New Roman Cyr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improved, but high background (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0000ff"/>
                </a:solidFill>
                <a:latin typeface="Times New Roman Cyr"/>
              </a:rPr>
              <a:t> 190 pb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imes New Roman Cyr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), data analysis in prog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imes New Roman Cyr"/>
              </a:rPr>
              <a:t>2002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 : Background reduced (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008000"/>
                </a:solidFill>
                <a:latin typeface="Times New Roman Cyr"/>
              </a:rPr>
              <a:t> 300 pb</a:t>
            </a:r>
            <a:r>
              <a:rPr b="0" lang="en-US" sz="1800" spc="-1" strike="noStrike" baseline="30000">
                <a:solidFill>
                  <a:srgbClr val="008000"/>
                </a:solidFill>
                <a:latin typeface="Times New Roman Cyr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), new success in </a:t>
            </a:r>
            <a:r>
              <a:rPr b="0" lang="en-US" sz="1800" spc="-1" strike="noStrike">
                <a:solidFill>
                  <a:srgbClr val="000000"/>
                </a:solidFill>
                <a:latin typeface="TECHMath"/>
                <a:ea typeface="TECHMath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Times New Roman Cyr"/>
              </a:rPr>
              <a:t>2003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 : Background not reduced (?) and  </a:t>
            </a:r>
            <a:r>
              <a:rPr b="0" lang="en-US" sz="1800" spc="-1" strike="noStrike">
                <a:solidFill>
                  <a:srgbClr val="000000"/>
                </a:solidFill>
                <a:latin typeface="TECHMath"/>
                <a:ea typeface="TECHMath"/>
              </a:rPr>
              <a:t>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 &gt; </a:t>
            </a:r>
            <a:r>
              <a:rPr b="0" lang="en-US" sz="1800" spc="-1" strike="noStrike">
                <a:solidFill>
                  <a:srgbClr val="0066ff"/>
                </a:solidFill>
                <a:latin typeface="Times New Roman Cyr"/>
              </a:rPr>
              <a:t>300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 p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 Cyr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/mon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3808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KLOE dete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143000"/>
            <a:ext cx="411480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Electromagnetic Calorimeter (EM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d/Scintillating - Fiber calori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 Barrel 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 End-Cap 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880 channel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2895480"/>
            <a:ext cx="41911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Drift Chamber (D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ylindrical structure, (4 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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3 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582/52140 sense/total w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stereo 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lium (90 %) + Isobutan gas mixture (10 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67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KLOE detecto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724280"/>
            <a:ext cx="37339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Quadrupole Calorimeter (QC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d/Scintillator tile calorimeter inside KL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25722" t="10248" r="21633" b="7947"/>
          <a:stretch/>
        </p:blipFill>
        <p:spPr>
          <a:xfrm>
            <a:off x="762120" y="1447920"/>
            <a:ext cx="32288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1720" y="1370160"/>
            <a:ext cx="3814920" cy="366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4952880" y="1295280"/>
            <a:ext cx="36576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EMC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ermetical co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8 % coverage of solid ang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efficiency for low energy phot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y range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MeV &lt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lt; 300 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y resolutio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E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7 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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G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resolution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s /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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G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1360" y="380880"/>
            <a:ext cx="58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Electromagnetic calorimet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24280" y="3429000"/>
            <a:ext cx="2743200" cy="2631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391520" y="3733920"/>
            <a:ext cx="160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Ks mass from photon energies in Ks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dec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1523880"/>
            <a:ext cx="251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1720" y="380880"/>
            <a:ext cx="4724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EMC energy resolu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4120" y="34290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R. M. S. </a:t>
            </a:r>
            <a:r>
              <a:rPr b="1" lang="ru-RU" sz="14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 30 M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6440" y="1371600"/>
            <a:ext cx="2813760" cy="3809160"/>
            <a:chOff x="766440" y="1371600"/>
            <a:chExt cx="2813760" cy="380916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1448280" y="1693800"/>
              <a:ext cx="10605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91600" y="2102040"/>
              <a:ext cx="656280" cy="3240"/>
            </a:xfrm>
            <a:prstGeom prst="line">
              <a:avLst/>
            </a:prstGeom>
            <a:ln w="936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8120" y="2204280"/>
              <a:ext cx="689760" cy="3600"/>
            </a:xfrm>
            <a:prstGeom prst="line">
              <a:avLst/>
            </a:prstGeom>
            <a:ln w="936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692800" y="1847520"/>
              <a:ext cx="47520" cy="233640"/>
              <a:chOff x="2692800" y="1847520"/>
              <a:chExt cx="47520" cy="233640"/>
            </a:xfrm>
          </p:grpSpPr>
          <p:sp>
            <p:nvSpPr>
              <p:cNvPr id="128" name=""/>
              <p:cNvSpPr/>
              <p:nvPr/>
            </p:nvSpPr>
            <p:spPr>
              <a:xfrm>
                <a:off x="2692800" y="1936440"/>
                <a:ext cx="47520" cy="144720"/>
              </a:xfrm>
              <a:custGeom>
                <a:avLst/>
                <a:gdLst/>
                <a:ahLst/>
                <a:rect l="l" t="t" r="r" b="b"/>
                <a:pathLst>
                  <a:path w="39" h="73">
                    <a:moveTo>
                      <a:pt x="17" y="73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39" y="0"/>
                    </a:lnTo>
                    <a:lnTo>
                      <a:pt x="17" y="73"/>
                    </a:lnTo>
                    <a:close/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713320" y="1847520"/>
                <a:ext cx="1080" cy="88920"/>
              </a:xfrm>
              <a:prstGeom prst="line">
                <a:avLst/>
              </a:prstGeom>
              <a:ln w="936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692800" y="2247120"/>
              <a:ext cx="47520" cy="232200"/>
              <a:chOff x="2692800" y="2247120"/>
              <a:chExt cx="47520" cy="232200"/>
            </a:xfrm>
          </p:grpSpPr>
          <p:sp>
            <p:nvSpPr>
              <p:cNvPr id="131" name=""/>
              <p:cNvSpPr/>
              <p:nvPr/>
            </p:nvSpPr>
            <p:spPr>
              <a:xfrm>
                <a:off x="2692800" y="2247120"/>
                <a:ext cx="47520" cy="143640"/>
              </a:xfrm>
              <a:custGeom>
                <a:avLst/>
                <a:gdLst/>
                <a:ahLst/>
                <a:rect l="l" t="t" r="r" b="b"/>
                <a:pathLst>
                  <a:path w="39" h="73">
                    <a:moveTo>
                      <a:pt x="17" y="0"/>
                    </a:moveTo>
                    <a:lnTo>
                      <a:pt x="39" y="73"/>
                    </a:lnTo>
                    <a:lnTo>
                      <a:pt x="17" y="73"/>
                    </a:lnTo>
                    <a:lnTo>
                      <a:pt x="0" y="7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2713320" y="2390760"/>
                <a:ext cx="1080" cy="88560"/>
              </a:xfrm>
              <a:prstGeom prst="line">
                <a:avLst/>
              </a:prstGeom>
              <a:ln w="936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2760480" y="2347560"/>
              <a:ext cx="39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d0806"/>
                  </a:solidFill>
                  <a:latin typeface="Times New Roman"/>
                </a:rPr>
                <a:t>1.2 m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62240" y="1584720"/>
              <a:ext cx="443520" cy="320040"/>
            </a:xfrm>
            <a:custGeom>
              <a:avLst/>
              <a:gdLst/>
              <a:ahLst/>
              <a:rect l="l" t="t" r="r" b="b"/>
              <a:pathLst>
                <a:path w="364" h="162">
                  <a:moveTo>
                    <a:pt x="0" y="162"/>
                  </a:moveTo>
                  <a:lnTo>
                    <a:pt x="202" y="162"/>
                  </a:lnTo>
                  <a:lnTo>
                    <a:pt x="364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92360" y="1371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Times New Roman"/>
                </a:rPr>
                <a:t>Le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440" y="2212920"/>
              <a:ext cx="1080" cy="443880"/>
            </a:xfrm>
            <a:prstGeom prst="line">
              <a:avLst/>
            </a:prstGeom>
            <a:ln w="936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58120" y="2204280"/>
              <a:ext cx="1080" cy="452880"/>
            </a:xfrm>
            <a:prstGeom prst="line">
              <a:avLst/>
            </a:prstGeom>
            <a:ln w="936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26480" y="2204280"/>
              <a:ext cx="1080" cy="452880"/>
            </a:xfrm>
            <a:prstGeom prst="line">
              <a:avLst/>
            </a:prstGeom>
            <a:ln w="936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85800" y="2225520"/>
              <a:ext cx="1080" cy="431280"/>
            </a:xfrm>
            <a:prstGeom prst="line">
              <a:avLst/>
            </a:prstGeom>
            <a:ln w="936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824840" y="2567520"/>
              <a:ext cx="143280" cy="79920"/>
              <a:chOff x="1824840" y="2567520"/>
              <a:chExt cx="143280" cy="79920"/>
            </a:xfrm>
          </p:grpSpPr>
          <p:sp>
            <p:nvSpPr>
              <p:cNvPr id="141" name=""/>
              <p:cNvSpPr/>
              <p:nvPr/>
            </p:nvSpPr>
            <p:spPr>
              <a:xfrm>
                <a:off x="1879560" y="2567520"/>
                <a:ext cx="88560" cy="79920"/>
              </a:xfrm>
              <a:custGeom>
                <a:avLst/>
                <a:gdLst/>
                <a:ahLst/>
                <a:rect l="l" t="t" r="r" b="b"/>
                <a:pathLst>
                  <a:path w="73" h="40">
                    <a:moveTo>
                      <a:pt x="73" y="23"/>
                    </a:moveTo>
                    <a:lnTo>
                      <a:pt x="0" y="40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73" y="23"/>
                    </a:lnTo>
                    <a:close/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824840" y="2613240"/>
                <a:ext cx="54720" cy="2160"/>
              </a:xfrm>
              <a:prstGeom prst="line">
                <a:avLst/>
              </a:prstGeom>
              <a:ln w="936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2065320" y="2580120"/>
              <a:ext cx="148320" cy="67320"/>
              <a:chOff x="2065320" y="2580120"/>
              <a:chExt cx="148320" cy="67320"/>
            </a:xfrm>
          </p:grpSpPr>
          <p:sp>
            <p:nvSpPr>
              <p:cNvPr id="144" name=""/>
              <p:cNvSpPr/>
              <p:nvPr/>
            </p:nvSpPr>
            <p:spPr>
              <a:xfrm>
                <a:off x="2065320" y="2580120"/>
                <a:ext cx="94320" cy="67320"/>
              </a:xfrm>
              <a:custGeom>
                <a:avLst/>
                <a:gdLst/>
                <a:ahLst/>
                <a:rect l="l" t="t" r="r" b="b"/>
                <a:pathLst>
                  <a:path w="78" h="34">
                    <a:moveTo>
                      <a:pt x="0" y="17"/>
                    </a:moveTo>
                    <a:lnTo>
                      <a:pt x="78" y="0"/>
                    </a:lnTo>
                    <a:lnTo>
                      <a:pt x="78" y="17"/>
                    </a:lnTo>
                    <a:lnTo>
                      <a:pt x="78" y="3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159280" y="2613600"/>
                <a:ext cx="54360" cy="2160"/>
              </a:xfrm>
              <a:prstGeom prst="line">
                <a:avLst/>
              </a:prstGeom>
              <a:ln w="936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429200" y="2580120"/>
              <a:ext cx="142920" cy="67320"/>
              <a:chOff x="1429200" y="2580120"/>
              <a:chExt cx="142920" cy="67320"/>
            </a:xfrm>
          </p:grpSpPr>
          <p:sp>
            <p:nvSpPr>
              <p:cNvPr id="147" name=""/>
              <p:cNvSpPr/>
              <p:nvPr/>
            </p:nvSpPr>
            <p:spPr>
              <a:xfrm>
                <a:off x="1482840" y="2580120"/>
                <a:ext cx="89280" cy="6732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73" y="17"/>
                    </a:moveTo>
                    <a:lnTo>
                      <a:pt x="0" y="34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73" y="17"/>
                    </a:lnTo>
                    <a:close/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29200" y="2613600"/>
                <a:ext cx="53640" cy="2160"/>
              </a:xfrm>
              <a:prstGeom prst="line">
                <a:avLst/>
              </a:prstGeom>
              <a:ln w="936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1639440" y="2580120"/>
              <a:ext cx="144360" cy="67320"/>
              <a:chOff x="1639440" y="2580120"/>
              <a:chExt cx="144360" cy="67320"/>
            </a:xfrm>
          </p:grpSpPr>
          <p:sp>
            <p:nvSpPr>
              <p:cNvPr id="150" name=""/>
              <p:cNvSpPr/>
              <p:nvPr/>
            </p:nvSpPr>
            <p:spPr>
              <a:xfrm>
                <a:off x="1639440" y="2580120"/>
                <a:ext cx="89640" cy="6732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0" y="17"/>
                    </a:moveTo>
                    <a:lnTo>
                      <a:pt x="73" y="0"/>
                    </a:lnTo>
                    <a:lnTo>
                      <a:pt x="73" y="17"/>
                    </a:lnTo>
                    <a:lnTo>
                      <a:pt x="73" y="3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728720" y="2613600"/>
                <a:ext cx="55080" cy="2160"/>
              </a:xfrm>
              <a:prstGeom prst="line">
                <a:avLst/>
              </a:prstGeom>
              <a:ln w="936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064240" y="2644560"/>
              <a:ext cx="45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d0806"/>
                  </a:solidFill>
                  <a:latin typeface="Times New Roman"/>
                </a:rPr>
                <a:t>1.35 m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99600" y="2644560"/>
              <a:ext cx="39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d0806"/>
                  </a:solidFill>
                  <a:latin typeface="Times New Roman"/>
                </a:rPr>
                <a:t>1.0 m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3"/>
            <a:stretch/>
          </p:blipFill>
          <p:spPr>
            <a:xfrm>
              <a:off x="1053720" y="3555720"/>
              <a:ext cx="2356560" cy="145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"/>
            <p:cNvGrpSpPr/>
            <p:nvPr/>
          </p:nvGrpSpPr>
          <p:grpSpPr>
            <a:xfrm>
              <a:off x="1148400" y="5116680"/>
              <a:ext cx="1612080" cy="64080"/>
              <a:chOff x="1148400" y="5116680"/>
              <a:chExt cx="1612080" cy="64080"/>
            </a:xfrm>
          </p:grpSpPr>
          <p:sp>
            <p:nvSpPr>
              <p:cNvPr id="156" name=""/>
              <p:cNvSpPr/>
              <p:nvPr/>
            </p:nvSpPr>
            <p:spPr>
              <a:xfrm>
                <a:off x="1148400" y="5116680"/>
                <a:ext cx="88560" cy="64080"/>
              </a:xfrm>
              <a:custGeom>
                <a:avLst/>
                <a:gdLst/>
                <a:ahLst/>
                <a:rect l="l" t="t" r="r" b="b"/>
                <a:pathLst>
                  <a:path w="73" h="33">
                    <a:moveTo>
                      <a:pt x="0" y="16"/>
                    </a:moveTo>
                    <a:lnTo>
                      <a:pt x="73" y="0"/>
                    </a:lnTo>
                    <a:lnTo>
                      <a:pt x="73" y="16"/>
                    </a:lnTo>
                    <a:lnTo>
                      <a:pt x="73" y="33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8011"/>
              </a:solidFill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664360" y="5116680"/>
                <a:ext cx="96120" cy="64080"/>
              </a:xfrm>
              <a:custGeom>
                <a:avLst/>
                <a:gdLst/>
                <a:ahLst/>
                <a:rect l="l" t="t" r="r" b="b"/>
                <a:pathLst>
                  <a:path w="79" h="33">
                    <a:moveTo>
                      <a:pt x="79" y="16"/>
                    </a:moveTo>
                    <a:lnTo>
                      <a:pt x="0" y="33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79" y="16"/>
                    </a:lnTo>
                    <a:close/>
                  </a:path>
                </a:pathLst>
              </a:custGeom>
              <a:solidFill>
                <a:srgbClr val="008011"/>
              </a:solidFill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36960" y="5147640"/>
                <a:ext cx="1427400" cy="216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805040" y="4980600"/>
              <a:ext cx="41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d0806"/>
                  </a:solidFill>
                  <a:latin typeface="Times New Roman"/>
                </a:rPr>
                <a:t>52.5 c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840960" y="3664800"/>
              <a:ext cx="47880" cy="1329480"/>
              <a:chOff x="840960" y="3664800"/>
              <a:chExt cx="47880" cy="1329480"/>
            </a:xfrm>
          </p:grpSpPr>
          <p:sp>
            <p:nvSpPr>
              <p:cNvPr id="161" name=""/>
              <p:cNvSpPr/>
              <p:nvPr/>
            </p:nvSpPr>
            <p:spPr>
              <a:xfrm>
                <a:off x="840960" y="3664800"/>
                <a:ext cx="47880" cy="154080"/>
              </a:xfrm>
              <a:custGeom>
                <a:avLst/>
                <a:gdLst/>
                <a:ahLst/>
                <a:rect l="l" t="t" r="r" b="b"/>
                <a:pathLst>
                  <a:path w="39" h="78">
                    <a:moveTo>
                      <a:pt x="22" y="0"/>
                    </a:moveTo>
                    <a:lnTo>
                      <a:pt x="39" y="78"/>
                    </a:lnTo>
                    <a:lnTo>
                      <a:pt x="22" y="78"/>
                    </a:lnTo>
                    <a:lnTo>
                      <a:pt x="0" y="78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8011"/>
              </a:solidFill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0960" y="4840200"/>
                <a:ext cx="47880" cy="154080"/>
              </a:xfrm>
              <a:custGeom>
                <a:avLst/>
                <a:gdLst/>
                <a:ahLst/>
                <a:rect l="l" t="t" r="r" b="b"/>
                <a:pathLst>
                  <a:path w="39" h="78">
                    <a:moveTo>
                      <a:pt x="22" y="78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39" y="0"/>
                    </a:lnTo>
                    <a:lnTo>
                      <a:pt x="22" y="78"/>
                    </a:lnTo>
                    <a:close/>
                  </a:path>
                </a:pathLst>
              </a:custGeom>
              <a:solidFill>
                <a:srgbClr val="008011"/>
              </a:solidFill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7960" y="3818880"/>
                <a:ext cx="1080" cy="102132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66440" y="4207320"/>
              <a:ext cx="41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d0806"/>
                  </a:solidFill>
                  <a:latin typeface="Times New Roman"/>
                </a:rPr>
                <a:t>15X</a:t>
              </a:r>
              <a:r>
                <a:rPr b="0" lang="en-US" sz="1600" spc="-1" strike="noStrike" baseline="-2000">
                  <a:solidFill>
                    <a:srgbClr val="dd0806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968480" y="3188520"/>
              <a:ext cx="491040" cy="47592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569680" y="2746080"/>
              <a:ext cx="322560" cy="34380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949840" y="2660400"/>
              <a:ext cx="33120" cy="3384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087200" y="2955600"/>
              <a:ext cx="736560" cy="708840"/>
              <a:chOff x="1087200" y="2955600"/>
              <a:chExt cx="736560" cy="708840"/>
            </a:xfrm>
          </p:grpSpPr>
          <p:sp>
            <p:nvSpPr>
              <p:cNvPr id="169" name=""/>
              <p:cNvSpPr/>
              <p:nvPr/>
            </p:nvSpPr>
            <p:spPr>
              <a:xfrm flipV="1">
                <a:off x="1087200" y="3188520"/>
                <a:ext cx="49176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1578960" y="2955600"/>
                <a:ext cx="244800" cy="232560"/>
                <a:chOff x="1578960" y="2955600"/>
                <a:chExt cx="244800" cy="232560"/>
              </a:xfrm>
            </p:grpSpPr>
            <p:sp>
              <p:nvSpPr>
                <p:cNvPr id="171" name=""/>
                <p:cNvSpPr/>
                <p:nvPr/>
              </p:nvSpPr>
              <p:spPr>
                <a:xfrm flipV="1">
                  <a:off x="1578960" y="3144960"/>
                  <a:ext cx="55080" cy="4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V="1">
                  <a:off x="1681560" y="3034080"/>
                  <a:ext cx="54720" cy="5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1789920" y="2955600"/>
                  <a:ext cx="33840" cy="3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>
              <a:off x="2885400" y="3509280"/>
              <a:ext cx="340560" cy="356040"/>
            </a:xfrm>
            <a:custGeom>
              <a:avLst/>
              <a:gdLst/>
              <a:ahLst/>
              <a:rect l="l" t="t" r="r" b="b"/>
              <a:pathLst>
                <a:path w="280" h="180">
                  <a:moveTo>
                    <a:pt x="263" y="0"/>
                  </a:moveTo>
                  <a:lnTo>
                    <a:pt x="280" y="45"/>
                  </a:lnTo>
                  <a:lnTo>
                    <a:pt x="22" y="180"/>
                  </a:lnTo>
                  <a:lnTo>
                    <a:pt x="0" y="135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22040" y="3366000"/>
              <a:ext cx="349200" cy="341640"/>
            </a:xfrm>
            <a:custGeom>
              <a:avLst/>
              <a:gdLst/>
              <a:ahLst/>
              <a:rect l="l" t="t" r="r" b="b"/>
              <a:pathLst>
                <a:path w="286" h="173">
                  <a:moveTo>
                    <a:pt x="263" y="0"/>
                  </a:moveTo>
                  <a:lnTo>
                    <a:pt x="286" y="39"/>
                  </a:lnTo>
                  <a:lnTo>
                    <a:pt x="23" y="173"/>
                  </a:lnTo>
                  <a:lnTo>
                    <a:pt x="0" y="134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842200" y="2979000"/>
              <a:ext cx="738000" cy="719280"/>
              <a:chOff x="2842200" y="2979000"/>
              <a:chExt cx="738000" cy="719280"/>
            </a:xfrm>
          </p:grpSpPr>
          <p:sp>
            <p:nvSpPr>
              <p:cNvPr id="177" name=""/>
              <p:cNvSpPr/>
              <p:nvPr/>
            </p:nvSpPr>
            <p:spPr>
              <a:xfrm flipV="1">
                <a:off x="2842200" y="3222360"/>
                <a:ext cx="49248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334680" y="2979000"/>
                <a:ext cx="245520" cy="242640"/>
                <a:chOff x="3334680" y="2979000"/>
                <a:chExt cx="245520" cy="242640"/>
              </a:xfrm>
            </p:grpSpPr>
            <p:sp>
              <p:nvSpPr>
                <p:cNvPr id="179" name=""/>
                <p:cNvSpPr/>
                <p:nvPr/>
              </p:nvSpPr>
              <p:spPr>
                <a:xfrm flipV="1">
                  <a:off x="3334680" y="3166560"/>
                  <a:ext cx="54720" cy="5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3444120" y="3065760"/>
                  <a:ext cx="54720" cy="5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3546360" y="2979000"/>
                  <a:ext cx="33840" cy="3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2376360" y="3004200"/>
              <a:ext cx="5324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d0806"/>
                  </a:solidFill>
                  <a:latin typeface="Times New Roman"/>
                </a:rPr>
                <a:t>450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35320" y="3389040"/>
              <a:ext cx="546120" cy="286560"/>
            </a:xfrm>
            <a:custGeom>
              <a:avLst/>
              <a:gdLst/>
              <a:ahLst/>
              <a:rect l="l" t="t" r="r" b="b"/>
              <a:pathLst>
                <a:path w="448" h="145">
                  <a:moveTo>
                    <a:pt x="17" y="129"/>
                  </a:moveTo>
                  <a:lnTo>
                    <a:pt x="230" y="0"/>
                  </a:lnTo>
                  <a:lnTo>
                    <a:pt x="448" y="0"/>
                  </a:lnTo>
                  <a:lnTo>
                    <a:pt x="252" y="145"/>
                  </a:lnTo>
                  <a:lnTo>
                    <a:pt x="0" y="145"/>
                  </a:lnTo>
                </a:path>
              </a:pathLst>
            </a:custGeom>
            <a:noFill/>
            <a:ln w="1764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749600" y="2426040"/>
              <a:ext cx="82080" cy="1039320"/>
              <a:chOff x="1749600" y="2426040"/>
              <a:chExt cx="82080" cy="1039320"/>
            </a:xfrm>
          </p:grpSpPr>
          <p:sp>
            <p:nvSpPr>
              <p:cNvPr id="185" name=""/>
              <p:cNvSpPr/>
              <p:nvPr/>
            </p:nvSpPr>
            <p:spPr>
              <a:xfrm>
                <a:off x="1776600" y="2426040"/>
                <a:ext cx="55080" cy="18756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34" y="0"/>
                    </a:moveTo>
                    <a:lnTo>
                      <a:pt x="45" y="95"/>
                    </a:lnTo>
                    <a:lnTo>
                      <a:pt x="23" y="89"/>
                    </a:lnTo>
                    <a:lnTo>
                      <a:pt x="0" y="89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dd0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1749600" y="2601720"/>
                <a:ext cx="55080" cy="863640"/>
              </a:xfrm>
              <a:prstGeom prst="line">
                <a:avLst/>
              </a:prstGeom>
              <a:ln w="1764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1513080" y="1941120"/>
              <a:ext cx="761400" cy="189360"/>
            </a:xfrm>
            <a:prstGeom prst="parallelogram">
              <a:avLst>
                <a:gd name="adj" fmla="val 100523"/>
              </a:avLst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2841120" y="3149280"/>
              <a:ext cx="738000" cy="718560"/>
              <a:chOff x="2841120" y="3149280"/>
              <a:chExt cx="738000" cy="718560"/>
            </a:xfrm>
          </p:grpSpPr>
          <p:sp>
            <p:nvSpPr>
              <p:cNvPr id="189" name=""/>
              <p:cNvSpPr/>
              <p:nvPr/>
            </p:nvSpPr>
            <p:spPr>
              <a:xfrm flipV="1">
                <a:off x="2841120" y="3391560"/>
                <a:ext cx="492120" cy="47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3333240" y="3149280"/>
                <a:ext cx="245880" cy="241920"/>
                <a:chOff x="3333240" y="3149280"/>
                <a:chExt cx="245880" cy="241920"/>
              </a:xfrm>
            </p:grpSpPr>
            <p:sp>
              <p:nvSpPr>
                <p:cNvPr id="191" name=""/>
                <p:cNvSpPr/>
                <p:nvPr/>
              </p:nvSpPr>
              <p:spPr>
                <a:xfrm flipV="1">
                  <a:off x="3333240" y="3336480"/>
                  <a:ext cx="54720" cy="5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3443040" y="3236040"/>
                  <a:ext cx="54720" cy="5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V="1">
                  <a:off x="3545280" y="3149280"/>
                  <a:ext cx="33840" cy="3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4" name=""/>
          <p:cNvSpPr/>
          <p:nvPr/>
        </p:nvSpPr>
        <p:spPr>
          <a:xfrm>
            <a:off x="4572000" y="1219320"/>
            <a:ext cx="3809880" cy="21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e sampling lead / scintillating fiber calorime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5 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.6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 cm thick    :    15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atial resolution ~1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724280" y="1447920"/>
            <a:ext cx="3657600" cy="40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C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geometry 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 inner layers 2x2 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6 outer layers 3x3 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reo angle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150) mr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. lengt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C)  9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 wires :Al(Ag), 8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GB" sz="14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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se wires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(Au), 25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GB" sz="14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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ace resolution 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r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200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   and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2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09880" cy="366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380520"/>
            <a:ext cx="3353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Drift chamb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38080" y="4876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15200" y="16002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Momentum resolution for     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at 510 MeV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4800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DC average spatial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200400" cy="33526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1360" y="38052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DC resolu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2286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1.3 MeV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062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Symbol"/>
                <a:ea typeface="Symbol"/>
              </a:rPr>
              <a:t>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150 </a:t>
            </a:r>
            <a:r>
              <a:rPr b="1" lang="ru-RU" sz="1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419720" y="3429000"/>
            <a:ext cx="3047760" cy="2590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248520" y="2895480"/>
            <a:ext cx="0" cy="2700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3886200"/>
            <a:ext cx="1523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invariant mass with two unlike sign tr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86160" y="365760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R. M. S. = 0.9 MeV/c</a:t>
            </a:r>
            <a:r>
              <a:rPr b="1" lang="ru-RU" sz="1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6:28:59Z</dcterms:created>
  <dc:creator>Maximo</dc:creator>
  <dc:description/>
  <dc:language>en-US</dc:language>
  <cp:lastModifiedBy>Maximo</cp:lastModifiedBy>
  <cp:lastPrinted>2001-08-20T12:21:49Z</cp:lastPrinted>
  <dcterms:modified xsi:type="dcterms:W3CDTF">2002-11-11T08:33:06Z</dcterms:modified>
  <cp:revision>127</cp:revision>
  <dc:subject/>
  <dc:title>Status report on kaon physics of the KLOE experiment</dc:title>
</cp:coreProperties>
</file>