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2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6.jpeg" ContentType="image/jpeg"/>
  <Override PartName="/ppt/media/image18.png" ContentType="image/png"/>
  <Override PartName="/ppt/media/image38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9F31A-5345-4046-BF28-109CD371018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000 Ke3, 100 000 K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stematic errors coming from the fit as well as selection efficiency are COMMON TO ALL TAG S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80864-3594-48D2-9FBD-113B4137843E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: 2005: 457 pb-11; 2004: 650 pb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: 2004 728 pb -1; 2005 495 pb-1 Dei 1.7fb-1 collected only 1.5 are good for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B2D8-95AB-4FCE-8FC7-0BECAB1CE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320" y="3339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E72E-2D78-4164-B79A-877E86612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93360" y="990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320" y="3339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93360" y="3339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9E94-16FF-4DC0-B13F-FEF7C7600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858760" y="990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41200" y="990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320" y="3339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858760" y="3339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41200" y="3339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5B9B-05CD-4370-AB0A-9A751E9724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32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D4D9-9149-47D6-9694-A76EBD421B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C751-097C-430D-89CF-9386A4926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93360" y="990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0EF3-5220-4F11-AA3D-C7B6DBDF3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12E8-B28A-49F4-B5D3-3B143B948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88560"/>
            <a:ext cx="807696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1D60-C51E-479E-92D2-0090839E9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93360" y="990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320" y="3339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DFAB-D378-4067-9086-E87539F48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93360" y="990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93360" y="3339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1A1B-56E3-4F15-9551-F757B82DC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93360" y="990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320" y="3339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9683-63AD-476D-A51E-F692B5F63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55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550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0" y="660348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it-IT" sz="12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D88C-801B-4839-A1D2-45F83E4FFDD0}" type="slidenum">
              <a:rPr b="1" i="1" lang="it-IT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0920" y="6608880"/>
            <a:ext cx="32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99"/>
                </a:solidFill>
                <a:latin typeface="Times New Roman"/>
              </a:rPr>
              <a:t>Vus at KLOE - B. Sciascia – Lisbon, 21 July 20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06440" y="6730920"/>
            <a:ext cx="26017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3360" y="4680"/>
            <a:ext cx="1082880" cy="7686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92240" y="685800"/>
            <a:ext cx="76960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384960" y="6734160"/>
            <a:ext cx="26017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88840" y="736560"/>
            <a:ext cx="769644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43080" y="6781680"/>
            <a:ext cx="260172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299280" y="6781680"/>
            <a:ext cx="2601720" cy="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76200" y="4724280"/>
            <a:ext cx="661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B. Sciascia, INFN/Frasc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for the KLO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EP200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21-27 July 2005 - Lisb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3795" t="0" r="1827" b="-1881"/>
          <a:stretch/>
        </p:blipFill>
        <p:spPr>
          <a:xfrm>
            <a:off x="95400" y="776160"/>
            <a:ext cx="8977320" cy="3963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20840" y="765000"/>
            <a:ext cx="46814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00"/>
                </a:solidFill>
                <a:latin typeface="Times New Roman"/>
              </a:rPr>
              <a:t>Vus measure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00"/>
                </a:solidFill>
                <a:latin typeface="Times New Roman"/>
              </a:rPr>
              <a:t>at KLO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95200" y="6719760"/>
            <a:ext cx="8666280" cy="1296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AC6B-F560-4355-8100-102DAC565F8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9115" t="10434" r="28205" b="10183"/>
          <a:stretch/>
        </p:blipFill>
        <p:spPr>
          <a:xfrm>
            <a:off x="4572000" y="773280"/>
            <a:ext cx="4560840" cy="4464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885080" y="1197000"/>
            <a:ext cx="1224000" cy="86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8000" y="777960"/>
            <a:ext cx="457200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1-prong kaon decay vertex in the fiducial volume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VT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(40,150) c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aughter track extrapol. to EM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Reject two-body decay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195 Me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search: 2 neutral clusters in EmC, with ToF matching the K decay vertex (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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t)&lt;3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pectrum of charged daughter mass, m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ep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from TOF measureme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i="1" lang="en-US" sz="3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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ℓ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3 - Signal selection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7280" y="435276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decay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lep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lep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lep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)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300160" y="2078280"/>
            <a:ext cx="290880" cy="113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23880" y="1197000"/>
            <a:ext cx="1264320" cy="886320"/>
            <a:chOff x="7823880" y="1197000"/>
            <a:chExt cx="1264320" cy="886320"/>
          </a:xfrm>
        </p:grpSpPr>
        <p:sp>
          <p:nvSpPr>
            <p:cNvPr id="171" name=""/>
            <p:cNvSpPr/>
            <p:nvPr/>
          </p:nvSpPr>
          <p:spPr>
            <a:xfrm>
              <a:off x="8109720" y="1435320"/>
              <a:ext cx="93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d60093"/>
                  </a:solidFill>
                  <a:latin typeface="Times New Roman"/>
                </a:rPr>
                <a:t>K</a:t>
              </a:r>
              <a:r>
                <a:rPr b="0" lang="en-US" sz="20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</a:t>
              </a:r>
              <a:r>
                <a:rPr b="0" lang="en-US" sz="2000" spc="-1" strike="noStrike" baseline="30000">
                  <a:solidFill>
                    <a:srgbClr val="d60093"/>
                  </a:solidFill>
                  <a:latin typeface="Times New Roman"/>
                </a:rPr>
                <a:t>0</a:t>
              </a:r>
              <a:r>
                <a:rPr b="0" lang="en-US" sz="2000" spc="-1" strike="noStrike">
                  <a:solidFill>
                    <a:srgbClr val="d60093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d60093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45520" y="1684440"/>
              <a:ext cx="7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K</a:t>
              </a:r>
              <a:r>
                <a:rPr b="0" lang="en-US" sz="20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</a:t>
              </a:r>
              <a:r>
                <a:rPr b="0" lang="en-US" sz="2000" spc="-1" strike="noStrike" baseline="30000">
                  <a:solidFill>
                    <a:srgbClr val="00cc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23880" y="1197000"/>
              <a:ext cx="126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imes New Roman"/>
                </a:rPr>
                <a:t>K nucl.in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08000" y="5140440"/>
            <a:ext cx="835344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itional kinematical cuts to reject non-semileptonic decay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residual background is about 1.5% of the selected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3 sample, and has the 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ignatur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88520" y="83664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/(14MeV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58360" y="155268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967F-5C18-4156-A015-625EFCF35C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i="1" lang="en-US" sz="3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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ℓ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3 – Event counting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50920" y="5300640"/>
          <a:ext cx="5689440" cy="1273320"/>
        </p:xfrm>
        <a:graphic>
          <a:graphicData uri="http://schemas.openxmlformats.org/drawingml/2006/table">
            <a:tbl>
              <a:tblPr/>
              <a:tblGrid>
                <a:gridCol w="647280"/>
                <a:gridCol w="1225800"/>
                <a:gridCol w="1295280"/>
                <a:gridCol w="1297080"/>
                <a:gridCol w="1224000"/>
              </a:tblGrid>
              <a:tr h="42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Ke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 781(32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914(20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657(33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225(2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 461(26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827(17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988(27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608(16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79" name="" descr=""/>
          <p:cNvPicPr/>
          <p:nvPr/>
        </p:nvPicPr>
        <p:blipFill>
          <a:blip r:embed="rId1"/>
          <a:srcRect l="11135" t="14223" r="13036" b="9466"/>
          <a:stretch/>
        </p:blipFill>
        <p:spPr>
          <a:xfrm>
            <a:off x="6031080" y="3718080"/>
            <a:ext cx="300492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939960" y="4005360"/>
          <a:ext cx="4640040" cy="772920"/>
        </p:xfrm>
        <a:graphic>
          <a:graphicData uri="http://schemas.openxmlformats.org/drawingml/2006/table">
            <a:tbl>
              <a:tblPr/>
              <a:tblGrid>
                <a:gridCol w="990360"/>
                <a:gridCol w="920880"/>
                <a:gridCol w="857160"/>
                <a:gridCol w="934920"/>
                <a:gridCol w="936720"/>
              </a:tblGrid>
              <a:tr h="34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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D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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/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81" name="" descr=""/>
          <p:cNvPicPr/>
          <p:nvPr/>
        </p:nvPicPr>
        <p:blipFill>
          <a:blip r:embed="rId2"/>
          <a:srcRect l="9061" t="15433" r="13036" b="10646"/>
          <a:stretch/>
        </p:blipFill>
        <p:spPr>
          <a:xfrm>
            <a:off x="5940360" y="776160"/>
            <a:ext cx="3097440" cy="2940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08000" y="708120"/>
            <a:ext cx="583236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t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ep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pectrum with a linear combination of Ke3 and K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 shapes, and background contribu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rrect MC shapes for Data/MC differences on the calorimeter tim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residual distribution show the same trend for all the tag samples. Possible residual different Data-MC resolu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fit correlation matrix for the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tag s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83800" y="83664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/(14MeV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920" y="4802040"/>
            <a:ext cx="583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ed signal events in 2001/2002 data 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675E-2A38-44F7-90FE-7B588DD00A8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0" t="14223" r="15433" b="8256"/>
          <a:stretch/>
        </p:blipFill>
        <p:spPr>
          <a:xfrm>
            <a:off x="47520" y="3666960"/>
            <a:ext cx="3259080" cy="298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rcRect l="0" t="14223" r="15433" b="8256"/>
          <a:stretch/>
        </p:blipFill>
        <p:spPr>
          <a:xfrm>
            <a:off x="69840" y="793800"/>
            <a:ext cx="3240000" cy="2970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i="1" lang="en-US" sz="3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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ℓ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3 - Results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876240"/>
            <a:ext cx="5543640" cy="35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 accounts for the data and Monte Carlo statistics used in the fit, the MC statistics for the efficiency estimation, the Data/MC efficiency corrections, and the systematics on the tag sel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ystematics due to the signal selection efficiency is under eval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nDof for the 4 measure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3: 3.20/3,  P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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: 5.32/3, P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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s carefully calculated taking correlations into accou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211640" y="4508640"/>
          <a:ext cx="4537080" cy="850680"/>
        </p:xfrm>
        <a:graphic>
          <a:graphicData uri="http://schemas.openxmlformats.org/drawingml/2006/table">
            <a:tbl>
              <a:tblPr/>
              <a:tblGrid>
                <a:gridCol w="1297080"/>
                <a:gridCol w="324000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Ke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47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.046 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Sys Sig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K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10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.040 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Sys Sig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0" name=""/>
          <p:cNvGrpSpPr/>
          <p:nvPr/>
        </p:nvGrpSpPr>
        <p:grpSpPr>
          <a:xfrm>
            <a:off x="476640" y="6348240"/>
            <a:ext cx="2888640" cy="276480"/>
            <a:chOff x="476640" y="6348240"/>
            <a:chExt cx="2888640" cy="276480"/>
          </a:xfrm>
        </p:grpSpPr>
        <p:sp>
          <p:nvSpPr>
            <p:cNvPr id="191" name=""/>
            <p:cNvSpPr/>
            <p:nvPr/>
          </p:nvSpPr>
          <p:spPr>
            <a:xfrm>
              <a:off x="2611440" y="6348240"/>
              <a:ext cx="753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6640" y="6348240"/>
              <a:ext cx="780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53640" y="6348240"/>
              <a:ext cx="758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69640" y="6348240"/>
              <a:ext cx="775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51080" y="3451320"/>
            <a:ext cx="2888640" cy="276480"/>
            <a:chOff x="451080" y="3451320"/>
            <a:chExt cx="2888640" cy="276480"/>
          </a:xfrm>
        </p:grpSpPr>
        <p:sp>
          <p:nvSpPr>
            <p:cNvPr id="196" name=""/>
            <p:cNvSpPr/>
            <p:nvPr/>
          </p:nvSpPr>
          <p:spPr>
            <a:xfrm>
              <a:off x="2585880" y="3451320"/>
              <a:ext cx="753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1080" y="3451320"/>
              <a:ext cx="780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28080" y="3451320"/>
              <a:ext cx="758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44080" y="3451320"/>
              <a:ext cx="775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 rot="18771000">
            <a:off x="2514240" y="4973760"/>
            <a:ext cx="21132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LOE prelim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92360" y="5516640"/>
            <a:ext cx="56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 is dominated by the error on Data/MC efficiency corr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al accuracy of 0.9% for Ke3, 1.2% for 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D6E2-2A85-4926-88C7-5B43B93A474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2450" t="51212" r="30421" b="10183"/>
          <a:stretch/>
        </p:blipFill>
        <p:spPr>
          <a:xfrm>
            <a:off x="4716360" y="4414680"/>
            <a:ext cx="4262400" cy="18939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rcRect l="15733" t="16239" r="34645" b="55987"/>
          <a:stretch/>
        </p:blipFill>
        <p:spPr>
          <a:xfrm>
            <a:off x="5273640" y="936720"/>
            <a:ext cx="3733920" cy="29588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Charged kaon lifetime - 1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907920"/>
            <a:ext cx="45370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perimental inp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% fractional accuracy; 0.1% for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fects the BR measurement via the geometrical accep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DG entries: discrepancies between in-flight and at-rest measurements; discrepancies between different stoppers in at-rest measur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high statistic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asurement almost complete at KLOE, now under the review of the collabo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different methods to measu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asuring K decay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asuring K deca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check on the systematic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2997360"/>
            <a:ext cx="719280" cy="280800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rcRect l="15733" t="49574" r="61278" b="48294"/>
          <a:stretch/>
        </p:blipFill>
        <p:spPr>
          <a:xfrm>
            <a:off x="7588080" y="3743280"/>
            <a:ext cx="1447920" cy="190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156360" y="3357720"/>
            <a:ext cx="515880" cy="2422440"/>
          </a:xfrm>
          <a:prstGeom prst="line">
            <a:avLst/>
          </a:prstGeom>
          <a:ln w="22320">
            <a:solidFill>
              <a:srgbClr val="00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45320" y="3044880"/>
            <a:ext cx="533160" cy="304920"/>
          </a:xfrm>
          <a:prstGeom prst="ellipse">
            <a:avLst/>
          </a:prstGeom>
          <a:noFill/>
          <a:ln w="22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94480" y="2739960"/>
            <a:ext cx="533520" cy="30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F318-DD50-43EB-800F-11D8AC8B489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Charged kaon lifetime - 2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76500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to both method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 events with 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 a kaon decay vertex in DC fiducial 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081880" y="2131920"/>
            <a:ext cx="4433400" cy="4706640"/>
            <a:chOff x="2081880" y="2131920"/>
            <a:chExt cx="4433400" cy="4706640"/>
          </a:xfrm>
        </p:grpSpPr>
        <p:sp>
          <p:nvSpPr>
            <p:cNvPr id="214" name=""/>
            <p:cNvSpPr/>
            <p:nvPr/>
          </p:nvSpPr>
          <p:spPr>
            <a:xfrm>
              <a:off x="2716200" y="2131920"/>
              <a:ext cx="3799080" cy="3818160"/>
            </a:xfrm>
            <a:prstGeom prst="ellipse">
              <a:avLst/>
            </a:prstGeom>
            <a:blipFill rotWithShape="0">
              <a:blip r:embed="rId1">
                <a:alphaModFix amt="8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65280" y="3676680"/>
              <a:ext cx="702000" cy="72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7844600">
              <a:off x="2567880" y="3103920"/>
              <a:ext cx="3305520" cy="310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059" y="141"/>
                  </a:moveTo>
                  <a:arcTo wR="10800" hR="10800" stAng="-5956461" swAng="5956461"/>
                  <a:lnTo>
                    <a:pt x="10800" y="10800"/>
                  </a:lnTo>
                  <a:close/>
                </a:path>
                <a:path fill="none" w="21600" h="21600">
                  <a:moveTo>
                    <a:pt x="9059" y="141"/>
                  </a:moveTo>
                  <a:arcTo wR="10800" hR="10800" stAng="-5956461" swAng="5956461"/>
                </a:path>
              </a:pathLst>
            </a:custGeom>
            <a:noFill/>
            <a:ln w="22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4240800">
              <a:off x="3875400" y="2892960"/>
              <a:ext cx="1162800" cy="118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03" y="37"/>
                  </a:moveTo>
                  <a:arcTo wR="10800" hR="10800" stAng="-5685819" swAng="5685819"/>
                  <a:lnTo>
                    <a:pt x="10800" y="10800"/>
                  </a:lnTo>
                  <a:close/>
                </a:path>
                <a:path fill="none" w="21600" h="21600">
                  <a:moveTo>
                    <a:pt x="9903" y="37"/>
                  </a:moveTo>
                  <a:arcTo wR="10800" hR="10800" stAng="-5685819" swAng="5685819"/>
                </a:path>
              </a:pathLst>
            </a:custGeom>
            <a:noFill/>
            <a:ln w="22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2587400">
              <a:off x="3598200" y="2670480"/>
              <a:ext cx="1209600" cy="180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9" y="8115"/>
                  </a:moveTo>
                  <a:arcTo wR="10800" hR="10800" stAng="-9936197" swAng="328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339" y="8115"/>
                  </a:moveTo>
                  <a:arcTo wR="10800" hR="10800" stAng="-9936197" swAng="3286693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380400" y="4421520"/>
              <a:ext cx="608040" cy="108792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88800" y="4421520"/>
              <a:ext cx="1990080" cy="91620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4200" y="2620080"/>
              <a:ext cx="140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Tag(K</a:t>
              </a:r>
              <a:r>
                <a:rPr b="0" lang="en-US" sz="24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28400" y="3171600"/>
              <a:ext cx="109440" cy="11484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22920" y="4364280"/>
              <a:ext cx="109440" cy="11484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2774000">
              <a:off x="2626920" y="4173840"/>
              <a:ext cx="109440" cy="17028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82" y="136"/>
                  </a:moveTo>
                  <a:lnTo>
                    <a:pt x="136" y="0"/>
                  </a:lnTo>
                  <a:lnTo>
                    <a:pt x="46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46" y="181"/>
                  </a:lnTo>
                  <a:lnTo>
                    <a:pt x="91" y="136"/>
                  </a:lnTo>
                  <a:lnTo>
                    <a:pt x="182" y="136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8599800">
              <a:off x="3274920" y="5493960"/>
              <a:ext cx="110520" cy="14220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82" y="136"/>
                  </a:moveTo>
                  <a:lnTo>
                    <a:pt x="136" y="0"/>
                  </a:lnTo>
                  <a:lnTo>
                    <a:pt x="46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46" y="181"/>
                  </a:lnTo>
                  <a:lnTo>
                    <a:pt x="91" y="136"/>
                  </a:lnTo>
                  <a:lnTo>
                    <a:pt x="182" y="136"/>
                  </a:ln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9577200">
              <a:off x="5945400" y="5307480"/>
              <a:ext cx="196200" cy="21168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82" y="136"/>
                  </a:moveTo>
                  <a:lnTo>
                    <a:pt x="136" y="0"/>
                  </a:lnTo>
                  <a:lnTo>
                    <a:pt x="46" y="0"/>
                  </a:lnTo>
                  <a:lnTo>
                    <a:pt x="0" y="45"/>
                  </a:lnTo>
                  <a:lnTo>
                    <a:pt x="0" y="91"/>
                  </a:lnTo>
                  <a:lnTo>
                    <a:pt x="46" y="181"/>
                  </a:lnTo>
                  <a:lnTo>
                    <a:pt x="91" y="136"/>
                  </a:lnTo>
                  <a:lnTo>
                    <a:pt x="182" y="136"/>
                  </a:ln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1593800">
              <a:off x="2364480" y="3329640"/>
              <a:ext cx="1689480" cy="150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9" y="8115"/>
                  </a:moveTo>
                  <a:arcTo wR="10800" hR="10800" stAng="-9936197" swAng="53180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39" y="8115"/>
                  </a:moveTo>
                  <a:arcTo wR="10800" hR="10800" stAng="-9936197" swAng="5318085"/>
                </a:path>
              </a:pathLst>
            </a:cu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08000" y="2276640"/>
            <a:ext cx="2519280" cy="47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 the kaon decay length taking into account the energy loss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efficiency and resolution measured on data by means of neutral vertex identif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t of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% fractional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276640"/>
            <a:ext cx="2448000" cy="45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nly 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dec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ag information to estimate th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.e.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 the clusters belonging t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 the kaon decay 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c –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verage over the kaon path (0.5% fractional error 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572A-E1AC-49CF-9194-5AA98B84CF5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rcRect l="7433" t="1514" r="2304" b="0"/>
          <a:stretch/>
        </p:blipFill>
        <p:spPr>
          <a:xfrm>
            <a:off x="5508720" y="765000"/>
            <a:ext cx="3139920" cy="316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99"/>
                </a:solidFill>
                <a:latin typeface="Times New Roman"/>
              </a:rPr>
              <a:t>Vus from BR(K</a:t>
            </a:r>
            <a:r>
              <a:rPr b="0" i="1" lang="it-IT" sz="3600" spc="-1" strike="noStrike" baseline="30000">
                <a:solidFill>
                  <a:srgbClr val="000099"/>
                </a:solidFill>
                <a:latin typeface="Times New Roman"/>
              </a:rPr>
              <a:t>+</a:t>
            </a:r>
            <a:r>
              <a:rPr b="0" i="1" lang="it-IT" sz="3600" spc="-1" strike="noStrike">
                <a:solidFill>
                  <a:srgbClr val="000099"/>
                </a:solidFill>
                <a:latin typeface="Symbol"/>
                <a:ea typeface="Symbol"/>
              </a:rPr>
              <a:t></a:t>
            </a:r>
            <a:r>
              <a:rPr b="0" i="1" lang="it-IT" sz="3600" spc="-1" strike="noStrike" baseline="30000">
                <a:solidFill>
                  <a:srgbClr val="000099"/>
                </a:solidFill>
                <a:latin typeface="Times New Roman"/>
              </a:rPr>
              <a:t>+</a:t>
            </a:r>
            <a:r>
              <a:rPr b="0" i="1" lang="it-IT" sz="3600" spc="-1" strike="noStrike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0" i="1" lang="it-IT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i="1" lang="it-IT" sz="36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i="1" lang="it-IT" sz="3600" spc="-1" strike="noStrike">
                <a:solidFill>
                  <a:srgbClr val="000099"/>
                </a:solidFill>
                <a:latin typeface="Times New Roman"/>
              </a:rPr>
              <a:t>))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836640"/>
            <a:ext cx="467964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ag from K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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; to reduce the tag bias, tag selection requires EMC trig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02 data set: 1/3 used for signal selection, 2/3 used as efficiency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unt events in (225,400) MeV 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* window after the subtraction of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dentified backgrou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lection efficiency measured on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adiated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cceptance measured on M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01560" y="196380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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03240" y="81108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00"/>
                </a:solidFill>
                <a:latin typeface="Symbol"/>
                <a:ea typeface="Symbol"/>
              </a:rPr>
              <a:t>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84760" y="1879560"/>
            <a:ext cx="104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cc00"/>
                </a:solidFill>
                <a:latin typeface="Symbol"/>
                <a:ea typeface="Symbol"/>
              </a:rPr>
              <a:t>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98800" y="3382920"/>
            <a:ext cx="117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M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30880" y="765000"/>
            <a:ext cx="15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article momentum in K rest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5356080" y="1182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ev/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73120" y="3895560"/>
            <a:ext cx="5546880" cy="44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 = 0.636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0009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ta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001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y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95280" y="4317840"/>
            <a:ext cx="2448000" cy="2206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492360" y="4349880"/>
            <a:ext cx="482472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ollowing Marciano hep-ph/0406324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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)/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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|V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/|V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rom lattice calculations: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/f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1.210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0.014 (MILC Coll. hep-lat/040702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=0.9740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0.0005 (superallowed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cay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35280" y="6108840"/>
            <a:ext cx="4464000" cy="440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us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 0.222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0.00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5 KLOE prelim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47120" y="3246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5ACC-7A96-4417-8EFE-556952E6F19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17860" t="10959" r="18997" b="10776"/>
          <a:stretch/>
        </p:blipFill>
        <p:spPr>
          <a:xfrm>
            <a:off x="4546440" y="1727280"/>
            <a:ext cx="4429440" cy="39877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Dominant K</a:t>
            </a:r>
            <a:r>
              <a:rPr b="0" i="1" lang="en-US" sz="36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 branching ratios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8000" y="1371600"/>
            <a:ext cx="4724280" cy="53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328 pb</a:t>
            </a:r>
            <a:r>
              <a:rPr b="0" lang="en-GB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‘01-’02 da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tagged K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’s for measurement (75%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25% used to evaluate efficienc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7000"/>
              </a:lnSpc>
              <a:tabLst>
                <a:tab algn="l" pos="0"/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BR’s to 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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1666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vertex reconstructed in 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1666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ID using decay kinemat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1666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Fit with MC spectra including radiative processes and optimized EmC response to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"/>
              </a:spcBef>
              <a:tabLst>
                <a:tab algn="l" pos="0"/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BR to 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1666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hoton vertex reconstructed by TOF using EmC (3 cluster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1666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rec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= 99%, background &lt; 1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96360" y="5773680"/>
            <a:ext cx="415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esser of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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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hyp. 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42760" y="2587680"/>
            <a:ext cx="119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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50320" y="3103560"/>
            <a:ext cx="123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cc33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33cc33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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85240" y="3606840"/>
            <a:ext cx="1442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</a:t>
            </a:r>
            <a:r>
              <a:rPr b="1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73360" y="4146480"/>
            <a:ext cx="122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99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cc3399"/>
                </a:solidFill>
                <a:latin typeface="Times New Roman"/>
              </a:rPr>
              <a:t>L</a:t>
            </a:r>
            <a:r>
              <a:rPr b="1" lang="en-US" sz="2000" spc="-1" strike="noStrike" baseline="-25000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Symbol"/>
                <a:ea typeface="Symbol"/>
              </a:rPr>
              <a:t></a:t>
            </a:r>
            <a:r>
              <a:rPr b="1" lang="en-US" sz="2000" spc="-1" strike="noStrike" baseline="30000">
                <a:solidFill>
                  <a:srgbClr val="cc3399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cc3399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cc3399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02320" y="190188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ta (7% of the sa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4240" y="884160"/>
            <a:ext cx="8663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Absolute BR measurements to 0.5-1% using K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beam tagged by K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BF66-1FDE-4EB7-8821-3ACB304EB48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Dominant K</a:t>
            </a:r>
            <a:r>
              <a:rPr b="0" i="1" lang="en-US" sz="36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 BR’s and K</a:t>
            </a:r>
            <a:r>
              <a:rPr b="0" i="1" lang="en-US" sz="3600" spc="-1" strike="noStrike" baseline="-25000">
                <a:solidFill>
                  <a:srgbClr val="000099"/>
                </a:solidFill>
                <a:latin typeface="Times New Roman"/>
              </a:rPr>
              <a:t>L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 lifetime</a:t>
            </a:r>
            <a:r>
              <a:rPr b="0" i="1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20315" t="12905" r="18864" b="7774"/>
          <a:stretch/>
        </p:blipFill>
        <p:spPr>
          <a:xfrm>
            <a:off x="6156360" y="1341360"/>
            <a:ext cx="2879640" cy="2730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09520" y="5257800"/>
            <a:ext cx="731520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1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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) = 0.4007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0.0006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0.0014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tag-trk)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1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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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) = 0.2698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0.0006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0.0014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tag-t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1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)  = 0.1997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0.0005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0.0019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tag-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-coun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1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1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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) = 0.1263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0.0005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0.0011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tag-t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59200"/>
            <a:ext cx="3240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= 50.72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0.17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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0.33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19720" y="1162080"/>
            <a:ext cx="4724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3519360"/>
            <a:ext cx="561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s on absolute BR’s dominated by error 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via the geometrical efficiency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4255920"/>
            <a:ext cx="842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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+3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KLO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+ BR(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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PDG’04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0104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007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9800" y="4724280"/>
            <a:ext cx="372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the constrain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934920"/>
            <a:ext cx="613548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1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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) = 0.4049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0.0010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0.0031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1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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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) = 0.2726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0.0008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0.0022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1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)  = 0.2018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0.0004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0.0026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1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1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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) = 0.1276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0.0006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0.0016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56960" y="1413000"/>
            <a:ext cx="479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17720" y="3498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(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5E44-C06B-4259-9D44-530340F2C86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rcRect l="15707" t="10776" r="20687" b="5040"/>
          <a:stretch/>
        </p:blipFill>
        <p:spPr>
          <a:xfrm>
            <a:off x="4495680" y="1066680"/>
            <a:ext cx="4106880" cy="39499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Direct measurement of K</a:t>
            </a:r>
            <a:r>
              <a:rPr b="0" i="1" lang="en-US" sz="3600" spc="-1" strike="noStrike" baseline="-25000">
                <a:solidFill>
                  <a:srgbClr val="000099"/>
                </a:solidFill>
                <a:latin typeface="Times New Roman"/>
              </a:rPr>
              <a:t>L 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lifetime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3916440"/>
            <a:ext cx="380988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OE 400 pb</a:t>
            </a:r>
            <a:r>
              <a:rPr b="1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M </a:t>
            </a:r>
            <a:r>
              <a:rPr b="1" i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it-IT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i="1" lang="it-IT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0.92 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17 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25 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480" y="907920"/>
            <a:ext cx="40356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sure using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~ 99%, uniform in 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~ 2.5 c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ckground ~ 1.3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se K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etermi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C time sc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ton vertex ef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33360" y="493092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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01080" y="1689120"/>
            <a:ext cx="0" cy="2971800"/>
          </a:xfrm>
          <a:prstGeom prst="line">
            <a:avLst/>
          </a:prstGeom>
          <a:ln w="2844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89440" y="1689120"/>
            <a:ext cx="0" cy="2971800"/>
          </a:xfrm>
          <a:prstGeom prst="line">
            <a:avLst/>
          </a:prstGeom>
          <a:ln w="2844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292104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85920" y="2935440"/>
            <a:ext cx="1280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- 24.8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-165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37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34400" y="765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07240" y="5877000"/>
            <a:ext cx="2229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osburg, ’72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51.54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0.44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22840" y="5762520"/>
            <a:ext cx="4086720" cy="85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erage with result from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R’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i="1" lang="it-IT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0.84 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23 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97080" y="76500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/0.3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32720" y="1125360"/>
            <a:ext cx="1800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10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lever arm for lifetime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5BF4-ADAE-4465-8129-8F5B93F9CCB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en-US" sz="3600" spc="-1" strike="noStrike" baseline="-25000">
                <a:solidFill>
                  <a:srgbClr val="000099"/>
                </a:solidFill>
                <a:latin typeface="Times New Roman"/>
              </a:rPr>
              <a:t>us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 at KLOE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771640" y="836640"/>
            <a:ext cx="6289920" cy="3159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82560" y="5651640"/>
            <a:ext cx="7274160" cy="8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tting the 5 |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0)| KLOE determinations: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dof=1.7/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also KTeV inputs,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) becomes 0.2172(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252440" y="4149720"/>
          <a:ext cx="6199200" cy="1095480"/>
        </p:xfrm>
        <a:graphic>
          <a:graphicData uri="http://schemas.openxmlformats.org/drawingml/2006/table">
            <a:tbl>
              <a:tblPr/>
              <a:tblGrid>
                <a:gridCol w="942840"/>
                <a:gridCol w="1008000"/>
                <a:gridCol w="1079640"/>
                <a:gridCol w="1152360"/>
                <a:gridCol w="1008360"/>
                <a:gridCol w="10080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6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7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108000" y="2101680"/>
            <a:ext cx="26636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 = 0.961(8) from Leutwyler and Ro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fetime from KLOE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50.84(23)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BR’s from KLO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FF04-7A4C-43F9-845A-E614B9BD828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Unitarity test of CKM matrix – V</a:t>
            </a:r>
            <a:r>
              <a:rPr b="0" i="1" lang="en-US" sz="3600" spc="-1" strike="noStrike" baseline="-25000">
                <a:solidFill>
                  <a:srgbClr val="000099"/>
                </a:solidFill>
                <a:latin typeface="Times New Roman"/>
              </a:rPr>
              <a:t>us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7650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st precise test of unitarity possible at present comes from 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row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6800" y="1506600"/>
            <a:ext cx="88344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n test if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0 at few 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om super-allowed 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ermi transitions, n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decays: 2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0.00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om semileptonic kaon decays (PDG 2002 fit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19440" y="1130400"/>
            <a:ext cx="513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1 –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5760" y="2649600"/>
            <a:ext cx="7335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xtract |V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| from K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Times New Roman"/>
              </a:rPr>
              <a:t>l3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decays.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EM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effects must be include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8880" y="3132000"/>
            <a:ext cx="225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K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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23160" y="3132000"/>
            <a:ext cx="2240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(1 +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I(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60560" y="3132000"/>
            <a:ext cx="1791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 +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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U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85440" y="3127320"/>
            <a:ext cx="1708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K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) 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2160" y="3983040"/>
            <a:ext cx="35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8680" y="3548160"/>
            <a:ext cx="77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87880" y="4010040"/>
            <a:ext cx="646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4360" y="3548160"/>
            <a:ext cx="49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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88080" y="4005360"/>
            <a:ext cx="671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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99520" y="3548160"/>
            <a:ext cx="808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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46040" y="3548160"/>
            <a:ext cx="11682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K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40720" y="4010040"/>
            <a:ext cx="1031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K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09240" y="3797280"/>
            <a:ext cx="288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0.5     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0.5         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08400" y="40179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80000" y="4005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73680" y="4005360"/>
            <a:ext cx="58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13720" y="4005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59000" y="2184480"/>
            <a:ext cx="2328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0.00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9840" y="3711600"/>
            <a:ext cx="270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Relative uncertaint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4080" y="4591080"/>
            <a:ext cx="8064360" cy="20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Extract |V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| from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</a:t>
            </a:r>
            <a:r>
              <a:rPr b="0" lang="it-IT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it-IT" sz="22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it-IT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</a:t>
            </a:r>
            <a:r>
              <a:rPr b="0" lang="it-IT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it-IT" sz="22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it-IT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ratio. Dominated by the theoretical uncertainity on th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evalu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KLOE can measure all experimental input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branching ratios, lifetimes, and form facto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B0E7-2086-4FF5-8952-8E537318A13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V</a:t>
            </a:r>
            <a:r>
              <a:rPr b="0" i="1" lang="en-US" sz="3600" spc="-1" strike="noStrike" baseline="-25000">
                <a:solidFill>
                  <a:srgbClr val="000099"/>
                </a:solidFill>
                <a:latin typeface="Times New Roman"/>
              </a:rPr>
              <a:t>us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 and Unitarity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6934320" cy="47149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4920" y="5516640"/>
            <a:ext cx="61927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 = 0.961(8) from Leutwyler and Ro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fetime from KLOE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50.84(23)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ot: F.Mescia court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769D-CF21-4E05-8AC9-2339F106779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0920" y="974880"/>
            <a:ext cx="8640720" cy="59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All experimental inputs to the |V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(0)| can be measured at KLO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physic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Fractional accuracy of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0.4% on the BR of semileptonic decay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Two independent measurements of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: 0.5% accurac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reliminary resulst on K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3 form factors: see M.Moulson tal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physic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reliminary result on semileptonic BR. Fractional accuracy of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K lifetime analysis: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at the 0.2%, under the review of the collabor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Final BR(K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2); get Vus at 1% level, dominated by theoretical  uncertain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Perspectives with 2.5 fb</a:t>
            </a:r>
            <a:r>
              <a:rPr b="1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of collected da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Fractional accuracy of &lt; 1% on the BR fo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for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 factors of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mileptonic decay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First direct measurement of BR(K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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, accuracy &lt; 2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0DBF-66C7-4DEE-8142-81B4BC84DB0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2743200"/>
            <a:ext cx="6553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99"/>
                </a:solidFill>
                <a:latin typeface="Times New Roman"/>
              </a:rPr>
              <a:t>Spare sli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E3BD-745F-48CE-BC2E-F03130B66D7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Tag selection - 2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3000" y="1557360"/>
            <a:ext cx="4967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g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: ask for associate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cluster on barrel with energy &gt; 90 MeV.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cluster fires at least one sect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cluster fires two sectors 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0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k for additional fired trigger sectors to satisfy calorimeter trigger 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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% for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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% for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126760" y="1770840"/>
            <a:ext cx="4009680" cy="2585880"/>
            <a:chOff x="5126760" y="1770840"/>
            <a:chExt cx="4009680" cy="2585880"/>
          </a:xfrm>
        </p:grpSpPr>
        <p:grpSp>
          <p:nvGrpSpPr>
            <p:cNvPr id="294" name=""/>
            <p:cNvGrpSpPr/>
            <p:nvPr/>
          </p:nvGrpSpPr>
          <p:grpSpPr>
            <a:xfrm>
              <a:off x="8120160" y="3047760"/>
              <a:ext cx="1016280" cy="1308960"/>
              <a:chOff x="8120160" y="3047760"/>
              <a:chExt cx="1016280" cy="1308960"/>
            </a:xfrm>
          </p:grpSpPr>
          <p:sp>
            <p:nvSpPr>
              <p:cNvPr id="295" name=""/>
              <p:cNvSpPr/>
              <p:nvPr/>
            </p:nvSpPr>
            <p:spPr>
              <a:xfrm rot="3717600">
                <a:off x="8020800" y="3449880"/>
                <a:ext cx="1214280" cy="504720"/>
              </a:xfrm>
              <a:custGeom>
                <a:avLst/>
                <a:gdLst>
                  <a:gd name="textAreaLeft" fmla="*/ 146880 w 1214280"/>
                  <a:gd name="textAreaRight" fmla="*/ 1067400 w 1214280"/>
                  <a:gd name="textAreaTop" fmla="*/ 60840 h 504720"/>
                  <a:gd name="textAreaBottom" fmla="*/ 44388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047" y="21600"/>
                    </a:lnTo>
                    <a:lnTo>
                      <a:pt x="1553" y="21600"/>
                    </a:lnTo>
                    <a:close/>
                  </a:path>
                </a:pathLst>
              </a:custGeom>
              <a:blipFill rotWithShape="0">
                <a:blip r:embed="rId1">
                  <a:alphaModFix amt="83000"/>
                </a:blip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8388360" y="3560040"/>
                <a:ext cx="433440" cy="207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126760" y="1770840"/>
              <a:ext cx="3430080" cy="2340360"/>
              <a:chOff x="5126760" y="1770840"/>
              <a:chExt cx="3430080" cy="2340360"/>
            </a:xfrm>
          </p:grpSpPr>
          <p:sp>
            <p:nvSpPr>
              <p:cNvPr id="298" name=""/>
              <p:cNvSpPr/>
              <p:nvPr/>
            </p:nvSpPr>
            <p:spPr>
              <a:xfrm>
                <a:off x="5292720" y="1773360"/>
                <a:ext cx="1214280" cy="504360"/>
              </a:xfrm>
              <a:custGeom>
                <a:avLst/>
                <a:gdLst>
                  <a:gd name="textAreaLeft" fmla="*/ 146880 w 1214280"/>
                  <a:gd name="textAreaRight" fmla="*/ 1067400 w 1214280"/>
                  <a:gd name="textAreaTop" fmla="*/ 60840 h 504360"/>
                  <a:gd name="textAreaBottom" fmla="*/ 443520 h 50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047" y="21600"/>
                    </a:lnTo>
                    <a:lnTo>
                      <a:pt x="1553" y="21600"/>
                    </a:lnTo>
                    <a:close/>
                  </a:path>
                </a:pathLst>
              </a:custGeom>
              <a:blipFill rotWithShape="0">
                <a:blip r:embed="rId2">
                  <a:alphaModFix amt="83000"/>
                </a:blip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315200">
                <a:off x="6384960" y="1978920"/>
                <a:ext cx="1214280" cy="504720"/>
              </a:xfrm>
              <a:custGeom>
                <a:avLst/>
                <a:gdLst>
                  <a:gd name="textAreaLeft" fmla="*/ 146880 w 1214280"/>
                  <a:gd name="textAreaRight" fmla="*/ 1067400 w 1214280"/>
                  <a:gd name="textAreaTop" fmla="*/ 60840 h 504720"/>
                  <a:gd name="textAreaBottom" fmla="*/ 44388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047" y="21600"/>
                    </a:lnTo>
                    <a:lnTo>
                      <a:pt x="1553" y="21600"/>
                    </a:lnTo>
                    <a:close/>
                  </a:path>
                </a:pathLst>
              </a:custGeom>
              <a:blipFill rotWithShape="0">
                <a:blip r:embed="rId3">
                  <a:alphaModFix amt="83000"/>
                </a:blip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516400">
                <a:off x="7329240" y="2572920"/>
                <a:ext cx="1214280" cy="504360"/>
              </a:xfrm>
              <a:custGeom>
                <a:avLst/>
                <a:gdLst>
                  <a:gd name="textAreaLeft" fmla="*/ 146880 w 1214280"/>
                  <a:gd name="textAreaRight" fmla="*/ 1067400 w 1214280"/>
                  <a:gd name="textAreaTop" fmla="*/ 60840 h 504360"/>
                  <a:gd name="textAreaBottom" fmla="*/ 443520 h 50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047" y="21600"/>
                    </a:lnTo>
                    <a:lnTo>
                      <a:pt x="1553" y="21600"/>
                    </a:lnTo>
                    <a:close/>
                  </a:path>
                </a:pathLst>
              </a:custGeom>
              <a:blipFill rotWithShape="0">
                <a:blip r:embed="rId4">
                  <a:alphaModFix amt="83000"/>
                </a:blip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5869080" y="1773000"/>
                <a:ext cx="0" cy="50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6864480" y="2001240"/>
                <a:ext cx="21564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7740720" y="2638080"/>
                <a:ext cx="360360" cy="31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5148200">
                <a:off x="6056280" y="1810800"/>
                <a:ext cx="1081800" cy="274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28" y="2273"/>
                    </a:moveTo>
                    <a:arcTo wR="10800" hR="10800" stAng="-3128415" swAng="74380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28" y="2273"/>
                    </a:moveTo>
                    <a:arcTo wR="10800" hR="10800" stAng="-3128415" swAng="7438022"/>
                  </a:path>
                </a:pathLst>
              </a:custGeom>
              <a:noFill/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" name=""/>
          <p:cNvSpPr/>
          <p:nvPr/>
        </p:nvSpPr>
        <p:spPr>
          <a:xfrm>
            <a:off x="243000" y="393372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g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) look for a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rom vertex using th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) technique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strai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usters satisfy the Emc trigger 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0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3000" y="95580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orimeter trigger (2 sectors over threshol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0 MeV) satisfied by ta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000" y="5157720"/>
            <a:ext cx="663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ach kaon charge, 2+1 different tag samples: K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g,  K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ig,  and  K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rg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ta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charge = 4 samples for the measu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 ta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charge = 2 control sampl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065C-BC8A-4D50-93F2-7D74D2A3FA8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Background rejection-1 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>
            <a:lum contrast="100000"/>
          </a:blip>
          <a:srcRect l="7533" t="21308" r="20158" b="12126"/>
          <a:stretch/>
        </p:blipFill>
        <p:spPr>
          <a:xfrm>
            <a:off x="4495680" y="914400"/>
            <a:ext cx="3581640" cy="32972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>
            <a:lum contrast="100000"/>
          </a:blip>
          <a:srcRect l="10977" t="17642" r="19676" b="13450"/>
          <a:stretch/>
        </p:blipFill>
        <p:spPr>
          <a:xfrm>
            <a:off x="228600" y="907920"/>
            <a:ext cx="3809880" cy="37864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79280" y="4941720"/>
            <a:ext cx="41277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are rejected cutting on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pectrum (&lt;90MeV); th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omentum is obtained by mean of a kinematic f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14920" y="4614840"/>
            <a:ext cx="43210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vents are rejected evaluating the missing momentum at the decay vertex, and cutting on momentum of the secondary track in the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st frame (P&gt;90 Me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40440" y="4022640"/>
            <a:ext cx="183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i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43160" y="1660680"/>
            <a:ext cx="12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</a:t>
            </a:r>
            <a:r>
              <a:rPr b="0" lang="en-US" sz="20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74840" y="2565360"/>
            <a:ext cx="0" cy="1381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06920" y="91440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</a:t>
            </a:r>
            <a:r>
              <a:rPr b="0" lang="en-US" sz="20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ff33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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34320" y="1508040"/>
            <a:ext cx="12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86480" y="2193840"/>
            <a:ext cx="13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4760" y="3429000"/>
            <a:ext cx="12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00cc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</a:t>
            </a:r>
            <a:r>
              <a:rPr b="0" lang="en-US" sz="2000" spc="-1" strike="noStrike" baseline="30000">
                <a:solidFill>
                  <a:srgbClr val="00cc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cc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72400" y="38862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Me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13400" y="2428920"/>
            <a:ext cx="0" cy="13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84080" y="1592280"/>
            <a:ext cx="12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8999-1BA8-4948-B900-E3AB1AB8DA9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rcRect l="0" t="14223" r="13036" b="7070"/>
          <a:stretch/>
        </p:blipFill>
        <p:spPr>
          <a:xfrm>
            <a:off x="5364000" y="907920"/>
            <a:ext cx="3311640" cy="29973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Background rejection-2 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67280" y="4005360"/>
            <a:ext cx="468144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kaon ToF and Tag to estimate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L/ (c (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CL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incorrect TCA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1 may happ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Q = p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c (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CL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/L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s with an incorrect TCA are rejected cutting the unphysical velocities: Q&lt;(33 MeV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62560" y="1413000"/>
            <a:ext cx="0" cy="13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rcRect l="0" t="13245" r="3666" b="7415"/>
          <a:stretch/>
        </p:blipFill>
        <p:spPr>
          <a:xfrm>
            <a:off x="179280" y="765000"/>
            <a:ext cx="3672000" cy="3024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900000" y="981000"/>
            <a:ext cx="12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rcRect l="0" t="14223" r="5889" b="9466"/>
          <a:stretch/>
        </p:blipFill>
        <p:spPr>
          <a:xfrm>
            <a:off x="179280" y="3693960"/>
            <a:ext cx="3600720" cy="2917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068200" y="4832280"/>
            <a:ext cx="12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5AE8-1058-4838-ADA7-62AF594004C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Fit of m</a:t>
            </a:r>
            <a:r>
              <a:rPr b="0" i="1" lang="en-US" sz="36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 distribution: K</a:t>
            </a:r>
            <a:r>
              <a:rPr b="0" i="1" lang="en-US" sz="3600" spc="-1" strike="noStrike" baseline="30000">
                <a:solidFill>
                  <a:srgbClr val="000099"/>
                </a:solidFill>
                <a:latin typeface="Times New Roman"/>
              </a:rPr>
              <a:t>+</a:t>
            </a:r>
            <a:r>
              <a:rPr b="0" i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2 tag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920" y="861840"/>
            <a:ext cx="56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residuals for all the Tag samples show the same tre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sible residual different Data-MC resolu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06600" y="2060640"/>
          <a:ext cx="4397040" cy="77292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852480"/>
                <a:gridCol w="936360"/>
                <a:gridCol w="1008000"/>
              </a:tblGrid>
              <a:tr h="34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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D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/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34" name="" descr=""/>
          <p:cNvPicPr/>
          <p:nvPr/>
        </p:nvPicPr>
        <p:blipFill>
          <a:blip r:embed="rId1"/>
          <a:srcRect l="0" t="16118" r="14223" b="9466"/>
          <a:stretch/>
        </p:blipFill>
        <p:spPr>
          <a:xfrm>
            <a:off x="5580000" y="765000"/>
            <a:ext cx="3529080" cy="30625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14223" r="13036" b="10646"/>
          <a:stretch/>
        </p:blipFill>
        <p:spPr>
          <a:xfrm>
            <a:off x="250920" y="2840040"/>
            <a:ext cx="4387680" cy="37908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rcRect l="0" t="14223" r="13036" b="10646"/>
          <a:stretch/>
        </p:blipFill>
        <p:spPr>
          <a:xfrm>
            <a:off x="5724360" y="3807000"/>
            <a:ext cx="3313440" cy="286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D1A3-7EE8-4E84-B88A-8ED6DEF7C4A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rcRect l="0" t="14223" r="13036" b="9466"/>
          <a:stretch/>
        </p:blipFill>
        <p:spPr>
          <a:xfrm>
            <a:off x="5651640" y="3824280"/>
            <a:ext cx="3241440" cy="28447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Fit of m</a:t>
            </a:r>
            <a:r>
              <a:rPr b="0" i="1" lang="en-US" sz="36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 distribution: K</a:t>
            </a:r>
            <a:r>
              <a:rPr b="0" i="1" lang="en-US" sz="3600" spc="-1" strike="noStrike" baseline="30000">
                <a:solidFill>
                  <a:srgbClr val="000099"/>
                </a:solidFill>
                <a:latin typeface="Times New Roman"/>
              </a:rPr>
              <a:t>+</a:t>
            </a:r>
            <a:r>
              <a:rPr b="0" i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2 tag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95280" y="907920"/>
          <a:ext cx="4397400" cy="77328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852480"/>
                <a:gridCol w="936720"/>
                <a:gridCol w="1008000"/>
              </a:tblGrid>
              <a:tr h="34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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D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/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40" name="" descr=""/>
          <p:cNvPicPr/>
          <p:nvPr/>
        </p:nvPicPr>
        <p:blipFill>
          <a:blip r:embed="rId2"/>
          <a:srcRect l="0" t="15433" r="14223" b="10646"/>
          <a:stretch/>
        </p:blipFill>
        <p:spPr>
          <a:xfrm>
            <a:off x="5364000" y="798480"/>
            <a:ext cx="3529080" cy="30402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rcRect l="0" t="15433" r="13036" b="10646"/>
          <a:stretch/>
        </p:blipFill>
        <p:spPr>
          <a:xfrm>
            <a:off x="324000" y="2651040"/>
            <a:ext cx="4387680" cy="373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7F1D-18A1-4163-84B5-1C07EBC9231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rcRect l="0" t="15486" r="12935" b="10569"/>
          <a:stretch/>
        </p:blipFill>
        <p:spPr>
          <a:xfrm>
            <a:off x="5796000" y="3967200"/>
            <a:ext cx="3241800" cy="27525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Fit of m</a:t>
            </a:r>
            <a:r>
              <a:rPr b="0" i="1" lang="en-US" sz="36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 distribution: K</a:t>
            </a:r>
            <a:r>
              <a:rPr b="0" i="1" lang="en-US" sz="36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0" i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2 tag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611280" y="907920"/>
          <a:ext cx="4397400" cy="77328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852480"/>
                <a:gridCol w="936720"/>
                <a:gridCol w="1008000"/>
              </a:tblGrid>
              <a:tr h="34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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D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/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45" name="" descr=""/>
          <p:cNvPicPr/>
          <p:nvPr/>
        </p:nvPicPr>
        <p:blipFill>
          <a:blip r:embed="rId2"/>
          <a:srcRect l="0" t="15433" r="13036" b="10646"/>
          <a:stretch/>
        </p:blipFill>
        <p:spPr>
          <a:xfrm>
            <a:off x="5292720" y="836640"/>
            <a:ext cx="3743280" cy="31813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rcRect l="0" t="15433" r="13036" b="10646"/>
          <a:stretch/>
        </p:blipFill>
        <p:spPr>
          <a:xfrm>
            <a:off x="179280" y="2421000"/>
            <a:ext cx="4680000" cy="39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DB17-E58F-4BF3-89EE-F137B7A946A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rcRect l="0" t="15433" r="14223" b="10646"/>
          <a:stretch/>
        </p:blipFill>
        <p:spPr>
          <a:xfrm>
            <a:off x="5832360" y="3968640"/>
            <a:ext cx="3203640" cy="27608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Fit of m</a:t>
            </a:r>
            <a:r>
              <a:rPr b="0" i="1" lang="en-US" sz="36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 distribution: K</a:t>
            </a:r>
            <a:r>
              <a:rPr b="0" i="1" lang="en-US" sz="36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0" i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2 tag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606600" y="981000"/>
          <a:ext cx="4397040" cy="773280"/>
        </p:xfrm>
        <a:graphic>
          <a:graphicData uri="http://schemas.openxmlformats.org/drawingml/2006/table">
            <a:tbl>
              <a:tblPr/>
              <a:tblGrid>
                <a:gridCol w="609480"/>
                <a:gridCol w="990720"/>
                <a:gridCol w="852480"/>
                <a:gridCol w="936360"/>
                <a:gridCol w="1008000"/>
              </a:tblGrid>
              <a:tr h="34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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D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6/2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50" name="" descr=""/>
          <p:cNvPicPr/>
          <p:nvPr/>
        </p:nvPicPr>
        <p:blipFill>
          <a:blip r:embed="rId2"/>
          <a:srcRect l="0" t="15433" r="13036" b="10646"/>
          <a:stretch/>
        </p:blipFill>
        <p:spPr>
          <a:xfrm>
            <a:off x="5364000" y="773280"/>
            <a:ext cx="3745080" cy="31827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rcRect l="0" t="15433" r="13036" b="10646"/>
          <a:stretch/>
        </p:blipFill>
        <p:spPr>
          <a:xfrm>
            <a:off x="34920" y="2276640"/>
            <a:ext cx="4826160" cy="410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E0F1-124B-47B9-9016-549E3F5D6DC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1720" y="88560"/>
            <a:ext cx="7677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Outline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907920"/>
            <a:ext cx="8497800" cy="56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LO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easuring absolute BR’s at a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harged kaon resul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ileptonic dec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fe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 branching ra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eutral kaon resul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mileptonic dec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fe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m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mileptonic dec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LO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515772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e M. Moulson tal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Joint Se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P Violation / Rare Decay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aturday 23, 11, Room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5013360"/>
            <a:ext cx="576000" cy="720720"/>
          </a:xfrm>
          <a:custGeom>
            <a:avLst/>
            <a:gdLst>
              <a:gd name="textAreaLeft" fmla="*/ 0 w 576000"/>
              <a:gd name="textAreaRight" fmla="*/ 208080 w 57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BD06-97FE-470A-9E9F-2EC32655B34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rcRect l="0" t="14223" r="15433" b="8256"/>
          <a:stretch/>
        </p:blipFill>
        <p:spPr>
          <a:xfrm>
            <a:off x="179280" y="3195720"/>
            <a:ext cx="3240360" cy="2970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Absolute BR(Ke3(</a:t>
            </a:r>
            <a:r>
              <a:rPr b="0" i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)) measurement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24000" y="907920"/>
          <a:ext cx="2835000" cy="1594080"/>
        </p:xfrm>
        <a:graphic>
          <a:graphicData uri="http://schemas.openxmlformats.org/drawingml/2006/table">
            <a:tbl>
              <a:tblPr/>
              <a:tblGrid>
                <a:gridCol w="1142640"/>
                <a:gridCol w="1692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Ke3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 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 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99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.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 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6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.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 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6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.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 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12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.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"/>
          <p:cNvSpPr/>
          <p:nvPr/>
        </p:nvSpPr>
        <p:spPr>
          <a:xfrm>
            <a:off x="3851280" y="3156120"/>
            <a:ext cx="518472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correlated errors between the 4 tag samples: Nsig, tag bias, FilFo, CosmicVeto/T3, MC stat. used for efficiency evaluation, photon efficienc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ially correlated error: kink and TCA efficiency corrections of MC efficienc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nDof = 3.20/3 for the 4 measurements with uncorrelated errors, P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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36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rcRect l="18520" t="38494" r="18302" b="40734"/>
          <a:stretch/>
        </p:blipFill>
        <p:spPr>
          <a:xfrm>
            <a:off x="3924360" y="836640"/>
            <a:ext cx="4680000" cy="217656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552600" y="5859360"/>
            <a:ext cx="2888640" cy="276480"/>
            <a:chOff x="552600" y="5859360"/>
            <a:chExt cx="2888640" cy="276480"/>
          </a:xfrm>
        </p:grpSpPr>
        <p:sp>
          <p:nvSpPr>
            <p:cNvPr id="358" name=""/>
            <p:cNvSpPr/>
            <p:nvPr/>
          </p:nvSpPr>
          <p:spPr>
            <a:xfrm>
              <a:off x="2687400" y="5859360"/>
              <a:ext cx="753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2600" y="5859360"/>
              <a:ext cx="780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29600" y="5859360"/>
              <a:ext cx="758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45600" y="5859360"/>
              <a:ext cx="775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6294-2ADC-4D68-B754-9B6DAC77A94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rcRect l="0" t="14223" r="15433" b="8256"/>
          <a:stretch/>
        </p:blipFill>
        <p:spPr>
          <a:xfrm>
            <a:off x="88920" y="3181320"/>
            <a:ext cx="3259080" cy="29876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Absolute BR(K</a:t>
            </a:r>
            <a:r>
              <a:rPr b="0" i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3(</a:t>
            </a:r>
            <a:r>
              <a:rPr b="0" i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)) measurements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304920" y="1052640"/>
          <a:ext cx="2971800" cy="1527120"/>
        </p:xfrm>
        <a:graphic>
          <a:graphicData uri="http://schemas.openxmlformats.org/drawingml/2006/table">
            <a:tbl>
              <a:tblPr/>
              <a:tblGrid>
                <a:gridCol w="1143000"/>
                <a:gridCol w="182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 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 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6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.06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 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7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.0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 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3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.06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 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98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.0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"/>
          <p:cNvSpPr/>
          <p:nvPr/>
        </p:nvSpPr>
        <p:spPr>
          <a:xfrm>
            <a:off x="3564000" y="3083040"/>
            <a:ext cx="558000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nDof = 5.32/3 for the 4 measurements with uncorrelated errors, P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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1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number of signal events is evaluated in each sample separately, using the SAME FIT PROCEDURE. Systematic errors coming from the fit are common to all samp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the systematic coming from the selection efficiency is COMMON TO ALL SAMP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rcRect l="17436" t="46674" r="18302" b="32539"/>
          <a:stretch/>
        </p:blipFill>
        <p:spPr>
          <a:xfrm>
            <a:off x="3849840" y="787320"/>
            <a:ext cx="4825800" cy="221004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544680" y="5853240"/>
            <a:ext cx="2888640" cy="276480"/>
            <a:chOff x="544680" y="5853240"/>
            <a:chExt cx="2888640" cy="276480"/>
          </a:xfrm>
        </p:grpSpPr>
        <p:sp>
          <p:nvSpPr>
            <p:cNvPr id="368" name=""/>
            <p:cNvSpPr/>
            <p:nvPr/>
          </p:nvSpPr>
          <p:spPr>
            <a:xfrm>
              <a:off x="2679480" y="5853240"/>
              <a:ext cx="753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4680" y="5853240"/>
              <a:ext cx="780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21680" y="5853240"/>
              <a:ext cx="758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37680" y="5853240"/>
              <a:ext cx="775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B5AF-A036-4249-9C3B-C26818E6A99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0" i="1" lang="en-US" sz="36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 baseline="-25000">
                <a:solidFill>
                  <a:srgbClr val="000099"/>
                </a:solidFill>
                <a:latin typeface="Times New Roman"/>
              </a:rPr>
              <a:t>/e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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(K</a:t>
            </a:r>
            <a:r>
              <a:rPr b="0" i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3)/</a:t>
            </a:r>
            <a:r>
              <a:rPr b="0" i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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(Ke3)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324000" y="963720"/>
          <a:ext cx="2160360" cy="1528560"/>
        </p:xfrm>
        <a:graphic>
          <a:graphicData uri="http://schemas.openxmlformats.org/drawingml/2006/table">
            <a:tbl>
              <a:tblPr/>
              <a:tblGrid>
                <a:gridCol w="720360"/>
                <a:gridCol w="144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5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.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4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.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58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63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.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>
            <a:off x="3780000" y="1452600"/>
            <a:ext cx="51130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/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(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T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T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is the tag bias correction for the rat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rrelation between Ke3 and K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 (about 4%) coming from the fit has been taken into account in calculating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/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1.55/3 for the 4 measurements with uncorrelated errors,  P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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67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rcRect l="4679" t="15433" r="15433" b="14223"/>
          <a:stretch/>
        </p:blipFill>
        <p:spPr>
          <a:xfrm>
            <a:off x="108000" y="3033720"/>
            <a:ext cx="3311640" cy="291636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595440" y="5826240"/>
            <a:ext cx="2793960" cy="246240"/>
            <a:chOff x="595440" y="5826240"/>
            <a:chExt cx="2793960" cy="246240"/>
          </a:xfrm>
        </p:grpSpPr>
        <p:sp>
          <p:nvSpPr>
            <p:cNvPr id="377" name=""/>
            <p:cNvSpPr/>
            <p:nvPr/>
          </p:nvSpPr>
          <p:spPr>
            <a:xfrm>
              <a:off x="2728440" y="5826240"/>
              <a:ext cx="6609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5440" y="5826240"/>
              <a:ext cx="680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71720" y="5826240"/>
              <a:ext cx="6638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87720" y="5826240"/>
              <a:ext cx="6775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g K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1" name="" descr=""/>
          <p:cNvPicPr/>
          <p:nvPr/>
        </p:nvPicPr>
        <p:blipFill>
          <a:blip r:embed="rId2"/>
          <a:srcRect l="30503" t="5093" r="25938" b="88748"/>
          <a:stretch/>
        </p:blipFill>
        <p:spPr>
          <a:xfrm>
            <a:off x="4140360" y="2563920"/>
            <a:ext cx="4103640" cy="82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0CBB-DFDF-4050-992F-61F8B1B9999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Details on BR errors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82440" y="797040"/>
          <a:ext cx="6048360" cy="1463400"/>
        </p:xfrm>
        <a:graphic>
          <a:graphicData uri="http://schemas.openxmlformats.org/drawingml/2006/table">
            <a:tbl>
              <a:tblPr/>
              <a:tblGrid>
                <a:gridCol w="934920"/>
                <a:gridCol w="1297080"/>
                <a:gridCol w="792000"/>
                <a:gridCol w="1295640"/>
                <a:gridCol w="792000"/>
                <a:gridCol w="93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 Tag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t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C stat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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ys S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4520" y="2336760"/>
          <a:ext cx="6048360" cy="1463760"/>
        </p:xfrm>
        <a:graphic>
          <a:graphicData uri="http://schemas.openxmlformats.org/drawingml/2006/table">
            <a:tbl>
              <a:tblPr/>
              <a:tblGrid>
                <a:gridCol w="934920"/>
                <a:gridCol w="1297080"/>
                <a:gridCol w="792000"/>
                <a:gridCol w="1295640"/>
                <a:gridCol w="792000"/>
                <a:gridCol w="93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 Tag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t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C stat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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ys S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2195640" y="5321160"/>
          <a:ext cx="4537080" cy="1276560"/>
        </p:xfrm>
        <a:graphic>
          <a:graphicData uri="http://schemas.openxmlformats.org/drawingml/2006/table">
            <a:tbl>
              <a:tblPr/>
              <a:tblGrid>
                <a:gridCol w="1296720"/>
                <a:gridCol w="324036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Ke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47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.046 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Sys Sig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K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10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.040 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Sys Sig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/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56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.008 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Sys Si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"/>
          <p:cNvSpPr/>
          <p:nvPr/>
        </p:nvSpPr>
        <p:spPr>
          <a:xfrm>
            <a:off x="6373800" y="907920"/>
            <a:ext cx="2519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 carefully calculated taking correlations into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contributions to the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systematic due to the signal selection efficiency is under evaluation; can move the central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82440" y="3898800"/>
          <a:ext cx="4535280" cy="1098360"/>
        </p:xfrm>
        <a:graphic>
          <a:graphicData uri="http://schemas.openxmlformats.org/drawingml/2006/table">
            <a:tbl>
              <a:tblPr/>
              <a:tblGrid>
                <a:gridCol w="503280"/>
                <a:gridCol w="1296720"/>
                <a:gridCol w="1368720"/>
                <a:gridCol w="1366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e3)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10(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66(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517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81(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52(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597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1022-999B-4D2D-AE11-5A6AA9EA0D0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2440" y="2124000"/>
            <a:ext cx="5403960" cy="43531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5510160" y="2895480"/>
            <a:ext cx="3481560" cy="31402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836640" y="1243080"/>
            <a:ext cx="66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= 0.636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009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ta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01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y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Details on the K</a:t>
            </a:r>
            <a:r>
              <a:rPr b="0" i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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) result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91D2-0451-436C-9496-E807ED0E196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5105520" cy="48132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07800" y="1219320"/>
            <a:ext cx="558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/f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=1.21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0.014 (MILC Coll. hep-lat/04070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6480" y="838080"/>
            <a:ext cx="621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ollowing the method from Marciano hep-ph/0406324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9000" y="3105000"/>
            <a:ext cx="2698200" cy="8758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it-IT" sz="2400" spc="-1" strike="noStrike" baseline="-25000">
                <a:solidFill>
                  <a:srgbClr val="3333cc"/>
                </a:solidFill>
                <a:latin typeface="Times New Roman"/>
              </a:rPr>
              <a:t>us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=0.2223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±0.00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KLOE 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1905120"/>
            <a:ext cx="2895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=0.974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0.0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erallowed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ca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05920" y="3200400"/>
            <a:ext cx="457200" cy="1295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320" y="6019920"/>
            <a:ext cx="5333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0080"/>
                </a:solidFill>
                <a:uFillTx/>
                <a:latin typeface="Times New Roman"/>
              </a:rPr>
              <a:t>new unpublished V</a:t>
            </a:r>
            <a:r>
              <a:rPr b="0" lang="en-US" sz="1600" spc="-1" strike="noStrike" u="sng" baseline="-25000">
                <a:solidFill>
                  <a:srgbClr val="800080"/>
                </a:solidFill>
                <a:uFillTx/>
                <a:latin typeface="Times New Roman"/>
              </a:rPr>
              <a:t>ud</a:t>
            </a:r>
            <a:r>
              <a:rPr b="0" lang="en-US" sz="1600" spc="-1" strike="noStrike" u="sng">
                <a:solidFill>
                  <a:srgbClr val="800080"/>
                </a:solidFill>
                <a:uFillTx/>
                <a:latin typeface="Times New Roman"/>
              </a:rPr>
              <a:t> value will shrink the error b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Vus from BR(K</a:t>
            </a:r>
            <a:r>
              <a:rPr b="0" i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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))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8E7EA-9D23-46DE-BA3B-8A27EDDC704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BR’s comparison</a:t>
            </a:r>
            <a:endParaRPr b="0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4843440" y="3816360"/>
            <a:ext cx="3565440" cy="23526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662040" y="3878280"/>
            <a:ext cx="3481200" cy="22813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659040" cy="25020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660240" y="1197000"/>
            <a:ext cx="3481560" cy="26384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3421440" y="1484280"/>
            <a:ext cx="811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KL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A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KT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DG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310880" y="1700280"/>
            <a:ext cx="81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</a:rPr>
              <a:t>KL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KT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DG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93800" y="4005360"/>
            <a:ext cx="89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KL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NA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KT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DG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094520" y="4149720"/>
            <a:ext cx="89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KL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KT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DG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6720" y="1447920"/>
            <a:ext cx="1396800" cy="51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i="1" lang="it-IT" sz="2400" spc="-1" strike="noStrike" baseline="-25000">
                <a:solidFill>
                  <a:srgbClr val="006600"/>
                </a:solidFill>
                <a:latin typeface="Times New Roman"/>
              </a:rPr>
              <a:t>L 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</a:t>
            </a:r>
            <a:r>
              <a:rPr b="1" i="1" lang="it-IT" sz="2400" spc="-1" strike="noStrike">
                <a:solidFill>
                  <a:srgbClr val="006600"/>
                </a:solidFill>
                <a:latin typeface="Times New Roman"/>
              </a:rPr>
              <a:t>e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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47520" y="1447920"/>
            <a:ext cx="1284120" cy="51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i="1" lang="it-IT" sz="2400" spc="-1" strike="noStrike" baseline="-25000">
                <a:solidFill>
                  <a:srgbClr val="006600"/>
                </a:solidFill>
                <a:latin typeface="Times New Roman"/>
              </a:rPr>
              <a:t>L 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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0000" y="4149720"/>
            <a:ext cx="131148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i="1" lang="it-IT" sz="2400" spc="-1" strike="noStrike" baseline="-25000">
                <a:solidFill>
                  <a:srgbClr val="006600"/>
                </a:solidFill>
                <a:latin typeface="Times New Roman"/>
              </a:rPr>
              <a:t>L 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1" i="1" lang="it-IT" sz="2400" spc="-1" strike="noStrike">
                <a:solidFill>
                  <a:srgbClr val="006600"/>
                </a:solidFill>
                <a:latin typeface="Times New Roman"/>
              </a:rPr>
              <a:t> 3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i="1" lang="it-IT" sz="2400" spc="-1" strike="noStrike" baseline="30000">
                <a:solidFill>
                  <a:srgbClr val="006600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32320" y="4064040"/>
            <a:ext cx="17096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i="1" lang="it-IT" sz="2400" spc="-1" strike="noStrike" baseline="-25000">
                <a:solidFill>
                  <a:srgbClr val="006600"/>
                </a:solidFill>
                <a:latin typeface="Times New Roman"/>
              </a:rPr>
              <a:t>L 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1" i="1" lang="el-GR" sz="2400" spc="-1" strike="noStrike">
                <a:solidFill>
                  <a:srgbClr val="006600"/>
                </a:solidFill>
                <a:latin typeface="Symbol"/>
                <a:ea typeface="Symbol"/>
              </a:rPr>
              <a:t>π</a:t>
            </a:r>
            <a:r>
              <a:rPr b="1" i="1" lang="it-IT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</a:t>
            </a:r>
            <a:r>
              <a:rPr b="1" i="1" lang="el-GR" sz="2400" spc="-1" strike="noStrike">
                <a:solidFill>
                  <a:srgbClr val="006600"/>
                </a:solidFill>
                <a:latin typeface="Symbol"/>
                <a:ea typeface="Symbol"/>
              </a:rPr>
              <a:t>π</a:t>
            </a:r>
            <a:r>
              <a:rPr b="1" i="1" lang="it-IT" sz="24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</a:t>
            </a:r>
            <a:r>
              <a:rPr b="1" i="1" lang="it-IT" sz="24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1" i="1" lang="it-IT" sz="2000" spc="-1" strike="noStrike" baseline="26000">
                <a:solidFill>
                  <a:srgbClr val="0066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BD1B-C63D-4507-93BC-389CFD3A359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Ke3</a:t>
            </a:r>
            <a:r>
              <a:rPr b="0" i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 and K</a:t>
            </a:r>
            <a:r>
              <a:rPr b="0" i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0" i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 acceptance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rcRect l="7552" t="27014" r="15299" b="23340"/>
          <a:stretch/>
        </p:blipFill>
        <p:spPr>
          <a:xfrm>
            <a:off x="179280" y="860400"/>
            <a:ext cx="4157640" cy="40942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79280" y="4941720"/>
            <a:ext cx="8736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ignal selection efficiency is sensitive to the presence of a photon in the final state. The simulation includes an IR-finite treatment (no energy cutoff) of radiation for all K dec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neglecting the radiative BR(Ke3) changes of about 2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sample is shown; all samples show the same tr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rcRect l="7349" t="27014" r="17802" b="23340"/>
          <a:stretch/>
        </p:blipFill>
        <p:spPr>
          <a:xfrm>
            <a:off x="4427640" y="849240"/>
            <a:ext cx="4392360" cy="41259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619280" y="1424160"/>
            <a:ext cx="0" cy="718920"/>
          </a:xfrm>
          <a:prstGeom prst="line">
            <a:avLst/>
          </a:prstGeom>
          <a:ln w="19080">
            <a:solidFill>
              <a:srgbClr val="00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626840" y="1387440"/>
            <a:ext cx="244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&gt;30 MeV, 2.1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×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10</a:t>
            </a:r>
            <a:r>
              <a:rPr b="0" lang="en-US" sz="2000" spc="-1" strike="noStrike" baseline="30000">
                <a:solidFill>
                  <a:srgbClr val="009900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816160" y="1387440"/>
            <a:ext cx="25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&gt; 30 MeV, 0.7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×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10</a:t>
            </a:r>
            <a:r>
              <a:rPr b="0" lang="en-US" sz="2000" spc="-1" strike="noStrike" baseline="30000">
                <a:solidFill>
                  <a:srgbClr val="0099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818360" y="896760"/>
            <a:ext cx="8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K</a:t>
            </a:r>
            <a:r>
              <a:rPr b="1" lang="en-US" sz="2000" spc="-1" strike="noStrike" baseline="30000">
                <a:solidFill>
                  <a:srgbClr val="0099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e3</a:t>
            </a:r>
            <a:r>
              <a:rPr b="1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28360" y="874800"/>
            <a:ext cx="8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K</a:t>
            </a:r>
            <a:r>
              <a:rPr b="1" lang="en-US" sz="2000" spc="-1" strike="noStrike" baseline="30000">
                <a:solidFill>
                  <a:srgbClr val="0099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A5FE-0F47-4BE7-A315-164158E2C2C0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The 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A</a:t>
            </a:r>
            <a:r>
              <a:rPr b="0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NE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 e</a:t>
            </a:r>
            <a:r>
              <a:rPr b="0" i="1" lang="en-US" sz="3600" spc="-1" strike="noStrike" baseline="30000">
                <a:solidFill>
                  <a:srgbClr val="000099"/>
                </a:solidFill>
                <a:latin typeface="Times New Roman"/>
                <a:ea typeface="Times New Roman"/>
              </a:rPr>
              <a:t>+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i="1" lang="en-US" sz="3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 collider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73440" y="6480000"/>
            <a:ext cx="179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OE plots: 27 jun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336920" y="3624120"/>
            <a:ext cx="4724640" cy="2881440"/>
            <a:chOff x="4336920" y="3624120"/>
            <a:chExt cx="4724640" cy="288144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4336920" y="3624120"/>
              <a:ext cx="4680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67120" y="53877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92640" y="51368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24560" y="47037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68920" y="51498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7459560" y="45291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8000" y="895320"/>
            <a:ext cx="4176720" cy="2631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9280" y="3789360"/>
            <a:ext cx="374508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 presented in this talk from 2001/2 data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= 450 p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run in progress, 2004/5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e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.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2001: 1.7 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collect 2.5f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rand total, Dec.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4560" y="836640"/>
            <a:ext cx="4681440" cy="28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indent="173160">
              <a:buClr>
                <a:srgbClr val="000000"/>
              </a:buClr>
              <a:buFont typeface="Times New Roman"/>
              <a:buChar char="•"/>
              <a:tabLst>
                <a:tab algn="l" pos="5883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isions at c.m. energy around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83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019.4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3160">
              <a:buClr>
                <a:srgbClr val="000000"/>
              </a:buClr>
              <a:buFont typeface="Times New Roman"/>
              <a:buChar char="•"/>
              <a:tabLst>
                <a:tab algn="l" pos="5883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gle between the beams at cross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3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crs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2.5 mr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3160">
              <a:buClr>
                <a:srgbClr val="000000"/>
              </a:buClr>
              <a:buFont typeface="Times New Roman"/>
              <a:buChar char="•"/>
              <a:tabLst>
                <a:tab algn="l" pos="5883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dual laboratory momentum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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883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3 MeV/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3160">
              <a:buClr>
                <a:srgbClr val="000000"/>
              </a:buClr>
              <a:buFont typeface="Times New Roman"/>
              <a:buChar char="•"/>
              <a:tabLst>
                <a:tab algn="l" pos="5883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duction @ pe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83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~ 3.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93C9-7A51-479D-A3FF-53084C4D32E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8000" y="5013360"/>
            <a:ext cx="5832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Lead-Scintillating fiber calorimet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/E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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5.7% /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E(Ge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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 54 ps /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E(GeV) 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 50 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(relative time between clusters)</a:t>
            </a:r>
            <a:r>
              <a:rPr b="0" lang="it-IT" sz="2200" spc="-1" strike="noStrike">
                <a:solidFill>
                  <a:srgbClr val="3333cc"/>
                </a:solidFill>
                <a:latin typeface="Times New Roman"/>
              </a:rPr>
              <a:t> PID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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~ 2 cm (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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 from K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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The KLOE detector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0402" t="88" r="15748" b="0"/>
          <a:stretch/>
        </p:blipFill>
        <p:spPr>
          <a:xfrm>
            <a:off x="5867280" y="790560"/>
            <a:ext cx="3213360" cy="2900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16410" t="3117" r="2338" b="3117"/>
          <a:stretch/>
        </p:blipFill>
        <p:spPr>
          <a:xfrm>
            <a:off x="5867280" y="3800520"/>
            <a:ext cx="3203640" cy="2822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2913" t="29789" r="14577" b="46419"/>
          <a:stretch/>
        </p:blipFill>
        <p:spPr>
          <a:xfrm>
            <a:off x="108000" y="1844640"/>
            <a:ext cx="5688000" cy="1230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2680" y="3186000"/>
            <a:ext cx="419292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imes New Roman"/>
              </a:rPr>
              <a:t>He/IsoC</a:t>
            </a:r>
            <a:r>
              <a:rPr b="0" lang="en-US" sz="2200" spc="-1" strike="noStrike" baseline="-25000">
                <a:solidFill>
                  <a:srgbClr val="0099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r>
              <a:rPr b="0" lang="en-US" sz="2200" spc="-1" strike="noStrike" baseline="-25000">
                <a:solidFill>
                  <a:srgbClr val="009900"/>
                </a:solidFill>
                <a:latin typeface="Times New Roman"/>
              </a:rPr>
              <a:t>10</a:t>
            </a:r>
            <a:r>
              <a:rPr b="0" lang="en-US" sz="2200" spc="-1" strike="noStrike">
                <a:solidFill>
                  <a:srgbClr val="009900"/>
                </a:solidFill>
                <a:latin typeface="Times New Roman"/>
              </a:rPr>
              <a:t> 90/10 drift cha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</a:t>
            </a:r>
            <a:r>
              <a:rPr b="0" lang="en-US" sz="2200" spc="-1" strike="noStrike">
                <a:solidFill>
                  <a:srgbClr val="0099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</a:t>
            </a:r>
            <a:r>
              <a:rPr b="0" lang="en-US" sz="2200" spc="-1" strike="noStrike">
                <a:solidFill>
                  <a:srgbClr val="009900"/>
                </a:solidFill>
                <a:latin typeface="Times New Roman"/>
              </a:rPr>
              <a:t>, 3.75m</a:t>
            </a: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9900"/>
                </a:solidFill>
                <a:latin typeface="Times New Roman"/>
              </a:rPr>
              <a:t>length, all-ster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 baseline="-25000">
                <a:solidFill>
                  <a:srgbClr val="0099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9900"/>
                </a:solidFill>
                <a:latin typeface="Times New Roman"/>
              </a:rPr>
              <a:t>/p</a:t>
            </a: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</a:t>
            </a:r>
            <a:r>
              <a:rPr b="0" lang="en-US" sz="2200" spc="-1" strike="noStrike">
                <a:solidFill>
                  <a:srgbClr val="009900"/>
                </a:solidFill>
                <a:latin typeface="Times New Roman"/>
              </a:rPr>
              <a:t>0.4 % (tracks with </a:t>
            </a: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9900"/>
                </a:solidFill>
                <a:latin typeface="Times New Roman"/>
              </a:rPr>
              <a:t> &gt; 45</a:t>
            </a:r>
            <a:r>
              <a:rPr b="0" lang="en-US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°</a:t>
            </a:r>
            <a:r>
              <a:rPr b="0" lang="en-US" sz="22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</a:t>
            </a:r>
            <a:r>
              <a:rPr b="0" lang="en-US" sz="2200" spc="-1" strike="noStrike" baseline="-25000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200" spc="-1" strike="noStrike" baseline="30000">
                <a:solidFill>
                  <a:srgbClr val="009900"/>
                </a:solidFill>
                <a:latin typeface="Times New Roman"/>
              </a:rPr>
              <a:t>hit</a:t>
            </a: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</a:t>
            </a:r>
            <a:r>
              <a:rPr b="0" lang="en-US" sz="2200" spc="-1" strike="noStrike">
                <a:solidFill>
                  <a:srgbClr val="009900"/>
                </a:solidFill>
                <a:latin typeface="Times New Roman"/>
              </a:rPr>
              <a:t>150 </a:t>
            </a: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9900"/>
                </a:solidFill>
                <a:latin typeface="Times New Roman"/>
              </a:rPr>
              <a:t>m (xy), 2 mm (z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747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</a:t>
            </a:r>
            <a:r>
              <a:rPr b="0" lang="en-US" sz="2200" spc="-1" strike="noStrike" baseline="-25000">
                <a:solidFill>
                  <a:srgbClr val="009900"/>
                </a:solidFill>
                <a:latin typeface="Times New Roman"/>
              </a:rPr>
              <a:t>x</a:t>
            </a:r>
            <a:r>
              <a:rPr b="0" lang="en-US" sz="2200" spc="-1" strike="noStrike" baseline="30000">
                <a:solidFill>
                  <a:srgbClr val="009900"/>
                </a:solidFill>
                <a:latin typeface="Times New Roman"/>
              </a:rPr>
              <a:t>vertex</a:t>
            </a:r>
            <a:r>
              <a:rPr b="0" lang="en-US" sz="2200" spc="-1" strike="noStrike">
                <a:solidFill>
                  <a:srgbClr val="009900"/>
                </a:solidFill>
                <a:latin typeface="Times New Roman"/>
              </a:rPr>
              <a:t>  ~1 m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8760" y="712800"/>
            <a:ext cx="570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9900"/>
                </a:solidFill>
                <a:latin typeface="Times New Roman"/>
              </a:rPr>
              <a:t>Large cylindrical drift cha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Lead/scintillating-fiber calorimete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erconducting coil: 0.52 T fiel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3BD8-E9BD-4FEA-813D-7EB02E9CF24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K physics at KLOE - tagging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8920" y="4251240"/>
            <a:ext cx="89028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6 mm: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cays near IP in vacu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3.4 m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reciable acceptance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cays in the D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~ 0.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0.9 m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reciable acceptance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cays in the D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~ 0.6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425680" y="1984320"/>
                <a:ext cx="26668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⟩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⟩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207360" y="2765520"/>
            <a:ext cx="718272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bservation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S,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signals presence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,S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; K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,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signals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precision measurement of absolute BR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interference measurement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927000"/>
            <a:ext cx="51199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produced from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in a pure J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032560" y="1488960"/>
            <a:ext cx="3151440" cy="475200"/>
            <a:chOff x="2032560" y="1488960"/>
            <a:chExt cx="3151440" cy="475200"/>
          </a:xfrm>
        </p:grpSpPr>
        <p:sp>
          <p:nvSpPr>
            <p:cNvPr id="112" name=""/>
            <p:cNvSpPr/>
            <p:nvPr/>
          </p:nvSpPr>
          <p:spPr>
            <a:xfrm>
              <a:off x="3409200" y="1488960"/>
              <a:ext cx="325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32560" y="1488960"/>
              <a:ext cx="8769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K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39440" y="1488960"/>
              <a:ext cx="8445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855880" y="1703160"/>
              <a:ext cx="573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70280" y="1703160"/>
              <a:ext cx="573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68920" y="5877000"/>
            <a:ext cx="782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n efficiently tag kaons by identifying the “other charge” ka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75240" y="1052640"/>
          <a:ext cx="2589120" cy="1190520"/>
        </p:xfrm>
        <a:graphic>
          <a:graphicData uri="http://schemas.openxmlformats.org/drawingml/2006/table">
            <a:tbl>
              <a:tblPr/>
              <a:tblGrid>
                <a:gridCol w="1652760"/>
                <a:gridCol w="93636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ay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D621-0E3E-43F0-AA67-83A7ECD5850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Measuring absolute branching ratios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8004" t="10197" r="18753" b="4776"/>
          <a:stretch/>
        </p:blipFill>
        <p:spPr>
          <a:xfrm>
            <a:off x="177840" y="811080"/>
            <a:ext cx="2828880" cy="2764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6960" y="912960"/>
            <a:ext cx="1734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“cras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= 0.22 (TO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568160" y="1058760"/>
            <a:ext cx="82440" cy="1081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9520" y="2873520"/>
            <a:ext cx="128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5880" y="798480"/>
            <a:ext cx="2889360" cy="2806560"/>
            <a:chOff x="6095880" y="798480"/>
            <a:chExt cx="2889360" cy="280656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rcRect l="16405" t="9140" r="18749" b="3765"/>
            <a:stretch/>
          </p:blipFill>
          <p:spPr>
            <a:xfrm>
              <a:off x="6095880" y="798480"/>
              <a:ext cx="2889360" cy="28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288560" y="1671840"/>
              <a:ext cx="39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02800" y="1254600"/>
              <a:ext cx="39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22320" y="22543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61400" y="2505240"/>
              <a:ext cx="40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6520" y="2045880"/>
              <a:ext cx="997560" cy="529200"/>
            </a:xfrm>
            <a:prstGeom prst="line">
              <a:avLst/>
            </a:prstGeom>
            <a:ln w="2232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903000" y="2569320"/>
              <a:ext cx="451440" cy="620280"/>
            </a:xfrm>
            <a:prstGeom prst="line">
              <a:avLst/>
            </a:prstGeom>
            <a:ln w="2232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48400" y="18835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27040" y="2755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3"/>
          <a:srcRect l="17158" t="10197" r="19502" b="4776"/>
          <a:stretch/>
        </p:blipFill>
        <p:spPr>
          <a:xfrm>
            <a:off x="3129120" y="811080"/>
            <a:ext cx="2854080" cy="2783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458880" y="1098720"/>
            <a:ext cx="118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45520" y="3090960"/>
            <a:ext cx="1117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0560" y="2225520"/>
            <a:ext cx="304560" cy="228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3549600"/>
            <a:ext cx="77770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agging of K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and K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bea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bsolu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ranching ratio measurement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 = (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i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ta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(1/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i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ies on the capability of selecting a tag kaon independently on the decay mode of the oth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fact some dependency on signal mode exists: tag b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 = (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i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ta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(1/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i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T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g bias: carefully measured using MC, and data control samp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989CE-A7D5-4B43-B4BD-86B4A4B8B75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Charged kaon semileptonic decays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3440" y="1622520"/>
            <a:ext cx="845964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g using kaon 2 body decay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 independent samples: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,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,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, and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ep the systematic effects due to the tag selection under contro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 signal side, kinematic rejection of the K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and K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dominant backgrounds by cutting on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*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tain number of signal events from a constrained likelihood fit of data distribu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sure selection efficiency on MC and correct for Data/MC differen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the BR measurement on each tag sample separately normalizing to tag counts in the same data s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0520" y="6006960"/>
            <a:ext cx="138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(Kl3)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23200" y="5757840"/>
            <a:ext cx="5073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(Kl3)         </a:t>
            </a:r>
            <a:r>
              <a:rPr b="0" lang="en-US" sz="2200" spc="-1" strike="noStrike">
                <a:solidFill>
                  <a:srgbClr val="0099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ff33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 (</a:t>
            </a:r>
            <a:r>
              <a:rPr b="0" lang="en-US" sz="22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 baseline="-25000">
                <a:solidFill>
                  <a:srgbClr val="ff3300"/>
                </a:solidFill>
                <a:latin typeface="Times New Roman"/>
              </a:rPr>
              <a:t>TAG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(i) BR(i)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24360" y="6161040"/>
            <a:ext cx="52963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TA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cc6600"/>
                </a:solidFill>
                <a:latin typeface="Times New Roman"/>
              </a:rPr>
              <a:t>(1-f</a:t>
            </a:r>
            <a:r>
              <a:rPr b="0" lang="en-US" sz="2200" spc="-1" strike="noStrike" baseline="-25000">
                <a:solidFill>
                  <a:srgbClr val="cc6600"/>
                </a:solidFill>
                <a:latin typeface="Times New Roman"/>
              </a:rPr>
              <a:t>NI</a:t>
            </a:r>
            <a:r>
              <a:rPr b="0" lang="en-US" sz="2200" spc="-1" strike="noStrike">
                <a:solidFill>
                  <a:srgbClr val="cc66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 baseline="-25000">
                <a:solidFill>
                  <a:srgbClr val="009900"/>
                </a:solidFill>
                <a:latin typeface="Times New Roman"/>
              </a:rPr>
              <a:t>FV</a:t>
            </a:r>
            <a:r>
              <a:rPr b="0" lang="en-US" sz="2200" spc="-1" strike="noStrike">
                <a:solidFill>
                  <a:srgbClr val="d60093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Times New Roman"/>
              </a:rPr>
              <a:t>SE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2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 baseline="-25000">
                <a:solidFill>
                  <a:srgbClr val="ff3300"/>
                </a:solidFill>
                <a:latin typeface="Times New Roman"/>
              </a:rPr>
              <a:t>TAG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(Kl3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74960" y="6211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91120" y="6211800"/>
            <a:ext cx="2209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54400" y="6211800"/>
            <a:ext cx="838440" cy="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4520" y="5948280"/>
            <a:ext cx="59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ff9900"/>
                </a:solidFill>
                <a:latin typeface="Times New Roman"/>
              </a:rPr>
              <a:t>C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6760" y="6211800"/>
            <a:ext cx="5461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200" y="1309680"/>
            <a:ext cx="221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nalysis schem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080" y="770040"/>
            <a:ext cx="891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asure the absolute Ke3 and K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 branching ratios via a Tag techniq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031C-82F7-4638-93B4-E4091A61238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8856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i="1" lang="en-US" sz="3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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ℓ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3 - Tag selection 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48240" y="836640"/>
            <a:ext cx="4487400" cy="4539960"/>
            <a:chOff x="4548240" y="836640"/>
            <a:chExt cx="4487400" cy="453996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rcRect l="16405" t="9140" r="18749" b="3765"/>
            <a:stretch/>
          </p:blipFill>
          <p:spPr>
            <a:xfrm>
              <a:off x="4548240" y="836640"/>
              <a:ext cx="4487400" cy="45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387480" y="2254680"/>
              <a:ext cx="39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97680" y="1576080"/>
              <a:ext cx="39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96400" y="3191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42280" y="3597840"/>
              <a:ext cx="40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53240" y="2854440"/>
              <a:ext cx="1549440" cy="856080"/>
            </a:xfrm>
            <a:prstGeom prst="line">
              <a:avLst/>
            </a:prstGeom>
            <a:ln w="2232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5801400" y="3701520"/>
              <a:ext cx="700920" cy="1003320"/>
            </a:xfrm>
            <a:prstGeom prst="line">
              <a:avLst/>
            </a:prstGeom>
            <a:ln w="2232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61040" y="25974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94120" y="40032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08000" y="836640"/>
            <a:ext cx="473220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ck from IP, momentum cut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0 MeV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130 Me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ay vertex in fiducial volume: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0cm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VT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150 c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aughter track extrapol. to EM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-body decays identified in ka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t frame: 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ut around p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ea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236 MeV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205 Me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K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tags, require also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dentific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reduce the dependency of the tag selection on signal kaon decay mode, requires the tag to satisfy the trigg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001-2002 data set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629080" y="5699160"/>
          <a:ext cx="5688000" cy="861840"/>
        </p:xfrm>
        <a:graphic>
          <a:graphicData uri="http://schemas.openxmlformats.org/drawingml/2006/table">
            <a:tbl>
              <a:tblPr/>
              <a:tblGrid>
                <a:gridCol w="682560"/>
                <a:gridCol w="1224000"/>
                <a:gridCol w="1117440"/>
                <a:gridCol w="1295640"/>
                <a:gridCol w="1368360"/>
              </a:tblGrid>
              <a:tr h="438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GB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699 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466 7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655 4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233 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0AC4-5228-4A78-8559-E58433779D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9T08:44:10Z</dcterms:created>
  <dc:creator>sciascia</dc:creator>
  <dc:description/>
  <dc:language>en-US</dc:language>
  <cp:lastModifiedBy>sciascia</cp:lastModifiedBy>
  <dcterms:modified xsi:type="dcterms:W3CDTF">2005-07-19T17:46:19Z</dcterms:modified>
  <cp:revision>1322</cp:revision>
  <dc:subject/>
  <dc:title>Vus saga at KLOE</dc:title>
</cp:coreProperties>
</file>