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4.png" ContentType="image/png"/>
  <Override PartName="/ppt/media/image9.wmf" ContentType="image/x-wmf"/>
  <Override PartName="/ppt/media/image5.jpeg" ContentType="image/jpeg"/>
  <Override PartName="/ppt/media/image29.png" ContentType="image/png"/>
  <Override PartName="/ppt/media/image6.png" ContentType="image/png"/>
  <Override PartName="/ppt/media/image18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30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3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D01-A584-43A6-97DF-A884E168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5CB-45DE-4937-873F-E14C5C7F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5FA-705A-466D-AFBF-43A63983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7C4-C48A-46D3-A6DD-C69CF63D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CD9-86E7-4C61-9C33-902A29D2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5A0-059D-46B0-8CDC-7797E210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8A8-9212-41C2-9343-D4996E99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51D-284A-427B-AF90-71E37CD4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69E-63C5-4615-9F33-F0F78F7E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9DA-7A65-4A61-A91F-270BF205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CE3-A35C-4CEC-9ADD-0F2015E6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F78-24F8-41D7-B519-80828573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8720" y="6237000"/>
            <a:ext cx="951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44000" y="6244920"/>
            <a:ext cx="44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1926-D347-4B5E-B4F9-7570E8C36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http://www.lnf.infn.it/kloe" TargetMode="External"/><Relationship Id="rId4" Type="http://schemas.openxmlformats.org/officeDocument/2006/relationships/hyperlink" Target="http://www.lnf.infn.it/kloe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nf.infn.it/kloe" TargetMode="External"/><Relationship Id="rId2" Type="http://schemas.openxmlformats.org/officeDocument/2006/relationships/hyperlink" Target="http://www.lnf.infn.it/kloe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004" t="10197" r="18753" b="4776"/>
          <a:stretch/>
        </p:blipFill>
        <p:spPr>
          <a:xfrm>
            <a:off x="0" y="2133720"/>
            <a:ext cx="4003560" cy="3808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7880" y="5157720"/>
            <a:ext cx="1239120" cy="448920"/>
          </a:xfrm>
          <a:prstGeom prst="roundRect">
            <a:avLst>
              <a:gd name="adj" fmla="val 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n-GB" sz="2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</a:t>
            </a: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 baseline="30000">
                <a:solidFill>
                  <a:srgbClr val="ffffff"/>
                </a:solidFill>
                <a:latin typeface="SymbolProp BT"/>
                <a:ea typeface="SymbolProp BT"/>
              </a:rPr>
              <a:t></a:t>
            </a:r>
            <a:r>
              <a:rPr b="1" i="1" lang="en-GB" sz="2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GB" sz="2200" spc="-1" strike="noStrike" baseline="30000">
                <a:solidFill>
                  <a:srgbClr val="ffffff"/>
                </a:solidFill>
                <a:latin typeface="SymbolProp BT"/>
                <a:ea typeface="SymbolProp BT"/>
              </a:rPr>
              <a:t></a:t>
            </a:r>
            <a:r>
              <a:rPr b="1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64320" y="907920"/>
            <a:ext cx="606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extraction from KLO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74640" y="1679400"/>
            <a:ext cx="3656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KAON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rthwestern University - Evanston, Illin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June 14</a:t>
            </a:r>
            <a:r>
              <a:rPr b="0" lang="it-IT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.Bloise for the KLOE 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95640" y="3284640"/>
            <a:ext cx="4321440" cy="3413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>
            <a:off x="1979640" y="2781000"/>
            <a:ext cx="71280" cy="1368360"/>
          </a:xfrm>
          <a:prstGeom prst="line">
            <a:avLst/>
          </a:prstGeom>
          <a:ln w="381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5080" y="333360"/>
            <a:ext cx="2347560" cy="1427400"/>
            <a:chOff x="325080" y="333360"/>
            <a:chExt cx="2347560" cy="1427400"/>
          </a:xfrm>
        </p:grpSpPr>
        <p:sp>
          <p:nvSpPr>
            <p:cNvPr id="48" name=""/>
            <p:cNvSpPr/>
            <p:nvPr/>
          </p:nvSpPr>
          <p:spPr>
            <a:xfrm>
              <a:off x="701640" y="100332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487520" y="85572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108160" y="52380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108160" y="81108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795240" y="128592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65280" y="128592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7878800">
              <a:off x="2004840" y="86076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01680" y="69372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43920" y="148428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26440" y="33336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06880" y="81612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5080" y="812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99040" y="11970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65280" y="103824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273400" y="2349360"/>
            <a:ext cx="561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</a:t>
            </a:r>
            <a:r>
              <a:rPr b="1" i="1" lang="en-GB" sz="22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1E3-403F-4ABC-AB1B-6D60AF0B52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vent Counting - Charged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39640" y="2637000"/>
            <a:ext cx="8053560" cy="3900240"/>
            <a:chOff x="539640" y="2637000"/>
            <a:chExt cx="8053560" cy="390024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539640" y="2637000"/>
              <a:ext cx="4032360" cy="39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787640" y="2637000"/>
              <a:ext cx="3805560" cy="36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"/>
          <p:cNvSpPr/>
          <p:nvPr/>
        </p:nvSpPr>
        <p:spPr>
          <a:xfrm>
            <a:off x="7105680" y="6308640"/>
            <a:ext cx="10918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16360" y="6308640"/>
            <a:ext cx="1439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916280"/>
            <a:ext cx="14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1160" y="1916280"/>
            <a:ext cx="572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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sser of  c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mi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- 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miss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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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20" y="1557360"/>
            <a:ext cx="5339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ne fit with MC distributions of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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 independent components -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-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ibution 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235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1E0-862B-432E-A121-8F4AC4075C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mileptonic Dec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5008" t="10011" r="10011" b="10011"/>
          <a:stretch/>
        </p:blipFill>
        <p:spPr>
          <a:xfrm>
            <a:off x="395280" y="1844640"/>
            <a:ext cx="3672000" cy="3449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rcRect l="5008" t="10011" r="10011" b="10011"/>
          <a:stretch/>
        </p:blipFill>
        <p:spPr>
          <a:xfrm>
            <a:off x="4788000" y="1844640"/>
            <a:ext cx="3673440" cy="34513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37200" y="1557360"/>
            <a:ext cx="359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imes New Roman"/>
              </a:rPr>
              <a:t>Enriched sample of K</a:t>
            </a:r>
            <a:r>
              <a:rPr b="1" lang="it-IT" sz="18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it-IT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l-GR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1" lang="it-IT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</a:t>
            </a:r>
            <a:r>
              <a:rPr b="1" lang="it-IT" sz="1800" spc="-1" strike="noStrike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1" lang="it-IT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03360" y="1557360"/>
            <a:ext cx="362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imes New Roman"/>
              </a:rPr>
              <a:t>Enriched sample of K</a:t>
            </a:r>
            <a:r>
              <a:rPr b="1" lang="it-IT" sz="18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it-IT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l-GR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1" lang="el-GR" sz="1800" spc="-1" strike="noStrike">
                <a:solidFill>
                  <a:srgbClr val="000099"/>
                </a:solidFill>
                <a:latin typeface="Symbol"/>
                <a:ea typeface="Symbol"/>
              </a:rPr>
              <a:t></a:t>
            </a:r>
            <a:r>
              <a:rPr b="1" lang="it-IT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565360"/>
            <a:ext cx="23749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9840" y="5445000"/>
            <a:ext cx="2547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ative tai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% effect on the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e3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835280" y="4005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258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071880" y="5373720"/>
            <a:ext cx="1088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92960" y="5445000"/>
            <a:ext cx="10918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5400" y="6165720"/>
            <a:ext cx="4024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LOE Note 194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lnf.infn.it/klo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BD8-FC0B-459D-A32F-8AAD5B25D2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bsolute Branching Ratios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277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84360" y="2349360"/>
            <a:ext cx="7696080" cy="4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GB" sz="1800" spc="-1" strike="noStrike" baseline="-33000">
                <a:solidFill>
                  <a:srgbClr val="333399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BR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K</a:t>
            </a:r>
            <a:r>
              <a:rPr b="1" lang="en-GB" sz="1800" spc="-1" strike="noStrike" baseline="-33000">
                <a:solidFill>
                  <a:srgbClr val="333399"/>
                </a:solidFill>
                <a:latin typeface="Arial"/>
              </a:rPr>
              <a:t>L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major decays)[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K</a:t>
            </a:r>
            <a:r>
              <a:rPr b="1" lang="en-GB" sz="1800" spc="-1" strike="noStrike" baseline="-33000">
                <a:solidFill>
                  <a:srgbClr val="333399"/>
                </a:solidFill>
                <a:latin typeface="Arial"/>
              </a:rPr>
              <a:t>L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)] + 0.0036 = 1.0104  </a:t>
            </a:r>
            <a:r>
              <a:rPr b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0.007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773360"/>
            <a:ext cx="80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9.64%  of the K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Arial"/>
              </a:rPr>
              <a:t>L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ays are included in the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276720" y="2852280"/>
            <a:ext cx="3022560" cy="614520"/>
            <a:chOff x="3276720" y="2852280"/>
            <a:chExt cx="3022560" cy="614520"/>
          </a:xfrm>
        </p:grpSpPr>
        <p:sp>
          <p:nvSpPr>
            <p:cNvPr id="294" name=""/>
            <p:cNvSpPr/>
            <p:nvPr/>
          </p:nvSpPr>
          <p:spPr>
            <a:xfrm>
              <a:off x="3276720" y="3211560"/>
              <a:ext cx="30225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are decays from PD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4573440" y="2852280"/>
              <a:ext cx="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68360" y="3716280"/>
            <a:ext cx="81360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R(K</a:t>
            </a:r>
            <a:r>
              <a:rPr b="1" lang="en-GB" sz="1800" spc="-1" strike="noStrike" baseline="-33000">
                <a:solidFill>
                  <a:srgbClr val="333399"/>
                </a:solidFill>
                <a:latin typeface="Arial"/>
              </a:rPr>
              <a:t>L</a:t>
            </a:r>
            <a:r>
              <a:rPr b="1" lang="en-GB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0.4049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0.0010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0.0031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~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it-IT" sz="1800" spc="-1" strike="noStrike" baseline="30000">
                <a:solidFill>
                  <a:srgbClr val="333399"/>
                </a:solidFill>
                <a:latin typeface="Arial"/>
              </a:rPr>
              <a:t>5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R(K</a:t>
            </a:r>
            <a:r>
              <a:rPr b="1" lang="en-GB" sz="1800" spc="-1" strike="noStrike" baseline="-33000">
                <a:solidFill>
                  <a:srgbClr val="333399"/>
                </a:solidFill>
                <a:latin typeface="Arial"/>
              </a:rPr>
              <a:t>L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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0.2726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0.0008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0.0022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~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5</a:t>
            </a:r>
            <a:r>
              <a:rPr b="1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it-IT" sz="1800" spc="-1" strike="noStrike" baseline="30000">
                <a:solidFill>
                  <a:srgbClr val="333399"/>
                </a:solidFill>
                <a:latin typeface="Arial"/>
              </a:rPr>
              <a:t>5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ev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R(K</a:t>
            </a:r>
            <a:r>
              <a:rPr b="1" lang="en-GB" sz="1800" spc="-1" strike="noStrike" baseline="-33000">
                <a:solidFill>
                  <a:srgbClr val="333399"/>
                </a:solidFill>
                <a:latin typeface="Arial"/>
              </a:rPr>
              <a:t>L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= 0.2018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0.0004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0.0026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~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7</a:t>
            </a:r>
            <a:r>
              <a:rPr b="1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it-IT" sz="1800" spc="-1" strike="noStrike" baseline="30000">
                <a:solidFill>
                  <a:srgbClr val="333399"/>
                </a:solidFill>
                <a:latin typeface="Arial"/>
              </a:rPr>
              <a:t>5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R(K</a:t>
            </a:r>
            <a:r>
              <a:rPr b="1" lang="en-GB" sz="1800" spc="-1" strike="noStrike" baseline="-33000">
                <a:solidFill>
                  <a:srgbClr val="333399"/>
                </a:solidFill>
                <a:latin typeface="Arial"/>
              </a:rPr>
              <a:t>L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= 0.1276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0.0006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0.0016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~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2</a:t>
            </a:r>
            <a:r>
              <a:rPr b="1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it-IT" sz="1800" spc="-1" strike="noStrike" baseline="30000">
                <a:solidFill>
                  <a:srgbClr val="333399"/>
                </a:solidFill>
                <a:latin typeface="Arial"/>
              </a:rPr>
              <a:t>5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357-0D2D-4E6A-A669-10B861CF7F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724120" y="333360"/>
            <a:ext cx="6419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ystematics  -  Charged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299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3" name=""/>
          <p:cNvGraphicFramePr/>
          <p:nvPr/>
        </p:nvGraphicFramePr>
        <p:xfrm>
          <a:off x="395280" y="3933720"/>
          <a:ext cx="8280360" cy="189216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4200"/>
                <a:gridCol w="1657440"/>
                <a:gridCol w="165564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-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443520" y="2008080"/>
            <a:ext cx="575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efully controlled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lection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iteria to evaluate MC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iteria to tag the K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Klong lifetime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299-4C4E-4DDE-80B5-DF17ACFA6F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317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68360" y="3933720"/>
            <a:ext cx="49672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18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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)  = 0.4007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0.0006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0.0014</a:t>
            </a:r>
            <a:r>
              <a:rPr b="1" lang="it-IT" sz="1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1125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18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</a:t>
            </a:r>
            <a:r>
              <a:rPr b="1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) = 0.2698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0.0006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0.0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1125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18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3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1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) = 0.1997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0.0005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0.0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1125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BR(K</a:t>
            </a:r>
            <a:r>
              <a:rPr b="1" lang="en-GB" sz="18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</a:t>
            </a:r>
            <a:r>
              <a:rPr b="1" lang="en-GB" sz="1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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1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1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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)= 0.1263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0.0005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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0.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6480" y="2014560"/>
            <a:ext cx="76964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major decays)[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] + 0.0036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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GB" sz="1800" spc="-1" strike="noStrike">
                <a:solidFill>
                  <a:srgbClr val="ff0000"/>
                </a:solidFill>
                <a:latin typeface="Standard Symbols 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Standard Symbols 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87640" y="2565360"/>
            <a:ext cx="30225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re decays from P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24000" y="3357720"/>
            <a:ext cx="8466120" cy="449280"/>
            <a:chOff x="324000" y="3357720"/>
            <a:chExt cx="8466120" cy="449280"/>
          </a:xfrm>
        </p:grpSpPr>
        <p:sp>
          <p:nvSpPr>
            <p:cNvPr id="335" name=""/>
            <p:cNvSpPr/>
            <p:nvPr/>
          </p:nvSpPr>
          <p:spPr>
            <a:xfrm>
              <a:off x="324000" y="3382920"/>
              <a:ext cx="412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With the constraint </a:t>
              </a:r>
              <a:r>
                <a:rPr b="1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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BR(K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ll) =1</a:t>
              </a: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7000" y="3357720"/>
              <a:ext cx="435312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</a:t>
              </a:r>
              <a:r>
                <a:rPr b="1" lang="en-GB" sz="18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r>
                <a:rPr b="1" lang="en-GB" sz="1800" spc="-1" strike="noStrike" baseline="-33000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lang="en-GB" sz="1800" spc="-1" strike="noStrike">
                  <a:solidFill>
                    <a:srgbClr val="333399"/>
                  </a:solidFill>
                  <a:latin typeface="Times New Roman"/>
                </a:rPr>
                <a:t>)= (50.72 </a:t>
              </a:r>
              <a:r>
                <a:rPr b="1" lang="en-GB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</a:t>
              </a:r>
              <a:r>
                <a:rPr b="1" lang="en-GB" sz="1800" spc="-1" strike="noStrike">
                  <a:solidFill>
                    <a:srgbClr val="333399"/>
                  </a:solidFill>
                  <a:latin typeface="Times New Roman"/>
                </a:rPr>
                <a:t>0.14</a:t>
              </a:r>
              <a:r>
                <a:rPr b="1" lang="en-GB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</a:t>
              </a:r>
              <a:r>
                <a:rPr b="1" lang="en-GB" sz="1800" spc="-1" strike="noStrike">
                  <a:solidFill>
                    <a:srgbClr val="333399"/>
                  </a:solidFill>
                  <a:latin typeface="Times New Roman"/>
                </a:rPr>
                <a:t>0.33</a:t>
              </a:r>
              <a:r>
                <a:rPr b="1" lang="en-GB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</a:t>
              </a:r>
              <a:r>
                <a:rPr b="1" lang="en-GB" sz="1800" spc="-1" strike="noStrike">
                  <a:solidFill>
                    <a:srgbClr val="333399"/>
                  </a:solidFill>
                  <a:latin typeface="Times New Roman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V="1">
            <a:off x="4284720" y="2349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98160" y="4437000"/>
            <a:ext cx="31543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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GB" sz="18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) /BR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 correlation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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Error matrix deter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00360" y="476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bsolute Branching Ratios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107-243D-4E59-A386-8844FD618B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long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Branching Ratios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342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843440" y="3816360"/>
            <a:ext cx="3565440" cy="23526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62040" y="3878280"/>
            <a:ext cx="3481200" cy="22813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659040" cy="2502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660240" y="1197000"/>
            <a:ext cx="3481560" cy="26384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421440" y="1484280"/>
            <a:ext cx="81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A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10880" y="1700280"/>
            <a:ext cx="81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93800" y="4005360"/>
            <a:ext cx="89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A48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94520" y="4149720"/>
            <a:ext cx="89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720" y="1447920"/>
            <a:ext cx="1396800" cy="51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6600"/>
                </a:solidFill>
                <a:latin typeface="Times New Roman"/>
              </a:rPr>
              <a:t>L 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</a:t>
            </a: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e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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47520" y="1447920"/>
            <a:ext cx="1284120" cy="51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6600"/>
                </a:solidFill>
                <a:latin typeface="Times New Roman"/>
              </a:rPr>
              <a:t>L 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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0000" y="4149720"/>
            <a:ext cx="1311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6600"/>
                </a:solidFill>
                <a:latin typeface="Times New Roman"/>
              </a:rPr>
              <a:t>L 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 3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i="1" lang="it-IT" sz="2400" spc="-1" strike="noStrike" baseline="30000">
                <a:solidFill>
                  <a:srgbClr val="0066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32320" y="4064040"/>
            <a:ext cx="17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6600"/>
                </a:solidFill>
                <a:latin typeface="Times New Roman"/>
              </a:rPr>
              <a:t>L 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i="1" lang="el-GR" sz="2400" spc="-1" strike="noStrike">
                <a:solidFill>
                  <a:srgbClr val="006600"/>
                </a:solidFill>
                <a:latin typeface="Symbol"/>
                <a:ea typeface="Symbol"/>
              </a:rPr>
              <a:t>π</a:t>
            </a:r>
            <a:r>
              <a:rPr b="1" i="1" lang="it-IT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</a:t>
            </a:r>
            <a:r>
              <a:rPr b="1" i="1" lang="el-GR" sz="2400" spc="-1" strike="noStrike">
                <a:solidFill>
                  <a:srgbClr val="006600"/>
                </a:solidFill>
                <a:latin typeface="Symbol"/>
                <a:ea typeface="Symbol"/>
              </a:rPr>
              <a:t>π</a:t>
            </a:r>
            <a:r>
              <a:rPr b="1" i="1" lang="it-IT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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i="1" lang="it-IT" sz="2000" spc="-1" strike="noStrike" baseline="26000">
                <a:solidFill>
                  <a:srgbClr val="0066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0E6-7BFA-4A8F-8AD4-2AB57948A2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ifetime direct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370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50920" y="1413000"/>
            <a:ext cx="87138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s with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 photons time-correlated  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99.2% selection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dual background 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3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subtract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it-IT" sz="2000" spc="-1" strike="noStrike" baseline="-25000">
                <a:solidFill>
                  <a:srgbClr val="333399"/>
                </a:solidFill>
                <a:latin typeface="Arial"/>
              </a:rPr>
              <a:t>L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l-GR" sz="2000" spc="-1" strike="noStrike">
                <a:solidFill>
                  <a:srgbClr val="333399"/>
                </a:solidFill>
                <a:latin typeface="Symbol"/>
                <a:ea typeface="Symbol"/>
              </a:rPr>
              <a:t>π</a:t>
            </a:r>
            <a:r>
              <a:rPr b="1" lang="it-IT" sz="2000" spc="-1" strike="noStrike" baseline="30000">
                <a:solidFill>
                  <a:srgbClr val="333399"/>
                </a:solidFill>
                <a:latin typeface="Arial"/>
                <a:ea typeface="Times New Roman"/>
              </a:rPr>
              <a:t>+</a:t>
            </a:r>
            <a:r>
              <a:rPr b="1" lang="el-GR" sz="2000" spc="-1" strike="noStrike">
                <a:solidFill>
                  <a:srgbClr val="333399"/>
                </a:solidFill>
                <a:latin typeface="Symbol"/>
                <a:ea typeface="Symbol"/>
              </a:rPr>
              <a:t>π</a:t>
            </a:r>
            <a:r>
              <a:rPr b="1" lang="it-IT" sz="2000" spc="-1" strike="noStrike" baseline="30000">
                <a:solidFill>
                  <a:srgbClr val="333399"/>
                </a:solidFill>
                <a:latin typeface="Arial"/>
                <a:ea typeface="Times New Roman"/>
              </a:rPr>
              <a:t>-</a:t>
            </a:r>
            <a:r>
              <a:rPr b="1" lang="el-GR" sz="2000" spc="-1" strike="noStrike">
                <a:solidFill>
                  <a:srgbClr val="333399"/>
                </a:solidFill>
                <a:latin typeface="Symbol"/>
                <a:ea typeface="Symbol"/>
              </a:rPr>
              <a:t>π</a:t>
            </a:r>
            <a:r>
              <a:rPr b="1" lang="it-IT" sz="2000" spc="-1" strike="noStrike" baseline="30000">
                <a:solidFill>
                  <a:srgbClr val="333399"/>
                </a:solidFill>
                <a:latin typeface="Arial"/>
                <a:ea typeface="Times New Roman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determin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C time-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tex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tex reconstruction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84360" y="3619440"/>
            <a:ext cx="3218760" cy="3277440"/>
            <a:chOff x="684360" y="3619440"/>
            <a:chExt cx="3218760" cy="3277440"/>
          </a:xfrm>
        </p:grpSpPr>
        <p:pic>
          <p:nvPicPr>
            <p:cNvPr id="386" name="" descr=""/>
            <p:cNvPicPr/>
            <p:nvPr/>
          </p:nvPicPr>
          <p:blipFill>
            <a:blip r:embed="rId1"/>
            <a:stretch/>
          </p:blipFill>
          <p:spPr>
            <a:xfrm>
              <a:off x="684360" y="3716280"/>
              <a:ext cx="3111480" cy="28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1514520" y="48150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l-GR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π</a:t>
              </a:r>
              <a:r>
                <a:rPr b="1" lang="it-IT" sz="18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l-GR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π</a:t>
              </a:r>
              <a:r>
                <a:rPr b="1" lang="it-IT" sz="18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el-GR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π</a:t>
              </a:r>
              <a:r>
                <a:rPr b="1" lang="it-IT" sz="18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0 </a:t>
              </a:r>
              <a:r>
                <a:rPr b="1" lang="it-IT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dat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05560" y="6491160"/>
              <a:ext cx="997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(c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44600" y="36194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00480" y="5835600"/>
              <a:ext cx="208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L</a:t>
              </a:r>
              <a:r>
                <a:rPr b="1" lang="it-IT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&gt;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2.5 c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219640" y="2421000"/>
            <a:ext cx="3000600" cy="3669840"/>
            <a:chOff x="5219640" y="2421000"/>
            <a:chExt cx="3000600" cy="3669840"/>
          </a:xfrm>
        </p:grpSpPr>
        <p:pic>
          <p:nvPicPr>
            <p:cNvPr id="392" name="" descr=""/>
            <p:cNvPicPr/>
            <p:nvPr/>
          </p:nvPicPr>
          <p:blipFill>
            <a:blip r:embed="rId2"/>
            <a:srcRect l="0" t="0" r="669" b="-578"/>
            <a:stretch/>
          </p:blipFill>
          <p:spPr>
            <a:xfrm>
              <a:off x="5219640" y="2708280"/>
              <a:ext cx="3000600" cy="33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296680" y="2421000"/>
              <a:ext cx="26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Time-correlated phot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FD7-2184-41DD-8A4D-F4AF61C4BC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ifetime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396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84360" y="5589720"/>
            <a:ext cx="723888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1" lang="it-IT" sz="2000" spc="-1" strike="noStrike" baseline="-25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(KLOE) = (50.87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±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0.16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±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0.26 ) ns   - 14.5  Mevents – 440 pb</a:t>
            </a:r>
            <a:r>
              <a:rPr b="1" lang="en-GB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Vosburg, 1972) =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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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s -  0.4 Mev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292400" y="1413000"/>
            <a:ext cx="7392960" cy="4089960"/>
            <a:chOff x="1292400" y="1413000"/>
            <a:chExt cx="7392960" cy="4089960"/>
          </a:xfrm>
        </p:grpSpPr>
        <p:grpSp>
          <p:nvGrpSpPr>
            <p:cNvPr id="412" name=""/>
            <p:cNvGrpSpPr/>
            <p:nvPr/>
          </p:nvGrpSpPr>
          <p:grpSpPr>
            <a:xfrm>
              <a:off x="1800360" y="1413000"/>
              <a:ext cx="4141800" cy="3678120"/>
              <a:chOff x="1800360" y="1413000"/>
              <a:chExt cx="4141800" cy="3678120"/>
            </a:xfrm>
          </p:grpSpPr>
          <p:pic>
            <p:nvPicPr>
              <p:cNvPr id="4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00360" y="1413000"/>
                <a:ext cx="4141800" cy="367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flipH="1">
                <a:off x="2703240" y="2387880"/>
                <a:ext cx="19080" cy="229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4364280" y="3117960"/>
                <a:ext cx="1440" cy="1652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476240" y="2814840"/>
                <a:ext cx="8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Geneva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 rot="16200000">
              <a:off x="532080" y="24217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Geneva"/>
                </a:rPr>
                <a:t>Events/0.3 n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95560" y="4992840"/>
              <a:ext cx="228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*= L</a:t>
              </a:r>
              <a:r>
                <a:rPr b="1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l-G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 (n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18200" y="3316320"/>
              <a:ext cx="3467160" cy="80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it-IT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</a:t>
              </a:r>
              <a:r>
                <a:rPr b="1" lang="it-IT" sz="1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it-IT" sz="1800" spc="-1" strike="noStrike">
                  <a:solidFill>
                    <a:srgbClr val="000099"/>
                  </a:solidFill>
                  <a:latin typeface="Geneva"/>
                </a:rPr>
                <a:t>14 x 10</a:t>
              </a:r>
              <a:r>
                <a:rPr b="1" lang="it-IT" sz="1800" spc="-1" strike="noStrike" baseline="30000">
                  <a:solidFill>
                    <a:srgbClr val="000099"/>
                  </a:solidFill>
                  <a:latin typeface="Geneva"/>
                </a:rPr>
                <a:t>6</a:t>
              </a:r>
              <a:r>
                <a:rPr b="1" lang="it-IT" sz="1800" spc="-1" strike="noStrike">
                  <a:solidFill>
                    <a:srgbClr val="000099"/>
                  </a:solidFill>
                  <a:latin typeface="Geneva"/>
                </a:rPr>
                <a:t>  events</a:t>
              </a:r>
              <a:r>
                <a:rPr b="1" lang="it-IT" sz="1600" spc="-1" strike="noStrike">
                  <a:solidFill>
                    <a:srgbClr val="000099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99"/>
                  </a:solidFill>
                  <a:latin typeface="Geneva"/>
                </a:rPr>
                <a:t> </a:t>
              </a:r>
              <a:r>
                <a:rPr b="1" lang="it-IT" sz="1600" spc="-1" strike="noStrike">
                  <a:solidFill>
                    <a:srgbClr val="000099"/>
                  </a:solidFill>
                  <a:latin typeface="Geneva"/>
                </a:rPr>
                <a:t>Fit region = 6 -  26 ns (40%</a:t>
              </a:r>
              <a:r>
                <a:rPr b="1" lang="it-IT" sz="2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it-IT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</a:t>
              </a:r>
              <a:r>
                <a:rPr b="1" lang="it-IT" sz="2000" spc="-1" strike="noStrike" baseline="-25000">
                  <a:solidFill>
                    <a:srgbClr val="000099"/>
                  </a:solidFill>
                  <a:latin typeface="Times New Roman"/>
                  <a:ea typeface="Times New Roman"/>
                </a:rPr>
                <a:t>L</a:t>
              </a:r>
              <a:r>
                <a:rPr b="1" lang="it-IT" sz="2000" spc="-1" strike="noStrike">
                  <a:solidFill>
                    <a:srgbClr val="000099"/>
                  </a:solidFill>
                  <a:latin typeface="Times New Roman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32200" y="1716120"/>
              <a:ext cx="2781360" cy="7192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113-DD7C-4577-864A-11B0FF2EAD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long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ifetime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423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0" y="2565360"/>
            <a:ext cx="349236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1" lang="it-IT" sz="1800" spc="-1" strike="noStrike" baseline="-25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= (50.87 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±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0.16 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±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0.26 ) 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1" lang="it-IT" sz="1800" spc="-1" strike="noStrike" baseline="-25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50.72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±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0.14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±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0.33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)  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51.5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0.4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348000" y="1700280"/>
            <a:ext cx="5614560" cy="3916440"/>
            <a:chOff x="3348000" y="1700280"/>
            <a:chExt cx="5614560" cy="391644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3348000" y="1987920"/>
              <a:ext cx="4114800" cy="36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5176800" y="2445120"/>
              <a:ext cx="16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LOE dir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29080" y="33595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Times New Roman"/>
                </a:rPr>
                <a:t>KLOE indir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90200" y="4292640"/>
              <a:ext cx="367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Vosburgh et al,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D 6 (1972), 1834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32400" y="1700280"/>
              <a:ext cx="3373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average: </a:t>
              </a:r>
              <a:r>
                <a:rPr b="1" lang="el-GR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τ</a:t>
              </a:r>
              <a:r>
                <a:rPr b="1" lang="it-IT" sz="20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L</a:t>
              </a:r>
              <a:r>
                <a:rPr b="1" lang="it-IT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 = (50.81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± 0.23) 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BB9-7DCD-4F24-8AE5-B65EB3B163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mileptonic Form Factors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446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362320" y="7621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413000"/>
            <a:ext cx="883908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ileptonic FF describe the t- distribution of the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space integral depends on such a paramet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e-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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, 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e+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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, 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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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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Dalitz plot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ing  :  clusters from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cay associated to triggering sector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orime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on :   2 opposite-charge tracks with vertex :   35&lt;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120,  | Z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between different mass hypotheses to identify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rged decays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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ileptonic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611280" y="2205000"/>
                <a:ext cx="30970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f>
                      <m:num>
                        <m:r>
                          <m:t xml:space="preserve">t</m:t>
                        </m:r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 {  {t rSup { size 8{2} } }  over  {m rSub { size 8{π} }  rSup { size 8{4} } } } 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6948360" y="1413000"/>
                <a:ext cx="15843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003640" y="2205000"/>
                <a:ext cx="22510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F43-893E-4DB7-8DCE-FA21C7FBB2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4427640" y="1413000"/>
            <a:ext cx="4716000" cy="4679640"/>
            <a:chOff x="4427640" y="1413000"/>
            <a:chExt cx="4716000" cy="46796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rcRect l="3567" t="36774" r="11291" b="3961"/>
            <a:stretch/>
          </p:blipFill>
          <p:spPr>
            <a:xfrm>
              <a:off x="4427640" y="1413000"/>
              <a:ext cx="4716000" cy="46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772520" y="160920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nb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13520" y="5378400"/>
              <a:ext cx="107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 [MeV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269920" y="225828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eucci@Cap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419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Kaon physics at th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KLO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measurement of the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lo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bsolute Branching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lo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semileptonic form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hor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mileptonic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360" y="189000"/>
            <a:ext cx="2347560" cy="1427400"/>
            <a:chOff x="396360" y="189000"/>
            <a:chExt cx="2347560" cy="1427400"/>
          </a:xfrm>
        </p:grpSpPr>
        <p:sp>
          <p:nvSpPr>
            <p:cNvPr id="71" name=""/>
            <p:cNvSpPr/>
            <p:nvPr/>
          </p:nvSpPr>
          <p:spPr>
            <a:xfrm>
              <a:off x="772920" y="858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558800" y="711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179440" y="379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179440" y="666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866520" y="1141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36560" y="1141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7878800">
              <a:off x="2076120" y="716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72960" y="549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15200" y="1339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97720" y="18900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78160" y="671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360" y="668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70320" y="1052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36560" y="893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932360" y="198900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321-E2E9-4951-942E-B43CBACFCC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mileptonic Form Factors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468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2362320" y="7621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844640"/>
            <a:ext cx="82090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unique t-binned analysis for all the decays of interest, select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 Lesser of c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i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i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between c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i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i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otheses used to determine the lepton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 behaviour of each component controlled by sub-samples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 fractions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e-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of DATA/MC agreement and systematics related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ions are in  progress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FF6-DB12-4B9C-A6B7-263A048731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mileptonic Form Factors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486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" descr=""/>
          <p:cNvPicPr/>
          <p:nvPr/>
        </p:nvPicPr>
        <p:blipFill>
          <a:blip r:embed="rId1"/>
          <a:srcRect l="4038" t="35621" r="8199" b="6680"/>
          <a:stretch/>
        </p:blipFill>
        <p:spPr>
          <a:xfrm>
            <a:off x="4149720" y="1835280"/>
            <a:ext cx="3546360" cy="384624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rcRect l="3356" t="34816" r="6016" b="5926"/>
          <a:stretch/>
        </p:blipFill>
        <p:spPr>
          <a:xfrm>
            <a:off x="539640" y="1773360"/>
            <a:ext cx="3419640" cy="39542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679400" y="3132000"/>
            <a:ext cx="3040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92600" y="5518080"/>
            <a:ext cx="92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/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37680" y="5518080"/>
            <a:ext cx="92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/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79400" y="2287440"/>
            <a:ext cx="506736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165560" y="3848040"/>
                <a:ext cx="954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165560" y="3848040"/>
                <a:ext cx="954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843280" y="3068640"/>
                <a:ext cx="8236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2772720" y="2349360"/>
            <a:ext cx="8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/o 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804000" y="3429000"/>
                <a:ext cx="566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6746760" y="3070080"/>
                <a:ext cx="8226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6660720" y="2349360"/>
            <a:ext cx="8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/o 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1017360" y="5583240"/>
            <a:ext cx="2182680" cy="72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433680" y="6121440"/>
            <a:ext cx="128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istr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500720" y="5583240"/>
            <a:ext cx="218880" cy="5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06600" y="5970600"/>
            <a:ext cx="1336680" cy="698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71520" y="2060640"/>
            <a:ext cx="47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71880" y="2063880"/>
            <a:ext cx="4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78320" y="981000"/>
            <a:ext cx="34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Ke3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 contribution to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A1D-FCDC-4630-849C-C112A7E37A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2362320" y="7621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9280" y="1052640"/>
            <a:ext cx="8558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 shapes used to fit data (input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mileptonic slop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+,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+,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ed contemporarly with the amount of each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042920" y="1773360"/>
                <a:ext cx="66088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,</m:t>
                            </m:r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,</m:t>
                            </m:r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 \) }  times  left [ζ rSub { size 8{ ital </m:t>
                            </m:r>
                            <m:r>
                              <m:t xml:space="preserve">fs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( j \)  times ζ rSub { size 8{ ital </m:t>
                            </m:r>
                            <m:r>
                              <m:t xml:space="preserve">ef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( j \)  times ζ rSub { size 8{ ital </m:t>
                            </m:r>
                            <m:r>
                              <m:t xml:space="preserve">tr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( j \)  right ] times  ital </m:t>
                            </m:r>
                            <m:r>
                              <m:t xml:space="preserve">sm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\( j,i \) } {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1187280" y="0"/>
            <a:ext cx="6491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mileptonic Form Factors(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0" y="2506680"/>
            <a:ext cx="7680600" cy="4157280"/>
            <a:chOff x="0" y="2506680"/>
            <a:chExt cx="7680600" cy="415728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rcRect l="4834" t="35678" r="8471" b="1619"/>
            <a:stretch/>
          </p:blipFill>
          <p:spPr>
            <a:xfrm>
              <a:off x="3728880" y="2516040"/>
              <a:ext cx="3213360" cy="339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2"/>
            <a:srcRect l="3427" t="35042" r="8828" b="1454"/>
            <a:stretch/>
          </p:blipFill>
          <p:spPr>
            <a:xfrm>
              <a:off x="0" y="2506680"/>
              <a:ext cx="3311640" cy="33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26520" y="6021360"/>
              <a:ext cx="735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udy of the Dalitz plot shape       MC precision - shape simulation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One t-bin      Fit Result - Behaviour for the different components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812960" y="2133720"/>
            <a:ext cx="2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0" y="2349360"/>
            <a:ext cx="7811640" cy="3673080"/>
            <a:chOff x="0" y="2349360"/>
            <a:chExt cx="7811640" cy="3673080"/>
          </a:xfrm>
        </p:grpSpPr>
        <p:sp>
          <p:nvSpPr>
            <p:cNvPr id="530" name=""/>
            <p:cNvSpPr/>
            <p:nvPr/>
          </p:nvSpPr>
          <p:spPr>
            <a:xfrm>
              <a:off x="1407960" y="2349360"/>
              <a:ext cx="30369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4543560" y="3321360"/>
                  <a:ext cx="97920" cy="1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4543560" y="3321360"/>
                  <a:ext cx="97920" cy="1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533" name=""/>
            <p:cNvSpPr/>
            <p:nvPr/>
          </p:nvSpPr>
          <p:spPr>
            <a:xfrm>
              <a:off x="3564720" y="4195440"/>
              <a:ext cx="4424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0000" y="2604600"/>
              <a:ext cx="6944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-</a:t>
              </a:r>
              <a:r>
                <a:rPr b="1" lang="en-US" sz="1600" spc="-1" strike="noStrike" baseline="-32000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39160" y="2611800"/>
              <a:ext cx="71388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1600" spc="-1" strike="noStrike" baseline="-32000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86920" y="4255200"/>
              <a:ext cx="4762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" descr=""/>
            <p:cNvPicPr/>
            <p:nvPr/>
          </p:nvPicPr>
          <p:blipFill>
            <a:blip r:embed="rId3"/>
            <a:srcRect l="2860" t="34655" r="9019" b="0"/>
            <a:stretch/>
          </p:blipFill>
          <p:spPr>
            <a:xfrm>
              <a:off x="0" y="2485440"/>
              <a:ext cx="3799080" cy="35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4"/>
            <a:srcRect l="2751" t="34698" r="8599" b="0"/>
            <a:stretch/>
          </p:blipFill>
          <p:spPr>
            <a:xfrm>
              <a:off x="3922560" y="2511720"/>
              <a:ext cx="3889080" cy="351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843280" y="2770560"/>
              <a:ext cx="5281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94200" y="2697120"/>
              <a:ext cx="55260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0" y="5877000"/>
            <a:ext cx="83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6021360"/>
            <a:ext cx="820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ne bin in the variable to discriminate  the different semileptonic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t results - t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D5C-D084-4936-A483-CB56FD1301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581280" y="483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68360" y="3213000"/>
            <a:ext cx="495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Precision - 330 p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389240" y="3708360"/>
          <a:ext cx="6914880" cy="1503360"/>
        </p:xfrm>
        <a:graphic>
          <a:graphicData uri="http://schemas.openxmlformats.org/drawingml/2006/table">
            <a:tbl>
              <a:tblPr/>
              <a:tblGrid>
                <a:gridCol w="1382400"/>
                <a:gridCol w="1382760"/>
                <a:gridCol w="1384200"/>
                <a:gridCol w="1382760"/>
                <a:gridCol w="13827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’’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’’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%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539640" y="1413000"/>
            <a:ext cx="741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of the systematics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rther discriminant variables as PID from ECAL to control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ability of the MC distributions/ of the evaluation the differen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leptonic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87280" y="260280"/>
            <a:ext cx="6491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mileptonic Form Factors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B56-ABD5-46D8-B781-E2E163C02A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short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mileptonic decays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550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0" y="1341360"/>
            <a:ext cx="896472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To b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sented tomorrow by T.Spad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lection using 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long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nteractions in the calorimeter  ( Kshort tagging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ertex in the interaction region   -   Invariant Mass consistent with Kaon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11280" y="2596680"/>
            <a:ext cx="7228440" cy="3463920"/>
            <a:chOff x="611280" y="2596680"/>
            <a:chExt cx="7228440" cy="3463920"/>
          </a:xfrm>
        </p:grpSpPr>
        <p:pic>
          <p:nvPicPr>
            <p:cNvPr id="566" name="" descr=""/>
            <p:cNvPicPr/>
            <p:nvPr/>
          </p:nvPicPr>
          <p:blipFill>
            <a:blip r:embed="rId1"/>
            <a:srcRect l="51661" t="29368" r="27962" b="56125"/>
            <a:stretch/>
          </p:blipFill>
          <p:spPr>
            <a:xfrm>
              <a:off x="4674960" y="2854440"/>
              <a:ext cx="2938320" cy="29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2"/>
            <a:srcRect l="27463" t="29037" r="51738" b="56256"/>
            <a:stretch/>
          </p:blipFill>
          <p:spPr>
            <a:xfrm>
              <a:off x="1256760" y="2844360"/>
              <a:ext cx="2938320" cy="28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6948000" y="4424040"/>
              <a:ext cx="721800" cy="52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en-US" sz="2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5403960" y="3098160"/>
              <a:ext cx="721800" cy="52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e</a:t>
              </a:r>
              <a:r>
                <a:rPr b="0" lang="en-US" sz="2800" spc="-1" strike="noStrike" baseline="30000">
                  <a:solidFill>
                    <a:srgbClr val="003399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 baseline="30000">
                  <a:solidFill>
                    <a:srgbClr val="003399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48080" y="2914560"/>
              <a:ext cx="84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2520" y="2909880"/>
              <a:ext cx="13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imes New Roman"/>
                </a:rPr>
                <a:t>MC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71000" y="56602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387520" y="5660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16960" y="5660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018080" y="5194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18080" y="4780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18080" y="4368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018080" y="3954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98640" y="5660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62360" y="5660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18080" y="3573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18080" y="3149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36000" y="556200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52680" y="5660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32040" y="5660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96400" y="566172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05720" y="5659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35520" y="5659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36640" y="5196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36640" y="477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6640" y="436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36640" y="3954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15400" y="5659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82360" y="5659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436640" y="3571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36640" y="3149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353480" y="556344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71240" y="5659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51320" y="5659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951080" y="5276520"/>
              <a:ext cx="140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,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n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6200000">
              <a:off x="173520" y="3034080"/>
              <a:ext cx="145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,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n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4A9-BA0B-41A7-9042-F9AE5C0DDA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short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mileptonic decays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604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608000" y="1700280"/>
            <a:ext cx="4534200" cy="4570200"/>
            <a:chOff x="4608000" y="1700280"/>
            <a:chExt cx="4534200" cy="4570200"/>
          </a:xfrm>
        </p:grpSpPr>
        <p:pic>
          <p:nvPicPr>
            <p:cNvPr id="619" name="" descr=""/>
            <p:cNvPicPr/>
            <p:nvPr/>
          </p:nvPicPr>
          <p:blipFill>
            <a:blip r:embed="rId1"/>
            <a:srcRect l="30786" t="38105" r="3159" b="12722"/>
            <a:stretch/>
          </p:blipFill>
          <p:spPr>
            <a:xfrm>
              <a:off x="4824360" y="1700280"/>
              <a:ext cx="4083120" cy="42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5151240" y="3114360"/>
              <a:ext cx="1119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85920" y="5897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021800" y="59022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608000" y="5751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99080" y="5902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18920" y="5897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42920" y="5897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96360" y="59022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911840" y="2149200"/>
              <a:ext cx="235584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si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bk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156880" y="59022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732880" y="59022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4200" y="54925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0" y="1844640"/>
            <a:ext cx="4859280" cy="39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Background  from 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Geneva"/>
              </a:rPr>
              <a:t>short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ystematics from the knowledge of the distributions for signal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alougous selection for the 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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cision better than 1% in the 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B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cision better than 2% in the 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144120" y="6237360"/>
            <a:ext cx="20019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Geneva"/>
              </a:rPr>
              <a:t>miss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– cP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Geneva"/>
              </a:rPr>
              <a:t>miss</a:t>
            </a:r>
            <a:r>
              <a:rPr b="1" lang="it-IT" sz="1800" spc="-1" strike="noStrike">
                <a:solidFill>
                  <a:srgbClr val="000000"/>
                </a:solidFill>
                <a:latin typeface="Geneva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139-B58C-4795-B3CC-12BB420BA9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391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OE has performed measuremen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jor K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BRs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%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lifetime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%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(K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00"/>
                </a:solidFill>
                <a:latin typeface="MT Extra"/>
                <a:ea typeface="MT Extra"/>
              </a:rPr>
              <a:t>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(K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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2%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ccurac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papers under review by the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arge number of 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mileptonic decays has been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 measurements with accuracy &lt; 1% so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f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l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m factors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281-7A8D-4356-BDE9-E1FC14A8AF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916360" y="40464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extraction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25080" y="189000"/>
            <a:ext cx="2347560" cy="1427400"/>
            <a:chOff x="325080" y="189000"/>
            <a:chExt cx="2347560" cy="1427400"/>
          </a:xfrm>
        </p:grpSpPr>
        <p:sp>
          <p:nvSpPr>
            <p:cNvPr id="638" name=""/>
            <p:cNvSpPr/>
            <p:nvPr/>
          </p:nvSpPr>
          <p:spPr>
            <a:xfrm>
              <a:off x="701640" y="858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1487520" y="711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2108160" y="379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108160" y="666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795240" y="1141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565280" y="1141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7878800">
              <a:off x="2004840" y="716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01680" y="549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43920" y="1339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26440" y="18900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06880" y="671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5080" y="668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99040" y="1052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565280" y="893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0" y="1773360"/>
                <a:ext cx="26049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→</m:t>
                        </m:r>
                        <m:r>
                          <m:t xml:space="preserve">π</m:t>
                        </m:r>
                        <m:r>
                          <m:t xml:space="preserve">l</m:t>
                        </m:r>
                        <m:r>
                          <m:t xml:space="preserve">ν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Κ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627280" y="1844640"/>
                <a:ext cx="1457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W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4284720" y="1989000"/>
                <a:ext cx="13683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+</m:t>
                        </m:r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m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3800" y="1916280"/>
                <a:ext cx="792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sub/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308720" y="1916280"/>
                <a:ext cx="16178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5797440" y="1989000"/>
                <a:ext cx="576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5724360" y="1844640"/>
            <a:ext cx="1368720" cy="719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716280"/>
            <a:ext cx="91440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It can be extracted by the measurements of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Kaon Semileptonic B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Kaon  Lif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it-IT" sz="2000" spc="-1" strike="noStrike" baseline="-25000">
                <a:solidFill>
                  <a:srgbClr val="333399"/>
                </a:solidFill>
                <a:latin typeface="Arial"/>
              </a:rPr>
              <a:t>Kl3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t  distributions ,  t =  (p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-p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it-IT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443640" y="2637000"/>
            <a:ext cx="0" cy="1006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69920" y="6400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1773360"/>
            <a:ext cx="219564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6920" y="2276640"/>
            <a:ext cx="649440" cy="5760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308720" y="1844640"/>
            <a:ext cx="1656000" cy="72072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052-99B9-4AA9-BED3-5F76E9398F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916360" y="40464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extraction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25080" y="189000"/>
            <a:ext cx="2347560" cy="1427400"/>
            <a:chOff x="325080" y="189000"/>
            <a:chExt cx="2347560" cy="1427400"/>
          </a:xfrm>
        </p:grpSpPr>
        <p:sp>
          <p:nvSpPr>
            <p:cNvPr id="667" name=""/>
            <p:cNvSpPr/>
            <p:nvPr/>
          </p:nvSpPr>
          <p:spPr>
            <a:xfrm>
              <a:off x="701640" y="858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1487520" y="711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2108160" y="379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2108160" y="666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95240" y="1141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65280" y="1141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7878800">
              <a:off x="2004840" y="716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01680" y="549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43920" y="1339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26440" y="18900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06880" y="671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5080" y="668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99040" y="1052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65280" y="893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98360" y="1700280"/>
            <a:ext cx="89456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ributions  to the relative error on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400" spc="-1" strike="noStrike" baseline="33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4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69920" y="6400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7560" y="3213000"/>
            <a:ext cx="5997960" cy="2892240"/>
            <a:chOff x="547560" y="3213000"/>
            <a:chExt cx="5997960" cy="2892240"/>
          </a:xfrm>
        </p:grpSpPr>
        <p:sp>
          <p:nvSpPr>
            <p:cNvPr id="684" name=""/>
            <p:cNvSpPr/>
            <p:nvPr/>
          </p:nvSpPr>
          <p:spPr>
            <a:xfrm>
              <a:off x="547560" y="3860640"/>
              <a:ext cx="5997960" cy="22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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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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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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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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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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46000">
                  <a:solidFill>
                    <a:srgbClr val="000000"/>
                  </a:solidFill>
                  <a:latin typeface="Arial"/>
                  <a:ea typeface="Arial"/>
                </a:rPr>
                <a:t>±</a:t>
              </a:r>
              <a:r>
                <a:rPr b="0" lang="en-US" sz="1800" spc="-1" strike="noStrike" baseline="46000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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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46000">
                  <a:solidFill>
                    <a:srgbClr val="000000"/>
                  </a:solidFill>
                  <a:latin typeface="Arial"/>
                  <a:ea typeface="Arial"/>
                </a:rPr>
                <a:t>±  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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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5146920" y="3213000"/>
                  <a:ext cx="3934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ΔI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</m:den>
                          </m:f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2698920" y="3213000"/>
                  <a:ext cx="5302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r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r</m:t>
                              </m:r>
                            </m:den>
                          </m:f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7" name=""/>
                <p:cNvSpPr txBox="1"/>
                <p:nvPr/>
              </p:nvSpPr>
              <p:spPr>
                <a:xfrm>
                  <a:off x="3996000" y="3213000"/>
                  <a:ext cx="3934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Δτ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τ</m:t>
                              </m:r>
                            </m:den>
                          </m:f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8" name=""/>
          <p:cNvSpPr/>
          <p:nvPr/>
        </p:nvSpPr>
        <p:spPr>
          <a:xfrm>
            <a:off x="4643280" y="3789360"/>
            <a:ext cx="1150920" cy="216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80000" y="5300640"/>
            <a:ext cx="792000" cy="64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556000" y="4437000"/>
            <a:ext cx="863640" cy="15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73280" y="4508640"/>
            <a:ext cx="24775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rther improv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om KL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516720" y="515772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916000" y="616572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916360" y="5949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211640" y="5949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219640" y="5949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7D5-C754-4B53-8899-EA026D11E9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2916360" y="40464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Arial"/>
              </a:rPr>
              <a:t>us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extraction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325080" y="189000"/>
            <a:ext cx="2347560" cy="1427400"/>
            <a:chOff x="325080" y="189000"/>
            <a:chExt cx="2347560" cy="1427400"/>
          </a:xfrm>
        </p:grpSpPr>
        <p:sp>
          <p:nvSpPr>
            <p:cNvPr id="699" name=""/>
            <p:cNvSpPr/>
            <p:nvPr/>
          </p:nvSpPr>
          <p:spPr>
            <a:xfrm>
              <a:off x="701640" y="858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1487520" y="711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2108160" y="379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2108160" y="666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795240" y="1141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65280" y="1141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7878800">
              <a:off x="2004840" y="716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01680" y="549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43920" y="1339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26440" y="18900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06880" y="671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5080" y="668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99040" y="1052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65280" y="893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169920" y="6400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635400" y="3213000"/>
            <a:ext cx="5822640" cy="2892240"/>
            <a:chOff x="635400" y="3213000"/>
            <a:chExt cx="5822640" cy="2892240"/>
          </a:xfrm>
        </p:grpSpPr>
        <p:sp>
          <p:nvSpPr>
            <p:cNvPr id="715" name=""/>
            <p:cNvSpPr/>
            <p:nvPr/>
          </p:nvSpPr>
          <p:spPr>
            <a:xfrm>
              <a:off x="635400" y="3860640"/>
              <a:ext cx="5822640" cy="22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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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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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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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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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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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46000">
                  <a:solidFill>
                    <a:srgbClr val="000000"/>
                  </a:solidFill>
                  <a:latin typeface="Arial"/>
                  <a:ea typeface="Arial"/>
                </a:rPr>
                <a:t>±</a:t>
              </a:r>
              <a:r>
                <a:rPr b="0" lang="en-US" sz="1800" spc="-1" strike="noStrike" baseline="46000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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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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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 baseline="46000">
                  <a:solidFill>
                    <a:srgbClr val="000000"/>
                  </a:solidFill>
                  <a:latin typeface="Arial"/>
                  <a:ea typeface="Arial"/>
                </a:rPr>
                <a:t>±  </a:t>
              </a:r>
              <a:r>
                <a:rPr b="0" lang="it-I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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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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</a:t>
              </a:r>
              <a:r>
                <a:rPr b="1" lang="it-IT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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</a:t>
              </a: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it-IT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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5146920" y="3213000"/>
                  <a:ext cx="3934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ΔI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I</m:t>
                              </m:r>
                            </m:den>
                          </m:f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7" name=""/>
                <p:cNvSpPr txBox="1"/>
                <p:nvPr/>
              </p:nvSpPr>
              <p:spPr>
                <a:xfrm>
                  <a:off x="2698920" y="3213000"/>
                  <a:ext cx="5302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r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r</m:t>
                              </m:r>
                            </m:den>
                          </m:f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3996000" y="3213000"/>
                  <a:ext cx="3934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Δτ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τ</m:t>
                              </m:r>
                            </m:den>
                          </m:f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9" name=""/>
          <p:cNvSpPr/>
          <p:nvPr/>
        </p:nvSpPr>
        <p:spPr>
          <a:xfrm>
            <a:off x="4643280" y="3789360"/>
            <a:ext cx="1150920" cy="216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780000" y="5300640"/>
            <a:ext cx="792000" cy="64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56000" y="4437000"/>
            <a:ext cx="863640" cy="15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916000" y="616572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2916360" y="5949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211640" y="5949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5219640" y="5949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173280" y="4508640"/>
            <a:ext cx="24775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Further improv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from KL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516720" y="515772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68360" y="1916280"/>
            <a:ext cx="8207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ributions  to the relative error on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GB" sz="2400" spc="-1" strike="noStrike" baseline="-33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400" spc="-1" strike="noStrike" baseline="33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4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1B6-396C-45A8-937D-F70414382C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547640" y="2060640"/>
            <a:ext cx="7412040" cy="4610160"/>
            <a:chOff x="1547640" y="2060640"/>
            <a:chExt cx="7412040" cy="46101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1547640" y="2133720"/>
              <a:ext cx="3521160" cy="45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4932360" y="2060640"/>
              <a:ext cx="4027320" cy="457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2050920" y="0"/>
            <a:ext cx="4392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836640"/>
            <a:ext cx="864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High-Luminosity </a:t>
            </a: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-factory  at  the Frascati Laboratory of the INF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uble annular e</a:t>
            </a:r>
            <a:r>
              <a:rPr b="1" lang="it-IT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it-IT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collider at  √s = 1.02 Ge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uminosity of 1.2 10</a:t>
            </a:r>
            <a:r>
              <a:rPr b="1" lang="it-IT" sz="1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1" lang="it-IT" sz="1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it-IT" sz="1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Currents : 1.7 A  e</a:t>
            </a:r>
            <a:r>
              <a:rPr b="1" lang="it-IT" sz="1400" spc="-1" strike="noStrike" baseline="30000">
                <a:solidFill>
                  <a:srgbClr val="000000"/>
                </a:solidFill>
                <a:latin typeface="Arial"/>
              </a:rPr>
              <a:t>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+ 1.3 A e</a:t>
            </a:r>
            <a:r>
              <a:rPr b="1" lang="it-IT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,  109 + 109 bun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240" y="2058840"/>
            <a:ext cx="174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in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ain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 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Beam Test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 SR 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62F-4B60-4BFC-9072-0A36C205D1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730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258920" y="981000"/>
            <a:ext cx="6192000" cy="5257440"/>
            <a:chOff x="1258920" y="981000"/>
            <a:chExt cx="6192000" cy="5257440"/>
          </a:xfrm>
        </p:grpSpPr>
        <p:grpSp>
          <p:nvGrpSpPr>
            <p:cNvPr id="745" name=""/>
            <p:cNvGrpSpPr/>
            <p:nvPr/>
          </p:nvGrpSpPr>
          <p:grpSpPr>
            <a:xfrm>
              <a:off x="1258920" y="1535040"/>
              <a:ext cx="6192000" cy="4703400"/>
              <a:chOff x="1258920" y="1535040"/>
              <a:chExt cx="6192000" cy="4703400"/>
            </a:xfrm>
          </p:grpSpPr>
          <p:pic>
            <p:nvPicPr>
              <p:cNvPr id="7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4880" y="1535040"/>
                <a:ext cx="5936040" cy="47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>
                <a:off x="1258920" y="3249720"/>
                <a:ext cx="487080" cy="153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2888280" y="981000"/>
              <a:ext cx="3646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1643040" y="2852280"/>
            <a:ext cx="0" cy="649440"/>
            <a:chOff x="1643040" y="2852280"/>
            <a:chExt cx="0" cy="649440"/>
          </a:xfrm>
        </p:grpSpPr>
        <p:sp>
          <p:nvSpPr>
            <p:cNvPr id="750" name=""/>
            <p:cNvSpPr/>
            <p:nvPr/>
          </p:nvSpPr>
          <p:spPr>
            <a:xfrm flipV="1">
              <a:off x="1643040" y="2852280"/>
              <a:ext cx="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43040" y="3176280"/>
              <a:ext cx="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757800" y="29973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635280" y="404640"/>
            <a:ext cx="3600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5C1-C1FF-4623-AF39-3015E21056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325080" y="189000"/>
            <a:ext cx="2347560" cy="1427400"/>
            <a:chOff x="325080" y="189000"/>
            <a:chExt cx="2347560" cy="1427400"/>
          </a:xfrm>
        </p:grpSpPr>
        <p:sp>
          <p:nvSpPr>
            <p:cNvPr id="755" name=""/>
            <p:cNvSpPr/>
            <p:nvPr/>
          </p:nvSpPr>
          <p:spPr>
            <a:xfrm>
              <a:off x="701640" y="858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1487520" y="711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08160" y="379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2108160" y="666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95240" y="1141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65280" y="1141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7878800">
              <a:off x="2004840" y="716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01680" y="549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43920" y="1339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26440" y="18900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06880" y="671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5080" y="668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399040" y="1052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65280" y="893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611280" y="1844640"/>
            <a:ext cx="741672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KLOE results:       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|V</a:t>
            </a:r>
            <a:r>
              <a:rPr b="1" lang="en-GB" sz="2000" spc="-1" strike="noStrike" baseline="-33000">
                <a:solidFill>
                  <a:srgbClr val="333399"/>
                </a:solidFill>
                <a:latin typeface="Times New Roman"/>
              </a:rPr>
              <a:t>us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n-GB" sz="2000" spc="-1" strike="noStrike" baseline="-33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GB" sz="2000" spc="-1" strike="noStrike" baseline="33000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GB" sz="2000" spc="-1" strike="noStrike" baseline="33000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(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GB" sz="2000" spc="-1" strike="noStrike" baseline="-33000">
                <a:solidFill>
                  <a:srgbClr val="333399"/>
                </a:solidFill>
                <a:latin typeface="Times New Roman"/>
              </a:rPr>
              <a:t>Se3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 = 0.2169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0.0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                            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GB" sz="2000" spc="-1" strike="noStrike" baseline="-33000">
                <a:solidFill>
                  <a:srgbClr val="333399"/>
                </a:solidFill>
                <a:latin typeface="Times New Roman"/>
              </a:rPr>
              <a:t>Le3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 = 0.2164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0.0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GB" sz="2000" spc="-1" strike="noStrike" baseline="-33000">
                <a:solidFill>
                  <a:srgbClr val="333399"/>
                </a:solidFill>
                <a:latin typeface="Times New Roman"/>
              </a:rPr>
              <a:t>L</a:t>
            </a:r>
            <a:r>
              <a:rPr b="1" lang="en-GB" sz="2000" spc="-1" strike="noStrike" baseline="-33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 baseline="-33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 = 0.2174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 0.0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om Unitarity and superallowed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-decays </a:t>
            </a: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u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| =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0.9740(5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1-|V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u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GB" sz="20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000" spc="-1" strike="noStrike" baseline="33000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000" spc="-1" strike="noStrike" baseline="33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0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0) = 0.2177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0.00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635280" y="404640"/>
            <a:ext cx="3600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ED0-5EA1-4DF3-A7DA-D22F33EA6D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3059280" y="404640"/>
            <a:ext cx="59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5080" y="189000"/>
            <a:ext cx="2347560" cy="1427400"/>
            <a:chOff x="325080" y="189000"/>
            <a:chExt cx="2347560" cy="1427400"/>
          </a:xfrm>
        </p:grpSpPr>
        <p:sp>
          <p:nvSpPr>
            <p:cNvPr id="773" name=""/>
            <p:cNvSpPr/>
            <p:nvPr/>
          </p:nvSpPr>
          <p:spPr>
            <a:xfrm>
              <a:off x="701640" y="858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1487520" y="711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2108160" y="379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2108160" y="666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95240" y="1141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565280" y="1141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7878800">
              <a:off x="2004840" y="716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01680" y="549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43920" y="1339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26440" y="18900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06880" y="671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5080" y="668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99040" y="1052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565280" y="893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840360" cy="366084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563400" y="1654200"/>
            <a:ext cx="6207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GB" sz="2400" spc="-1" strike="noStrike" baseline="-25000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en-GB" sz="2400" spc="-1" strike="noStrike" baseline="30000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GB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(0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from Leutwyler-Roos:  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0.96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532-8656-41A3-9486-40E6E15EA7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"/>
          <p:cNvGrpSpPr/>
          <p:nvPr/>
        </p:nvGrpSpPr>
        <p:grpSpPr>
          <a:xfrm>
            <a:off x="325080" y="0"/>
            <a:ext cx="2347560" cy="1427400"/>
            <a:chOff x="325080" y="0"/>
            <a:chExt cx="2347560" cy="1427400"/>
          </a:xfrm>
        </p:grpSpPr>
        <p:sp>
          <p:nvSpPr>
            <p:cNvPr id="790" name=""/>
            <p:cNvSpPr/>
            <p:nvPr/>
          </p:nvSpPr>
          <p:spPr>
            <a:xfrm>
              <a:off x="70164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148752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10816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0816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9524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528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7878800">
              <a:off x="200484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0168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4392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02644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0688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2508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39904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6528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4502160" y="4046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979640" y="2781000"/>
            <a:ext cx="71280" cy="1368360"/>
          </a:xfrm>
          <a:prstGeom prst="line">
            <a:avLst/>
          </a:prstGeom>
          <a:ln w="381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1341360"/>
            <a:ext cx="896472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new KLOE measurements of the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long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jor branching fractions are consistent with recent results from  KTeV and NA4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lo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mileptonic decays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e3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d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together with the measurement of the K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ifetime allow the extraction of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1800" spc="-1" strike="noStrike" baseline="33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alues consistent with the unitarity of the first row of the CKM matrix  and  the |V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| value from superallowed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dec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LOE has also measured a K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e3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nching ratio for the K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short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firming the Klong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extraction of |V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| from K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decay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2 permi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s equally consistent with the other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program to improve the precision in this sector is in progress,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increase in sensitivity on Kshort semileptonic decays thanks to the 2 fb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w data  sampl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measurement of the Klong semileptonic form factor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f the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mileptonic BR’s and form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f the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C2A-03A6-434E-AC9C-C56FBE8D2E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4465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hysics at th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a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–   Visible cross section 3.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-    3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p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00000" y="1341360"/>
            <a:ext cx="7264800" cy="1246680"/>
            <a:chOff x="900000" y="1341360"/>
            <a:chExt cx="7264800" cy="1246680"/>
          </a:xfrm>
        </p:grpSpPr>
        <p:sp>
          <p:nvSpPr>
            <p:cNvPr id="95" name=""/>
            <p:cNvSpPr/>
            <p:nvPr/>
          </p:nvSpPr>
          <p:spPr>
            <a:xfrm>
              <a:off x="1187280" y="1562040"/>
              <a:ext cx="6508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187280" y="1704960"/>
              <a:ext cx="6490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268360" y="1488960"/>
              <a:ext cx="647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39640" y="1704960"/>
              <a:ext cx="6508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36360" y="17049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8560" y="141264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1344600"/>
              <a:ext cx="79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it-IT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4680" y="1849320"/>
              <a:ext cx="3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921040" y="1344600"/>
              <a:ext cx="380520" cy="842040"/>
              <a:chOff x="2921040" y="1344600"/>
              <a:chExt cx="380520" cy="842040"/>
            </a:xfrm>
          </p:grpSpPr>
          <p:sp>
            <p:nvSpPr>
              <p:cNvPr id="104" name=""/>
              <p:cNvSpPr/>
              <p:nvPr/>
            </p:nvSpPr>
            <p:spPr>
              <a:xfrm>
                <a:off x="2923920" y="1344600"/>
                <a:ext cx="37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6600"/>
                    </a:solidFill>
                    <a:latin typeface="Arial"/>
                  </a:rPr>
                  <a:t>K</a:t>
                </a:r>
                <a:r>
                  <a:rPr b="1" lang="it-IT" sz="1600" spc="-1" strike="noStrike" baseline="30000">
                    <a:solidFill>
                      <a:srgbClr val="0066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21040" y="1849320"/>
                <a:ext cx="348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6600"/>
                    </a:solidFill>
                    <a:latin typeface="Arial"/>
                  </a:rPr>
                  <a:t>K</a:t>
                </a:r>
                <a:r>
                  <a:rPr b="1" lang="en-US" sz="1600" spc="-1" strike="noStrike" baseline="30000">
                    <a:solidFill>
                      <a:srgbClr val="0066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428280" y="1344600"/>
              <a:ext cx="387360" cy="875520"/>
              <a:chOff x="3428280" y="1344600"/>
              <a:chExt cx="387360" cy="875520"/>
            </a:xfrm>
          </p:grpSpPr>
          <p:sp>
            <p:nvSpPr>
              <p:cNvPr id="107" name=""/>
              <p:cNvSpPr/>
              <p:nvPr/>
            </p:nvSpPr>
            <p:spPr>
              <a:xfrm>
                <a:off x="3429000" y="1344600"/>
                <a:ext cx="386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6600"/>
                    </a:solidFill>
                    <a:latin typeface="Arial"/>
                  </a:rPr>
                  <a:t>K</a:t>
                </a:r>
                <a:r>
                  <a:rPr b="1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28280" y="1849320"/>
                <a:ext cx="380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6600"/>
                    </a:solidFill>
                    <a:latin typeface="Arial"/>
                  </a:rPr>
                  <a:t>K</a:t>
                </a:r>
                <a:r>
                  <a:rPr b="1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925440" y="1344600"/>
              <a:ext cx="291960" cy="815040"/>
              <a:chOff x="3925440" y="1344600"/>
              <a:chExt cx="291960" cy="815040"/>
            </a:xfrm>
          </p:grpSpPr>
          <p:sp>
            <p:nvSpPr>
              <p:cNvPr id="110" name=""/>
              <p:cNvSpPr/>
              <p:nvPr/>
            </p:nvSpPr>
            <p:spPr>
              <a:xfrm>
                <a:off x="3926160" y="1344600"/>
                <a:ext cx="27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925440" y="182232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488480" y="1344600"/>
              <a:ext cx="302400" cy="811440"/>
              <a:chOff x="4488480" y="1344600"/>
              <a:chExt cx="302400" cy="811440"/>
            </a:xfrm>
          </p:grpSpPr>
          <p:sp>
            <p:nvSpPr>
              <p:cNvPr id="113" name=""/>
              <p:cNvSpPr/>
              <p:nvPr/>
            </p:nvSpPr>
            <p:spPr>
              <a:xfrm>
                <a:off x="4501800" y="1344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88480" y="1848960"/>
                <a:ext cx="28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058720" y="1344600"/>
              <a:ext cx="420120" cy="811440"/>
              <a:chOff x="5058720" y="1344600"/>
              <a:chExt cx="420120" cy="811440"/>
            </a:xfrm>
          </p:grpSpPr>
          <p:sp>
            <p:nvSpPr>
              <p:cNvPr id="116" name=""/>
              <p:cNvSpPr/>
              <p:nvPr/>
            </p:nvSpPr>
            <p:spPr>
              <a:xfrm>
                <a:off x="5058720" y="1344600"/>
                <a:ext cx="42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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64840" y="1848960"/>
                <a:ext cx="28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488480" y="1344600"/>
              <a:ext cx="302400" cy="811440"/>
              <a:chOff x="4488480" y="1344600"/>
              <a:chExt cx="302400" cy="811440"/>
            </a:xfrm>
          </p:grpSpPr>
          <p:sp>
            <p:nvSpPr>
              <p:cNvPr id="119" name=""/>
              <p:cNvSpPr/>
              <p:nvPr/>
            </p:nvSpPr>
            <p:spPr>
              <a:xfrm>
                <a:off x="4501800" y="1344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88480" y="1848960"/>
                <a:ext cx="28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720480" y="1344600"/>
              <a:ext cx="353520" cy="808560"/>
              <a:chOff x="6720480" y="1344600"/>
              <a:chExt cx="353520" cy="808560"/>
            </a:xfrm>
          </p:grpSpPr>
          <p:sp>
            <p:nvSpPr>
              <p:cNvPr id="122" name=""/>
              <p:cNvSpPr/>
              <p:nvPr/>
            </p:nvSpPr>
            <p:spPr>
              <a:xfrm>
                <a:off x="6736320" y="1344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Arial"/>
                  </a:rPr>
                  <a:t>a</a:t>
                </a:r>
                <a:r>
                  <a:rPr b="1" lang="en-US" sz="1400" spc="-1" strike="noStrike" baseline="-25000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20480" y="1846080"/>
                <a:ext cx="28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439760" y="1341360"/>
              <a:ext cx="352080" cy="811800"/>
              <a:chOff x="7439760" y="1341360"/>
              <a:chExt cx="352080" cy="811800"/>
            </a:xfrm>
          </p:grpSpPr>
          <p:sp>
            <p:nvSpPr>
              <p:cNvPr id="125" name=""/>
              <p:cNvSpPr/>
              <p:nvPr/>
            </p:nvSpPr>
            <p:spPr>
              <a:xfrm>
                <a:off x="7452360" y="1341360"/>
                <a:ext cx="33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</a:t>
                </a:r>
                <a:r>
                  <a:rPr b="1" lang="it-IT" sz="1400" spc="-1" strike="noStrike">
                    <a:solidFill>
                      <a:srgbClr val="333399"/>
                    </a:solidFill>
                    <a:latin typeface="Arial"/>
                  </a:rPr>
                  <a:t>’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39760" y="1846080"/>
                <a:ext cx="28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750400" y="2280960"/>
              <a:ext cx="54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9%    34%   15%    1.3%   0.12%  …   0.044%  0.008%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00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999760" y="1371600"/>
              <a:ext cx="313920" cy="808560"/>
              <a:chOff x="5999760" y="1371600"/>
              <a:chExt cx="313920" cy="808560"/>
            </a:xfrm>
          </p:grpSpPr>
          <p:sp>
            <p:nvSpPr>
              <p:cNvPr id="129" name=""/>
              <p:cNvSpPr/>
              <p:nvPr/>
            </p:nvSpPr>
            <p:spPr>
              <a:xfrm>
                <a:off x="6015600" y="1371600"/>
                <a:ext cx="29808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Arial"/>
                  </a:rPr>
                  <a:t>f</a:t>
                </a:r>
                <a:r>
                  <a:rPr b="1" lang="en-US" sz="1400" spc="-1" strike="noStrike" baseline="-25000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999760" y="1873080"/>
                <a:ext cx="28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582160" y="1344600"/>
              <a:ext cx="313200" cy="811440"/>
              <a:chOff x="5582160" y="1344600"/>
              <a:chExt cx="313200" cy="811440"/>
            </a:xfrm>
          </p:grpSpPr>
          <p:sp>
            <p:nvSpPr>
              <p:cNvPr id="132" name=""/>
              <p:cNvSpPr/>
              <p:nvPr/>
            </p:nvSpPr>
            <p:spPr>
              <a:xfrm>
                <a:off x="5582160" y="1344600"/>
                <a:ext cx="313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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82160" y="1848960"/>
                <a:ext cx="313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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231840" y="2781360"/>
            <a:ext cx="5060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nique environment for Kaon physic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ow background                Syst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agged Kaons                   Absolute 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Kinematic constraints      Resolution, Particle ID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55640" y="5373720"/>
                <a:ext cx="404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⟩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6918120" y="3137040"/>
            <a:ext cx="2225520" cy="549360"/>
            <a:chOff x="6918120" y="3137040"/>
            <a:chExt cx="2225520" cy="549360"/>
          </a:xfrm>
        </p:grpSpPr>
        <p:sp>
          <p:nvSpPr>
            <p:cNvPr id="137" name=""/>
            <p:cNvSpPr/>
            <p:nvPr/>
          </p:nvSpPr>
          <p:spPr>
            <a:xfrm>
              <a:off x="7015320" y="3137040"/>
              <a:ext cx="2128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Coherent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it-IT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 regeneration on beam pi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918120" y="3407760"/>
              <a:ext cx="11772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24000" y="4365720"/>
            <a:ext cx="85881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lmost monochromatic Ka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Kaon pairs are produced in a pure  J</a:t>
            </a:r>
            <a:r>
              <a:rPr b="1" lang="it-IT" sz="1600" spc="-1" strike="noStrike" baseline="30000">
                <a:solidFill>
                  <a:srgbClr val="000000"/>
                </a:solidFill>
                <a:latin typeface="Arial"/>
              </a:rPr>
              <a:t>PC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</a:rPr>
              <a:t>- -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7032" t="13540" r="27343" b="16666"/>
          <a:stretch/>
        </p:blipFill>
        <p:spPr>
          <a:xfrm>
            <a:off x="5275440" y="2981160"/>
            <a:ext cx="3686040" cy="307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080200" y="5326200"/>
            <a:ext cx="75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219640" y="2852640"/>
                <a:ext cx="15051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D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6E7-982D-4D07-9DDB-FDB96D451D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95640" y="0"/>
            <a:ext cx="1440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O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0" y="765000"/>
            <a:ext cx="4572000" cy="3641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07560" y="549360"/>
            <a:ext cx="37058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ulti purpose detector optimized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Arial"/>
              </a:rPr>
              <a:t>long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phys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Arial"/>
              </a:rPr>
              <a:t>Klong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51ps    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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| 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Arial"/>
              </a:rPr>
              <a:t>DAFN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40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uge, transparent Drift Ch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Carbon Fibers, 54000 stereo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perated with He-rich mix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p)/p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 0.4%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9532" t="0" r="0" b="0"/>
          <a:stretch/>
        </p:blipFill>
        <p:spPr>
          <a:xfrm>
            <a:off x="0" y="3165480"/>
            <a:ext cx="3780000" cy="3524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791520" y="4797360"/>
            <a:ext cx="458208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d Scintillating-Fiber Hermetic Calorime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llent timing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E = 5.7% / </a:t>
            </a:r>
            <a:r>
              <a:rPr b="1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(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54 ps / </a:t>
            </a:r>
            <a:r>
              <a:rPr b="1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(GeV) </a:t>
            </a:r>
            <a:r>
              <a:rPr b="1" lang="en-US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50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C8E-6D54-4DCC-AA13-0B995A8538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00720" y="83664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Luminosity @KLO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3196800" y="19465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b</a:t>
            </a:r>
            <a:r>
              <a:rPr b="1" lang="en-US" sz="1600" spc="-1" strike="noStrike" baseline="30000">
                <a:solidFill>
                  <a:srgbClr val="333399"/>
                </a:solidFill>
                <a:latin typeface="Arial"/>
              </a:rPr>
              <a:t>-1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16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6544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8920" y="294336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7380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2144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23120" y="3181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527280" y="981000"/>
            <a:ext cx="5616720" cy="2157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354520" y="288936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535200" y="3978360"/>
            <a:ext cx="5608800" cy="2200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061080" y="1872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2720" y="9810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484280"/>
            <a:ext cx="34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ata quality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creased Lumin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crease of the bck level at 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bility of th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88520" y="1052640"/>
            <a:ext cx="1778760" cy="276480"/>
            <a:chOff x="2288520" y="1052640"/>
            <a:chExt cx="1778760" cy="276480"/>
          </a:xfrm>
        </p:grpSpPr>
        <p:sp>
          <p:nvSpPr>
            <p:cNvPr id="162" name=""/>
            <p:cNvSpPr/>
            <p:nvPr/>
          </p:nvSpPr>
          <p:spPr>
            <a:xfrm>
              <a:off x="2288520" y="1052640"/>
              <a:ext cx="99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0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</a:rPr>
                <a:t>32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 cm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</a:rPr>
                <a:t>-2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 s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3640" y="1197000"/>
              <a:ext cx="8636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00" y="3789360"/>
            <a:ext cx="8582040" cy="2751840"/>
            <a:chOff x="406800" y="3789360"/>
            <a:chExt cx="8582040" cy="2751840"/>
          </a:xfrm>
        </p:grpSpPr>
        <p:sp>
          <p:nvSpPr>
            <p:cNvPr id="165" name=""/>
            <p:cNvSpPr/>
            <p:nvPr/>
          </p:nvSpPr>
          <p:spPr>
            <a:xfrm>
              <a:off x="406800" y="4508640"/>
              <a:ext cx="253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bout 1.5 fb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Arial"/>
                </a:rPr>
                <a:t>-1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n tap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4x10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Ka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418840" y="4149720"/>
              <a:ext cx="1575360" cy="276480"/>
              <a:chOff x="2418840" y="4149720"/>
              <a:chExt cx="1575360" cy="276480"/>
            </a:xfrm>
          </p:grpSpPr>
          <p:sp>
            <p:nvSpPr>
              <p:cNvPr id="167" name=""/>
              <p:cNvSpPr/>
              <p:nvPr/>
            </p:nvSpPr>
            <p:spPr>
              <a:xfrm>
                <a:off x="2418840" y="4149720"/>
                <a:ext cx="65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1.5 fb</a:t>
                </a:r>
                <a:r>
                  <a:rPr b="1" lang="en-US" sz="1200" spc="-1" strike="noStrike" baseline="30000">
                    <a:solidFill>
                      <a:srgbClr val="333399"/>
                    </a:solidFill>
                    <a:latin typeface="Arial"/>
                  </a:rPr>
                  <a:t>-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30560" y="4294440"/>
                <a:ext cx="86364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500720" y="3789360"/>
              <a:ext cx="34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Integrated luminosity @KLO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47880" y="5991120"/>
              <a:ext cx="631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20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43560" y="5991120"/>
              <a:ext cx="673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20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41320" y="5991120"/>
              <a:ext cx="631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05600" y="5991120"/>
              <a:ext cx="631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200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98840" y="6234120"/>
              <a:ext cx="174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pdated 30 Apr 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43360" y="594828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mon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3250080" y="49064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pb</a:t>
              </a:r>
              <a:r>
                <a:rPr b="1" lang="en-US" sz="1600" spc="-1" strike="noStrike" baseline="30000">
                  <a:solidFill>
                    <a:srgbClr val="333399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C91-9B5A-47DF-B8D4-C324F449EF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4000" y="692280"/>
            <a:ext cx="882000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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hys. Lett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538 21 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Update with ’01-’02 data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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hys. Lett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535 37 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Updated with ’01-’02 data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9900"/>
                </a:solidFill>
                <a:latin typeface="Arial"/>
              </a:rPr>
              <a:t>K</a:t>
            </a:r>
            <a:r>
              <a:rPr b="1" i="1" lang="en-GB" sz="2000" spc="-1" strike="noStrike" baseline="-25000">
                <a:solidFill>
                  <a:srgbClr val="009900"/>
                </a:solidFill>
                <a:latin typeface="Arial"/>
              </a:rPr>
              <a:t>S</a:t>
            </a:r>
            <a:r>
              <a:rPr b="1" i="1" lang="en-GB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</a:t>
            </a:r>
            <a:r>
              <a:rPr b="1" lang="en-GB" sz="20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</a:t>
            </a:r>
            <a:r>
              <a:rPr b="1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</a:t>
            </a:r>
            <a:r>
              <a:rPr b="1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</a:t>
            </a:r>
            <a:r>
              <a:rPr b="1" lang="en-GB" sz="2000" spc="-1" strike="noStrike" baseline="30000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GB" sz="2000" spc="-1" strike="noStrike" baseline="30000">
                <a:solidFill>
                  <a:srgbClr val="009900"/>
                </a:solidFill>
                <a:latin typeface="Times New Roman"/>
              </a:rPr>
              <a:t>                      </a:t>
            </a:r>
            <a:r>
              <a:rPr b="1" lang="en-GB" sz="2000" spc="-1" strike="noStrike" baseline="30000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GB" sz="2000" spc="-1" strike="noStrike" baseline="30000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Accepted by Phys. Lett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ma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LOE Note 18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lnf.infn.it/klo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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0                      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hys. Let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B56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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en-GB" sz="2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en-GB" sz="20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en-GB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, 3</a:t>
            </a:r>
            <a:r>
              <a:rPr b="1" i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en-GB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GB" sz="2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GB" sz="2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per i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0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lifeti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per i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GB" sz="2000" spc="-1" strike="noStrike" baseline="-25000">
                <a:solidFill>
                  <a:srgbClr val="ff0000"/>
                </a:solidFill>
                <a:latin typeface="Times New Roman"/>
              </a:rPr>
              <a:t>us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rom</a:t>
            </a:r>
            <a:r>
              <a:rPr b="1" i="1" lang="en-GB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1" i="1" lang="en-GB" sz="1800" spc="-1" strike="noStrike">
                <a:solidFill>
                  <a:srgbClr val="ff0000"/>
                </a:solidFill>
                <a:latin typeface="StarSymbol"/>
              </a:rPr>
              <a:t>ℓ</a:t>
            </a:r>
            <a:r>
              <a:rPr b="1" i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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per i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Semileptonic form factors</a:t>
            </a:r>
            <a:r>
              <a:rPr b="1" i="1" lang="en-GB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CP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violation &amp; interference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GB" sz="2000" spc="-1" strike="noStrike" baseline="-25000">
                <a:solidFill>
                  <a:srgbClr val="ff0000"/>
                </a:solidFill>
                <a:latin typeface="Times New Roman"/>
              </a:rPr>
              <a:t>us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rom</a:t>
            </a:r>
            <a:r>
              <a:rPr b="1" i="1" lang="en-GB" sz="20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000" spc="-1" strike="noStrike" baseline="33000">
                <a:solidFill>
                  <a:srgbClr val="ff0000"/>
                </a:solidFill>
                <a:latin typeface="Times New Roman"/>
              </a:rPr>
              <a:t>+/-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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per i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1" i="1" lang="en-GB" sz="2000" spc="-1" strike="noStrike" baseline="-25000">
                <a:solidFill>
                  <a:srgbClr val="333399"/>
                </a:solidFill>
                <a:latin typeface="Times New Roman"/>
              </a:rPr>
              <a:t>us  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from</a:t>
            </a:r>
            <a:r>
              <a:rPr b="1" i="1" lang="en-GB" sz="2000" spc="-1" strike="noStrike" baseline="-25000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GB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i="1" lang="en-GB" sz="2000" spc="-1" strike="noStrike" baseline="33000">
                <a:solidFill>
                  <a:srgbClr val="333399"/>
                </a:solidFill>
                <a:latin typeface="Times New Roman"/>
              </a:rPr>
              <a:t>+/-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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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i="1" lang="en-GB" sz="2000" spc="-1" strike="noStrike" baseline="33000">
                <a:solidFill>
                  <a:srgbClr val="333399"/>
                </a:solidFill>
                <a:latin typeface="Times New Roman"/>
              </a:rPr>
              <a:t>+/-</a:t>
            </a:r>
            <a:r>
              <a:rPr b="1" i="1" lang="en-GB" sz="20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lifetime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hys. Lett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597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139 (2004)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8520" y="11592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LOE results on Kaon phys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23F-097E-4857-888A-7DEA504EAC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bsolute BR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403280" y="1125360"/>
            <a:ext cx="6575400" cy="1152360"/>
            <a:chOff x="1403280" y="1125360"/>
            <a:chExt cx="6575400" cy="1152360"/>
          </a:xfrm>
        </p:grpSpPr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403280" y="1198440"/>
                  <a:ext cx="65754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R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→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ag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ll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N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ag</m:t>
                              </m:r>
                            </m:sub>
                          </m:sSub>
                        </m:den>
                      </m:f>
                      <m:r>
                        <m:t xml:space="preserve">×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t xml:space="preserve">ε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)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ag</m:t>
                              </m:r>
                            </m:sub>
                          </m:sSub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V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×</m:t>
                          </m:r>
                          <m:r>
                            <m:t xml:space="preserve">ε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)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"/>
            <p:cNvSpPr/>
            <p:nvPr/>
          </p:nvSpPr>
          <p:spPr>
            <a:xfrm>
              <a:off x="3203640" y="1125360"/>
              <a:ext cx="1439640" cy="576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1701720"/>
              <a:ext cx="1079640" cy="57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50920" y="2565360"/>
            <a:ext cx="8496360" cy="39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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(i)</a:t>
            </a:r>
            <a:r>
              <a:rPr b="1" lang="en-GB" sz="1800" spc="-1" strike="noStrike" baseline="-33000">
                <a:solidFill>
                  <a:srgbClr val="ff0000"/>
                </a:solidFill>
                <a:latin typeface="Arial"/>
              </a:rPr>
              <a:t>tag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(all)</a:t>
            </a:r>
            <a:r>
              <a:rPr b="1" lang="en-GB" sz="1800" spc="-1" strike="noStrike" baseline="-33000">
                <a:solidFill>
                  <a:srgbClr val="ff0000"/>
                </a:solidFill>
                <a:latin typeface="Arial"/>
              </a:rPr>
              <a:t>ta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~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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Arial"/>
              </a:rPr>
              <a:t>FV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0.26     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dependence stud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Arial"/>
              </a:rPr>
              <a:t>FV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51.7 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0.0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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1" lang="en-GB" sz="1800" spc="-1" strike="noStrike" baseline="-33000">
                <a:solidFill>
                  <a:srgbClr val="000000"/>
                </a:solidFill>
                <a:latin typeface="Times New Roman"/>
              </a:rPr>
              <a:t>rec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50% for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~ 50% for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8000"/>
              </a:lnSpc>
              <a:buClr>
                <a:srgbClr val="000000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40% for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~ 100% f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8000"/>
              </a:lnSpc>
              <a:buClr>
                <a:srgbClr val="000000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aluated via MC simulation, corrected by DATA/MC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96000" y="0"/>
            <a:ext cx="1971360" cy="1095480"/>
            <a:chOff x="396000" y="0"/>
            <a:chExt cx="1971360" cy="1095480"/>
          </a:xfrm>
        </p:grpSpPr>
        <p:sp>
          <p:nvSpPr>
            <p:cNvPr id="186" name=""/>
            <p:cNvSpPr/>
            <p:nvPr/>
          </p:nvSpPr>
          <p:spPr>
            <a:xfrm>
              <a:off x="704520" y="476640"/>
              <a:ext cx="707040" cy="248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348200" y="371520"/>
              <a:ext cx="509760" cy="13104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856520" y="135000"/>
              <a:ext cx="23760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856520" y="340200"/>
              <a:ext cx="39276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81200" y="677880"/>
              <a:ext cx="630720" cy="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1920" y="677880"/>
              <a:ext cx="760680" cy="17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7878800">
              <a:off x="1781640" y="326160"/>
              <a:ext cx="131040" cy="74628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17800" y="25740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41960" y="819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8992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19600" y="34200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000" y="342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93760" y="6134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11920" y="501480"/>
              <a:ext cx="698040" cy="219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763640" y="2781360"/>
            <a:ext cx="6629400" cy="838080"/>
            <a:chOff x="1763640" y="2781360"/>
            <a:chExt cx="6629400" cy="838080"/>
          </a:xfrm>
        </p:grpSpPr>
        <p:sp>
          <p:nvSpPr>
            <p:cNvPr id="201" name=""/>
            <p:cNvSpPr/>
            <p:nvPr/>
          </p:nvSpPr>
          <p:spPr>
            <a:xfrm>
              <a:off x="1819800" y="2781360"/>
              <a:ext cx="62546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GB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GB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GB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e3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         K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          3</a:t>
              </a:r>
              <a:r>
                <a:rPr b="1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tag</a:t>
              </a:r>
              <a:r>
                <a:rPr b="1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/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tag</a:t>
              </a:r>
              <a:r>
                <a:rPr b="1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all             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.980(4)        .972(3)      .977(3)      1.002(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87520" y="2781360"/>
              <a:ext cx="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35440" y="2781360"/>
              <a:ext cx="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78440" y="2781360"/>
              <a:ext cx="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97400" y="2781360"/>
              <a:ext cx="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63640" y="3162240"/>
              <a:ext cx="6629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763640" y="299736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2C0-2BBB-446C-ADA9-CDDD0144A630}" type="slidenum">
              <a:t>8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484360" y="260280"/>
            <a:ext cx="6419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t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6360" y="0"/>
            <a:ext cx="2347560" cy="1427400"/>
            <a:chOff x="396360" y="0"/>
            <a:chExt cx="2347560" cy="1427400"/>
          </a:xfrm>
        </p:grpSpPr>
        <p:sp>
          <p:nvSpPr>
            <p:cNvPr id="210" name=""/>
            <p:cNvSpPr/>
            <p:nvPr/>
          </p:nvSpPr>
          <p:spPr>
            <a:xfrm>
              <a:off x="772920" y="669960"/>
              <a:ext cx="863640" cy="3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558800" y="522360"/>
              <a:ext cx="622440" cy="184320"/>
            </a:xfrm>
            <a:prstGeom prst="line">
              <a:avLst/>
            </a:prstGeom>
            <a:ln w="3816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179440" y="190440"/>
              <a:ext cx="29052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179440" y="477720"/>
              <a:ext cx="479520" cy="4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6520" y="952560"/>
              <a:ext cx="77004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36560" y="952560"/>
              <a:ext cx="92880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7878800">
              <a:off x="2076120" y="527400"/>
              <a:ext cx="184320" cy="911160"/>
            </a:xfrm>
            <a:prstGeom prst="diamond">
              <a:avLst/>
            </a:prstGeom>
            <a:solidFill>
              <a:srgbClr val="244e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72960" y="360360"/>
              <a:ext cx="561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 V</a:t>
              </a:r>
              <a:r>
                <a:rPr b="1" lang="it-IT" sz="1200" spc="-1" strike="noStrike" baseline="-25000">
                  <a:solidFill>
                    <a:srgbClr val="333399"/>
                  </a:solidFill>
                  <a:latin typeface="Arial"/>
                </a:rPr>
                <a:t>us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15200" y="115092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4e2a"/>
                  </a:solidFill>
                  <a:latin typeface="Arial"/>
                </a:rPr>
                <a:t>|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 f(q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r>
                <a:rPr b="1" lang="it-IT" sz="1200" spc="-1" strike="noStrike">
                  <a:solidFill>
                    <a:srgbClr val="244e2a"/>
                  </a:solidFill>
                  <a:latin typeface="Arial"/>
                </a:rPr>
                <a:t>)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244e2a"/>
                  </a:solidFill>
                  <a:latin typeface="Arial"/>
                  <a:ea typeface="Arial"/>
                </a:rPr>
                <a:t>|</a:t>
              </a:r>
              <a:r>
                <a:rPr b="1" lang="en-US" sz="1200" spc="-1" strike="noStrike" baseline="30000">
                  <a:solidFill>
                    <a:srgbClr val="244e2a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97720" y="0"/>
              <a:ext cx="2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it-IT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78160" y="48276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360" y="47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70320" y="8636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6560" y="704880"/>
              <a:ext cx="852480" cy="308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24000" y="1989000"/>
            <a:ext cx="849600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ing       :  clusters from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cay associated to triggering sector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orime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on    :  2 opposite-charge tracks with vertex  in the FV or at lea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s not associated to charged tracks in the 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99"/>
                </a:solidFill>
                <a:uFillTx/>
                <a:latin typeface="Arial"/>
              </a:rPr>
              <a:t>DATA  S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001+2002 data sample: 400 pb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statistics, 50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tagged 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tagged 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used to measure absolute BR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tagged K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used for the measurement of the DATA/MC rat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Blois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D9D-DE31-4C58-8B0C-DA512E2C56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7:55:50Z</dcterms:created>
  <dc:creator>Bloise Caterina</dc:creator>
  <dc:description/>
  <dc:language>en-US</dc:language>
  <cp:lastModifiedBy>Bloise Caterina</cp:lastModifiedBy>
  <dcterms:modified xsi:type="dcterms:W3CDTF">2005-07-19T10:54:38Z</dcterms:modified>
  <cp:revision>426</cp:revision>
  <dc:subject/>
  <dc:title>Diapositiva 1</dc:title>
</cp:coreProperties>
</file>