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7.wmf" ContentType="image/x-wmf"/>
  <Override PartName="/ppt/media/image33.wmf" ContentType="image/x-wmf"/>
  <Override PartName="/ppt/media/image23.png" ContentType="image/png"/>
  <Override PartName="/ppt/media/image43.wmf" ContentType="image/x-wmf"/>
  <Override PartName="/ppt/media/image34.wmf" ContentType="image/x-wmf"/>
  <Override PartName="/ppt/media/image14.png" ContentType="image/png"/>
  <Override PartName="/ppt/media/image36.wmf" ContentType="image/x-wmf"/>
  <Override PartName="/ppt/media/image37.png" ContentType="image/png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2.png" ContentType="image/png"/>
  <Override PartName="/ppt/media/image13.jpeg" ContentType="image/jpeg"/>
  <Override PartName="/ppt/media/image44.png" ContentType="image/png"/>
  <Override PartName="/ppt/media/image31.wmf" ContentType="image/x-wmf"/>
  <Override PartName="/ppt/media/image11.png" ContentType="image/png"/>
  <Override PartName="/ppt/media/image45.png" ContentType="image/png"/>
  <Override PartName="/ppt/media/image10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D94-7066-4977-A3DF-A09FCEC6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F66-E5D0-4472-9A12-649145F7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77E-BD80-4845-8D9C-E25138AD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3E4-6857-49BA-91E0-9EB9F0BC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8450-A5DC-4942-9DA5-CECCB6D1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B81-0A53-49A3-9045-BC7C0B5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31D-11E7-405B-85AE-CF04DAB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0AD9-BE10-4AA9-8F29-F3FF5F1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F67-8CEB-47D5-9C17-BE713E7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81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7B7-F234-442B-9740-12DDC710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AD2E-7C93-45ED-BF85-51B6A10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2B7-B79E-40B7-B911-7FD106F3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7F8C-33B5-42AC-8B01-CDFF147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7FB6-D7E2-40E4-84A6-1FA411F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6DB-661F-4274-B272-A7B0129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37B0-9607-46BA-AA8E-B5BED599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AC9-ECC3-4E51-9767-BF2211A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510-7525-4965-912C-4F14DE9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21E-606D-4AD1-A6C0-3C28E9A5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A12-DB30-458E-BDCB-6DF90221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81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128-2279-4DAD-BE1F-A8D10AF0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D58-03E7-4794-9A44-1433387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D85-02FA-4FBF-A71F-78A8091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63E-A638-4F8B-8371-0FFD4D4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4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3244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883-BFDE-4B62-A8BA-48D6557A0B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D14710_" descr=""/>
          <p:cNvPicPr/>
          <p:nvPr/>
        </p:nvPicPr>
        <p:blipFill>
          <a:blip r:embed="rId3"/>
          <a:stretch/>
        </p:blipFill>
        <p:spPr>
          <a:xfrm>
            <a:off x="380880" y="1074600"/>
            <a:ext cx="8610840" cy="144720"/>
          </a:xfrm>
          <a:prstGeom prst="rect">
            <a:avLst/>
          </a:prstGeom>
          <a:ln w="0">
            <a:noFill/>
          </a:ln>
        </p:spPr>
      </p:pic>
      <p:pic>
        <p:nvPicPr>
          <p:cNvPr id="6" name="kloe_logo" descr=""/>
          <p:cNvPicPr/>
          <p:nvPr/>
        </p:nvPicPr>
        <p:blipFill>
          <a:blip r:embed="rId4"/>
          <a:stretch/>
        </p:blipFill>
        <p:spPr>
          <a:xfrm>
            <a:off x="7543800" y="763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0BA-DC79-467F-8D2C-8487431D07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746748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The Hadronic Cross Section Measurement at KLO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Graziano Venanzoni – INFN/LNF Frascati</a:t>
            </a:r>
            <a:br>
              <a:rPr sz="2400"/>
            </a:b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n behalf of the KLOE collaboration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967120" y="6014880"/>
            <a:ext cx="37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6600"/>
                </a:solidFill>
                <a:latin typeface="Tahoma"/>
              </a:rPr>
              <a:t>ICHEP’04 Beijing -17 August 2004</a:t>
            </a:r>
            <a:r>
              <a:rPr b="0" lang="it-IT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" name="kloe_logo" descr=""/>
          <p:cNvPicPr/>
          <p:nvPr/>
        </p:nvPicPr>
        <p:blipFill>
          <a:blip r:embed="rId1"/>
          <a:stretch/>
        </p:blipFill>
        <p:spPr>
          <a:xfrm>
            <a:off x="2819520" y="2317680"/>
            <a:ext cx="3276360" cy="2102040"/>
          </a:xfrm>
          <a:prstGeom prst="rect">
            <a:avLst/>
          </a:prstGeom>
          <a:ln w="0">
            <a:noFill/>
          </a:ln>
        </p:spPr>
      </p:pic>
      <p:pic>
        <p:nvPicPr>
          <p:cNvPr id="87" name="ppg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6765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Getting the 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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 cross section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L=141.4pb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-1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of data collected in 200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1.55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10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6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evts 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  <a:ea typeface="Tahoma"/>
              </a:rPr>
              <a:t>~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11000 evts/pb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0.35&lt;s</a:t>
            </a:r>
            <a:r>
              <a:rPr b="0" lang="it-IT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&lt;0.95 GeV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(592-975 MeV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Bin width = 0.01 GeV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  <a:ea typeface="Tahoma"/>
              </a:rPr>
              <a:t>~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7 MeV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00d6"/>
                </a:solidFill>
                <a:latin typeface="Tahoma"/>
              </a:rPr>
              <a:t>To get the cross section must evaluate background, efficiencies, acceptance luminos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rcRect l="10291" t="19137" r="25002" b="21708"/>
          <a:stretch/>
        </p:blipFill>
        <p:spPr>
          <a:xfrm>
            <a:off x="5713560" y="219384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456960" y="16686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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05880" y="5562720"/>
            <a:ext cx="116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s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 (GeV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28080" y="237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587e9"/>
                </a:solidFill>
                <a:latin typeface="Symbol"/>
                <a:ea typeface="Symbol"/>
              </a:rPr>
              <a:t>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28080" y="3560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587e9"/>
                </a:solidFill>
                <a:latin typeface="Symbol"/>
                <a:ea typeface="Symbol"/>
              </a:rPr>
              <a:t>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8080" y="4125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587e9"/>
                </a:solidFill>
                <a:latin typeface="Symbol"/>
                <a:ea typeface="Symbol"/>
              </a:rPr>
              <a:t>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28080" y="2951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587e9"/>
                </a:solidFill>
                <a:latin typeface="Symbol"/>
                <a:ea typeface="Symbol"/>
              </a:rPr>
              <a:t>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918240" y="3265920"/>
            <a:ext cx="27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number of events (x10</a:t>
            </a:r>
            <a:r>
              <a:rPr b="0" lang="it-IT" sz="18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r>
              <a:rPr b="0" lang="it-IT" sz="1800" spc="-1" strike="noStrike">
                <a:solidFill>
                  <a:srgbClr val="ff00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" y="4692600"/>
            <a:ext cx="5227560" cy="1861200"/>
            <a:chOff x="334800" y="4692600"/>
            <a:chExt cx="5227560" cy="186120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334800" y="5287680"/>
                  <a:ext cx="435636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d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ππγ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bkg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Δs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lec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cep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 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 flipV="1">
              <a:off x="2155680" y="4978080"/>
              <a:ext cx="397080" cy="328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421000" y="5983200"/>
              <a:ext cx="490320" cy="246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6960" y="6005160"/>
              <a:ext cx="347760" cy="260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686480" y="5057640"/>
              <a:ext cx="396720" cy="755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3160" y="4692600"/>
              <a:ext cx="120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 Narrow"/>
                </a:rPr>
                <a:t>Background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040" y="4806720"/>
              <a:ext cx="7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 Narrow"/>
                </a:rPr>
                <a:t>Signal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2400" y="5079600"/>
              <a:ext cx="107640" cy="249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77640" y="6216480"/>
              <a:ext cx="190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 Narrow"/>
                </a:rPr>
                <a:t>Selections-Efficiency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93160" y="4692600"/>
              <a:ext cx="106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 Narrow"/>
                </a:rPr>
                <a:t>Luminosit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6640" y="615924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 Narrow"/>
                </a:rPr>
                <a:t>Acceptan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095880" y="5257800"/>
            <a:ext cx="1143000" cy="5335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flipH="1" rot="16200000">
            <a:off x="6757200" y="5662800"/>
            <a:ext cx="557640" cy="813600"/>
          </a:xfrm>
          <a:prstGeom prst="bentConnector2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7315200" y="6032520"/>
            <a:ext cx="1828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Our cuts select events with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Symbol"/>
                <a:ea typeface="Symbol"/>
              </a:rPr>
              <a:t>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GB" sz="16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&gt;550 MeV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Background rejection I - e/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 separation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447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reduce Bhabha contamination, a </a:t>
            </a:r>
            <a:r>
              <a:rPr b="0" lang="en-US" sz="2000" spc="-1" strike="noStrike">
                <a:solidFill>
                  <a:srgbClr val="6f89f7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6f89f7"/>
                </a:solidFill>
                <a:latin typeface="Tahoma"/>
              </a:rPr>
              <a:t>-e separati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performed using a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article ID estimat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ased on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219560"/>
            <a:ext cx="38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he event is selected if at least one of the charged tracks is identified to be a pio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657520"/>
            <a:ext cx="399096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F of charged clusters in EM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80880" indent="-19044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hape and energy deposition of    the clust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935600" y="1628640"/>
            <a:ext cx="4202280" cy="3682080"/>
            <a:chOff x="4935600" y="1628640"/>
            <a:chExt cx="4202280" cy="3682080"/>
          </a:xfrm>
        </p:grpSpPr>
        <p:sp>
          <p:nvSpPr>
            <p:cNvPr id="230" name=""/>
            <p:cNvSpPr/>
            <p:nvPr/>
          </p:nvSpPr>
          <p:spPr>
            <a:xfrm>
              <a:off x="8023680" y="4905000"/>
              <a:ext cx="6591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40458c"/>
                  </a:solidFill>
                  <a:latin typeface="Times New Roman"/>
                </a:rPr>
                <a:t>m</a:t>
              </a:r>
              <a:r>
                <a:rPr b="1" lang="de-DE" sz="1800" spc="-1" strike="noStrike" baseline="-25000">
                  <a:solidFill>
                    <a:srgbClr val="40458c"/>
                  </a:solidFill>
                  <a:latin typeface="Times New Roman"/>
                </a:rPr>
                <a:t>TR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4935600" y="1628640"/>
              <a:ext cx="3521160" cy="33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296040" y="3489120"/>
              <a:ext cx="81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6320" y="1650600"/>
              <a:ext cx="7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830560" y="2755800"/>
              <a:ext cx="530280" cy="480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6520" y="2230200"/>
              <a:ext cx="19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before cutting on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particle ID estimat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43480" y="3624120"/>
              <a:ext cx="19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after cutting on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particle ID estimat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778800" y="4173120"/>
              <a:ext cx="483840" cy="40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488772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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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84680" y="438588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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83280" y="4611600"/>
              <a:ext cx="442800" cy="341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67680" y="4687560"/>
              <a:ext cx="1208160" cy="2224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8840" y="482904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80160" y="4749480"/>
              <a:ext cx="0" cy="114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80160" y="1690560"/>
              <a:ext cx="16369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" y="5432400"/>
            <a:ext cx="8153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Times New Roman"/>
              </a:rPr>
              <a:t>TRK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is the mass of the charged  particle, obtained by the kinematics of 2 identical particles +1 </a:t>
            </a:r>
            <a:r>
              <a:rPr b="0" lang="de-DE" sz="18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, using reconstructed momenta with the DC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943600"/>
            <a:ext cx="457200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(p</a:t>
            </a:r>
            <a:r>
              <a:rPr b="0" lang="it-IT" sz="24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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it-IT" sz="24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it-IT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=p</a:t>
            </a:r>
            <a:r>
              <a:rPr b="0" lang="it-IT" sz="24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=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with: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p</a:t>
            </a:r>
            <a:r>
              <a:rPr b="1" lang="it-IT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=(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  <a:ea typeface="Tahoma"/>
              </a:rPr>
              <a:t> 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</a:t>
            </a:r>
            <a:r>
              <a:rPr b="1" lang="it-IT" sz="2000" spc="-1" strike="noStrike">
                <a:solidFill>
                  <a:srgbClr val="660066"/>
                </a:solidFill>
                <a:latin typeface="Tahoma"/>
              </a:rPr>
              <a:t>p</a:t>
            </a:r>
            <a:r>
              <a:rPr b="1" lang="it-IT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+</a:t>
            </a:r>
            <a:r>
              <a:rPr b="0" i="1" lang="it-IT" sz="20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i="1" lang="it-IT" sz="2000" spc="-1" strike="noStrike" baseline="-25000">
                <a:solidFill>
                  <a:srgbClr val="660066"/>
                </a:solidFill>
                <a:latin typeface="Tahoma"/>
              </a:rPr>
              <a:t>TRK</a:t>
            </a:r>
            <a:r>
              <a:rPr b="0" lang="it-IT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1" lang="it-IT" sz="2000" spc="-1" strike="noStrike">
                <a:solidFill>
                  <a:srgbClr val="660066"/>
                </a:solidFill>
                <a:latin typeface="Tahoma"/>
              </a:rPr>
              <a:t>p</a:t>
            </a:r>
            <a:r>
              <a:rPr b="1" lang="it-IT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60199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07280" y="6232680"/>
            <a:ext cx="433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2 particles with same mass (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Times New Roman"/>
              </a:rPr>
              <a:t>trk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) and 1 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454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Kinematic separation between signal and background in the 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(s</a:t>
            </a:r>
            <a:r>
              <a:rPr b="0" i="1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,m</a:t>
            </a:r>
            <a:r>
              <a:rPr b="0" i="1" lang="it-IT" sz="2000" spc="-1" strike="noStrike" baseline="-25000">
                <a:solidFill>
                  <a:srgbClr val="ff0066"/>
                </a:solidFill>
                <a:latin typeface="Tahoma"/>
              </a:rPr>
              <a:t>TRK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 plane</a:t>
            </a: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is cut effects multiphoton processes (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e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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fficiency evaluated using PHOKAHARA M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Background rejection II - closing the kinematics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>
            <a:lum contrast="-20000"/>
          </a:blip>
          <a:srcRect l="5168" t="21755" r="11951" b="21173"/>
          <a:stretch/>
        </p:blipFill>
        <p:spPr>
          <a:xfrm>
            <a:off x="4573440" y="1932120"/>
            <a:ext cx="4430880" cy="4316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952880" y="1981080"/>
            <a:ext cx="2959200" cy="2070360"/>
          </a:xfrm>
          <a:custGeom>
            <a:avLst/>
            <a:gdLst/>
            <a:ahLst/>
            <a:rect l="l" t="t" r="r" b="b"/>
            <a:pathLst>
              <a:path w="1768" h="1256">
                <a:moveTo>
                  <a:pt x="0" y="1256"/>
                </a:moveTo>
                <a:cubicBezTo>
                  <a:pt x="412" y="1112"/>
                  <a:pt x="824" y="968"/>
                  <a:pt x="1104" y="776"/>
                </a:cubicBezTo>
                <a:cubicBezTo>
                  <a:pt x="1384" y="584"/>
                  <a:pt x="1592" y="208"/>
                  <a:pt x="1680" y="104"/>
                </a:cubicBezTo>
                <a:cubicBezTo>
                  <a:pt x="1768" y="0"/>
                  <a:pt x="1700" y="76"/>
                  <a:pt x="1632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76920"/>
            <a:ext cx="4038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20574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4240" y="2422440"/>
            <a:ext cx="810720" cy="398880"/>
          </a:xfrm>
          <a:prstGeom prst="rect">
            <a:avLst/>
          </a:prstGeom>
          <a:solidFill>
            <a:srgbClr val="cccd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41200" y="5089680"/>
            <a:ext cx="1789200" cy="398880"/>
          </a:xfrm>
          <a:prstGeom prst="rect">
            <a:avLst/>
          </a:prstGeom>
          <a:solidFill>
            <a:srgbClr val="cccd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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79720" y="3479760"/>
            <a:ext cx="833040" cy="703800"/>
          </a:xfrm>
          <a:prstGeom prst="rect">
            <a:avLst/>
          </a:prstGeom>
          <a:solidFill>
            <a:srgbClr val="cccd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reg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68800" y="6232680"/>
            <a:ext cx="118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(GeV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9920" y="1295280"/>
            <a:ext cx="146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TRK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(MeV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76520"/>
            <a:ext cx="0" cy="304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122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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9400" y="2743200"/>
            <a:ext cx="1333440" cy="398880"/>
          </a:xfrm>
          <a:prstGeom prst="rect">
            <a:avLst/>
          </a:prstGeom>
          <a:solidFill>
            <a:srgbClr val="cccd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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5089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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015-0A18-45D2-9B55-A5F882CBE5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Background rejection III: Estimate of residual background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285920"/>
            <a:ext cx="3124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Residual contamination from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-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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, and </a:t>
            </a:r>
            <a:r>
              <a:rPr b="1" lang="de-DE" sz="2000" spc="-1" strike="noStrike">
                <a:solidFill>
                  <a:srgbClr val="6f89f7"/>
                </a:solidFill>
                <a:latin typeface="Tahoma"/>
              </a:rPr>
              <a:t>Bhabha‘s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is evaluated by fitting the shape of signal and background in the trackmass distribution for different slices of s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1858" t="16926" r="8844" b="19931"/>
          <a:stretch/>
        </p:blipFill>
        <p:spPr>
          <a:xfrm>
            <a:off x="4495680" y="1371600"/>
            <a:ext cx="4019760" cy="473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035840" y="1488960"/>
            <a:ext cx="718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886200"/>
            <a:ext cx="194472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40458c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40458c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40458c"/>
                </a:solidFill>
                <a:latin typeface="Times New Roman"/>
              </a:rPr>
              <a:t> and </a:t>
            </a:r>
            <a:r>
              <a:rPr b="1" lang="de-DE" sz="1500" spc="-1" strike="noStrike">
                <a:solidFill>
                  <a:srgbClr val="40458c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91240" y="3429000"/>
            <a:ext cx="37432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lang="it-IT" sz="15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1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[0.32,0.37] GeV</a:t>
            </a:r>
            <a:r>
              <a:rPr b="1" lang="it-IT" sz="1500" spc="-1" strike="noStrike" baseline="30000">
                <a:solidFill>
                  <a:srgbClr val="40458c"/>
                </a:solidFill>
                <a:latin typeface="Times New Roman"/>
              </a:rPr>
              <a:t>2            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 = 87.0/88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7640" t="14959" r="2797" b="20940"/>
          <a:stretch/>
        </p:blipFill>
        <p:spPr>
          <a:xfrm>
            <a:off x="762120" y="3581280"/>
            <a:ext cx="3276360" cy="2408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5454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otal background estim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9360" y="4114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served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ectru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601992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The systematic error on the background subtraction is &lt;0.3% above 0.55 GeV</a:t>
            </a:r>
            <a:r>
              <a:rPr b="0" lang="en-US" sz="1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590920"/>
            <a:ext cx="380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819520"/>
            <a:ext cx="53316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F97-8959-483A-848B-C52E84D4B9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Luminosity with Large angle Bhabha’s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39960" y="1889280"/>
                <a:ext cx="179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a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775080" y="1474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arge angle Bhabha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744560"/>
            <a:ext cx="1575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55° &lt;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&lt; 125°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acollinearity &lt; 9°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  400 MeV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9280" y="3502080"/>
            <a:ext cx="3178440" cy="2990880"/>
            <a:chOff x="179280" y="3502080"/>
            <a:chExt cx="3178440" cy="29908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rcRect l="34376" t="28124" r="26564" b="25004"/>
            <a:stretch/>
          </p:blipFill>
          <p:spPr>
            <a:xfrm>
              <a:off x="179280" y="3502080"/>
              <a:ext cx="317844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81840" y="5437800"/>
              <a:ext cx="3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40458c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96160" y="392040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40458c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83040" y="6087960"/>
              <a:ext cx="345240" cy="28872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25200" y="6015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86200" y="1266840"/>
            <a:ext cx="5181480" cy="2669040"/>
            <a:chOff x="3886200" y="1266840"/>
            <a:chExt cx="5181480" cy="266904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886200" y="1266840"/>
              <a:ext cx="5181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335840" y="1342800"/>
              <a:ext cx="198504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ff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66ff33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Babayaga (MC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(Pavia theory group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33cc33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Bhagenf (MC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33cc33"/>
                  </a:solidFill>
                  <a:latin typeface="Times New Roman"/>
                </a:rPr>
                <a:t>(Berends adapted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7200" y="362880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</a:rPr>
                <a:t>track momentum </a:t>
              </a:r>
              <a:r>
                <a:rPr b="1" lang="it-IT" sz="1400" spc="-1" strike="noStrike">
                  <a:solidFill>
                    <a:srgbClr val="40458c"/>
                  </a:solidFill>
                  <a:latin typeface="Times New Roman"/>
                </a:rPr>
                <a:t>(MeV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96200" y="2638440"/>
            <a:ext cx="32810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imes New Roman"/>
              </a:rPr>
              <a:t>BABAYAGA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8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BHAGENF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5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067280" y="3862440"/>
            <a:ext cx="4957560" cy="2266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861320" y="5734080"/>
            <a:ext cx="74304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7680" y="6033960"/>
            <a:ext cx="339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heoretical Systematic Error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= 0.5%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otal Error = 0.6%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0720" y="4368960"/>
            <a:ext cx="62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of   </a:t>
            </a:r>
            <a:r>
              <a:rPr b="0" lang="it-IT" sz="1400" spc="-1" strike="noStrike">
                <a:solidFill>
                  <a:srgbClr val="40458c"/>
                </a:solidFill>
                <a:latin typeface="Symbol"/>
                <a:ea typeface="Symbol"/>
              </a:rPr>
              <a:t>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27560" y="1081080"/>
            <a:ext cx="222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280-B7CD-43A8-B677-61F4CA490C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4226040" y="1295280"/>
            <a:ext cx="4841280" cy="5056920"/>
            <a:chOff x="4226040" y="1295280"/>
            <a:chExt cx="4841280" cy="505692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rcRect l="2510" t="9109" r="9174" b="5579"/>
            <a:stretch/>
          </p:blipFill>
          <p:spPr>
            <a:xfrm>
              <a:off x="4226040" y="1295280"/>
              <a:ext cx="4841280" cy="47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780440" y="1479240"/>
              <a:ext cx="318600" cy="27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21000">
              <a:off x="4122360" y="2511720"/>
              <a:ext cx="17780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r>
                <a:rPr b="1" lang="it-IT" sz="17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</a:t>
              </a:r>
              <a:r>
                <a:rPr b="1" lang="it-IT" sz="1700" spc="-1" strike="noStrike">
                  <a:solidFill>
                    <a:srgbClr val="40458c"/>
                  </a:solidFill>
                  <a:latin typeface="Times New Roman"/>
                </a:rPr>
                <a:t>/ds</a:t>
              </a:r>
              <a:r>
                <a:rPr b="1" lang="it-IT" sz="1700" spc="-1" strike="noStrike" baseline="-25000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1" lang="it-IT" sz="1700" spc="-1" strike="noStrike" baseline="30000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it-IT" sz="1700" spc="-1" strike="noStrike">
                  <a:solidFill>
                    <a:srgbClr val="40458c"/>
                  </a:solidFill>
                  <a:latin typeface="Times New Roman"/>
                </a:rPr>
                <a:t> (nb/GeV</a:t>
              </a:r>
              <a:r>
                <a:rPr b="1" lang="it-IT" sz="1700" spc="-1" strike="noStrike" baseline="30000">
                  <a:solidFill>
                    <a:srgbClr val="40458c"/>
                  </a:solidFill>
                  <a:latin typeface="Times New Roman"/>
                </a:rPr>
                <a:t>2</a:t>
              </a:r>
              <a:r>
                <a:rPr b="1" lang="it-IT" sz="1700" spc="-1" strike="noStrike">
                  <a:solidFill>
                    <a:srgbClr val="40458c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27840" y="5981400"/>
              <a:ext cx="989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40458c"/>
                  </a:solidFill>
                  <a:latin typeface="Times New Roman"/>
                </a:rPr>
                <a:t>s</a:t>
              </a:r>
              <a:r>
                <a:rPr b="1" lang="it-IT" sz="1600" spc="-1" strike="noStrike" baseline="-25000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1" lang="it-IT" sz="1600" spc="-1" strike="noStrike" baseline="30000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40458c"/>
                  </a:solidFill>
                  <a:latin typeface="Times New Roman"/>
                </a:rPr>
                <a:t> (GeV</a:t>
              </a:r>
              <a:r>
                <a:rPr b="1" lang="it-IT" sz="1600" spc="-1" strike="noStrike" baseline="30000">
                  <a:solidFill>
                    <a:srgbClr val="40458c"/>
                  </a:solidFill>
                  <a:latin typeface="Times New Roman"/>
                </a:rPr>
                <a:t>2</a:t>
              </a:r>
              <a:r>
                <a:rPr b="1" lang="it-IT" sz="1600" spc="-1" strike="noStrike">
                  <a:solidFill>
                    <a:srgbClr val="40458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21480" y="4742640"/>
              <a:ext cx="190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</a:t>
              </a:r>
              <a:r>
                <a:rPr b="0" lang="de-DE" sz="2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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Interferen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800" y="2925720"/>
              <a:ext cx="0" cy="183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80360" y="3687840"/>
            <a:ext cx="23475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ground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40458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40458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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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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40458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</a:t>
            </a:r>
            <a:r>
              <a:rPr b="0" lang="en-GB" sz="1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Symbol"/>
                <a:ea typeface="Symbol"/>
              </a:rPr>
              <a:t>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Symbol"/>
                <a:ea typeface="Symbol"/>
              </a:rPr>
              <a:t>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360" y="1195560"/>
            <a:ext cx="281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Efficienci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- Trigger &amp; Cosmic ve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racking, Verte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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- separ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econstruction filt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rack mass cu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Unfolding resolu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ccepta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520" y="4989600"/>
            <a:ext cx="22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uminosity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habha’s at larg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ngles</a:t>
            </a: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1446120"/>
            <a:ext cx="0" cy="200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88600" y="32367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0.9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3433680"/>
            <a:ext cx="142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80680" y="45561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3944880"/>
            <a:ext cx="801720" cy="814320"/>
            <a:chOff x="2438280" y="3944880"/>
            <a:chExt cx="801720" cy="814320"/>
          </a:xfrm>
        </p:grpSpPr>
        <p:sp>
          <p:nvSpPr>
            <p:cNvPr id="311" name=""/>
            <p:cNvSpPr/>
            <p:nvPr/>
          </p:nvSpPr>
          <p:spPr>
            <a:xfrm>
              <a:off x="2438280" y="3954600"/>
              <a:ext cx="655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97080" y="3944880"/>
              <a:ext cx="0" cy="81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97080" y="4753080"/>
              <a:ext cx="142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476440" y="5181480"/>
            <a:ext cx="1860840" cy="1022400"/>
            <a:chOff x="2476440" y="5181480"/>
            <a:chExt cx="1860840" cy="1022400"/>
          </a:xfrm>
        </p:grpSpPr>
        <p:sp>
          <p:nvSpPr>
            <p:cNvPr id="315" name=""/>
            <p:cNvSpPr/>
            <p:nvPr/>
          </p:nvSpPr>
          <p:spPr>
            <a:xfrm>
              <a:off x="2476440" y="5190840"/>
              <a:ext cx="655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35240" y="5181480"/>
              <a:ext cx="0" cy="81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64840" y="5416560"/>
              <a:ext cx="1072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ff"/>
                  </a:solidFill>
                  <a:latin typeface="Times-Italic"/>
                </a:rPr>
                <a:t>0.3%</a:t>
              </a:r>
              <a:r>
                <a:rPr b="0" lang="de-DE" sz="2000" spc="-1" strike="noStrike" baseline="-25000">
                  <a:solidFill>
                    <a:srgbClr val="0000ff"/>
                  </a:solidFill>
                  <a:latin typeface="Times-Italic"/>
                </a:rPr>
                <a:t>ex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-Italic"/>
                </a:rPr>
                <a:t>0.5%</a:t>
              </a:r>
              <a:r>
                <a:rPr b="0" lang="de-DE" sz="2000" spc="-1" strike="noStrike" baseline="-25000">
                  <a:solidFill>
                    <a:srgbClr val="ff0000"/>
                  </a:solidFill>
                  <a:latin typeface="Times-Italic"/>
                </a:rPr>
                <a:t>the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35240" y="5989320"/>
              <a:ext cx="142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300400" y="1455840"/>
            <a:ext cx="823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7760" y="288612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imes-Italic"/>
              </a:rPr>
              <a:t>Errors</a:t>
            </a: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-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The cross section d</a:t>
            </a:r>
            <a:r>
              <a:rPr b="0" lang="en-US" sz="3200" spc="-1" strike="noStrike">
                <a:solidFill>
                  <a:srgbClr val="1d15b7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(</a:t>
            </a:r>
            <a:r>
              <a:rPr b="0" lang="de-DE" sz="3200" spc="-1" strike="noStrike">
                <a:solidFill>
                  <a:srgbClr val="1d15b7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1d15b7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1d15b7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1d15b7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</a:t>
            </a:r>
            <a:r>
              <a:rPr b="0" lang="de-DE" sz="3200" spc="-1" strike="noStrike" baseline="30000">
                <a:solidFill>
                  <a:srgbClr val="1d15b7"/>
                </a:solidFill>
                <a:latin typeface="Symbol"/>
                <a:ea typeface="Symbol"/>
              </a:rPr>
              <a:t>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lang="de-DE" sz="3200" spc="-1" strike="noStrike" baseline="30000">
                <a:solidFill>
                  <a:srgbClr val="1d15b7"/>
                </a:solidFill>
                <a:latin typeface="Symbol"/>
                <a:ea typeface="Symbol"/>
              </a:rPr>
              <a:t>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</a:t>
            </a:r>
            <a:r>
              <a:rPr b="0" lang="de-DE" sz="3200" spc="-1" strike="noStrike">
                <a:solidFill>
                  <a:srgbClr val="1d15b7"/>
                </a:solidFill>
                <a:latin typeface="Tahoma"/>
              </a:rPr>
              <a:t>)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</a:t>
            </a:r>
            <a:r>
              <a:rPr b="0" lang="de-DE" sz="3200" spc="-1" strike="noStrike">
                <a:solidFill>
                  <a:srgbClr val="1d15b7"/>
                </a:solidFill>
                <a:latin typeface="Tahoma"/>
              </a:rPr>
              <a:t>ds</a:t>
            </a:r>
            <a:r>
              <a:rPr b="0" lang="de-DE" sz="3200" spc="-1" strike="noStrike" baseline="-25000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9F2-9231-4CFC-A2F1-75FB16309FC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15b7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1d15b7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1d15b7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1d15b7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</a:t>
            </a:r>
            <a:r>
              <a:rPr b="0" lang="de-DE" sz="3200" spc="-1" strike="noStrike" baseline="30000">
                <a:solidFill>
                  <a:srgbClr val="1d15b7"/>
                </a:solidFill>
                <a:latin typeface="Symbol"/>
                <a:ea typeface="Symbol"/>
              </a:rPr>
              <a:t></a:t>
            </a:r>
            <a:r>
              <a:rPr b="0" lang="de-DE" sz="3200" spc="-1" strike="noStrike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lang="de-DE" sz="3200" spc="-1" strike="noStrike" baseline="30000">
                <a:solidFill>
                  <a:srgbClr val="1d15b7"/>
                </a:solidFill>
                <a:latin typeface="Symbol"/>
                <a:ea typeface="Symbol"/>
              </a:rPr>
              <a:t>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cross section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" y="135396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diator-Function (ISR)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940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2760" y="1859040"/>
            <a:ext cx="40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ISR-Process calculated at NLO-lev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Generator </a:t>
            </a:r>
            <a:r>
              <a:rPr b="1" lang="de-DE" sz="1800" spc="-1" strike="noStrike">
                <a:solidFill>
                  <a:srgbClr val="ff0000"/>
                </a:solidFill>
                <a:latin typeface="Times-Italic"/>
              </a:rPr>
              <a:t>PHOKHARA</a:t>
            </a:r>
            <a:r>
              <a:rPr b="1" lang="de-DE" sz="1800" spc="-1" strike="noStrike">
                <a:solidFill>
                  <a:srgbClr val="40458c"/>
                </a:solidFill>
                <a:latin typeface="Times-Italic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imes-Italic"/>
              </a:rPr>
              <a:t>(Kühn et.al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Comparison with</a:t>
            </a: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imes-Italic"/>
              </a:rPr>
              <a:t>KKMC</a:t>
            </a:r>
            <a:r>
              <a:rPr b="1" lang="de-DE" sz="1800" spc="-1" strike="noStrike">
                <a:solidFill>
                  <a:srgbClr val="40458c"/>
                </a:solidFill>
                <a:latin typeface="Times-Italic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imes-Italic"/>
              </a:rPr>
              <a:t>(Jadach et.al.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Precision: </a:t>
            </a:r>
            <a:r>
              <a:rPr b="1" lang="de-DE" sz="1800" spc="-1" strike="noStrike">
                <a:solidFill>
                  <a:srgbClr val="ff0000"/>
                </a:solidFill>
                <a:latin typeface="Times-Italic"/>
              </a:rPr>
              <a:t>0.5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" y="31989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diative Correction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00" y="3649680"/>
            <a:ext cx="50544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i)  Bare Cross Section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divide by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Vacuum Polariz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ii)  FSR - Corre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Cross section </a:t>
            </a:r>
            <a:r>
              <a:rPr b="0" lang="de-DE" sz="18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must be incl. for FS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17684" t="40760" r="18028" b="38816"/>
          <a:stretch/>
        </p:blipFill>
        <p:spPr>
          <a:xfrm>
            <a:off x="781200" y="4986360"/>
            <a:ext cx="3584520" cy="8064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932360" y="1467000"/>
            <a:ext cx="3816360" cy="4198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642360" y="152100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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080" y="5734080"/>
            <a:ext cx="18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Vacuum Polariza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0240" y="573552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Cross Se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48720" y="5410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5257800"/>
            <a:ext cx="171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5b7"/>
                </a:solidFill>
                <a:latin typeface="Times-Italic"/>
              </a:rPr>
              <a:t>s</a:t>
            </a:r>
            <a:r>
              <a:rPr b="0" lang="en-US" sz="2800" spc="-1" strike="noStrike" baseline="-25000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1d15b7"/>
                </a:solidFill>
                <a:latin typeface="Times-Italic"/>
              </a:rPr>
              <a:t> (GeV</a:t>
            </a:r>
            <a:r>
              <a:rPr b="0" lang="en-US" sz="2800" spc="-1" strike="noStrike" baseline="30000">
                <a:solidFill>
                  <a:srgbClr val="1d15b7"/>
                </a:solidFill>
                <a:latin typeface="Times-Italic"/>
              </a:rPr>
              <a:t>2</a:t>
            </a:r>
            <a:r>
              <a:rPr b="0" lang="en-US" sz="2800" spc="-1" strike="noStrike">
                <a:solidFill>
                  <a:srgbClr val="1d15b7"/>
                </a:solidFill>
                <a:latin typeface="Times-Italic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826-332B-4333-9019-D38D750899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5680" y="24912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FSR Correc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6" name="plot1fsr_eps_w" descr=""/>
          <p:cNvPicPr/>
          <p:nvPr/>
        </p:nvPicPr>
        <p:blipFill>
          <a:blip r:embed="rId1"/>
          <a:stretch/>
        </p:blipFill>
        <p:spPr>
          <a:xfrm>
            <a:off x="376200" y="1577880"/>
            <a:ext cx="4059360" cy="17035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348120" y="3505320"/>
            <a:ext cx="403488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Times New Roman"/>
              </a:rPr>
              <a:t>2 approaches for FSR corrections</a:t>
            </a:r>
            <a:r>
              <a:rPr b="1" lang="de-DE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40458c"/>
                </a:solidFill>
                <a:latin typeface="Times New Roman"/>
              </a:rPr>
              <a:t>Approach 1: “exclusive NLO-FSR“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- Correcting measured </a:t>
            </a:r>
            <a:r>
              <a:rPr b="0" lang="de-DE" sz="16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r>
              <a:rPr b="0" lang="de-DE" sz="16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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for FS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- Evaluate efficiencies for ISR onl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- Add FSR-contrib. to</a:t>
            </a:r>
            <a:r>
              <a:rPr b="0" lang="de-DE" sz="1600" spc="-1" strike="noStrike">
                <a:solidFill>
                  <a:srgbClr val="40458c"/>
                </a:solidFill>
                <a:latin typeface="Symbol"/>
                <a:ea typeface="Symbol"/>
              </a:rPr>
              <a:t></a:t>
            </a:r>
            <a:r>
              <a:rPr b="0" lang="de-DE" sz="16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(ca. 0.8%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40458c"/>
                </a:solidFill>
                <a:latin typeface="Times New Roman"/>
              </a:rPr>
              <a:t>Approach 2: “inclusive NLO-FSR“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- Correct for „unshifting“, i.e. s‘ </a:t>
            </a:r>
            <a:r>
              <a:rPr b="0" lang="de-DE" sz="1600" spc="-1" strike="noStrike">
                <a:solidFill>
                  <a:srgbClr val="40458c"/>
                </a:solidFill>
                <a:latin typeface="Symbol"/>
                <a:ea typeface="Symbol"/>
              </a:rPr>
              <a:t>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40458c"/>
                </a:solidFill>
                <a:latin typeface="Times-Italic"/>
              </a:rPr>
              <a:t>s</a:t>
            </a:r>
            <a:r>
              <a:rPr b="0" lang="de-DE" sz="16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(s‘ is the invariant mass of the intermadiate </a:t>
            </a:r>
            <a:r>
              <a:rPr b="0" lang="de-DE" sz="1600" spc="-1" strike="noStrike">
                <a:solidFill>
                  <a:srgbClr val="40458c"/>
                </a:solidFill>
                <a:latin typeface="Symbol"/>
                <a:ea typeface="Symbol"/>
              </a:rPr>
              <a:t>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- Evaluate efficiencies for ISR + FS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91520" y="1328040"/>
            <a:ext cx="4116960" cy="1574280"/>
            <a:chOff x="191520" y="1328040"/>
            <a:chExt cx="4116960" cy="1574280"/>
          </a:xfrm>
        </p:grpSpPr>
        <p:sp>
          <p:nvSpPr>
            <p:cNvPr id="339" name=""/>
            <p:cNvSpPr/>
            <p:nvPr/>
          </p:nvSpPr>
          <p:spPr>
            <a:xfrm rot="19676400">
              <a:off x="237600" y="1763280"/>
              <a:ext cx="184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Suppressed b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Acceptance cut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8360" y="153360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To be included !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41" name="fpi_mtf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73200" cy="2727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482080" y="1219320"/>
            <a:ext cx="296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Pion Formfactor (KLO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3" name="fpi_diff_mtf" descr=""/>
          <p:cNvPicPr/>
          <p:nvPr/>
        </p:nvPicPr>
        <p:blipFill>
          <a:blip r:embed="rId3"/>
          <a:stretch/>
        </p:blipFill>
        <p:spPr>
          <a:xfrm>
            <a:off x="5029200" y="3772080"/>
            <a:ext cx="3429000" cy="2781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324480" y="5638680"/>
            <a:ext cx="15242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4400" y="5715000"/>
            <a:ext cx="20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5b7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1d15b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d15b7"/>
                </a:solidFill>
                <a:latin typeface="Times New Roman"/>
              </a:rPr>
              <a:t>= 0.2% </a:t>
            </a:r>
            <a:r>
              <a:rPr b="1" lang="en-US" sz="2000" spc="-1" strike="noStrike">
                <a:solidFill>
                  <a:srgbClr val="1d15b7"/>
                </a:solidFill>
                <a:latin typeface="Times New Roman"/>
                <a:ea typeface="Times New Roman"/>
              </a:rPr>
              <a:t>± 0.1%</a:t>
            </a:r>
            <a:r>
              <a:rPr b="1" lang="en-US" sz="2000" spc="-1" strike="noStrike">
                <a:solidFill>
                  <a:srgbClr val="1d15b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5040" y="609588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We use number 2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42280" y="23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8C9-2271-4120-B180-BEECE960A4C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Summary of systematic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76520"/>
            <a:ext cx="4724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Experiment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cceptanc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igger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econstr. Filter    0.6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acking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ertex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ID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1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ack Mass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2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BKG subtr.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Unfolding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0.2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TOTAL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.9%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676520"/>
            <a:ext cx="4724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Theo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Luminosity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6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Vacum Pol.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2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FSR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0.3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H(s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)                  0.5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TOTAL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0.9%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CBC-A3DE-4040-905E-28E1129B8DB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-148680" y="3956040"/>
            <a:ext cx="583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Comparison with CMD-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in the Energy Rang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0.37 &lt;s</a:t>
            </a:r>
            <a:r>
              <a:rPr b="0" lang="de-DE" sz="2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0.93 GeV</a:t>
            </a:r>
            <a:r>
              <a:rPr b="0" lang="de-DE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760" y="5211720"/>
            <a:ext cx="97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-Italic"/>
              </a:rPr>
              <a:t>CMD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2640" y="4844880"/>
            <a:ext cx="6580440" cy="842040"/>
            <a:chOff x="332640" y="4844880"/>
            <a:chExt cx="6580440" cy="842040"/>
          </a:xfrm>
        </p:grpSpPr>
        <p:sp>
          <p:nvSpPr>
            <p:cNvPr id="355" name=""/>
            <p:cNvSpPr/>
            <p:nvPr/>
          </p:nvSpPr>
          <p:spPr>
            <a:xfrm>
              <a:off x="1287720" y="4844880"/>
              <a:ext cx="4237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(375.6 </a:t>
              </a:r>
              <a:r>
                <a:rPr b="0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0.8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Times-Italic"/>
                </a:rPr>
                <a:t>stat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</a:t>
              </a:r>
              <a:r>
                <a:rPr b="0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4.8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Times-Italic"/>
                </a:rPr>
                <a:t>syst+theo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) 10</a:t>
              </a:r>
              <a:r>
                <a:rPr b="0" lang="en-US" sz="2200" spc="-1" strike="noStrike" baseline="30000">
                  <a:solidFill>
                    <a:srgbClr val="0000ff"/>
                  </a:solidFill>
                  <a:latin typeface="Times-Italic"/>
                </a:rPr>
                <a:t>-1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84480" y="5211720"/>
              <a:ext cx="4237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0458c"/>
                  </a:solidFill>
                  <a:latin typeface="Times-Italic"/>
                </a:rPr>
                <a:t>(378.6 </a:t>
              </a:r>
              <a:r>
                <a:rPr b="0" lang="en-US" sz="2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40458c"/>
                  </a:solidFill>
                  <a:latin typeface="Times-Italic"/>
                </a:rPr>
                <a:t> 2.7</a:t>
              </a:r>
              <a:r>
                <a:rPr b="0" lang="en-US" sz="2200" spc="-1" strike="noStrike" baseline="-25000">
                  <a:solidFill>
                    <a:srgbClr val="40458c"/>
                  </a:solidFill>
                  <a:latin typeface="Times-Italic"/>
                </a:rPr>
                <a:t>stat</a:t>
              </a:r>
              <a:r>
                <a:rPr b="0" lang="en-US" sz="2200" spc="-1" strike="noStrike">
                  <a:solidFill>
                    <a:srgbClr val="40458c"/>
                  </a:solidFill>
                  <a:latin typeface="Times-Italic"/>
                </a:rPr>
                <a:t> </a:t>
              </a:r>
              <a:r>
                <a:rPr b="0" lang="en-US" sz="2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40458c"/>
                  </a:solidFill>
                  <a:latin typeface="Times-Italic"/>
                </a:rPr>
                <a:t> 2.3</a:t>
              </a:r>
              <a:r>
                <a:rPr b="0" lang="en-US" sz="2200" spc="-1" strike="noStrike" baseline="-25000">
                  <a:solidFill>
                    <a:srgbClr val="40458c"/>
                  </a:solidFill>
                  <a:latin typeface="Times-Italic"/>
                </a:rPr>
                <a:t>syst+theo</a:t>
              </a:r>
              <a:r>
                <a:rPr b="0" lang="en-US" sz="2200" spc="-1" strike="noStrike">
                  <a:solidFill>
                    <a:srgbClr val="40458c"/>
                  </a:solidFill>
                  <a:latin typeface="Times-Italic"/>
                </a:rPr>
                <a:t>) 10</a:t>
              </a:r>
              <a:r>
                <a:rPr b="0" lang="en-US" sz="2200" spc="-1" strike="noStrike" baseline="30000">
                  <a:solidFill>
                    <a:srgbClr val="40458c"/>
                  </a:solidFill>
                  <a:latin typeface="Times-Italic"/>
                </a:rPr>
                <a:t>-1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2640" y="4860720"/>
              <a:ext cx="872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KLO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14840" y="487980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1d15b7"/>
                  </a:solidFill>
                  <a:latin typeface="Times-Italic"/>
                </a:rPr>
                <a:t>1.3</a:t>
              </a:r>
              <a:r>
                <a:rPr b="0" lang="de-DE" sz="2000" spc="-1" strike="noStrike">
                  <a:solidFill>
                    <a:srgbClr val="1d15b7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1d15b7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14840" y="52131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40458c"/>
                  </a:solidFill>
                  <a:latin typeface="Times-Italic"/>
                </a:rPr>
                <a:t>0.9</a:t>
              </a:r>
              <a:r>
                <a:rPr b="0" lang="de-DE" sz="2000" spc="-1" strike="noStrike">
                  <a:solidFill>
                    <a:srgbClr val="40458c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40458c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28600" y="3124080"/>
            <a:ext cx="5181480" cy="745560"/>
          </a:xfrm>
          <a:prstGeom prst="rect">
            <a:avLst/>
          </a:prstGeom>
          <a:solidFill>
            <a:srgbClr val="eaeaea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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388.7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 0.8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-Italic"/>
              </a:rPr>
              <a:t>stat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 3.5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-Italic"/>
              </a:rPr>
              <a:t>syst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 3.5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-Italic"/>
              </a:rPr>
              <a:t>theo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-Italic"/>
              </a:rPr>
              <a:t>-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05760" y="257040"/>
            <a:ext cx="4367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d15b7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1d15b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contribution to</a:t>
            </a:r>
            <a:r>
              <a:rPr b="0" i="1" lang="en-US" sz="3200" spc="-1" strike="noStrike">
                <a:solidFill>
                  <a:srgbClr val="1d15b7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1d15b7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30000">
                <a:solidFill>
                  <a:srgbClr val="1d15b7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432080"/>
            <a:ext cx="518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We have evaluated the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Dispersions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Integral for the 2-pion-channel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in the Energy Range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0.35 &lt;s</a:t>
            </a:r>
            <a:r>
              <a:rPr b="0" lang="de-DE" sz="2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0.95 GeV</a:t>
            </a:r>
            <a:r>
              <a:rPr b="0" lang="de-DE" sz="2000" spc="-1" strike="noStrike" baseline="30000">
                <a:solidFill>
                  <a:srgbClr val="0000ff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2560" y="5769000"/>
            <a:ext cx="8823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t large values of s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(&gt;m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</a:t>
            </a:r>
            <a:r>
              <a:rPr b="0" lang="de-DE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) we are consistent with CMD-2 and therefo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we confirm the 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deviation from </a:t>
            </a: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-data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4" name="kloe_vs_cmd2_new_mtf" descr=""/>
          <p:cNvPicPr/>
          <p:nvPr/>
        </p:nvPicPr>
        <p:blipFill>
          <a:blip r:embed="rId1"/>
          <a:stretch/>
        </p:blipFill>
        <p:spPr>
          <a:xfrm>
            <a:off x="5611680" y="1069920"/>
            <a:ext cx="3511800" cy="3557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240960" y="39639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Times New Roman"/>
              </a:rPr>
              <a:t>Pion Formfa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63480" y="146052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CMD-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24360" y="4546440"/>
            <a:ext cx="344196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050880" y="4538520"/>
            <a:ext cx="2925720" cy="277560"/>
            <a:chOff x="6050880" y="4538520"/>
            <a:chExt cx="2925720" cy="277560"/>
          </a:xfrm>
        </p:grpSpPr>
        <p:sp>
          <p:nvSpPr>
            <p:cNvPr id="369" name=""/>
            <p:cNvSpPr/>
            <p:nvPr/>
          </p:nvSpPr>
          <p:spPr>
            <a:xfrm>
              <a:off x="7165800" y="4538520"/>
              <a:ext cx="696960" cy="12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5088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7792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020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644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7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2736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5440" y="453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44000" y="4876920"/>
            <a:ext cx="950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de-DE" sz="16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 [GeV</a:t>
            </a:r>
            <a:r>
              <a:rPr b="0" lang="de-DE" sz="16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de-DE" sz="1600" spc="-1" strike="noStrike">
                <a:solidFill>
                  <a:srgbClr val="40458c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13400" y="1009800"/>
            <a:ext cx="22068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8200" y="1332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8200" y="1673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88200" y="2016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8200" y="2357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8200" y="2703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8200" y="30416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88200" y="3387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8200" y="3726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49760" y="4068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8200" y="990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49760" y="4413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645-F514-4279-8DD2-784B50E4BB7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Still measuring hadronic cross section: why?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hadronic cross section is a fundamental tool to evaluate the hadronic contributions to a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nd to 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e.m.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se quantities are 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not evaluable in pQC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but one can use DATA by means of optical theorem + analyticit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or example a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can be evaluated with the dispersion integra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505320" y="3552840"/>
            <a:ext cx="5029200" cy="665280"/>
            <a:chOff x="3505320" y="3552840"/>
            <a:chExt cx="5029200" cy="665280"/>
          </a:xfrm>
        </p:grpSpPr>
        <p:sp>
          <p:nvSpPr>
            <p:cNvPr id="91" name=""/>
            <p:cNvSpPr/>
            <p:nvPr/>
          </p:nvSpPr>
          <p:spPr>
            <a:xfrm>
              <a:off x="4097160" y="3857760"/>
              <a:ext cx="942480" cy="74520"/>
            </a:xfrm>
            <a:custGeom>
              <a:avLst/>
              <a:gdLst/>
              <a:ahLst/>
              <a:rect l="l" t="t" r="r" b="b"/>
              <a:pathLst>
                <a:path w="1248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96"/>
                    <a:pt x="960" y="96"/>
                  </a:cubicBezTo>
                  <a:cubicBezTo>
                    <a:pt x="992" y="96"/>
                    <a:pt x="1024" y="0"/>
                    <a:pt x="1056" y="0"/>
                  </a:cubicBezTo>
                  <a:cubicBezTo>
                    <a:pt x="1088" y="0"/>
                    <a:pt x="1120" y="96"/>
                    <a:pt x="1152" y="96"/>
                  </a:cubicBezTo>
                  <a:cubicBezTo>
                    <a:pt x="1184" y="96"/>
                    <a:pt x="1216" y="48"/>
                    <a:pt x="1248" y="0"/>
                  </a:cubicBezTo>
                </a:path>
              </a:pathLst>
            </a:custGeom>
            <a:noFill/>
            <a:ln w="255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36878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Im[                    ]  </a:t>
              </a: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</a:t>
              </a: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  |                   hadrons  |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2720" y="3705480"/>
              <a:ext cx="369720" cy="380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58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582440" y="3552840"/>
              <a:ext cx="4320" cy="665280"/>
            </a:xfrm>
            <a:prstGeom prst="line">
              <a:avLst/>
            </a:prstGeom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1480" y="3880080"/>
              <a:ext cx="55440" cy="5688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63560" y="3873600"/>
              <a:ext cx="55080" cy="5724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1640" y="3857760"/>
              <a:ext cx="653040" cy="74520"/>
            </a:xfrm>
            <a:custGeom>
              <a:avLst/>
              <a:gdLst/>
              <a:ahLst/>
              <a:rect l="l" t="t" r="r" b="b"/>
              <a:pathLst>
                <a:path w="424" h="47">
                  <a:moveTo>
                    <a:pt x="0" y="47"/>
                  </a:moveTo>
                  <a:cubicBezTo>
                    <a:pt x="16" y="24"/>
                    <a:pt x="31" y="0"/>
                    <a:pt x="47" y="0"/>
                  </a:cubicBezTo>
                  <a:cubicBezTo>
                    <a:pt x="63" y="0"/>
                    <a:pt x="78" y="47"/>
                    <a:pt x="94" y="47"/>
                  </a:cubicBezTo>
                  <a:cubicBezTo>
                    <a:pt x="110" y="47"/>
                    <a:pt x="126" y="0"/>
                    <a:pt x="141" y="0"/>
                  </a:cubicBezTo>
                  <a:cubicBezTo>
                    <a:pt x="157" y="0"/>
                    <a:pt x="173" y="47"/>
                    <a:pt x="188" y="47"/>
                  </a:cubicBezTo>
                  <a:cubicBezTo>
                    <a:pt x="204" y="47"/>
                    <a:pt x="220" y="0"/>
                    <a:pt x="235" y="0"/>
                  </a:cubicBezTo>
                  <a:cubicBezTo>
                    <a:pt x="251" y="0"/>
                    <a:pt x="267" y="47"/>
                    <a:pt x="282" y="47"/>
                  </a:cubicBezTo>
                  <a:cubicBezTo>
                    <a:pt x="298" y="47"/>
                    <a:pt x="314" y="0"/>
                    <a:pt x="330" y="0"/>
                  </a:cubicBezTo>
                  <a:cubicBezTo>
                    <a:pt x="345" y="0"/>
                    <a:pt x="361" y="47"/>
                    <a:pt x="377" y="47"/>
                  </a:cubicBezTo>
                  <a:cubicBezTo>
                    <a:pt x="392" y="47"/>
                    <a:pt x="416" y="8"/>
                    <a:pt x="424" y="0"/>
                  </a:cubicBezTo>
                </a:path>
              </a:pathLst>
            </a:custGeom>
            <a:noFill/>
            <a:ln w="255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569640" y="3634920"/>
              <a:ext cx="304920" cy="517680"/>
            </a:xfrm>
            <a:prstGeom prst="blockArc">
              <a:avLst>
                <a:gd name="adj1" fmla="val 10084009"/>
                <a:gd name="adj2" fmla="val 715991"/>
                <a:gd name="adj3" fmla="val 8269"/>
              </a:avLst>
            </a:prstGeom>
            <a:solidFill>
              <a:srgbClr val="80808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47960" y="3853080"/>
              <a:ext cx="55440" cy="5724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71760" y="3400560"/>
            <a:ext cx="1704960" cy="101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3552840"/>
            <a:ext cx="1218960" cy="8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cc0099"/>
                </a:solidFill>
                <a:latin typeface="Times New Roman"/>
              </a:rPr>
              <a:t>had </a:t>
            </a:r>
            <a:r>
              <a:rPr b="0" lang="en-US" sz="22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83760" y="54864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80808"/>
                </a:solidFill>
                <a:latin typeface="Times New Roman"/>
              </a:rPr>
              <a:t>K(s)</a:t>
            </a:r>
            <a:r>
              <a:rPr b="0" lang="it-IT" sz="20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~  1/s  (kernel funct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39960" y="5334120"/>
                <a:ext cx="4492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ha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E1E-09D2-4792-87CD-083314F0C2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ahoma"/>
              </a:rPr>
              <a:t>Including KLOE result in the evaluation</a:t>
            </a: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Tahoma"/>
              </a:rPr>
              <a:t> of a</a:t>
            </a:r>
            <a:r>
              <a:rPr b="0" lang="it-IT" sz="32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124000" y="1219320"/>
            <a:ext cx="5571720" cy="4510080"/>
            <a:chOff x="2124000" y="1219320"/>
            <a:chExt cx="5571720" cy="4510080"/>
          </a:xfrm>
        </p:grpSpPr>
        <p:sp>
          <p:nvSpPr>
            <p:cNvPr id="391" name=""/>
            <p:cNvSpPr/>
            <p:nvPr/>
          </p:nvSpPr>
          <p:spPr>
            <a:xfrm>
              <a:off x="2124000" y="1219320"/>
              <a:ext cx="5571720" cy="45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92" name="g-2_new_mtf" descr=""/>
            <p:cNvPicPr/>
            <p:nvPr/>
          </p:nvPicPr>
          <p:blipFill>
            <a:blip r:embed="rId1"/>
            <a:stretch/>
          </p:blipFill>
          <p:spPr>
            <a:xfrm>
              <a:off x="2705040" y="1484280"/>
              <a:ext cx="4420800" cy="414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549720" y="3424320"/>
            <a:ext cx="8497080" cy="3155400"/>
            <a:chOff x="549720" y="3424320"/>
            <a:chExt cx="8497080" cy="3155400"/>
          </a:xfrm>
        </p:grpSpPr>
        <p:grpSp>
          <p:nvGrpSpPr>
            <p:cNvPr id="394" name=""/>
            <p:cNvGrpSpPr/>
            <p:nvPr/>
          </p:nvGrpSpPr>
          <p:grpSpPr>
            <a:xfrm>
              <a:off x="4567320" y="3733920"/>
              <a:ext cx="685080" cy="152280"/>
              <a:chOff x="4567320" y="3733920"/>
              <a:chExt cx="685080" cy="152280"/>
            </a:xfrm>
          </p:grpSpPr>
          <p:sp>
            <p:nvSpPr>
              <p:cNvPr id="395" name=""/>
              <p:cNvSpPr/>
              <p:nvPr/>
            </p:nvSpPr>
            <p:spPr>
              <a:xfrm>
                <a:off x="4858200" y="3765600"/>
                <a:ext cx="96840" cy="88920"/>
              </a:xfrm>
              <a:prstGeom prst="ellipse">
                <a:avLst/>
              </a:prstGeom>
              <a:solidFill>
                <a:srgbClr val="ecd882"/>
              </a:solidFill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955040" y="3800160"/>
                <a:ext cx="297360" cy="32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570560" y="3810240"/>
                <a:ext cx="287280" cy="28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45920" y="3733920"/>
                <a:ext cx="0" cy="1522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67320" y="3733920"/>
                <a:ext cx="0" cy="1522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829800" y="3424320"/>
              <a:ext cx="2367720" cy="1435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660066"/>
                  </a:solidFill>
                  <a:latin typeface="Times New Roman"/>
                </a:rPr>
                <a:t>KLO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b2b2b2"/>
                  </a:solidFill>
                  <a:latin typeface="Times New Roman"/>
                </a:rPr>
                <a:t>(</a:t>
              </a:r>
              <a:r>
                <a:rPr b="0" lang="it-IT" sz="2400" spc="-1" strike="noStrike">
                  <a:solidFill>
                    <a:srgbClr val="1d15b7"/>
                  </a:solidFill>
                  <a:latin typeface="Times New Roman"/>
                </a:rPr>
                <a:t>hep-ex/</a:t>
              </a:r>
              <a:r>
                <a:rPr b="0" lang="en-GB" sz="2400" spc="-1" strike="noStrike">
                  <a:solidFill>
                    <a:srgbClr val="1d15b7"/>
                  </a:solidFill>
                  <a:latin typeface="Times New Roman"/>
                </a:rPr>
                <a:t>0407048</a:t>
              </a:r>
              <a:r>
                <a:rPr b="1" lang="en-GB" sz="2400" spc="-1" strike="noStrike">
                  <a:solidFill>
                    <a:srgbClr val="b2b2b2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Times New Roman"/>
                </a:rPr>
                <a:t>Submitt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660066"/>
                  </a:solidFill>
                  <a:latin typeface="Times New Roman"/>
                </a:rPr>
                <a:t>to Phys. Lett. B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49560" y="3767040"/>
              <a:ext cx="2444760" cy="3398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641840" y="3885840"/>
              <a:ext cx="154080" cy="189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9720" y="5834160"/>
              <a:ext cx="84970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</a:rPr>
                <a:t>KLOE confirms a deviation of </a:t>
              </a: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2.7</a:t>
              </a:r>
              <a:r>
                <a:rPr b="0" lang="de-DE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</a:t>
              </a: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according to an updated analysis of DHEZ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</a:t>
              </a: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</a:rPr>
                <a:t>btw. theory and experiment for (g-2)</a:t>
              </a:r>
              <a:r>
                <a:rPr b="0" lang="de-DE" sz="2000" spc="-1" strike="noStrike" baseline="-25000">
                  <a:solidFill>
                    <a:srgbClr val="cc0000"/>
                  </a:solidFill>
                  <a:latin typeface="Symbol"/>
                  <a:ea typeface="Symbol"/>
                </a:rPr>
                <a:t></a:t>
              </a: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0F8-AA42-432E-BF8B-6E8A22555B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20560" y="2620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1040" y="1371600"/>
            <a:ext cx="883296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KLOE has performed a very precise measurement of  </a:t>
            </a:r>
            <a:r>
              <a:rPr b="0" lang="de-DE" sz="2000" spc="-1" strike="noStrike">
                <a:solidFill>
                  <a:srgbClr val="660066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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 using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radiative return. 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The statistic error is negligible, while the systemat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error is 1.3% (0.9</a:t>
            </a:r>
            <a:r>
              <a:rPr b="0" lang="de-DE" sz="2000" spc="-1" strike="noStrike" baseline="-25000">
                <a:solidFill>
                  <a:srgbClr val="660066"/>
                </a:solidFill>
                <a:latin typeface="Tahoma"/>
              </a:rPr>
              <a:t>exp</a:t>
            </a:r>
            <a:r>
              <a:rPr b="0" lang="de-DE" sz="2000" spc="-1" strike="noStrike">
                <a:solidFill>
                  <a:srgbClr val="660066"/>
                </a:solidFill>
                <a:latin typeface="Symbol"/>
                <a:ea typeface="Symbol"/>
              </a:rPr>
              <a:t>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0.9</a:t>
            </a:r>
            <a:r>
              <a:rPr b="0" lang="de-DE" sz="2000" spc="-1" strike="noStrike" baseline="-25000">
                <a:solidFill>
                  <a:srgbClr val="660066"/>
                </a:solidFill>
                <a:latin typeface="Tahoma"/>
              </a:rPr>
              <a:t>th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).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he analysis (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hep-ex/0407048)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has been submitted to Phys.Lett. 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KLOE confirms a deviation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2.7</a:t>
            </a:r>
            <a:r>
              <a:rPr b="0" lang="de-DE" sz="2000" spc="-1" strike="noStrike">
                <a:solidFill>
                  <a:srgbClr val="ff3300"/>
                </a:solidFill>
                <a:latin typeface="Symbol"/>
                <a:ea typeface="Symbol"/>
              </a:rPr>
              <a:t>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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ccording to an updated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nalysis of DHEZ)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between the experimental and the theoretical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of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,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s well as </a:t>
            </a: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the discrepancy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with 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-data above the 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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-peak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We expect to reduce the systematic error below 1%,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by repeating the analysis with 2002 data. Improvements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from theory are also expected in the next future (now our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heoretical error on luminosity is 0.5%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nalysis with the photon at large angle will allow to test the region nea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he threshold (s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&lt;0.35 GeV</a:t>
            </a:r>
            <a:r>
              <a:rPr b="0" lang="de-DE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), which contributes with 20% to a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081-E561-4544-85C2-25A846CB3AB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pg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895480" cy="2228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76360" y="304920"/>
            <a:ext cx="19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Reserv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B05-A856-4F72-8510-9A6DCE57D3A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3561840" y="1905120"/>
            <a:ext cx="5054760" cy="3016800"/>
            <a:chOff x="3561840" y="1905120"/>
            <a:chExt cx="5054760" cy="301680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rcRect l="9007" t="32219" r="23275" b="40976"/>
            <a:stretch/>
          </p:blipFill>
          <p:spPr>
            <a:xfrm>
              <a:off x="4209840" y="2055960"/>
              <a:ext cx="440676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937920" y="3992760"/>
              <a:ext cx="15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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(MeV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1924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4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2092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3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7988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6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9560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5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4340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8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884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7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18320" y="45230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9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1840" y="36990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61840" y="31006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1840" y="2500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3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61840" y="19051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40458c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08040" y="152280"/>
            <a:ext cx="723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asurement of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</a:t>
            </a:r>
            <a:r>
              <a:rPr b="0" lang="en-US" sz="2800" spc="-1" strike="noStrike">
                <a:solidFill>
                  <a:srgbClr val="40458c"/>
                </a:solidFill>
                <a:latin typeface="Times-Italic"/>
              </a:rPr>
              <a:t>e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-Italic"/>
              </a:rPr>
              <a:t>+</a:t>
            </a:r>
            <a:r>
              <a:rPr b="0" lang="en-US" sz="2800" spc="-1" strike="noStrike">
                <a:solidFill>
                  <a:srgbClr val="40458c"/>
                </a:solidFill>
                <a:latin typeface="Times-Italic"/>
              </a:rPr>
              <a:t>e</a:t>
            </a:r>
            <a:r>
              <a:rPr b="0" lang="en-US" sz="28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</a:t>
            </a:r>
            <a:r>
              <a:rPr b="0" lang="en-US" sz="28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</a:t>
            </a:r>
            <a:r>
              <a:rPr b="0" lang="en-US" sz="2800" spc="-1" strike="noStrike">
                <a:solidFill>
                  <a:srgbClr val="40458c"/>
                </a:solidFill>
                <a:latin typeface="SymbolProp BT"/>
                <a:ea typeface="SymbolProp BT"/>
              </a:rPr>
              <a:t>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wn to the threshold</a:t>
            </a:r>
            <a:r>
              <a:rPr b="0" lang="en-US" sz="2800" spc="-1" strike="noStrike">
                <a:solidFill>
                  <a:srgbClr val="40458c"/>
                </a:solidFill>
                <a:latin typeface="SymbolProp BT"/>
                <a:ea typeface="SymbolProp BT"/>
              </a:rPr>
              <a:t>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85800" y="22575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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 / Me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93600" y="3130560"/>
            <a:ext cx="163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70000"/>
                </a:solidFill>
                <a:latin typeface="Times New Roman"/>
              </a:rPr>
              <a:t>ISR+FSR M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40240" y="32986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63920" y="360360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133720"/>
            <a:ext cx="314784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24"/>
              </a:spcAft>
              <a:buClr>
                <a:srgbClr val="40458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huge 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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-Backgrou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Aft>
                <a:spcPts val="624"/>
              </a:spcAft>
              <a:buClr>
                <a:srgbClr val="40458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large FSR-compon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Aft>
                <a:spcPts val="624"/>
              </a:spcAft>
              <a:buClr>
                <a:srgbClr val="40458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Photon-Tagging possi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investigate the possibi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of an R-measurement, i.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40458c"/>
                </a:solidFill>
                <a:latin typeface="Times New Roman"/>
              </a:rPr>
              <a:t>normalization to mu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B66-BE0B-4617-B69E-3BF529D7E35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082520" y="24300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harge asymmetry: test of FSR mod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4600" y="1359000"/>
            <a:ext cx="847080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At large Photon angles the amount of FSR is large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est the model of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scalar QED (i.e. pointlike pions),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which usually is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aken for the radiation of photons from pions in MC generat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Measure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harge Asymme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nd compare data with M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preliminary results in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complementary 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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– analysi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t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large photon angles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show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good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agreement of data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wit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he model of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scalar Q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371840" y="2781360"/>
            <a:ext cx="4042440" cy="3204360"/>
            <a:chOff x="4371840" y="2781360"/>
            <a:chExt cx="4042440" cy="3204360"/>
          </a:xfrm>
        </p:grpSpPr>
        <p:grpSp>
          <p:nvGrpSpPr>
            <p:cNvPr id="431" name=""/>
            <p:cNvGrpSpPr/>
            <p:nvPr/>
          </p:nvGrpSpPr>
          <p:grpSpPr>
            <a:xfrm>
              <a:off x="4371840" y="2781360"/>
              <a:ext cx="3994200" cy="3192480"/>
              <a:chOff x="4371840" y="2781360"/>
              <a:chExt cx="3994200" cy="3192480"/>
            </a:xfrm>
          </p:grpSpPr>
          <p:sp>
            <p:nvSpPr>
              <p:cNvPr id="432" name=""/>
              <p:cNvSpPr/>
              <p:nvPr/>
            </p:nvSpPr>
            <p:spPr>
              <a:xfrm>
                <a:off x="4371840" y="2781360"/>
                <a:ext cx="3994200" cy="319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3" name="asi_w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8200" y="2927520"/>
                <a:ext cx="3581280" cy="26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4571640" y="3119400"/>
                <a:ext cx="320760" cy="238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65320" y="5532480"/>
                <a:ext cx="355608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765320" y="5459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62000" y="5459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7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79560" y="5459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38080" y="54594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1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27200" y="54594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13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30960" y="517032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-2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0960" y="464652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00520" y="4148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98640" y="3133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98640" y="363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63680" y="293832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Times New Roman"/>
                </a:rPr>
                <a:t>Asymmetry [%]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91120" y="564840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Times New Roman"/>
                </a:rPr>
                <a:t>Polar Angle [°]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09840" y="3537000"/>
              <a:ext cx="81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40458c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M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98080" y="5083200"/>
              <a:ext cx="24210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Letter Gothic"/>
                </a:rPr>
                <a:t>K L O 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Letter Gothic"/>
                </a:rPr>
                <a:t>P R E L I M I N A R 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90720" y="3429000"/>
                <a:ext cx="2819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649-95AE-4185-96C1-943F4E0ADBF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f5f5f"/>
                </a:solidFill>
                <a:latin typeface="Tahoma"/>
              </a:rPr>
              <a:t>Background rejection I - e/</a:t>
            </a:r>
            <a:r>
              <a:rPr b="0" lang="it-IT" sz="3200" spc="-1" strike="noStrike">
                <a:solidFill>
                  <a:srgbClr val="5f5f5f"/>
                </a:solidFill>
                <a:latin typeface="Symbol"/>
                <a:ea typeface="Symbol"/>
              </a:rPr>
              <a:t></a:t>
            </a:r>
            <a:r>
              <a:rPr b="0" lang="it-IT" sz="3200" spc="-1" strike="noStrike">
                <a:solidFill>
                  <a:srgbClr val="5f5f5f"/>
                </a:solidFill>
                <a:latin typeface="Tahoma"/>
              </a:rPr>
              <a:t> separation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0840" y="1676520"/>
            <a:ext cx="400068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/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separation using a likelihood method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lectron and pion likelihood definition based on </a:t>
            </a:r>
            <a:r>
              <a:rPr b="0" lang="it-IT" sz="2000" spc="-1" strike="noStrike">
                <a:solidFill>
                  <a:srgbClr val="a72c0b"/>
                </a:solidFill>
                <a:latin typeface="Tahoma"/>
              </a:rPr>
              <a:t>TOF and cluster shap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the 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log of the ratio of the two likelihoods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 is the discriminating variabl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ff(</a:t>
            </a:r>
            <a:r>
              <a:rPr b="0" lang="it-IT" sz="20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)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  <a:ea typeface="Tahoma"/>
              </a:rPr>
              <a:t>~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98%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eff(e)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  <a:ea typeface="Tahoma"/>
              </a:rPr>
              <a:t>~ </a:t>
            </a: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3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0" t="8788" r="3676" b="12434"/>
          <a:stretch/>
        </p:blipFill>
        <p:spPr>
          <a:xfrm>
            <a:off x="4114800" y="1758960"/>
            <a:ext cx="4991040" cy="4667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983920" y="6324480"/>
            <a:ext cx="211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log(L</a:t>
            </a:r>
            <a:r>
              <a:rPr b="0" lang="it-IT" sz="2400" spc="-1" strike="noStrike" baseline="-25000">
                <a:solidFill>
                  <a:srgbClr val="40458c"/>
                </a:solidFill>
                <a:latin typeface="Times New Roman"/>
              </a:rPr>
              <a:t>pion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/L</a:t>
            </a:r>
            <a:r>
              <a:rPr b="0" lang="it-IT" sz="2400" spc="-1" strike="noStrike" baseline="-25000">
                <a:solidFill>
                  <a:srgbClr val="40458c"/>
                </a:solidFill>
                <a:latin typeface="Times New Roman"/>
              </a:rPr>
              <a:t>electron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29400" y="4419720"/>
            <a:ext cx="0" cy="17524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2209680"/>
            <a:ext cx="259056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40408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40408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40408"/>
                </a:solidFill>
                <a:latin typeface="Times New Roman"/>
              </a:rPr>
              <a:t>signal + bkgd ev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• 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•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</a:t>
            </a:r>
            <a:r>
              <a:rPr b="0" lang="it-IT" sz="2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+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</a:t>
            </a:r>
            <a:r>
              <a:rPr b="0" lang="it-IT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v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6960" y="594360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Century Gothic"/>
              </a:rPr>
              <a:t>The event is selected if one 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Century Gothic"/>
              </a:rPr>
              <a:t>track is identified as a p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4480" y="4403880"/>
            <a:ext cx="8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4360" y="554688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</a:t>
            </a:r>
            <a:r>
              <a:rPr b="0" lang="it-IT" sz="2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+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</a:t>
            </a:r>
            <a:r>
              <a:rPr b="0" lang="it-IT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F10-F4FE-4904-BD56-D47DF0C4A7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same diagram (vacuum polarization) also affects the value of 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em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</a:t>
            </a:r>
            <a:r>
              <a:rPr b="0" lang="it-IT" sz="20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n this case there is not the 1/s enhancement, so the relevant part of thespectrum is in the region 1&lt;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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&lt;5 GeV not probed by KLO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1" name="BurPie2001_Fig1_win" descr=""/>
          <p:cNvPicPr/>
          <p:nvPr/>
        </p:nvPicPr>
        <p:blipFill>
          <a:blip r:embed="rId3"/>
          <a:stretch/>
        </p:blipFill>
        <p:spPr>
          <a:xfrm>
            <a:off x="4551480" y="1295280"/>
            <a:ext cx="4363920" cy="3962520"/>
          </a:xfrm>
          <a:prstGeom prst="rect">
            <a:avLst/>
          </a:prstGeom>
          <a:ln w="0">
            <a:noFill/>
          </a:ln>
        </p:spPr>
      </p:pic>
      <p:pic>
        <p:nvPicPr>
          <p:cNvPr id="462" name="aqed01_fig2_win" descr=""/>
          <p:cNvPicPr/>
          <p:nvPr/>
        </p:nvPicPr>
        <p:blipFill>
          <a:blip r:embed="rId4"/>
          <a:srcRect l="0" t="50750" r="0" b="0"/>
          <a:stretch/>
        </p:blipFill>
        <p:spPr>
          <a:xfrm>
            <a:off x="933480" y="3886200"/>
            <a:ext cx="3486240" cy="2514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304920" y="4191120"/>
            <a:ext cx="149688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 Unicode MS"/>
              </a:rPr>
              <a:t>contribu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 Unicode MS"/>
              </a:rPr>
              <a:t>to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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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1905120"/>
            <a:ext cx="218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Times New Roman"/>
              </a:rPr>
              <a:t>had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(had)/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8080" y="304920"/>
            <a:ext cx="462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tribution to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 baseline="-25000">
                <a:solidFill>
                  <a:srgbClr val="40458c"/>
                </a:solidFill>
                <a:latin typeface="Tahoma"/>
              </a:rPr>
              <a:t>em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(M</a:t>
            </a:r>
            <a:r>
              <a:rPr b="0" lang="it-IT" sz="32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5241960"/>
            <a:ext cx="43434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ncluding KLOE results, a preliminary analysis of B.&amp; P. found a value of </a:t>
            </a:r>
            <a:r>
              <a:rPr b="0" lang="en-GB" sz="1800" spc="-1" strike="noStrike">
                <a:solidFill>
                  <a:srgbClr val="40458c"/>
                </a:solidFill>
                <a:latin typeface="Symbol"/>
                <a:ea typeface="Symbol"/>
              </a:rPr>
              <a:t>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(5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(m</a:t>
            </a:r>
            <a:r>
              <a:rPr b="0" lang="en-GB" sz="18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) which confirms their 2001 estimate: </a:t>
            </a:r>
            <a:r>
              <a:rPr b="0" lang="en-GB" sz="1800" spc="-1" strike="noStrike">
                <a:solidFill>
                  <a:srgbClr val="40458c"/>
                </a:solidFill>
                <a:latin typeface="Symbol"/>
                <a:ea typeface="Symbol"/>
              </a:rPr>
              <a:t>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(5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(m</a:t>
            </a:r>
            <a:r>
              <a:rPr b="0" lang="en-GB" sz="1800" spc="-1" strike="noStrike" baseline="-25000">
                <a:solidFill>
                  <a:srgbClr val="40458c"/>
                </a:solidFill>
                <a:latin typeface="Tahoma"/>
              </a:rPr>
              <a:t>Z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) =0.02761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±0.0003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977-7AF4-42A7-BEF4-043A5AF3F5F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95280" y="304920"/>
            <a:ext cx="4267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FSR Corrections</a:t>
            </a:r>
            <a:r>
              <a:rPr b="0" lang="en-US" sz="2000" spc="-1" strike="noStrike">
                <a:solidFill>
                  <a:srgbClr val="cfdbf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960" y="1447920"/>
            <a:ext cx="5558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 FSR is a background since  the Pion form fact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s evaluated at the same fixed scale s=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</a:t>
            </a:r>
            <a:r>
              <a:rPr b="0" lang="en-GB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89760" y="251460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ust to be subtracted as much as possible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55627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contribution becomes  &lt; 1% due  to our acceptance cu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81080" y="2895480"/>
            <a:ext cx="4453200" cy="2719080"/>
            <a:chOff x="1981080" y="2895480"/>
            <a:chExt cx="4453200" cy="2719080"/>
          </a:xfrm>
        </p:grpSpPr>
        <p:grpSp>
          <p:nvGrpSpPr>
            <p:cNvPr id="473" name=""/>
            <p:cNvGrpSpPr/>
            <p:nvPr/>
          </p:nvGrpSpPr>
          <p:grpSpPr>
            <a:xfrm>
              <a:off x="1981080" y="2973240"/>
              <a:ext cx="4352040" cy="2641320"/>
              <a:chOff x="1981080" y="2973240"/>
              <a:chExt cx="4352040" cy="2641320"/>
            </a:xfrm>
          </p:grpSpPr>
          <p:pic>
            <p:nvPicPr>
              <p:cNvPr id="474" name="plot2fsr_eps_w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2973240"/>
                <a:ext cx="4352040" cy="25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5217840" y="5243760"/>
                <a:ext cx="94716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s</a:t>
                </a:r>
                <a:r>
                  <a:rPr b="1" lang="en-US" sz="1600" spc="-1" strike="noStrike" baseline="-25000">
                    <a:solidFill>
                      <a:srgbClr val="cc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(GeV</a:t>
                </a:r>
                <a:r>
                  <a:rPr b="1" lang="en-US" sz="1600" spc="-1" strike="noStrike" baseline="30000">
                    <a:solidFill>
                      <a:srgbClr val="cc0000"/>
                    </a:solidFill>
                    <a:latin typeface="Tempus Sans ITC"/>
                  </a:rPr>
                  <a:t>2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)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5246280" y="2895480"/>
              <a:ext cx="118800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empus Sans ITC"/>
                </a:rPr>
                <a:t>LO - FS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645200" y="35924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empus Sans ITC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644080" y="1398240"/>
            <a:ext cx="3274200" cy="1270800"/>
            <a:chOff x="5644080" y="1398240"/>
            <a:chExt cx="3274200" cy="1270800"/>
          </a:xfrm>
        </p:grpSpPr>
        <p:sp>
          <p:nvSpPr>
            <p:cNvPr id="479" name=""/>
            <p:cNvSpPr/>
            <p:nvPr/>
          </p:nvSpPr>
          <p:spPr>
            <a:xfrm>
              <a:off x="5969160" y="1736280"/>
              <a:ext cx="991440" cy="3376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969160" y="2073600"/>
              <a:ext cx="991440" cy="27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687800" y="1398240"/>
              <a:ext cx="594720" cy="5403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60960" y="2073960"/>
              <a:ext cx="594720" cy="14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89440" y="2006640"/>
              <a:ext cx="131760" cy="135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555680" y="1668240"/>
              <a:ext cx="726840" cy="3380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5680" y="2141640"/>
              <a:ext cx="726840" cy="27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7680" y="153216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40458c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40458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4080" y="20739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40458c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40458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92240" y="13986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40458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89360" y="220932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40458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4800" y="1875600"/>
              <a:ext cx="129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40458c"/>
                  </a:solidFill>
                  <a:latin typeface="Times New Roman"/>
                </a:rPr>
                <a:t>~F</a:t>
              </a:r>
              <a:r>
                <a:rPr b="0" lang="it-IT" sz="2400" spc="-1" strike="noStrike" baseline="-25000">
                  <a:solidFill>
                    <a:srgbClr val="40458c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>
                  <a:solidFill>
                    <a:srgbClr val="40458c"/>
                  </a:solidFill>
                  <a:latin typeface="Times New Roman"/>
                </a:rPr>
                <a:t>(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it-IT" sz="24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it-IT" sz="2400" spc="-1" strike="noStrike">
                  <a:solidFill>
                    <a:srgbClr val="40458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09600" y="2138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57200" y="2141640"/>
              <a:ext cx="99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s=m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1" lang="it-IT" sz="24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450-ACC3-4DB6-BA8F-5467AF88378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73920" y="1284120"/>
            <a:ext cx="2428560" cy="745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N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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 d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fter Acceptance Cu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47640" y="3649680"/>
            <a:ext cx="2904120" cy="745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fferential Cross Sectio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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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d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81160" y="2190600"/>
            <a:ext cx="2771640" cy="703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vent Analysi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fficiencies, Backgrou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87680" y="3073320"/>
            <a:ext cx="275616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Normalize to Luminos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4640" y="271440"/>
            <a:ext cx="6019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the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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asure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rcRect l="16948" t="71933" r="50001" b="14958"/>
          <a:stretch/>
        </p:blipFill>
        <p:spPr>
          <a:xfrm>
            <a:off x="3198960" y="1192320"/>
            <a:ext cx="1460520" cy="8841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845800" y="4551480"/>
            <a:ext cx="310536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vide by Radiator Fun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043680" y="4071960"/>
            <a:ext cx="1460520" cy="884160"/>
            <a:chOff x="6043680" y="4071960"/>
            <a:chExt cx="1460520" cy="88416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rcRect l="16948" t="71933" r="50001" b="14958"/>
            <a:stretch/>
          </p:blipFill>
          <p:spPr>
            <a:xfrm>
              <a:off x="6043680" y="4071960"/>
              <a:ext cx="1460520" cy="884160"/>
            </a:xfrm>
            <a:prstGeom prst="rect">
              <a:avLst/>
            </a:prstGeom>
            <a:ln w="9360">
              <a:solidFill>
                <a:srgbClr val="40458c"/>
              </a:solidFill>
              <a:miter/>
            </a:ln>
          </p:spPr>
        </p:pic>
        <p:sp>
          <p:nvSpPr>
            <p:cNvPr id="502" name=""/>
            <p:cNvSpPr/>
            <p:nvPr/>
          </p:nvSpPr>
          <p:spPr>
            <a:xfrm>
              <a:off x="6064200" y="4084560"/>
              <a:ext cx="142560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050440" y="5765760"/>
            <a:ext cx="1652760" cy="703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oss Sectio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-Italic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-Italic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-Italic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-Italic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9800" y="5203800"/>
            <a:ext cx="240732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adiative Correc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616720" y="1225440"/>
            <a:ext cx="3068280" cy="3186000"/>
            <a:chOff x="5616720" y="1225440"/>
            <a:chExt cx="3068280" cy="3186000"/>
          </a:xfrm>
        </p:grpSpPr>
        <p:grpSp>
          <p:nvGrpSpPr>
            <p:cNvPr id="506" name=""/>
            <p:cNvGrpSpPr/>
            <p:nvPr/>
          </p:nvGrpSpPr>
          <p:grpSpPr>
            <a:xfrm>
              <a:off x="5645160" y="1225440"/>
              <a:ext cx="3039840" cy="2795040"/>
              <a:chOff x="5645160" y="1225440"/>
              <a:chExt cx="3039840" cy="2795040"/>
            </a:xfrm>
          </p:grpSpPr>
          <p:sp>
            <p:nvSpPr>
              <p:cNvPr id="507" name=""/>
              <p:cNvSpPr/>
              <p:nvPr/>
            </p:nvSpPr>
            <p:spPr>
              <a:xfrm>
                <a:off x="5645160" y="1225440"/>
                <a:ext cx="3039840" cy="278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508" name="h_spectra_meta" descr=""/>
              <p:cNvPicPr/>
              <p:nvPr/>
            </p:nvPicPr>
            <p:blipFill>
              <a:blip r:embed="rId3"/>
              <a:srcRect l="6121" t="7000" r="0" b="13662"/>
              <a:stretch/>
            </p:blipFill>
            <p:spPr>
              <a:xfrm>
                <a:off x="6051600" y="1380960"/>
                <a:ext cx="2431800" cy="229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f1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7440" y="1812960"/>
                <a:ext cx="1216080" cy="777960"/>
              </a:xfrm>
              <a:prstGeom prst="rect">
                <a:avLst/>
              </a:prstGeom>
              <a:ln w="9360">
                <a:solidFill>
                  <a:srgbClr val="40458c"/>
                </a:solidFill>
                <a:miter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7241760" y="1963800"/>
                <a:ext cx="586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de-DE" sz="16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=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98240" y="1978560"/>
                <a:ext cx="178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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with F</a:t>
                </a:r>
                <a:r>
                  <a:rPr b="1" lang="de-DE" sz="16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=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65400" y="3649680"/>
                <a:ext cx="96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de-DE" sz="16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 (GeV</a:t>
                </a:r>
                <a:r>
                  <a:rPr b="1" lang="de-DE" sz="1600" spc="-1" strike="noStrike" baseline="30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de-DE" sz="16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49920" y="1401840"/>
                <a:ext cx="17870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Radiator Function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V="1">
              <a:off x="5616720" y="3781080"/>
              <a:ext cx="369720" cy="63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341360" y="3846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9280" y="3720960"/>
            <a:ext cx="9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Times New Roman"/>
              </a:rPr>
              <a:t>We 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Times New Roman"/>
              </a:rPr>
              <a:t>here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219360" y="4894200"/>
            <a:ext cx="2110320" cy="1566720"/>
            <a:chOff x="6219360" y="4894200"/>
            <a:chExt cx="2110320" cy="1566720"/>
          </a:xfrm>
        </p:grpSpPr>
        <p:grpSp>
          <p:nvGrpSpPr>
            <p:cNvPr id="518" name=""/>
            <p:cNvGrpSpPr/>
            <p:nvPr/>
          </p:nvGrpSpPr>
          <p:grpSpPr>
            <a:xfrm>
              <a:off x="6870600" y="5573520"/>
              <a:ext cx="1459080" cy="887400"/>
              <a:chOff x="6870600" y="5573520"/>
              <a:chExt cx="1459080" cy="887400"/>
            </a:xfrm>
          </p:grpSpPr>
          <p:pic>
            <p:nvPicPr>
              <p:cNvPr id="519" name="" descr=""/>
              <p:cNvPicPr/>
              <p:nvPr/>
            </p:nvPicPr>
            <p:blipFill>
              <a:blip r:embed="rId5"/>
              <a:srcRect l="37846" t="44156" r="37846" b="44156"/>
              <a:stretch/>
            </p:blipFill>
            <p:spPr>
              <a:xfrm>
                <a:off x="6870600" y="5573520"/>
                <a:ext cx="1459080" cy="887400"/>
              </a:xfrm>
              <a:prstGeom prst="rect">
                <a:avLst/>
              </a:prstGeom>
              <a:ln w="9360">
                <a:solidFill>
                  <a:srgbClr val="40458c"/>
                </a:solidFill>
                <a:miter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6884280" y="5583600"/>
                <a:ext cx="1413000" cy="22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V="1">
              <a:off x="6237360" y="4894200"/>
              <a:ext cx="500040" cy="387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219360" y="5170320"/>
              <a:ext cx="1414440" cy="2160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626240" y="5170320"/>
              <a:ext cx="362160" cy="65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585-4428-413A-8D58-96A5CA6551DE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68198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error on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(theo)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is dominated by the error on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h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factors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1/s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(e</a:t>
            </a:r>
            <a:r>
              <a:rPr b="0" lang="it-IT" sz="24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e</a:t>
            </a:r>
            <a:r>
              <a:rPr b="0" lang="it-IT" sz="24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 hadr)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in the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5f5f5f"/>
                </a:solidFill>
                <a:latin typeface="Tahoma"/>
              </a:rPr>
              <a:t>integrand of the dispersion relation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make the low energ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egion and the large resonanc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articularly relev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channel accounts for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Tahoma"/>
              </a:rPr>
              <a:t>~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72% of the contribution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both to 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i="1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i="1" lang="it-IT" sz="2000" spc="-1" strike="noStrike" baseline="30000">
                <a:solidFill>
                  <a:srgbClr val="ff0066"/>
                </a:solidFill>
                <a:latin typeface="Tahoma"/>
              </a:rPr>
              <a:t>had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 and to </a:t>
            </a:r>
            <a:r>
              <a:rPr b="0" i="1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</a:t>
            </a:r>
            <a:r>
              <a:rPr b="0" i="1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(a</a:t>
            </a:r>
            <a:r>
              <a:rPr b="0" i="1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i="1" lang="it-IT" sz="2000" spc="-1" strike="noStrike" baseline="30000">
                <a:solidFill>
                  <a:srgbClr val="ff0066"/>
                </a:solidFill>
                <a:latin typeface="Tahoma"/>
              </a:rPr>
              <a:t>had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Contributions, as of today, to 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 baseline="30000">
                <a:solidFill>
                  <a:srgbClr val="1d15b7"/>
                </a:solidFill>
                <a:latin typeface="Symbol"/>
                <a:ea typeface="Symbol"/>
              </a:rPr>
              <a:t>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(a</a:t>
            </a:r>
            <a:r>
              <a:rPr b="0" lang="it-IT" sz="3200" spc="-1" strike="noStrike" baseline="-25000">
                <a:solidFill>
                  <a:srgbClr val="1d15b7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 baseline="30000">
                <a:solidFill>
                  <a:srgbClr val="1d15b7"/>
                </a:solidFill>
                <a:latin typeface="Tahoma"/>
              </a:rPr>
              <a:t>had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327800" y="1879560"/>
            <a:ext cx="1828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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&lt;0.5GeV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(except </a:t>
            </a: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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region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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est (&lt;1.8GeV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est (1.8-5 GeV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QCD (&gt;5GeV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69080" y="1547640"/>
          <a:ext cx="927000" cy="4892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1547640"/>
                    <a:ext cx="9270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67120" y="2649600"/>
          <a:ext cx="4057560" cy="2684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7120" y="2649600"/>
                    <a:ext cx="405756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V="1">
            <a:off x="5873760" y="280944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1360" y="2870280"/>
            <a:ext cx="10663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3657600"/>
            <a:ext cx="190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it-IT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(a</a:t>
            </a:r>
            <a:r>
              <a:rPr b="1" lang="it-IT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it-IT" sz="3200" spc="-1" strike="noStrike" baseline="30000">
                <a:solidFill>
                  <a:srgbClr val="ff0000"/>
                </a:solidFill>
                <a:latin typeface="Tahoma"/>
              </a:rPr>
              <a:t>had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05480" y="382284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05480" y="382212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 rot="20728200">
            <a:off x="5479560" y="3741840"/>
            <a:ext cx="761040" cy="84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86000" y="4419720"/>
            <a:ext cx="35053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854-9C7C-4DFC-98C9-4C23F39515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g-2_new_mtf" descr=""/>
          <p:cNvPicPr/>
          <p:nvPr/>
        </p:nvPicPr>
        <p:blipFill>
          <a:blip r:embed="rId1"/>
          <a:stretch/>
        </p:blipFill>
        <p:spPr>
          <a:xfrm>
            <a:off x="1322280" y="3048120"/>
            <a:ext cx="417348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6200000">
            <a:off x="484200" y="3877560"/>
            <a:ext cx="105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O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/‘0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32840" y="4614840"/>
            <a:ext cx="3126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-Italic"/>
              </a:rPr>
              <a:t>e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-Italic"/>
              </a:rPr>
              <a:t>+ </a:t>
            </a:r>
            <a:r>
              <a:rPr b="0" lang="en-US" sz="1800" spc="-1" strike="noStrike">
                <a:solidFill>
                  <a:srgbClr val="40458c"/>
                </a:solidFill>
                <a:latin typeface="Times-Italic"/>
              </a:rPr>
              <a:t>e</a:t>
            </a:r>
            <a:r>
              <a:rPr b="0" lang="en-US" sz="18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- Data: </a:t>
            </a:r>
            <a:r>
              <a:rPr b="0" lang="en-US" sz="1800" spc="-1" strike="noStrike">
                <a:solidFill>
                  <a:srgbClr val="ff0000"/>
                </a:solidFill>
                <a:latin typeface="Times-Italic"/>
              </a:rPr>
              <a:t>2.7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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 Deviation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33920" y="4925880"/>
            <a:ext cx="3143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ata:       </a:t>
            </a:r>
            <a:r>
              <a:rPr b="0" lang="en-US" sz="1800" spc="-1" strike="noStrike">
                <a:solidFill>
                  <a:srgbClr val="ff0000"/>
                </a:solidFill>
                <a:latin typeface="Times-Italic"/>
              </a:rPr>
              <a:t>1.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- Deviation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6200" y="5411880"/>
            <a:ext cx="8385120" cy="1136520"/>
          </a:xfrm>
          <a:prstGeom prst="rect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14720" y="5674320"/>
            <a:ext cx="120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Experi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20/‘0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95760" y="5356080"/>
            <a:ext cx="327348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Times New Roman"/>
              </a:rPr>
              <a:t>Experiment BNL-E82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Values for </a:t>
            </a:r>
            <a:r>
              <a:rPr b="0" lang="de-DE" sz="18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de-DE" sz="18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</a:t>
            </a:r>
            <a:r>
              <a:rPr b="0" lang="de-DE" sz="1800" spc="-1" strike="noStrike">
                <a:solidFill>
                  <a:srgbClr val="33cc33"/>
                </a:solidFill>
                <a:latin typeface="Symbol"/>
                <a:ea typeface="Symbol"/>
              </a:rPr>
              <a:t>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2002) and </a:t>
            </a:r>
            <a:r>
              <a:rPr b="0" lang="de-DE" sz="18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de-DE" sz="18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</a:t>
            </a:r>
            <a:r>
              <a:rPr b="0" lang="de-DE" sz="1800" spc="-1" strike="noStrike">
                <a:solidFill>
                  <a:srgbClr val="40458c"/>
                </a:solidFill>
                <a:latin typeface="Symbol"/>
                <a:ea typeface="Symbol"/>
              </a:rPr>
              <a:t>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200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in agreement with each othe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Precision:</a:t>
            </a:r>
            <a:r>
              <a:rPr b="0" lang="de-DE" sz="18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33cc33"/>
                </a:solidFill>
                <a:latin typeface="Times-Italic"/>
              </a:rPr>
              <a:t>0.5pp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5960" y="3075120"/>
            <a:ext cx="35949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New cross section data hav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recently lowered theory erro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a)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MD-2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(Novosibirsk) </a:t>
            </a:r>
            <a:r>
              <a:rPr b="0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</a:t>
            </a:r>
            <a:r>
              <a:rPr b="0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channel with </a:t>
            </a:r>
            <a:r>
              <a:rPr b="0" lang="en-US" sz="1600" spc="-1" strike="noStrike">
                <a:solidFill>
                  <a:srgbClr val="0000ff"/>
                </a:solidFill>
                <a:latin typeface="Times-Italic"/>
              </a:rPr>
              <a:t>0.6%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precision &lt; </a:t>
            </a:r>
            <a:r>
              <a:rPr b="0" lang="en-US" sz="1600" spc="-1" strike="noStrike">
                <a:solidFill>
                  <a:srgbClr val="0000ff"/>
                </a:solidFill>
                <a:latin typeface="Times-Italic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GeV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b)   </a:t>
            </a:r>
            <a:r>
              <a:rPr b="0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-Data from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LEPH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/OPAL/CLE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3065400"/>
            <a:ext cx="8385120" cy="226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4492800"/>
            <a:ext cx="409896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2800" y="420372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analysis of e+e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0480" y="4492800"/>
            <a:ext cx="0" cy="1317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957120" y="4624560"/>
            <a:ext cx="513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The role of the 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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and evaluation of a</a:t>
            </a:r>
            <a:r>
              <a:rPr b="0" lang="it-IT" sz="3200" spc="-1" strike="noStrike" baseline="-25000">
                <a:solidFill>
                  <a:srgbClr val="1d15b7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pic>
        <p:nvPicPr>
          <p:cNvPr id="132" name="taus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655800" cy="1652760"/>
          </a:xfrm>
          <a:prstGeom prst="rect">
            <a:avLst/>
          </a:prstGeom>
          <a:ln w="12600">
            <a:solidFill>
              <a:srgbClr val="6600cc"/>
            </a:solidFill>
            <a:miter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i="1" lang="it-IT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i="1" lang="it-IT" sz="2000" spc="-1" strike="noStrike" baseline="30000">
                <a:solidFill>
                  <a:srgbClr val="40458c"/>
                </a:solidFill>
                <a:latin typeface="Times New Roman"/>
              </a:rPr>
              <a:t>HAD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 can also be evaluated starting from 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data and using the (approximate) isospin invaria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649600" y="457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72c0b"/>
                </a:solidFill>
                <a:latin typeface="Tahoma"/>
              </a:rPr>
              <a:t>e</a:t>
            </a:r>
            <a:r>
              <a:rPr b="0" lang="it-IT" sz="2000" spc="-1" strike="noStrike" baseline="30000">
                <a:solidFill>
                  <a:srgbClr val="a72c0b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a72c0b"/>
                </a:solidFill>
                <a:latin typeface="Tahoma"/>
              </a:rPr>
              <a:t>e</a:t>
            </a:r>
            <a:r>
              <a:rPr b="0" lang="it-IT" sz="2000" spc="-1" strike="noStrike" baseline="30000">
                <a:solidFill>
                  <a:srgbClr val="a72c0b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a72c0b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a72c0b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a72c0b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a72c0b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5640" y="48769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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572000"/>
            <a:ext cx="3047760" cy="6858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8280" y="2133720"/>
            <a:ext cx="5295960" cy="387324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34880" y="1432080"/>
            <a:ext cx="85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eviation btw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MD-2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Data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in a limited Energy Rang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bove th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Peak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520" y="258840"/>
            <a:ext cx="74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Comparison of e</a:t>
            </a:r>
            <a:r>
              <a:rPr b="0" lang="en-US" sz="3200" spc="-1" strike="noStrike" baseline="30000">
                <a:solidFill>
                  <a:srgbClr val="1d15b7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1d15b7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vs. </a:t>
            </a:r>
            <a:r>
              <a:rPr b="0" lang="en-US" sz="3200" spc="-1" strike="noStrike">
                <a:solidFill>
                  <a:srgbClr val="1d15b7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 for 2</a:t>
            </a:r>
            <a:r>
              <a:rPr b="0" lang="en-US" sz="3200" spc="-1" strike="noStrike">
                <a:solidFill>
                  <a:srgbClr val="1d15b7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1d15b7"/>
                </a:solidFill>
                <a:latin typeface="Tahoma"/>
              </a:rPr>
              <a:t> chann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57760" y="3935160"/>
            <a:ext cx="4657680" cy="2084400"/>
            <a:chOff x="3857760" y="3935160"/>
            <a:chExt cx="4657680" cy="2084400"/>
          </a:xfrm>
        </p:grpSpPr>
        <p:sp>
          <p:nvSpPr>
            <p:cNvPr id="141" name=""/>
            <p:cNvSpPr/>
            <p:nvPr/>
          </p:nvSpPr>
          <p:spPr>
            <a:xfrm>
              <a:off x="4740120" y="5062680"/>
              <a:ext cx="739800" cy="944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479920" y="5448240"/>
              <a:ext cx="129708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34520" y="4105440"/>
              <a:ext cx="1780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Data are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ystematicall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igher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10% !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240080" y="3552480"/>
              <a:ext cx="1111320" cy="1876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53240" y="3581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n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01D-9E3A-4C6E-8DBD-154C1353D86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(had) through the radiative return at</a:t>
            </a:r>
            <a:br>
              <a:rPr sz="3200"/>
            </a:b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 KLOE </a:t>
            </a:r>
            <a:r>
              <a:rPr b="0" lang="it-IT" sz="2400" spc="-1" strike="noStrike">
                <a:solidFill>
                  <a:srgbClr val="1d15b7"/>
                </a:solidFill>
                <a:latin typeface="Tahoma"/>
              </a:rPr>
              <a:t>(hep-ex/</a:t>
            </a:r>
            <a:r>
              <a:rPr b="0" lang="en-GB" sz="2400" spc="-1" strike="noStrike">
                <a:solidFill>
                  <a:srgbClr val="1d15b7"/>
                </a:solidFill>
                <a:latin typeface="Tahoma"/>
              </a:rPr>
              <a:t>0407048, submitted to Phys.Lett.B)</a:t>
            </a: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 way to get the hadronic cross section 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(e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+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e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s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t a fixed energy machine: </a:t>
            </a:r>
            <a:r>
              <a:rPr b="1" i="1" lang="it-IT" sz="2000" spc="-1" strike="noStrike">
                <a:solidFill>
                  <a:srgbClr val="40458c"/>
                </a:solidFill>
                <a:latin typeface="Tahoma"/>
              </a:rPr>
              <a:t>the Radiative Retur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040408"/>
                </a:solidFill>
                <a:latin typeface="Tahoma"/>
              </a:rPr>
              <a:t>(Binner, Kuehn, Melnikov, Phys.Lett. B 459 (1999) 279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8" name="ppg" descr=""/>
          <p:cNvPicPr/>
          <p:nvPr/>
        </p:nvPicPr>
        <p:blipFill>
          <a:blip r:embed="rId2"/>
          <a:stretch/>
        </p:blipFill>
        <p:spPr>
          <a:xfrm>
            <a:off x="2971800" y="2647800"/>
            <a:ext cx="2895480" cy="222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3333600"/>
            <a:ext cx="381240" cy="38124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2640" y="2681280"/>
            <a:ext cx="6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1" i="1" lang="it-IT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581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it-IT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105000"/>
            <a:ext cx="261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Radiation fun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0" lang="it-IT" sz="24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it-IT" sz="24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6576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81160" y="4711680"/>
                <a:ext cx="6986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f>
                      <m:num>
                        <m:r>
                          <m:t xml:space="preserve">dσ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φ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28600" y="5091120"/>
            <a:ext cx="82580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,</a:t>
            </a: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invariant mass of the hadronic system, varies continuously  between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06600" y="6019920"/>
            <a:ext cx="3758040" cy="440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4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s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= (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–2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·E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) 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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9718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EE9-54D9-4B2F-8459-CA743ADBC1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Radiative return: an independent </a:t>
            </a:r>
            <a:br>
              <a:rPr sz="3200"/>
            </a:b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method to measure 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(had)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66"/>
              </a:buClr>
              <a:buSzPct val="11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luminosity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energy sc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is estabilished at 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s=M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and applies to all values of 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s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66"/>
              </a:buClr>
              <a:buSzPct val="11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o not need to run the collider at different energ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72c0b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72c0b"/>
                </a:solidFill>
                <a:latin typeface="Tahoma"/>
              </a:rPr>
              <a:t>requires precise understanding of </a:t>
            </a:r>
            <a:r>
              <a:rPr b="0" lang="it-IT" sz="2000" spc="-1" strike="noStrike">
                <a:solidFill>
                  <a:srgbClr val="008000"/>
                </a:solidFill>
                <a:latin typeface="Tahoma"/>
              </a:rPr>
              <a:t>radiative processes, including simulateous emission of photons from Initial (ISR) and Final state (FS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MC used by KLOE :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HOKHARA</a:t>
            </a: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. Kühn, H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zy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ż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G. Rodrig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848700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5B2-741F-45D7-B885-9E1B2417B3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DA</a:t>
            </a:r>
            <a:r>
              <a:rPr b="0" lang="it-IT" sz="3200" spc="-1" strike="noStrike">
                <a:solidFill>
                  <a:srgbClr val="1d15b7"/>
                </a:solidFill>
                <a:latin typeface="Symbol"/>
                <a:ea typeface="Symbol"/>
              </a:rPr>
              <a:t>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NE e</a:t>
            </a:r>
            <a:r>
              <a:rPr b="0" lang="it-IT" sz="3200" spc="-1" strike="noStrike" baseline="30000">
                <a:solidFill>
                  <a:srgbClr val="1d15b7"/>
                </a:solidFill>
                <a:latin typeface="Tahoma"/>
              </a:rPr>
              <a:t>+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e</a:t>
            </a:r>
            <a:r>
              <a:rPr b="0" lang="it-IT" sz="3200" spc="-1" strike="noStrike" baseline="30000">
                <a:solidFill>
                  <a:srgbClr val="1d15b7"/>
                </a:solidFill>
                <a:latin typeface="Tahoma"/>
              </a:rPr>
              <a:t>-</a:t>
            </a: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 machine at Frascati (Rome)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pic>
        <p:nvPicPr>
          <p:cNvPr id="162" name="lnf_dafne_new" descr=""/>
          <p:cNvPicPr/>
          <p:nvPr/>
        </p:nvPicPr>
        <p:blipFill>
          <a:blip r:embed="rId1">
            <a:lum bright="18000"/>
          </a:blip>
          <a:srcRect l="2617" t="7963" r="3162" b="5795"/>
          <a:stretch/>
        </p:blipFill>
        <p:spPr>
          <a:xfrm>
            <a:off x="76320" y="1600200"/>
            <a:ext cx="5486400" cy="373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5334120"/>
            <a:ext cx="5410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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=  1019.4 Me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ams cross at an angle of 12.5 mrad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AB momentum 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13 MeV/c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5880" y="4419720"/>
          <a:ext cx="2514600" cy="2097000"/>
        </p:xfrm>
        <a:graphic>
          <a:graphicData uri="http://schemas.openxmlformats.org/drawingml/2006/table">
            <a:tbl>
              <a:tblPr/>
              <a:tblGrid>
                <a:gridCol w="1549440"/>
                <a:gridCol w="965160"/>
              </a:tblGrid>
              <a:tr h="699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R’s for selected </a:t>
                      </a:r>
                      <a:r>
                        <a:rPr b="0" i="1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i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decay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18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+</a:t>
                      </a:r>
                      <a:r>
                        <a:rPr b="0" i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18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9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a72c0b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1800" spc="-1" strike="noStrike" baseline="-25000">
                          <a:solidFill>
                            <a:srgbClr val="a72c0b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1800" spc="-1" strike="noStrike">
                          <a:solidFill>
                            <a:srgbClr val="a72c0b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1800" spc="-1" strike="noStrike" baseline="-25000">
                          <a:solidFill>
                            <a:srgbClr val="a72c0b"/>
                          </a:solidFill>
                          <a:latin typeface="Tahoma"/>
                        </a:rPr>
                        <a:t>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72c0b"/>
                          </a:solidFill>
                          <a:latin typeface="Tahoma"/>
                        </a:rPr>
                        <a:t>34.1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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292929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.5%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895480" y="38098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61280" y="373392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1" lang="it-IT" sz="20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349884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3160" y="341316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9" name="KLOE_LOGO" descr=""/>
          <p:cNvPicPr/>
          <p:nvPr/>
        </p:nvPicPr>
        <p:blipFill>
          <a:blip r:embed="rId2"/>
          <a:stretch/>
        </p:blipFill>
        <p:spPr>
          <a:xfrm>
            <a:off x="1981080" y="3360600"/>
            <a:ext cx="374760" cy="220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6880" y="2743200"/>
            <a:ext cx="1870920" cy="398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72c0b"/>
                </a:solidFill>
                <a:latin typeface="Times New Roman"/>
              </a:rPr>
              <a:t>KLOE dete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1676520"/>
            <a:ext cx="274320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Cross section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3.3 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ee</a:t>
            </a:r>
            <a:r>
              <a:rPr b="0" lang="it-IT" sz="2400" spc="-1" strike="noStrike">
                <a:solidFill>
                  <a:srgbClr val="008000"/>
                </a:solidFill>
                <a:latin typeface="Symbol"/>
                <a:ea typeface="Symbol"/>
              </a:rPr>
              <a:t>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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ee</a:t>
            </a:r>
            <a:r>
              <a:rPr b="0" lang="it-IT" sz="2400" spc="-1" strike="noStrike">
                <a:solidFill>
                  <a:srgbClr val="008000"/>
                </a:solidFill>
                <a:latin typeface="Symbol"/>
                <a:ea typeface="Symbol"/>
              </a:rPr>
              <a:t>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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</a:t>
            </a:r>
            <a:r>
              <a:rPr b="0" lang="it-IT" sz="2400" spc="-1" strike="noStrike" baseline="-25000">
                <a:solidFill>
                  <a:srgbClr val="a72c0b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</a:t>
            </a:r>
            <a:r>
              <a:rPr b="0" lang="it-IT" sz="2400" spc="-1" strike="noStrike" baseline="30000">
                <a:solidFill>
                  <a:srgbClr val="a72c0b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Symbol"/>
                <a:ea typeface="Symbol"/>
              </a:rPr>
              <a:t>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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Symbol"/>
                <a:ea typeface="Symbol"/>
              </a:rPr>
              <a:t></a:t>
            </a: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a72c0b"/>
                </a:solidFill>
                <a:latin typeface="Symbol"/>
                <a:ea typeface="Symbol"/>
              </a:rPr>
              <a:t></a:t>
            </a:r>
            <a:r>
              <a:rPr b="0" lang="it-IT" sz="2400" spc="-1" strike="noStrike">
                <a:solidFill>
                  <a:srgbClr val="a72c0b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EA7-70E5-43A5-893B-1B4104A923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15b7"/>
                </a:solidFill>
                <a:latin typeface="Tahoma"/>
              </a:rPr>
              <a:t>KLOE detector and Fiducial Volume</a:t>
            </a:r>
            <a:endParaRPr b="0" lang="en-US" sz="32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80" y="1447560"/>
            <a:ext cx="4749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efinition of fiducial volum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50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o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&lt;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&lt;130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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&lt;15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o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 or </a:t>
            </a:r>
            <a:r>
              <a:rPr b="0" lang="it-IT" sz="20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&gt;165</a:t>
            </a:r>
            <a:r>
              <a:rPr b="0" lang="it-IT" sz="2000" spc="-1" strike="noStrike" baseline="30000">
                <a:solidFill>
                  <a:srgbClr val="ff0066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where</a:t>
            </a:r>
            <a:r>
              <a:rPr b="0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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is the two-pion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is cut </a:t>
            </a: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enhances the signal wrt ee</a:t>
            </a:r>
            <a:r>
              <a:rPr b="0" lang="it-IT" sz="2000" spc="-1" strike="noStrike">
                <a:solidFill>
                  <a:srgbClr val="5f5f5f"/>
                </a:solidFill>
                <a:latin typeface="Symbol"/>
                <a:ea typeface="Symbol"/>
              </a:rPr>
              <a:t></a:t>
            </a: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 events in which the photon is radiated from the pion (final state radiation: FS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24280" y="1600200"/>
            <a:ext cx="4330800" cy="3888720"/>
            <a:chOff x="4724280" y="1600200"/>
            <a:chExt cx="4330800" cy="3888720"/>
          </a:xfrm>
        </p:grpSpPr>
        <p:grpSp>
          <p:nvGrpSpPr>
            <p:cNvPr id="176" name=""/>
            <p:cNvGrpSpPr/>
            <p:nvPr/>
          </p:nvGrpSpPr>
          <p:grpSpPr>
            <a:xfrm>
              <a:off x="5452920" y="1600200"/>
              <a:ext cx="3221280" cy="3533760"/>
              <a:chOff x="5452920" y="1600200"/>
              <a:chExt cx="3221280" cy="353376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5553360" y="3184560"/>
              <a:ext cx="6120" cy="6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53360" y="3184560"/>
                        <a:ext cx="6120" cy="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9" name=""/>
              <p:cNvSpPr/>
              <p:nvPr/>
            </p:nvSpPr>
            <p:spPr>
              <a:xfrm>
                <a:off x="5452920" y="1600200"/>
                <a:ext cx="3221280" cy="353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52920" y="1600200"/>
                <a:ext cx="3221280" cy="353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52920" y="4155480"/>
                <a:ext cx="3221280" cy="97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920" y="3177000"/>
                <a:ext cx="3221280" cy="9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452920" y="2198520"/>
                <a:ext cx="3221280" cy="9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52920" y="1600200"/>
                <a:ext cx="322128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5834160" y="1873080"/>
              <a:ext cx="2209680" cy="266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834160" y="1873080"/>
              <a:ext cx="2209680" cy="266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1800" y="3232080"/>
              <a:ext cx="914400" cy="533520"/>
            </a:xfrm>
            <a:prstGeom prst="triangle">
              <a:avLst>
                <a:gd name="adj" fmla="val 50000"/>
              </a:avLst>
            </a:prstGeom>
            <a:solidFill>
              <a:srgbClr val="f693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81800" y="2640960"/>
              <a:ext cx="914400" cy="533160"/>
            </a:xfrm>
            <a:prstGeom prst="triangle">
              <a:avLst>
                <a:gd name="adj" fmla="val 50000"/>
              </a:avLst>
            </a:prstGeom>
            <a:solidFill>
              <a:srgbClr val="f693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0280" y="261144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1" i="1" lang="it-IT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3800" y="3348000"/>
              <a:ext cx="39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1" i="1" lang="it-IT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34160" y="3022560"/>
              <a:ext cx="2209680" cy="380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808600" y="3053880"/>
              <a:ext cx="2210040" cy="3812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5400000">
              <a:off x="6207840" y="2717640"/>
              <a:ext cx="349200" cy="1009800"/>
            </a:xfrm>
            <a:prstGeom prst="triangle">
              <a:avLst>
                <a:gd name="adj" fmla="val 50000"/>
              </a:avLst>
            </a:prstGeom>
            <a:solidFill>
              <a:srgbClr val="8587e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962440"/>
              <a:ext cx="55908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</a:t>
              </a:r>
              <a:r>
                <a:rPr b="1" i="1" lang="it-IT" sz="2400" spc="-1" strike="noStrike" baseline="-25000">
                  <a:solidFill>
                    <a:srgbClr val="40458c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7307280" y="2718000"/>
              <a:ext cx="349200" cy="1009440"/>
            </a:xfrm>
            <a:prstGeom prst="triangle">
              <a:avLst>
                <a:gd name="adj" fmla="val 50000"/>
              </a:avLst>
            </a:prstGeom>
            <a:solidFill>
              <a:srgbClr val="8587e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1560" y="3225960"/>
              <a:ext cx="615960" cy="61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94040" y="5029200"/>
              <a:ext cx="73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40458c"/>
                  </a:solidFill>
                  <a:latin typeface="Tahoma"/>
                </a:rPr>
                <a:t>6 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22840" y="2971800"/>
              <a:ext cx="73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40458c"/>
                  </a:solidFill>
                  <a:latin typeface="Tahoma"/>
                </a:rPr>
                <a:t>7 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5423040"/>
            <a:ext cx="8686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he price is that the </a:t>
            </a:r>
            <a:r>
              <a:rPr b="0" i="1" lang="it-IT" sz="2000" spc="-1" strike="noStrike">
                <a:solidFill>
                  <a:srgbClr val="5f5f5f"/>
                </a:solidFill>
                <a:latin typeface="Tahoma"/>
              </a:rPr>
              <a:t>kinematic region below s</a:t>
            </a:r>
            <a:r>
              <a:rPr b="0" i="1" lang="it-IT" sz="2000" spc="-1" strike="noStrike" baseline="-25000">
                <a:solidFill>
                  <a:srgbClr val="5f5f5f"/>
                </a:solidFill>
                <a:latin typeface="Symbol"/>
                <a:ea typeface="Symbol"/>
              </a:rPr>
              <a:t></a:t>
            </a:r>
            <a:r>
              <a:rPr b="0" i="1" lang="it-IT" sz="2000" spc="-1" strike="noStrike">
                <a:solidFill>
                  <a:srgbClr val="5f5f5f"/>
                </a:solidFill>
                <a:latin typeface="Tahoma"/>
              </a:rPr>
              <a:t>=0.3GeV</a:t>
            </a:r>
            <a:r>
              <a:rPr b="0" i="1" lang="it-IT" sz="20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i="1" lang="it-IT" sz="2000" spc="-1" strike="noStrike">
                <a:solidFill>
                  <a:srgbClr val="5f5f5f"/>
                </a:solidFill>
                <a:latin typeface="Tahoma"/>
              </a:rPr>
              <a:t> cannot be probed by these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ff0066"/>
                </a:solidFill>
                <a:latin typeface="Tahoma"/>
              </a:rPr>
              <a:t>small photon angle events (we need large angle analysis, which is in progres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Venanz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9A1-3C11-437B-9F24-8247EAA657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HEP'04 Beijing, 17 August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16:20:56Z</dcterms:created>
  <dc:creator>Graziano Venanzoni</dc:creator>
  <dc:description/>
  <dc:language>en-US</dc:language>
  <cp:lastModifiedBy>graziano</cp:lastModifiedBy>
  <dcterms:modified xsi:type="dcterms:W3CDTF">2004-08-16T06:52:26Z</dcterms:modified>
  <cp:revision>180</cp:revision>
  <dc:subject/>
  <dc:title>Measuring the Hadronic Cross Section at KLOE</dc:title>
</cp:coreProperties>
</file>