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59.wmf" ContentType="image/x-wmf"/>
  <Override PartName="/ppt/media/image56.jpeg" ContentType="image/jpeg"/>
  <Override PartName="/ppt/media/image53.png" ContentType="image/png"/>
  <Override PartName="/ppt/media/image55.png" ContentType="image/png"/>
  <Override PartName="/ppt/media/image50.jpeg" ContentType="image/jpeg"/>
  <Override PartName="/ppt/media/image51.wmf" ContentType="image/x-wmf"/>
  <Override PartName="/ppt/media/image29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35.png" ContentType="image/png"/>
  <Override PartName="/ppt/media/image43.jpeg" ContentType="image/jpeg"/>
  <Override PartName="/ppt/media/image5.png" ContentType="image/png"/>
  <Override PartName="/ppt/media/image17.png" ContentType="image/png"/>
  <Override PartName="/ppt/media/image28.wmf" ContentType="image/x-wmf"/>
  <Override PartName="/ppt/media/image14.jpeg" ContentType="image/jpeg"/>
  <Override PartName="/ppt/media/image32.wmf" ContentType="image/x-wmf"/>
  <Override PartName="/ppt/media/image4.wmf" ContentType="image/x-wmf"/>
  <Override PartName="/ppt/media/image27.wmf" ContentType="image/x-wmf"/>
  <Override PartName="/ppt/media/image9.wmf" ContentType="image/x-wmf"/>
  <Override PartName="/ppt/media/image69.jpeg" ContentType="image/jpeg"/>
  <Override PartName="/ppt/media/image3.jpeg" ContentType="image/jpeg"/>
  <Override PartName="/ppt/media/image41.png" ContentType="image/png"/>
  <Override PartName="/ppt/media/image58.png" ContentType="image/png"/>
  <Override PartName="/ppt/media/image21.png" ContentType="image/png"/>
  <Override PartName="/ppt/media/image16.jpeg" ContentType="image/jpeg"/>
  <Override PartName="/ppt/media/image18.wmf" ContentType="image/x-wmf"/>
  <Override PartName="/ppt/media/image20.png" ContentType="image/png"/>
  <Override PartName="/ppt/media/image57.png" ContentType="image/png"/>
  <Override PartName="/ppt/media/image66.wmf" ContentType="image/x-wmf"/>
  <Override PartName="/ppt/media/image64.png" ContentType="image/png"/>
  <Override PartName="/ppt/media/image15.jpeg" ContentType="image/jpeg"/>
  <Override PartName="/ppt/media/image63.png" ContentType="image/png"/>
  <Override PartName="/ppt/media/image24.wmf" ContentType="image/x-wmf"/>
  <Override PartName="/ppt/media/image2.png" ContentType="image/png"/>
  <Override PartName="/ppt/media/image62.png" ContentType="image/png"/>
  <Override PartName="/ppt/media/image67.jpeg" ContentType="image/jpeg"/>
  <Override PartName="/ppt/media/image26.wmf" ContentType="image/x-wmf"/>
  <Override PartName="/ppt/media/image22.png" ContentType="image/png"/>
  <Override PartName="/ppt/media/image60.png" ContentType="image/png"/>
  <Override PartName="/ppt/media/image23.png" ContentType="image/png"/>
  <Override PartName="/ppt/media/image10.jpeg" ContentType="image/jpeg"/>
  <Override PartName="/ppt/media/image54.png" ContentType="image/png"/>
  <Override PartName="/ppt/media/image11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png" ContentType="image/png"/>
  <Override PartName="/ppt/media/image49.png" ContentType="image/png"/>
  <Override PartName="/ppt/media/image65.jpeg" ContentType="image/jpeg"/>
  <Override PartName="/ppt/media/image30.wmf" ContentType="image/x-wmf"/>
  <Override PartName="/ppt/media/image31.wmf" ContentType="image/x-wmf"/>
  <Override PartName="/ppt/media/image33.wmf" ContentType="image/x-wmf"/>
  <Override PartName="/ppt/media/image52.jpeg" ContentType="image/jpeg"/>
  <Override PartName="/ppt/media/image1.png" ContentType="image/png"/>
  <Override PartName="/ppt/media/image13.png" ContentType="image/png"/>
  <Override PartName="/ppt/media/image34.png" ContentType="image/png"/>
  <Override PartName="/ppt/media/image68.jpeg" ContentType="image/jpeg"/>
  <Override PartName="/ppt/media/image36.wmf" ContentType="image/x-wmf"/>
  <Override PartName="/ppt/media/image25.wmf" ContentType="image/x-wmf"/>
  <Override PartName="/ppt/media/image47.jpeg" ContentType="image/jpeg"/>
  <Override PartName="/ppt/media/image61.wmf" ContentType="image/x-wmf"/>
  <Override PartName="/ppt/media/image39.png" ContentType="image/png"/>
  <Override PartName="/ppt/media/image8.png" ContentType="image/png"/>
  <Override PartName="/ppt/media/image42.wmf" ContentType="image/x-wmf"/>
  <Override PartName="/ppt/media/image6.png" ContentType="image/png"/>
  <Override PartName="/ppt/media/image40.wmf" ContentType="image/x-wmf"/>
  <Override PartName="/ppt/media/image38.png" ContentType="image/png"/>
  <Override PartName="/ppt/media/image4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lstStyle>
            <a:lvl1pPr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75A1CA69-62EA-4302-A99F-1567C264360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solution evaluated on the Ks-&gt;p0p0(Dalitz) .. 6.5 in meegg and 1 in mg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so trigger eff evaluated from the same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solution evaluated on the Ks-&gt;p0p0(Dalitz) .. 6.5 mev in meegg and 1 in mg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so trigger eff evaluated from the same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solution from KL-&gt;p0p+p- : sMgg =0.8 mev and sMggp = 3 mev. Tr eff from KL-&lt; p0p+p- . Flux from KS-&gt;p+p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6346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11640" y="6310440"/>
            <a:ext cx="2925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cc66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6600"/>
                </a:solidFill>
                <a:latin typeface="Comic Sans MS"/>
              </a:rPr>
              <a:t>ICHEP04 Beijing 16-22 aug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9968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18560" cy="146988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Rare Kaon Decays and CP, TCP Vi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2920" y="4149360"/>
            <a:ext cx="6256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incenzo Patera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NF/INF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675360" y="6165720"/>
            <a:ext cx="32896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From KLOE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77044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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@E949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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he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716360" y="2060640"/>
          <a:ext cx="3960720" cy="3109680"/>
        </p:xfrm>
        <a:graphic>
          <a:graphicData uri="http://schemas.openxmlformats.org/drawingml/2006/table">
            <a:tbl>
              <a:tblPr/>
              <a:tblGrid>
                <a:gridCol w="1189080"/>
                <a:gridCol w="1384200"/>
                <a:gridCol w="1387440"/>
              </a:tblGrid>
              <a:tr h="388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9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K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9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8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ce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±2)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±2)x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. ev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 b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±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±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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am b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326880" y="1197000"/>
            <a:ext cx="3943080" cy="4176720"/>
            <a:chOff x="326880" y="1197000"/>
            <a:chExt cx="3943080" cy="417672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rcRect l="0" t="0" r="7157" b="156"/>
            <a:stretch/>
          </p:blipFill>
          <p:spPr>
            <a:xfrm>
              <a:off x="326880" y="1197000"/>
              <a:ext cx="388476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508560" y="2292480"/>
              <a:ext cx="761400" cy="33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E94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058920" y="2492280"/>
              <a:ext cx="433080" cy="14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88800" y="3319560"/>
              <a:ext cx="761400" cy="33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78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411280" y="3500280"/>
              <a:ext cx="64800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356000" y="126828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Comic Sans MS"/>
              </a:rPr>
              <a:t>Opening the box a new event is fou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661000"/>
            <a:ext cx="84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ackground check: compare events predicted vs observed loosening one cut vs the other. Acceptance from MC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erified on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554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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@E949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95280" y="1773360"/>
                <a:ext cx="4135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ν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sup>
                    </m:sSub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24000" y="2997360"/>
                <a:ext cx="4321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ν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</m:sSub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4973760" y="5516640"/>
            <a:ext cx="375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E949(02) = combined E787&amp;E9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  <a:ea typeface="ＭＳ Ｐゴシック"/>
              </a:rPr>
              <a:t>E949 projection with </a:t>
            </a:r>
            <a:r>
              <a:rPr b="0" lang="en-US" sz="1800" spc="-1" strike="noStrike" u="sng">
                <a:solidFill>
                  <a:srgbClr val="ff00ff"/>
                </a:solidFill>
                <a:uFillTx/>
                <a:latin typeface="Comic Sans MS"/>
                <a:ea typeface="ＭＳ Ｐゴシック"/>
              </a:rPr>
              <a:t>full ru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3413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949 result (12 weeks of r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245592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E949 &amp; E787 combin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3860640"/>
            <a:ext cx="4467240" cy="2533320"/>
          </a:xfrm>
          <a:prstGeom prst="rect">
            <a:avLst/>
          </a:prstGeom>
          <a:noFill/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alysis of the </a:t>
            </a:r>
            <a:r>
              <a:rPr b="0" lang="it-IT" sz="2000" spc="-1" strike="noStrike">
                <a:solidFill>
                  <a:srgbClr val="008000"/>
                </a:solidFill>
                <a:latin typeface="Comic Sans MS"/>
              </a:rPr>
              <a:t>low momentum </a:t>
            </a:r>
            <a:r>
              <a:rPr b="0" lang="it-IT" sz="2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8000"/>
                </a:solidFill>
                <a:latin typeface="Comic Sans MS"/>
              </a:rPr>
              <a:t>regio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PNN2)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fforts to achieve on </a:t>
            </a:r>
            <a:r>
              <a:rPr b="0" lang="it-IT" sz="2000" spc="-1" strike="noStrike">
                <a:solidFill>
                  <a:srgbClr val="008000"/>
                </a:solidFill>
                <a:latin typeface="Comic Sans MS"/>
              </a:rPr>
              <a:t>PNN2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/N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 and sensitivity</a:t>
            </a:r>
            <a:r>
              <a:rPr b="0" lang="it-IT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milar</a:t>
            </a:r>
            <a:r>
              <a:rPr b="0" lang="it-IT" sz="2000" spc="-1" strike="noStrike">
                <a:solidFill>
                  <a:srgbClr val="008000"/>
                </a:solidFill>
                <a:latin typeface="Comic Sans MS"/>
              </a:rPr>
              <a:t> to PNN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949 was approved for </a:t>
            </a:r>
            <a:r>
              <a:rPr b="0" lang="it-IT" sz="2000" spc="-1" strike="noStrike">
                <a:solidFill>
                  <a:srgbClr val="008000"/>
                </a:solidFill>
                <a:latin typeface="Comic Sans MS"/>
              </a:rPr>
              <a:t>60 week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f data taking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more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at?? (bad news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7114" r="7314" b="0"/>
          <a:stretch/>
        </p:blipFill>
        <p:spPr>
          <a:xfrm>
            <a:off x="4788000" y="1484280"/>
            <a:ext cx="410508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61952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P: Im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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12720" y="4437000"/>
                <a:ext cx="81360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ν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ν</m:t>
                        </m:r>
                      </m:e>
                    </m:acc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e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Im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b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  <m:sub/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4500720" y="1268280"/>
            <a:ext cx="4392360" cy="304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irect measure of Im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o long distance eff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nly top loop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ery small theoretical error on SM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edi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rossmann-Nir boun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BR(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v) &lt; 4.4 x BR(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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&lt;  1.4 x 10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6720" y="6453360"/>
            <a:ext cx="2511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*Isidori hep-ph/0307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280" y="5589720"/>
            <a:ext cx="849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dream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or a theorist, a 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Comic Sans MS"/>
              </a:rPr>
              <a:t>nightmar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or an experimentalist. All neutral, 2/3 invisible final state: 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“Nothing to nothing”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404640"/>
            <a:ext cx="57600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6200" y="1052640"/>
            <a:ext cx="4178160" cy="3168360"/>
            <a:chOff x="106200" y="1052640"/>
            <a:chExt cx="4178160" cy="3168360"/>
          </a:xfrm>
        </p:grpSpPr>
        <p:sp>
          <p:nvSpPr>
            <p:cNvPr id="223" name=""/>
            <p:cNvSpPr/>
            <p:nvPr/>
          </p:nvSpPr>
          <p:spPr>
            <a:xfrm>
              <a:off x="663480" y="1471680"/>
              <a:ext cx="3268440" cy="2355840"/>
            </a:xfrm>
            <a:prstGeom prst="triangle">
              <a:avLst>
                <a:gd name="adj" fmla="val 28819"/>
              </a:avLst>
            </a:prstGeom>
            <a:solidFill>
              <a:srgbClr val="00ff99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3652560" y="3897360"/>
                  <a:ext cx="50796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,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106200" y="3830760"/>
                  <a:ext cx="579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,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1483920" y="1541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75000" y="34750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9720" y="34750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22280" y="1541520"/>
              <a:ext cx="0" cy="22176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4760" y="18813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41720" y="2655720"/>
              <a:ext cx="1189440" cy="50976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r>
                <a:rPr b="1" lang="en-US" sz="2000" spc="-1" strike="noStrike" baseline="-25000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→</a:t>
              </a: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ffff00"/>
                  </a:solidFill>
                  <a:latin typeface="Symbol"/>
                  <a:ea typeface="Symbol"/>
                </a:rPr>
                <a:t></a:t>
              </a: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7840" y="2708280"/>
              <a:ext cx="792360" cy="287280"/>
            </a:xfrm>
            <a:prstGeom prst="leftArrow">
              <a:avLst>
                <a:gd name="adj1" fmla="val 50000"/>
                <a:gd name="adj2" fmla="val 68954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195280" y="1484280"/>
              <a:ext cx="2089080" cy="440640"/>
              <a:chOff x="2195280" y="1484280"/>
              <a:chExt cx="2089080" cy="440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195280" y="1484280"/>
                <a:ext cx="2089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8000"/>
                    </a:solidFill>
                    <a:latin typeface="Comic Sans MS"/>
                  </a:rPr>
                  <a:t>Im </a:t>
                </a:r>
                <a:r>
                  <a:rPr b="1" lang="it-IT" sz="2000" spc="-1" strike="noStrike">
                    <a:solidFill>
                      <a:srgbClr val="008000"/>
                    </a:solidFill>
                    <a:latin typeface="Symbol"/>
                    <a:ea typeface="Symbol"/>
                  </a:rPr>
                  <a:t></a:t>
                </a:r>
                <a:r>
                  <a:rPr b="1" lang="it-IT" sz="2000" spc="-1" strike="noStrike" baseline="-25000">
                    <a:solidFill>
                      <a:srgbClr val="008000"/>
                    </a:solidFill>
                    <a:latin typeface="Comic Sans MS"/>
                  </a:rPr>
                  <a:t>t</a:t>
                </a:r>
                <a:r>
                  <a:rPr b="1" lang="it-IT" sz="2000" spc="-1" strike="noStrike">
                    <a:solidFill>
                      <a:srgbClr val="008000"/>
                    </a:solidFill>
                    <a:latin typeface="Comic Sans MS"/>
                  </a:rPr>
                  <a:t> = </a:t>
                </a:r>
                <a:r>
                  <a:rPr b="0" lang="it-IT" sz="2000" spc="-1" strike="noStrike">
                    <a:solidFill>
                      <a:srgbClr val="008000"/>
                    </a:solidFill>
                    <a:latin typeface="Comic Sans MS"/>
                  </a:rPr>
                  <a:t>A</a:t>
                </a:r>
                <a:r>
                  <a:rPr b="1" lang="it-IT" sz="2000" spc="-1" strike="noStrike" baseline="30000">
                    <a:solidFill>
                      <a:srgbClr val="008000"/>
                    </a:solidFill>
                    <a:latin typeface="Comic Sans MS"/>
                  </a:rPr>
                  <a:t>2</a:t>
                </a:r>
                <a:r>
                  <a:rPr b="1" lang="it-IT" sz="2000" spc="-1" strike="noStrike">
                    <a:solidFill>
                      <a:srgbClr val="008000"/>
                    </a:solidFill>
                    <a:latin typeface="Symbol"/>
                    <a:ea typeface="Symbol"/>
                  </a:rPr>
                  <a:t></a:t>
                </a:r>
                <a:r>
                  <a:rPr b="1" lang="it-IT" sz="2000" spc="-1" strike="noStrike" baseline="30000">
                    <a:solidFill>
                      <a:srgbClr val="008000"/>
                    </a:solidFill>
                    <a:latin typeface="Comic Sans MS"/>
                  </a:rPr>
                  <a:t>3 </a:t>
                </a:r>
                <a:r>
                  <a:rPr b="1" lang="it-IT" sz="2000" spc="-1" strike="noStrike">
                    <a:solidFill>
                      <a:srgbClr val="008000"/>
                    </a:solidFill>
                    <a:latin typeface="Symbol"/>
                    <a:ea typeface="Symbol"/>
                  </a:rPr>
                  <a:t>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922560" y="1555920"/>
                <a:ext cx="21600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258560" y="1052640"/>
                  <a:ext cx="68292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ρ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η</m:t>
                          </m:r>
                        </m:e>
                      </m:ba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539640" y="1989000"/>
              <a:ext cx="216000" cy="0"/>
            </a:xfrm>
            <a:prstGeom prst="line">
              <a:avLst/>
            </a:prstGeom>
            <a:ln w="1908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9116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(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)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KTeV @ Teva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8000" y="1138320"/>
            <a:ext cx="4835520" cy="5530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932360" y="1341360"/>
            <a:ext cx="4032360" cy="42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Charged particle momen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resolution &lt; 1% for p&gt;8 GeV/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Momentum scale known to 0.01% from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 K</a:t>
            </a:r>
            <a:r>
              <a:rPr b="0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3366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66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CsI energy resolution &lt; 1% for E</a:t>
            </a:r>
            <a:r>
              <a:rPr b="0" lang="en-US" sz="2000" spc="-1" strike="noStrike" baseline="-25000">
                <a:solidFill>
                  <a:srgbClr val="3366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&gt; 3 GeV; energy scale known to 0.1% from K</a:t>
            </a:r>
            <a:r>
              <a:rPr b="0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TRD system pion/electron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3366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66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 baseline="-25000">
                <a:solidFill>
                  <a:srgbClr val="336600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 with </a:t>
            </a:r>
            <a:r>
              <a:rPr b="0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6600"/>
                </a:solidFill>
                <a:latin typeface="Comic Sans MS"/>
              </a:rPr>
              <a:t>0</a:t>
            </a:r>
            <a:r>
              <a:rPr b="0" lang="en-US" sz="2000" spc="-1" strike="noStrike" baseline="-25000">
                <a:solidFill>
                  <a:srgbClr val="336600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3366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3366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used to normalize flux and accep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07680" y="551664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K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35280" y="2637000"/>
            <a:ext cx="865440" cy="3603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00000" y="1700280"/>
            <a:ext cx="1584360" cy="21744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3141720"/>
            <a:ext cx="1079280" cy="2160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4360" y="3500280"/>
            <a:ext cx="1079280" cy="2160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0000" y="2421000"/>
            <a:ext cx="1079640" cy="2160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00000" y="2133720"/>
            <a:ext cx="1079640" cy="2156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35760" y="6308640"/>
            <a:ext cx="35211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ore than 20 years history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08360" y="1197000"/>
            <a:ext cx="1008000" cy="287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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@KTeV: th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708360" y="1268280"/>
            <a:ext cx="5159160" cy="3886200"/>
            <a:chOff x="3708360" y="1268280"/>
            <a:chExt cx="5159160" cy="3886200"/>
          </a:xfrm>
        </p:grpSpPr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3708360" y="1268280"/>
              <a:ext cx="515916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441560" y="1344600"/>
              <a:ext cx="1131840" cy="10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MC BG Su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i="1" lang="en-US" sz="13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1" i="1" lang="en-US" sz="13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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</a:t>
              </a:r>
              <a:r>
                <a:rPr b="1" i="1" lang="en-US" sz="13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Signal MC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24000" y="1844640"/>
            <a:ext cx="331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1997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’/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nalysis of events with Dalitz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 dec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Bck 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4 order of magnitude higher wrt SM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" y="5300640"/>
            <a:ext cx="4896000" cy="87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R (K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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)&lt; 5.9x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e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)    PRD61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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E391a@KEK-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49240" y="426708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tecto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367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Pencil b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tector with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complete veto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  <a:ea typeface="ＭＳ Ｐゴシック"/>
              </a:rPr>
              <a:t>4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verage with thick calorime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ide acceptanc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  <a:ea typeface="ＭＳ Ｐゴシック"/>
              </a:rPr>
              <a:t>Doubl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cay chamb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peration in 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  <a:ea typeface="ＭＳ Ｐゴシック"/>
              </a:rPr>
              <a:t>high vacu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High P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  <a:ea typeface="ＭＳ Ｐゴシック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+ nothing sel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  <a:ea typeface="ＭＳ Ｐゴシック"/>
              </a:rPr>
              <a:t>Step by step approa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-PS E391a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JPAR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492360" y="4724280"/>
            <a:ext cx="5423040" cy="1657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rcRect l="0" t="9201" r="0" b="13706"/>
          <a:stretch/>
        </p:blipFill>
        <p:spPr>
          <a:xfrm>
            <a:off x="3995640" y="1916280"/>
            <a:ext cx="4649760" cy="2233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881960" y="191628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ncil B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54880" y="3862440"/>
            <a:ext cx="48420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7560" y="1355760"/>
            <a:ext cx="7716960" cy="510120"/>
          </a:xfrm>
          <a:prstGeom prst="rect">
            <a:avLst/>
          </a:prstGeom>
          <a:noFill/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irs detector designed for </a:t>
            </a:r>
            <a:r>
              <a:rPr b="0" lang="it-IT" sz="24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24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2400" spc="-1" strike="noStrike">
                <a:solidFill>
                  <a:srgbClr val="cc6600"/>
                </a:solidFill>
                <a:latin typeface="Symbol"/>
                <a:ea typeface="Symbol"/>
              </a:rPr>
              <a:t>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eto, veto, ve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11280" y="4022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792600" cy="2844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572000" y="4076640"/>
            <a:ext cx="38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tector integr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Jan 22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Start of Run I data ta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eb 18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End Run I data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Jun 30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28120" y="189000"/>
            <a:ext cx="562788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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: E391a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643280" y="1052640"/>
            <a:ext cx="379584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rcRect l="0" t="0" r="15044" b="1255"/>
          <a:stretch/>
        </p:blipFill>
        <p:spPr>
          <a:xfrm>
            <a:off x="4067280" y="1052640"/>
            <a:ext cx="4680000" cy="41036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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@E391a:Run I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98280" y="1227240"/>
            <a:ext cx="4042080" cy="2634120"/>
            <a:chOff x="98280" y="1227240"/>
            <a:chExt cx="4042080" cy="2634120"/>
          </a:xfrm>
        </p:grpSpPr>
        <p:pic>
          <p:nvPicPr>
            <p:cNvPr id="272" name="" descr=""/>
            <p:cNvPicPr/>
            <p:nvPr/>
          </p:nvPicPr>
          <p:blipFill>
            <a:blip r:embed="rId2"/>
            <a:srcRect l="47806" t="9096" r="0" b="7372"/>
            <a:stretch/>
          </p:blipFill>
          <p:spPr>
            <a:xfrm>
              <a:off x="244800" y="1227240"/>
              <a:ext cx="3647880" cy="22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973440" y="3524040"/>
              <a:ext cx="31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8000"/>
                  </a:solidFill>
                  <a:latin typeface="Comic Sans MS"/>
                  <a:ea typeface="ＭＳ Ｐゴシック"/>
                </a:rPr>
                <a:t>6-</a:t>
              </a:r>
              <a:r>
                <a:rPr b="0" lang="en-US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</a:t>
              </a: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  <a:ea typeface="ＭＳ Ｐゴシック"/>
                </a:rPr>
                <a:t> invariant mass (GeV/c</a:t>
              </a:r>
              <a:r>
                <a:rPr b="0" lang="en-US" sz="1600" spc="-1" strike="noStrike" baseline="30000">
                  <a:solidFill>
                    <a:srgbClr val="008000"/>
                  </a:solidFill>
                  <a:latin typeface="Comic Sans MS"/>
                  <a:ea typeface="ＭＳ Ｐゴシック"/>
                </a:rPr>
                <a:t>2</a:t>
              </a: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  <a:ea typeface="ＭＳ Ｐゴシック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8280" y="2228760"/>
              <a:ext cx="1572120" cy="426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Comic Sans MS"/>
                </a:rPr>
                <a:t>L</a:t>
              </a:r>
              <a:r>
                <a:rPr b="0" lang="en-US" sz="2400" spc="-1" strike="noStrike">
                  <a:solidFill>
                    <a:srgbClr val="008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008000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008000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008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79720" y="4005360"/>
            <a:ext cx="3812400" cy="2656440"/>
            <a:chOff x="279720" y="4005360"/>
            <a:chExt cx="3812400" cy="2656440"/>
          </a:xfrm>
        </p:grpSpPr>
        <p:pic>
          <p:nvPicPr>
            <p:cNvPr id="276" name="" descr=""/>
            <p:cNvPicPr/>
            <p:nvPr/>
          </p:nvPicPr>
          <p:blipFill>
            <a:blip r:embed="rId3"/>
            <a:srcRect l="49102" t="10562" r="0" b="6639"/>
            <a:stretch/>
          </p:blipFill>
          <p:spPr>
            <a:xfrm>
              <a:off x="398160" y="4005360"/>
              <a:ext cx="3590640" cy="23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068120" y="6324480"/>
              <a:ext cx="3024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  <a:ea typeface="ＭＳ Ｐゴシック"/>
                </a:rPr>
                <a:t>4-</a:t>
              </a:r>
              <a:r>
                <a:rPr b="0" lang="en-US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</a:t>
              </a: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  <a:ea typeface="ＭＳ Ｐゴシック"/>
                </a:rPr>
                <a:t> invariant mass (GeV/c</a:t>
              </a:r>
              <a:r>
                <a:rPr b="0" lang="en-US" sz="1600" spc="-1" strike="noStrike" baseline="30000">
                  <a:solidFill>
                    <a:srgbClr val="008000"/>
                  </a:solidFill>
                  <a:latin typeface="Comic Sans MS"/>
                  <a:ea typeface="ＭＳ Ｐゴシック"/>
                </a:rPr>
                <a:t>2</a:t>
              </a: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  <a:ea typeface="ＭＳ Ｐゴシック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9720" y="4884480"/>
              <a:ext cx="1303920" cy="426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Comic Sans MS"/>
                </a:rPr>
                <a:t>L</a:t>
              </a:r>
              <a:r>
                <a:rPr b="0" lang="en-US" sz="2400" spc="-1" strike="noStrike">
                  <a:solidFill>
                    <a:srgbClr val="008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008000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008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443640" y="1341360"/>
            <a:ext cx="2448000" cy="86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pected sensitivity by Run I: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4÷9x1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  <a:ea typeface="ＭＳ Ｐゴシック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89760" y="5394240"/>
            <a:ext cx="37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Results from Run I in fall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Requesting Run II in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554800" cy="706320"/>
          </a:xfrm>
          <a:prstGeom prst="rect">
            <a:avLst/>
          </a:prstGeom>
          <a:solidFill>
            <a:srgbClr val="00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P : Im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(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726920" y="2852640"/>
            <a:ext cx="1621080" cy="1646280"/>
            <a:chOff x="1726920" y="2852640"/>
            <a:chExt cx="1621080" cy="1646280"/>
          </a:xfrm>
        </p:grpSpPr>
        <p:sp>
          <p:nvSpPr>
            <p:cNvPr id="283" name=""/>
            <p:cNvSpPr/>
            <p:nvPr/>
          </p:nvSpPr>
          <p:spPr>
            <a:xfrm>
              <a:off x="1726920" y="3573360"/>
              <a:ext cx="1359720" cy="925560"/>
            </a:xfrm>
            <a:prstGeom prst="rect">
              <a:avLst/>
            </a:prstGeom>
            <a:solidFill>
              <a:srgbClr val="cc66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K</a:t>
              </a:r>
              <a:r>
                <a:rPr b="1" lang="en-US" sz="2000" spc="-1" strike="noStrike" baseline="-25000">
                  <a:solidFill>
                    <a:srgbClr val="ffff66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→</a:t>
              </a:r>
              <a:r>
                <a:rPr b="1" lang="en-US" sz="20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ffff66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e</a:t>
              </a:r>
              <a:r>
                <a:rPr b="1" lang="en-US" sz="2000" spc="-1" strike="noStrike" baseline="30000">
                  <a:solidFill>
                    <a:srgbClr val="ffff66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e</a:t>
              </a:r>
              <a:r>
                <a:rPr b="1" lang="en-US" sz="2000" spc="-1" strike="noStrike" baseline="30000">
                  <a:solidFill>
                    <a:srgbClr val="ffff66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K</a:t>
              </a:r>
              <a:r>
                <a:rPr b="1" lang="en-US" sz="2000" spc="-1" strike="noStrike" baseline="-25000">
                  <a:solidFill>
                    <a:srgbClr val="ffff66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→</a:t>
              </a:r>
              <a:r>
                <a:rPr b="1" lang="en-US" sz="20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ffff66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 baseline="30000">
                  <a:solidFill>
                    <a:srgbClr val="ffff66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 baseline="30000">
                  <a:solidFill>
                    <a:srgbClr val="ffff66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84360" y="2852640"/>
              <a:ext cx="863640" cy="7192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719280"/>
                <a:gd name="textAreaBottom" fmla="*/ 71964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091" stAng="10800000" swAng="5400000"/>
                  <a:lnTo>
                    <a:pt x="14493" y="4069"/>
                  </a:lnTo>
                  <a:lnTo>
                    <a:pt x="14493" y="0"/>
                  </a:lnTo>
                  <a:lnTo>
                    <a:pt x="21600" y="6079"/>
                  </a:lnTo>
                  <a:lnTo>
                    <a:pt x="14493" y="12158"/>
                  </a:lnTo>
                  <a:lnTo>
                    <a:pt x="14493" y="8089"/>
                  </a:lnTo>
                  <a:lnTo>
                    <a:pt x="12427" y="8089"/>
                  </a:lnTo>
                  <a:arcTo wR="8407" hR="4071" stAng="16200000" swAng="-5400000"/>
                  <a:lnTo>
                    <a:pt x="402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57840" y="4149720"/>
            <a:ext cx="1368720" cy="2060640"/>
            <a:chOff x="357840" y="4149720"/>
            <a:chExt cx="1368720" cy="2060640"/>
          </a:xfrm>
        </p:grpSpPr>
        <p:sp>
          <p:nvSpPr>
            <p:cNvPr id="286" name=""/>
            <p:cNvSpPr/>
            <p:nvPr/>
          </p:nvSpPr>
          <p:spPr>
            <a:xfrm>
              <a:off x="357840" y="4869000"/>
              <a:ext cx="1368720" cy="1341360"/>
            </a:xfrm>
            <a:prstGeom prst="rect">
              <a:avLst/>
            </a:prstGeom>
            <a:solidFill>
              <a:srgbClr val="66ff99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it-IT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→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it-IT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→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1" lang="it-IT" sz="20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→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1280" y="4149720"/>
              <a:ext cx="863640" cy="7192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719280"/>
                <a:gd name="textAreaBottom" fmla="*/ 71964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091" stAng="10800000" swAng="5400000"/>
                  <a:lnTo>
                    <a:pt x="14493" y="4069"/>
                  </a:lnTo>
                  <a:lnTo>
                    <a:pt x="14493" y="0"/>
                  </a:lnTo>
                  <a:lnTo>
                    <a:pt x="21600" y="6079"/>
                  </a:lnTo>
                  <a:lnTo>
                    <a:pt x="14493" y="12158"/>
                  </a:lnTo>
                  <a:lnTo>
                    <a:pt x="14493" y="8089"/>
                  </a:lnTo>
                  <a:lnTo>
                    <a:pt x="12427" y="8089"/>
                  </a:lnTo>
                  <a:arcTo wR="8407" hR="4071" stAng="16200000" swAng="-5400000"/>
                  <a:lnTo>
                    <a:pt x="4020" y="21600"/>
                  </a:lnTo>
                  <a:close/>
                </a:path>
              </a:pathLst>
            </a:custGeom>
            <a:solidFill>
              <a:srgbClr val="66ff99"/>
            </a:solidFill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11280" y="476280"/>
            <a:ext cx="503280" cy="288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940360" y="1413000"/>
            <a:ext cx="2592360" cy="510120"/>
            <a:chOff x="5940360" y="1413000"/>
            <a:chExt cx="2592360" cy="510120"/>
          </a:xfrm>
        </p:grpSpPr>
        <p:sp>
          <p:nvSpPr>
            <p:cNvPr id="290" name=""/>
            <p:cNvSpPr/>
            <p:nvPr/>
          </p:nvSpPr>
          <p:spPr>
            <a:xfrm>
              <a:off x="5940360" y="1413000"/>
              <a:ext cx="259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66cc"/>
                  </a:solidFill>
                  <a:latin typeface="Comic Sans MS"/>
                </a:rPr>
                <a:t>Im </a:t>
              </a:r>
              <a:r>
                <a:rPr b="1" lang="it-IT" sz="2400" spc="-1" strike="noStrike">
                  <a:solidFill>
                    <a:srgbClr val="0066cc"/>
                  </a:solidFill>
                  <a:latin typeface="Symbol"/>
                  <a:ea typeface="Symbol"/>
                </a:rPr>
                <a:t></a:t>
              </a:r>
              <a:r>
                <a:rPr b="1" lang="it-IT" sz="2400" spc="-1" strike="noStrike" baseline="-25000">
                  <a:solidFill>
                    <a:srgbClr val="0066cc"/>
                  </a:solidFill>
                  <a:latin typeface="Comic Sans MS"/>
                </a:rPr>
                <a:t>t</a:t>
              </a:r>
              <a:r>
                <a:rPr b="1" lang="it-IT" sz="2400" spc="-1" strike="noStrike">
                  <a:solidFill>
                    <a:srgbClr val="0066cc"/>
                  </a:solidFill>
                  <a:latin typeface="Comic Sans MS"/>
                </a:rPr>
                <a:t> = </a:t>
              </a:r>
              <a:r>
                <a:rPr b="0" lang="it-IT" sz="2400" spc="-1" strike="noStrike">
                  <a:solidFill>
                    <a:srgbClr val="0066cc"/>
                  </a:solidFill>
                  <a:latin typeface="Comic Sans MS"/>
                </a:rPr>
                <a:t>A</a:t>
              </a:r>
              <a:r>
                <a:rPr b="1" lang="it-IT" sz="2400" spc="-1" strike="noStrike" baseline="30000">
                  <a:solidFill>
                    <a:srgbClr val="0066cc"/>
                  </a:solidFill>
                  <a:latin typeface="Comic Sans MS"/>
                </a:rPr>
                <a:t>2</a:t>
              </a:r>
              <a:r>
                <a:rPr b="1" lang="it-IT" sz="2400" spc="-1" strike="noStrike">
                  <a:solidFill>
                    <a:srgbClr val="0066cc"/>
                  </a:solidFill>
                  <a:latin typeface="Symbol"/>
                  <a:ea typeface="Symbol"/>
                </a:rPr>
                <a:t></a:t>
              </a:r>
              <a:r>
                <a:rPr b="1" lang="it-IT" sz="2400" spc="-1" strike="noStrike" baseline="30000">
                  <a:solidFill>
                    <a:srgbClr val="0066cc"/>
                  </a:solidFill>
                  <a:latin typeface="Comic Sans MS"/>
                </a:rPr>
                <a:t>3 </a:t>
              </a:r>
              <a:r>
                <a:rPr b="1" lang="it-IT" sz="2400" spc="-1" strike="noStrike">
                  <a:solidFill>
                    <a:srgbClr val="0066cc"/>
                  </a:solidFill>
                  <a:latin typeface="Symbol"/>
                  <a:ea typeface="Symbol"/>
                </a:rPr>
                <a:t>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01080" y="1484280"/>
              <a:ext cx="2160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543480" y="1341360"/>
            <a:ext cx="4197240" cy="3362400"/>
            <a:chOff x="3543480" y="1341360"/>
            <a:chExt cx="4197240" cy="3362400"/>
          </a:xfrm>
        </p:grpSpPr>
        <p:sp>
          <p:nvSpPr>
            <p:cNvPr id="293" name=""/>
            <p:cNvSpPr/>
            <p:nvPr/>
          </p:nvSpPr>
          <p:spPr>
            <a:xfrm>
              <a:off x="4105440" y="1846080"/>
              <a:ext cx="3384360" cy="2448000"/>
            </a:xfrm>
            <a:prstGeom prst="triangle">
              <a:avLst>
                <a:gd name="adj" fmla="val 28819"/>
              </a:avLst>
            </a:prstGeom>
            <a:solidFill>
              <a:srgbClr val="00ff99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3832200" y="1917720"/>
              <a:ext cx="0" cy="23047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7215120" y="4367160"/>
                  <a:ext cx="5256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,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3543480" y="4297320"/>
                  <a:ext cx="59976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,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4975200" y="19177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32880" y="39272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4000" y="39272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064040" y="2346120"/>
              <a:ext cx="365040" cy="459720"/>
              <a:chOff x="4064040" y="2346120"/>
              <a:chExt cx="365040" cy="459720"/>
            </a:xfrm>
          </p:grpSpPr>
          <p:sp>
            <p:nvSpPr>
              <p:cNvPr id="301" name=""/>
              <p:cNvSpPr/>
              <p:nvPr/>
            </p:nvSpPr>
            <p:spPr>
              <a:xfrm>
                <a:off x="4064040" y="23461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40360" y="2493720"/>
                <a:ext cx="21564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4716360" y="1341360"/>
                  <a:ext cx="7016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ρ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η</m:t>
                          </m:r>
                        </m:e>
                      </m:ba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4" name=""/>
          <p:cNvSpPr/>
          <p:nvPr/>
        </p:nvSpPr>
        <p:spPr>
          <a:xfrm>
            <a:off x="2124000" y="4941720"/>
            <a:ext cx="6769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connection of the 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e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e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(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decays to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s not straightforward, but substantial improvement of theory and experimental results have been in the last 2-3 years, expecially related to ancillary m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15160" cy="706320"/>
          </a:xfrm>
          <a:prstGeom prst="rect">
            <a:avLst/>
          </a:prstGeom>
          <a:solidFill>
            <a:srgbClr val="00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P : Im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(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4000" y="1125360"/>
            <a:ext cx="4736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e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e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(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phenomenology:the decay amplitude has 3 ingredi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9280" y="4197240"/>
            <a:ext cx="3178440" cy="580680"/>
          </a:xfrm>
          <a:prstGeom prst="rect">
            <a:avLst/>
          </a:prstGeom>
          <a:noFill/>
          <a:ln w="1908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8000"/>
                </a:solidFill>
                <a:latin typeface="Comic Sans MS"/>
              </a:rPr>
              <a:t>3) CP conserving term via </a:t>
            </a:r>
            <a:r>
              <a:rPr b="0" lang="it-IT" sz="1600" spc="-1" strike="noStrike">
                <a:solidFill>
                  <a:srgbClr val="008000"/>
                </a:solidFill>
                <a:latin typeface="Symbol"/>
                <a:ea typeface="Symbol"/>
              </a:rPr>
              <a:t></a:t>
            </a:r>
            <a:r>
              <a:rPr b="0" lang="it-IT" sz="1600" spc="-1" strike="noStrike">
                <a:solidFill>
                  <a:srgbClr val="008000"/>
                </a:solidFill>
                <a:latin typeface="Comic Sans MS"/>
              </a:rPr>
              <a:t> intermediate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84280" y="2709720"/>
            <a:ext cx="2390760" cy="1008720"/>
            <a:chOff x="584280" y="2709720"/>
            <a:chExt cx="2390760" cy="1008720"/>
          </a:xfrm>
        </p:grpSpPr>
        <p:pic>
          <p:nvPicPr>
            <p:cNvPr id="309" name="" descr=""/>
            <p:cNvPicPr/>
            <p:nvPr/>
          </p:nvPicPr>
          <p:blipFill>
            <a:blip r:embed="rId1"/>
            <a:stretch/>
          </p:blipFill>
          <p:spPr>
            <a:xfrm>
              <a:off x="584280" y="2809800"/>
              <a:ext cx="18097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184480" y="2709720"/>
              <a:ext cx="79056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11280" y="4946760"/>
            <a:ext cx="2444400" cy="1076760"/>
            <a:chOff x="611280" y="4946760"/>
            <a:chExt cx="2444400" cy="107676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611280" y="4946760"/>
              <a:ext cx="1860480" cy="9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2265120" y="5136840"/>
              <a:ext cx="790560" cy="88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796000" y="1917720"/>
            <a:ext cx="2433600" cy="1223640"/>
            <a:chOff x="5796000" y="1917720"/>
            <a:chExt cx="2433600" cy="1223640"/>
          </a:xfrm>
        </p:grpSpPr>
        <p:pic>
          <p:nvPicPr>
            <p:cNvPr id="315" name="" descr=""/>
            <p:cNvPicPr/>
            <p:nvPr/>
          </p:nvPicPr>
          <p:blipFill>
            <a:blip r:embed="rId3"/>
            <a:stretch/>
          </p:blipFill>
          <p:spPr>
            <a:xfrm>
              <a:off x="5796000" y="2150640"/>
              <a:ext cx="18367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439040" y="1917720"/>
              <a:ext cx="790560" cy="9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66400" y="6110280"/>
            <a:ext cx="43822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*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Isidori,Smith,Underdorfer hep-ph/04041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Buchalla, D’Ambrosio,Isidori Nucl.Phys.B672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79280" y="2036880"/>
            <a:ext cx="3891240" cy="614160"/>
            <a:chOff x="179280" y="2036880"/>
            <a:chExt cx="3891240" cy="614160"/>
          </a:xfrm>
        </p:grpSpPr>
        <p:sp>
          <p:nvSpPr>
            <p:cNvPr id="319" name=""/>
            <p:cNvSpPr/>
            <p:nvPr/>
          </p:nvSpPr>
          <p:spPr>
            <a:xfrm>
              <a:off x="179280" y="2036880"/>
              <a:ext cx="3891240" cy="614160"/>
            </a:xfrm>
            <a:prstGeom prst="rect">
              <a:avLst/>
            </a:prstGeom>
            <a:noFill/>
            <a:ln w="1908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Comic Sans MS"/>
                </a:rPr>
                <a:t>1) Direct </a:t>
              </a:r>
              <a:r>
                <a:rPr b="0" lang="en-US" sz="1600" spc="-1" strike="noStrike">
                  <a:solidFill>
                    <a:srgbClr val="336600"/>
                  </a:solidFill>
                  <a:latin typeface="Comic Sans MS"/>
                </a:rPr>
                <a:t>CP</a:t>
              </a:r>
              <a:r>
                <a:rPr b="0" lang="en-US" sz="1600" spc="-1" strike="noStrike">
                  <a:solidFill>
                    <a:srgbClr val="006600"/>
                  </a:solidFill>
                  <a:latin typeface="Comic Sans MS"/>
                </a:rPr>
                <a:t> term </a:t>
              </a:r>
              <a:r>
                <a:rPr b="0" lang="en-US" sz="1600" spc="-1" strike="noStrike">
                  <a:solidFill>
                    <a:srgbClr val="0066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600" spc="-1" strike="noStrike">
                  <a:solidFill>
                    <a:srgbClr val="006600"/>
                  </a:solidFill>
                  <a:latin typeface="Comic Sans MS"/>
                </a:rPr>
                <a:t>Im </a:t>
              </a:r>
              <a:r>
                <a:rPr b="0" lang="en-US" sz="16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 baseline="-25000">
                  <a:solidFill>
                    <a:srgbClr val="006600"/>
                  </a:solidFill>
                  <a:latin typeface="Comic Sans MS"/>
                </a:rPr>
                <a:t>t</a:t>
              </a:r>
              <a:r>
                <a:rPr b="0" lang="en-US" sz="1600" spc="-1" strike="noStrike">
                  <a:solidFill>
                    <a:srgbClr val="006600"/>
                  </a:solidFill>
                  <a:latin typeface="Comic Sans MS"/>
                </a:rPr>
                <a:t>  , dominated by short distance dynam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87280" y="2060640"/>
              <a:ext cx="28908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580000" y="1268280"/>
            <a:ext cx="3024360" cy="647640"/>
            <a:chOff x="5580000" y="1268280"/>
            <a:chExt cx="3024360" cy="647640"/>
          </a:xfrm>
        </p:grpSpPr>
        <p:sp>
          <p:nvSpPr>
            <p:cNvPr id="322" name=""/>
            <p:cNvSpPr/>
            <p:nvPr/>
          </p:nvSpPr>
          <p:spPr>
            <a:xfrm>
              <a:off x="5580000" y="1268280"/>
              <a:ext cx="3024360" cy="647640"/>
            </a:xfrm>
            <a:prstGeom prst="rect">
              <a:avLst/>
            </a:prstGeom>
            <a:noFill/>
            <a:ln w="1908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Comic Sans MS"/>
                </a:rPr>
                <a:t>2) Indirect CP term due to K</a:t>
              </a:r>
              <a:r>
                <a:rPr b="0" lang="en-US" sz="1600" spc="-1" strike="noStrike" baseline="-25000">
                  <a:solidFill>
                    <a:srgbClr val="006600"/>
                  </a:solidFill>
                  <a:latin typeface="Comic Sans MS"/>
                </a:rPr>
                <a:t>L</a:t>
              </a:r>
              <a:r>
                <a:rPr b="0" lang="en-US" sz="1600" spc="-1" strike="noStrike">
                  <a:solidFill>
                    <a:srgbClr val="006600"/>
                  </a:solidFill>
                  <a:latin typeface="Comic Sans MS"/>
                </a:rPr>
                <a:t>-K</a:t>
              </a:r>
              <a:r>
                <a:rPr b="0" lang="en-US" sz="1600" spc="-1" strike="noStrike" baseline="-25000">
                  <a:solidFill>
                    <a:srgbClr val="006600"/>
                  </a:solidFill>
                  <a:latin typeface="Comic Sans MS"/>
                </a:rPr>
                <a:t>S</a:t>
              </a:r>
              <a:r>
                <a:rPr b="0" lang="en-US" sz="1600" spc="-1" strike="noStrike">
                  <a:solidFill>
                    <a:srgbClr val="006600"/>
                  </a:solidFill>
                  <a:latin typeface="Comic Sans MS"/>
                </a:rPr>
                <a:t> mix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77080" y="1268280"/>
              <a:ext cx="35892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924360" y="3429000"/>
            <a:ext cx="5056200" cy="3050280"/>
            <a:chOff x="3924360" y="3429000"/>
            <a:chExt cx="5056200" cy="3050280"/>
          </a:xfrm>
        </p:grpSpPr>
        <p:sp>
          <p:nvSpPr>
            <p:cNvPr id="325" name=""/>
            <p:cNvSpPr/>
            <p:nvPr/>
          </p:nvSpPr>
          <p:spPr>
            <a:xfrm>
              <a:off x="4861080" y="39513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24360" y="3429000"/>
              <a:ext cx="5056200" cy="30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10000"/>
                </a:lnSpc>
                <a:buClr>
                  <a:srgbClr val="3366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99"/>
                  </a:solidFill>
                  <a:latin typeface="Comic Sans MS"/>
                </a:rPr>
                <a:t>Amplitude 2) can be extracted via</a:t>
              </a: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it-IT" sz="18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</a:t>
              </a: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it-IT" sz="1800" spc="-1" strike="noStrike">
                  <a:solidFill>
                    <a:srgbClr val="333399"/>
                  </a:solidFill>
                  <a:latin typeface="Comic Sans MS"/>
                </a:rPr>
                <a:t>from</a:t>
              </a: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it-IT" sz="1800" spc="-1" strike="noStrike">
                  <a:solidFill>
                    <a:srgbClr val="cc6600"/>
                  </a:solidFill>
                  <a:latin typeface="Comic Sans MS"/>
                </a:rPr>
                <a:t>K</a:t>
              </a:r>
              <a:r>
                <a:rPr b="0" lang="it-IT" sz="1800" spc="-1" strike="noStrike" baseline="-25000">
                  <a:solidFill>
                    <a:srgbClr val="cc6600"/>
                  </a:solidFill>
                  <a:latin typeface="Comic Sans MS"/>
                </a:rPr>
                <a:t>S</a:t>
              </a:r>
              <a:r>
                <a:rPr b="0" lang="it-IT" sz="1800" spc="-1" strike="noStrike">
                  <a:solidFill>
                    <a:srgbClr val="cc66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</a:t>
              </a:r>
              <a:r>
                <a:rPr b="0" lang="it-IT" sz="1800" spc="-1" strike="noStrike" baseline="30000">
                  <a:solidFill>
                    <a:srgbClr val="cc6600"/>
                  </a:solidFill>
                  <a:latin typeface="Arial"/>
                </a:rPr>
                <a:t>0</a:t>
              </a:r>
              <a:r>
                <a:rPr b="0" lang="it-IT" sz="1800" spc="-1" strike="noStrike">
                  <a:solidFill>
                    <a:srgbClr val="cc6600"/>
                  </a:solidFill>
                  <a:latin typeface="Arial"/>
                </a:rPr>
                <a:t>e</a:t>
              </a:r>
              <a:r>
                <a:rPr b="0" lang="it-IT" sz="1800" spc="-1" strike="noStrike" baseline="30000">
                  <a:solidFill>
                    <a:srgbClr val="cc6600"/>
                  </a:solidFill>
                  <a:latin typeface="Arial"/>
                </a:rPr>
                <a:t>+</a:t>
              </a:r>
              <a:r>
                <a:rPr b="0" lang="it-IT" sz="1800" spc="-1" strike="noStrike">
                  <a:solidFill>
                    <a:srgbClr val="cc6600"/>
                  </a:solidFill>
                  <a:latin typeface="Arial"/>
                </a:rPr>
                <a:t>e</a:t>
              </a:r>
              <a:r>
                <a:rPr b="0" lang="it-IT" sz="1800" spc="-1" strike="noStrike" baseline="30000">
                  <a:solidFill>
                    <a:srgbClr val="cc6600"/>
                  </a:solidFill>
                  <a:latin typeface="Arial"/>
                </a:rPr>
                <a:t>-</a:t>
              </a:r>
              <a:r>
                <a:rPr b="0" lang="it-IT" sz="1800" spc="-1" strike="noStrike">
                  <a:solidFill>
                    <a:srgbClr val="cc6600"/>
                  </a:solidFill>
                  <a:latin typeface="Arial"/>
                </a:rPr>
                <a:t>(</a:t>
              </a:r>
              <a:r>
                <a:rPr b="0" lang="it-IT" sz="18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</a:t>
              </a:r>
              <a:r>
                <a:rPr b="0" lang="it-IT" sz="1800" spc="-1" strike="noStrike" baseline="30000">
                  <a:solidFill>
                    <a:srgbClr val="cc6600"/>
                  </a:solidFill>
                  <a:latin typeface="Arial"/>
                </a:rPr>
                <a:t>+</a:t>
              </a:r>
              <a:r>
                <a:rPr b="0" lang="it-IT" sz="18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</a:t>
              </a:r>
              <a:r>
                <a:rPr b="0" lang="it-IT" sz="1800" spc="-1" strike="noStrike" baseline="30000">
                  <a:solidFill>
                    <a:srgbClr val="cc6600"/>
                  </a:solidFill>
                  <a:latin typeface="Arial"/>
                </a:rPr>
                <a:t>-</a:t>
              </a:r>
              <a:r>
                <a:rPr b="0" lang="it-IT" sz="1800" spc="-1" strike="noStrike">
                  <a:solidFill>
                    <a:srgbClr val="cc6600"/>
                  </a:solidFill>
                  <a:latin typeface="Arial"/>
                </a:rPr>
                <a:t>)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333399"/>
                  </a:solidFill>
                  <a:latin typeface="Comic Sans MS"/>
                </a:rPr>
                <a:t>decay while 3) can be derived from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cc6600"/>
                  </a:solidFill>
                  <a:latin typeface="Arial"/>
                </a:rPr>
                <a:t>K</a:t>
              </a:r>
              <a:r>
                <a:rPr b="0" lang="it-IT" sz="1800" spc="-1" strike="noStrike" baseline="-25000">
                  <a:solidFill>
                    <a:srgbClr val="cc6600"/>
                  </a:solidFill>
                  <a:latin typeface="Arial"/>
                </a:rPr>
                <a:t>L</a:t>
              </a:r>
              <a:r>
                <a:rPr b="0" lang="it-IT" sz="1800" spc="-1" strike="noStrike">
                  <a:solidFill>
                    <a:srgbClr val="cc66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</a:t>
              </a:r>
              <a:r>
                <a:rPr b="0" lang="it-IT" sz="1800" spc="-1" strike="noStrike" baseline="30000">
                  <a:solidFill>
                    <a:srgbClr val="cc6600"/>
                  </a:solidFill>
                  <a:latin typeface="Arial"/>
                </a:rPr>
                <a:t>0</a:t>
              </a:r>
              <a:r>
                <a:rPr b="0" lang="it-IT" sz="18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</a:t>
              </a:r>
              <a:r>
                <a:rPr b="0" lang="it-IT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333399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10000"/>
                </a:lnSpc>
                <a:buClr>
                  <a:srgbClr val="3366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99"/>
                  </a:solidFill>
                  <a:latin typeface="Comic Sans MS"/>
                </a:rPr>
                <a:t>Direct and Indirect CP amplitudes can interf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10000"/>
                </a:lnSpc>
                <a:buClr>
                  <a:srgbClr val="3366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99"/>
                  </a:solidFill>
                  <a:latin typeface="Comic Sans MS"/>
                </a:rPr>
                <a:t>In the past 2 years both precise calculation for 1)* and new data for </a:t>
              </a:r>
              <a:r>
                <a:rPr b="0" lang="it-IT" sz="2000" spc="-1" strike="noStrike">
                  <a:solidFill>
                    <a:srgbClr val="cc6600"/>
                  </a:solidFill>
                  <a:latin typeface="Comic Sans MS"/>
                </a:rPr>
                <a:t>K</a:t>
              </a:r>
              <a:r>
                <a:rPr b="0" lang="it-IT" sz="2000" spc="-1" strike="noStrike" baseline="-25000">
                  <a:solidFill>
                    <a:srgbClr val="cc6600"/>
                  </a:solidFill>
                  <a:latin typeface="Comic Sans MS"/>
                </a:rPr>
                <a:t>S</a:t>
              </a:r>
              <a:r>
                <a:rPr b="0" lang="it-IT" sz="2000" spc="-1" strike="noStrike">
                  <a:solidFill>
                    <a:srgbClr val="cc6600"/>
                  </a:solidFill>
                  <a:latin typeface="Wingdings"/>
                  <a:ea typeface="Wingdings"/>
                </a:rPr>
                <a:t></a:t>
              </a:r>
              <a:r>
                <a:rPr b="0" lang="it-IT" sz="2000" spc="-1" strike="noStrike">
                  <a:solidFill>
                    <a:srgbClr val="cc6600"/>
                  </a:solidFill>
                  <a:latin typeface="Comic Sans MS"/>
                </a:rPr>
                <a:t> </a:t>
              </a:r>
              <a:r>
                <a:rPr b="0" lang="it-IT" sz="20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</a:t>
              </a:r>
              <a:r>
                <a:rPr b="0" lang="it-IT" sz="2000" spc="-1" strike="noStrike" baseline="30000">
                  <a:solidFill>
                    <a:srgbClr val="cc6600"/>
                  </a:solidFill>
                  <a:latin typeface="Comic Sans MS"/>
                </a:rPr>
                <a:t>0</a:t>
              </a:r>
              <a:r>
                <a:rPr b="0" lang="it-IT" sz="2000" spc="-1" strike="noStrike">
                  <a:solidFill>
                    <a:srgbClr val="cc6600"/>
                  </a:solidFill>
                  <a:latin typeface="Comic Sans MS"/>
                </a:rPr>
                <a:t>e</a:t>
              </a:r>
              <a:r>
                <a:rPr b="0" lang="it-IT" sz="2000" spc="-1" strike="noStrike" baseline="30000">
                  <a:solidFill>
                    <a:srgbClr val="cc6600"/>
                  </a:solidFill>
                  <a:latin typeface="Comic Sans MS"/>
                </a:rPr>
                <a:t>+</a:t>
              </a:r>
              <a:r>
                <a:rPr b="0" lang="it-IT" sz="2000" spc="-1" strike="noStrike">
                  <a:solidFill>
                    <a:srgbClr val="cc6600"/>
                  </a:solidFill>
                  <a:latin typeface="Comic Sans MS"/>
                </a:rPr>
                <a:t>e</a:t>
              </a:r>
              <a:r>
                <a:rPr b="0" lang="it-IT" sz="2000" spc="-1" strike="noStrike" baseline="30000">
                  <a:solidFill>
                    <a:srgbClr val="cc6600"/>
                  </a:solidFill>
                  <a:latin typeface="Comic Sans MS"/>
                </a:rPr>
                <a:t>-</a:t>
              </a:r>
              <a:r>
                <a:rPr b="0" lang="it-IT" sz="2000" spc="-1" strike="noStrike">
                  <a:solidFill>
                    <a:srgbClr val="cc6600"/>
                  </a:solidFill>
                  <a:latin typeface="Comic Sans MS"/>
                </a:rPr>
                <a:t>(</a:t>
              </a:r>
              <a:r>
                <a:rPr b="0" lang="it-IT" sz="20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</a:t>
              </a:r>
              <a:r>
                <a:rPr b="0" lang="it-IT" sz="2000" spc="-1" strike="noStrike" baseline="30000">
                  <a:solidFill>
                    <a:srgbClr val="cc6600"/>
                  </a:solidFill>
                  <a:latin typeface="Comic Sans MS"/>
                </a:rPr>
                <a:t>+</a:t>
              </a:r>
              <a:r>
                <a:rPr b="0" lang="it-IT" sz="20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</a:t>
              </a:r>
              <a:r>
                <a:rPr b="0" lang="it-IT" sz="2000" spc="-1" strike="noStrike">
                  <a:solidFill>
                    <a:srgbClr val="cc6600"/>
                  </a:solidFill>
                  <a:latin typeface="Comic Sans MS"/>
                </a:rPr>
                <a:t>)</a:t>
              </a:r>
              <a:r>
                <a:rPr b="0" lang="it-IT" sz="2000" spc="-1" strike="noStrike">
                  <a:solidFill>
                    <a:srgbClr val="333399"/>
                  </a:solidFill>
                  <a:latin typeface="Comic Sans MS"/>
                </a:rPr>
                <a:t> and </a:t>
              </a:r>
              <a:r>
                <a:rPr b="0" lang="it-IT" sz="2000" spc="-1" strike="noStrike">
                  <a:solidFill>
                    <a:srgbClr val="cc6600"/>
                  </a:solidFill>
                  <a:latin typeface="Comic Sans MS"/>
                </a:rPr>
                <a:t>K</a:t>
              </a:r>
              <a:r>
                <a:rPr b="0" lang="it-IT" sz="2000" spc="-1" strike="noStrike" baseline="-25000">
                  <a:solidFill>
                    <a:srgbClr val="cc6600"/>
                  </a:solidFill>
                  <a:latin typeface="Comic Sans MS"/>
                </a:rPr>
                <a:t>L</a:t>
              </a:r>
              <a:r>
                <a:rPr b="0" lang="it-IT" sz="2000" spc="-1" strike="noStrike">
                  <a:solidFill>
                    <a:srgbClr val="cc6600"/>
                  </a:solidFill>
                  <a:latin typeface="Wingdings"/>
                  <a:ea typeface="Wingdings"/>
                </a:rPr>
                <a:t></a:t>
              </a:r>
              <a:r>
                <a:rPr b="0" lang="it-IT" sz="20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</a:t>
              </a:r>
              <a:r>
                <a:rPr b="0" lang="it-IT" sz="2000" spc="-1" strike="noStrike" baseline="30000">
                  <a:solidFill>
                    <a:srgbClr val="cc6600"/>
                  </a:solidFill>
                  <a:latin typeface="Comic Sans MS"/>
                </a:rPr>
                <a:t>0</a:t>
              </a:r>
              <a:r>
                <a:rPr b="0" lang="it-IT" sz="20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</a:t>
              </a:r>
              <a:r>
                <a:rPr b="0" lang="it-IT" sz="2000" spc="-1" strike="noStrike">
                  <a:solidFill>
                    <a:srgbClr val="333399"/>
                  </a:solidFill>
                  <a:latin typeface="Comic Sans MS"/>
                </a:rPr>
                <a:t> </a:t>
              </a:r>
              <a:r>
                <a:rPr b="0" lang="it-IT" sz="1800" spc="-1" strike="noStrike">
                  <a:solidFill>
                    <a:srgbClr val="333399"/>
                  </a:solidFill>
                  <a:latin typeface="Comic Sans MS"/>
                </a:rPr>
                <a:t>appeared on the mark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04000" y="443700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55640" y="476280"/>
            <a:ext cx="503280" cy="288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99640" y="3141360"/>
            <a:ext cx="5256360" cy="21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cc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CP Violation and SM tes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TCP Violation te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Detour to V</a:t>
            </a:r>
            <a:r>
              <a:rPr b="0" lang="en-US" sz="2800" spc="-1" strike="noStrike" baseline="-25000">
                <a:solidFill>
                  <a:srgbClr val="cc6600"/>
                </a:solidFill>
                <a:latin typeface="Comic Sans MS"/>
              </a:rPr>
              <a:t>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Outlook &amp; Conclu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505152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reword and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8480" y="5516640"/>
            <a:ext cx="76910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talk focuses on the experimental results of the last 2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9933"/>
                </a:solidFill>
                <a:latin typeface="Comic Sans MS"/>
              </a:rPr>
              <a:t>Caveat: from an experimentalist point of view…!</a:t>
            </a:r>
            <a:r>
              <a:rPr b="0" lang="it-IT" sz="2400" spc="-1" strike="noStrike">
                <a:solidFill>
                  <a:srgbClr val="cc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224000"/>
            <a:ext cx="799308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oreword</a:t>
            </a:r>
            <a:r>
              <a:rPr b="0" lang="it-IT" sz="2400" spc="-1" strike="noStrike">
                <a:solidFill>
                  <a:srgbClr val="339933"/>
                </a:solidFill>
                <a:latin typeface="Comic Sans MS"/>
              </a:rPr>
              <a:t>: kaons ag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spite of a long history the K system is still a laboratory for the flavour physics, an interferometry system, a repository of all kinds of CP violation and can be a sensitive probe for NP.. Th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9933"/>
                </a:solidFill>
                <a:latin typeface="Comic Sans MS"/>
              </a:rPr>
              <a:t>YES, kaons again!</a:t>
            </a:r>
            <a:r>
              <a:rPr b="0" lang="it-IT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4437000"/>
            <a:ext cx="248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otice: all the limits are at 90% C.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16720" y="3789360"/>
            <a:ext cx="20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9933"/>
                </a:solidFill>
                <a:latin typeface="Comic Sans MS"/>
              </a:rPr>
              <a:t>Blind analysis every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130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rom K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o  Im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S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24000" y="3573360"/>
                <a:ext cx="84880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bSup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V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i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B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31" name=""/>
          <p:cNvGrpSpPr/>
          <p:nvPr/>
        </p:nvGrpSpPr>
        <p:grpSpPr>
          <a:xfrm>
            <a:off x="5940360" y="1197000"/>
            <a:ext cx="2791800" cy="1800000"/>
            <a:chOff x="5940360" y="1197000"/>
            <a:chExt cx="2791800" cy="180000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5940360" y="1539720"/>
              <a:ext cx="21582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7941600" y="1197000"/>
              <a:ext cx="790560" cy="9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84360" y="5229360"/>
            <a:ext cx="3958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ssuming the VMD the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BR can be predicted of the or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9120" y="6381720"/>
            <a:ext cx="47541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Buchalla,D’Ambrosio,Isidori Nucl.Phys. B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969080" y="5157720"/>
            <a:ext cx="2966040" cy="866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BR(K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33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ff33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)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5 x10</a:t>
            </a:r>
            <a:r>
              <a:rPr b="0" lang="en-US" sz="2000" spc="-1" strike="noStrike" baseline="30000">
                <a:solidFill>
                  <a:srgbClr val="ff3300"/>
                </a:solidFill>
                <a:latin typeface="Comic Sans MS"/>
              </a:rPr>
              <a:t>-9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BR(K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33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ff33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)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1 x10</a:t>
            </a:r>
            <a:r>
              <a:rPr b="0" lang="en-US" sz="2000" spc="-1" strike="noStrike" baseline="30000">
                <a:solidFill>
                  <a:srgbClr val="ff3300"/>
                </a:solidFill>
                <a:latin typeface="Comic Sans MS"/>
              </a:rPr>
              <a:t>-9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4000" y="1700280"/>
            <a:ext cx="511164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CP mixing contribution ( and interference) can be evaluated via </a:t>
            </a:r>
            <a:r>
              <a:rPr b="0" lang="it-IT" sz="2400" spc="-1" strike="noStrike">
                <a:solidFill>
                  <a:srgbClr val="cc6600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and the  corresponding 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amplitud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1773360"/>
            <a:ext cx="35892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4282920" y="1628640"/>
            <a:ext cx="4537080" cy="4176720"/>
            <a:chOff x="4282920" y="1628640"/>
            <a:chExt cx="4537080" cy="417672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rcRect l="7100" t="3545" r="9223" b="1011"/>
            <a:stretch/>
          </p:blipFill>
          <p:spPr>
            <a:xfrm>
              <a:off x="4282920" y="1653840"/>
              <a:ext cx="4535640" cy="41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6010200" y="1915920"/>
              <a:ext cx="1368360" cy="216000"/>
            </a:xfrm>
            <a:prstGeom prst="rect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26200" y="2276280"/>
              <a:ext cx="865080" cy="144360"/>
            </a:xfrm>
            <a:prstGeom prst="rect">
              <a:avLst/>
            </a:prstGeom>
            <a:noFill/>
            <a:ln w="1908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73840" y="2852640"/>
              <a:ext cx="865080" cy="144360"/>
            </a:xfrm>
            <a:prstGeom prst="rect">
              <a:avLst/>
            </a:prstGeom>
            <a:noFill/>
            <a:ln w="1908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77120" y="3284280"/>
              <a:ext cx="865080" cy="144360"/>
            </a:xfrm>
            <a:prstGeom prst="rect">
              <a:avLst/>
            </a:prstGeom>
            <a:noFill/>
            <a:ln w="1908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54920" y="4219200"/>
              <a:ext cx="865080" cy="144720"/>
            </a:xfrm>
            <a:prstGeom prst="rect">
              <a:avLst/>
            </a:prstGeom>
            <a:noFill/>
            <a:ln w="1908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62560" y="1628640"/>
              <a:ext cx="936360" cy="215640"/>
            </a:xfrm>
            <a:prstGeom prst="rect">
              <a:avLst/>
            </a:prstGeom>
            <a:noFill/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24000" y="2708280"/>
            <a:ext cx="41050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</a:rPr>
              <a:t>LKr Calorime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E)/E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3.2%/√E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9%/E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0.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t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265 ps for 50 GeV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00"/>
                </a:solidFill>
                <a:latin typeface="Comic Sans MS"/>
              </a:rPr>
              <a:t>Spectrome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kick ~250 M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P)/P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0.48%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0.009 P[GeV/c]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cc00"/>
                </a:solidFill>
                <a:latin typeface="Comic Sans MS"/>
              </a:rPr>
              <a:t>Muon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t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350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) ~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99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333399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) ~ 2.5 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562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S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(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)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NA48/1 @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1413000"/>
            <a:ext cx="3456000" cy="105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am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0 (onl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) and 2002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51280" y="6093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ore than 20 years history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20244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rom K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o Im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S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l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l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5280" y="1268280"/>
            <a:ext cx="820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ataset: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3.51 x10</a:t>
            </a:r>
            <a:r>
              <a:rPr b="0" lang="it-IT" sz="2000" spc="-1" strike="noStrike" baseline="30000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decays with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&lt; 2.5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40&lt;E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&lt;24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55640" y="1916280"/>
            <a:ext cx="4248000" cy="3719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ain Backg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or e channel:</a:t>
            </a: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 K</a:t>
            </a:r>
            <a:r>
              <a:rPr b="0" lang="it-IT" sz="1800" spc="-1" strike="noStrike" baseline="-25000">
                <a:solidFill>
                  <a:srgbClr val="cc6600"/>
                </a:solidFill>
                <a:latin typeface="Comic Sans MS"/>
              </a:rPr>
              <a:t>S</a:t>
            </a:r>
            <a:r>
              <a:rPr b="0" lang="it-IT" sz="1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1800" spc="-1" strike="noStrike" baseline="-25000">
                <a:solidFill>
                  <a:srgbClr val="cc6600"/>
                </a:solidFill>
                <a:latin typeface="Comic Sans MS"/>
              </a:rPr>
              <a:t>D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with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lost:rejected by </a:t>
            </a: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m</a:t>
            </a:r>
            <a:r>
              <a:rPr b="0" lang="en-US" sz="1800" spc="-1" strike="noStrike" baseline="-25000">
                <a:solidFill>
                  <a:srgbClr val="cc6600"/>
                </a:solidFill>
                <a:latin typeface="Comic Sans MS"/>
              </a:rPr>
              <a:t>ee</a:t>
            </a: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&gt; 0.165 GeV/c</a:t>
            </a:r>
            <a:r>
              <a:rPr b="0" lang="en-US" sz="1800" spc="-1" strike="noStrike" baseline="30000">
                <a:solidFill>
                  <a:srgbClr val="cc66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tim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accidentals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mainly from 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lv + 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(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)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studied from time side b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1800" spc="-1" strike="noStrike" baseline="-25000">
                <a:solidFill>
                  <a:srgbClr val="cc6600"/>
                </a:solidFill>
                <a:latin typeface="Comic Sans MS"/>
              </a:rPr>
              <a:t>L,S</a:t>
            </a:r>
            <a:r>
              <a:rPr b="0" lang="it-IT" sz="1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e</a:t>
            </a:r>
            <a:r>
              <a:rPr b="0" lang="it-IT" sz="18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e</a:t>
            </a:r>
            <a:r>
              <a:rPr b="0" lang="it-IT" sz="18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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Greenlee background due to double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radiation: estimated from 2001 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run (statistics x10). Negligible for the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chan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5433840" y="2421000"/>
          <a:ext cx="3164040" cy="1472760"/>
        </p:xfrm>
        <a:graphic>
          <a:graphicData uri="http://schemas.openxmlformats.org/drawingml/2006/table">
            <a:tbl>
              <a:tblPr/>
              <a:tblGrid>
                <a:gridCol w="1582560"/>
                <a:gridCol w="1581480"/>
              </a:tblGrid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ck 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v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L,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8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0.03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cident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7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0.07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-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 b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5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0.10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-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5433840" y="4653000"/>
          <a:ext cx="3241800" cy="1346040"/>
        </p:xfrm>
        <a:graphic>
          <a:graphicData uri="http://schemas.openxmlformats.org/drawingml/2006/table">
            <a:tbl>
              <a:tblPr/>
              <a:tblGrid>
                <a:gridCol w="1691640"/>
                <a:gridCol w="155016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ck 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v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L,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4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0.04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-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cident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8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0.18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-0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 b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2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0.18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-0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468120" y="1989000"/>
            <a:ext cx="13143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en-US" sz="2000" spc="-1" strike="noStrike" baseline="-25000">
                <a:solidFill>
                  <a:srgbClr val="cc66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73520" y="4221000"/>
            <a:ext cx="13201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en-US" sz="2000" spc="-1" strike="noStrike" baseline="-25000">
                <a:solidFill>
                  <a:srgbClr val="cc66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1988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rom K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o Im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S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l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l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82640" y="5311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82640" y="5240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43400" y="5229360"/>
            <a:ext cx="241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Palatino Linotype"/>
              </a:rPr>
              <a:t>BR(</a:t>
            </a:r>
            <a:r>
              <a:rPr b="1" i="1" lang="en-US" sz="2000" spc="-1" strike="noStrike">
                <a:solidFill>
                  <a:srgbClr val="ff0000"/>
                </a:solidFill>
                <a:latin typeface="Palatino Linotype"/>
              </a:rPr>
              <a:t>K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Palatino Linotype"/>
              </a:rPr>
              <a:t>S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Palatino Linotype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</a:t>
            </a:r>
            <a:r>
              <a:rPr b="1" i="1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</a:t>
            </a:r>
            <a:r>
              <a:rPr b="1" i="1" lang="en-US" sz="2000" spc="-1" strike="noStrike">
                <a:solidFill>
                  <a:srgbClr val="ff0000"/>
                </a:solidFill>
                <a:latin typeface="Palatino Linotype"/>
              </a:rPr>
              <a:t>e</a:t>
            </a:r>
            <a:r>
              <a:rPr b="1" i="1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i="1" lang="en-US" sz="2000" spc="-1" strike="noStrike">
                <a:solidFill>
                  <a:srgbClr val="ff0000"/>
                </a:solidFill>
                <a:latin typeface="Palatino Linotype"/>
              </a:rPr>
              <a:t>e</a:t>
            </a:r>
            <a:r>
              <a:rPr b="1" i="1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ff0000"/>
                </a:solidFill>
                <a:latin typeface="Palatino Linotype"/>
              </a:rPr>
              <a:t>) =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267080" y="5157720"/>
          <a:ext cx="3618000" cy="5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5157720"/>
                    <a:ext cx="361800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399960" y="4767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9960" y="4695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8200" y="630864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[PLB576 (2003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82640" y="5311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82640" y="5240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9960" y="4767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960" y="4695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82640" y="5311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9960" y="4695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55640" y="4437000"/>
            <a:ext cx="7632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ssuming vector interaction and unity form factor for electron channel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to recover the m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Comic Sans MS"/>
              </a:rPr>
              <a:t>ee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&gt;0.165 GeV/c</a:t>
            </a:r>
            <a:r>
              <a:rPr b="0" lang="it-IT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95280" y="1483920"/>
            <a:ext cx="3742920" cy="2894400"/>
            <a:chOff x="395280" y="1483920"/>
            <a:chExt cx="3742920" cy="2894400"/>
          </a:xfrm>
        </p:grpSpPr>
        <p:grpSp>
          <p:nvGrpSpPr>
            <p:cNvPr id="375" name=""/>
            <p:cNvGrpSpPr/>
            <p:nvPr/>
          </p:nvGrpSpPr>
          <p:grpSpPr>
            <a:xfrm>
              <a:off x="395280" y="1483920"/>
              <a:ext cx="3742920" cy="2894400"/>
              <a:chOff x="395280" y="1483920"/>
              <a:chExt cx="3742920" cy="2894400"/>
            </a:xfrm>
          </p:grpSpPr>
          <p:pic>
            <p:nvPicPr>
              <p:cNvPr id="3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5280" y="1484280"/>
                <a:ext cx="3616200" cy="276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 rot="16200000">
                <a:off x="-58320" y="1937880"/>
                <a:ext cx="1279080" cy="37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8000"/>
                    </a:solidFill>
                    <a:latin typeface="Comic Sans MS"/>
                  </a:rPr>
                  <a:t>M</a:t>
                </a:r>
                <a:r>
                  <a:rPr b="0" lang="it-IT" sz="2000" spc="-1" strike="noStrike" baseline="-25000">
                    <a:solidFill>
                      <a:srgbClr val="008000"/>
                    </a:solidFill>
                    <a:latin typeface="Comic Sans MS"/>
                  </a:rPr>
                  <a:t>K</a:t>
                </a:r>
                <a:r>
                  <a:rPr b="0" lang="it-IT" sz="2000" spc="-1" strike="noStrike">
                    <a:solidFill>
                      <a:srgbClr val="008000"/>
                    </a:solidFill>
                    <a:latin typeface="Comic Sans MS"/>
                  </a:rPr>
                  <a:t>(GeV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465280" y="4007160"/>
                <a:ext cx="1672920" cy="37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8000"/>
                    </a:solidFill>
                    <a:latin typeface="Comic Sans MS"/>
                  </a:rPr>
                  <a:t>M</a:t>
                </a:r>
                <a:r>
                  <a:rPr b="0" lang="it-IT" sz="2000" spc="-1" strike="noStrike" baseline="-25000">
                    <a:solidFill>
                      <a:srgbClr val="008000"/>
                    </a:solidFill>
                    <a:latin typeface="Symbol"/>
                    <a:ea typeface="Symbol"/>
                  </a:rPr>
                  <a:t></a:t>
                </a:r>
                <a:r>
                  <a:rPr b="0" lang="it-IT" sz="2000" spc="-1" strike="noStrike">
                    <a:solidFill>
                      <a:srgbClr val="008000"/>
                    </a:solidFill>
                    <a:latin typeface="Comic Sans MS"/>
                  </a:rPr>
                  <a:t>(GeV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1104480" y="1700280"/>
              <a:ext cx="110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7 sig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ev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643280" y="1482120"/>
            <a:ext cx="3958560" cy="2949840"/>
            <a:chOff x="4643280" y="1482120"/>
            <a:chExt cx="3958560" cy="2949840"/>
          </a:xfrm>
        </p:grpSpPr>
        <p:grpSp>
          <p:nvGrpSpPr>
            <p:cNvPr id="381" name=""/>
            <p:cNvGrpSpPr/>
            <p:nvPr/>
          </p:nvGrpSpPr>
          <p:grpSpPr>
            <a:xfrm>
              <a:off x="4643280" y="1482120"/>
              <a:ext cx="3958560" cy="2949840"/>
              <a:chOff x="4643280" y="1482120"/>
              <a:chExt cx="3958560" cy="2949840"/>
            </a:xfrm>
          </p:grpSpPr>
          <p:pic>
            <p:nvPicPr>
              <p:cNvPr id="382" name="" descr=""/>
              <p:cNvPicPr/>
              <p:nvPr/>
            </p:nvPicPr>
            <p:blipFill>
              <a:blip r:embed="rId4"/>
              <a:srcRect l="7120" t="0" r="0" b="11795"/>
              <a:stretch/>
            </p:blipFill>
            <p:spPr>
              <a:xfrm>
                <a:off x="5043960" y="1559520"/>
                <a:ext cx="3557880" cy="25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7095240" y="4060800"/>
                <a:ext cx="1296360" cy="37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6600"/>
                    </a:solidFill>
                    <a:latin typeface="Comic Sans MS"/>
                  </a:rPr>
                  <a:t>M</a:t>
                </a:r>
                <a:r>
                  <a:rPr b="0" lang="it-IT" sz="2000" spc="-1" strike="noStrike" baseline="-25000">
                    <a:solidFill>
                      <a:srgbClr val="336600"/>
                    </a:solidFill>
                    <a:latin typeface="Symbol"/>
                    <a:ea typeface="Symbol"/>
                  </a:rPr>
                  <a:t></a:t>
                </a:r>
                <a:r>
                  <a:rPr b="0" lang="it-IT" sz="2000" spc="-1" strike="noStrike">
                    <a:solidFill>
                      <a:srgbClr val="336600"/>
                    </a:solidFill>
                    <a:latin typeface="Comic Sans MS"/>
                  </a:rPr>
                  <a:t>(GeV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6200000">
                <a:off x="4222440" y="1902600"/>
                <a:ext cx="1212480" cy="37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6600"/>
                    </a:solidFill>
                    <a:latin typeface="Comic Sans MS"/>
                  </a:rPr>
                  <a:t>M</a:t>
                </a:r>
                <a:r>
                  <a:rPr b="0" lang="it-IT" sz="2000" spc="-1" strike="noStrike" baseline="-25000">
                    <a:solidFill>
                      <a:srgbClr val="336600"/>
                    </a:solidFill>
                    <a:latin typeface="Symbol"/>
                    <a:ea typeface="Symbol"/>
                  </a:rPr>
                  <a:t></a:t>
                </a:r>
                <a:r>
                  <a:rPr b="0" lang="it-IT" sz="2000" spc="-1" strike="noStrike">
                    <a:solidFill>
                      <a:srgbClr val="336600"/>
                    </a:solidFill>
                    <a:latin typeface="Comic Sans MS"/>
                  </a:rPr>
                  <a:t>(GeV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7079400" y="1743120"/>
              <a:ext cx="110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6 sig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ev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558800" y="5734080"/>
            <a:ext cx="263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Palatino Linotype"/>
              </a:rPr>
              <a:t>BR(K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Palatino Linotype"/>
              </a:rPr>
              <a:t>S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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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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4284720" y="5661000"/>
          <a:ext cx="367200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5661000"/>
                    <a:ext cx="36720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1718640" y="1268280"/>
            <a:ext cx="13143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en-US" sz="2000" spc="-1" strike="noStrike" baseline="-25000">
                <a:solidFill>
                  <a:srgbClr val="cc66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58960" y="1197000"/>
            <a:ext cx="13201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en-US" sz="2000" spc="-1" strike="noStrike" baseline="-25000">
                <a:solidFill>
                  <a:srgbClr val="cc66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414880" y="6381720"/>
            <a:ext cx="2291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RN-PH-EP/2004-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(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SM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43280" y="4383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0920" y="1197000"/>
            <a:ext cx="612144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The last ingredient is the CP conserving amplitude of 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. It can be parametrized in term of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BR(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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)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(1.3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±0.0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sta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±0.0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sy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±0.0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n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6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(1.68±0.07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st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.08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sy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6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6265800" y="1700280"/>
            <a:ext cx="2842920" cy="1374480"/>
            <a:chOff x="6265800" y="1700280"/>
            <a:chExt cx="2842920" cy="1374480"/>
          </a:xfrm>
        </p:grpSpPr>
        <p:grpSp>
          <p:nvGrpSpPr>
            <p:cNvPr id="396" name=""/>
            <p:cNvGrpSpPr/>
            <p:nvPr/>
          </p:nvGrpSpPr>
          <p:grpSpPr>
            <a:xfrm>
              <a:off x="6265800" y="1700280"/>
              <a:ext cx="2506680" cy="1374480"/>
              <a:chOff x="6265800" y="1700280"/>
              <a:chExt cx="2506680" cy="1374480"/>
            </a:xfrm>
          </p:grpSpPr>
          <p:pic>
            <p:nvPicPr>
              <p:cNvPr id="39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265800" y="1700280"/>
                <a:ext cx="1959480" cy="137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7981920" y="2005200"/>
                <a:ext cx="790560" cy="10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it-IT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it-IT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it-IT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it-IT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8361360" y="2354400"/>
              <a:ext cx="74736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0</a:t>
              </a:r>
              <a:r>
                <a:rPr b="0" lang="en-US" sz="1400" spc="-1" strike="noStrike" baseline="30000">
                  <a:solidFill>
                    <a:srgbClr val="333399"/>
                  </a:solidFill>
                  <a:latin typeface="Comic Sans MS"/>
                </a:rPr>
                <a:t>++</a:t>
              </a:r>
              <a:r>
                <a:rPr b="0" lang="en-US" sz="1400" spc="-1" strike="noStrike">
                  <a:solidFill>
                    <a:srgbClr val="333399"/>
                  </a:solidFill>
                  <a:latin typeface="Comic Sans MS"/>
                </a:rPr>
                <a:t>,2</a:t>
              </a:r>
              <a:r>
                <a:rPr b="0" lang="en-US" sz="1400" spc="-1" strike="noStrike" baseline="30000">
                  <a:solidFill>
                    <a:srgbClr val="333399"/>
                  </a:solidFill>
                  <a:latin typeface="Comic Sans MS"/>
                </a:rPr>
                <a:t>+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6156360" y="5373720"/>
            <a:ext cx="259236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Comic Sans MS"/>
              </a:rPr>
              <a:t>*</a:t>
            </a:r>
            <a:r>
              <a:rPr b="0" lang="it-IT" sz="1400" spc="-1" strike="noStrike">
                <a:solidFill>
                  <a:srgbClr val="333399"/>
                </a:solidFill>
                <a:latin typeface="Comic Sans MS"/>
              </a:rPr>
              <a:t>Isidori,Smith,Unterdorfer hep-ph/04041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**Friot,Greynat,de Raphael  hep-ph/04041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24000" y="3429000"/>
                <a:ext cx="80611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M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c</m:t>
                        </m:r>
                      </m:sub>
                      <m:sup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μ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x</m:t>
                        </m:r>
                      </m:sub>
                      <m:sup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μ</m:t>
                        </m:r>
                      </m:sup>
                    </m:sSubSup>
                    <m:r>
                      <m:t xml:space="preserve">±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  <m:sup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μ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r</m:t>
                        </m:r>
                      </m:sub>
                      <m:sup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μ</m:t>
                        </m:r>
                      </m:sup>
                    </m:sSub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Im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250920" y="4738680"/>
            <a:ext cx="5688000" cy="132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parameter dependence is embedded also in the interference ter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positive sign of the interference term seems to be  theoretically preferred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*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84360" y="3068640"/>
            <a:ext cx="1440000" cy="3708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Comic Sans MS"/>
              </a:rPr>
              <a:t>BR(K</a:t>
            </a:r>
            <a:r>
              <a:rPr b="0" lang="en-US" sz="16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en-US" sz="16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en-US" sz="1600" spc="-1" strike="noStrike">
                <a:solidFill>
                  <a:srgbClr val="cc6600"/>
                </a:solidFill>
                <a:latin typeface="Symbol"/>
                <a:ea typeface="Symbol"/>
              </a:rPr>
              <a:t></a:t>
            </a:r>
            <a:r>
              <a:rPr b="0" lang="en-US" sz="1600" spc="-1" strike="noStrike">
                <a:solidFill>
                  <a:srgbClr val="cc66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76720" y="3429000"/>
            <a:ext cx="215640" cy="287280"/>
          </a:xfrm>
          <a:prstGeom prst="line">
            <a:avLst/>
          </a:prstGeom>
          <a:ln w="1908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40360" y="3068640"/>
            <a:ext cx="1368360" cy="3708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Comic Sans MS"/>
              </a:rPr>
              <a:t>BR(K</a:t>
            </a:r>
            <a:r>
              <a:rPr b="0" lang="en-US" sz="1600" spc="-1" strike="noStrike" baseline="-25000">
                <a:solidFill>
                  <a:srgbClr val="cc6600"/>
                </a:solidFill>
                <a:latin typeface="Comic Sans MS"/>
              </a:rPr>
              <a:t>S</a:t>
            </a:r>
            <a:r>
              <a:rPr b="0" lang="en-US" sz="16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en-US" sz="1600" spc="-1" strike="noStrike">
                <a:solidFill>
                  <a:srgbClr val="cc6600"/>
                </a:solidFill>
                <a:latin typeface="Comic Sans MS"/>
              </a:rPr>
              <a:t>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32360" y="3429000"/>
            <a:ext cx="144360" cy="287280"/>
          </a:xfrm>
          <a:prstGeom prst="line">
            <a:avLst/>
          </a:prstGeom>
          <a:ln w="1908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4500720" y="3429000"/>
            <a:ext cx="142560" cy="287280"/>
          </a:xfrm>
          <a:prstGeom prst="line">
            <a:avLst/>
          </a:prstGeom>
          <a:ln w="1908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6200" y="6381720"/>
            <a:ext cx="1683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*NA48 PLB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52960" y="6381720"/>
            <a:ext cx="1748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**KTeV PRL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74480" y="2924280"/>
            <a:ext cx="1008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Final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88000" y="4653000"/>
            <a:ext cx="1079640" cy="2883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6600"/>
                </a:solidFill>
                <a:latin typeface="Comic Sans MS"/>
              </a:rPr>
              <a:t>the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877080" y="4221000"/>
            <a:ext cx="71280" cy="432000"/>
          </a:xfrm>
          <a:prstGeom prst="line">
            <a:avLst/>
          </a:prstGeom>
          <a:ln w="1908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(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SM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5823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51280" y="1773360"/>
            <a:ext cx="5040360" cy="1099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R(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SM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3.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1.3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±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R(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SM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 10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11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1.8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1.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±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43280" y="4383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3720" y="1341360"/>
            <a:ext cx="78739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aking Im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= (1.3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.12)x10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a prediction can be done for B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rcRect l="3088" t="4456" r="6176" b="3413"/>
          <a:stretch/>
        </p:blipFill>
        <p:spPr>
          <a:xfrm>
            <a:off x="4788000" y="3284640"/>
            <a:ext cx="4105080" cy="32702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5517360" y="3645000"/>
            <a:ext cx="1055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terf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84480" y="4941720"/>
            <a:ext cx="1113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terf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24000" y="2205000"/>
          <a:ext cx="3306600" cy="277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205000"/>
                    <a:ext cx="330660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4695840" y="4773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18640" y="1773360"/>
            <a:ext cx="2398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ontribution to 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54280" y="2924280"/>
            <a:ext cx="15278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BRs vs Im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92200" y="5205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50920" y="5084640"/>
            <a:ext cx="4392360" cy="1313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ain uncertainties come from experimental inputs and (less) from CPC contribution theoretical evaluation 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channe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2240" y="2276640"/>
            <a:ext cx="822240" cy="33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@KTeV: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140360" y="1125360"/>
            <a:ext cx="460836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Background due to </a:t>
            </a: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18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1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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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18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1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</a:t>
            </a:r>
            <a:r>
              <a:rPr b="0" lang="it-IT" sz="1800" spc="-1" strike="noStrike" baseline="-25000">
                <a:solidFill>
                  <a:srgbClr val="cc6600"/>
                </a:solidFill>
                <a:latin typeface="Comic Sans MS"/>
              </a:rPr>
              <a:t>D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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</a:t>
            </a:r>
            <a:r>
              <a:rPr b="0" lang="it-IT" sz="18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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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</a:t>
            </a: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18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1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ev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s removed using TRD and cut on charged momenta and event  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27640" y="2637000"/>
            <a:ext cx="4390920" cy="3497400"/>
          </a:xfrm>
          <a:prstGeom prst="rect">
            <a:avLst/>
          </a:prstGeom>
          <a:noFill/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00"/>
                </a:solidFill>
                <a:latin typeface="Comic Sans MS"/>
              </a:rPr>
              <a:t>Irriducible background with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ame final state of the signal</a:t>
            </a:r>
            <a:r>
              <a:rPr b="0" lang="it-IT" sz="1800" spc="-1" strike="noStrike">
                <a:solidFill>
                  <a:srgbClr val="336600"/>
                </a:solidFill>
                <a:latin typeface="Comic Sans MS"/>
              </a:rPr>
              <a:t> from Greenlee double radiation: </a:t>
            </a: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18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1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e</a:t>
            </a:r>
            <a:r>
              <a:rPr b="0" lang="it-IT" sz="18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e</a:t>
            </a:r>
            <a:r>
              <a:rPr b="0" lang="it-IT" sz="18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</a:t>
            </a:r>
            <a:r>
              <a:rPr b="0" lang="it-IT" sz="1800" spc="-1" strike="noStrike">
                <a:solidFill>
                  <a:srgbClr val="336600"/>
                </a:solidFill>
                <a:latin typeface="Comic Sans MS"/>
              </a:rPr>
              <a:t> with a BR=(6.31 </a:t>
            </a:r>
            <a:r>
              <a:rPr b="0" lang="en-US" sz="1800" spc="-1" strike="noStrike">
                <a:solidFill>
                  <a:srgbClr val="336600"/>
                </a:solidFill>
                <a:latin typeface="Arial"/>
                <a:ea typeface="Arial"/>
              </a:rPr>
              <a:t>± 0.14 ± 0.42)x10</a:t>
            </a:r>
            <a:r>
              <a:rPr b="0" lang="en-US" sz="1800" spc="-1" strike="noStrike" baseline="30000">
                <a:solidFill>
                  <a:srgbClr val="336600"/>
                </a:solidFill>
                <a:latin typeface="Arial"/>
                <a:ea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00"/>
                </a:solidFill>
                <a:latin typeface="Comic Sans MS"/>
              </a:rPr>
              <a:t>The background has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adiative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 collimated</a:t>
            </a:r>
            <a:r>
              <a:rPr b="0" lang="it-IT" sz="1800" spc="-1" strike="noStrike">
                <a:solidFill>
                  <a:srgbClr val="336600"/>
                </a:solidFill>
                <a:latin typeface="Comic Sans MS"/>
              </a:rPr>
              <a:t> with e</a:t>
            </a:r>
            <a:r>
              <a:rPr b="0" lang="en-US" sz="1800" spc="-1" strike="noStrike" baseline="30000">
                <a:solidFill>
                  <a:srgbClr val="336600"/>
                </a:solidFill>
                <a:latin typeface="Comic Sans MS"/>
              </a:rPr>
              <a:t>±</a:t>
            </a: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. Discrimination via minimum angle between </a:t>
            </a:r>
            <a:r>
              <a:rPr b="0" lang="en-US" sz="1800" spc="-1" strike="noStrike">
                <a:solidFill>
                  <a:srgbClr val="3366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 an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00"/>
                </a:solidFill>
                <a:latin typeface="Comic Sans MS"/>
              </a:rPr>
              <a:t>The signal has almost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sotropic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 in the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frame</a:t>
            </a:r>
            <a:r>
              <a:rPr b="0" lang="it-IT" sz="1800" spc="-1" strike="noStrike">
                <a:solidFill>
                  <a:srgbClr val="336600"/>
                </a:solidFill>
                <a:latin typeface="Comic Sans MS"/>
              </a:rPr>
              <a:t>. Discrimination via angle between </a:t>
            </a:r>
            <a:r>
              <a:rPr b="0" lang="it-IT" sz="1800" spc="-1" strike="noStrike">
                <a:solidFill>
                  <a:srgbClr val="336600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336600"/>
                </a:solidFill>
                <a:latin typeface="Comic Sans MS"/>
              </a:rPr>
              <a:t> and K</a:t>
            </a:r>
            <a:r>
              <a:rPr b="0" lang="it-IT" sz="1800" spc="-1" strike="noStrike" baseline="-25000">
                <a:solidFill>
                  <a:srgbClr val="336600"/>
                </a:solidFill>
                <a:latin typeface="Comic Sans MS"/>
              </a:rPr>
              <a:t>L</a:t>
            </a:r>
            <a:r>
              <a:rPr b="0" lang="it-IT" sz="1800" spc="-1" strike="noStrike">
                <a:solidFill>
                  <a:srgbClr val="336600"/>
                </a:solidFill>
                <a:latin typeface="Comic Sans MS"/>
              </a:rPr>
              <a:t> in </a:t>
            </a:r>
            <a:r>
              <a:rPr b="0" lang="it-IT" sz="1800" spc="-1" strike="noStrike">
                <a:solidFill>
                  <a:srgbClr val="3366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336600"/>
                </a:solidFill>
                <a:latin typeface="Comic Sans MS"/>
              </a:rPr>
              <a:t>0</a:t>
            </a:r>
            <a:r>
              <a:rPr b="0" lang="it-IT" sz="1800" spc="-1" strike="noStrike">
                <a:solidFill>
                  <a:srgbClr val="336600"/>
                </a:solidFill>
                <a:latin typeface="Comic Sans MS"/>
              </a:rPr>
              <a:t>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1280" y="5950080"/>
            <a:ext cx="27367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1997+1999 dataset: 6.7x10</a:t>
            </a:r>
            <a:r>
              <a:rPr b="0" lang="it-IT" sz="1800" spc="-1" strike="noStrike" baseline="30000">
                <a:solidFill>
                  <a:srgbClr val="333399"/>
                </a:solidFill>
                <a:latin typeface="Comic Sans MS"/>
              </a:rPr>
              <a:t>11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 K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08000" y="1268280"/>
            <a:ext cx="4001760" cy="3879720"/>
            <a:chOff x="108000" y="1268280"/>
            <a:chExt cx="4001760" cy="3879720"/>
          </a:xfrm>
        </p:grpSpPr>
        <p:pic>
          <p:nvPicPr>
            <p:cNvPr id="434" name="" descr=""/>
            <p:cNvPicPr/>
            <p:nvPr/>
          </p:nvPicPr>
          <p:blipFill>
            <a:blip r:embed="rId1"/>
            <a:srcRect l="6244" t="-2101" r="-2051" b="6565"/>
            <a:stretch/>
          </p:blipFill>
          <p:spPr>
            <a:xfrm>
              <a:off x="428760" y="1268280"/>
              <a:ext cx="3681000" cy="35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2251080" y="4776840"/>
              <a:ext cx="1746360" cy="37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6600"/>
                  </a:solidFill>
                  <a:latin typeface="Comic Sans MS"/>
                </a:rPr>
                <a:t>M</a:t>
              </a:r>
              <a:r>
                <a:rPr b="0" lang="it-IT" sz="2000" spc="-1" strike="noStrike" baseline="-25000">
                  <a:solidFill>
                    <a:srgbClr val="336600"/>
                  </a:solidFill>
                  <a:latin typeface="Comic Sans MS"/>
                </a:rPr>
                <a:t>ee</a:t>
              </a:r>
              <a:r>
                <a:rPr b="0" lang="it-IT" sz="2000" spc="-1" strike="noStrike" baseline="-25000">
                  <a:solidFill>
                    <a:srgbClr val="336600"/>
                  </a:solidFill>
                  <a:latin typeface="Symbol"/>
                  <a:ea typeface="Symbol"/>
                </a:rPr>
                <a:t></a:t>
              </a:r>
              <a:r>
                <a:rPr b="0" lang="it-IT" sz="2000" spc="-1" strike="noStrike">
                  <a:solidFill>
                    <a:srgbClr val="336600"/>
                  </a:solidFill>
                  <a:latin typeface="Comic Sans MS"/>
                </a:rPr>
                <a:t> (GeV/c</a:t>
              </a:r>
              <a:r>
                <a:rPr b="0" lang="it-IT" sz="2000" spc="-1" strike="noStrike" baseline="30000">
                  <a:solidFill>
                    <a:srgbClr val="336600"/>
                  </a:solidFill>
                  <a:latin typeface="Comic Sans MS"/>
                </a:rPr>
                <a:t>2</a:t>
              </a:r>
              <a:r>
                <a:rPr b="0" lang="it-IT" sz="2000" spc="-1" strike="noStrike">
                  <a:solidFill>
                    <a:srgbClr val="3366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6200000">
              <a:off x="-495360" y="2014920"/>
              <a:ext cx="1578600" cy="37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6600"/>
                  </a:solidFill>
                  <a:latin typeface="Comic Sans MS"/>
                </a:rPr>
                <a:t>M</a:t>
              </a:r>
              <a:r>
                <a:rPr b="0" lang="it-IT" sz="2000" spc="-1" strike="noStrike" baseline="-25000">
                  <a:solidFill>
                    <a:srgbClr val="336600"/>
                  </a:solidFill>
                  <a:latin typeface="Symbol"/>
                  <a:ea typeface="Symbol"/>
                </a:rPr>
                <a:t></a:t>
              </a:r>
              <a:r>
                <a:rPr b="0" lang="it-IT" sz="2000" spc="-1" strike="noStrike">
                  <a:solidFill>
                    <a:srgbClr val="336600"/>
                  </a:solidFill>
                  <a:latin typeface="Comic Sans MS"/>
                </a:rPr>
                <a:t> (GeV/c</a:t>
              </a:r>
              <a:r>
                <a:rPr b="0" lang="it-IT" sz="2000" spc="-1" strike="noStrike" baseline="30000">
                  <a:solidFill>
                    <a:srgbClr val="336600"/>
                  </a:solidFill>
                  <a:latin typeface="Comic Sans MS"/>
                </a:rPr>
                <a:t>2</a:t>
              </a:r>
              <a:r>
                <a:rPr b="0" lang="it-IT" sz="2000" spc="-1" strike="noStrike">
                  <a:solidFill>
                    <a:srgbClr val="3366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988360" y="1557360"/>
            <a:ext cx="704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24000" y="5084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gnal: two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 and two opposite tracks with e 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@KTeV: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08360" y="1795320"/>
            <a:ext cx="50767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pening the box after these cuts 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events is found out of 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1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  <a:ea typeface="Arial"/>
              </a:rPr>
              <a:t>±1/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ackground events expected. The limit obtained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BR(K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→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33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ee ) &lt; 2.8 × 10</a:t>
            </a:r>
            <a:r>
              <a:rPr b="0" lang="en-US" sz="2000" spc="-1" strike="noStrike" baseline="30000">
                <a:solidFill>
                  <a:srgbClr val="ff3300"/>
                </a:solidFill>
                <a:latin typeface="Comic Sans MS"/>
              </a:rPr>
              <a:t>-10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@90%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39640" y="1700280"/>
            <a:ext cx="2976480" cy="3106440"/>
            <a:chOff x="539640" y="1700280"/>
            <a:chExt cx="2976480" cy="3106440"/>
          </a:xfrm>
        </p:grpSpPr>
        <p:grpSp>
          <p:nvGrpSpPr>
            <p:cNvPr id="442" name=""/>
            <p:cNvGrpSpPr/>
            <p:nvPr/>
          </p:nvGrpSpPr>
          <p:grpSpPr>
            <a:xfrm>
              <a:off x="539640" y="1700280"/>
              <a:ext cx="2976480" cy="3106440"/>
              <a:chOff x="539640" y="1700280"/>
              <a:chExt cx="2976480" cy="3106440"/>
            </a:xfrm>
          </p:grpSpPr>
          <p:pic>
            <p:nvPicPr>
              <p:cNvPr id="443" name="" descr=""/>
              <p:cNvPicPr/>
              <p:nvPr/>
            </p:nvPicPr>
            <p:blipFill>
              <a:blip r:embed="rId1"/>
              <a:srcRect l="7628" t="-2460" r="0" b="7605"/>
              <a:stretch/>
            </p:blipFill>
            <p:spPr>
              <a:xfrm>
                <a:off x="900000" y="1700280"/>
                <a:ext cx="2616120" cy="273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1731600" y="4435560"/>
                <a:ext cx="1746360" cy="37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6600"/>
                    </a:solidFill>
                    <a:latin typeface="Comic Sans MS"/>
                  </a:rPr>
                  <a:t>M</a:t>
                </a:r>
                <a:r>
                  <a:rPr b="0" lang="it-IT" sz="2000" spc="-1" strike="noStrike" baseline="-25000">
                    <a:solidFill>
                      <a:srgbClr val="336600"/>
                    </a:solidFill>
                    <a:latin typeface="Comic Sans MS"/>
                  </a:rPr>
                  <a:t>ee</a:t>
                </a:r>
                <a:r>
                  <a:rPr b="0" lang="it-IT" sz="2000" spc="-1" strike="noStrike" baseline="-25000">
                    <a:solidFill>
                      <a:srgbClr val="336600"/>
                    </a:solidFill>
                    <a:latin typeface="Symbol"/>
                    <a:ea typeface="Symbol"/>
                  </a:rPr>
                  <a:t></a:t>
                </a:r>
                <a:r>
                  <a:rPr b="0" lang="it-IT" sz="2000" spc="-1" strike="noStrike">
                    <a:solidFill>
                      <a:srgbClr val="336600"/>
                    </a:solidFill>
                    <a:latin typeface="Comic Sans MS"/>
                  </a:rPr>
                  <a:t> (GeV/c</a:t>
                </a:r>
                <a:r>
                  <a:rPr b="0" lang="it-IT" sz="2000" spc="-1" strike="noStrike" baseline="30000">
                    <a:solidFill>
                      <a:srgbClr val="336600"/>
                    </a:solidFill>
                    <a:latin typeface="Comic Sans MS"/>
                  </a:rPr>
                  <a:t>2</a:t>
                </a:r>
                <a:r>
                  <a:rPr b="0" lang="it-IT" sz="2000" spc="-1" strike="noStrike">
                    <a:solidFill>
                      <a:srgbClr val="336600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6200000">
                <a:off x="-63720" y="2337480"/>
                <a:ext cx="1578600" cy="37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6600"/>
                    </a:solidFill>
                    <a:latin typeface="Comic Sans MS"/>
                  </a:rPr>
                  <a:t>M</a:t>
                </a:r>
                <a:r>
                  <a:rPr b="0" lang="it-IT" sz="2000" spc="-1" strike="noStrike" baseline="-25000">
                    <a:solidFill>
                      <a:srgbClr val="336600"/>
                    </a:solidFill>
                    <a:latin typeface="Symbol"/>
                    <a:ea typeface="Symbol"/>
                  </a:rPr>
                  <a:t></a:t>
                </a:r>
                <a:r>
                  <a:rPr b="0" lang="it-IT" sz="2000" spc="-1" strike="noStrike">
                    <a:solidFill>
                      <a:srgbClr val="336600"/>
                    </a:solidFill>
                    <a:latin typeface="Comic Sans MS"/>
                  </a:rPr>
                  <a:t> (GeV/c</a:t>
                </a:r>
                <a:r>
                  <a:rPr b="0" lang="it-IT" sz="2000" spc="-1" strike="noStrike" baseline="30000">
                    <a:solidFill>
                      <a:srgbClr val="336600"/>
                    </a:solidFill>
                    <a:latin typeface="Comic Sans MS"/>
                  </a:rPr>
                  <a:t>2</a:t>
                </a:r>
                <a:r>
                  <a:rPr b="0" lang="it-IT" sz="2000" spc="-1" strike="noStrike">
                    <a:solidFill>
                      <a:srgbClr val="336600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2557440" y="1987560"/>
              <a:ext cx="6440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00"/>
                  </a:solidFill>
                  <a:latin typeface="Comic Sans MS"/>
                </a:rPr>
                <a:t>19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00"/>
                  </a:solidFill>
                  <a:latin typeface="Comic Sans MS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995640" y="3933720"/>
            <a:ext cx="4519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Comic Sans MS"/>
              </a:rPr>
              <a:t>Phys. Rev. Lett. 93, 021805 (2004)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1997+1999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50760" y="52768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39640" y="5157720"/>
            <a:ext cx="81122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2 order of magnitude lower than the previous limit but 1 order of magnitude higher then the SM prediction. Future measurement will need improvement both in K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statistic and in background rej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@KTeV: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68360" y="1268280"/>
            <a:ext cx="43196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imilar analysis has been made for 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n the 1997 dataset: 2.7x10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50760" y="52768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9280" y="2349360"/>
            <a:ext cx="453708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Signal: two 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s and two opposite tracks with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 I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Background mainly due to </a:t>
            </a: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18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1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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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,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18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1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</a:t>
            </a: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v +2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 baseline="-25000">
                <a:solidFill>
                  <a:srgbClr val="cc6600"/>
                </a:solidFill>
                <a:latin typeface="Comic Sans MS"/>
              </a:rPr>
              <a:t>acc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 and to double radiative </a:t>
            </a:r>
            <a:r>
              <a:rPr b="0" lang="it-IT" sz="18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18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1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cc6600"/>
                </a:solidFill>
                <a:latin typeface="Symbol"/>
                <a:ea typeface="Symbol"/>
              </a:rPr>
              <a:t>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the Greenlee bck is less severe than for e</a:t>
            </a:r>
            <a:r>
              <a:rPr b="0" lang="it-IT" sz="1800" spc="-1" strike="noStrike" baseline="30000">
                <a:solidFill>
                  <a:srgbClr val="333399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e</a:t>
            </a:r>
            <a:r>
              <a:rPr b="0" lang="it-IT" sz="1800" spc="-1" strike="noStrike" baseline="30000">
                <a:solidFill>
                  <a:srgbClr val="333399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 case ( the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 radiates less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BR(K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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) = (10.4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7.5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-5.9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±0.7)x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9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4788000" y="1341360"/>
            <a:ext cx="4028760" cy="4586040"/>
            <a:chOff x="4788000" y="1341360"/>
            <a:chExt cx="4028760" cy="4586040"/>
          </a:xfrm>
        </p:grpSpPr>
        <p:pic>
          <p:nvPicPr>
            <p:cNvPr id="455" name="" descr=""/>
            <p:cNvPicPr/>
            <p:nvPr/>
          </p:nvPicPr>
          <p:blipFill>
            <a:blip r:embed="rId1"/>
            <a:srcRect l="7269" t="0" r="0" b="4772"/>
            <a:stretch/>
          </p:blipFill>
          <p:spPr>
            <a:xfrm>
              <a:off x="5124600" y="1341360"/>
              <a:ext cx="3686040" cy="43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7405920" y="5589720"/>
              <a:ext cx="1410840" cy="33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3300"/>
                  </a:solidFill>
                  <a:latin typeface="Comic Sans MS"/>
                </a:rPr>
                <a:t>M (GeV/c</a:t>
              </a:r>
              <a:r>
                <a:rPr b="0" lang="it-IT" sz="2000" spc="-1" strike="noStrike" baseline="30000">
                  <a:solidFill>
                    <a:srgbClr val="ff3300"/>
                  </a:solidFill>
                  <a:latin typeface="Comic Sans MS"/>
                </a:rPr>
                <a:t>2</a:t>
              </a:r>
              <a:r>
                <a:rPr b="0" lang="it-IT" sz="2000" spc="-1" strike="noStrike">
                  <a:solidFill>
                    <a:srgbClr val="ff33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4237560" y="2240640"/>
              <a:ext cx="1471680" cy="37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3300"/>
                  </a:solidFill>
                  <a:latin typeface="Comic Sans MS"/>
                </a:rPr>
                <a:t>P</a:t>
              </a:r>
              <a:r>
                <a:rPr b="0" lang="it-IT" sz="2000" spc="-1" strike="noStrike" baseline="-25000">
                  <a:solidFill>
                    <a:srgbClr val="ff3300"/>
                  </a:solidFill>
                  <a:latin typeface="Comic Sans MS"/>
                </a:rPr>
                <a:t>t</a:t>
              </a:r>
              <a:r>
                <a:rPr b="0" lang="it-IT" sz="2000" spc="-1" strike="noStrike" baseline="30000">
                  <a:solidFill>
                    <a:srgbClr val="ff3300"/>
                  </a:solidFill>
                  <a:latin typeface="Comic Sans MS"/>
                </a:rPr>
                <a:t>2</a:t>
              </a:r>
              <a:r>
                <a:rPr b="0" lang="it-IT" sz="2000" spc="-1" strike="noStrike">
                  <a:solidFill>
                    <a:srgbClr val="ff3300"/>
                  </a:solidFill>
                  <a:latin typeface="Comic Sans MS"/>
                </a:rPr>
                <a:t> (GeV/c)</a:t>
              </a:r>
              <a:r>
                <a:rPr b="0" lang="it-IT" sz="2000" spc="-1" strike="noStrike" baseline="30000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303120" y="5565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732720" y="5229360"/>
            <a:ext cx="431640" cy="1443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11280" y="5661000"/>
            <a:ext cx="4155840" cy="85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Kinematic costraint on inv. mass and 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f total event single out th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"/>
          <p:cNvCxnSpPr>
            <a:stCxn id="460" idx="3"/>
            <a:endCxn id="455" idx="2"/>
          </p:cNvCxnSpPr>
          <p:nvPr/>
        </p:nvCxnSpPr>
        <p:spPr>
          <a:xfrm flipV="1">
            <a:off x="4781520" y="5651280"/>
            <a:ext cx="2186640" cy="437040"/>
          </a:xfrm>
          <a:prstGeom prst="bentConnector2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41008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@KTeV: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435640" y="1268280"/>
          <a:ext cx="3311640" cy="221616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BCK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ected 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0.87±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Comic Sans MS"/>
                        </a:rPr>
                        <a:t>L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 baseline="30000">
                          <a:solidFill>
                            <a:srgbClr val="333399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 baseline="30000">
                          <a:solidFill>
                            <a:srgbClr val="333399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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37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±0.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Comic Sans MS"/>
                        </a:rPr>
                        <a:t>L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333399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333399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333399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26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±0.0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Comic Sans MS"/>
                        </a:rPr>
                        <a:t>L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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Comic Sans MS"/>
                        </a:rPr>
                        <a:t>a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±0.0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pSp>
        <p:nvGrpSpPr>
          <p:cNvPr id="464" name=""/>
          <p:cNvGrpSpPr/>
          <p:nvPr/>
        </p:nvGrpSpPr>
        <p:grpSpPr>
          <a:xfrm>
            <a:off x="324000" y="2196000"/>
            <a:ext cx="4174200" cy="3523320"/>
            <a:chOff x="324000" y="2196000"/>
            <a:chExt cx="4174200" cy="3523320"/>
          </a:xfrm>
        </p:grpSpPr>
        <p:pic>
          <p:nvPicPr>
            <p:cNvPr id="465" name="" descr=""/>
            <p:cNvPicPr/>
            <p:nvPr/>
          </p:nvPicPr>
          <p:blipFill>
            <a:blip r:embed="rId1"/>
            <a:srcRect l="3521" t="0" r="0" b="4386"/>
            <a:stretch/>
          </p:blipFill>
          <p:spPr>
            <a:xfrm>
              <a:off x="591480" y="2208600"/>
              <a:ext cx="3838680" cy="317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1104120" y="477612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81280" y="3438720"/>
              <a:ext cx="0" cy="646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210040" y="3438720"/>
              <a:ext cx="0" cy="646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-372960" y="2893320"/>
              <a:ext cx="1732320" cy="33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6600"/>
                  </a:solidFill>
                  <a:latin typeface="Comic Sans MS"/>
                </a:rPr>
                <a:t>Events/1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87360" y="5381640"/>
              <a:ext cx="1410840" cy="33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6600"/>
                  </a:solidFill>
                  <a:latin typeface="Comic Sans MS"/>
                </a:rPr>
                <a:t>M (GeV/c</a:t>
              </a:r>
              <a:r>
                <a:rPr b="0" lang="it-IT" sz="2000" spc="-1" strike="noStrike" baseline="30000">
                  <a:solidFill>
                    <a:srgbClr val="336600"/>
                  </a:solidFill>
                  <a:latin typeface="Comic Sans MS"/>
                </a:rPr>
                <a:t>2</a:t>
              </a:r>
              <a:r>
                <a:rPr b="0" lang="it-IT" sz="2000" spc="-1" strike="noStrike">
                  <a:solidFill>
                    <a:srgbClr val="3366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50920" y="126828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Opening the box 2 events were found in the signal region with 0.87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0" y="3645000"/>
            <a:ext cx="43927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limit obtained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BR(K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→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33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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) &lt; 3.8 × 10</a:t>
            </a:r>
            <a:r>
              <a:rPr b="0" lang="en-US" sz="2000" spc="-1" strike="noStrike" baseline="30000">
                <a:solidFill>
                  <a:srgbClr val="ff3300"/>
                </a:solidFill>
                <a:latin typeface="Comic Sans MS"/>
              </a:rPr>
              <a:t>-10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@90%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26240" y="5805360"/>
            <a:ext cx="36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omic Sans MS"/>
              </a:rPr>
              <a:t>Phys. Rev. Lett. 84, 5279-5282 (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Comic Sans MS"/>
              </a:rPr>
              <a:t>1997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859280" y="4797360"/>
            <a:ext cx="40323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Also th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exp. limit has been pushed down by orders of magnitude but is still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~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1 order of magnitude above 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48316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Kaon and CP: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2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26920" y="1284120"/>
            <a:ext cx="7575480" cy="2550240"/>
            <a:chOff x="826920" y="1284120"/>
            <a:chExt cx="7575480" cy="2550240"/>
          </a:xfrm>
        </p:grpSpPr>
        <p:sp>
          <p:nvSpPr>
            <p:cNvPr id="59" name=""/>
            <p:cNvSpPr/>
            <p:nvPr/>
          </p:nvSpPr>
          <p:spPr>
            <a:xfrm>
              <a:off x="826920" y="1737720"/>
              <a:ext cx="2722320" cy="642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ccff"/>
                  </a:solidFill>
                  <a:latin typeface="Arial"/>
                </a:rPr>
                <a:t>CP violation in the decay amplitu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21080" y="1737720"/>
              <a:ext cx="3181320" cy="642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ccff"/>
                  </a:solidFill>
                  <a:latin typeface="Arial"/>
                </a:rPr>
                <a:t>CP  eigenstates </a:t>
              </a:r>
              <a:r>
                <a:rPr b="1" lang="it-IT" sz="1800" spc="-1" strike="noStrike">
                  <a:solidFill>
                    <a:srgbClr val="00ccff"/>
                  </a:solidFill>
                  <a:latin typeface="Arial"/>
                  <a:ea typeface="Arial"/>
                </a:rPr>
                <a:t>≠ mass eigenst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59" idx="2"/>
              <a:endCxn id="62" idx="1"/>
            </p:cNvCxnSpPr>
            <p:nvPr/>
          </p:nvCxnSpPr>
          <p:spPr>
            <a:xfrm flipH="1" rot="16200000">
              <a:off x="2202480" y="2305800"/>
              <a:ext cx="888840" cy="918360"/>
            </a:xfrm>
            <a:prstGeom prst="bentConnector2">
              <a:avLst/>
            </a:prstGeom>
            <a:ln w="19080">
              <a:solidFill>
                <a:srgbClr val="cc66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endCxn id="62" idx="3"/>
            </p:cNvCxnSpPr>
            <p:nvPr/>
          </p:nvCxnSpPr>
          <p:spPr>
            <a:xfrm rot="5400000">
              <a:off x="6460200" y="2305080"/>
              <a:ext cx="948240" cy="861840"/>
            </a:xfrm>
            <a:prstGeom prst="bentConnector2">
              <a:avLst/>
            </a:prstGeom>
            <a:ln w="19080">
              <a:solidFill>
                <a:srgbClr val="cc6600"/>
              </a:solidFill>
              <a:miter/>
              <a:tailEnd len="med" type="triangle" w="med"/>
            </a:ln>
          </p:spPr>
        </p:cxnSp>
        <p:sp>
          <p:nvSpPr>
            <p:cNvPr id="62" name=""/>
            <p:cNvSpPr/>
            <p:nvPr/>
          </p:nvSpPr>
          <p:spPr>
            <a:xfrm>
              <a:off x="3105000" y="2917440"/>
              <a:ext cx="3400200" cy="9169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ccff"/>
                  </a:solidFill>
                  <a:latin typeface="Arial"/>
                </a:rPr>
                <a:t>CP violation from interference of   “DIRECT and MIXING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94120" y="1301400"/>
              <a:ext cx="102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IREC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32560" y="128412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IXING or INDIREC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91800" y="246240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TERFEREN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419640" y="4076640"/>
            <a:ext cx="4536720" cy="2303280"/>
            <a:chOff x="3419640" y="4076640"/>
            <a:chExt cx="4536720" cy="230328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3419640" y="4076640"/>
              <a:ext cx="45367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751360" y="5881320"/>
              <a:ext cx="1342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Ceccucci LP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556000" y="404640"/>
            <a:ext cx="720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24000" y="4797360"/>
            <a:ext cx="3168360" cy="1191240"/>
            <a:chOff x="324000" y="4797360"/>
            <a:chExt cx="3168360" cy="1191240"/>
          </a:xfrm>
        </p:grpSpPr>
        <p:sp>
          <p:nvSpPr>
            <p:cNvPr id="72" name=""/>
            <p:cNvSpPr/>
            <p:nvPr/>
          </p:nvSpPr>
          <p:spPr>
            <a:xfrm>
              <a:off x="324000" y="4797360"/>
              <a:ext cx="3168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cc6600"/>
                  </a:solidFill>
                  <a:latin typeface="Comic Sans MS"/>
                </a:rPr>
                <a:t>DIRECT CP firmly established after more than 30 ye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cc6600"/>
                  </a:solidFill>
                  <a:latin typeface="Comic Sans MS"/>
                </a:rPr>
                <a:t>Re(</a:t>
              </a:r>
              <a:r>
                <a:rPr b="0" lang="it-IT" sz="18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</a:t>
              </a:r>
              <a:r>
                <a:rPr b="0" lang="it-IT" sz="1800" spc="-1" strike="noStrike">
                  <a:solidFill>
                    <a:srgbClr val="cc6600"/>
                  </a:solidFill>
                  <a:latin typeface="Comic Sans MS"/>
                </a:rPr>
                <a:t>’/</a:t>
              </a:r>
              <a:r>
                <a:rPr b="0" lang="it-IT" sz="18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</a:t>
              </a:r>
              <a:r>
                <a:rPr b="0" lang="it-IT" sz="1800" spc="-1" strike="noStrike">
                  <a:solidFill>
                    <a:srgbClr val="cc6600"/>
                  </a:solidFill>
                  <a:latin typeface="Comic Sans MS"/>
                </a:rPr>
                <a:t>) = (16.7</a:t>
              </a:r>
              <a:r>
                <a:rPr b="0" lang="en-US" sz="1800" spc="-1" strike="noStrike">
                  <a:solidFill>
                    <a:srgbClr val="cc6600"/>
                  </a:solidFill>
                  <a:latin typeface="Arial"/>
                  <a:ea typeface="Arial"/>
                </a:rPr>
                <a:t>±</a:t>
              </a:r>
              <a:r>
                <a:rPr b="0" lang="it-IT" sz="1800" spc="-1" strike="noStrike">
                  <a:solidFill>
                    <a:srgbClr val="cc6600"/>
                  </a:solidFill>
                  <a:latin typeface="Comic Sans MS"/>
                </a:rPr>
                <a:t>2.3)x10</a:t>
              </a:r>
              <a:r>
                <a:rPr b="0" lang="it-IT" sz="1800" spc="-1" strike="noStrike" baseline="30000">
                  <a:solidFill>
                    <a:srgbClr val="cc66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31640" y="4797360"/>
              <a:ext cx="360000" cy="36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902000" y="2781360"/>
            <a:ext cx="462960" cy="4824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Symbol"/>
                <a:ea typeface="Symbol"/>
              </a:rPr>
              <a:t></a:t>
            </a:r>
            <a:r>
              <a:rPr b="0" lang="it-IT" sz="2800" spc="-1" strike="noStrike" baseline="-25000">
                <a:solidFill>
                  <a:srgbClr val="009999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0520" y="2852640"/>
            <a:ext cx="1155600" cy="386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(</a:t>
            </a:r>
            <a:r>
              <a:rPr b="0" lang="en-US" sz="2400" spc="-1" strike="noStrike">
                <a:solidFill>
                  <a:srgbClr val="0099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’/</a:t>
            </a:r>
            <a:r>
              <a:rPr b="0" lang="en-US" sz="2400" spc="-1" strike="noStrike">
                <a:solidFill>
                  <a:srgbClr val="0099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1988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on rare decays and Re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564000" y="4653000"/>
                <a:ext cx="5252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2916360" y="1341360"/>
            <a:ext cx="60483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BR(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is almost saturated by the </a:t>
            </a:r>
            <a:r>
              <a:rPr b="0" lang="it-IT" sz="2000" spc="-1" strike="noStrike">
                <a:solidFill>
                  <a:srgbClr val="008000"/>
                </a:solidFill>
                <a:latin typeface="Comic Sans MS"/>
              </a:rPr>
              <a:t>absortive amplitud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 computed from measured 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BR(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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with small err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(tiny) 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short distanc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contribution of </a:t>
            </a:r>
            <a:r>
              <a:rPr b="0" lang="it-IT" sz="2000" spc="-1" strike="noStrike">
                <a:solidFill>
                  <a:srgbClr val="008000"/>
                </a:solidFill>
                <a:latin typeface="Comic Sans MS"/>
              </a:rPr>
              <a:t>dispersive amplitud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s related to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4000" y="2205000"/>
            <a:ext cx="3384360" cy="2448000"/>
          </a:xfrm>
          <a:prstGeom prst="triangle">
            <a:avLst>
              <a:gd name="adj" fmla="val 28819"/>
            </a:avLst>
          </a:prstGeom>
          <a:solidFill>
            <a:srgbClr val="00ff99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976320" y="1773360"/>
                <a:ext cx="6523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ρ</m:t>
                    </m:r>
                    <m:r>
                      <m:t xml:space="preserve">,</m:t>
                    </m:r>
                    <m:r>
                      <m:t xml:space="preserve">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"/>
          <p:cNvSpPr/>
          <p:nvPr/>
        </p:nvSpPr>
        <p:spPr>
          <a:xfrm>
            <a:off x="412920" y="4797360"/>
            <a:ext cx="936360" cy="0"/>
          </a:xfrm>
          <a:prstGeom prst="line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197000" y="2205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54680" y="4214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15440" y="42148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059280" y="3068640"/>
                <a:ext cx="59068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ρ</m:t>
                        </m:r>
                      </m:e>
                    </m:ba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ba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7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e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b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4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>
            <a:off x="4572000" y="4508640"/>
            <a:ext cx="417528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long distanc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contribution to </a:t>
            </a:r>
            <a:r>
              <a:rPr b="0" lang="it-IT" sz="2000" spc="-1" strike="noStrike">
                <a:solidFill>
                  <a:srgbClr val="008000"/>
                </a:solidFill>
                <a:latin typeface="Comic Sans MS"/>
              </a:rPr>
              <a:t>dispersive amplitud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 via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*,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*, must be extracted from 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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e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e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13120" y="5322960"/>
            <a:ext cx="1327320" cy="938880"/>
            <a:chOff x="213120" y="5322960"/>
            <a:chExt cx="1327320" cy="938880"/>
          </a:xfrm>
        </p:grpSpPr>
        <p:sp>
          <p:nvSpPr>
            <p:cNvPr id="487" name=""/>
            <p:cNvSpPr/>
            <p:nvPr/>
          </p:nvSpPr>
          <p:spPr>
            <a:xfrm>
              <a:off x="213120" y="5751720"/>
              <a:ext cx="1327320" cy="510120"/>
            </a:xfrm>
            <a:prstGeom prst="rect">
              <a:avLst/>
            </a:prstGeom>
            <a:solidFill>
              <a:srgbClr val="cc66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→</a:t>
              </a: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1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4360" y="5322960"/>
              <a:ext cx="287280" cy="432000"/>
            </a:xfrm>
            <a:prstGeom prst="upArrow">
              <a:avLst>
                <a:gd name="adj1" fmla="val 50000"/>
                <a:gd name="adj2" fmla="val 37594"/>
              </a:avLst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1835280" y="5229360"/>
            <a:ext cx="2446200" cy="1341360"/>
            <a:chOff x="1835280" y="5229360"/>
            <a:chExt cx="2446200" cy="1341360"/>
          </a:xfrm>
        </p:grpSpPr>
        <p:sp>
          <p:nvSpPr>
            <p:cNvPr id="490" name=""/>
            <p:cNvSpPr/>
            <p:nvPr/>
          </p:nvSpPr>
          <p:spPr>
            <a:xfrm>
              <a:off x="2484360" y="5229360"/>
              <a:ext cx="1797120" cy="134136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→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→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ee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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it-IT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eeee(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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35280" y="5661000"/>
              <a:ext cx="649080" cy="289080"/>
            </a:xfrm>
            <a:prstGeom prst="leftArrow">
              <a:avLst>
                <a:gd name="adj1" fmla="val 50000"/>
                <a:gd name="adj2" fmla="val 56133"/>
              </a:avLst>
            </a:prstGeom>
            <a:gradFill rotWithShape="0">
              <a:gsLst>
                <a:gs pos="0">
                  <a:srgbClr val="00ff99"/>
                </a:gs>
                <a:gs pos="100000">
                  <a:srgbClr val="007546"/>
                </a:gs>
              </a:gsLst>
              <a:lin ang="10800000"/>
            </a:gradFill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835280" y="5229360"/>
            <a:ext cx="2446200" cy="1341360"/>
            <a:chOff x="1835280" y="5229360"/>
            <a:chExt cx="2446200" cy="1341360"/>
          </a:xfrm>
        </p:grpSpPr>
        <p:sp>
          <p:nvSpPr>
            <p:cNvPr id="493" name=""/>
            <p:cNvSpPr/>
            <p:nvPr/>
          </p:nvSpPr>
          <p:spPr>
            <a:xfrm>
              <a:off x="2484360" y="5229360"/>
              <a:ext cx="1797120" cy="134136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→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→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ee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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it-IT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eeee(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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35280" y="5661000"/>
              <a:ext cx="649080" cy="289080"/>
            </a:xfrm>
            <a:prstGeom prst="leftArrow">
              <a:avLst>
                <a:gd name="adj1" fmla="val 50000"/>
                <a:gd name="adj2" fmla="val 56133"/>
              </a:avLst>
            </a:prstGeom>
            <a:gradFill rotWithShape="0">
              <a:gsLst>
                <a:gs pos="0">
                  <a:srgbClr val="00ff99"/>
                </a:gs>
                <a:gs pos="100000">
                  <a:srgbClr val="007546"/>
                </a:gs>
              </a:gsLst>
              <a:lin ang="10800000"/>
            </a:gradFill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74560" y="4772160"/>
            <a:ext cx="500760" cy="459720"/>
            <a:chOff x="574560" y="4772160"/>
            <a:chExt cx="500760" cy="459720"/>
          </a:xfrm>
        </p:grpSpPr>
        <p:sp>
          <p:nvSpPr>
            <p:cNvPr id="496" name=""/>
            <p:cNvSpPr/>
            <p:nvPr/>
          </p:nvSpPr>
          <p:spPr>
            <a:xfrm>
              <a:off x="574560" y="4772160"/>
              <a:ext cx="5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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0720" y="4916520"/>
              <a:ext cx="287280" cy="0"/>
            </a:xfrm>
            <a:prstGeom prst="line">
              <a:avLst/>
            </a:prstGeom>
            <a:ln w="1908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95280" y="1341360"/>
            <a:ext cx="2089080" cy="440640"/>
            <a:chOff x="395280" y="1341360"/>
            <a:chExt cx="2089080" cy="440640"/>
          </a:xfrm>
        </p:grpSpPr>
        <p:sp>
          <p:nvSpPr>
            <p:cNvPr id="499" name=""/>
            <p:cNvSpPr/>
            <p:nvPr/>
          </p:nvSpPr>
          <p:spPr>
            <a:xfrm>
              <a:off x="395280" y="1341360"/>
              <a:ext cx="2089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8000"/>
                  </a:solidFill>
                  <a:latin typeface="Comic Sans MS"/>
                </a:rPr>
                <a:t>Re</a:t>
              </a:r>
              <a:r>
                <a:rPr b="1" lang="it-IT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</a:t>
              </a:r>
              <a:r>
                <a:rPr b="0" lang="it-IT" sz="2000" spc="-1" strike="noStrike" baseline="-25000">
                  <a:solidFill>
                    <a:srgbClr val="008000"/>
                  </a:solidFill>
                  <a:latin typeface="Comic Sans MS"/>
                </a:rPr>
                <a:t>t</a:t>
              </a:r>
              <a:r>
                <a:rPr b="1" lang="it-IT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</a:t>
              </a:r>
              <a:r>
                <a:rPr b="1" lang="it-IT" sz="2000" spc="-1" strike="noStrike">
                  <a:solidFill>
                    <a:srgbClr val="008000"/>
                  </a:solidFill>
                  <a:latin typeface="Comic Sans MS"/>
                </a:rPr>
                <a:t>= </a:t>
              </a:r>
              <a:r>
                <a:rPr b="0" lang="it-IT" sz="2000" spc="-1" strike="noStrike">
                  <a:solidFill>
                    <a:srgbClr val="008000"/>
                  </a:solidFill>
                  <a:latin typeface="Comic Sans MS"/>
                </a:rPr>
                <a:t>A</a:t>
              </a:r>
              <a:r>
                <a:rPr b="0" lang="it-IT" sz="2000" spc="-1" strike="noStrike" baseline="30000">
                  <a:solidFill>
                    <a:srgbClr val="008000"/>
                  </a:solidFill>
                  <a:latin typeface="Comic Sans MS"/>
                </a:rPr>
                <a:t>2</a:t>
              </a:r>
              <a:r>
                <a:rPr b="1" lang="it-IT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</a:t>
              </a:r>
              <a:r>
                <a:rPr b="0" lang="it-IT" sz="2000" spc="-1" strike="noStrike" baseline="30000">
                  <a:solidFill>
                    <a:srgbClr val="008000"/>
                  </a:solidFill>
                  <a:latin typeface="Comic Sans MS"/>
                </a:rPr>
                <a:t>3  </a:t>
              </a:r>
              <a:r>
                <a:rPr b="1" lang="it-IT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50920" y="1413000"/>
              <a:ext cx="289080" cy="0"/>
            </a:xfrm>
            <a:prstGeom prst="line">
              <a:avLst/>
            </a:prstGeom>
            <a:ln w="1908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c66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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871@B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9280" y="5013360"/>
            <a:ext cx="48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uracy limited by the error (th. &amp; exp.) on dispersive amplitude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27080" y="4149720"/>
            <a:ext cx="3647880" cy="371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BR(K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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) = (7.18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±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0.17)x10</a:t>
            </a:r>
            <a:r>
              <a:rPr b="0" lang="it-IT" sz="2000" spc="-1" strike="noStrike" baseline="30000">
                <a:solidFill>
                  <a:srgbClr val="ff0000"/>
                </a:solidFill>
                <a:latin typeface="Comic Sans MS"/>
              </a:rPr>
              <a:t>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927440" y="6381720"/>
            <a:ext cx="4007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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&lt; 0.33 @90% C.L. PRL84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31120" y="1197000"/>
            <a:ext cx="4053240" cy="2861640"/>
            <a:chOff x="231120" y="1197000"/>
            <a:chExt cx="4053240" cy="2861640"/>
          </a:xfrm>
        </p:grpSpPr>
        <p:grpSp>
          <p:nvGrpSpPr>
            <p:cNvPr id="506" name=""/>
            <p:cNvGrpSpPr/>
            <p:nvPr/>
          </p:nvGrpSpPr>
          <p:grpSpPr>
            <a:xfrm>
              <a:off x="684360" y="1197000"/>
              <a:ext cx="3600000" cy="2808000"/>
              <a:chOff x="684360" y="1197000"/>
              <a:chExt cx="3600000" cy="2808000"/>
            </a:xfrm>
          </p:grpSpPr>
          <p:pic>
            <p:nvPicPr>
              <p:cNvPr id="5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4360" y="1197000"/>
                <a:ext cx="3600000" cy="28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"/>
              <p:cNvSpPr/>
              <p:nvPr/>
            </p:nvSpPr>
            <p:spPr>
              <a:xfrm>
                <a:off x="3288240" y="1272600"/>
                <a:ext cx="0" cy="990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293200" y="1272600"/>
                <a:ext cx="0" cy="990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680480" y="2644560"/>
                <a:ext cx="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834200" y="2644560"/>
                <a:ext cx="0" cy="106668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130640" y="2644560"/>
                <a:ext cx="0" cy="106668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297080" y="3405600"/>
                <a:ext cx="383040" cy="305640"/>
              </a:xfrm>
              <a:prstGeom prst="rect">
                <a:avLst/>
              </a:prstGeom>
              <a:solidFill>
                <a:srgbClr val="bbe0e3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2268720" y="1197000"/>
              <a:ext cx="1008000" cy="1079640"/>
            </a:xfrm>
            <a:prstGeom prst="rect">
              <a:avLst/>
            </a:prstGeom>
            <a:solidFill>
              <a:srgbClr val="ffff00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260360" y="2637000"/>
              <a:ext cx="432000" cy="792000"/>
            </a:xfrm>
            <a:prstGeom prst="rect">
              <a:avLst/>
            </a:prstGeom>
            <a:solidFill>
              <a:srgbClr val="ffff00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1120" y="2205000"/>
              <a:ext cx="891000" cy="337680"/>
            </a:xfrm>
            <a:prstGeom prst="rect">
              <a:avLst/>
            </a:prstGeom>
            <a:solidFill>
              <a:srgbClr val="ffff00">
                <a:alpha val="21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sig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16000" y="2565360"/>
              <a:ext cx="2160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6080" y="3720960"/>
              <a:ext cx="595080" cy="3376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b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900000" y="3573360"/>
              <a:ext cx="50508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1116000" y="1916280"/>
              <a:ext cx="10080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5005440" y="1344600"/>
            <a:ext cx="4079160" cy="4730400"/>
            <a:chOff x="5005440" y="1344600"/>
            <a:chExt cx="4079160" cy="4730400"/>
          </a:xfrm>
        </p:grpSpPr>
        <p:pic>
          <p:nvPicPr>
            <p:cNvPr id="522" name="" descr=""/>
            <p:cNvPicPr/>
            <p:nvPr/>
          </p:nvPicPr>
          <p:blipFill>
            <a:blip r:embed="rId2"/>
            <a:srcRect l="0" t="6348" r="0" b="27395"/>
            <a:stretch/>
          </p:blipFill>
          <p:spPr>
            <a:xfrm>
              <a:off x="5005440" y="1344600"/>
              <a:ext cx="397836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666040" y="5737320"/>
              <a:ext cx="761400" cy="337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E87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403400" y="5521320"/>
              <a:ext cx="143496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cc66ff"/>
                  </a:solidFill>
                  <a:latin typeface="Comic Sans MS"/>
                </a:rPr>
                <a:t>Muon hodosco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955280" y="5016600"/>
              <a:ext cx="1028160" cy="38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cc00"/>
                  </a:solidFill>
                  <a:latin typeface="Comic Sans MS"/>
                </a:rPr>
                <a:t>Lead Gl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cc00"/>
                  </a:solidFill>
                  <a:latin typeface="Comic Sans MS"/>
                </a:rPr>
                <a:t>Calorime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658280" y="4800600"/>
              <a:ext cx="85572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5050"/>
                  </a:solidFill>
                  <a:latin typeface="Comic Sans MS"/>
                </a:rPr>
                <a:t>Cerenko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73920" y="4656240"/>
              <a:ext cx="941040" cy="38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8000"/>
                  </a:solidFill>
                  <a:latin typeface="Comic Sans MS"/>
                </a:rPr>
                <a:t>Trig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8000"/>
                  </a:solidFill>
                  <a:latin typeface="Comic Sans MS"/>
                </a:rPr>
                <a:t>Scintil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10200" y="3936960"/>
              <a:ext cx="1076760" cy="38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9999"/>
                  </a:solidFill>
                  <a:latin typeface="Comic Sans MS"/>
                </a:rPr>
                <a:t>Neut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9999"/>
                  </a:solidFill>
                  <a:latin typeface="Comic Sans MS"/>
                </a:rPr>
                <a:t>Beam Dum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77560" y="4584600"/>
              <a:ext cx="160560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cc99"/>
                  </a:solidFill>
                  <a:latin typeface="Comic Sans MS"/>
                </a:rPr>
                <a:t>Drift Chamber 5 &amp; 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79640" y="3720960"/>
              <a:ext cx="169236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cc99"/>
                  </a:solidFill>
                  <a:latin typeface="Comic Sans MS"/>
                </a:rPr>
                <a:t>Straw Chamber 1 &amp;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79000" y="4152960"/>
              <a:ext cx="160560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cc99"/>
                  </a:solidFill>
                  <a:latin typeface="Comic Sans MS"/>
                </a:rPr>
                <a:t>Drift Chamber 3 &amp;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84352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T and CP from K: status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960720" y="1555920"/>
            <a:ext cx="5148360" cy="33130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50920" y="1268280"/>
            <a:ext cx="36734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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: BR twice of SM prediction but within statistical error. (new run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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: exp. limit far away from SM, but E391a is getting  clo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l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: experimental limits a factor 10 above SM. New exp. needed (may be 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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easier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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: sensitivity to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limited both by theory and by exp. error on 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.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89120" y="1270080"/>
            <a:ext cx="2129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urtesy of G.Isid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763640" y="404640"/>
            <a:ext cx="72072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076720" y="5013360"/>
            <a:ext cx="309564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New generation of dedicated experiments (&amp; beams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needed.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48316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692360" y="2276640"/>
            <a:ext cx="5904000" cy="252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c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CP Violation and SM test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TCP Viol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Detour to V</a:t>
            </a:r>
            <a:r>
              <a:rPr b="0" lang="en-US" sz="3200" spc="-1" strike="noStrike" baseline="-25000">
                <a:solidFill>
                  <a:srgbClr val="cc6600"/>
                </a:solidFill>
                <a:latin typeface="Comic Sans MS"/>
              </a:rPr>
              <a:t>us</a:t>
            </a: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Outlook &amp; Conclu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5148360" y="321300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24000" y="3429000"/>
            <a:ext cx="84978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 uncertainty o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PT violati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meter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due to the error on 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A(K</a:t>
            </a:r>
            <a:r>
              <a:rPr b="0" lang="en-US" sz="2000" spc="-1" strike="noStrike" baseline="-25000">
                <a:solidFill>
                  <a:srgbClr val="cc66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on 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 baseline="-25000">
                <a:solidFill>
                  <a:srgbClr val="cc6600"/>
                </a:solidFill>
                <a:latin typeface="Comic Sans MS"/>
              </a:rPr>
              <a:t>000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|=A(K</a:t>
            </a:r>
            <a:r>
              <a:rPr b="0" lang="en-US" sz="2000" spc="-1" strike="noStrike" baseline="-25000">
                <a:solidFill>
                  <a:srgbClr val="cc66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)/A(K</a:t>
            </a:r>
            <a:r>
              <a:rPr b="0" lang="en-US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tribution to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are Kaon decays and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95280" y="2205000"/>
                <a:ext cx="4824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Δ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f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250920" y="1359000"/>
            <a:ext cx="820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TCP test typical of the Kaon system can be derived from th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L,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mplitudes imposing unitarity via the Bell-Steinberger rel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5651640" y="2276640"/>
          <a:ext cx="302400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276640"/>
                    <a:ext cx="3024000" cy="82692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4859280" y="404640"/>
            <a:ext cx="64764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5280" y="5516640"/>
            <a:ext cx="684072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experimental limit on BR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literature a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BR(K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) &lt; 1.4x10</a:t>
            </a:r>
            <a:r>
              <a:rPr b="0" lang="en-US" sz="1800" spc="-1" strike="noStrike" baseline="30000">
                <a:solidFill>
                  <a:srgbClr val="0033cc"/>
                </a:solidFill>
                <a:latin typeface="Comic Sans MS"/>
              </a:rPr>
              <a:t>-5 </a:t>
            </a: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(SND, PL B459 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m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= (2.4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±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5.0) ×  10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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   CPLEAR ’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1979640" y="4508640"/>
                <a:ext cx="4824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d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77044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S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3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: KLOE@DA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46920" y="5157720"/>
            <a:ext cx="338724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KLOE run 2001-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.45 fb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-1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1.4x10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dec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oreseen 2 fb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56000" y="2781360"/>
            <a:ext cx="2303280" cy="1370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GB" sz="18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/pb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* = 110 M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i="1" lang="en-GB" sz="1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 = 6 mm</a:t>
            </a:r>
            <a:r>
              <a:rPr b="1" lang="en-GB" sz="1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i="1" lang="en-GB" sz="18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= 3.4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4000" y="4221000"/>
            <a:ext cx="4464000" cy="2358000"/>
          </a:xfrm>
          <a:prstGeom prst="roundRect">
            <a:avLst>
              <a:gd name="adj" fmla="val 3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decay at rest provides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pur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onochromatic, back to back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kaon beams in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quantum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agging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:  observation of K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S,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signals presence of K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L,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L,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beams in the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a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detector at the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a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79280" y="2795760"/>
            <a:ext cx="2210040" cy="132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4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1.5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 10</a:t>
            </a:r>
            <a:r>
              <a:rPr b="1" lang="en-GB" sz="18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/pb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-1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* = 127 MeV/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1" i="1" lang="en-GB" sz="1800" spc="-1" strike="noStrike" baseline="-25000">
                <a:solidFill>
                  <a:srgbClr val="000000"/>
                </a:solidFill>
                <a:latin typeface="Times New Roman"/>
              </a:rPr>
              <a:t>±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= 9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4950000" y="1339920"/>
            <a:ext cx="3876480" cy="3673440"/>
            <a:chOff x="4950000" y="1339920"/>
            <a:chExt cx="3876480" cy="3673440"/>
          </a:xfrm>
        </p:grpSpPr>
        <p:pic>
          <p:nvPicPr>
            <p:cNvPr id="556" name="" descr=""/>
            <p:cNvPicPr/>
            <p:nvPr/>
          </p:nvPicPr>
          <p:blipFill>
            <a:blip r:embed="rId1"/>
            <a:srcRect l="18004" t="10197" r="18753" b="4776"/>
            <a:stretch/>
          </p:blipFill>
          <p:spPr>
            <a:xfrm>
              <a:off x="4950000" y="1339920"/>
              <a:ext cx="3819960" cy="36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7538400" y="1549440"/>
              <a:ext cx="1077480" cy="746280"/>
            </a:xfrm>
            <a:prstGeom prst="roundRect">
              <a:avLst>
                <a:gd name="adj" fmla="val 213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Comic Sans MS"/>
                </a:rPr>
                <a:t>K</a:t>
              </a:r>
              <a:r>
                <a:rPr b="0" lang="en-GB" sz="2000" spc="-1" strike="noStrike" baseline="-25000">
                  <a:solidFill>
                    <a:srgbClr val="333399"/>
                  </a:solidFill>
                  <a:latin typeface="Comic Sans MS"/>
                </a:rPr>
                <a:t>L</a:t>
              </a:r>
              <a:r>
                <a:rPr b="0" lang="en-GB" sz="2000" spc="-1" strike="noStrike">
                  <a:solidFill>
                    <a:srgbClr val="333399"/>
                  </a:solidFill>
                  <a:latin typeface="Comic Sans MS"/>
                </a:rPr>
                <a:t> ta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Comic Sans MS"/>
                </a:rPr>
                <a:t>By</a:t>
              </a:r>
              <a:r>
                <a:rPr b="0" lang="en-GB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</a:t>
              </a:r>
              <a:r>
                <a:rPr b="0" lang="en-GB" sz="2000" spc="-1" strike="noStrike">
                  <a:solidFill>
                    <a:srgbClr val="333399"/>
                  </a:solidFill>
                  <a:latin typeface="Comic Sans MS"/>
                </a:rPr>
                <a:t>T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852600" y="1721160"/>
              <a:ext cx="118080" cy="1407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33640" y="3979800"/>
              <a:ext cx="1392840" cy="475920"/>
            </a:xfrm>
            <a:prstGeom prst="roundRect">
              <a:avLst>
                <a:gd name="adj" fmla="val 38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GB" sz="2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GB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GB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6084720" y="907920"/>
            <a:ext cx="2268720" cy="440640"/>
          </a:xfrm>
          <a:prstGeom prst="roundRect">
            <a:avLst>
              <a:gd name="adj" fmla="val 9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6600"/>
                </a:solidFill>
                <a:latin typeface="Comic Sans MS"/>
              </a:rPr>
              <a:t>m</a:t>
            </a:r>
            <a:r>
              <a:rPr b="0" lang="en-GB" sz="2000" spc="-1" strike="noStrike" baseline="-25000">
                <a:solidFill>
                  <a:srgbClr val="cc6600"/>
                </a:solidFill>
                <a:latin typeface="Symbol"/>
                <a:ea typeface="Symbol"/>
              </a:rPr>
              <a:t></a:t>
            </a:r>
            <a:r>
              <a:rPr b="0" lang="en-GB" sz="2000" spc="-1" strike="noStrike">
                <a:solidFill>
                  <a:srgbClr val="cc6600"/>
                </a:solidFill>
                <a:latin typeface="Comic Sans MS"/>
              </a:rPr>
              <a:t>=1019.4 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50920" y="1268280"/>
            <a:ext cx="45370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The K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3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is a CP violating decay, with a BR in the SM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~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1.9x10</a:t>
            </a:r>
            <a:r>
              <a:rPr b="0" lang="it-IT" sz="2000" spc="-1" strike="noStrike" baseline="30000">
                <a:solidFill>
                  <a:srgbClr val="333399"/>
                </a:solidFill>
                <a:latin typeface="Comic Sans MS"/>
              </a:rPr>
              <a:t>-9. 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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-factory provides an abundant pure K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b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1516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S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3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: KLOE@DA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rcRect l="5067" t="0" r="5396" b="945"/>
          <a:stretch/>
        </p:blipFill>
        <p:spPr>
          <a:xfrm>
            <a:off x="4932360" y="1197000"/>
            <a:ext cx="3687840" cy="41767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1280520" y="2287440"/>
            <a:ext cx="3283920" cy="1391400"/>
          </a:xfrm>
          <a:prstGeom prst="roundRect">
            <a:avLst>
              <a:gd name="adj" fmla="val 69"/>
            </a:avLst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Symbol"/>
                <a:ea typeface="Symbol"/>
              </a:rPr>
              <a:t></a:t>
            </a:r>
            <a:r>
              <a:rPr b="1" i="1" lang="en-GB" sz="2000" spc="-1" strike="noStrike" baseline="-25000">
                <a:solidFill>
                  <a:srgbClr val="0066ff"/>
                </a:solidFill>
                <a:latin typeface="Times New Roman"/>
              </a:rPr>
              <a:t>p</a:t>
            </a:r>
            <a:r>
              <a:rPr b="1" lang="en-GB" sz="2000" spc="-1" strike="noStrike">
                <a:solidFill>
                  <a:srgbClr val="0066ff"/>
                </a:solidFill>
                <a:latin typeface="Times New Roman"/>
              </a:rPr>
              <a:t>/</a:t>
            </a:r>
            <a:r>
              <a:rPr b="1" i="1" lang="en-GB" sz="2000" spc="-1" strike="noStrike">
                <a:solidFill>
                  <a:srgbClr val="0066ff"/>
                </a:solidFill>
                <a:latin typeface="Times New Roman"/>
              </a:rPr>
              <a:t>p</a:t>
            </a:r>
            <a:r>
              <a:rPr b="0" lang="en-GB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66ff"/>
                </a:solidFill>
                <a:latin typeface="Comic Sans MS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66ff"/>
                </a:solidFill>
                <a:latin typeface="Times New Roman"/>
              </a:rPr>
              <a:t>0.4 %</a:t>
            </a:r>
            <a:r>
              <a:rPr b="1" lang="en-GB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66ff"/>
                </a:solidFill>
                <a:latin typeface="Times New Roman"/>
              </a:rPr>
              <a:t>(tracks with </a:t>
            </a:r>
            <a:r>
              <a:rPr b="0" lang="en-GB" sz="1600" spc="-1" strike="noStrike">
                <a:solidFill>
                  <a:srgbClr val="0066ff"/>
                </a:solidFill>
                <a:latin typeface="Symbol"/>
                <a:ea typeface="Symbol"/>
              </a:rPr>
              <a:t></a:t>
            </a:r>
            <a:r>
              <a:rPr b="0" lang="en-GB" sz="1600" spc="-1" strike="noStrike">
                <a:solidFill>
                  <a:srgbClr val="0066ff"/>
                </a:solidFill>
                <a:latin typeface="Times New Roman"/>
              </a:rPr>
              <a:t> &gt; 45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Symbol"/>
                <a:ea typeface="Symbol"/>
              </a:rPr>
              <a:t></a:t>
            </a:r>
            <a:r>
              <a:rPr b="1" lang="en-GB" sz="2000" spc="-1" strike="noStrike" baseline="-25000">
                <a:solidFill>
                  <a:srgbClr val="0066ff"/>
                </a:solidFill>
                <a:latin typeface="Times New Roman"/>
              </a:rPr>
              <a:t>vertex</a:t>
            </a:r>
            <a:r>
              <a:rPr b="1" lang="en-GB" sz="2000" spc="-1" strike="noStrike">
                <a:solidFill>
                  <a:srgbClr val="0066ff"/>
                </a:solidFill>
                <a:latin typeface="Times New Roman"/>
              </a:rPr>
              <a:t>  ~ 1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Symbol"/>
                <a:ea typeface="Symbol"/>
              </a:rPr>
              <a:t></a:t>
            </a:r>
            <a:r>
              <a:rPr b="1" lang="en-GB" sz="2000" spc="-1" strike="noStrike">
                <a:solidFill>
                  <a:srgbClr val="0066ff"/>
                </a:solidFill>
                <a:latin typeface="Times New Roman"/>
              </a:rPr>
              <a:t>(M</a:t>
            </a:r>
            <a:r>
              <a:rPr b="1" lang="en-GB" sz="20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</a:t>
            </a:r>
            <a:r>
              <a:rPr b="1" lang="en-GB" sz="2000" spc="-1" strike="noStrike">
                <a:solidFill>
                  <a:srgbClr val="0066ff"/>
                </a:solidFill>
                <a:latin typeface="Times New Roman"/>
              </a:rPr>
              <a:t>)  ~ 1 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116000" y="5013360"/>
            <a:ext cx="3672000" cy="1555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i="1" lang="en-GB" sz="20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i="1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5.7%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</a:t>
            </a:r>
            <a:r>
              <a:rPr b="1" i="1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(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i="1" lang="en-GB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54 ps /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i="1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(GeV)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50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(relative time between clust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i="1" lang="en-GB" sz="20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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) = 2 cm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 from </a:t>
            </a:r>
            <a:r>
              <a:rPr b="0" i="1" lang="en-GB" sz="16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GB" sz="16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79280" y="1197000"/>
            <a:ext cx="4633920" cy="100872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Times New Roman"/>
              </a:rPr>
              <a:t>Drift chamber</a:t>
            </a:r>
            <a:r>
              <a:rPr b="0" lang="en-GB" sz="2000" spc="-1" strike="noStrike">
                <a:solidFill>
                  <a:srgbClr val="0066ff"/>
                </a:solidFill>
                <a:latin typeface="Times New Roman"/>
              </a:rPr>
              <a:t> (4 m </a:t>
            </a:r>
            <a:r>
              <a:rPr b="0" lang="en-GB" sz="2000" spc="-1" strike="noStrike">
                <a:solidFill>
                  <a:srgbClr val="0066ff"/>
                </a:solidFill>
                <a:latin typeface="Symbol"/>
                <a:ea typeface="Symbol"/>
              </a:rPr>
              <a:t></a:t>
            </a:r>
            <a:r>
              <a:rPr b="0" lang="en-GB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ff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66ff"/>
                </a:solidFill>
                <a:latin typeface="Times New Roman"/>
              </a:rPr>
              <a:t> 3.3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Times New Roman"/>
              </a:rPr>
              <a:t>90% He + 10% IsoB, CF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Times New Roman"/>
              </a:rPr>
              <a:t>12582 stereo sense 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46600" y="3859200"/>
            <a:ext cx="3283560" cy="100872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Electromagnetic calori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Lead/scintillating fib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4880 PMT</a:t>
            </a:r>
            <a:r>
              <a:rPr b="0" lang="en-GB" sz="2000" spc="-1" strike="noStrike">
                <a:solidFill>
                  <a:srgbClr val="ff0000"/>
                </a:solidFill>
                <a:latin typeface="Arial Black"/>
              </a:rPr>
              <a:t>’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285160" y="5445000"/>
            <a:ext cx="3623400" cy="70380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4b900"/>
                </a:solidFill>
                <a:latin typeface="Times New Roman"/>
              </a:rPr>
              <a:t>Superconducting coil</a:t>
            </a:r>
            <a:r>
              <a:rPr b="0" lang="en-GB" sz="2000" spc="-1" strike="noStrike">
                <a:solidFill>
                  <a:srgbClr val="e4b900"/>
                </a:solidFill>
                <a:latin typeface="Times New Roman"/>
              </a:rPr>
              <a:t> (5 m b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4b900"/>
                </a:solidFill>
                <a:latin typeface="Times New Roman"/>
              </a:rPr>
              <a:t>B</a:t>
            </a:r>
            <a:r>
              <a:rPr b="0" lang="en-GB" sz="2000" spc="-1" strike="noStrike">
                <a:solidFill>
                  <a:srgbClr val="e4b900"/>
                </a:solidFill>
                <a:latin typeface="Times New Roman"/>
              </a:rPr>
              <a:t> = 0.52 T  ( </a:t>
            </a:r>
            <a:r>
              <a:rPr b="0" lang="en-GB" sz="2000" spc="-1" strike="noStrike">
                <a:solidFill>
                  <a:srgbClr val="e4b900"/>
                </a:solidFill>
                <a:latin typeface="Symbol"/>
                <a:ea typeface="Symbol"/>
              </a:rPr>
              <a:t></a:t>
            </a:r>
            <a:r>
              <a:rPr b="0" lang="en-GB" sz="2000" spc="-1" strike="noStrike">
                <a:solidFill>
                  <a:srgbClr val="e4b9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e4b900"/>
                </a:solidFill>
                <a:latin typeface="Times New Roman"/>
              </a:rPr>
              <a:t>B dl</a:t>
            </a:r>
            <a:r>
              <a:rPr b="0" lang="en-GB" sz="2000" spc="-1" strike="noStrike">
                <a:solidFill>
                  <a:srgbClr val="e4b900"/>
                </a:solidFill>
                <a:latin typeface="Times New Roman"/>
              </a:rPr>
              <a:t>  = 2 T</a:t>
            </a:r>
            <a:r>
              <a:rPr b="0" lang="en-GB" sz="2000" spc="-1" strike="noStrike">
                <a:solidFill>
                  <a:srgbClr val="e4b900"/>
                </a:solidFill>
                <a:latin typeface="Arial Black"/>
                <a:ea typeface="Times New Roman"/>
              </a:rPr>
              <a:t>· </a:t>
            </a:r>
            <a:r>
              <a:rPr b="0" lang="en-GB" sz="2000" spc="-1" strike="noStrike">
                <a:solidFill>
                  <a:srgbClr val="e4b900"/>
                </a:solidFill>
                <a:latin typeface="Times New Roman"/>
              </a:rPr>
              <a:t>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77044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S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3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@KLOE: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50920" y="422100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andidates in signal box with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.2±1.4±0.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xpected by bck (MC)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R(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) &lt; 2.1x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@90% CL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KLOE04 PRELIMINARY)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&lt;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7.4×10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@90%C.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NA48 ’04 hep-ex/040805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5280" y="1268280"/>
            <a:ext cx="4321080" cy="295956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agged by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hich interact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EMC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(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~30%)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teraction are identifie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ergy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ignal selected by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6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ain bck from </a:t>
            </a:r>
            <a:r>
              <a:rPr b="0" lang="it-IT" sz="2000" spc="-1" strike="noStrike">
                <a:solidFill>
                  <a:srgbClr val="0080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008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008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8000"/>
                </a:solidFill>
                <a:latin typeface="Comic Sans MS"/>
              </a:rPr>
              <a:t>0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 ac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vent fitted in 3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and 2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ypho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4788000" y="4941720"/>
          <a:ext cx="41655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4941720"/>
                    <a:ext cx="41655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"/>
          <p:cNvSpPr/>
          <p:nvPr/>
        </p:nvSpPr>
        <p:spPr>
          <a:xfrm>
            <a:off x="4788000" y="5516640"/>
            <a:ext cx="4174920" cy="806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m(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) = (-0.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0)x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uracy limited by A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,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076720" y="1052640"/>
            <a:ext cx="3819960" cy="3791160"/>
            <a:chOff x="5076720" y="1052640"/>
            <a:chExt cx="3819960" cy="3791160"/>
          </a:xfrm>
        </p:grpSpPr>
        <p:pic>
          <p:nvPicPr>
            <p:cNvPr id="576" name="" descr=""/>
            <p:cNvPicPr/>
            <p:nvPr/>
          </p:nvPicPr>
          <p:blipFill>
            <a:blip r:embed="rId3"/>
            <a:srcRect l="18517" t="13444" r="25782" b="11290"/>
            <a:stretch/>
          </p:blipFill>
          <p:spPr>
            <a:xfrm>
              <a:off x="5076720" y="1052640"/>
              <a:ext cx="380700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8200080" y="4292640"/>
              <a:ext cx="696600" cy="551160"/>
            </a:xfrm>
            <a:prstGeom prst="roundRect">
              <a:avLst>
                <a:gd name="adj" fmla="val 306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1" lang="en-GB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62440" y="1341360"/>
              <a:ext cx="1208520" cy="741240"/>
            </a:xfrm>
            <a:prstGeom prst="roundRect">
              <a:avLst>
                <a:gd name="adj" fmla="val 19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>
                <a:lnSpc>
                  <a:spcPct val="93000"/>
                </a:lnSpc>
                <a:buClr>
                  <a:srgbClr val="ff0000"/>
                </a:buClr>
                <a:buFont typeface="Times New Roman"/>
                <a:buChar char="•"/>
                <a:tabLst>
                  <a:tab algn="l" pos="230040"/>
                  <a:tab algn="l" pos="1144440"/>
                  <a:tab algn="l" pos="2058840"/>
                  <a:tab algn="l" pos="2973240"/>
                  <a:tab algn="l" pos="3887640"/>
                  <a:tab algn="l" pos="4802040"/>
                  <a:tab algn="l" pos="5716440"/>
                  <a:tab algn="l" pos="6630840"/>
                  <a:tab algn="l" pos="7545240"/>
                  <a:tab algn="l" pos="8459640"/>
                  <a:tab algn="l" pos="9374040"/>
                  <a:tab algn="l" pos="10288440"/>
                </a:tabLst>
              </a:pPr>
              <a:r>
                <a:rPr b="0" lang="en-GB" sz="2200" spc="-1" strike="noStrike">
                  <a:solidFill>
                    <a:srgbClr val="ff0000"/>
                  </a:solidFill>
                  <a:latin typeface="Times New Roman"/>
                </a:rPr>
                <a:t>Dat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30040" indent="-230040">
                <a:lnSpc>
                  <a:spcPct val="100000"/>
                </a:lnSpc>
                <a:buClr>
                  <a:srgbClr val="0066ff"/>
                </a:buClr>
                <a:buFont typeface="Times New Roman"/>
                <a:buChar char="•"/>
                <a:tabLst>
                  <a:tab algn="l" pos="230040"/>
                  <a:tab algn="l" pos="1144440"/>
                  <a:tab algn="l" pos="2058840"/>
                  <a:tab algn="l" pos="2973240"/>
                  <a:tab algn="l" pos="3887640"/>
                  <a:tab algn="l" pos="4802040"/>
                  <a:tab algn="l" pos="5716440"/>
                  <a:tab algn="l" pos="6630840"/>
                  <a:tab algn="l" pos="7545240"/>
                  <a:tab algn="l" pos="8459640"/>
                  <a:tab algn="l" pos="9374040"/>
                  <a:tab algn="l" pos="10288440"/>
                </a:tabLst>
              </a:pPr>
              <a:r>
                <a:rPr b="0" lang="en-GB" sz="2200" spc="-1" strike="noStrike">
                  <a:solidFill>
                    <a:srgbClr val="0066ff"/>
                  </a:solidFill>
                  <a:latin typeface="Times New Roman"/>
                </a:rPr>
                <a:t>MC 2</a:t>
              </a:r>
              <a:r>
                <a:rPr b="0" lang="en-GB" sz="22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64000" y="1197000"/>
              <a:ext cx="1224000" cy="2592360"/>
            </a:xfrm>
            <a:prstGeom prst="rect">
              <a:avLst/>
            </a:prstGeom>
            <a:solidFill>
              <a:srgbClr val="ff6600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6200000">
              <a:off x="5004000" y="1153440"/>
              <a:ext cx="696600" cy="551160"/>
            </a:xfrm>
            <a:prstGeom prst="roundRect">
              <a:avLst>
                <a:gd name="adj" fmla="val 306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1" lang="en-GB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3578400" y="6381720"/>
            <a:ext cx="18248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This 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692360" y="2276640"/>
            <a:ext cx="5975280" cy="252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c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CP Violation and SM test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TCP Viol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Detour to V</a:t>
            </a:r>
            <a:r>
              <a:rPr b="0" lang="en-US" sz="3200" spc="-1" strike="noStrike" baseline="-25000">
                <a:solidFill>
                  <a:srgbClr val="cc6600"/>
                </a:solidFill>
                <a:latin typeface="Comic Sans MS"/>
              </a:rPr>
              <a:t>us</a:t>
            </a: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Outlook &amp; Conclu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5219640" y="378936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20244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tour: a look at the 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V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u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a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68360" y="4797360"/>
            <a:ext cx="7488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(in 2002)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s obtained from fit to ratios of BRs. Errors and central values to be che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/e3 disagreement with measure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f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lopes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% or 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known inclusion of radiativ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971640" y="3251160"/>
            <a:ext cx="6624720" cy="100332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562680" y="1268280"/>
            <a:ext cx="69994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No theory ! No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’s ! No hyperons ! Only K measurements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4000" y="1806480"/>
            <a:ext cx="845964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02: after a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huge revision of the V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u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determination (th. &amp; exp.) according to PDG: |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u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|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u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|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ub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|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u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|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u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1-2.4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preferencial source of 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u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being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l3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decay (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&amp;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160600" y="2959200"/>
            <a:ext cx="960840" cy="3376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Comic Sans MS"/>
              </a:rPr>
              <a:t>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4858920" y="3174840"/>
            <a:ext cx="289080" cy="287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156360" y="3174840"/>
            <a:ext cx="287280" cy="216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63600" y="4437000"/>
            <a:ext cx="85183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From experiment: BRs, lifetimes and form factors to compute </a:t>
            </a:r>
            <a:r>
              <a:rPr b="0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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and I</a:t>
            </a:r>
            <a:r>
              <a:rPr b="0" lang="it-IT" sz="2000" spc="-1" strike="noStrike" baseline="30000">
                <a:solidFill>
                  <a:srgbClr val="0000ff"/>
                </a:solidFill>
                <a:latin typeface="Comic Sans MS"/>
              </a:rPr>
              <a:t>l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187280" y="4005000"/>
            <a:ext cx="0" cy="360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380360" y="4038120"/>
            <a:ext cx="0" cy="360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1516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ons, Unitarity Triangle(s) &amp;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95280" y="2205000"/>
                <a:ext cx="5776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d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d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s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d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s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λ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λ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ρ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η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λ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λ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ρ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η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λ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79280" y="1268280"/>
            <a:ext cx="83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he CP violation found its niche in the CKM mixing matrix and in its Wolfenstain parametrization. Up to O(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the CKM is given b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659640" y="2276640"/>
                <a:ext cx="22320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r>
                              <m:t xml:space="preserve">A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e>
                      <m:e>
                        <m:sSup>
                          <m:e>
                            <m:r>
                              <m:t xml:space="preserve">Aλ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5508720" y="404640"/>
            <a:ext cx="64764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627280" y="4149720"/>
                <a:ext cx="3527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sub>
                      <m:sup/>
                    </m:sSub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ι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468360" y="4797360"/>
            <a:ext cx="7920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Unitarity Triangle stems from any complex unitarity costraint, but the unique measure of the CP in the CKM =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xarea of any 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J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= Im(V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mic Sans MS"/>
              </a:rPr>
              <a:t>ud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mic Sans MS"/>
              </a:rPr>
              <a:t>us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mic Sans MS"/>
              </a:rPr>
              <a:t>ts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mic Sans MS"/>
              </a:rPr>
              <a:t>td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 ~ V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mic Sans MS"/>
              </a:rPr>
              <a:t>us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ud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Im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ique CP parameter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robed by K or B sector differently: SM test and/or NP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2920" y="3573360"/>
            <a:ext cx="536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f V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td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t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s complex  CP is violated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In shorth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5157720"/>
            <a:ext cx="288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7640" y="5734080"/>
            <a:ext cx="289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562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V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u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after 2002: new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50920" y="1197000"/>
            <a:ext cx="626580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3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E865:  BR(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4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KTeV:  main 6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Rs and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.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4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NA48: 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, BR(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f.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4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KLOE: 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) , 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553080" y="1557360"/>
            <a:ext cx="2195640" cy="10695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lly inclusive measurement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),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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06760" y="1125360"/>
            <a:ext cx="1756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this 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36720" y="6381720"/>
            <a:ext cx="4419000" cy="28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**Czarnecki,Marciano,Sirlin hep-ph/04063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0920" y="2781360"/>
            <a:ext cx="42498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The new V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Comic Sans MS"/>
              </a:rPr>
              <a:t>us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seem to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mazingly agree with unitarity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in spite of a bit of “entropy”.. For example in the K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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(e) c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324000" y="4292640"/>
          <a:ext cx="4103640" cy="2244600"/>
        </p:xfrm>
        <a:graphic>
          <a:graphicData uri="http://schemas.openxmlformats.org/drawingml/2006/table">
            <a:tbl>
              <a:tblPr/>
              <a:tblGrid>
                <a:gridCol w="895320"/>
                <a:gridCol w="1120680"/>
                <a:gridCol w="863640"/>
                <a:gridCol w="1224000"/>
              </a:tblGrid>
              <a:tr h="48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it-IT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0</a:t>
                      </a:r>
                      <a:r>
                        <a:rPr b="0" lang="it-IT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7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r>
                        <a:rPr b="0" lang="it-IT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f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T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adraticmeasu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9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n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L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.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 KT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pSp>
        <p:nvGrpSpPr>
          <p:cNvPr id="603" name=""/>
          <p:cNvGrpSpPr/>
          <p:nvPr/>
        </p:nvGrpSpPr>
        <p:grpSpPr>
          <a:xfrm>
            <a:off x="4427640" y="2781360"/>
            <a:ext cx="4427280" cy="3512520"/>
            <a:chOff x="4427640" y="2781360"/>
            <a:chExt cx="4427280" cy="3512520"/>
          </a:xfrm>
        </p:grpSpPr>
        <p:grpSp>
          <p:nvGrpSpPr>
            <p:cNvPr id="604" name=""/>
            <p:cNvGrpSpPr/>
            <p:nvPr/>
          </p:nvGrpSpPr>
          <p:grpSpPr>
            <a:xfrm>
              <a:off x="4427640" y="2781360"/>
              <a:ext cx="4427280" cy="3512520"/>
              <a:chOff x="4427640" y="2781360"/>
              <a:chExt cx="4427280" cy="3512520"/>
            </a:xfrm>
          </p:grpSpPr>
          <p:pic>
            <p:nvPicPr>
              <p:cNvPr id="605" name="" descr=""/>
              <p:cNvPicPr/>
              <p:nvPr/>
            </p:nvPicPr>
            <p:blipFill>
              <a:blip r:embed="rId1">
                <a:lum contrast="-6000"/>
              </a:blip>
              <a:srcRect l="0" t="0" r="4549" b="8682"/>
              <a:stretch/>
            </p:blipFill>
            <p:spPr>
              <a:xfrm>
                <a:off x="4427640" y="2781360"/>
                <a:ext cx="4417920" cy="319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5239440" y="5977080"/>
                <a:ext cx="595080" cy="3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r>
                  <a:rPr b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e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728320" y="5977080"/>
                <a:ext cx="635040" cy="3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r>
                  <a:rPr b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78040" y="5977080"/>
                <a:ext cx="607320" cy="3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r>
                  <a:rPr b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e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784560" y="5978520"/>
                <a:ext cx="607320" cy="3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cc"/>
                    </a:solidFill>
                    <a:latin typeface="Times New Roman"/>
                  </a:rPr>
                  <a:t>K</a:t>
                </a:r>
                <a:r>
                  <a:rPr b="1" lang="en-US" sz="1600" spc="-1" strike="noStrike" baseline="-25000">
                    <a:solidFill>
                      <a:srgbClr val="ff33cc"/>
                    </a:solidFill>
                    <a:latin typeface="Times New Roman"/>
                  </a:rPr>
                  <a:t>L</a:t>
                </a:r>
                <a:r>
                  <a:rPr b="1" lang="en-US" sz="1600" spc="-1" strike="noStrike">
                    <a:solidFill>
                      <a:srgbClr val="ff33cc"/>
                    </a:solidFill>
                    <a:latin typeface="Times New Roman"/>
                  </a:rPr>
                  <a:t>e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95400" y="5977080"/>
                <a:ext cx="607320" cy="3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Times New Roman"/>
                  </a:rPr>
                  <a:t>K</a:t>
                </a:r>
                <a:r>
                  <a:rPr b="1" lang="en-US" sz="1600" spc="-1" strike="noStrike" baseline="-25000">
                    <a:solidFill>
                      <a:srgbClr val="0000ff"/>
                    </a:solidFill>
                    <a:latin typeface="Times New Roman"/>
                  </a:rPr>
                  <a:t>L</a:t>
                </a:r>
                <a:r>
                  <a:rPr b="1" lang="en-US" sz="1600" spc="-1" strike="noStrike">
                    <a:solidFill>
                      <a:srgbClr val="0000ff"/>
                    </a:solidFill>
                    <a:latin typeface="Times New Roman"/>
                  </a:rPr>
                  <a:t>e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773480" y="5978520"/>
                <a:ext cx="5965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Times New Roman"/>
                  </a:rPr>
                  <a:t>K</a:t>
                </a:r>
                <a:r>
                  <a:rPr b="1" lang="en-US" sz="1600" spc="-1" strike="noStrike" baseline="30000">
                    <a:solidFill>
                      <a:srgbClr val="0000ff"/>
                    </a:solidFill>
                    <a:latin typeface="Times New Roman"/>
                  </a:rPr>
                  <a:t>+</a:t>
                </a:r>
                <a:r>
                  <a:rPr b="1" lang="en-US" sz="1600" spc="-1" strike="noStrike">
                    <a:solidFill>
                      <a:srgbClr val="0000ff"/>
                    </a:solidFill>
                    <a:latin typeface="Times New Roman"/>
                  </a:rPr>
                  <a:t>e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258400" y="5978520"/>
                <a:ext cx="5965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368200" y="3078000"/>
                <a:ext cx="46116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*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340240" y="4044960"/>
                <a:ext cx="3440160" cy="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08560" y="3003480"/>
                <a:ext cx="900000" cy="4824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|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|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>
              <a:off x="5563800" y="4764240"/>
              <a:ext cx="653040" cy="11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Comic Sans MS"/>
                </a:rPr>
                <a:t>KLO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333399"/>
                  </a:solidFill>
                  <a:latin typeface="Comic Sans MS"/>
                </a:rPr>
                <a:t>NA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cc"/>
                  </a:solidFill>
                  <a:latin typeface="Comic Sans MS"/>
                </a:rPr>
                <a:t>KT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omic Sans MS"/>
                </a:rPr>
                <a:t>E8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V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u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aga: BRs vs form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79280" y="1197000"/>
            <a:ext cx="3529080" cy="33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UT agreement of new 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u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 gets even better if the </a:t>
            </a:r>
            <a:r>
              <a:rPr b="0" lang="it-IT" sz="2000" spc="-1" strike="noStrike">
                <a:solidFill>
                  <a:srgbClr val="339933"/>
                </a:solidFill>
                <a:latin typeface="Comic Sans MS"/>
              </a:rPr>
              <a:t>same ingredient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but the BRs) are used for 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u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→BRs seem o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ess agreement on new measured form factors.   </a:t>
            </a:r>
            <a:r>
              <a:rPr b="0" lang="it-IT" sz="2000" spc="-1" strike="noStrike">
                <a:solidFill>
                  <a:srgbClr val="339933"/>
                </a:solidFill>
                <a:latin typeface="Comic Sans MS"/>
              </a:rPr>
              <a:t>Notice: linear vs quadratic f.f. can account as much as 1% on V</a:t>
            </a:r>
            <a:r>
              <a:rPr b="0" lang="it-IT" sz="2000" spc="-1" strike="noStrike" baseline="-25000">
                <a:solidFill>
                  <a:srgbClr val="339933"/>
                </a:solidFill>
                <a:latin typeface="Comic Sans MS"/>
              </a:rPr>
              <a:t>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rcRect l="0" t="5451" r="0" b="0"/>
          <a:stretch/>
        </p:blipFill>
        <p:spPr>
          <a:xfrm>
            <a:off x="4356000" y="1197000"/>
            <a:ext cx="4606920" cy="34560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08800" y="6381720"/>
            <a:ext cx="37969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F.Mescia,A.Antonelli, this 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877080" y="1268280"/>
            <a:ext cx="1942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from PDG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f.f. by KT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3433680" y="1920960"/>
            <a:ext cx="1407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Comic Sans MS"/>
              </a:rPr>
              <a:t>us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x f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5724360" y="5013360"/>
          <a:ext cx="3240360" cy="8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5013360"/>
                    <a:ext cx="32403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252360" y="5013360"/>
          <a:ext cx="5327640" cy="1290600"/>
        </p:xfrm>
        <a:graphic>
          <a:graphicData uri="http://schemas.openxmlformats.org/drawingml/2006/table">
            <a:tbl>
              <a:tblPr/>
              <a:tblGrid>
                <a:gridCol w="1093680"/>
                <a:gridCol w="1374840"/>
                <a:gridCol w="1326960"/>
                <a:gridCol w="153216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T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STRA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’ x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20.64 </a:t>
                      </a: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 1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28.8</a:t>
                      </a:r>
                      <a:r>
                        <a:rPr b="0" lang="it-IT" sz="16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16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23.24 </a:t>
                      </a: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Comic Sans MS"/>
                          <a:ea typeface="Times New Roman"/>
                        </a:rPr>
                        <a:t>± 1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’’ x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3.20 </a:t>
                      </a: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 0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1.62 </a:t>
                      </a: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 0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>
            <a:off x="4317840" y="6400800"/>
            <a:ext cx="177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**2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ISTR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K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763640" y="4508640"/>
            <a:ext cx="2305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04 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718160" y="3716280"/>
            <a:ext cx="1123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SzPct val="13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DG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V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u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and Kaons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mething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4000" y="1268280"/>
            <a:ext cx="8064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ternative method to extract V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u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from 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±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given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mputed on  lattice,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22200" y="5300640"/>
            <a:ext cx="828216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is from a 1972 measurement and PDG fit. It is not known what radiative contribution is retained. Adding contribution of radiation |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| goes up! New measure? (KLOE,NA48,IST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24000" y="3933720"/>
            <a:ext cx="8532720" cy="1098000"/>
            <a:chOff x="324000" y="3933720"/>
            <a:chExt cx="8532720" cy="1098000"/>
          </a:xfrm>
        </p:grpSpPr>
        <p:sp>
          <p:nvSpPr>
            <p:cNvPr id="633" name=""/>
            <p:cNvSpPr/>
            <p:nvPr/>
          </p:nvSpPr>
          <p:spPr>
            <a:xfrm>
              <a:off x="432000" y="3933720"/>
              <a:ext cx="8424720" cy="109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381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613080" y="4019400"/>
              <a:ext cx="8205120" cy="555840"/>
              <a:chOff x="613080" y="4019400"/>
              <a:chExt cx="8205120" cy="555840"/>
            </a:xfrm>
          </p:grpSpPr>
          <p:sp>
            <p:nvSpPr>
              <p:cNvPr id="635" name=""/>
              <p:cNvSpPr/>
              <p:nvPr/>
            </p:nvSpPr>
            <p:spPr>
              <a:xfrm>
                <a:off x="613080" y="4019400"/>
                <a:ext cx="820512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♦ </a:t>
                </a:r>
                <a:r>
                  <a:rPr b="0" lang="en-US" sz="2300" spc="-1" strike="noStrike">
                    <a:solidFill>
                      <a:srgbClr val="333399"/>
                    </a:solidFill>
                    <a:latin typeface="Arial"/>
                  </a:rPr>
                  <a:t>f</a:t>
                </a:r>
                <a:r>
                  <a:rPr b="0" lang="en-US" sz="2300" spc="-1" strike="noStrike" baseline="-25000">
                    <a:solidFill>
                      <a:srgbClr val="333399"/>
                    </a:solidFill>
                    <a:latin typeface="Arial"/>
                  </a:rPr>
                  <a:t>K</a:t>
                </a:r>
                <a:r>
                  <a:rPr b="0" lang="en-US" sz="2300" spc="-1" strike="noStrike">
                    <a:solidFill>
                      <a:srgbClr val="333399"/>
                    </a:solidFill>
                    <a:latin typeface="Arial"/>
                  </a:rPr>
                  <a:t>/f</a:t>
                </a:r>
                <a:r>
                  <a:rPr b="0" lang="en-US" sz="2300" spc="-1" strike="noStrike" baseline="-25000">
                    <a:solidFill>
                      <a:srgbClr val="333399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300" spc="-1" strike="noStrike">
                    <a:solidFill>
                      <a:srgbClr val="333399"/>
                    </a:solidFill>
                    <a:latin typeface="Arial"/>
                  </a:rPr>
                  <a:t>-1=0.210(4)(13)</a:t>
                </a:r>
                <a:r>
                  <a:rPr b="1" lang="en-US" sz="2300" spc="-1" strike="noStrike">
                    <a:solidFill>
                      <a:srgbClr val="333399"/>
                    </a:solidFill>
                    <a:latin typeface="Arial"/>
                  </a:rPr>
                  <a:t>                             </a:t>
                </a:r>
                <a:r>
                  <a:rPr b="1" lang="en-GB" sz="2300" spc="-1" strike="noStrike">
                    <a:solidFill>
                      <a:srgbClr val="f92d0b"/>
                    </a:solidFill>
                    <a:latin typeface="Times New Roman"/>
                  </a:rPr>
                  <a:t>|V</a:t>
                </a:r>
                <a:r>
                  <a:rPr b="1" lang="en-GB" sz="2300" spc="-1" strike="noStrike" baseline="-25000">
                    <a:solidFill>
                      <a:srgbClr val="f92d0b"/>
                    </a:solidFill>
                    <a:latin typeface="Times New Roman"/>
                  </a:rPr>
                  <a:t>us</a:t>
                </a:r>
                <a:r>
                  <a:rPr b="1" lang="en-GB" sz="2300" spc="-1" strike="noStrike">
                    <a:solidFill>
                      <a:srgbClr val="f92d0b"/>
                    </a:solidFill>
                    <a:latin typeface="Times New Roman"/>
                  </a:rPr>
                  <a:t>| =(0.2219</a:t>
                </a:r>
                <a:r>
                  <a:rPr b="1" lang="en-GB" sz="2300" spc="-1" strike="noStrike">
                    <a:solidFill>
                      <a:srgbClr val="f92d0b"/>
                    </a:solidFill>
                    <a:latin typeface="Symbol"/>
                    <a:ea typeface="Symbol"/>
                  </a:rPr>
                  <a:t></a:t>
                </a:r>
                <a:r>
                  <a:rPr b="1" lang="en-GB" sz="2300" spc="-1" strike="noStrike">
                    <a:solidFill>
                      <a:srgbClr val="f92d0b"/>
                    </a:solidFill>
                    <a:latin typeface="Symbol"/>
                    <a:ea typeface="Symbol"/>
                  </a:rPr>
                  <a:t>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980520" y="4224240"/>
                <a:ext cx="1466640" cy="287280"/>
              </a:xfrm>
              <a:prstGeom prst="rightArrow">
                <a:avLst>
                  <a:gd name="adj1" fmla="val 50000"/>
                  <a:gd name="adj2" fmla="val 127632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efea8"/>
                  </a:gs>
                  <a:gs pos="100000">
                    <a:srgbClr val="ffff00"/>
                  </a:gs>
                </a:gsLst>
                <a:lin ang="5400000"/>
              </a:gra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5364360" y="4528800"/>
              <a:ext cx="3276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c72105"/>
                  </a:solidFill>
                  <a:uFillTx/>
                  <a:latin typeface="Arial"/>
                </a:rPr>
                <a:t>(</a:t>
              </a:r>
              <a:r>
                <a:rPr b="0" lang="en-US" sz="1600" spc="-1" strike="noStrike" u="sng">
                  <a:solidFill>
                    <a:srgbClr val="c72105"/>
                  </a:solidFill>
                  <a:uFillTx/>
                  <a:latin typeface="Arial"/>
                </a:rPr>
                <a:t>Marciano</a:t>
              </a:r>
              <a:r>
                <a:rPr b="1" lang="en-US" sz="1600" spc="-1" strike="noStrike" u="sng">
                  <a:solidFill>
                    <a:srgbClr val="c72105"/>
                  </a:solidFill>
                  <a:uFillTx/>
                  <a:latin typeface="Arial"/>
                </a:rPr>
                <a:t> hep-ph/040632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4000" y="4473360"/>
              <a:ext cx="3276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c72105"/>
                  </a:solidFill>
                  <a:uFillTx/>
                  <a:latin typeface="Arial"/>
                </a:rPr>
                <a:t>(</a:t>
              </a:r>
              <a:r>
                <a:rPr b="0" lang="en-US" sz="1600" spc="-1" strike="noStrike" u="sng">
                  <a:solidFill>
                    <a:srgbClr val="c72105"/>
                  </a:solidFill>
                  <a:uFillTx/>
                  <a:latin typeface="Arial"/>
                </a:rPr>
                <a:t>MILC</a:t>
              </a:r>
              <a:r>
                <a:rPr b="1" lang="en-US" sz="1600" spc="-1" strike="noStrike" u="sng">
                  <a:solidFill>
                    <a:srgbClr val="c72105"/>
                  </a:solidFill>
                  <a:uFillTx/>
                  <a:latin typeface="Arial"/>
                </a:rPr>
                <a:t> hep-lat/0407028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51160" y="2060640"/>
            <a:ext cx="7116480" cy="1611360"/>
            <a:chOff x="551160" y="2060640"/>
            <a:chExt cx="7116480" cy="1611360"/>
          </a:xfrm>
        </p:grpSpPr>
        <p:pic>
          <p:nvPicPr>
            <p:cNvPr id="640" name="" descr=""/>
            <p:cNvPicPr/>
            <p:nvPr/>
          </p:nvPicPr>
          <p:blipFill>
            <a:blip r:embed="rId1"/>
            <a:stretch/>
          </p:blipFill>
          <p:spPr>
            <a:xfrm>
              <a:off x="1042920" y="2762280"/>
              <a:ext cx="662472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3954240" y="2114640"/>
              <a:ext cx="903240" cy="3376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latt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4284720" y="2492280"/>
              <a:ext cx="71280" cy="2160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322680" y="2127240"/>
              <a:ext cx="960840" cy="337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the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732720" y="2492280"/>
              <a:ext cx="7128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1160" y="2060640"/>
              <a:ext cx="615240" cy="337680"/>
            </a:xfrm>
            <a:prstGeom prst="rect">
              <a:avLst/>
            </a:pr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9933"/>
                  </a:solidFill>
                  <a:latin typeface="Comic Sans MS"/>
                </a:rPr>
                <a:t>ex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187280" y="2349360"/>
              <a:ext cx="360360" cy="358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692000" y="2276280"/>
            <a:ext cx="6119640" cy="25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CP Violation and SM te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TCP Viol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Detour to V</a:t>
            </a:r>
            <a:r>
              <a:rPr b="0" lang="en-US" sz="3200" spc="-1" strike="noStrike" baseline="-25000">
                <a:solidFill>
                  <a:srgbClr val="cc6600"/>
                </a:solidFill>
                <a:latin typeface="Comic Sans MS"/>
              </a:rPr>
              <a:t>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Outlook &amp; Conclu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6804000" y="436572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79280" y="1349280"/>
            <a:ext cx="5256360" cy="38307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4346640" cy="21366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utlook: KOPIO@B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79280" y="5013360"/>
            <a:ext cx="439272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crobunched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la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eam: measure velocity (momentu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00 MeV/c) of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metic high efficiency v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asu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ime, position and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vacuum decay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572000" y="4724280"/>
            <a:ext cx="1152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219640" y="1341360"/>
            <a:ext cx="374508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im to collect 60  K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→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vents with S/B~2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Im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to 1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442840" y="2708280"/>
            <a:ext cx="331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Approved &amp; f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Advanced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Construction start 2005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8360" y="1413000"/>
            <a:ext cx="19429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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ook: E391@J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rcRect l="0" t="0" r="26474" b="24357"/>
          <a:stretch/>
        </p:blipFill>
        <p:spPr>
          <a:xfrm>
            <a:off x="4859280" y="3933720"/>
            <a:ext cx="4038480" cy="21272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533520" y="2133720"/>
            <a:ext cx="7734240" cy="3512880"/>
          </a:xfrm>
          <a:prstGeom prst="rect">
            <a:avLst/>
          </a:prstGeom>
          <a:noFill/>
          <a:ln w="0">
            <a:solidFill>
              <a:srgbClr val="ff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20560" y="2120760"/>
            <a:ext cx="1296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961080" cy="234324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4859280" y="1798560"/>
            <a:ext cx="4033800" cy="1972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Evolution of the E391a@K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Pencil beam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Target sensitivity well beyond SM prediction for K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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Start in 2009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539640" y="3890880"/>
          <a:ext cx="4103640" cy="2417760"/>
        </p:xfrm>
        <a:graphic>
          <a:graphicData uri="http://schemas.openxmlformats.org/drawingml/2006/table">
            <a:tbl>
              <a:tblPr/>
              <a:tblGrid>
                <a:gridCol w="1319400"/>
                <a:gridCol w="950760"/>
                <a:gridCol w="898560"/>
                <a:gridCol w="934920"/>
              </a:tblGrid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-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PARK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(Ge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uty cycl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il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u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te (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395280" y="2997360"/>
            <a:ext cx="1081080" cy="337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JP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093080" y="1197000"/>
            <a:ext cx="1511280" cy="5101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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ook: NA48/3@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679640" cy="30938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5219640" y="2421000"/>
            <a:ext cx="3527640" cy="3457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Based on upgrade of NA48/2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Unseparated, positive beam of 75 GeV/c with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P/P~1%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Upstream detector to identify kaons and measure K momen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Hermetic photon veto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Finely segmented  Hadron Calorimeter/Muon v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24000" y="5157720"/>
            <a:ext cx="46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oI ex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nse R&amp;D activity in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ime schedule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Villars Workshop in fall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39640" y="4508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Goal: About 50 Events with a S/B of 10:1 in 2 years of data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181920" y="1533600"/>
            <a:ext cx="143964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it-IT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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130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utlook: further initiatives/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95280" y="1413000"/>
            <a:ext cx="6264360" cy="33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physics at the JPARK charged beam (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05080" y="3141720"/>
            <a:ext cx="4736160" cy="37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ure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beam –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actories (schedule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95280" y="1989000"/>
            <a:ext cx="6769080" cy="810360"/>
          </a:xfrm>
          <a:prstGeom prst="rect">
            <a:avLst/>
          </a:prstGeom>
          <a:noFill/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our LOI presented addressing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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,  T violation in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, rare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decays ,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e3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BR with high statis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5280" y="3716280"/>
            <a:ext cx="7416720" cy="1092240"/>
          </a:xfrm>
          <a:prstGeom prst="rect">
            <a:avLst/>
          </a:prstGeom>
          <a:noFill/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lean environment to study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decay: CP, TCP violation and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 DAFNE-2 (?) project, dedicated workshop in Alghero in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46400" y="5084640"/>
            <a:ext cx="6998760" cy="33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KA@Protvino: RF-separated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beam project (schedule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68360" y="5661000"/>
            <a:ext cx="8004240" cy="581400"/>
          </a:xfrm>
          <a:prstGeom prst="rect">
            <a:avLst/>
          </a:prstGeom>
          <a:noFill/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re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decays physics, direct CP violation i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and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68360" y="1282680"/>
            <a:ext cx="806436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The field of rare kaon decays is quite active. A generation of detectors is now mature (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’/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, LFV, T violation) and a new round of initiatives is approac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jects are addressing both neutral and charged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it-IT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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 Despite of the experimental difficulty this item will be on the spot in the next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ew (coherently on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&amp;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projects/ideas are needed to explore the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L,S</a:t>
            </a:r>
            <a:r>
              <a:rPr b="0" lang="it-IT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l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system. Interference with mixing CP  amplitude enhance both direct CP signal and  sensitivity to NP. Mostly exp. limited..Why not? (expecially the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mode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us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aga seems to have an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happy en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 New results in better agreement with unitarity. Focus now on f.f. and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lifeti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85152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urther results on rare K decays and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808200" y="16048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68800" y="1341360"/>
            <a:ext cx="74300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 violatio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 E246@KEK-PS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al results (2004) from 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= (- 1.7 ± 2.3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tat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± 1.1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yst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)x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3213000"/>
            <a:ext cx="69850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epton Flavor Violation: 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E871@BN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R(K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→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) &lt; 4.7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1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90% C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292760" y="4365720"/>
            <a:ext cx="5572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epton Flavor Violation: 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e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E865@B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BR(K</a:t>
            </a:r>
            <a:r>
              <a:rPr b="0" lang="it-IT" sz="20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it-IT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) &lt; 1.2 x 10</a:t>
            </a:r>
            <a:r>
              <a:rPr b="0" lang="it-IT" sz="2000" spc="-1" strike="noStrike" baseline="30000">
                <a:solidFill>
                  <a:srgbClr val="ff0000"/>
                </a:solidFill>
                <a:latin typeface="Comic Sans MS"/>
              </a:rPr>
              <a:t>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061280" y="5084640"/>
            <a:ext cx="61113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alitz decay @ KTeV 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BR(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cc6600"/>
                </a:solidFill>
                <a:latin typeface="Arial"/>
                <a:ea typeface="Arial"/>
              </a:rPr>
              <a:t>→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ee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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)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(2.69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0.24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0.12) x 10</a:t>
            </a:r>
            <a:r>
              <a:rPr b="0" lang="it-IT" sz="2000" spc="-1" strike="noStrike" baseline="30000">
                <a:solidFill>
                  <a:srgbClr val="ff0000"/>
                </a:solidFill>
                <a:latin typeface="Comic Sans MS"/>
              </a:rPr>
              <a:t>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BR(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→eeee)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(4.16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0.13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±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0.13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±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0.17) x 10</a:t>
            </a:r>
            <a:r>
              <a:rPr b="0" lang="it-IT" sz="2000" spc="-1" strike="noStrike" baseline="30000">
                <a:solidFill>
                  <a:srgbClr val="ff0000"/>
                </a:solidFill>
                <a:latin typeface="Comic Sans MS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59640" y="476280"/>
            <a:ext cx="36036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251800" y="6165720"/>
            <a:ext cx="26359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d many more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025280" y="2205000"/>
            <a:ext cx="622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CP violation: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semileptonic asymmetries @KL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= (2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9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stat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6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syst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) x 10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KLOE2004 (prelimin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70716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arity Triangle and K rare dec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88000" y="5300640"/>
            <a:ext cx="223200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Unfortun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BR ranges from 10</a:t>
            </a:r>
            <a:r>
              <a:rPr b="0" lang="it-IT" sz="2000" spc="-1" strike="noStrike" baseline="30000">
                <a:solidFill>
                  <a:srgbClr val="ff0000"/>
                </a:solidFill>
                <a:latin typeface="Comic Sans MS"/>
              </a:rPr>
              <a:t>-8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to 10</a:t>
            </a:r>
            <a:r>
              <a:rPr b="0" lang="it-IT" sz="2000" spc="-1" strike="noStrike" baseline="30000">
                <a:solidFill>
                  <a:srgbClr val="ff0000"/>
                </a:solidFill>
                <a:latin typeface="Comic Sans MS"/>
              </a:rPr>
              <a:t>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10920" y="3429000"/>
            <a:ext cx="1359720" cy="925560"/>
          </a:xfrm>
          <a:prstGeom prst="rect">
            <a:avLst/>
          </a:prstGeom>
          <a:solidFill>
            <a:srgbClr val="cc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572120" y="2637000"/>
            <a:ext cx="1847520" cy="509760"/>
            <a:chOff x="1572120" y="2637000"/>
            <a:chExt cx="1847520" cy="509760"/>
          </a:xfrm>
        </p:grpSpPr>
        <p:sp>
          <p:nvSpPr>
            <p:cNvPr id="90" name=""/>
            <p:cNvSpPr/>
            <p:nvPr/>
          </p:nvSpPr>
          <p:spPr>
            <a:xfrm>
              <a:off x="1572120" y="2637000"/>
              <a:ext cx="1189440" cy="50976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r>
                <a:rPr b="1" lang="en-US" sz="2000" spc="-1" strike="noStrike" baseline="-25000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→</a:t>
              </a: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ffff00"/>
                  </a:solidFill>
                  <a:latin typeface="Symbol"/>
                  <a:ea typeface="Symbol"/>
                </a:rPr>
                <a:t></a:t>
              </a: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71640" y="2708280"/>
              <a:ext cx="648000" cy="289080"/>
            </a:xfrm>
            <a:prstGeom prst="rightArrow">
              <a:avLst>
                <a:gd name="adj1" fmla="val 50000"/>
                <a:gd name="adj2" fmla="val 56040"/>
              </a:avLst>
            </a:prstGeom>
            <a:gradFill rotWithShape="0">
              <a:gsLst>
                <a:gs pos="0">
                  <a:srgbClr val="171746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916360" y="3716280"/>
            <a:ext cx="718920" cy="289080"/>
          </a:xfrm>
          <a:prstGeom prst="rightArrow">
            <a:avLst>
              <a:gd name="adj1" fmla="val 50000"/>
              <a:gd name="adj2" fmla="val 62173"/>
            </a:avLst>
          </a:prstGeom>
          <a:gradFill rotWithShape="0">
            <a:gsLst>
              <a:gs pos="0">
                <a:srgbClr val="5e2f00"/>
              </a:gs>
              <a:gs pos="100000">
                <a:srgbClr val="cc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57520" y="5373720"/>
            <a:ext cx="1137240" cy="943920"/>
            <a:chOff x="4457520" y="5373720"/>
            <a:chExt cx="1137240" cy="943920"/>
          </a:xfrm>
        </p:grpSpPr>
        <p:sp>
          <p:nvSpPr>
            <p:cNvPr id="94" name=""/>
            <p:cNvSpPr/>
            <p:nvPr/>
          </p:nvSpPr>
          <p:spPr>
            <a:xfrm>
              <a:off x="4457520" y="5877000"/>
              <a:ext cx="1137240" cy="440640"/>
            </a:xfrm>
            <a:prstGeom prst="rect">
              <a:avLst/>
            </a:prstGeom>
            <a:solidFill>
              <a:srgbClr val="cc66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r>
                <a:rPr b="1" lang="en-US" sz="2000" spc="-1" strike="noStrike" baseline="-25000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→</a:t>
              </a: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59280" y="5373720"/>
              <a:ext cx="289080" cy="503280"/>
            </a:xfrm>
            <a:prstGeom prst="upArrow">
              <a:avLst>
                <a:gd name="adj1" fmla="val 50000"/>
                <a:gd name="adj2" fmla="val 43524"/>
              </a:avLst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643840" y="5300640"/>
            <a:ext cx="1712160" cy="1341360"/>
            <a:chOff x="2643840" y="5300640"/>
            <a:chExt cx="1712160" cy="1341360"/>
          </a:xfrm>
        </p:grpSpPr>
        <p:sp>
          <p:nvSpPr>
            <p:cNvPr id="97" name=""/>
            <p:cNvSpPr/>
            <p:nvPr/>
          </p:nvSpPr>
          <p:spPr>
            <a:xfrm>
              <a:off x="2643840" y="5300640"/>
              <a:ext cx="1249200" cy="134136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→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→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it-IT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ee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24360" y="5948280"/>
              <a:ext cx="431640" cy="287280"/>
            </a:xfrm>
            <a:prstGeom prst="rightArrow">
              <a:avLst>
                <a:gd name="adj1" fmla="val 50000"/>
                <a:gd name="adj2" fmla="val 37563"/>
              </a:avLst>
            </a:prstGeom>
            <a:gradFill rotWithShape="0">
              <a:gsLst>
                <a:gs pos="0">
                  <a:srgbClr val="007546"/>
                </a:gs>
                <a:gs pos="100000">
                  <a:srgbClr val="00ff99"/>
                </a:gs>
              </a:gsLst>
              <a:lin ang="10800000"/>
            </a:gra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98960" y="3860640"/>
            <a:ext cx="1368720" cy="2133720"/>
            <a:chOff x="498960" y="3860640"/>
            <a:chExt cx="1368720" cy="2133720"/>
          </a:xfrm>
        </p:grpSpPr>
        <p:sp>
          <p:nvSpPr>
            <p:cNvPr id="100" name=""/>
            <p:cNvSpPr/>
            <p:nvPr/>
          </p:nvSpPr>
          <p:spPr>
            <a:xfrm>
              <a:off x="498960" y="4653000"/>
              <a:ext cx="1368720" cy="134136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it-IT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→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it-IT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→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1" lang="it-IT" sz="20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→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1280" y="3860640"/>
              <a:ext cx="647640" cy="792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92360"/>
                <a:gd name="textAreaBottom" fmla="*/ 79272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437" stAng="10800000" swAng="5400000"/>
                  <a:lnTo>
                    <a:pt x="16412" y="3723"/>
                  </a:lnTo>
                  <a:lnTo>
                    <a:pt x="16412" y="0"/>
                  </a:lnTo>
                  <a:lnTo>
                    <a:pt x="21600" y="6079"/>
                  </a:lnTo>
                  <a:lnTo>
                    <a:pt x="16412" y="12158"/>
                  </a:lnTo>
                  <a:lnTo>
                    <a:pt x="16412" y="8435"/>
                  </a:lnTo>
                  <a:lnTo>
                    <a:pt x="12427" y="8435"/>
                  </a:lnTo>
                  <a:arcTo wR="7715" hR="3725" stAng="16200000" swAng="-5400000"/>
                  <a:lnTo>
                    <a:pt x="47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7546"/>
                </a:gs>
                <a:gs pos="100000">
                  <a:srgbClr val="00ff99"/>
                </a:gs>
              </a:gsLst>
              <a:lin ang="10800000"/>
            </a:gradFill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652920" y="1844640"/>
            <a:ext cx="5095800" cy="3444120"/>
            <a:chOff x="3652920" y="1844640"/>
            <a:chExt cx="5095800" cy="3444120"/>
          </a:xfrm>
        </p:grpSpPr>
        <p:sp>
          <p:nvSpPr>
            <p:cNvPr id="103" name=""/>
            <p:cNvSpPr/>
            <p:nvPr/>
          </p:nvSpPr>
          <p:spPr>
            <a:xfrm>
              <a:off x="4229280" y="2236680"/>
              <a:ext cx="3384360" cy="2447280"/>
            </a:xfrm>
            <a:prstGeom prst="triangle">
              <a:avLst>
                <a:gd name="adj" fmla="val 28819"/>
              </a:avLst>
            </a:prstGeom>
            <a:solidFill>
              <a:srgbClr val="00ff99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" name=""/>
            <p:cNvCxnSpPr>
              <a:stCxn id="103" idx="0"/>
            </p:cNvCxnSpPr>
            <p:nvPr/>
          </p:nvCxnSpPr>
          <p:spPr>
            <a:xfrm>
              <a:off x="5203800" y="2221920"/>
              <a:ext cx="3199320" cy="2441880"/>
            </a:xfrm>
            <a:prstGeom prst="straightConnector1">
              <a:avLst/>
            </a:prstGeom>
            <a:ln w="28440">
              <a:solidFill>
                <a:srgbClr val="333399"/>
              </a:solidFill>
              <a:miter/>
            </a:ln>
          </p:spPr>
        </p:cxnSp>
        <p:cxnSp>
          <p:nvCxnSpPr>
            <p:cNvPr id="105" name=""/>
            <p:cNvCxnSpPr>
              <a:stCxn id="103" idx="4"/>
            </p:cNvCxnSpPr>
            <p:nvPr/>
          </p:nvCxnSpPr>
          <p:spPr>
            <a:xfrm flipV="1">
              <a:off x="7613640" y="4663440"/>
              <a:ext cx="789840" cy="35280"/>
            </a:xfrm>
            <a:prstGeom prst="straightConnector1">
              <a:avLst/>
            </a:prstGeom>
            <a:ln w="28440">
              <a:solidFill>
                <a:srgbClr val="cc6600"/>
              </a:solidFill>
              <a:miter/>
            </a:ln>
          </p:spPr>
        </p:cxnSp>
        <p:sp>
          <p:nvSpPr>
            <p:cNvPr id="106" name=""/>
            <p:cNvSpPr/>
            <p:nvPr/>
          </p:nvSpPr>
          <p:spPr>
            <a:xfrm flipV="1">
              <a:off x="3942000" y="2307960"/>
              <a:ext cx="0" cy="2304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7324920" y="4757400"/>
                  <a:ext cx="52560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,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3652920" y="4687560"/>
                  <a:ext cx="60012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,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8055000" y="4663800"/>
                  <a:ext cx="69372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4864320" y="1844640"/>
                  <a:ext cx="65232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ρ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η</m:t>
                          </m:r>
                        </m:e>
                      </m:ba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4300560" y="4900320"/>
              <a:ext cx="936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84640" y="2307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42680" y="43178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03440" y="43178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875640" y="2236680"/>
              <a:ext cx="1438200" cy="1078560"/>
              <a:chOff x="6875640" y="2236680"/>
              <a:chExt cx="1438200" cy="1078560"/>
            </a:xfrm>
          </p:grpSpPr>
          <p:sp>
            <p:nvSpPr>
              <p:cNvPr id="116" name=""/>
              <p:cNvSpPr/>
              <p:nvPr/>
            </p:nvSpPr>
            <p:spPr>
              <a:xfrm>
                <a:off x="6875640" y="2236680"/>
                <a:ext cx="1438200" cy="398880"/>
              </a:xfrm>
              <a:prstGeom prst="rect">
                <a:avLst/>
              </a:prstGeom>
              <a:solidFill>
                <a:srgbClr val="333399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K</a:t>
                </a:r>
                <a:r>
                  <a:rPr b="1" lang="en-US" sz="2000" spc="-1" strike="noStrike" baseline="30000">
                    <a:solidFill>
                      <a:srgbClr val="ffff00"/>
                    </a:solidFill>
                    <a:latin typeface="Arial"/>
                  </a:rPr>
                  <a:t>+</a:t>
                </a: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→</a:t>
                </a:r>
                <a:r>
                  <a:rPr b="1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000" spc="-1" strike="noStrike" baseline="30000">
                    <a:solidFill>
                      <a:srgbClr val="ffff00"/>
                    </a:solidFill>
                    <a:latin typeface="Arial"/>
                  </a:rPr>
                  <a:t>+</a:t>
                </a:r>
                <a:r>
                  <a:rPr b="1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</a:t>
                </a:r>
                <a:r>
                  <a:rPr b="1" lang="en-US" sz="2000" spc="-1" strike="noStrike" baseline="30000">
                    <a:solidFill>
                      <a:srgbClr val="ffff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0800000">
                <a:off x="6948360" y="2667960"/>
                <a:ext cx="576360" cy="64728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647280"/>
                  <a:gd name="textAreaBottom" fmla="*/ 6476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46"/>
                  </a:gs>
                  <a:gs pos="100000">
                    <a:srgbClr val="33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992760" y="2665080"/>
              <a:ext cx="365040" cy="459720"/>
              <a:chOff x="3992760" y="2665080"/>
              <a:chExt cx="365040" cy="459720"/>
            </a:xfrm>
          </p:grpSpPr>
          <p:sp>
            <p:nvSpPr>
              <p:cNvPr id="119" name=""/>
              <p:cNvSpPr/>
              <p:nvPr/>
            </p:nvSpPr>
            <p:spPr>
              <a:xfrm>
                <a:off x="3992760" y="266508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Symbol"/>
                    <a:ea typeface="Symbol"/>
                  </a:rPr>
                  <a:t>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069080" y="2812320"/>
                <a:ext cx="21564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4430520" y="4829040"/>
              <a:ext cx="348480" cy="459720"/>
              <a:chOff x="4430520" y="4829040"/>
              <a:chExt cx="348480" cy="459720"/>
            </a:xfrm>
          </p:grpSpPr>
          <p:sp>
            <p:nvSpPr>
              <p:cNvPr id="122" name=""/>
              <p:cNvSpPr/>
              <p:nvPr/>
            </p:nvSpPr>
            <p:spPr>
              <a:xfrm>
                <a:off x="4430520" y="4829040"/>
                <a:ext cx="34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Symbol"/>
                    <a:ea typeface="Symbol"/>
                  </a:rPr>
                  <a:t>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00720" y="4973040"/>
                <a:ext cx="21600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324000" y="6021360"/>
            <a:ext cx="2089080" cy="787320"/>
            <a:chOff x="324000" y="6021360"/>
            <a:chExt cx="2089080" cy="787320"/>
          </a:xfrm>
        </p:grpSpPr>
        <p:sp>
          <p:nvSpPr>
            <p:cNvPr id="125" name=""/>
            <p:cNvSpPr/>
            <p:nvPr/>
          </p:nvSpPr>
          <p:spPr>
            <a:xfrm>
              <a:off x="324000" y="6021360"/>
              <a:ext cx="20890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8000"/>
                  </a:solidFill>
                  <a:latin typeface="Comic Sans MS"/>
                </a:rPr>
                <a:t>Im </a:t>
              </a:r>
              <a:r>
                <a:rPr b="1" lang="it-IT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</a:t>
              </a:r>
              <a:r>
                <a:rPr b="1" lang="it-IT" sz="2000" spc="-1" strike="noStrike" baseline="-25000">
                  <a:solidFill>
                    <a:srgbClr val="008000"/>
                  </a:solidFill>
                  <a:latin typeface="Comic Sans MS"/>
                </a:rPr>
                <a:t>t</a:t>
              </a:r>
              <a:r>
                <a:rPr b="1" lang="it-IT" sz="2000" spc="-1" strike="noStrike">
                  <a:solidFill>
                    <a:srgbClr val="008000"/>
                  </a:solidFill>
                  <a:latin typeface="Comic Sans MS"/>
                </a:rPr>
                <a:t> = </a:t>
              </a:r>
              <a:r>
                <a:rPr b="0" lang="it-IT" sz="2000" spc="-1" strike="noStrike">
                  <a:solidFill>
                    <a:srgbClr val="008000"/>
                  </a:solidFill>
                  <a:latin typeface="Comic Sans MS"/>
                </a:rPr>
                <a:t>A</a:t>
              </a:r>
              <a:r>
                <a:rPr b="1" lang="it-IT" sz="2000" spc="-1" strike="noStrike" baseline="30000">
                  <a:solidFill>
                    <a:srgbClr val="008000"/>
                  </a:solidFill>
                  <a:latin typeface="Comic Sans MS"/>
                </a:rPr>
                <a:t>2</a:t>
              </a:r>
              <a:r>
                <a:rPr b="1" lang="it-IT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</a:t>
              </a:r>
              <a:r>
                <a:rPr b="1" lang="it-IT" sz="2000" spc="-1" strike="noStrike" baseline="30000">
                  <a:solidFill>
                    <a:srgbClr val="008000"/>
                  </a:solidFill>
                  <a:latin typeface="Comic Sans MS"/>
                </a:rPr>
                <a:t>3 </a:t>
              </a:r>
              <a:r>
                <a:rPr b="1" lang="it-IT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8000"/>
                  </a:solidFill>
                  <a:latin typeface="Comic Sans MS"/>
                </a:rPr>
                <a:t>Re </a:t>
              </a:r>
              <a:r>
                <a:rPr b="1" lang="it-IT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</a:t>
              </a:r>
              <a:r>
                <a:rPr b="0" lang="it-IT" sz="2000" spc="-1" strike="noStrike" baseline="-25000">
                  <a:solidFill>
                    <a:srgbClr val="008000"/>
                  </a:solidFill>
                  <a:latin typeface="Comic Sans MS"/>
                </a:rPr>
                <a:t>t</a:t>
              </a:r>
              <a:r>
                <a:rPr b="1" lang="it-IT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</a:t>
              </a:r>
              <a:r>
                <a:rPr b="1" lang="it-IT" sz="2000" spc="-1" strike="noStrike">
                  <a:solidFill>
                    <a:srgbClr val="008000"/>
                  </a:solidFill>
                  <a:latin typeface="Comic Sans MS"/>
                </a:rPr>
                <a:t>= </a:t>
              </a:r>
              <a:r>
                <a:rPr b="0" lang="it-IT" sz="2000" spc="-1" strike="noStrike">
                  <a:solidFill>
                    <a:srgbClr val="008000"/>
                  </a:solidFill>
                  <a:latin typeface="Comic Sans MS"/>
                </a:rPr>
                <a:t>A</a:t>
              </a:r>
              <a:r>
                <a:rPr b="0" lang="it-IT" sz="2000" spc="-1" strike="noStrike" baseline="30000">
                  <a:solidFill>
                    <a:srgbClr val="008000"/>
                  </a:solidFill>
                  <a:latin typeface="Comic Sans MS"/>
                </a:rPr>
                <a:t>2</a:t>
              </a:r>
              <a:r>
                <a:rPr b="1" lang="it-IT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</a:t>
              </a:r>
              <a:r>
                <a:rPr b="0" lang="it-IT" sz="2000" spc="-1" strike="noStrike" baseline="30000">
                  <a:solidFill>
                    <a:srgbClr val="008000"/>
                  </a:solidFill>
                  <a:latin typeface="Comic Sans MS"/>
                </a:rPr>
                <a:t>3  </a:t>
              </a:r>
              <a:r>
                <a:rPr b="1" lang="it-IT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0920" y="6093000"/>
              <a:ext cx="216000" cy="0"/>
            </a:xfrm>
            <a:prstGeom prst="line">
              <a:avLst/>
            </a:prstGeom>
            <a:ln w="1908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50920" y="6453360"/>
              <a:ext cx="216000" cy="0"/>
            </a:xfrm>
            <a:prstGeom prst="line">
              <a:avLst/>
            </a:prstGeom>
            <a:ln w="1908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79280" y="11970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he rare Kaon decays BR directly measure the UT, someone by itself, someone by the aid of ancillary K decays measur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pare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692000" y="2276280"/>
            <a:ext cx="5543640" cy="31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CP Viol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TCP Viol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T Viol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Lepton Flavour Viol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Outlook &amp; Conclu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209520" y="1328760"/>
            <a:ext cx="80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Comic Sans MS"/>
              </a:rPr>
              <a:t>Caveat: all that from an experimentalist point of view…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66560" y="6146640"/>
            <a:ext cx="435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Notice: all the limits are at 90% C.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148360" y="378936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692316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K decays and T violation: E246@KEK-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5148360" y="4437000"/>
            <a:ext cx="3492360" cy="17956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463680" y="4292640"/>
            <a:ext cx="4191840" cy="2304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ＭＳ ゴシック"/>
              </a:rPr>
              <a:t>SM expectation: P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  <a:ea typeface="ＭＳ ゴシック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ＭＳ ゴシック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ＭＳ ゴシック"/>
              </a:rPr>
              <a:t>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  <a:ea typeface="ＭＳ ゴシック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ＭＳ ゴシック"/>
              </a:rPr>
              <a:t>Final results (2004) from 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  <a:ea typeface="ＭＳ ゴシック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ＭＳ 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= (- 1.7 ± 2.3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tat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± 1.1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yst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)x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de product from 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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 (-6.4 ± 18.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ta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± 1.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y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-3 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930920" y="1341360"/>
            <a:ext cx="3889080" cy="29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verse polarization i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buClr>
                <a:srgbClr val="000000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Stopped K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xperiment with        a SC toroidal spectrome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surement of 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all dec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kinematics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paration from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ts selected by 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 coinc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50920" y="1052640"/>
            <a:ext cx="4655520" cy="3197160"/>
            <a:chOff x="250920" y="1052640"/>
            <a:chExt cx="4655520" cy="3197160"/>
          </a:xfrm>
        </p:grpSpPr>
        <p:pic>
          <p:nvPicPr>
            <p:cNvPr id="702" name="" descr=""/>
            <p:cNvPicPr/>
            <p:nvPr/>
          </p:nvPicPr>
          <p:blipFill>
            <a:blip r:embed="rId2"/>
            <a:srcRect l="1809" t="19757" r="49743" b="6619"/>
            <a:stretch/>
          </p:blipFill>
          <p:spPr>
            <a:xfrm>
              <a:off x="250920" y="1052640"/>
              <a:ext cx="4546080" cy="31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576320" y="1295640"/>
              <a:ext cx="220320" cy="66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86120" y="2405160"/>
              <a:ext cx="220320" cy="66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76320" y="3513240"/>
              <a:ext cx="220320" cy="66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298440" y="6453360"/>
            <a:ext cx="2527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*Phys.Lett. B562 (2003) 166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692000" y="2276280"/>
            <a:ext cx="5543640" cy="31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CP Viol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TCP Viol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T Viol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Lepton Flavour Viol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Outlook &amp; Conclu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"/>
          <p:cNvSpPr/>
          <p:nvPr/>
        </p:nvSpPr>
        <p:spPr>
          <a:xfrm>
            <a:off x="209520" y="1328760"/>
            <a:ext cx="80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Comic Sans MS"/>
              </a:rPr>
              <a:t>Caveat: all that from an experimentalist point of view…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66560" y="6146640"/>
            <a:ext cx="435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Notice: all the limits are at 90% C.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164360" y="436572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FV: 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871@B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7400" y="5589720"/>
            <a:ext cx="46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R(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→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) &lt; 4.7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12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90%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3995640" y="2637000"/>
            <a:ext cx="4974120" cy="3290400"/>
            <a:chOff x="3995640" y="2637000"/>
            <a:chExt cx="4974120" cy="3290400"/>
          </a:xfrm>
        </p:grpSpPr>
        <p:pic>
          <p:nvPicPr>
            <p:cNvPr id="715" name="" descr=""/>
            <p:cNvPicPr/>
            <p:nvPr/>
          </p:nvPicPr>
          <p:blipFill>
            <a:blip r:embed="rId1"/>
            <a:srcRect l="4616" t="6988" r="1799" b="5515"/>
            <a:stretch/>
          </p:blipFill>
          <p:spPr>
            <a:xfrm>
              <a:off x="3995640" y="2637000"/>
              <a:ext cx="475308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7213320" y="5589720"/>
              <a:ext cx="1756440" cy="33768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99"/>
                  </a:solidFill>
                  <a:latin typeface="Comic Sans MS"/>
                </a:rPr>
                <a:t>Signal reg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flipV="1">
              <a:off x="7308720" y="4941720"/>
              <a:ext cx="719280" cy="647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10400" y="2997360"/>
              <a:ext cx="1916640" cy="337680"/>
            </a:xfrm>
            <a:prstGeom prst="rect">
              <a:avLst/>
            </a:prstGeom>
            <a:noFill/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c6600"/>
                  </a:solidFill>
                  <a:latin typeface="Comic Sans MS"/>
                </a:rPr>
                <a:t>Control reg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7164000" y="3357720"/>
              <a:ext cx="576360" cy="72072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324000" y="321300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0.1 bck event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n the 1995-96 data sample , no events observed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9640" y="1413000"/>
            <a:ext cx="720108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 background from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→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decay in flight and e scattered o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cuum window and first tracking station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Rejection by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t in M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) vs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l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FV: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en-US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865@B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rcRect l="9478" t="7216" r="15461" b="1777"/>
          <a:stretch/>
        </p:blipFill>
        <p:spPr>
          <a:xfrm>
            <a:off x="4390920" y="1341360"/>
            <a:ext cx="4753080" cy="305136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4199760" y="4437000"/>
            <a:ext cx="2501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ataset 1995-96-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39640" y="1268280"/>
            <a:ext cx="381636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ain background from time accidentals, estimated by time sidebands = 8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.9 event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kelihood analysis built o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am parameters, PID, timing and three-track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450320" y="4941720"/>
            <a:ext cx="3883680" cy="386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R(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) &lt; 1.2 x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2">
            <a:lum contrast="18000"/>
          </a:blip>
          <a:srcRect l="1978" t="0" r="18100" b="0"/>
          <a:stretch/>
        </p:blipFill>
        <p:spPr>
          <a:xfrm>
            <a:off x="539640" y="3716280"/>
            <a:ext cx="3240360" cy="280188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4811760" y="1413000"/>
            <a:ext cx="761400" cy="337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8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098240" y="563724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ar away from SM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ard competition by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70716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CP test : 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S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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ymmetry@KL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79280" y="1268280"/>
            <a:ext cx="5905080" cy="2737440"/>
            <a:chOff x="179280" y="1268280"/>
            <a:chExt cx="5905080" cy="2737440"/>
          </a:xfrm>
        </p:grpSpPr>
        <p:pic>
          <p:nvPicPr>
            <p:cNvPr id="732" name="" descr=""/>
            <p:cNvPicPr/>
            <p:nvPr/>
          </p:nvPicPr>
          <p:blipFill>
            <a:blip r:embed="rId1"/>
            <a:stretch/>
          </p:blipFill>
          <p:spPr>
            <a:xfrm>
              <a:off x="179280" y="1268280"/>
              <a:ext cx="2815560" cy="23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" descr=""/>
            <p:cNvPicPr/>
            <p:nvPr/>
          </p:nvPicPr>
          <p:blipFill>
            <a:blip r:embed="rId2"/>
            <a:stretch/>
          </p:blipFill>
          <p:spPr>
            <a:xfrm>
              <a:off x="3274920" y="1268280"/>
              <a:ext cx="2809440" cy="23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561240" y="1317240"/>
              <a:ext cx="1117440" cy="643320"/>
            </a:xfrm>
            <a:prstGeom prst="roundRect">
              <a:avLst>
                <a:gd name="adj" fmla="val 2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GB" sz="36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i="1" lang="en-GB" sz="36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en-GB" sz="36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r>
                <a:rPr b="0" lang="en-GB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708000" y="1317240"/>
              <a:ext cx="1117440" cy="643320"/>
            </a:xfrm>
            <a:prstGeom prst="roundRect">
              <a:avLst>
                <a:gd name="adj" fmla="val 2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</a:t>
              </a:r>
              <a:r>
                <a:rPr b="0" lang="en-GB" sz="3600" spc="-1" strike="noStrike" baseline="30000">
                  <a:solidFill>
                    <a:srgbClr val="0066ff"/>
                  </a:solidFill>
                  <a:latin typeface="Symbol"/>
                  <a:ea typeface="Symbol"/>
                </a:rPr>
                <a:t></a:t>
              </a:r>
              <a:r>
                <a:rPr b="0" i="1" lang="en-GB" sz="3600" spc="-1" strike="noStrike">
                  <a:solidFill>
                    <a:srgbClr val="0066ff"/>
                  </a:solidFill>
                  <a:latin typeface="Times New Roman"/>
                </a:rPr>
                <a:t>e</a:t>
              </a:r>
              <a:r>
                <a:rPr b="0" lang="en-GB" sz="3600" spc="-1" strike="noStrike" baseline="30000">
                  <a:solidFill>
                    <a:srgbClr val="0066ff"/>
                  </a:solidFill>
                  <a:latin typeface="Symbol"/>
                  <a:ea typeface="Symbol"/>
                </a:rPr>
                <a:t></a:t>
              </a:r>
              <a:r>
                <a:rPr b="0" lang="en-GB" sz="36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199160" y="3562560"/>
              <a:ext cx="200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8000"/>
                  </a:solidFill>
                  <a:latin typeface="Comic Sans MS"/>
                </a:rPr>
                <a:t>E</a:t>
              </a:r>
              <a:r>
                <a:rPr b="0" lang="en-GB" sz="1800" spc="-1" strike="noStrike" baseline="-25000">
                  <a:solidFill>
                    <a:srgbClr val="008000"/>
                  </a:solidFill>
                  <a:latin typeface="Comic Sans MS"/>
                </a:rPr>
                <a:t>miss</a:t>
              </a:r>
              <a:r>
                <a:rPr b="0" lang="en-GB" sz="1800" spc="-1" strike="noStrike">
                  <a:solidFill>
                    <a:srgbClr val="008000"/>
                  </a:solidFill>
                  <a:latin typeface="Comic Sans MS"/>
                </a:rPr>
                <a:t>–cP</a:t>
              </a:r>
              <a:r>
                <a:rPr b="0" lang="en-GB" sz="1800" spc="-1" strike="noStrike" baseline="-25000">
                  <a:solidFill>
                    <a:srgbClr val="008000"/>
                  </a:solidFill>
                  <a:latin typeface="Comic Sans MS"/>
                </a:rPr>
                <a:t>miss</a:t>
              </a:r>
              <a:r>
                <a:rPr b="0" lang="en-GB" sz="1800" spc="-1" strike="noStrike">
                  <a:solidFill>
                    <a:srgbClr val="008000"/>
                  </a:solidFill>
                  <a:latin typeface="Comic Sans MS"/>
                </a:rPr>
                <a:t>(M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148280" y="3600000"/>
              <a:ext cx="193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8000"/>
                  </a:solidFill>
                  <a:latin typeface="Comic Sans MS"/>
                </a:rPr>
                <a:t>E</a:t>
              </a:r>
              <a:r>
                <a:rPr b="0" lang="en-GB" sz="1800" spc="-1" strike="noStrike" baseline="-25000">
                  <a:solidFill>
                    <a:srgbClr val="008000"/>
                  </a:solidFill>
                  <a:latin typeface="Comic Sans MS"/>
                </a:rPr>
                <a:t>miss</a:t>
              </a:r>
              <a:r>
                <a:rPr b="0" lang="en-GB" sz="1800" spc="-1" strike="noStrike">
                  <a:solidFill>
                    <a:srgbClr val="008000"/>
                  </a:solidFill>
                  <a:latin typeface="Comic Sans MS"/>
                </a:rPr>
                <a:t>–cP</a:t>
              </a:r>
              <a:r>
                <a:rPr b="0" lang="en-GB" sz="1800" spc="-1" strike="noStrike" baseline="-25000">
                  <a:solidFill>
                    <a:srgbClr val="008000"/>
                  </a:solidFill>
                  <a:latin typeface="Comic Sans MS"/>
                </a:rPr>
                <a:t>miss</a:t>
              </a:r>
              <a:r>
                <a:rPr b="0" lang="en-GB" sz="1800" spc="-1" strike="noStrike">
                  <a:solidFill>
                    <a:srgbClr val="008000"/>
                  </a:solidFill>
                  <a:latin typeface="Comic Sans MS"/>
                </a:rPr>
                <a:t>(M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24000" y="5553000"/>
            <a:ext cx="64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= (2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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9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stat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6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syst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) x 10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KLOE2004 (prelimin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= (3.322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0.058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0.047) x 10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KTeV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156360" y="1628640"/>
            <a:ext cx="2808360" cy="19288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fficiency evaluated using </a:t>
            </a:r>
            <a:r>
              <a:rPr b="0" lang="en-GB" sz="1800" spc="-1" strike="noStrike">
                <a:solidFill>
                  <a:srgbClr val="cc6600"/>
                </a:solidFill>
                <a:latin typeface="Times New Roman"/>
              </a:rPr>
              <a:t>K</a:t>
            </a:r>
            <a:r>
              <a:rPr b="0" lang="en-GB" sz="1800" spc="-1" strike="noStrike" baseline="-25000">
                <a:solidFill>
                  <a:srgbClr val="cc6600"/>
                </a:solidFill>
                <a:latin typeface="Times New Roman"/>
              </a:rPr>
              <a:t>L</a:t>
            </a:r>
            <a:r>
              <a:rPr b="0" lang="en-GB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cc66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cc66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6600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caying close to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</a:t>
            </a:r>
            <a:r>
              <a:rPr b="0" lang="en-GB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18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) = (24.1</a:t>
            </a:r>
            <a:r>
              <a:rPr b="0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1</a:t>
            </a:r>
            <a:r>
              <a:rPr b="0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 0.2)%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Symbol"/>
                <a:ea typeface="Symbol"/>
              </a:rPr>
              <a:t></a:t>
            </a:r>
            <a:r>
              <a:rPr b="0" lang="en-GB" sz="18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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0" lang="en-GB" sz="18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) = (23.6</a:t>
            </a:r>
            <a:r>
              <a:rPr b="0" lang="en-GB" sz="1800" spc="-1" strike="noStrike">
                <a:solidFill>
                  <a:srgbClr val="0033cc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0.1 </a:t>
            </a:r>
            <a:r>
              <a:rPr b="0" lang="en-GB" sz="1800" spc="-1" strike="noStrike">
                <a:solidFill>
                  <a:srgbClr val="0033cc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 0.2)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ID from TOF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359480" y="39099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466560" y="4459320"/>
                <a:ext cx="4537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ν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ν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ν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ν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2" name=""/>
          <p:cNvSpPr/>
          <p:nvPr/>
        </p:nvSpPr>
        <p:spPr>
          <a:xfrm>
            <a:off x="5292720" y="4581360"/>
            <a:ext cx="30970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0 if TCP 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55320" y="4005360"/>
            <a:ext cx="78192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CP test is also made using the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semileptonic asymmetr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20000" y="5300640"/>
            <a:ext cx="1871640" cy="581400"/>
          </a:xfrm>
          <a:prstGeom prst="rect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irst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6659640" y="5589720"/>
            <a:ext cx="28872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92316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V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u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&amp; BRs: what is actually measu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324000" y="1197000"/>
          <a:ext cx="7272360" cy="4248000"/>
        </p:xfrm>
        <a:graphic>
          <a:graphicData uri="http://schemas.openxmlformats.org/drawingml/2006/table">
            <a:tbl>
              <a:tblPr/>
              <a:tblGrid>
                <a:gridCol w="971280"/>
                <a:gridCol w="5079960"/>
                <a:gridCol w="1221120"/>
              </a:tblGrid>
              <a:tr h="51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antity measu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a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T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(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, 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, 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3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, R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K</a:t>
                      </a:r>
                      <a:r>
                        <a:rPr b="0" lang="it-IT" sz="1800" spc="-1" strike="noStrike" baseline="-25000">
                          <a:solidFill>
                            <a:srgbClr val="333399"/>
                          </a:solidFill>
                          <a:latin typeface="Comic Sans MS"/>
                        </a:rPr>
                        <a:t>L</a:t>
                      </a: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e</a:t>
                      </a: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cc6600"/>
                          </a:solidFill>
                          <a:latin typeface="Comic Sans MS"/>
                        </a:rPr>
                        <a:t>K</a:t>
                      </a:r>
                      <a:r>
                        <a:rPr b="0" lang="it-IT" sz="1800" spc="-1" strike="noStrike" baseline="-25000">
                          <a:solidFill>
                            <a:srgbClr val="cc6600"/>
                          </a:solidFill>
                          <a:latin typeface="Comic Sans MS"/>
                        </a:rPr>
                        <a:t>L</a:t>
                      </a:r>
                      <a:r>
                        <a:rPr b="0" lang="it-IT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800" spc="-1" strike="noStrike">
                          <a:solidFill>
                            <a:srgbClr val="cc6600"/>
                          </a:solidFill>
                          <a:latin typeface="Symbol"/>
                          <a:ea typeface="Symbol"/>
                        </a:rPr>
                        <a:t>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108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L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solute BR(K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 using K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a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cc6600"/>
                          </a:solidFill>
                          <a:latin typeface="Comic Sans MS"/>
                        </a:rPr>
                        <a:t>K</a:t>
                      </a:r>
                      <a:r>
                        <a:rPr b="0" lang="it-IT" sz="1800" spc="-1" strike="noStrike" baseline="-25000">
                          <a:solidFill>
                            <a:srgbClr val="cc6600"/>
                          </a:solidFill>
                          <a:latin typeface="Comic Sans MS"/>
                        </a:rPr>
                        <a:t>L</a:t>
                      </a:r>
                      <a:r>
                        <a:rPr b="0" lang="it-IT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800" spc="-1" strike="noStrike">
                          <a:solidFill>
                            <a:srgbClr val="cc6600"/>
                          </a:solidFill>
                          <a:latin typeface="Symbol"/>
                          <a:ea typeface="Symbol"/>
                        </a:rPr>
                        <a:t>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solute BR(K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e3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 using K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a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K</a:t>
                      </a:r>
                      <a:r>
                        <a:rPr b="0" lang="it-IT" sz="1800" spc="-1" strike="noStrike" baseline="-25000">
                          <a:solidFill>
                            <a:srgbClr val="333399"/>
                          </a:solidFill>
                          <a:latin typeface="Comic Sans MS"/>
                        </a:rPr>
                        <a:t>L</a:t>
                      </a: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e</a:t>
                      </a: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(K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/BR(K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K</a:t>
                      </a:r>
                      <a:r>
                        <a:rPr b="0" lang="it-IT" sz="1800" spc="-1" strike="noStrike" baseline="-25000">
                          <a:solidFill>
                            <a:srgbClr val="ff3300"/>
                          </a:solidFill>
                          <a:latin typeface="Comic Sans MS"/>
                        </a:rPr>
                        <a:t>S</a:t>
                      </a:r>
                      <a:r>
                        <a:rPr b="0" lang="it-IT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e</a:t>
                      </a:r>
                      <a:r>
                        <a:rPr b="0" lang="it-IT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8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(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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/BR(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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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)</a:t>
                      </a: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800" spc="-1" strike="noStrike" baseline="30000">
                          <a:solidFill>
                            <a:srgbClr val="0099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1800" spc="-1" strike="noStrike" baseline="30000">
                          <a:solidFill>
                            <a:srgbClr val="0099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238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(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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/BR(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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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)</a:t>
                      </a: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800" spc="-1" strike="noStrike" baseline="30000">
                          <a:solidFill>
                            <a:srgbClr val="0099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1800" spc="-1" strike="noStrike" baseline="30000">
                          <a:solidFill>
                            <a:srgbClr val="0099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50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(K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e3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/BR(k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tracks)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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e3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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</a:t>
                      </a:r>
                      <a:r>
                        <a:rPr b="0" lang="it-IT" sz="16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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K</a:t>
                      </a:r>
                      <a:r>
                        <a:rPr b="0" lang="it-IT" sz="1800" spc="-1" strike="noStrike" baseline="-25000">
                          <a:solidFill>
                            <a:srgbClr val="333399"/>
                          </a:solidFill>
                          <a:latin typeface="Comic Sans MS"/>
                        </a:rPr>
                        <a:t>L</a:t>
                      </a: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e</a:t>
                      </a: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48" name=""/>
          <p:cNvSpPr/>
          <p:nvPr/>
        </p:nvSpPr>
        <p:spPr>
          <a:xfrm>
            <a:off x="3711600" y="5661000"/>
            <a:ext cx="5281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BR(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±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PDG=21.1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±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0.14 dominated by 1 ex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HIANG (1972)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21.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0.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94560" y="1724040"/>
            <a:ext cx="137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(a/b)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R(a)/B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451640" y="1846440"/>
            <a:ext cx="289080" cy="142560"/>
          </a:xfrm>
          <a:prstGeom prst="leftArrow">
            <a:avLst>
              <a:gd name="adj1" fmla="val 50000"/>
              <a:gd name="adj2" fmla="val 50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96720" y="552780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A lot of diffferent normalizations to PDG fit, PDG average, WA, etc. etc. are a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730280" y="4221000"/>
            <a:ext cx="11973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are Kaon decays and TCP: 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S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3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4" name=""/>
          <p:cNvGraphicFramePr/>
          <p:nvPr/>
        </p:nvGraphicFramePr>
        <p:xfrm>
          <a:off x="1116000" y="1700280"/>
          <a:ext cx="640872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00280"/>
                    <a:ext cx="6408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684360" y="5877000"/>
            <a:ext cx="71276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BR(K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33cc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) &lt;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 7.4 × 10</a:t>
            </a:r>
            <a:r>
              <a:rPr b="0" lang="en-GB" sz="1800" spc="-1" strike="noStrike" baseline="30000">
                <a:solidFill>
                  <a:srgbClr val="0033cc"/>
                </a:solidFill>
                <a:latin typeface="Comic Sans MS"/>
              </a:rPr>
              <a:t>-6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 @90%C.L. (NA48 ’04hep-ex/040805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28200" y="1413000"/>
            <a:ext cx="71953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ithin SM the 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3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violates CP and can be comput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356000" y="404640"/>
            <a:ext cx="64764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95280" y="2565360"/>
            <a:ext cx="7632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A48 searched for this decay exploiting the interference of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beams to enhance the rare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decay with the much more abundant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3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0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decay intensity is then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3"/>
          <a:stretch/>
        </p:blipFill>
        <p:spPr>
          <a:xfrm>
            <a:off x="1523880" y="1829880"/>
            <a:ext cx="6096240" cy="4064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684360" y="3789360"/>
                <a:ext cx="73436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00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</m:e>
                      </m:mr>
                      <m:mr>
                        <m:e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)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e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t xml:space="preserve">Δ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t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m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r>
                                <m:t xml:space="preserve">Δ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t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635040" y="5084640"/>
            <a:ext cx="71769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(p) is the dilution factor to the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to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beam. Using he 2000 data the limit on the 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BR(KS</a:t>
            </a:r>
            <a:r>
              <a:rPr b="0" lang="it-IT" sz="2000" spc="-1" strike="noStrike">
                <a:solidFill>
                  <a:srgbClr val="cc6600"/>
                </a:solidFill>
                <a:latin typeface="Arial"/>
                <a:ea typeface="Arial"/>
              </a:rPr>
              <a:t>→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3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btained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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@E949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w ev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5614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826" t="0" r="0" b="2647"/>
          <a:stretch/>
        </p:blipFill>
        <p:spPr>
          <a:xfrm>
            <a:off x="179280" y="3860640"/>
            <a:ext cx="3527640" cy="2794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are Kaon decays and SM tes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6004" t="0" r="6503" b="4913"/>
          <a:stretch/>
        </p:blipFill>
        <p:spPr>
          <a:xfrm>
            <a:off x="4932360" y="1236600"/>
            <a:ext cx="3816360" cy="3056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11280" y="1268280"/>
            <a:ext cx="4176720" cy="2654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Yet, in spite of the experimental difficulty, the rare K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s theoretically clean (almost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s highly sensitive to 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as different sensivity to NP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rt the B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4653000"/>
            <a:ext cx="3238560" cy="163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t only K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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! NP sensitivity of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l system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Buras,Fleisher,Recksieg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chwab : hep-ph/04021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4748040"/>
            <a:ext cx="2376720" cy="1584360"/>
          </a:xfrm>
          <a:prstGeom prst="triangle">
            <a:avLst>
              <a:gd name="adj" fmla="val 44690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4675320"/>
            <a:ext cx="432000" cy="144360"/>
          </a:xfrm>
          <a:prstGeom prst="parallelogram">
            <a:avLst>
              <a:gd name="adj" fmla="val 319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0880" y="4484520"/>
            <a:ext cx="159192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M t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sin2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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J/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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KS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9933"/>
                </a:solidFill>
                <a:latin typeface="Comic Sans MS"/>
              </a:rPr>
              <a:t>sin2</a:t>
            </a:r>
            <a:r>
              <a:rPr b="0" lang="it-IT" sz="2000" spc="-1" strike="noStrike">
                <a:solidFill>
                  <a:srgbClr val="339933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>
                <a:solidFill>
                  <a:srgbClr val="339933"/>
                </a:solidFill>
                <a:latin typeface="Comic Sans MS"/>
              </a:rPr>
              <a:t>(K</a:t>
            </a:r>
            <a:r>
              <a:rPr b="0" lang="it-IT" sz="2000" spc="-1" strike="noStrike">
                <a:solidFill>
                  <a:srgbClr val="339933"/>
                </a:solidFill>
                <a:latin typeface="Symbol"/>
                <a:ea typeface="Symbol"/>
              </a:rPr>
              <a:t></a:t>
            </a:r>
            <a:r>
              <a:rPr b="0" lang="it-IT" sz="2000" spc="-1" strike="noStrike">
                <a:solidFill>
                  <a:srgbClr val="339933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9800" y="5950080"/>
            <a:ext cx="3207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436572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995560" y="260280"/>
            <a:ext cx="3078000" cy="459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Improved photon v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4716360" y="1484280"/>
                <a:ext cx="37432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New calorimeter in barrel reg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add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New beam line γ detecto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3889440" cy="2878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5940360" y="3213000"/>
                <a:ext cx="15336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reject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916360" y="3573360"/>
                <a:ext cx="7603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9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1908000" y="4581360"/>
                <a:ext cx="7606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78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3564000" y="4365720"/>
                <a:ext cx="8636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⇑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1116000" y="919080"/>
            <a:ext cx="3240000" cy="2011320"/>
          </a:xfrm>
          <a:prstGeom prst="rect">
            <a:avLst/>
          </a:prstGeom>
          <a:ln w="0">
            <a:noFill/>
          </a:ln>
        </p:spPr>
      </p:pic>
      <p:grpSp>
        <p:nvGrpSpPr>
          <p:cNvPr id="773" name=""/>
          <p:cNvGrpSpPr/>
          <p:nvPr/>
        </p:nvGrpSpPr>
        <p:grpSpPr>
          <a:xfrm>
            <a:off x="4762440" y="3789360"/>
            <a:ext cx="4028040" cy="1694160"/>
            <a:chOff x="4762440" y="3789360"/>
            <a:chExt cx="4028040" cy="1694160"/>
          </a:xfrm>
        </p:grpSpPr>
        <p:sp>
          <p:nvSpPr>
            <p:cNvPr id="774" name=""/>
            <p:cNvSpPr/>
            <p:nvPr/>
          </p:nvSpPr>
          <p:spPr>
            <a:xfrm>
              <a:off x="4762440" y="3789360"/>
              <a:ext cx="4028040" cy="16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ff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ff"/>
                  </a:solidFill>
                  <a:latin typeface="Times New Roman"/>
                  <a:ea typeface="ＭＳ Ｐゴシック"/>
                </a:rPr>
                <a:t> </a:t>
              </a:r>
              <a:r>
                <a:rPr b="0" lang="en-US" sz="2100" spc="-1" strike="noStrike">
                  <a:solidFill>
                    <a:srgbClr val="ff00ff"/>
                  </a:solidFill>
                  <a:latin typeface="Times New Roman"/>
                  <a:ea typeface="ＭＳ Ｐゴシック"/>
                </a:rPr>
                <a:t>Rejection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to          background a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a function of </a:t>
              </a:r>
              <a:r>
                <a:rPr b="0" lang="en-US" sz="2100" spc="-1" strike="noStrike">
                  <a:solidFill>
                    <a:srgbClr val="ff00ff"/>
                  </a:solidFill>
                  <a:latin typeface="Times New Roman"/>
                  <a:ea typeface="ＭＳ Ｐゴシック"/>
                </a:rPr>
                <a:t>acceptance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for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</a:t>
              </a:r>
              <a:r>
                <a:rPr b="0" lang="en-US" sz="2100" spc="-1" strike="noStrike">
                  <a:solidFill>
                    <a:srgbClr val="0000ff"/>
                  </a:solidFill>
                  <a:latin typeface="Times New Roman"/>
                  <a:ea typeface="ＭＳ Ｐゴシック"/>
                </a:rPr>
                <a:t>E787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and </a:t>
              </a:r>
              <a:r>
                <a:rPr b="0" lang="en-US" sz="2100" spc="-1" strike="noStrike">
                  <a:solidFill>
                    <a:srgbClr val="ff0000"/>
                  </a:solidFill>
                  <a:latin typeface="Times New Roman"/>
                  <a:ea typeface="ＭＳ Ｐゴシック"/>
                </a:rPr>
                <a:t>E949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Times New Roman"/>
                  <a:ea typeface="ＭＳ Ｐゴシック"/>
                </a:rPr>
                <a:t>          </a:t>
              </a:r>
              <a:r>
                <a:rPr b="0" lang="en-US" sz="2100" spc="-1" strike="noStrike">
                  <a:solidFill>
                    <a:srgbClr val="ff0000"/>
                  </a:solidFill>
                  <a:latin typeface="Times New Roman"/>
                  <a:ea typeface="ＭＳ Ｐゴシック"/>
                </a:rPr>
                <a:t>better rejection at 80% o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Times New Roman"/>
                  <a:ea typeface="ＭＳ Ｐゴシック"/>
                </a:rPr>
                <a:t>   </a:t>
              </a:r>
              <a:r>
                <a:rPr b="0" lang="en-US" sz="2100" spc="-1" strike="noStrike">
                  <a:solidFill>
                    <a:srgbClr val="ff0000"/>
                  </a:solidFill>
                  <a:latin typeface="Times New Roman"/>
                  <a:ea typeface="ＭＳ Ｐゴシック"/>
                </a:rPr>
                <a:t>nominal acceptance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5075280" y="4797360"/>
                  <a:ext cx="669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6" name=""/>
                <p:cNvSpPr txBox="1"/>
                <p:nvPr/>
              </p:nvSpPr>
              <p:spPr>
                <a:xfrm>
                  <a:off x="6443640" y="3789360"/>
                  <a:ext cx="57636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π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7" name=""/>
          <p:cNvGrpSpPr/>
          <p:nvPr/>
        </p:nvGrpSpPr>
        <p:grpSpPr>
          <a:xfrm>
            <a:off x="1400040" y="2924280"/>
            <a:ext cx="2533680" cy="368280"/>
            <a:chOff x="1400040" y="2924280"/>
            <a:chExt cx="2533680" cy="368280"/>
          </a:xfrm>
        </p:grpSpPr>
        <mc:AlternateContent>
          <mc:Choice xmlns:a14="http://schemas.microsoft.com/office/drawing/2010/main" Requires="a14">
            <p:sp>
              <p:nvSpPr>
                <p:cNvPr id="778" name=""/>
                <p:cNvSpPr txBox="1"/>
                <p:nvPr/>
              </p:nvSpPr>
              <p:spPr>
                <a:xfrm>
                  <a:off x="1999800" y="2975040"/>
                  <a:ext cx="198360" cy="25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9" name=""/>
            <p:cNvSpPr/>
            <p:nvPr/>
          </p:nvSpPr>
          <p:spPr>
            <a:xfrm>
              <a:off x="1400040" y="2924280"/>
              <a:ext cx="253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ＭＳ Ｐゴシック"/>
                </a:rPr>
                <a:t>New      detectors in blu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619280" y="260280"/>
                <a:ext cx="57610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pact of </m:t>
                    </m:r>
                    <m:r>
                      <m:t xml:space="preserve">B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ν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on Unitarity Triangl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1" name=""/>
          <p:cNvSpPr/>
          <p:nvPr/>
        </p:nvSpPr>
        <p:spPr>
          <a:xfrm>
            <a:off x="6371640" y="83664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By courtesy of G. Isid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232640" y="1362240"/>
            <a:ext cx="67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  <a:ea typeface="ＭＳ Ｐゴシック"/>
              </a:rPr>
              <a:t>Central value [dashed], 68% interval [dot-dashed], 90% interval [soli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  <a:ea typeface="ＭＳ Ｐゴシック"/>
              </a:rPr>
              <a:t>(including theoretical uncertain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1031760" y="5299200"/>
                <a:ext cx="65754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5</m:t>
                        </m:r>
                        <m:r>
                          <m:t xml:space="preserve">&lt;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d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7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λ</m:t>
                        </m:r>
                        <m:r>
                          <m:t xml:space="preserve">≡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sub>
                          <m:sup/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d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−</m:t>
                        </m:r>
                        <m:r>
                          <m:t xml:space="preserve">iη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&lt;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49723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20244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rom 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400" spc="-1" strike="noStrike" baseline="30000">
                <a:solidFill>
                  <a:srgbClr val="cc66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 Im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it-IT" sz="24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400" spc="-1" strike="noStrike" baseline="-25000">
                <a:solidFill>
                  <a:srgbClr val="cc6600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4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400" spc="-1" strike="noStrike">
                <a:solidFill>
                  <a:srgbClr val="cc66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 baseline="30000">
                <a:solidFill>
                  <a:srgbClr val="cc66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50920" y="1341360"/>
            <a:ext cx="4787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Main backgrounds from accidentals and radiative K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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dec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95280" y="5229360"/>
            <a:ext cx="8353440" cy="119160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The Greenlee background in the signal acceptance is reduced wrt the K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Comic Sans MS"/>
              </a:rPr>
              <a:t>L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ee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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case. Can be safely evaluated from KTeV measur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In the signal box 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0.18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+0.18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-0.11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events are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000" y="2205000"/>
            <a:ext cx="5040000" cy="28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2 main source of accidental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en-US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→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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 + K</a:t>
            </a:r>
            <a:r>
              <a:rPr b="0" lang="en-US" sz="2000" spc="-1" strike="noStrike" baseline="-25000">
                <a:solidFill>
                  <a:srgbClr val="cc66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→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</a:t>
            </a:r>
            <a:r>
              <a:rPr b="0" lang="en-US" sz="20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K</a:t>
            </a:r>
            <a:r>
              <a:rPr b="0" lang="en-US" sz="2000" spc="-1" strike="noStrike" baseline="-25000">
                <a:solidFill>
                  <a:srgbClr val="cc66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→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 + K</a:t>
            </a:r>
            <a:r>
              <a:rPr b="0" lang="en-US" sz="2000" spc="-1" strike="noStrike" baseline="-25000">
                <a:solidFill>
                  <a:srgbClr val="cc66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→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</a:t>
            </a:r>
            <a:r>
              <a:rPr b="0" lang="en-US" sz="2000" spc="-1" strike="noStrike" baseline="30000">
                <a:solidFill>
                  <a:srgbClr val="cc66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tion to signal estimated from time side band : 6 events in ~125 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ignal time window 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(3 ns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e expected 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0.18</a:t>
            </a:r>
            <a:r>
              <a:rPr b="0" lang="en-US" sz="2000" spc="-1" strike="noStrike" baseline="30000">
                <a:solidFill>
                  <a:srgbClr val="cc6600"/>
                </a:solidFill>
                <a:latin typeface="Comic Sans MS"/>
              </a:rPr>
              <a:t>+0.18</a:t>
            </a:r>
            <a:r>
              <a:rPr b="0" lang="en-US" sz="2000" spc="-1" strike="noStrike" baseline="-25000">
                <a:solidFill>
                  <a:srgbClr val="cc6600"/>
                </a:solidFill>
                <a:latin typeface="Comic Sans MS"/>
              </a:rPr>
              <a:t>-0.11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ckgro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435640" y="1413000"/>
            <a:ext cx="3564000" cy="3611160"/>
            <a:chOff x="5435640" y="1413000"/>
            <a:chExt cx="3564000" cy="3611160"/>
          </a:xfrm>
        </p:grpSpPr>
        <p:grpSp>
          <p:nvGrpSpPr>
            <p:cNvPr id="790" name=""/>
            <p:cNvGrpSpPr/>
            <p:nvPr/>
          </p:nvGrpSpPr>
          <p:grpSpPr>
            <a:xfrm>
              <a:off x="5796000" y="1413000"/>
              <a:ext cx="3203640" cy="3168360"/>
              <a:chOff x="5796000" y="1413000"/>
              <a:chExt cx="3203640" cy="3168360"/>
            </a:xfrm>
          </p:grpSpPr>
          <p:pic>
            <p:nvPicPr>
              <p:cNvPr id="791" name="" descr=""/>
              <p:cNvPicPr/>
              <p:nvPr/>
            </p:nvPicPr>
            <p:blipFill>
              <a:blip r:embed="rId1"/>
              <a:srcRect l="7600" t="0" r="0" b="15388"/>
              <a:stretch/>
            </p:blipFill>
            <p:spPr>
              <a:xfrm>
                <a:off x="5796000" y="1413000"/>
                <a:ext cx="3203640" cy="31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"/>
              <p:cNvSpPr txBox="1"/>
              <p:nvPr/>
            </p:nvSpPr>
            <p:spPr>
              <a:xfrm>
                <a:off x="5796000" y="1413000"/>
                <a:ext cx="3203640" cy="316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90000"/>
                  </a:lnSpc>
                  <a:spcBef>
                    <a:spcPts val="601"/>
                  </a:spcBef>
                  <a:buClr>
                    <a:srgbClr val="0000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7547400" y="4653000"/>
              <a:ext cx="12153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6600"/>
                  </a:solidFill>
                  <a:latin typeface="Comic Sans MS"/>
                </a:rPr>
                <a:t>M</a:t>
              </a:r>
              <a:r>
                <a:rPr b="0" lang="it-IT" sz="2000" spc="-1" strike="noStrike" baseline="-25000">
                  <a:solidFill>
                    <a:srgbClr val="336600"/>
                  </a:solidFill>
                  <a:latin typeface="Symbol"/>
                  <a:ea typeface="Symbol"/>
                </a:rPr>
                <a:t></a:t>
              </a:r>
              <a:r>
                <a:rPr b="0" lang="it-IT" sz="2000" spc="-1" strike="noStrike">
                  <a:solidFill>
                    <a:srgbClr val="336600"/>
                  </a:solidFill>
                  <a:latin typeface="Comic Sans MS"/>
                </a:rPr>
                <a:t>(Ge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6200000">
              <a:off x="5014800" y="2119320"/>
              <a:ext cx="12124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6600"/>
                  </a:solidFill>
                  <a:latin typeface="Comic Sans MS"/>
                </a:rPr>
                <a:t>M</a:t>
              </a:r>
              <a:r>
                <a:rPr b="0" lang="it-IT" sz="2000" spc="-1" strike="noStrike" baseline="-25000">
                  <a:solidFill>
                    <a:srgbClr val="336600"/>
                  </a:solidFill>
                  <a:latin typeface="Symbol"/>
                  <a:ea typeface="Symbol"/>
                </a:rPr>
                <a:t></a:t>
              </a:r>
              <a:r>
                <a:rPr b="0" lang="it-IT" sz="2000" spc="-1" strike="noStrike">
                  <a:solidFill>
                    <a:srgbClr val="336600"/>
                  </a:solidFill>
                  <a:latin typeface="Comic Sans MS"/>
                </a:rPr>
                <a:t>(Ge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249960" y="1844640"/>
              <a:ext cx="2388960" cy="28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3300"/>
                  </a:solidFill>
                  <a:latin typeface="Comic Sans MS"/>
                </a:rPr>
                <a:t>Out of time ev. (125 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48 Detector &amp; Data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250920" y="1494000"/>
            <a:ext cx="4343400" cy="4596840"/>
            <a:chOff x="250920" y="1494000"/>
            <a:chExt cx="4343400" cy="4596840"/>
          </a:xfrm>
        </p:grpSpPr>
        <p:sp>
          <p:nvSpPr>
            <p:cNvPr id="798" name=""/>
            <p:cNvSpPr/>
            <p:nvPr/>
          </p:nvSpPr>
          <p:spPr>
            <a:xfrm>
              <a:off x="3527640" y="15969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Arial"/>
                </a:rPr>
                <a:t>199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27640" y="22064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Arial"/>
                </a:rPr>
                <a:t>19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527640" y="27511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Arial"/>
                </a:rPr>
                <a:t>199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527640" y="33177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Arial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27640" y="39052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Arial"/>
                </a:rPr>
                <a:t>2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27640" y="44816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Arial"/>
                </a:rPr>
                <a:t>20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27640" y="50594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Arial"/>
                </a:rPr>
                <a:t>20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50920" y="1494000"/>
              <a:ext cx="3124440" cy="590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50920" y="2084400"/>
              <a:ext cx="3124440" cy="591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50920" y="2676600"/>
              <a:ext cx="3124440" cy="5914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50920" y="3268440"/>
              <a:ext cx="3124440" cy="590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50920" y="3859200"/>
              <a:ext cx="3124440" cy="591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50920" y="4451400"/>
              <a:ext cx="3124440" cy="59004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775160" y="3268440"/>
              <a:ext cx="1600200" cy="590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60760" y="1519200"/>
              <a:ext cx="19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48:  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’/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0920" y="5041800"/>
              <a:ext cx="3124440" cy="591840"/>
            </a:xfrm>
            <a:prstGeom prst="rect">
              <a:avLst/>
            </a:prstGeom>
            <a:solidFill>
              <a:srgbClr val="33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413000" y="213372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413000" y="273672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36960" y="3882960"/>
              <a:ext cx="337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wer inst. int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22680" y="3421080"/>
              <a:ext cx="1822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NA48/1</a:t>
              </a:r>
              <a:r>
                <a:rPr b="1" i="1" lang="en-US" sz="2000" spc="-1" strike="noStrike">
                  <a:solidFill>
                    <a:srgbClr val="009999"/>
                  </a:solidFill>
                  <a:latin typeface="Arial"/>
                </a:rPr>
                <a:t> K</a:t>
              </a:r>
              <a:r>
                <a:rPr b="1" i="1" lang="en-US" sz="2000" spc="-1" strike="noStrike" baseline="-25000">
                  <a:solidFill>
                    <a:srgbClr val="009999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98920" y="4538520"/>
              <a:ext cx="195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NA48/1:  </a:t>
              </a:r>
              <a:r>
                <a:rPr b="0" i="1" lang="en-US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9999"/>
                  </a:solidFill>
                  <a:latin typeface="Arial"/>
                </a:rPr>
                <a:t>K</a:t>
              </a:r>
              <a:r>
                <a:rPr b="1" i="1" lang="en-US" sz="2400" spc="-1" strike="noStrike" baseline="-25000">
                  <a:solidFill>
                    <a:srgbClr val="009999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8120" y="339084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936720" y="320184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o spectrome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936720" y="5165640"/>
              <a:ext cx="18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48/2: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98920" y="5634000"/>
              <a:ext cx="19810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5467320" y="1179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190600" y="1179360"/>
            <a:ext cx="31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: 5.3M 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4392720" y="1089000"/>
            <a:ext cx="4495680" cy="36068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826" name=""/>
          <p:cNvSpPr/>
          <p:nvPr/>
        </p:nvSpPr>
        <p:spPr>
          <a:xfrm>
            <a:off x="4705560" y="509580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gnetic spectr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quid krypton EM calori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538080" y="5697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50920" y="5634000"/>
            <a:ext cx="3106800" cy="585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48/2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05952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cc66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e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-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@KTeV: background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79280" y="1628640"/>
            <a:ext cx="475308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00"/>
                </a:solidFill>
                <a:latin typeface="Comic Sans MS"/>
              </a:rPr>
              <a:t>Rejection of the bck can be achieved exploiting the different kinema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The background has radiative 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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s collimated with e</a:t>
            </a:r>
            <a:r>
              <a:rPr b="0" lang="en-US" sz="2000" spc="-1" strike="noStrike" baseline="30000">
                <a:solidFill>
                  <a:srgbClr val="cc66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  <a:ea typeface="Arial"/>
              </a:rPr>
              <a:t>. 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  <a:ea typeface="Arial"/>
              </a:rPr>
              <a:t>Discrimination via minimum angle between 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  <a:ea typeface="Arial"/>
              </a:rPr>
              <a:t> and e </a:t>
            </a:r>
            <a:r>
              <a:rPr b="0" lang="en-US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6600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The signal has almost isotropic 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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s in the 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 frame. Discrimination via angle between 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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 and K</a:t>
            </a:r>
            <a:r>
              <a:rPr b="0" lang="it-IT" sz="2000" spc="-1" strike="noStrike" baseline="-25000">
                <a:solidFill>
                  <a:srgbClr val="cc6600"/>
                </a:solidFill>
                <a:latin typeface="Comic Sans MS"/>
              </a:rPr>
              <a:t>L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 in </a:t>
            </a:r>
            <a:r>
              <a:rPr b="0" lang="it-IT" sz="20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cc66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cc6600"/>
                </a:solidFill>
                <a:latin typeface="Comic Sans MS"/>
              </a:rPr>
              <a:t> frame </a:t>
            </a:r>
            <a:r>
              <a:rPr b="0" lang="it-IT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|cos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)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826920" y="5516640"/>
            <a:ext cx="3888000" cy="581400"/>
          </a:xfrm>
          <a:prstGeom prst="rect">
            <a:avLst/>
          </a:prstGeom>
          <a:noFill/>
          <a:ln w="1908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region where the bck is concentrated is cut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4932360" y="1197000"/>
            <a:ext cx="4038480" cy="2572560"/>
            <a:chOff x="4932360" y="1197000"/>
            <a:chExt cx="4038480" cy="2572560"/>
          </a:xfrm>
        </p:grpSpPr>
        <p:pic>
          <p:nvPicPr>
            <p:cNvPr id="833" name="" descr=""/>
            <p:cNvPicPr/>
            <p:nvPr/>
          </p:nvPicPr>
          <p:blipFill>
            <a:blip r:embed="rId1"/>
            <a:srcRect l="0" t="0" r="0" b="53826"/>
            <a:stretch/>
          </p:blipFill>
          <p:spPr>
            <a:xfrm>
              <a:off x="4932360" y="1197000"/>
              <a:ext cx="403848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"/>
            <p:cNvSpPr/>
            <p:nvPr/>
          </p:nvSpPr>
          <p:spPr>
            <a:xfrm>
              <a:off x="6759360" y="1197000"/>
              <a:ext cx="1311480" cy="371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K</a:t>
              </a:r>
              <a:r>
                <a:rPr b="0" lang="en-US" sz="2000" spc="-1" strike="noStrike" baseline="-25000">
                  <a:solidFill>
                    <a:srgbClr val="333399"/>
                  </a:solidFill>
                  <a:latin typeface="Comic Sans MS"/>
                </a:rPr>
                <a:t>L</a:t>
              </a:r>
              <a:r>
                <a:rPr b="0" lang="en-US" sz="2000" spc="-1" strike="noStrike">
                  <a:solidFill>
                    <a:srgbClr val="333399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333399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e</a:t>
              </a:r>
              <a:r>
                <a:rPr b="0" lang="en-US" sz="2000" spc="-1" strike="noStrike" baseline="30000">
                  <a:solidFill>
                    <a:srgbClr val="333399"/>
                  </a:solidFill>
                  <a:latin typeface="Comic Sans MS"/>
                </a:rPr>
                <a:t>+</a:t>
              </a: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e</a:t>
              </a:r>
              <a:r>
                <a:rPr b="0" lang="en-US" sz="2000" spc="-1" strike="noStrike" baseline="30000">
                  <a:solidFill>
                    <a:srgbClr val="333399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rot="21193200">
              <a:off x="7669800" y="3061800"/>
              <a:ext cx="71928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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Comic Sans MS"/>
                  <a:ea typeface="Arial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1180800">
              <a:off x="5095440" y="2914920"/>
              <a:ext cx="1152360" cy="68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99"/>
                  </a:solidFill>
                  <a:latin typeface="Comic Sans MS"/>
                </a:rPr>
                <a:t>|cos(</a:t>
              </a:r>
              <a:r>
                <a:rPr b="0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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0" lang="it-IT" sz="1800" spc="-1" strike="noStrike">
                  <a:solidFill>
                    <a:srgbClr val="333399"/>
                  </a:solidFill>
                  <a:latin typeface="Comic Sans MS"/>
                </a:rPr>
                <a:t>)|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4997520" y="3716280"/>
            <a:ext cx="4038480" cy="2718720"/>
            <a:chOff x="4997520" y="3716280"/>
            <a:chExt cx="4038480" cy="2718720"/>
          </a:xfrm>
        </p:grpSpPr>
        <p:pic>
          <p:nvPicPr>
            <p:cNvPr id="838" name="" descr=""/>
            <p:cNvPicPr/>
            <p:nvPr/>
          </p:nvPicPr>
          <p:blipFill>
            <a:blip r:embed="rId2"/>
            <a:srcRect l="0" t="49970" r="0" b="5572"/>
            <a:stretch/>
          </p:blipFill>
          <p:spPr>
            <a:xfrm>
              <a:off x="4997520" y="3716280"/>
              <a:ext cx="40384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6713280" y="4005360"/>
              <a:ext cx="1374120" cy="371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K</a:t>
              </a:r>
              <a:r>
                <a:rPr b="0" lang="en-US" sz="2000" spc="-1" strike="noStrike" baseline="-25000">
                  <a:solidFill>
                    <a:srgbClr val="333399"/>
                  </a:solidFill>
                  <a:latin typeface="Comic Sans MS"/>
                </a:rPr>
                <a:t>L</a:t>
              </a:r>
              <a:r>
                <a:rPr b="0" lang="en-US" sz="2000" spc="-1" strike="noStrike">
                  <a:solidFill>
                    <a:srgbClr val="333399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e</a:t>
              </a:r>
              <a:r>
                <a:rPr b="0" lang="en-US" sz="2000" spc="-1" strike="noStrike" baseline="30000">
                  <a:solidFill>
                    <a:srgbClr val="333399"/>
                  </a:solidFill>
                  <a:latin typeface="Comic Sans MS"/>
                </a:rPr>
                <a:t>+</a:t>
              </a: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e</a:t>
              </a:r>
              <a:r>
                <a:rPr b="0" lang="en-US" sz="2000" spc="-1" strike="noStrike" baseline="30000">
                  <a:solidFill>
                    <a:srgbClr val="333399"/>
                  </a:solidFill>
                  <a:latin typeface="Comic Sans MS"/>
                </a:rPr>
                <a:t>-</a:t>
              </a:r>
              <a:r>
                <a:rPr b="0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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21193200">
              <a:off x="7669800" y="5725800"/>
              <a:ext cx="71928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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Comic Sans MS"/>
                  <a:ea typeface="Arial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180800">
              <a:off x="5311080" y="5580360"/>
              <a:ext cx="1152720" cy="68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99"/>
                  </a:solidFill>
                  <a:latin typeface="Comic Sans MS"/>
                </a:rPr>
                <a:t>|cos(</a:t>
              </a:r>
              <a:r>
                <a:rPr b="0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</a:t>
              </a:r>
              <a:r>
                <a:rPr b="0" lang="en-US" sz="1800" spc="-1" strike="noStrike" baseline="-25000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0" lang="it-IT" sz="1800" spc="-1" strike="noStrike">
                  <a:solidFill>
                    <a:srgbClr val="333399"/>
                  </a:solidFill>
                  <a:latin typeface="Comic Sans MS"/>
                </a:rPr>
                <a:t>)|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5219640" y="3716280"/>
            <a:ext cx="863640" cy="1727280"/>
          </a:xfrm>
          <a:prstGeom prst="ellipse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995640" y="4797360"/>
            <a:ext cx="1224000" cy="719280"/>
          </a:xfrm>
          <a:prstGeom prst="line">
            <a:avLst/>
          </a:prstGeom>
          <a:ln w="1908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78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litz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1835280" y="4005360"/>
          <a:ext cx="6624360" cy="87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4005360"/>
                    <a:ext cx="662436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7" name=""/>
          <p:cNvSpPr/>
          <p:nvPr/>
        </p:nvSpPr>
        <p:spPr>
          <a:xfrm>
            <a:off x="179280" y="1197000"/>
            <a:ext cx="410544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Comic Sans MS"/>
              </a:rPr>
              <a:t>Two LD dispersive amplitude parametrization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BM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**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seudoscalar/vecto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tions: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I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*: general parametrizatio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tible with  CHP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ansion: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DIP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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D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DIP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-1+(3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.5)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it-IT" sz="2000" spc="-1" strike="noStrike" baseline="30000">
                <a:solidFill>
                  <a:srgbClr val="ff0000"/>
                </a:solidFill>
                <a:latin typeface="Comic Sans MS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521960" y="6524640"/>
            <a:ext cx="3943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*D’Ambrosio,Isidori,Portoles PLB(199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79800" y="6524640"/>
            <a:ext cx="3437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**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rgström, Massó, Singer, 19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539640" y="5172120"/>
            <a:ext cx="3961080" cy="513000"/>
            <a:chOff x="539640" y="5172120"/>
            <a:chExt cx="3961080" cy="513000"/>
          </a:xfrm>
        </p:grpSpPr>
        <p:sp>
          <p:nvSpPr>
            <p:cNvPr id="851" name=""/>
            <p:cNvSpPr/>
            <p:nvPr/>
          </p:nvSpPr>
          <p:spPr>
            <a:xfrm>
              <a:off x="539640" y="5175360"/>
              <a:ext cx="1797120" cy="50976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→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ee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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39640" y="5248440"/>
              <a:ext cx="648000" cy="287280"/>
            </a:xfrm>
            <a:prstGeom prst="rightArrow">
              <a:avLst>
                <a:gd name="adj1" fmla="val 50000"/>
                <a:gd name="adj2" fmla="val 56391"/>
              </a:avLst>
            </a:prstGeom>
            <a:gradFill rotWithShape="0">
              <a:gsLst>
                <a:gs pos="0">
                  <a:srgbClr val="007546"/>
                </a:gs>
                <a:gs pos="100000">
                  <a:srgbClr val="00ff99"/>
                </a:gs>
              </a:gsLst>
              <a:lin ang="10800000"/>
            </a:gradFill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97800" y="5172120"/>
              <a:ext cx="14029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it-IT" sz="2800" spc="-1" strike="noStrike" baseline="-25000">
                  <a:solidFill>
                    <a:srgbClr val="ff0000"/>
                  </a:solidFill>
                  <a:latin typeface="Comic Sans MS"/>
                </a:rPr>
                <a:t>K</a:t>
              </a:r>
              <a:r>
                <a:rPr b="0" lang="it-IT" sz="2800" spc="-1" strike="noStrike" baseline="30000">
                  <a:solidFill>
                    <a:srgbClr val="ff0000"/>
                  </a:solidFill>
                  <a:latin typeface="Comic Sans MS"/>
                </a:rPr>
                <a:t>*</a:t>
              </a: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, </a:t>
              </a:r>
              <a:r>
                <a:rPr b="0" lang="it-IT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it-IT" sz="2800" spc="-1" strike="noStrike" baseline="-25000">
                  <a:solidFill>
                    <a:srgbClr val="ff0000"/>
                  </a:solidFill>
                  <a:latin typeface="Comic Sans MS"/>
                </a:rPr>
                <a:t>DI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5148360" y="5156280"/>
            <a:ext cx="3285720" cy="509760"/>
            <a:chOff x="5148360" y="5156280"/>
            <a:chExt cx="3285720" cy="509760"/>
          </a:xfrm>
        </p:grpSpPr>
        <p:sp>
          <p:nvSpPr>
            <p:cNvPr id="855" name=""/>
            <p:cNvSpPr/>
            <p:nvPr/>
          </p:nvSpPr>
          <p:spPr>
            <a:xfrm>
              <a:off x="5148360" y="5156280"/>
              <a:ext cx="1797120" cy="50976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it-IT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eeee(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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948360" y="5300640"/>
              <a:ext cx="648000" cy="287280"/>
            </a:xfrm>
            <a:prstGeom prst="rightArrow">
              <a:avLst>
                <a:gd name="adj1" fmla="val 50000"/>
                <a:gd name="adj2" fmla="val 56391"/>
              </a:avLst>
            </a:prstGeom>
            <a:gradFill rotWithShape="0">
              <a:gsLst>
                <a:gs pos="0">
                  <a:srgbClr val="007546"/>
                </a:gs>
                <a:gs pos="100000">
                  <a:srgbClr val="00ff99"/>
                </a:gs>
              </a:gsLst>
              <a:lin ang="10800000"/>
            </a:gradFill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712280" y="5156280"/>
              <a:ext cx="7218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r>
                <a:rPr b="0" lang="it-IT" sz="2800" spc="-1" strike="noStrike" baseline="-25000">
                  <a:solidFill>
                    <a:srgbClr val="ff0000"/>
                  </a:solidFill>
                  <a:latin typeface="Comic Sans MS"/>
                </a:rPr>
                <a:t>DI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433800" y="5877000"/>
            <a:ext cx="83142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easures dominated by KTeV and NA48, no enough statistic for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DIP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3"/>
          <a:srcRect l="4522" t="0" r="0" b="0"/>
          <a:stretch/>
        </p:blipFill>
        <p:spPr>
          <a:xfrm>
            <a:off x="4427640" y="1341360"/>
            <a:ext cx="4321080" cy="251928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 rot="16200000">
            <a:off x="3990600" y="2007000"/>
            <a:ext cx="579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it-IT" sz="2400" spc="-1" strike="noStrike" baseline="30000">
                <a:solidFill>
                  <a:srgbClr val="ff0000"/>
                </a:solidFill>
                <a:latin typeface="Comic Sans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020000" y="2709720"/>
            <a:ext cx="288720" cy="287640"/>
          </a:xfrm>
          <a:prstGeom prst="ellipse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8101080" y="2637000"/>
            <a:ext cx="43164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084720" y="3068640"/>
            <a:ext cx="719280" cy="720720"/>
          </a:xfrm>
          <a:prstGeom prst="ellipse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020000" y="2708280"/>
            <a:ext cx="288720" cy="2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" descr=""/>
          <p:cNvPicPr/>
          <p:nvPr/>
        </p:nvPicPr>
        <p:blipFill>
          <a:blip r:embed="rId1"/>
          <a:srcRect l="7281" t="0" r="16485" b="10193"/>
          <a:stretch/>
        </p:blipFill>
        <p:spPr>
          <a:xfrm>
            <a:off x="900000" y="1341360"/>
            <a:ext cx="2808360" cy="27399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63588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rity Triangle(s): B vs K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343800" y="1521000"/>
            <a:ext cx="1370520" cy="1296360"/>
            <a:chOff x="343800" y="1521000"/>
            <a:chExt cx="1370520" cy="1296360"/>
          </a:xfrm>
        </p:grpSpPr>
        <p:sp>
          <p:nvSpPr>
            <p:cNvPr id="868" name=""/>
            <p:cNvSpPr/>
            <p:nvPr/>
          </p:nvSpPr>
          <p:spPr>
            <a:xfrm>
              <a:off x="343800" y="1521000"/>
              <a:ext cx="1137960" cy="28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99cc00"/>
                  </a:solidFill>
                  <a:latin typeface="Comic Sans MS"/>
                </a:rPr>
                <a:t>UT from 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7120" y="2529000"/>
              <a:ext cx="1357200" cy="28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Comic Sans MS"/>
                </a:rPr>
                <a:t>UT from B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4563360" y="1592280"/>
            <a:ext cx="4263840" cy="2160720"/>
            <a:chOff x="4563360" y="1592280"/>
            <a:chExt cx="4263840" cy="2160720"/>
          </a:xfrm>
        </p:grpSpPr>
        <p:pic>
          <p:nvPicPr>
            <p:cNvPr id="871" name="" descr=""/>
            <p:cNvPicPr/>
            <p:nvPr/>
          </p:nvPicPr>
          <p:blipFill>
            <a:blip r:embed="rId2"/>
            <a:srcRect l="0" t="0" r="1925" b="3204"/>
            <a:stretch/>
          </p:blipFill>
          <p:spPr>
            <a:xfrm>
              <a:off x="4930920" y="1592280"/>
              <a:ext cx="374472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4563360" y="1663560"/>
              <a:ext cx="113796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99cc00"/>
                  </a:solidFill>
                  <a:latin typeface="Comic Sans MS"/>
                </a:rPr>
                <a:t>UT from 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0560" y="2529000"/>
              <a:ext cx="118584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Comic Sans MS"/>
                </a:rPr>
                <a:t>UT from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671520" y="2924280"/>
              <a:ext cx="2155680" cy="33768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99cc00"/>
                  </a:solidFill>
                  <a:latin typeface="Comic Sans MS"/>
                </a:rPr>
                <a:t>Not yet on scale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flipV="1">
              <a:off x="7019640" y="2491920"/>
              <a:ext cx="431640" cy="36036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250920" y="4498920"/>
            <a:ext cx="7272360" cy="2072880"/>
            <a:chOff x="250920" y="4498920"/>
            <a:chExt cx="7272360" cy="2072880"/>
          </a:xfrm>
        </p:grpSpPr>
        <p:sp>
          <p:nvSpPr>
            <p:cNvPr id="877" name=""/>
            <p:cNvSpPr/>
            <p:nvPr/>
          </p:nvSpPr>
          <p:spPr>
            <a:xfrm>
              <a:off x="250920" y="4498920"/>
              <a:ext cx="7272360" cy="20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buClr>
                  <a:srgbClr val="99cc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aon UT is 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extremely squeezed due to </a:t>
              </a:r>
              <a:r>
                <a:rPr b="0" lang="it-IT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0" lang="it-IT" sz="2000" spc="-1" strike="noStrike" baseline="-25000">
                  <a:solidFill>
                    <a:srgbClr val="ff0000"/>
                  </a:solidFill>
                  <a:latin typeface="Comic Sans MS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V</a:t>
              </a:r>
              <a:r>
                <a:rPr b="0" lang="it-IT" sz="2000" spc="-1" strike="noStrike" baseline="30000">
                  <a:solidFill>
                    <a:srgbClr val="ff0000"/>
                  </a:solidFill>
                  <a:latin typeface="Comic Sans MS"/>
                </a:rPr>
                <a:t>*</a:t>
              </a:r>
              <a:r>
                <a:rPr b="0" lang="it-IT" sz="2000" spc="-1" strike="noStrike" baseline="-25000">
                  <a:solidFill>
                    <a:srgbClr val="ff0000"/>
                  </a:solidFill>
                  <a:latin typeface="Comic Sans MS"/>
                </a:rPr>
                <a:t>td</a:t>
              </a: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V</a:t>
              </a:r>
              <a:r>
                <a:rPr b="0" lang="it-IT" sz="2000" spc="-1" strike="noStrike" baseline="-25000">
                  <a:solidFill>
                    <a:srgbClr val="ff0000"/>
                  </a:solidFill>
                  <a:latin typeface="Comic Sans MS"/>
                </a:rPr>
                <a:t>ts</a:t>
              </a: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buClr>
                  <a:srgbClr val="99cc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que measure of the CP in the CKM = </a:t>
              </a: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xarea of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ll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T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J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Comic Sans MS"/>
                </a:rPr>
                <a:t>CP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= Im(V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Comic Sans MS"/>
                </a:rPr>
                <a:t>u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*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V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Comic Sans MS"/>
                </a:rPr>
                <a:t>us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V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Comic Sans MS"/>
                </a:rPr>
                <a:t>t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*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V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Comic Sans MS"/>
                </a:rPr>
                <a:t>td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) ~ V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Comic Sans MS"/>
                </a:rPr>
                <a:t>us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V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Comic Sans MS"/>
                </a:rPr>
                <a:t>ud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Im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buClr>
                  <a:srgbClr val="99cc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que CP parameter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Comic Sans MS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probed from K or B sector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ith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ifferent loops: SM test and/or NP sensi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76720" y="4930920"/>
              <a:ext cx="35856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403280" y="5651640"/>
              <a:ext cx="360360" cy="287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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16080" y="4797360"/>
                <a:ext cx="83595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ν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ν</m:t>
                        </m:r>
                      </m:e>
                    </m:acc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ρ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b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  <m:sub/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4716360" y="1916280"/>
            <a:ext cx="4103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egligible long distance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ffects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adronic matrix element via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sospin rotation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liable th. estimate from 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3080" y="5805360"/>
            <a:ext cx="42922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harm loop contribution =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6560" y="6346800"/>
            <a:ext cx="2511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*Isidori hep-ph/0307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21428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GOO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rom a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theorist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point of view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557360"/>
            <a:ext cx="3384360" cy="2448000"/>
          </a:xfrm>
          <a:prstGeom prst="triangle">
            <a:avLst>
              <a:gd name="adj" fmla="val 28819"/>
            </a:avLst>
          </a:prstGeom>
          <a:solidFill>
            <a:srgbClr val="00ff99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/>
          <p:nvPr/>
        </p:nvCxnSpPr>
        <p:spPr>
          <a:xfrm>
            <a:off x="1692360" y="1557000"/>
            <a:ext cx="3486960" cy="246276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47" name=""/>
          <p:cNvCxnSpPr>
            <a:stCxn id="145" idx="4"/>
          </p:cNvCxnSpPr>
          <p:nvPr/>
        </p:nvCxnSpPr>
        <p:spPr>
          <a:xfrm flipV="1">
            <a:off x="4068360" y="4004640"/>
            <a:ext cx="1067400" cy="147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780000" y="4078440"/>
                <a:ext cx="52524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08000" y="4008600"/>
                <a:ext cx="6001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788000" y="4005360"/>
                <a:ext cx="693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539720" y="16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7400" y="36385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8520" y="36385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27280" y="1341360"/>
            <a:ext cx="1513080" cy="398880"/>
          </a:xfrm>
          <a:prstGeom prst="rect">
            <a:avLst/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it-IT" sz="2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lang="it-IT" sz="2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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9280" y="1700280"/>
            <a:ext cx="287280" cy="720720"/>
          </a:xfrm>
          <a:prstGeom prst="down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403280" y="1125360"/>
                <a:ext cx="6364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ρ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η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7" name=""/>
          <p:cNvGrpSpPr/>
          <p:nvPr/>
        </p:nvGrpSpPr>
        <p:grpSpPr>
          <a:xfrm>
            <a:off x="6300720" y="3860640"/>
            <a:ext cx="2089080" cy="787320"/>
            <a:chOff x="6300720" y="3860640"/>
            <a:chExt cx="2089080" cy="787320"/>
          </a:xfrm>
        </p:grpSpPr>
        <p:sp>
          <p:nvSpPr>
            <p:cNvPr id="158" name=""/>
            <p:cNvSpPr/>
            <p:nvPr/>
          </p:nvSpPr>
          <p:spPr>
            <a:xfrm>
              <a:off x="6300720" y="3860640"/>
              <a:ext cx="20890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8000"/>
                  </a:solidFill>
                  <a:latin typeface="Comic Sans MS"/>
                </a:rPr>
                <a:t>Im </a:t>
              </a:r>
              <a:r>
                <a:rPr b="1" lang="it-IT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</a:t>
              </a:r>
              <a:r>
                <a:rPr b="1" lang="it-IT" sz="2000" spc="-1" strike="noStrike" baseline="-25000">
                  <a:solidFill>
                    <a:srgbClr val="008000"/>
                  </a:solidFill>
                  <a:latin typeface="Comic Sans MS"/>
                </a:rPr>
                <a:t>t</a:t>
              </a:r>
              <a:r>
                <a:rPr b="1" lang="it-IT" sz="2000" spc="-1" strike="noStrike">
                  <a:solidFill>
                    <a:srgbClr val="008000"/>
                  </a:solidFill>
                  <a:latin typeface="Comic Sans MS"/>
                </a:rPr>
                <a:t> = </a:t>
              </a:r>
              <a:r>
                <a:rPr b="0" lang="it-IT" sz="2000" spc="-1" strike="noStrike">
                  <a:solidFill>
                    <a:srgbClr val="008000"/>
                  </a:solidFill>
                  <a:latin typeface="Comic Sans MS"/>
                </a:rPr>
                <a:t>A</a:t>
              </a:r>
              <a:r>
                <a:rPr b="1" lang="it-IT" sz="2000" spc="-1" strike="noStrike" baseline="30000">
                  <a:solidFill>
                    <a:srgbClr val="008000"/>
                  </a:solidFill>
                  <a:latin typeface="Comic Sans MS"/>
                </a:rPr>
                <a:t>2</a:t>
              </a:r>
              <a:r>
                <a:rPr b="1" lang="it-IT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</a:t>
              </a:r>
              <a:r>
                <a:rPr b="1" lang="it-IT" sz="2000" spc="-1" strike="noStrike" baseline="30000">
                  <a:solidFill>
                    <a:srgbClr val="008000"/>
                  </a:solidFill>
                  <a:latin typeface="Comic Sans MS"/>
                </a:rPr>
                <a:t>3 </a:t>
              </a:r>
              <a:r>
                <a:rPr b="1" lang="it-IT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8000"/>
                  </a:solidFill>
                  <a:latin typeface="Comic Sans MS"/>
                </a:rPr>
                <a:t>Re </a:t>
              </a:r>
              <a:r>
                <a:rPr b="1" lang="it-IT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</a:t>
              </a:r>
              <a:r>
                <a:rPr b="0" lang="it-IT" sz="2000" spc="-1" strike="noStrike" baseline="-25000">
                  <a:solidFill>
                    <a:srgbClr val="008000"/>
                  </a:solidFill>
                  <a:latin typeface="Comic Sans MS"/>
                </a:rPr>
                <a:t>t</a:t>
              </a:r>
              <a:r>
                <a:rPr b="1" lang="it-IT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</a:t>
              </a:r>
              <a:r>
                <a:rPr b="1" lang="it-IT" sz="2000" spc="-1" strike="noStrike">
                  <a:solidFill>
                    <a:srgbClr val="008000"/>
                  </a:solidFill>
                  <a:latin typeface="Comic Sans MS"/>
                </a:rPr>
                <a:t>= </a:t>
              </a:r>
              <a:r>
                <a:rPr b="0" lang="it-IT" sz="2000" spc="-1" strike="noStrike">
                  <a:solidFill>
                    <a:srgbClr val="008000"/>
                  </a:solidFill>
                  <a:latin typeface="Comic Sans MS"/>
                </a:rPr>
                <a:t>A</a:t>
              </a:r>
              <a:r>
                <a:rPr b="0" lang="it-IT" sz="2000" spc="-1" strike="noStrike" baseline="30000">
                  <a:solidFill>
                    <a:srgbClr val="008000"/>
                  </a:solidFill>
                  <a:latin typeface="Comic Sans MS"/>
                </a:rPr>
                <a:t>2</a:t>
              </a:r>
              <a:r>
                <a:rPr b="1" lang="it-IT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</a:t>
              </a:r>
              <a:r>
                <a:rPr b="0" lang="it-IT" sz="2000" spc="-1" strike="noStrike" baseline="30000">
                  <a:solidFill>
                    <a:srgbClr val="008000"/>
                  </a:solidFill>
                  <a:latin typeface="Comic Sans MS"/>
                </a:rPr>
                <a:t>3  </a:t>
              </a:r>
              <a:r>
                <a:rPr b="1" lang="it-IT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27640" y="3932280"/>
              <a:ext cx="216000" cy="0"/>
            </a:xfrm>
            <a:prstGeom prst="line">
              <a:avLst/>
            </a:prstGeom>
            <a:ln w="1908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27640" y="4292640"/>
              <a:ext cx="216000" cy="0"/>
            </a:xfrm>
            <a:prstGeom prst="line">
              <a:avLst/>
            </a:prstGeom>
            <a:ln w="1908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1516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en-US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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787/E949@B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39640" y="4005360"/>
            <a:ext cx="3095640" cy="2517480"/>
            <a:chOff x="539640" y="4005360"/>
            <a:chExt cx="3095640" cy="251748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539640" y="4005360"/>
              <a:ext cx="3095640" cy="23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0400" y="4066560"/>
              <a:ext cx="103860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ＭＳ Ｐゴシック"/>
                </a:rPr>
                <a:t>end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1952280" y="4844520"/>
                  <a:ext cx="470160" cy="45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π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2154240" y="6202440"/>
                  <a:ext cx="30420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ν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3029760" y="5491440"/>
                  <a:ext cx="335160" cy="37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ν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8" name=""/>
          <p:cNvGrpSpPr/>
          <p:nvPr/>
        </p:nvGrpSpPr>
        <p:grpSpPr>
          <a:xfrm>
            <a:off x="539640" y="1268280"/>
            <a:ext cx="3672000" cy="2592000"/>
            <a:chOff x="539640" y="1268280"/>
            <a:chExt cx="3672000" cy="2592000"/>
          </a:xfrm>
        </p:grpSpPr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539640" y="1396800"/>
              <a:ext cx="3672000" cy="229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899360" y="1268280"/>
              <a:ext cx="106452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ＭＳ Ｐゴシック"/>
                </a:rPr>
                <a:t>side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2536560" y="2175120"/>
                  <a:ext cx="450000" cy="45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π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2086200" y="3538440"/>
                  <a:ext cx="290880" cy="32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ν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2729880" y="3474000"/>
                  <a:ext cx="32112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ν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603720" y="3019320"/>
                  <a:ext cx="387720" cy="32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5" name=""/>
          <p:cNvSpPr/>
          <p:nvPr/>
        </p:nvSpPr>
        <p:spPr>
          <a:xfrm>
            <a:off x="4455000" y="3303720"/>
            <a:ext cx="37360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Comic Sans MS"/>
              </a:rPr>
              <a:t>E949 wrt E787 improv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Comic Sans MS"/>
              </a:rPr>
              <a:t>Photon veto hermet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Comic Sans MS"/>
              </a:rPr>
              <a:t>Tracking &amp; energy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Comic Sans MS"/>
              </a:rPr>
              <a:t>DAQ and 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Comic Sans MS"/>
              </a:rPr>
              <a:t>Protons/sec from 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72000" y="1197000"/>
            <a:ext cx="3745080" cy="1800000"/>
            <a:chOff x="4572000" y="1197000"/>
            <a:chExt cx="3745080" cy="180000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4633560" y="1676160"/>
                  <a:ext cx="2122920" cy="130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am intensity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ty factor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mr>
                        <m:m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ratio</m:t>
                            </m:r>
                          </m:e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accumulated</m:t>
                            </m:r>
                          </m:e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6880680" y="1676160"/>
                  <a:ext cx="716400" cy="12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e>
                        </m:mr>
                        <m:mr>
                          <m:e>
                            <m:r>
                              <m:t xml:space="preserve">4</m:t>
                            </m:r>
                          </m:e>
                        </m:mr>
                        <m:m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7817760" y="1676160"/>
                  <a:ext cx="322920" cy="12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mr>
                        <m:mr>
                          <m:e>
                            <m:r>
                              <m:t xml:space="preserve">3</m:t>
                            </m:r>
                          </m:e>
                        </m:mr>
                        <m:m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6943680" y="1256400"/>
                  <a:ext cx="561600" cy="26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78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7692120" y="1256400"/>
                  <a:ext cx="561240" cy="26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949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2" name=""/>
            <p:cNvSpPr/>
            <p:nvPr/>
          </p:nvSpPr>
          <p:spPr>
            <a:xfrm>
              <a:off x="4572000" y="1616400"/>
              <a:ext cx="3745080" cy="138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1197000"/>
              <a:ext cx="374508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0560" y="1616400"/>
              <a:ext cx="0" cy="138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56840" y="1616400"/>
              <a:ext cx="0" cy="138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18760" y="1616400"/>
              <a:ext cx="0" cy="138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7630560" y="119700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756840" y="119700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818760" y="119700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503960" y="5013360"/>
            <a:ext cx="354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t optimal in 2002 ru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pill duty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ton momen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K/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electrostatic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91160" cy="7063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6600"/>
                </a:solidFill>
                <a:latin typeface="Arial"/>
              </a:rPr>
              <a:t>K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 baseline="30000">
                <a:solidFill>
                  <a:srgbClr val="cc6600"/>
                </a:solidFill>
                <a:latin typeface="Arial"/>
              </a:rPr>
              <a:t>+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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@E949: detection</a:t>
            </a:r>
            <a:r>
              <a:rPr b="0" lang="it-IT" sz="2800" spc="-1" strike="noStrike">
                <a:solidFill>
                  <a:srgbClr val="cc6600"/>
                </a:solidFill>
                <a:latin typeface="Symbol"/>
                <a:ea typeface="Symbol"/>
              </a:rPr>
              <a:t>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427640" y="1268280"/>
            <a:ext cx="4647600" cy="3508920"/>
            <a:chOff x="4427640" y="1268280"/>
            <a:chExt cx="4647600" cy="350892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4427640" y="1268280"/>
              <a:ext cx="4647600" cy="342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830200" y="4488840"/>
              <a:ext cx="3234600" cy="28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</a:t>
              </a:r>
              <a:r>
                <a:rPr b="0" lang="it-IT" sz="1600" spc="-1" strike="noStrike" baseline="30000">
                  <a:solidFill>
                    <a:srgbClr val="008000"/>
                  </a:solidFill>
                  <a:latin typeface="Comic Sans MS"/>
                </a:rPr>
                <a:t>+</a:t>
              </a:r>
              <a:r>
                <a:rPr b="0" lang="it-IT" sz="1600" spc="-1" strike="noStrike">
                  <a:solidFill>
                    <a:srgbClr val="008000"/>
                  </a:solidFill>
                  <a:latin typeface="Comic Sans MS"/>
                </a:rPr>
                <a:t> momentum in K</a:t>
              </a:r>
              <a:r>
                <a:rPr b="0" lang="it-IT" sz="1600" spc="-1" strike="noStrike" baseline="30000">
                  <a:solidFill>
                    <a:srgbClr val="008000"/>
                  </a:solidFill>
                  <a:latin typeface="Comic Sans MS"/>
                </a:rPr>
                <a:t>+</a:t>
              </a:r>
              <a:r>
                <a:rPr b="0" lang="it-IT" sz="1600" spc="-1" strike="noStrike">
                  <a:solidFill>
                    <a:srgbClr val="008000"/>
                  </a:solidFill>
                  <a:latin typeface="Comic Sans MS"/>
                </a:rPr>
                <a:t> frame (MeV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468360" y="4508640"/>
          <a:ext cx="3600360" cy="2019240"/>
        </p:xfrm>
        <a:graphic>
          <a:graphicData uri="http://schemas.openxmlformats.org/drawingml/2006/table">
            <a:tbl>
              <a:tblPr/>
              <a:tblGrid>
                <a:gridCol w="1801800"/>
                <a:gridCol w="179856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te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130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430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70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from b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0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50920" y="1405080"/>
            <a:ext cx="4033800" cy="2561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ignal: 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from 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 No kinematic closure and overwhelming b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700 MeV/c 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topped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dec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tect pion from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 deca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easure everithing you can: range, momentum , energy,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013360"/>
            <a:ext cx="42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2 weeks of data ta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ck shapes modeled on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ach bck rejected by at least 2 independent cu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23:26:03Z</dcterms:created>
  <dc:creator>patera</dc:creator>
  <dc:description/>
  <dc:language>en-US</dc:language>
  <cp:lastModifiedBy>Paolo Valente</cp:lastModifiedBy>
  <dcterms:modified xsi:type="dcterms:W3CDTF">2004-09-02T09:48:04Z</dcterms:modified>
  <cp:revision>176</cp:revision>
  <dc:subject/>
  <dc:title>Rare Kaon Decay and CP, TCP violation</dc:title>
</cp:coreProperties>
</file>