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13.wmf" ContentType="image/x-wmf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38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8C7-3C97-4978-A906-892C1B22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3C7-EA63-40E5-861B-733337CC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85E-33F8-4687-9A99-190EB92C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5C8-E93E-4061-B226-12C839F8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64A-55CB-4F61-886E-6FBE533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79C-FB29-4C9F-99FB-14969078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89A-4E61-4CA2-8BBC-9290DBB8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BF8-75FF-4025-898C-28AD735C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D7D-5F4D-4BD3-9548-932D4BFF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A43-4184-4F59-9F8A-FA8F70C9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7CA-14FF-4C1E-A851-5D3021C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655-C458-4D14-920D-EE2C951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AA4A-9CA3-471F-AA01-7F3E1D0B92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Recent results from KLOE at Da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ne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39424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Patrizia de Simone,  LNF/ INF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on behalf of the KLOE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Hadron Structure 2004, Smolenice Castle, 30 Aug. - 3 Sep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338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arch for 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049280" y="879480"/>
            <a:ext cx="5066280" cy="4761360"/>
            <a:chOff x="4049280" y="879480"/>
            <a:chExt cx="5066280" cy="4761360"/>
          </a:xfrm>
        </p:grpSpPr>
        <p:grpSp>
          <p:nvGrpSpPr>
            <p:cNvPr id="142" name=""/>
            <p:cNvGrpSpPr/>
            <p:nvPr/>
          </p:nvGrpSpPr>
          <p:grpSpPr>
            <a:xfrm>
              <a:off x="4049280" y="879480"/>
              <a:ext cx="4996080" cy="4761360"/>
              <a:chOff x="4049280" y="879480"/>
              <a:chExt cx="4996080" cy="476136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rcRect l="12438" t="38699" r="13791" b="7987"/>
              <a:stretch/>
            </p:blipFill>
            <p:spPr>
              <a:xfrm>
                <a:off x="4456080" y="879480"/>
                <a:ext cx="4589280" cy="44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356000" y="52419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68800" y="51084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049280" y="425916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49280" y="341928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49280" y="167148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8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49280" y="253044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73600" y="524196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17920" y="523224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377400" y="523224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92600" y="523224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4343400" y="879480"/>
              <a:ext cx="75240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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19680" y="4780080"/>
              <a:ext cx="69588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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061040" y="803160"/>
            <a:ext cx="188928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C 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3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320" y="882720"/>
            <a:ext cx="42670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120492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prese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120492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tagged by K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Comic Sans MS"/>
              <a:buChar char="•"/>
              <a:tabLst>
                <a:tab algn="l" pos="120492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6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clusters, no tracks from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Comic Sans MS"/>
              <a:buChar char="•"/>
              <a:tabLst>
                <a:tab algn="l" pos="120492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inematic fit to refine cluster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30322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reject background compa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ypothes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3870360"/>
            <a:ext cx="4390920" cy="18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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airing of 6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lusters with best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mass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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–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est pairing of 4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’s out of 6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masses, E(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, P(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, c.m. angle betwee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2400" y="5778360"/>
            <a:ext cx="54878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final cut on residual K</a:t>
            </a:r>
            <a:r>
              <a:rPr b="0" lang="en-US" sz="2200" spc="-1" strike="noStrike" baseline="-25000">
                <a:solidFill>
                  <a:srgbClr val="0066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 energy: </a:t>
            </a:r>
            <a:r>
              <a:rPr b="0" i="1" lang="en-US" sz="22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(K</a:t>
            </a:r>
            <a:r>
              <a:rPr b="0" lang="en-US" sz="2200" spc="-1" strike="noStrike" baseline="-25000">
                <a:solidFill>
                  <a:srgbClr val="0066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) -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</a:t>
            </a:r>
            <a:r>
              <a:rPr b="0" i="1" lang="en-US" sz="22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0" lang="en-US" sz="22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arch for 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1480" y="91440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ignal box optimized using dedicated MC sub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1371600"/>
            <a:ext cx="44928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0000"/>
                </a:solidFill>
                <a:latin typeface="Comic Sans MS"/>
              </a:rPr>
              <a:t>N</a:t>
            </a:r>
            <a:r>
              <a:rPr b="0" lang="en-US" sz="2200" spc="-1" strike="noStrike" baseline="-25000">
                <a:solidFill>
                  <a:srgbClr val="ea0000"/>
                </a:solidFill>
                <a:latin typeface="Comic Sans MS"/>
              </a:rPr>
              <a:t>observed</a:t>
            </a:r>
            <a:r>
              <a:rPr b="0" lang="en-US" sz="2200" spc="-1" strike="noStrike">
                <a:solidFill>
                  <a:srgbClr val="ea0000"/>
                </a:solidFill>
                <a:latin typeface="Comic Sans MS"/>
              </a:rPr>
              <a:t>  = 4 event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= 22.6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bck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(MC) = 3.2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1.4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0.5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44640" y="3048120"/>
            <a:ext cx="3066840" cy="1190880"/>
            <a:chOff x="4544640" y="3048120"/>
            <a:chExt cx="3066840" cy="1190880"/>
          </a:xfrm>
        </p:grpSpPr>
        <p:sp>
          <p:nvSpPr>
            <p:cNvPr id="168" name=""/>
            <p:cNvSpPr/>
            <p:nvPr/>
          </p:nvSpPr>
          <p:spPr>
            <a:xfrm>
              <a:off x="4544640" y="3763800"/>
              <a:ext cx="12214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N</a:t>
              </a:r>
              <a:r>
                <a:rPr b="0" lang="en-US" sz="2200" spc="-1" strike="noStrike" baseline="-25000">
                  <a:solidFill>
                    <a:srgbClr val="006600"/>
                  </a:solidFill>
                  <a:latin typeface="Comic Sans MS"/>
                </a:rPr>
                <a:t>2</a:t>
              </a:r>
              <a:r>
                <a:rPr b="0" lang="en-US" sz="2200" spc="-1" strike="noStrike" baseline="-25000">
                  <a:solidFill>
                    <a:srgbClr val="0066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</a:t>
              </a:r>
              <a:r>
                <a:rPr b="0" lang="en-US" sz="2200" spc="-1" strike="noStrike" baseline="-25000">
                  <a:solidFill>
                    <a:srgbClr val="006600"/>
                  </a:solidFill>
                  <a:latin typeface="Symbol"/>
                  <a:ea typeface="Symbol"/>
                </a:rPr>
                <a:t>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809880"/>
              <a:ext cx="115560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9560" y="3048120"/>
              <a:ext cx="19566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BR(K</a:t>
              </a:r>
              <a:r>
                <a:rPr b="0" lang="en-US" sz="2200" spc="-1" strike="noStrike" baseline="-25000">
                  <a:solidFill>
                    <a:srgbClr val="006600"/>
                  </a:solidFill>
                  <a:latin typeface="Comic Sans MS"/>
                </a:rPr>
                <a:t>S</a:t>
              </a: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</a:t>
              </a:r>
              <a:r>
                <a:rPr b="0" lang="en-US" sz="2200" spc="-1" strike="noStrike" baseline="30000">
                  <a:solidFill>
                    <a:srgbClr val="0066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)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611520"/>
              <a:ext cx="17964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BR(K</a:t>
              </a:r>
              <a:r>
                <a:rPr b="0" lang="en-US" sz="2200" spc="-1" strike="noStrike" baseline="-25000">
                  <a:solidFill>
                    <a:srgbClr val="006600"/>
                  </a:solidFill>
                  <a:latin typeface="Comic Sans MS"/>
                </a:rPr>
                <a:t>S</a:t>
              </a: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</a:t>
              </a:r>
              <a:r>
                <a:rPr b="0" lang="en-US" sz="2200" spc="-1" strike="noStrike" baseline="30000">
                  <a:solidFill>
                    <a:srgbClr val="0066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44640" y="3352680"/>
              <a:ext cx="12214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N</a:t>
              </a:r>
              <a:r>
                <a:rPr b="0" lang="en-US" sz="2200" spc="-1" strike="noStrike" baseline="-25000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2200" spc="-1" strike="noStrike" baseline="-25000">
                  <a:solidFill>
                    <a:srgbClr val="0066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</a:t>
              </a:r>
              <a:r>
                <a:rPr b="0" lang="en-US" sz="2200" spc="-1" strike="noStrike" baseline="-25000">
                  <a:solidFill>
                    <a:srgbClr val="006600"/>
                  </a:solidFill>
                  <a:latin typeface="Symbol"/>
                  <a:ea typeface="Symbol"/>
                </a:rPr>
                <a:t>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495680" y="2422440"/>
            <a:ext cx="4496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ormalize signal counts to K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2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count in the same data s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724280" y="4495680"/>
            <a:ext cx="4190760" cy="1507320"/>
            <a:chOff x="4724280" y="4495680"/>
            <a:chExt cx="4190760" cy="1507320"/>
          </a:xfrm>
        </p:grpSpPr>
        <p:sp>
          <p:nvSpPr>
            <p:cNvPr id="175" name=""/>
            <p:cNvSpPr/>
            <p:nvPr/>
          </p:nvSpPr>
          <p:spPr>
            <a:xfrm>
              <a:off x="5217840" y="4495680"/>
              <a:ext cx="301140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KLOE prelimina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450 pb</a:t>
              </a:r>
              <a:r>
                <a:rPr b="0" lang="en-US" sz="2200" spc="-1" strike="noStrike" baseline="30000">
                  <a:solidFill>
                    <a:srgbClr val="ff0000"/>
                  </a:solidFill>
                  <a:latin typeface="Comic Sans MS"/>
                </a:rPr>
                <a:t>-1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 ’01+’02 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24280" y="5562360"/>
              <a:ext cx="419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R(K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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)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 2.1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×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0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-7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90% 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82520" y="1371600"/>
            <a:ext cx="4275360" cy="4937400"/>
            <a:chOff x="182520" y="1371600"/>
            <a:chExt cx="4275360" cy="493740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rcRect l="18517" t="13444" r="25782" b="11290"/>
            <a:stretch/>
          </p:blipFill>
          <p:spPr>
            <a:xfrm>
              <a:off x="182520" y="1371600"/>
              <a:ext cx="426708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046680" y="1523880"/>
              <a:ext cx="122796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buClr>
                  <a:srgbClr val="ff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MC 2</a:t>
              </a:r>
              <a:r>
                <a:rPr b="0" lang="en-US" sz="2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62000" y="5729400"/>
              <a:ext cx="69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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1538280"/>
            <a:ext cx="75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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onstraints for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760" y="870120"/>
            <a:ext cx="85734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ing the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DG valu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our limit on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BR(K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3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500120"/>
          <a:ext cx="703728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00120"/>
                    <a:ext cx="7037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724280" y="2514600"/>
            <a:ext cx="3884760" cy="3654720"/>
            <a:chOff x="4724280" y="2514600"/>
            <a:chExt cx="3884760" cy="3654720"/>
          </a:xfrm>
        </p:grpSpPr>
        <p:grpSp>
          <p:nvGrpSpPr>
            <p:cNvPr id="189" name=""/>
            <p:cNvGrpSpPr/>
            <p:nvPr/>
          </p:nvGrpSpPr>
          <p:grpSpPr>
            <a:xfrm>
              <a:off x="4724280" y="2514600"/>
              <a:ext cx="3884760" cy="3654720"/>
              <a:chOff x="4724280" y="2514600"/>
              <a:chExt cx="3884760" cy="3654720"/>
            </a:xfrm>
          </p:grpSpPr>
          <p:pic>
            <p:nvPicPr>
              <p:cNvPr id="1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4280" y="2514600"/>
                <a:ext cx="3884760" cy="363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6252840" y="4437000"/>
                <a:ext cx="330840" cy="34956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94440" y="2514600"/>
                <a:ext cx="86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Im(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01040" y="5798520"/>
                <a:ext cx="8510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(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588000" y="433080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ff"/>
                  </a:solidFill>
                  <a:latin typeface="Times New Roman"/>
                </a:rPr>
                <a:t>KL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V="1">
            <a:off x="4114800" y="4876920"/>
            <a:ext cx="2057400" cy="380880"/>
          </a:xfrm>
          <a:prstGeom prst="line">
            <a:avLst/>
          </a:prstGeom>
          <a:ln w="284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58280" y="5029200"/>
            <a:ext cx="185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99"/>
                </a:solidFill>
                <a:latin typeface="Comic Sans MS"/>
              </a:rPr>
              <a:t>NA48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335268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3214800"/>
            <a:ext cx="2361960" cy="2500200"/>
          </a:xfrm>
          <a:custGeom>
            <a:avLst/>
            <a:gdLst/>
            <a:ahLst/>
            <a:rect l="l" t="t" r="r" b="b"/>
            <a:pathLst>
              <a:path w="2283" h="1912">
                <a:moveTo>
                  <a:pt x="0" y="324"/>
                </a:moveTo>
                <a:cubicBezTo>
                  <a:pt x="102" y="237"/>
                  <a:pt x="204" y="150"/>
                  <a:pt x="363" y="97"/>
                </a:cubicBezTo>
                <a:cubicBezTo>
                  <a:pt x="522" y="44"/>
                  <a:pt x="787" y="14"/>
                  <a:pt x="953" y="7"/>
                </a:cubicBezTo>
                <a:cubicBezTo>
                  <a:pt x="1119" y="0"/>
                  <a:pt x="1225" y="14"/>
                  <a:pt x="1361" y="52"/>
                </a:cubicBezTo>
                <a:cubicBezTo>
                  <a:pt x="1497" y="90"/>
                  <a:pt x="1633" y="127"/>
                  <a:pt x="1769" y="233"/>
                </a:cubicBezTo>
                <a:cubicBezTo>
                  <a:pt x="1905" y="339"/>
                  <a:pt x="2094" y="521"/>
                  <a:pt x="2177" y="687"/>
                </a:cubicBezTo>
                <a:cubicBezTo>
                  <a:pt x="2260" y="853"/>
                  <a:pt x="2283" y="1065"/>
                  <a:pt x="2268" y="1231"/>
                </a:cubicBezTo>
                <a:cubicBezTo>
                  <a:pt x="2253" y="1397"/>
                  <a:pt x="2155" y="1571"/>
                  <a:pt x="2087" y="1685"/>
                </a:cubicBezTo>
                <a:cubicBezTo>
                  <a:pt x="2019" y="1799"/>
                  <a:pt x="1898" y="1874"/>
                  <a:pt x="1860" y="1912"/>
                </a:cubicBezTo>
              </a:path>
            </a:pathLst>
          </a:custGeom>
          <a:noFill/>
          <a:ln cap="rnd" w="5724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80480" y="3048120"/>
            <a:ext cx="170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ND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4648320"/>
            <a:ext cx="2286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61560" y="4348080"/>
            <a:ext cx="19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KLO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52280" y="5821200"/>
            <a:ext cx="4724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omic Sans MS"/>
              </a:rPr>
              <a:t>|Im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|</a:t>
            </a:r>
            <a:r>
              <a:rPr b="0" lang="en-US" sz="22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000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&lt; </a:t>
            </a:r>
            <a:r>
              <a:rPr b="0" lang="en-US" sz="2200" spc="-1" strike="noStrike">
                <a:solidFill>
                  <a:srgbClr val="000066"/>
                </a:solidFill>
                <a:latin typeface="Comic Sans MS"/>
              </a:rPr>
              <a:t>6.34 </a:t>
            </a:r>
            <a:r>
              <a:rPr b="0" lang="en-US" sz="22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66"/>
                </a:solidFill>
                <a:latin typeface="Comic Sans MS"/>
              </a:rPr>
              <a:t>10</a:t>
            </a:r>
            <a:r>
              <a:rPr b="0" lang="en-US" sz="2200" spc="-1" strike="noStrike" baseline="30000">
                <a:solidFill>
                  <a:srgbClr val="000066"/>
                </a:solidFill>
                <a:latin typeface="Comic Sans MS"/>
              </a:rPr>
              <a:t>-6</a:t>
            </a:r>
            <a:r>
              <a:rPr b="0" lang="en-US" sz="2200" spc="-1" strike="noStrike">
                <a:solidFill>
                  <a:srgbClr val="000066"/>
                </a:solidFill>
                <a:latin typeface="Comic Sans MS"/>
              </a:rPr>
              <a:t>  @ 90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</a:t>
            </a:r>
            <a:r>
              <a:rPr b="0" lang="en-US" sz="2200" spc="-1" strike="noStrike">
                <a:solidFill>
                  <a:srgbClr val="000066"/>
                </a:solidFill>
                <a:latin typeface="Comic Sans MS"/>
              </a:rPr>
              <a:t> C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181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- moti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0" y="114300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charge asymmetry measu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962520"/>
            <a:ext cx="868680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A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-A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= 4Re(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)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+ 4Re(x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gnals CPT in mixing and/or decay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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PLEAR finds Re(x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~ 0.3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from ze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70360" y="2744640"/>
            <a:ext cx="7744320" cy="1202760"/>
            <a:chOff x="270360" y="2744640"/>
            <a:chExt cx="7744320" cy="1202760"/>
          </a:xfrm>
        </p:grpSpPr>
        <p:sp>
          <p:nvSpPr>
            <p:cNvPr id="210" name=""/>
            <p:cNvSpPr/>
            <p:nvPr/>
          </p:nvSpPr>
          <p:spPr>
            <a:xfrm>
              <a:off x="270360" y="3018960"/>
              <a:ext cx="77443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Comic Sans MS"/>
                </a:rPr>
                <a:t>sensitivity to CP violation in K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3333ff"/>
                  </a:solidFill>
                  <a:latin typeface="Comic Sans MS"/>
                </a:rPr>
                <a:t>-K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3333ff"/>
                  </a:solidFill>
                  <a:latin typeface="Comic Sans MS"/>
                </a:rPr>
                <a:t> mixing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66"/>
                  </a:solidFill>
                  <a:latin typeface="Comic Sans MS"/>
                </a:rPr>
                <a:t>A</a:t>
              </a:r>
              <a:r>
                <a:rPr b="0" lang="en-US" sz="2200" spc="-1" strike="noStrike" baseline="-25000">
                  <a:solidFill>
                    <a:srgbClr val="cc0066"/>
                  </a:solidFill>
                  <a:latin typeface="Comic Sans MS"/>
                </a:rPr>
                <a:t>L</a:t>
              </a:r>
              <a:r>
                <a:rPr b="0" lang="en-US" sz="2200" spc="-1" strike="noStrike">
                  <a:solidFill>
                    <a:srgbClr val="cc0066"/>
                  </a:solidFill>
                  <a:latin typeface="Comic Sans MS"/>
                </a:rPr>
                <a:t>=A</a:t>
              </a:r>
              <a:r>
                <a:rPr b="0" lang="en-US" sz="2200" spc="-1" strike="noStrike" baseline="-25000">
                  <a:solidFill>
                    <a:srgbClr val="cc0066"/>
                  </a:solidFill>
                  <a:latin typeface="Comic Sans MS"/>
                </a:rPr>
                <a:t>S</a:t>
              </a:r>
              <a:r>
                <a:rPr b="0" lang="en-US" sz="2200" spc="-1" strike="noStrike">
                  <a:solidFill>
                    <a:srgbClr val="cc0066"/>
                  </a:solidFill>
                  <a:latin typeface="Comic Sans MS"/>
                </a:rPr>
                <a:t>= 2Re(</a:t>
              </a:r>
              <a:r>
                <a:rPr b="0" lang="en-US" sz="22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</a:t>
              </a:r>
              <a:r>
                <a:rPr b="0" lang="en-US" sz="22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</a:t>
              </a:r>
              <a:r>
                <a:rPr b="0" lang="en-US" sz="2200" spc="-1" strike="noStrike">
                  <a:solidFill>
                    <a:srgbClr val="cc0066"/>
                  </a:solidFill>
                  <a:latin typeface="Comic Sans MS"/>
                </a:rPr>
                <a:t> 3</a:t>
              </a:r>
              <a:r>
                <a:rPr b="0" lang="en-US" sz="22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</a:t>
              </a:r>
              <a:r>
                <a:rPr b="0" lang="en-US" sz="2200" spc="-1" strike="noStrike">
                  <a:solidFill>
                    <a:srgbClr val="cc0066"/>
                  </a:solidFill>
                  <a:latin typeface="Comic Sans MS"/>
                </a:rPr>
                <a:t>10</a:t>
              </a:r>
              <a:r>
                <a:rPr b="0" lang="en-US" sz="2200" spc="-1" strike="noStrike" baseline="30000">
                  <a:solidFill>
                    <a:srgbClr val="cc0066"/>
                  </a:solidFill>
                  <a:latin typeface="Comic Sans MS"/>
                </a:rPr>
                <a:t>-3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 if CPT invariance holds and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S=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65560" y="2744640"/>
              <a:ext cx="18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166760" y="5105520"/>
            <a:ext cx="6573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known at 10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, while A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ever measured bef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7240" y="3057480"/>
            <a:ext cx="215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7240" y="5715000"/>
            <a:ext cx="76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xtract |V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u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from the measurement of BR(K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3280" y="1752480"/>
            <a:ext cx="8755920" cy="1161360"/>
            <a:chOff x="233280" y="1752480"/>
            <a:chExt cx="8755920" cy="1161360"/>
          </a:xfrm>
        </p:grpSpPr>
        <p:grpSp>
          <p:nvGrpSpPr>
            <p:cNvPr id="216" name=""/>
            <p:cNvGrpSpPr/>
            <p:nvPr/>
          </p:nvGrpSpPr>
          <p:grpSpPr>
            <a:xfrm>
              <a:off x="233280" y="1752480"/>
              <a:ext cx="5244840" cy="1161360"/>
              <a:chOff x="233280" y="1752480"/>
              <a:chExt cx="5244840" cy="1161360"/>
            </a:xfrm>
          </p:grpSpPr>
          <p:sp>
            <p:nvSpPr>
              <p:cNvPr id="217" name=""/>
              <p:cNvSpPr/>
              <p:nvPr/>
            </p:nvSpPr>
            <p:spPr>
              <a:xfrm>
                <a:off x="1204560" y="1752480"/>
                <a:ext cx="4235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,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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,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66400" y="2287440"/>
                <a:ext cx="431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,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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,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83960" y="2280960"/>
                <a:ext cx="414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33280" y="2037960"/>
                <a:ext cx="866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,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342760" y="2057400"/>
              <a:ext cx="3646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2Re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(ε)</a:t>
              </a:r>
              <a:r>
                <a:rPr b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Re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δ)±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Re(x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+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nalysis of 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tof" descr=""/>
          <p:cNvPicPr/>
          <p:nvPr/>
        </p:nvPicPr>
        <p:blipFill>
          <a:blip r:embed="rId2"/>
          <a:stretch/>
        </p:blipFill>
        <p:spPr>
          <a:xfrm>
            <a:off x="5992920" y="838080"/>
            <a:ext cx="3014640" cy="2995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926120" y="2982960"/>
            <a:ext cx="8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 </a:t>
            </a:r>
            <a:r>
              <a:rPr b="1" i="1" lang="it-IT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it-IT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6163200" y="1277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it-IT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914400"/>
            <a:ext cx="87631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crash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 tracks from IP with associated EmC cluster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d with M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lt; 490 Me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reject 9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/e identification using T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possible mass hypo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        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 Black"/>
              </a:rPr>
              <a:t>-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= 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            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Arial Black"/>
              </a:rPr>
              <a:t>-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 = 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        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m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Arial Black"/>
              </a:rPr>
              <a:t>+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= 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           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Arial Black"/>
              </a:rPr>
              <a:t>+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 = 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differences between expected flight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aring </a:t>
            </a:r>
            <a:r>
              <a:rPr b="1" lang="en-US" sz="1800" spc="-1" strike="noStrike">
                <a:solidFill>
                  <a:srgbClr val="d60093"/>
                </a:solidFill>
                <a:latin typeface="Tempus Sans ITC"/>
              </a:rPr>
              <a:t>D</a:t>
            </a:r>
            <a:r>
              <a:rPr b="1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d60093"/>
                </a:solidFill>
                <a:latin typeface="Tempus Sans ITC"/>
              </a:rPr>
              <a:t>t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(e,</a:t>
            </a:r>
            <a:r>
              <a:rPr b="1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6600"/>
                </a:solidFill>
                <a:latin typeface="Tempus Sans ITC"/>
              </a:rPr>
              <a:t>D</a:t>
            </a:r>
            <a:r>
              <a:rPr b="1" lang="en-US" sz="1800" spc="-1" strike="noStrike">
                <a:solidFill>
                  <a:srgbClr val="3366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336600"/>
                </a:solidFill>
                <a:latin typeface="Tempus Sans ITC"/>
              </a:rPr>
              <a:t>t </a:t>
            </a:r>
            <a:r>
              <a:rPr b="1" lang="en-US" sz="18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6600"/>
                </a:solidFill>
                <a:latin typeface="Symbol"/>
                <a:ea typeface="Symbol"/>
              </a:rPr>
              <a:t></a:t>
            </a:r>
            <a:r>
              <a:rPr b="1" lang="en-US" sz="1800" spc="-1" strike="noStrike">
                <a:solidFill>
                  <a:srgbClr val="336600"/>
                </a:solidFill>
                <a:latin typeface="Comic Sans MS"/>
              </a:rPr>
              <a:t>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e c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125"/>
              </a:spcBef>
              <a:buClr>
                <a:srgbClr val="33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dentif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nd determine the sign of the charge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A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ce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125"/>
              </a:spcBef>
              <a:buClr>
                <a:srgbClr val="33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ject the background from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3160" y="3962520"/>
            <a:ext cx="508680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empus Sans ITC"/>
              </a:rPr>
              <a:t>D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d60093"/>
                </a:solidFill>
                <a:latin typeface="Tempus Sans ITC"/>
              </a:rPr>
              <a:t>t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e,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[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C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C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] – [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–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D</a:t>
            </a:r>
            <a:r>
              <a:rPr b="1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t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,e)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[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C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C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] – [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–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5880" y="277344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(e,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16600" y="2773440"/>
            <a:ext cx="72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0" lang="en-US" sz="2200" spc="-1" strike="noStrike">
                <a:solidFill>
                  <a:srgbClr val="336600"/>
                </a:solidFill>
                <a:latin typeface="Symbol"/>
                <a:ea typeface="Symbol"/>
              </a:rPr>
              <a:t></a:t>
            </a: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455120" y="263196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961800" y="2705040"/>
            <a:ext cx="144360" cy="647640"/>
          </a:xfrm>
          <a:custGeom>
            <a:avLst/>
            <a:gdLst>
              <a:gd name="textAreaLeft" fmla="*/ 0 w 144360"/>
              <a:gd name="textAreaRight" fmla="*/ 5220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06560" y="3641760"/>
            <a:ext cx="1742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D</a:t>
            </a:r>
            <a:r>
              <a:rPr b="1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t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,e) (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966560" y="152856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empus Sans ITC"/>
              </a:rPr>
              <a:t>D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d60093"/>
                </a:solidFill>
                <a:latin typeface="Tempus Sans ITC"/>
              </a:rPr>
              <a:t>t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e,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) (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nalysis of 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809960" y="1401840"/>
            <a:ext cx="4187880" cy="4209120"/>
            <a:chOff x="4809960" y="1401840"/>
            <a:chExt cx="4187880" cy="4209120"/>
          </a:xfrm>
        </p:grpSpPr>
        <p:pic>
          <p:nvPicPr>
            <p:cNvPr id="240" name="black" descr=""/>
            <p:cNvPicPr/>
            <p:nvPr/>
          </p:nvPicPr>
          <p:blipFill>
            <a:blip r:embed="rId2"/>
            <a:stretch/>
          </p:blipFill>
          <p:spPr>
            <a:xfrm>
              <a:off x="4809960" y="1401840"/>
              <a:ext cx="397512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555600" y="5135760"/>
              <a:ext cx="2442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– cp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(MeV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5571720" y="1681200"/>
              <a:ext cx="1289880" cy="1169280"/>
              <a:chOff x="5571720" y="1681200"/>
              <a:chExt cx="1289880" cy="116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5726880" y="1681200"/>
                <a:ext cx="113472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33cc33"/>
                    </a:solidFill>
                    <a:latin typeface="Comic Sans MS"/>
                  </a:rPr>
                  <a:t>MC</a:t>
                </a:r>
                <a:r>
                  <a:rPr b="0" lang="en-US" sz="2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33cc33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>
                    <a:solidFill>
                      <a:srgbClr val="33cc33"/>
                    </a:solidFill>
                    <a:latin typeface="Comic Sans MS"/>
                  </a:rPr>
                  <a:t>e</a:t>
                </a:r>
                <a:r>
                  <a:rPr b="0" lang="en-US" sz="2200" spc="-1" strike="noStrike">
                    <a:solidFill>
                      <a:srgbClr val="33cc33"/>
                    </a:solidFill>
                    <a:latin typeface="Symbol"/>
                    <a:ea typeface="Symbol"/>
                  </a:rPr>
                  <a:t>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c0066"/>
                    </a:solidFill>
                    <a:latin typeface="Comic Sans MS"/>
                  </a:rPr>
                  <a:t>MC </a:t>
                </a:r>
                <a:r>
                  <a:rPr b="0" lang="en-US" sz="2200" spc="-1" strike="noStrike">
                    <a:solidFill>
                      <a:srgbClr val="cc0066"/>
                    </a:solidFill>
                    <a:latin typeface="Symbol"/>
                    <a:ea typeface="Symbol"/>
                  </a:rPr>
                  <a:t>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71720" y="1839960"/>
                <a:ext cx="155520" cy="155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71720" y="2246400"/>
                <a:ext cx="155520" cy="14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71720" y="2614680"/>
                <a:ext cx="155520" cy="1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459040" y="2846520"/>
              <a:ext cx="215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23328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2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72880" y="3505320"/>
            <a:ext cx="4146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Number of signal counts by fitting data to a linear combination of MC spectra for signal and background (MC includes radiative process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900000"/>
            <a:ext cx="7772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inematic enclosure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momentum 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om 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st for presence of neutri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04920" y="2286000"/>
            <a:ext cx="3782520" cy="962640"/>
            <a:chOff x="304920" y="2286000"/>
            <a:chExt cx="3782520" cy="962640"/>
          </a:xfrm>
        </p:grpSpPr>
        <p:sp>
          <p:nvSpPr>
            <p:cNvPr id="251" name=""/>
            <p:cNvSpPr/>
            <p:nvPr/>
          </p:nvSpPr>
          <p:spPr>
            <a:xfrm>
              <a:off x="304920" y="2286000"/>
              <a:ext cx="37825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r>
                <a:rPr b="1" lang="en-US" sz="2200" spc="-1" strike="noStrike" baseline="-25000">
                  <a:solidFill>
                    <a:srgbClr val="3333cc"/>
                  </a:solidFill>
                  <a:latin typeface="Comic Sans MS"/>
                </a:rPr>
                <a:t>miss</a:t>
              </a:r>
              <a:r>
                <a:rPr b="1" lang="en-US" sz="22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= </a:t>
              </a:r>
              <a:r>
                <a:rPr b="0" lang="en-US" sz="2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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M</a:t>
              </a:r>
              <a:r>
                <a:rPr b="0" lang="en-US" sz="2200" spc="-1" strike="noStrike" baseline="-25000">
                  <a:solidFill>
                    <a:srgbClr val="3333cc"/>
                  </a:solidFill>
                  <a:latin typeface="Comic Sans MS"/>
                </a:rPr>
                <a:t>K</a:t>
              </a:r>
              <a:r>
                <a:rPr b="0" lang="en-US" sz="22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 +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n-US" sz="2200" spc="-1" strike="noStrike" baseline="-25000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0" lang="en-US" sz="22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– E</a:t>
              </a:r>
              <a:r>
                <a:rPr b="1" lang="en-US" sz="22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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– E</a:t>
              </a:r>
              <a:r>
                <a:rPr b="1" lang="en-US" sz="2200" spc="-1" strike="noStrike" baseline="-25000">
                  <a:solidFill>
                    <a:srgbClr val="3333cc"/>
                  </a:solidFill>
                  <a:latin typeface="Comic Sans MS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53680" y="2347920"/>
              <a:ext cx="132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4920" y="2773440"/>
              <a:ext cx="37825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P</a:t>
              </a:r>
              <a:r>
                <a:rPr b="1" lang="en-US" sz="2200" spc="-1" strike="noStrike" baseline="-25000">
                  <a:solidFill>
                    <a:srgbClr val="3333cc"/>
                  </a:solidFill>
                  <a:latin typeface="Comic Sans MS"/>
                </a:rPr>
                <a:t>miss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 = |</a:t>
              </a:r>
              <a:r>
                <a:rPr b="1" lang="en-US" sz="2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3333cc"/>
                  </a:solidFill>
                  <a:latin typeface="Comic Sans MS"/>
                </a:rPr>
                <a:t>– P</a:t>
              </a:r>
              <a:r>
                <a:rPr b="1" lang="en-US" sz="22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</a:t>
              </a:r>
              <a:r>
                <a:rPr b="1" lang="en-US" sz="2200" spc="-1" strike="noStrike">
                  <a:solidFill>
                    <a:srgbClr val="3333cc"/>
                  </a:solidFill>
                  <a:latin typeface="Comic Sans MS"/>
                </a:rPr>
                <a:t>– P</a:t>
              </a:r>
              <a:r>
                <a:rPr b="1" lang="en-US" sz="2200" spc="-1" strike="noStrike" baseline="-25000">
                  <a:solidFill>
                    <a:srgbClr val="3333cc"/>
                  </a:solidFill>
                  <a:latin typeface="Comic Sans MS"/>
                </a:rPr>
                <a:t>e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8600" y="5576760"/>
            <a:ext cx="8534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vents with E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is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–c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is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10 MeV are mostly due to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 which a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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efore DC, or one or both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’s are badly reconstru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708440" y="914400"/>
            <a:ext cx="4067280" cy="4090320"/>
            <a:chOff x="4708440" y="914400"/>
            <a:chExt cx="4067280" cy="4090320"/>
          </a:xfrm>
        </p:grpSpPr>
        <p:pic>
          <p:nvPicPr>
            <p:cNvPr id="259" name="blue" descr=""/>
            <p:cNvPicPr/>
            <p:nvPr/>
          </p:nvPicPr>
          <p:blipFill>
            <a:blip r:embed="rId2"/>
            <a:stretch/>
          </p:blipFill>
          <p:spPr>
            <a:xfrm>
              <a:off x="4708440" y="914400"/>
              <a:ext cx="3811680" cy="37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203080" y="1054080"/>
              <a:ext cx="25812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data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r>
                <a:rPr b="0" lang="en-US" sz="22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i="1" lang="en-US" sz="2200" spc="-1" strike="noStrike" baseline="-25000">
                  <a:solidFill>
                    <a:srgbClr val="3333cc"/>
                  </a:solidFill>
                  <a:latin typeface="Comic Sans MS"/>
                </a:rPr>
                <a:t>e</a:t>
              </a:r>
              <a:r>
                <a:rPr b="0" lang="en-US" sz="22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</a:t>
              </a:r>
              <a:r>
                <a:rPr b="0" lang="en-US" sz="2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= 11805 </a:t>
              </a:r>
              <a:r>
                <a:rPr b="0" lang="en-US" sz="2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 17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7240" y="4564080"/>
              <a:ext cx="223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– c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M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04920" y="914400"/>
            <a:ext cx="4068720" cy="4088520"/>
            <a:chOff x="304920" y="914400"/>
            <a:chExt cx="4068720" cy="4088520"/>
          </a:xfrm>
        </p:grpSpPr>
        <p:pic>
          <p:nvPicPr>
            <p:cNvPr id="263" name="red" descr=""/>
            <p:cNvPicPr/>
            <p:nvPr/>
          </p:nvPicPr>
          <p:blipFill>
            <a:blip r:embed="rId3"/>
            <a:stretch/>
          </p:blipFill>
          <p:spPr>
            <a:xfrm>
              <a:off x="304920" y="914400"/>
              <a:ext cx="381924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02000" y="1054080"/>
              <a:ext cx="271548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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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2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2200" spc="-1" strike="noStrike" baseline="-25000">
                  <a:solidFill>
                    <a:srgbClr val="ff0000"/>
                  </a:solidFill>
                  <a:latin typeface="Comic Sans MS"/>
                </a:rPr>
                <a:t>e</a:t>
              </a:r>
              <a:r>
                <a:rPr b="0" lang="en-US" sz="22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= 11531</a:t>
              </a:r>
              <a:r>
                <a:rPr b="0" lang="en-US" sz="2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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18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5160" y="4562280"/>
              <a:ext cx="223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– c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M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528360" y="2927520"/>
            <a:ext cx="213480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MC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MC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MC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5133960"/>
            <a:ext cx="83818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selection efficiency (given the tag) is evaluated by charge,  using data control sample of K</a:t>
            </a:r>
            <a:r>
              <a:rPr b="1" lang="en-US" sz="16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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decaying close to IP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</a:t>
            </a:r>
            <a:r>
              <a:rPr b="1" lang="en-US" sz="1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 24.1 %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, </a:t>
            </a: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</a:t>
            </a:r>
            <a:r>
              <a:rPr b="1" lang="en-US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23.6 %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5743440"/>
            <a:ext cx="8991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normalize signal counts to K</a:t>
            </a:r>
            <a:r>
              <a:rPr b="1" lang="en-US" sz="1600" spc="-1" strike="noStrike" baseline="-25000">
                <a:solidFill>
                  <a:srgbClr val="006600"/>
                </a:solidFill>
                <a:latin typeface="Comic Sans MS"/>
              </a:rPr>
              <a:t>S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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counts in the same data set  (use PDG03 for BR(K</a:t>
            </a:r>
            <a:r>
              <a:rPr b="1" lang="en-US" sz="1600" spc="-1" strike="noStrike" baseline="-25000">
                <a:solidFill>
                  <a:srgbClr val="006600"/>
                </a:solidFill>
                <a:latin typeface="Comic Sans MS"/>
              </a:rPr>
              <a:t>S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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)),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dominated by KLOE measur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– BR’s and A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4950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52280" y="1447920"/>
            <a:ext cx="6858000" cy="1938960"/>
            <a:chOff x="152280" y="1447920"/>
            <a:chExt cx="6858000" cy="1938960"/>
          </a:xfrm>
        </p:grpSpPr>
        <p:sp>
          <p:nvSpPr>
            <p:cNvPr id="274" name=""/>
            <p:cNvSpPr/>
            <p:nvPr/>
          </p:nvSpPr>
          <p:spPr>
            <a:xfrm>
              <a:off x="533520" y="1447920"/>
              <a:ext cx="5867280" cy="19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280" y="3016080"/>
              <a:ext cx="6858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ublished result:  (6.9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0.34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omic Sans MS"/>
                </a:rPr>
                <a:t>stat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0.15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omic Sans MS"/>
                </a:rPr>
                <a:t>syst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) 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-4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, KLOE ’0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04920" y="3708360"/>
            <a:ext cx="3962160" cy="10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(-2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9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6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                         First measurement of A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4952880"/>
            <a:ext cx="8534520" cy="1466640"/>
          </a:xfrm>
          <a:prstGeom prst="rect">
            <a:avLst/>
          </a:prstGeom>
          <a:solidFill>
            <a:srgbClr val="ffffff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2 f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KLOE can measu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 competitive limit on CPT violation need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o 1.5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20 f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cfr. CPLEAR ’98   R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(3.0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 3.4 )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4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1371600"/>
            <a:ext cx="792504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BR</a:t>
            </a: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i="1" lang="it-IT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it-IT" sz="2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it-IT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i="1" lang="it-IT" sz="2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it-IT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ν</a:t>
            </a:r>
            <a:r>
              <a:rPr b="1" i="1" lang="en-US" sz="22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 = (3.54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±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0.05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Comic Sans MS"/>
              </a:rPr>
              <a:t>stat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 0.05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Comic Sans MS"/>
              </a:rPr>
              <a:t>syst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×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1" lang="it-IT" sz="2200" spc="-1" strike="noStrike" baseline="30000">
                <a:solidFill>
                  <a:srgbClr val="ff0000"/>
                </a:solidFill>
                <a:latin typeface="Comic Sans MS"/>
              </a:rPr>
              <a:t>-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BR</a:t>
            </a:r>
            <a:r>
              <a:rPr b="1" i="1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i="1" lang="it-IT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π</a:t>
            </a:r>
            <a:r>
              <a:rPr b="1" i="1" lang="it-IT" sz="26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r>
              <a:rPr b="1" i="1" lang="it-IT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i="1" lang="it-IT" sz="26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1" i="1" lang="it-IT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ν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= (3.54 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0.05</a:t>
            </a:r>
            <a:r>
              <a:rPr b="1" lang="it-IT" sz="2200" spc="-1" strike="noStrike" baseline="-25000">
                <a:solidFill>
                  <a:srgbClr val="000099"/>
                </a:solidFill>
                <a:latin typeface="Comic Sans MS"/>
              </a:rPr>
              <a:t>stat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0.04</a:t>
            </a:r>
            <a:r>
              <a:rPr b="1" lang="it-IT" sz="2200" spc="-1" strike="noStrike" baseline="-25000">
                <a:solidFill>
                  <a:srgbClr val="000099"/>
                </a:solidFill>
                <a:latin typeface="Comic Sans MS"/>
              </a:rPr>
              <a:t>syst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×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10</a:t>
            </a:r>
            <a:r>
              <a:rPr b="1" lang="it-IT" sz="2200" spc="-1" strike="noStrike" baseline="30000">
                <a:solidFill>
                  <a:srgbClr val="000099"/>
                </a:solidFill>
                <a:latin typeface="Comic Sans MS"/>
              </a:rPr>
              <a:t>-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R(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it-IT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it-IT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= (7.09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0.07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Comic Sans MS"/>
              </a:rPr>
              <a:t>sta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0.08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Comic Sans MS"/>
              </a:rPr>
              <a:t>sys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×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1" lang="it-IT" sz="22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944640"/>
            <a:ext cx="617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KLOE preliminary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450 pb</a:t>
            </a:r>
            <a:r>
              <a:rPr b="0" lang="it-IT" sz="2200" spc="-1" strike="noStrike" baseline="30000">
                <a:solidFill>
                  <a:srgbClr val="ff0000"/>
                </a:solidFill>
                <a:latin typeface="Comic Sans MS"/>
              </a:rPr>
              <a:t>-1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’01+’02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00600" y="342900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11680" y="3565440"/>
            <a:ext cx="4059360" cy="1119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Compare to results for A</a:t>
            </a:r>
            <a:r>
              <a:rPr b="0" lang="it-IT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KTeV   (3.322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±0.058±0.047)</a:t>
            </a:r>
            <a:r>
              <a:rPr b="0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99"/>
                </a:solidFill>
                <a:latin typeface="Comic Sans MS"/>
                <a:ea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NA48   (3.317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±0.070±0.072)</a:t>
            </a:r>
            <a:r>
              <a:rPr b="0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99"/>
                </a:solidFill>
                <a:latin typeface="Comic Sans MS"/>
                <a:ea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it-IT" sz="36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dec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685800"/>
            <a:ext cx="8229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precisely measure absolute branching ratios, with relative accuracy  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1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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( 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410 pb</a:t>
            </a:r>
            <a:r>
              <a:rPr b="0" lang="it-IT" sz="2000" spc="-1" strike="noStrike" baseline="30000">
                <a:solidFill>
                  <a:srgbClr val="d60093"/>
                </a:solidFill>
                <a:latin typeface="Comic Sans MS"/>
              </a:rPr>
              <a:t>-1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d60093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 13 </a:t>
            </a:r>
            <a:r>
              <a:rPr b="0" lang="it-IT" sz="2000" spc="-1" strike="noStrike">
                <a:solidFill>
                  <a:srgbClr val="d60093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 10</a:t>
            </a:r>
            <a:r>
              <a:rPr b="0" lang="it-IT" sz="2000" spc="-1" strike="noStrike" baseline="30000">
                <a:solidFill>
                  <a:srgbClr val="d60093"/>
                </a:solidFill>
                <a:latin typeface="Comic Sans MS"/>
              </a:rPr>
              <a:t>6 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tagged K</a:t>
            </a:r>
            <a:r>
              <a:rPr b="0" lang="it-IT" sz="2000" spc="-1" strike="noStrike" baseline="-25000">
                <a:solidFill>
                  <a:srgbClr val="d60093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1380960"/>
            <a:ext cx="8610840" cy="29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a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track forming a vertex inside the FV ( 35 cm &lt; r &lt; 150 cm, |z| &lt; 120 cm ,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Comic Sans MS"/>
              </a:rPr>
              <a:t>V  </a:t>
            </a:r>
            <a:r>
              <a:rPr b="0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26</a:t>
            </a:r>
            <a:r>
              <a:rPr b="0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MC studies  the best discriminant among the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harged decay modes is the smallest of the values  </a:t>
            </a:r>
            <a:r>
              <a:rPr b="0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Symbol"/>
                <a:ea typeface="Symbol"/>
              </a:rPr>
              <a:t>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 = |p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Comic Sans MS"/>
              </a:rPr>
              <a:t>miss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| – E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Comic Sans MS"/>
              </a:rPr>
              <a:t>mis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valuated assigning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g inside the FV for the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the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vertex is obtained from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A at the EMC, the accuracy is checked with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819520"/>
            <a:ext cx="380880" cy="0"/>
          </a:xfrm>
          <a:prstGeom prst="line">
            <a:avLst/>
          </a:prstGeom>
          <a:ln w="93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5611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6320" y="5029200"/>
            <a:ext cx="2100240" cy="1016280"/>
            <a:chOff x="76320" y="5029200"/>
            <a:chExt cx="2100240" cy="1016280"/>
          </a:xfrm>
        </p:grpSpPr>
        <p:sp>
          <p:nvSpPr>
            <p:cNvPr id="290" name=""/>
            <p:cNvSpPr/>
            <p:nvPr/>
          </p:nvSpPr>
          <p:spPr>
            <a:xfrm>
              <a:off x="1414080" y="5029200"/>
              <a:ext cx="68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d60093"/>
                  </a:solidFill>
                  <a:latin typeface="Comic Sans MS"/>
                </a:rPr>
                <a:t>tag</a:t>
              </a:r>
              <a:r>
                <a:rPr b="0" lang="en-US" sz="2400" spc="-1" strike="noStrike" baseline="30000">
                  <a:solidFill>
                    <a:srgbClr val="d6009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01480" y="5535360"/>
              <a:ext cx="77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d60093"/>
                  </a:solidFill>
                  <a:latin typeface="Comic Sans MS"/>
                </a:rPr>
                <a:t>tag</a:t>
              </a:r>
              <a:r>
                <a:rPr b="0" lang="en-US" sz="2400" spc="-1" strike="noStrike" baseline="30000">
                  <a:solidFill>
                    <a:srgbClr val="d60093"/>
                  </a:solidFill>
                  <a:latin typeface="Comic Sans MS"/>
                </a:rPr>
                <a:t>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320" y="53067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60093"/>
                  </a:solidFill>
                  <a:latin typeface="Comic Sans MS"/>
                </a:rPr>
                <a:t>tag bi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5535360"/>
              <a:ext cx="76212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55160" y="4221000"/>
            <a:ext cx="5254920" cy="932040"/>
            <a:chOff x="155160" y="4221000"/>
            <a:chExt cx="5254920" cy="932040"/>
          </a:xfrm>
        </p:grpSpPr>
        <p:grpSp>
          <p:nvGrpSpPr>
            <p:cNvPr id="295" name=""/>
            <p:cNvGrpSpPr/>
            <p:nvPr/>
          </p:nvGrpSpPr>
          <p:grpSpPr>
            <a:xfrm>
              <a:off x="155160" y="4221000"/>
              <a:ext cx="5254920" cy="932040"/>
              <a:chOff x="155160" y="4221000"/>
              <a:chExt cx="5254920" cy="932040"/>
            </a:xfrm>
          </p:grpSpPr>
          <p:sp>
            <p:nvSpPr>
              <p:cNvPr id="296" name=""/>
              <p:cNvSpPr/>
              <p:nvPr/>
            </p:nvSpPr>
            <p:spPr>
              <a:xfrm>
                <a:off x="1959120" y="4677840"/>
                <a:ext cx="16174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d60093"/>
                    </a:solidFill>
                    <a:latin typeface="Comic Sans MS"/>
                  </a:rPr>
                  <a:t>N</a:t>
                </a:r>
                <a:r>
                  <a:rPr b="0" lang="en-US" sz="2200" spc="-1" strike="noStrike" baseline="-25000">
                    <a:solidFill>
                      <a:srgbClr val="d60093"/>
                    </a:solidFill>
                    <a:latin typeface="Comic Sans MS"/>
                  </a:rPr>
                  <a:t>tag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</a:t>
                </a:r>
                <a:r>
                  <a:rPr b="0" lang="en-US" sz="2200" spc="-1" strike="noStrike" baseline="-25000">
                    <a:solidFill>
                      <a:srgbClr val="d60093"/>
                    </a:solidFill>
                    <a:latin typeface="Comic Sans MS"/>
                  </a:rPr>
                  <a:t>tag</a:t>
                </a:r>
                <a:r>
                  <a:rPr b="0" lang="en-US" sz="2200" spc="-1" strike="noStrike" baseline="-25000">
                    <a:solidFill>
                      <a:srgbClr val="d60093"/>
                    </a:solidFill>
                    <a:latin typeface="Symbol"/>
                    <a:ea typeface="Symbol"/>
                  </a:rPr>
                  <a:t></a:t>
                </a:r>
                <a:r>
                  <a:rPr b="0" lang="en-US" sz="2200" spc="-1" strike="noStrike" baseline="30000">
                    <a:solidFill>
                      <a:srgbClr val="d60093"/>
                    </a:solidFill>
                    <a:latin typeface="Comic Sans MS"/>
                  </a:rPr>
                  <a:t>al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1080" y="4677840"/>
                <a:ext cx="3429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5160" y="4479480"/>
                <a:ext cx="17308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d60093"/>
                    </a:solidFill>
                    <a:latin typeface="Comic Sans MS"/>
                  </a:rPr>
                  <a:t>BR(K</a:t>
                </a:r>
                <a:r>
                  <a:rPr b="0" lang="en-US" sz="2200" spc="-1" strike="noStrike" baseline="-25000">
                    <a:solidFill>
                      <a:srgbClr val="d60093"/>
                    </a:solidFill>
                    <a:latin typeface="Comic Sans MS"/>
                  </a:rPr>
                  <a:t>L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Comic Sans MS"/>
                  </a:rPr>
                  <a:t> 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Comic Sans MS"/>
                  </a:rPr>
                  <a:t> X) =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82240" y="4221000"/>
                <a:ext cx="32745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d60093"/>
                    </a:solidFill>
                    <a:latin typeface="Comic Sans MS"/>
                  </a:rPr>
                  <a:t>N</a:t>
                </a:r>
                <a:r>
                  <a:rPr b="0" lang="en-US" sz="2200" spc="-1" strike="noStrike" baseline="-25000">
                    <a:solidFill>
                      <a:srgbClr val="d60093"/>
                    </a:solidFill>
                    <a:latin typeface="Comic Sans MS"/>
                  </a:rPr>
                  <a:t>signal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</a:t>
                </a:r>
                <a:r>
                  <a:rPr b="0" lang="en-US" sz="2200" spc="-1" strike="noStrike" baseline="-25000">
                    <a:solidFill>
                      <a:srgbClr val="d60093"/>
                    </a:solidFill>
                    <a:latin typeface="Comic Sans MS"/>
                  </a:rPr>
                  <a:t>rec </a:t>
                </a:r>
                <a:r>
                  <a:rPr b="0" lang="en-US" sz="2200" spc="-1" strike="noStrike" baseline="30000">
                    <a:solidFill>
                      <a:srgbClr val="d60093"/>
                    </a:solidFill>
                    <a:latin typeface="Comic Sans MS"/>
                  </a:rPr>
                  <a:t>X 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Comic Sans MS"/>
                  </a:rPr>
                  <a:t>+ 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200" spc="-1" strike="noStrike" baseline="-25000">
                    <a:solidFill>
                      <a:srgbClr val="d60093"/>
                    </a:solidFill>
                    <a:latin typeface="Comic Sans MS"/>
                  </a:rPr>
                  <a:t>FV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Comic Sans MS"/>
                  </a:rPr>
                  <a:t> + 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200" spc="-1" strike="noStrike" baseline="-25000">
                    <a:solidFill>
                      <a:srgbClr val="d60093"/>
                    </a:solidFill>
                    <a:latin typeface="Comic Sans MS"/>
                  </a:rPr>
                  <a:t>tag</a:t>
                </a:r>
                <a:r>
                  <a:rPr b="0" lang="en-US" sz="2200" spc="-1" strike="noStrike" baseline="30000">
                    <a:solidFill>
                      <a:srgbClr val="d60093"/>
                    </a:solidFill>
                    <a:latin typeface="Comic Sans MS"/>
                  </a:rPr>
                  <a:t>X </a:t>
                </a:r>
                <a:r>
                  <a:rPr b="0" lang="en-US" sz="2200" spc="-1" strike="noStrike">
                    <a:solidFill>
                      <a:srgbClr val="d60093"/>
                    </a:solidFill>
                    <a:latin typeface="Comic Sans MS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981080" y="4724280"/>
              <a:ext cx="342900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77120" y="4419720"/>
            <a:ext cx="25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ff5050"/>
                </a:solidFill>
                <a:latin typeface="Comic Sans MS"/>
              </a:rPr>
              <a:t>l3 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 3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876920"/>
            <a:ext cx="35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ff5050"/>
                </a:solidFill>
                <a:latin typeface="Comic Sans MS"/>
              </a:rPr>
              <a:t>rec  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60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 45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100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334120"/>
            <a:ext cx="685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biases for K</a:t>
            </a:r>
            <a:r>
              <a:rPr b="0" lang="en-US" sz="1800" spc="-1" strike="noStrike" baseline="-25000">
                <a:solidFill>
                  <a:srgbClr val="ff5050"/>
                </a:solidFill>
                <a:latin typeface="Comic Sans MS"/>
              </a:rPr>
              <a:t>S 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-25000">
                <a:solidFill>
                  <a:srgbClr val="ff505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autotrigger tag   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0.985     0.99       1.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60199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5627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tag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all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20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decays - kinema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20" y="914400"/>
            <a:ext cx="899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838080"/>
            <a:ext cx="89154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harged K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decay modes selected by kinematics,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|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mis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| – E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miss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istribution very sensitive to radiation and momentum resolution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heck done with indipendent selection by P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0" y="1981080"/>
            <a:ext cx="9144000" cy="4305960"/>
            <a:chOff x="0" y="1981080"/>
            <a:chExt cx="9144000" cy="430596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228600" y="1981080"/>
              <a:ext cx="8686800" cy="38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0" y="5867280"/>
              <a:ext cx="464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60093"/>
                  </a:solidFill>
                  <a:latin typeface="Comic Sans MS"/>
                </a:rPr>
                <a:t>lesser of p</a:t>
              </a:r>
              <a:r>
                <a:rPr b="0" lang="en-US" sz="1800" spc="-1" strike="noStrike" baseline="-25000">
                  <a:solidFill>
                    <a:srgbClr val="d60093"/>
                  </a:solidFill>
                  <a:latin typeface="Comic Sans MS"/>
                </a:rPr>
                <a:t>miss</a:t>
              </a:r>
              <a:r>
                <a:rPr b="0" lang="en-US" sz="1800" spc="-1" strike="noStrike">
                  <a:solidFill>
                    <a:srgbClr val="d60093"/>
                  </a:solidFill>
                  <a:latin typeface="Comic Sans MS"/>
                </a:rPr>
                <a:t>–E</a:t>
              </a:r>
              <a:r>
                <a:rPr b="0" lang="en-US" sz="1800" spc="-1" strike="noStrike" baseline="-25000">
                  <a:solidFill>
                    <a:srgbClr val="d60093"/>
                  </a:solidFill>
                  <a:latin typeface="Comic Sans MS"/>
                </a:rPr>
                <a:t>miss </a:t>
              </a:r>
              <a:r>
                <a:rPr b="0" lang="en-US" sz="1800" spc="-1" strike="noStrike">
                  <a:solidFill>
                    <a:srgbClr val="d60093"/>
                  </a:solidFill>
                  <a:latin typeface="Comic Sans MS"/>
                </a:rPr>
                <a:t>in </a:t>
              </a:r>
              <a:r>
                <a:rPr b="0" lang="en-US" sz="18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d60093"/>
                  </a:solidFill>
                  <a:latin typeface="Comic Sans MS"/>
                </a:rPr>
                <a:t>e or e</a:t>
              </a:r>
              <a:r>
                <a:rPr b="0" lang="en-US" sz="18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d60093"/>
                  </a:solidFill>
                  <a:latin typeface="Comic Sans MS"/>
                </a:rPr>
                <a:t> hyp. (M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95680" y="5881320"/>
              <a:ext cx="464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Comic Sans MS"/>
                </a:rPr>
                <a:t>lesser of p</a:t>
              </a:r>
              <a:r>
                <a:rPr b="0" lang="en-US" sz="1800" spc="-1" strike="noStrike" baseline="-25000">
                  <a:solidFill>
                    <a:srgbClr val="00cc99"/>
                  </a:solidFill>
                  <a:latin typeface="Comic Sans MS"/>
                </a:rPr>
                <a:t>miss</a:t>
              </a:r>
              <a:r>
                <a:rPr b="0" lang="en-US" sz="1800" spc="-1" strike="noStrike">
                  <a:solidFill>
                    <a:srgbClr val="00cc99"/>
                  </a:solidFill>
                  <a:latin typeface="Comic Sans MS"/>
                </a:rPr>
                <a:t>–E</a:t>
              </a:r>
              <a:r>
                <a:rPr b="0" lang="en-US" sz="1800" spc="-1" strike="noStrike" baseline="-25000">
                  <a:solidFill>
                    <a:srgbClr val="00cc99"/>
                  </a:solidFill>
                  <a:latin typeface="Comic Sans MS"/>
                </a:rPr>
                <a:t>miss </a:t>
              </a:r>
              <a:r>
                <a:rPr b="0" lang="en-US" sz="1800" spc="-1" strike="noStrike">
                  <a:solidFill>
                    <a:srgbClr val="00cc99"/>
                  </a:solidFill>
                  <a:latin typeface="Comic Sans MS"/>
                </a:rPr>
                <a:t>in </a:t>
              </a:r>
              <a:r>
                <a:rPr b="0" lang="en-US" sz="18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</a:t>
              </a:r>
              <a:r>
                <a:rPr b="0" lang="en-US" sz="1800" spc="-1" strike="noStrike">
                  <a:solidFill>
                    <a:srgbClr val="00cc99"/>
                  </a:solidFill>
                  <a:latin typeface="Comic Sans MS"/>
                </a:rPr>
                <a:t> or </a:t>
              </a:r>
              <a:r>
                <a:rPr b="0" lang="en-US" sz="18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</a:t>
              </a:r>
              <a:r>
                <a:rPr b="0" lang="en-US" sz="1800" spc="-1" strike="noStrike">
                  <a:solidFill>
                    <a:srgbClr val="00cc99"/>
                  </a:solidFill>
                  <a:latin typeface="Comic Sans MS"/>
                </a:rPr>
                <a:t> hyp. (M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Da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ne: the frascati 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76320" y="870120"/>
            <a:ext cx="3833640" cy="5502240"/>
            <a:chOff x="76320" y="870120"/>
            <a:chExt cx="3833640" cy="5502240"/>
          </a:xfrm>
        </p:grpSpPr>
        <p:pic>
          <p:nvPicPr>
            <p:cNvPr id="47" name="dafnelay" descr=""/>
            <p:cNvPicPr/>
            <p:nvPr/>
          </p:nvPicPr>
          <p:blipFill>
            <a:blip r:embed="rId2"/>
            <a:srcRect l="0" t="8820" r="0" b="1303"/>
            <a:stretch/>
          </p:blipFill>
          <p:spPr>
            <a:xfrm>
              <a:off x="76320" y="1073160"/>
              <a:ext cx="3833640" cy="52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2280" y="870120"/>
              <a:ext cx="2286000" cy="796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Monotype Corsiva"/>
                </a:rPr>
                <a:t>L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Comic Sans MS"/>
                </a:rPr>
                <a:t>design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×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32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cm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s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67360" y="762120"/>
            <a:ext cx="4824360" cy="25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e+e- collider @ </a:t>
            </a:r>
            <a:r>
              <a:rPr b="1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= 1020 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2 IP (KLOE – DEAR/Finu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separate e+, e- rings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to minimize beam-beam inter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crossing angle: 12.5 mrad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time between collision 2.7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jection during data-t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167360" y="3486240"/>
          <a:ext cx="4824360" cy="2381040"/>
        </p:xfrm>
        <a:graphic>
          <a:graphicData uri="http://schemas.openxmlformats.org/drawingml/2006/table">
            <a:tbl>
              <a:tblPr/>
              <a:tblGrid>
                <a:gridCol w="2016000"/>
                <a:gridCol w="1297080"/>
                <a:gridCol w="1511280"/>
              </a:tblGrid>
              <a:tr h="53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KLO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bun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120+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+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tim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nch curr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un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4.4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d60093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ea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5.3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d60093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decays – preliminar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376880" y="1636560"/>
            <a:ext cx="4614840" cy="4307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419720" y="5958000"/>
            <a:ext cx="464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lesser of p</a:t>
            </a:r>
            <a:r>
              <a:rPr b="0" lang="en-US" sz="1800" spc="-1" strike="noStrike" baseline="-25000">
                <a:solidFill>
                  <a:srgbClr val="00cc99"/>
                </a:solidFill>
                <a:latin typeface="Comic Sans MS"/>
              </a:rPr>
              <a:t>miss</a:t>
            </a: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–E</a:t>
            </a:r>
            <a:r>
              <a:rPr b="0" lang="en-US" sz="1800" spc="-1" strike="noStrike" baseline="-25000">
                <a:solidFill>
                  <a:srgbClr val="00cc99"/>
                </a:solidFill>
                <a:latin typeface="Comic Sans MS"/>
              </a:rPr>
              <a:t>miss </a:t>
            </a: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in </a:t>
            </a:r>
            <a:r>
              <a:rPr b="0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</a:t>
            </a: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 or </a:t>
            </a:r>
            <a:r>
              <a:rPr b="0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</a:t>
            </a: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 hyp.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76320" y="2139840"/>
            <a:ext cx="4114800" cy="19749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76320" y="4495680"/>
            <a:ext cx="4190760" cy="1981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6320" y="1676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eliminary result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4038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eliminary systematic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76212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tain number of signal counts by fitting data to a linear combination of MC spectra for signal, each BR obtained by normalizing counts to the number of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L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cays – results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153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419720" cy="39196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lifetime from 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L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1676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4.5 Mevents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320" y="2193840"/>
            <a:ext cx="47242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hecks with data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utral vertex calibration,              resolution and photon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sing 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4160880"/>
            <a:ext cx="50292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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PDG)(fit) = (51.7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0.4) ns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Vosburg, 1972) = (51.54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0.44) 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KLOE) = (51.15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20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0.40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n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914400"/>
            <a:ext cx="8915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KL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s well known, an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26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of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L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cays in the FV, using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mic Sans MS"/>
              </a:rPr>
              <a:t>0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(tagged with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 the neutral vertex is reconstructed using TOF technique (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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1.5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5791320"/>
            <a:ext cx="861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lifetime from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X) = 1.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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51.35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05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26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n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876600">
            <a:off x="4114440" y="53337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KLOE04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Unitarity test of CKM matrix - 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6320" y="914400"/>
            <a:ext cx="8839080" cy="1297440"/>
            <a:chOff x="76320" y="914400"/>
            <a:chExt cx="8839080" cy="1297440"/>
          </a:xfrm>
        </p:grpSpPr>
        <p:sp>
          <p:nvSpPr>
            <p:cNvPr id="343" name=""/>
            <p:cNvSpPr/>
            <p:nvPr/>
          </p:nvSpPr>
          <p:spPr>
            <a:xfrm>
              <a:off x="76320" y="914400"/>
              <a:ext cx="883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presently the most precise test of unitarity comes from 1</a:t>
              </a:r>
              <a:r>
                <a:rPr b="0" lang="en-US" sz="2200" spc="-1" strike="noStrike" baseline="30000">
                  <a:solidFill>
                    <a:srgbClr val="3333cc"/>
                  </a:solidFill>
                  <a:latin typeface="Comic Sans MS"/>
                </a:rPr>
                <a:t>st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 row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19320" y="1371600"/>
              <a:ext cx="617220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d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+ 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s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+ 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b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  <a:ea typeface="Times New Roman"/>
                </a:rPr>
                <a:t>~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d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+ 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s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 </a:t>
              </a: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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1 – </a:t>
              </a: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1782720"/>
              <a:ext cx="426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= 0.0042 ± 0.0019 ( PDG02 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0" y="2209680"/>
            <a:ext cx="899172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2|V</a:t>
            </a:r>
            <a:r>
              <a:rPr b="0" lang="en-US" sz="2200" spc="-1" strike="noStrike" baseline="-25000">
                <a:solidFill>
                  <a:srgbClr val="008000"/>
                </a:solidFill>
                <a:latin typeface="Comic Sans MS"/>
              </a:rPr>
              <a:t>ud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|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V</a:t>
            </a:r>
            <a:r>
              <a:rPr b="0" lang="en-US" sz="2200" spc="-1" strike="noStrike" baseline="-25000">
                <a:solidFill>
                  <a:srgbClr val="008000"/>
                </a:solidFill>
                <a:latin typeface="Comic Sans MS"/>
              </a:rPr>
              <a:t>ud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 = 0.0015  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from super-allowed 0</a:t>
            </a:r>
            <a:r>
              <a:rPr b="0" lang="en-US" sz="1800" spc="-1" strike="noStrike" baseline="30000">
                <a:solidFill>
                  <a:srgbClr val="008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0</a:t>
            </a:r>
            <a:r>
              <a:rPr b="0" lang="en-US" sz="1800" spc="-1" strike="noStrike" baseline="30000">
                <a:solidFill>
                  <a:srgbClr val="008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Fermi transitions,n b-deca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2|V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|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= 0.0011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rom semileptonic kaon decays ( PDG02 fi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3489480"/>
            <a:ext cx="891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|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| is extracted from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l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artial decay wi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50680" y="3962520"/>
            <a:ext cx="7250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(K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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)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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|V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us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f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+</a:t>
            </a:r>
            <a:r>
              <a:rPr b="0" lang="en-US" sz="2200" spc="-1" strike="noStrike" baseline="30000">
                <a:solidFill>
                  <a:srgbClr val="d60093"/>
                </a:solidFill>
                <a:latin typeface="Comic Sans MS"/>
              </a:rPr>
              <a:t>K</a:t>
            </a:r>
            <a:r>
              <a:rPr b="0" lang="en-US" sz="22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(0) |</a:t>
            </a:r>
            <a:r>
              <a:rPr b="0" lang="en-US" sz="2200" spc="-1" strike="noStrike" baseline="30000">
                <a:solidFill>
                  <a:srgbClr val="d60093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S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ew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(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0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,0)) (1 +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 baseline="30000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em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/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449568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f</a:t>
            </a:r>
            <a:r>
              <a:rPr b="0" lang="en-US" sz="2000" spc="-1" strike="noStrike" baseline="-25000">
                <a:solidFill>
                  <a:srgbClr val="d60093"/>
                </a:solidFill>
                <a:latin typeface="Comic Sans MS"/>
              </a:rPr>
              <a:t>+</a:t>
            </a:r>
            <a:r>
              <a:rPr b="0" lang="en-US" sz="2200" spc="-1" strike="noStrike" baseline="30000">
                <a:solidFill>
                  <a:srgbClr val="d60093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(0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orm factor at 0 momentum transfer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ure theory calculation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T, latt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I(</a:t>
            </a:r>
            <a:r>
              <a:rPr b="0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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,0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hase space integral,  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ew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hort distance corrections (1.0232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d60093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lopes (momentum dependence of the vector and scalar form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d60093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Comic Sans MS"/>
              </a:rPr>
              <a:t>em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+ </a:t>
            </a:r>
            <a:r>
              <a:rPr b="0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ong distan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adiative corrections for form factor and phase spa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LOE measurements of 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f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0)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20" y="838080"/>
            <a:ext cx="7238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KMwg prescription is used to extract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200" spc="-1" strike="noStrike" baseline="30000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(0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320" y="1371600"/>
            <a:ext cx="87627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l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artial decay widths measured by KL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verage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lifetime from KLOE and Vosbur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= (51.35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0.25)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0) from Leutwyller-Roo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0.961(8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firmed by Becirevic et al. (lattice+CHPT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0.961(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uadratic parametrization for form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152280" y="3456000"/>
            <a:ext cx="4267440" cy="8110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2438280" cy="11840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rot="19641600">
            <a:off x="6782040" y="34887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Comic Sans MS"/>
              </a:rPr>
              <a:t>from KT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4387680"/>
            <a:ext cx="86868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om 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l3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|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|= 0.2248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0.0022  </a:t>
            </a: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prelimi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pare to 0.2265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0.0021 obtained from unitarity with V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u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= 0.974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0.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5410080"/>
            <a:ext cx="6553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R’s and lifetime from K</a:t>
            </a:r>
            <a:r>
              <a:rPr b="0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coming soon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measurements of the slopes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from K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l3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LOE measurements of 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f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0)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186080" y="1181160"/>
            <a:ext cx="4881600" cy="4762440"/>
            <a:chOff x="4186080" y="1181160"/>
            <a:chExt cx="4881600" cy="476244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4186080" y="1181160"/>
              <a:ext cx="488160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572000" y="33908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52280" y="1127160"/>
            <a:ext cx="3810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compare our </a:t>
            </a: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preliminary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measurement of V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us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f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+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228600" y="2008080"/>
            <a:ext cx="3429000" cy="8874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8600" y="30481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228600" y="3613320"/>
            <a:ext cx="342900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Non kaon” physics at KL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04920" y="1295280"/>
          <a:ext cx="8534160" cy="4638600"/>
        </p:xfrm>
        <a:graphic>
          <a:graphicData uri="http://schemas.openxmlformats.org/drawingml/2006/table">
            <a:tbl>
              <a:tblPr/>
              <a:tblGrid>
                <a:gridCol w="2895480"/>
                <a:gridCol w="5638680"/>
              </a:tblGrid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980)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537 21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2002) - new up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980)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536 209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2002) – new up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’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541 45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2002) – new up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61 55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pper limit BR(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591 45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2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56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litz plot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ptonic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69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 ra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8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dronic cross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per submitted to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. Let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e Wolfang Kluge ta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638680" y="4721400"/>
            <a:ext cx="3372120" cy="17571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905120" y="4632480"/>
            <a:ext cx="4638600" cy="7016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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it-IT" sz="3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(980) 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kloe_logo" descr=""/>
          <p:cNvPicPr/>
          <p:nvPr/>
        </p:nvPicPr>
        <p:blipFill>
          <a:blip r:embed="rId3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320" y="838080"/>
            <a:ext cx="891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earch for f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(980)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000" spc="-1" strike="noStrike" baseline="30000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 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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events to extract properties of the scalar iso-scalar meson f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320" y="152388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rreducible background from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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ia ISR ( radiative return to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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d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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ia FSR ( either through the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or through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tai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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320" y="3124080"/>
            <a:ext cx="8762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SR cross section peaked at small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ngle respect to the bea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searched in the region 45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&lt;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&lt; 135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SR and 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e expected to interfere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2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have the same quantum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 fit to the invariant mass M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has been done applying the 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320" y="5318280"/>
            <a:ext cx="5486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mplitude is described assuming that  the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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decays  to f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(980)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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through a charged kaon loo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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it-IT" sz="3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(980) 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5639040" cy="49528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9144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t M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spectrum with signal plus background parametr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657600" y="2655720"/>
            <a:ext cx="4991040" cy="2907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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it-IT" sz="36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(980) 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320" y="838080"/>
            <a:ext cx="891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earch for a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(980) </a:t>
            </a:r>
            <a:r>
              <a:rPr b="0" lang="en-US" sz="20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 </a:t>
            </a:r>
            <a:r>
              <a:rPr b="1" i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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final states to extract properties of the scalar iso-vector meson a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1309680"/>
            <a:ext cx="8762400" cy="1175760"/>
            <a:chOff x="76320" y="1309680"/>
            <a:chExt cx="8762400" cy="1175760"/>
          </a:xfrm>
        </p:grpSpPr>
        <p:sp>
          <p:nvSpPr>
            <p:cNvPr id="394" name=""/>
            <p:cNvSpPr/>
            <p:nvPr/>
          </p:nvSpPr>
          <p:spPr>
            <a:xfrm>
              <a:off x="76320" y="1537920"/>
              <a:ext cx="388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2 decay chains: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</a:t>
              </a: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1" lang="it-IT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r>
                <a:rPr b="1" lang="it-IT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it-IT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it-IT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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90760" y="1309680"/>
              <a:ext cx="464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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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5 clusters, 2 charged tr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90760" y="1842840"/>
              <a:ext cx="464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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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5 clusters, no charged tr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809880" y="1537560"/>
              <a:ext cx="38052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1842840"/>
              <a:ext cx="380520" cy="151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52280" y="2224080"/>
            <a:ext cx="853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2002 KLOE result (</a:t>
            </a: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Phys. Lett. B536, 209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) :   BR(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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Comic Sans MS"/>
              </a:rPr>
              <a:t>0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) = (7.4 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 0.7)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Comic Sans MS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304812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the fit obtained by convoluting the theoretical functions (fit </a:t>
            </a:r>
            <a:r>
              <a:rPr b="1" i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cc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 inv. mass distr. with charged kaon-loop model) with the estimated efficiencies and re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40384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5486400"/>
            <a:ext cx="6095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R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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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= (7.45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19)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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R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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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= (7.25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15)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876600">
            <a:off x="5409720" y="5562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KLOE04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Da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ne: integrated lumino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76320" y="776880"/>
            <a:ext cx="4715640" cy="3405960"/>
            <a:chOff x="76320" y="776880"/>
            <a:chExt cx="4715640" cy="3405960"/>
          </a:xfrm>
        </p:grpSpPr>
        <p:pic>
          <p:nvPicPr>
            <p:cNvPr id="55" name="" descr=""/>
            <p:cNvPicPr/>
            <p:nvPr/>
          </p:nvPicPr>
          <p:blipFill>
            <a:blip r:embed="rId2"/>
            <a:srcRect l="10938" t="13439" r="14065" b="12367"/>
            <a:stretch/>
          </p:blipFill>
          <p:spPr>
            <a:xfrm>
              <a:off x="409680" y="807840"/>
              <a:ext cx="4267080" cy="30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rcRect l="10938" t="13439" r="14065" b="12367"/>
            <a:stretch/>
          </p:blipFill>
          <p:spPr>
            <a:xfrm>
              <a:off x="409680" y="807840"/>
              <a:ext cx="4267080" cy="30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347120" y="104436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002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80 pb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58680" y="178596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001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70 pb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37720" y="2711520"/>
              <a:ext cx="98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Comic Sans MS"/>
                </a:rPr>
                <a:t>2000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Comic Sans MS"/>
                </a:rPr>
                <a:t>20 pb</a:t>
              </a:r>
              <a:r>
                <a:rPr b="0" lang="en-US" sz="2000" spc="-1" strike="noStrike" baseline="30000">
                  <a:solidFill>
                    <a:srgbClr val="33cc33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42760" y="3814560"/>
              <a:ext cx="190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Days of ru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-1292040" y="2145240"/>
              <a:ext cx="310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Integrated luminosity (pb</a:t>
              </a:r>
              <a:r>
                <a:rPr b="0" lang="en-US" sz="1800" spc="-1" strike="noStrike" baseline="30000">
                  <a:solidFill>
                    <a:srgbClr val="01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0600" y="876240"/>
              <a:ext cx="2151360" cy="67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LOE 2001-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.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×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c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91120"/>
            <a:ext cx="396216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  <a:ea typeface="Arial"/>
              </a:rPr>
              <a:t>machine upgrades fo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Monotype Corsiva"/>
              </a:rPr>
              <a:t>L</a:t>
            </a:r>
            <a:r>
              <a:rPr b="1" lang="it-IT" sz="2000" spc="-1" strike="noStrike" baseline="-25000">
                <a:solidFill>
                  <a:srgbClr val="0066ff"/>
                </a:solidFill>
                <a:latin typeface="Comic Sans MS"/>
              </a:rPr>
              <a:t>avg</a:t>
            </a:r>
            <a:r>
              <a:rPr b="0" lang="it-IT" sz="2000" spc="-1" strike="noStrike">
                <a:solidFill>
                  <a:srgbClr val="0066ff"/>
                </a:solidFill>
                <a:latin typeface="Comic Sans MS"/>
              </a:rPr>
              <a:t>  up to  10</a:t>
            </a:r>
            <a:r>
              <a:rPr b="0" lang="it-IT" sz="2000" spc="-1" strike="noStrike" baseline="30000">
                <a:solidFill>
                  <a:srgbClr val="0066ff"/>
                </a:solidFill>
                <a:latin typeface="Comic Sans MS"/>
              </a:rPr>
              <a:t>32</a:t>
            </a:r>
            <a:r>
              <a:rPr b="0" lang="it-IT" sz="20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  <a:ea typeface="Arial"/>
              </a:rPr>
              <a:t>cm</a:t>
            </a:r>
            <a:r>
              <a:rPr b="0" lang="en-US" sz="2000" spc="-1" strike="noStrike" baseline="30000">
                <a:solidFill>
                  <a:srgbClr val="0066ff"/>
                </a:solidFill>
                <a:latin typeface="Comic Sans MS"/>
                <a:ea typeface="Arial"/>
              </a:rPr>
              <a:t>-2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  <a:ea typeface="Arial"/>
              </a:rPr>
              <a:t>s</a:t>
            </a:r>
            <a:r>
              <a:rPr b="0" lang="en-US" sz="2000" spc="-1" strike="noStrike" baseline="30000">
                <a:solidFill>
                  <a:srgbClr val="0066ff"/>
                </a:solidFill>
                <a:latin typeface="Comic Sans MS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  <a:ea typeface="Arial"/>
              </a:rPr>
              <a:t>Lifetime &gt; 1 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  <a:ea typeface="Arial"/>
              </a:rPr>
              <a:t>10 pb</a:t>
            </a:r>
            <a:r>
              <a:rPr b="0" lang="en-US" sz="2000" spc="-1" strike="noStrike" baseline="30000">
                <a:solidFill>
                  <a:srgbClr val="0066ff"/>
                </a:solidFill>
                <a:latin typeface="Comic Sans MS"/>
                <a:ea typeface="Arial"/>
              </a:rPr>
              <a:t>-1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  <a:ea typeface="Arial"/>
              </a:rPr>
              <a:t>/day </a:t>
            </a:r>
            <a:r>
              <a:rPr b="0" lang="en-US" sz="2000" spc="-1" strike="noStrike" baseline="30000">
                <a:solidFill>
                  <a:srgbClr val="0066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  <a:ea typeface="Arial"/>
              </a:rPr>
              <a:t>  </a:t>
            </a:r>
            <a:r>
              <a:rPr b="0" lang="it-IT" sz="2000" spc="-1" strike="noStrike">
                <a:solidFill>
                  <a:srgbClr val="0066ff"/>
                </a:solidFill>
                <a:latin typeface="Comic Sans MS"/>
              </a:rPr>
              <a:t>2 fb</a:t>
            </a:r>
            <a:r>
              <a:rPr b="0" lang="it-IT" sz="2000" spc="-1" strike="noStrike" baseline="30000">
                <a:solidFill>
                  <a:srgbClr val="0066ff"/>
                </a:solidFill>
                <a:latin typeface="Comic Sans MS"/>
              </a:rPr>
              <a:t>-1</a:t>
            </a:r>
            <a:r>
              <a:rPr b="0" lang="it-IT" sz="2000" spc="-1" strike="noStrike">
                <a:solidFill>
                  <a:srgbClr val="0066ff"/>
                </a:solidFill>
                <a:latin typeface="Comic Sans MS"/>
              </a:rPr>
              <a:t>/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91120"/>
            <a:ext cx="4648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ta taking restarted 27 Ap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4 best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pea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8.7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×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2004 avg  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~ 6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×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5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/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648320" y="1371600"/>
            <a:ext cx="4495680" cy="950400"/>
            <a:chOff x="4648320" y="1371600"/>
            <a:chExt cx="4495680" cy="950400"/>
          </a:xfrm>
        </p:grpSpPr>
        <p:sp>
          <p:nvSpPr>
            <p:cNvPr id="67" name=""/>
            <p:cNvSpPr/>
            <p:nvPr/>
          </p:nvSpPr>
          <p:spPr>
            <a:xfrm>
              <a:off x="4648320" y="1666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GB" sz="1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lang="en-GB" sz="16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r>
                <a:rPr b="0" lang="en-GB" sz="16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</a:t>
              </a:r>
              <a:r>
                <a:rPr b="0" lang="en-GB" sz="16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r>
                <a:rPr b="0" lang="en-GB" sz="16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</a:t>
              </a:r>
              <a:r>
                <a:rPr b="1" lang="en-GB" sz="16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GB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</a:t>
              </a:r>
              <a:r>
                <a:rPr b="1" lang="en-GB" sz="1600" spc="-1" strike="noStrike">
                  <a:solidFill>
                    <a:srgbClr val="3333cc"/>
                  </a:solidFill>
                  <a:latin typeface="Times New Roman"/>
                </a:rPr>
                <a:t> 3</a:t>
              </a:r>
              <a:r>
                <a:rPr b="1" lang="en-GB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lang="en-GB" sz="16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800" y="1447920"/>
              <a:ext cx="252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1.5x10</a:t>
              </a:r>
              <a:r>
                <a:rPr b="0" lang="it-IT" sz="1800" spc="-1" strike="noStrike" baseline="30000">
                  <a:solidFill>
                    <a:srgbClr val="3333cc"/>
                  </a:solidFill>
                  <a:latin typeface="Comic Sans MS"/>
                </a:rPr>
                <a:t>6</a:t>
              </a: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K</a:t>
              </a:r>
              <a:r>
                <a:rPr b="0" lang="en-GB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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K</a:t>
              </a:r>
              <a:r>
                <a:rPr b="0" lang="en-GB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 baseline="30000">
                  <a:solidFill>
                    <a:srgbClr val="3333cc"/>
                  </a:solidFill>
                  <a:latin typeface="Comic Sans MS"/>
                </a:rPr>
                <a:t>  </a:t>
              </a: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per pb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-1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59520" y="1916280"/>
              <a:ext cx="218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10</a:t>
              </a:r>
              <a:r>
                <a:rPr b="0" lang="en-GB" sz="1800" spc="-1" strike="noStrike" baseline="30000">
                  <a:solidFill>
                    <a:srgbClr val="3333cc"/>
                  </a:solidFill>
                  <a:latin typeface="Comic Sans MS"/>
                </a:rPr>
                <a:t>6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 K</a:t>
              </a:r>
              <a:r>
                <a:rPr b="0" lang="en-GB" sz="1800" spc="-1" strike="noStrike" baseline="-25000">
                  <a:solidFill>
                    <a:srgbClr val="3333cc"/>
                  </a:solidFill>
                  <a:latin typeface="Comic Sans MS"/>
                </a:rPr>
                <a:t>L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K</a:t>
              </a:r>
              <a:r>
                <a:rPr b="0" lang="en-GB" sz="1800" spc="-1" strike="noStrike" baseline="-25000">
                  <a:solidFill>
                    <a:srgbClr val="3333cc"/>
                  </a:solidFill>
                  <a:latin typeface="Comic Sans MS"/>
                </a:rPr>
                <a:t>S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 per pb</a:t>
              </a:r>
              <a:r>
                <a:rPr b="0" lang="en-GB" sz="1800" spc="-1" strike="noStrike" baseline="30000">
                  <a:solidFill>
                    <a:srgbClr val="3333cc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1371600"/>
              <a:ext cx="304920" cy="9032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3400 h 903240"/>
                <a:gd name="textAreaBottom" fmla="*/ 879840 h 90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400"/>
                  </a:lnTo>
                  <a:cubicBezTo>
                    <a:pt x="10800" y="9300"/>
                    <a:pt x="5400" y="10200"/>
                    <a:pt x="0" y="10200"/>
                  </a:cubicBezTo>
                  <a:cubicBezTo>
                    <a:pt x="5400" y="10200"/>
                    <a:pt x="10800" y="11100"/>
                    <a:pt x="10800" y="120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724280" y="2743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450 p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background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066680" y="6415200"/>
            <a:ext cx="73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320" y="822240"/>
            <a:ext cx="8915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s a </a:t>
            </a:r>
            <a:r>
              <a:rPr b="0" i="1" lang="en-US" sz="2000" spc="-1" strike="noStrike">
                <a:solidFill>
                  <a:srgbClr val="006600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6600"/>
                </a:solidFill>
                <a:latin typeface="Comic Sans MS"/>
              </a:rPr>
              <a:t>CP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violating decay, from theory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BR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006600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– 10</a:t>
            </a:r>
            <a:r>
              <a:rPr b="0" lang="en-US" sz="2000" spc="-1" strike="noStrike" baseline="30000">
                <a:solidFill>
                  <a:srgbClr val="006600"/>
                </a:solidFill>
                <a:latin typeface="Comic Sans MS"/>
              </a:rPr>
              <a:t>-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etection of this decay at accessible level should be a signal of</a:t>
            </a:r>
            <a:r>
              <a:rPr b="0" i="1" lang="en-US" sz="2000" spc="-1" strike="noStrike">
                <a:solidFill>
                  <a:srgbClr val="006600"/>
                </a:solidFill>
                <a:latin typeface="Comic Sans MS"/>
              </a:rPr>
              <a:t> P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6600"/>
                </a:solidFill>
                <a:latin typeface="Comic Sans MS"/>
              </a:rPr>
              <a:t>CP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violation in strong and/or em interaction not explained by 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776840" y="1947960"/>
            <a:ext cx="4290840" cy="3309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76320" y="1981080"/>
            <a:ext cx="48765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yproduct of 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nalysis: fit M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pectrum with the curve used in 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nalysis + signal 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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from MC – gaussian with M=547.3 MeV and T=1.33 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32004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no signal is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33920" y="3429000"/>
            <a:ext cx="3047760" cy="228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3505320"/>
            <a:ext cx="3657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he fit gives  N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signal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= -8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2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signal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&lt; 32 @ 90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4510080"/>
            <a:ext cx="35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R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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= 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ignal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/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ig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470560"/>
            <a:ext cx="815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KLOE04 (preliminary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R(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</a:t>
            </a:r>
            <a:r>
              <a:rPr b="0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&lt; 1.3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@ 90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DG(2002)                      BR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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&lt; 3.3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@ 9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890960"/>
            <a:ext cx="54864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ign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= 16.6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from MC, and 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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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3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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.43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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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66680" y="6415200"/>
            <a:ext cx="73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320" y="7621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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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ecay is a sensitive test of </a:t>
            </a:r>
            <a:r>
              <a:rPr b="0" i="1" lang="en-US" sz="2000" spc="-1" strike="noStrike">
                <a:solidFill>
                  <a:srgbClr val="006600"/>
                </a:solidFill>
                <a:latin typeface="Comic Sans MS"/>
              </a:rPr>
              <a:t>C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violation in the strong and em interactions (PDG02 BR &lt; 5x10</a:t>
            </a:r>
            <a:r>
              <a:rPr b="0" lang="en-US" sz="2000" spc="-1" strike="noStrike" baseline="30000">
                <a:solidFill>
                  <a:srgbClr val="006600"/>
                </a:solidFill>
                <a:latin typeface="Comic Sans MS"/>
              </a:rPr>
              <a:t>-4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@ 95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C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1523880"/>
            <a:ext cx="73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signal topology 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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E</a:t>
            </a:r>
            <a:r>
              <a:rPr b="0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rad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=363 MeV)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4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final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5097600" y="1905120"/>
            <a:ext cx="3970080" cy="4419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76320" y="204156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l background sources contain at least 1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to reject cut on 2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variant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320" y="2879640"/>
            <a:ext cx="5105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ok for signal peaks in the distribution of E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max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 background estimated from data by fitting the side bands region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2280" y="4105440"/>
            <a:ext cx="48006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ignal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&lt; 80.8 @ 95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nd normalizing to the sample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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R(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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&lt; 2.0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@ 95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KLOE04 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Phys. Lett. B591, 49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05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– </a:t>
            </a:r>
            <a:r>
              <a:rPr b="1" i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i="1" lang="en-US" sz="3600" spc="-1" strike="noStrike">
                <a:solidFill>
                  <a:srgbClr val="3333cc"/>
                </a:solidFill>
                <a:latin typeface="Comic Sans MS"/>
              </a:rPr>
              <a:t>’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ix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66680" y="6415200"/>
            <a:ext cx="73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320" y="68580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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-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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’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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system studied measuring the ratio R = BR(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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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’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)/BR(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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R can be related to the pseudoscalar mixing angle in the flavor basis and to the 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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gluonic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52280" y="2116080"/>
            <a:ext cx="8382240" cy="828360"/>
            <a:chOff x="152280" y="2116080"/>
            <a:chExt cx="8382240" cy="828360"/>
          </a:xfrm>
        </p:grpSpPr>
        <p:sp>
          <p:nvSpPr>
            <p:cNvPr id="430" name=""/>
            <p:cNvSpPr/>
            <p:nvPr/>
          </p:nvSpPr>
          <p:spPr>
            <a:xfrm>
              <a:off x="152280" y="230184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Comic Sans MS"/>
                </a:rPr>
                <a:t>signal topology  </a:t>
              </a:r>
              <a:r>
                <a:rPr b="0" lang="en-US" sz="1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86000" y="2116080"/>
              <a:ext cx="40384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buClr>
                  <a:srgbClr val="3333cc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Comic Sans MS"/>
                </a:rPr>
                <a:t>’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,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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Comic Sans MS"/>
                </a:rPr>
                <a:t>’ 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+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-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, 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buClr>
                  <a:srgbClr val="3333cc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Comic Sans MS"/>
                </a:rPr>
                <a:t>’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,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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Comic Sans MS"/>
                </a:rPr>
                <a:t>’ 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, 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+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-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172200" y="231624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</a:t>
              </a:r>
              <a:r>
                <a:rPr b="0" lang="en-US" sz="1800" spc="-1" strike="noStrike" baseline="30000">
                  <a:solidFill>
                    <a:srgbClr val="cc0000"/>
                  </a:solidFill>
                  <a:latin typeface="Comic Sans MS"/>
                </a:rPr>
                <a:t>+</a:t>
              </a:r>
              <a:r>
                <a:rPr b="1" lang="en-US" sz="1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cc0000"/>
                  </a:solidFill>
                  <a:latin typeface="Comic Sans MS"/>
                </a:rPr>
                <a:t>-</a:t>
              </a:r>
              <a:r>
                <a:rPr b="0" lang="en-US" sz="1800" spc="-1" strike="noStrike">
                  <a:solidFill>
                    <a:srgbClr val="cc0000"/>
                  </a:solidFill>
                  <a:latin typeface="Comic Sans MS"/>
                </a:rPr>
                <a:t>7</a:t>
              </a:r>
              <a:r>
                <a:rPr b="1" lang="en-US" sz="1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>
                  <a:solidFill>
                    <a:srgbClr val="cc0000"/>
                  </a:solidFill>
                  <a:latin typeface="Comic Sans MS"/>
                </a:rPr>
                <a:t> final sta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352680" cy="26161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4952880" y="2865600"/>
            <a:ext cx="2791080" cy="26208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76320" y="167652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2002 KLOE result (</a:t>
            </a: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Phys. Lett. B541, 45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) :  R = (4.7 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 0.5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Comic Sans MS"/>
              </a:rPr>
              <a:t>stat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 0.3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Comic Sans MS"/>
              </a:rPr>
              <a:t>syst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073480"/>
            <a:ext cx="8384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34320" y="5073480"/>
            <a:ext cx="838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6144800">
            <a:off x="-1126080" y="3867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ormalization sample 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</a:t>
            </a:r>
            <a:r>
              <a:rPr b="1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5622840"/>
            <a:ext cx="7010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R = BR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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’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/BR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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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= (4.9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1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2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876600">
            <a:off x="5409720" y="5334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KLOE04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60339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systematic error is dominated by the knowledge of the intermediate BR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LOE physics at Da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ne -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066680" y="6415200"/>
            <a:ext cx="73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990720"/>
            <a:ext cx="8462880" cy="55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KLOE is analyzing a unique data sample: 450 pb</a:t>
            </a:r>
            <a:r>
              <a:rPr b="0" lang="it-IT" sz="2000" spc="-1" strike="noStrike" baseline="30000">
                <a:solidFill>
                  <a:srgbClr val="cc0000"/>
                </a:solidFill>
                <a:latin typeface="Comic Sans MS"/>
              </a:rPr>
              <a:t>-1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 of</a:t>
            </a:r>
            <a:r>
              <a:rPr b="1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lowest limit on BR(K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</a:t>
            </a:r>
            <a:r>
              <a:rPr b="0" lang="it-IT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first measurement of the</a:t>
            </a: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semileptonic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preliminary measurements of K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branching ratios and life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Vus from K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, K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semileptonic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measurements of K</a:t>
            </a:r>
            <a:r>
              <a:rPr b="0" lang="it-IT" sz="2000" spc="-1" strike="noStrike" baseline="30000">
                <a:solidFill>
                  <a:srgbClr val="00cc99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 branching ratios and lifetime</a:t>
            </a:r>
            <a:r>
              <a:rPr b="0" i="1" lang="it-IT" sz="2000" spc="-1" strike="noStrike" baseline="-25000">
                <a:solidFill>
                  <a:srgbClr val="00cc99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forthc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measurements of the slopes </a:t>
            </a:r>
            <a:r>
              <a:rPr b="0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from K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Comic Sans MS"/>
              </a:rPr>
              <a:t>l3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decays forthc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, a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decays and </a:t>
            </a:r>
            <a:r>
              <a:rPr b="1" i="1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i="1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’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dec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KLOE expects to collect 2 fb</a:t>
            </a:r>
            <a:r>
              <a:rPr b="0" lang="it-IT" sz="2000" spc="-1" strike="noStrike" baseline="30000">
                <a:solidFill>
                  <a:srgbClr val="cc0000"/>
                </a:solidFill>
                <a:latin typeface="Comic Sans MS"/>
              </a:rPr>
              <a:t>-1 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in 2004-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will begin to exploit KLOE’s capability for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CP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/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CPT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measurements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limit on K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3</a:t>
            </a:r>
            <a:r>
              <a:rPr b="0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cc99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at the 10</a:t>
            </a:r>
            <a:r>
              <a:rPr b="0" lang="en-US" sz="2000" spc="-1" strike="noStrike" baseline="30000">
                <a:solidFill>
                  <a:srgbClr val="00cc99"/>
                </a:solidFill>
                <a:latin typeface="Comic Sans MS"/>
              </a:rPr>
              <a:t>-8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00cc99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 semileptonic asymmetry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to 4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× 10</a:t>
            </a:r>
            <a:r>
              <a:rPr b="0" lang="en-US" sz="2000" spc="-1" strike="noStrike" baseline="30000">
                <a:solidFill>
                  <a:srgbClr val="00cc99"/>
                </a:solidFill>
                <a:latin typeface="Comic Sans MS"/>
                <a:ea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first studies of K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system with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05120" y="26668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pare sl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066680" y="6415200"/>
            <a:ext cx="73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6096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it-IT" sz="36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decays – 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it-IT" sz="3600" spc="-1" strike="noStrike" baseline="-25000">
                <a:solidFill>
                  <a:srgbClr val="3333cc"/>
                </a:solidFill>
                <a:latin typeface="Comic Sans MS"/>
              </a:rPr>
              <a:t>rec 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and tag 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280" y="990720"/>
            <a:ext cx="85345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onstruction efficiency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rec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ounting the number of evts with at least 1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ecay track and the number of evts in which there are 2 opposite sign decay trac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difference between data and MC for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rec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s used to determine the correction to apply to the MC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r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304812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main source of tag bias 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9933"/>
                </a:solidFill>
                <a:latin typeface="Comic Sans MS"/>
              </a:rPr>
              <a:t>trigger 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on the K</a:t>
            </a:r>
            <a:r>
              <a:rPr b="0" lang="en-US" sz="2000" spc="-1" strike="noStrike" baseline="-25000">
                <a:solidFill>
                  <a:srgbClr val="339933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3487680"/>
            <a:ext cx="8763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Comic Sans MS"/>
              </a:rPr>
              <a:t>L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       3</a:t>
            </a:r>
            <a:r>
              <a:rPr b="0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9933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   charged decays        EmC crash         punch-thro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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Comic Sans MS"/>
              </a:rPr>
              <a:t>trigger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   100</a:t>
            </a:r>
            <a:r>
              <a:rPr b="0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            95</a:t>
            </a:r>
            <a:r>
              <a:rPr b="0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                85</a:t>
            </a:r>
            <a:r>
              <a:rPr b="0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                65 </a:t>
            </a:r>
            <a:r>
              <a:rPr b="0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657600"/>
            <a:ext cx="53352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426708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tag with  K</a:t>
            </a:r>
            <a:r>
              <a:rPr b="0" lang="en-US" sz="2000" spc="-1" strike="noStrike" baseline="-25000">
                <a:solidFill>
                  <a:srgbClr val="339933"/>
                </a:solidFill>
                <a:latin typeface="Comic Sans MS"/>
              </a:rPr>
              <a:t>S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 baseline="-25000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9933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9933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autotrigger events,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9933"/>
                </a:solidFill>
                <a:latin typeface="Comic Sans MS"/>
              </a:rPr>
              <a:t>tag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20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4937040"/>
            <a:ext cx="91440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another source of tag bias is the dependence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9933"/>
                </a:solidFill>
                <a:latin typeface="Comic Sans MS"/>
              </a:rPr>
              <a:t>trk 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(K</a:t>
            </a:r>
            <a:r>
              <a:rPr b="0" lang="en-US" sz="2000" spc="-1" strike="noStrike" baseline="-25000">
                <a:solidFill>
                  <a:srgbClr val="339933"/>
                </a:solidFill>
                <a:latin typeface="Comic Sans MS"/>
              </a:rPr>
              <a:t>S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9933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9933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) on others tracks in the DC 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difference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9933"/>
                </a:solidFill>
                <a:latin typeface="Comic Sans MS"/>
              </a:rPr>
              <a:t>tag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among charged and neutral K</a:t>
            </a:r>
            <a:r>
              <a:rPr b="0" lang="en-US" sz="2000" spc="-1" strike="noStrike" baseline="-25000">
                <a:solidFill>
                  <a:srgbClr val="339933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tag bias evaluated with MC 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typical correction  0.5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0.1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enerators for radiative K dec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724280" y="1508040"/>
            <a:ext cx="4419720" cy="4283280"/>
            <a:chOff x="4724280" y="1508040"/>
            <a:chExt cx="4419720" cy="4283280"/>
          </a:xfrm>
        </p:grpSpPr>
        <p:pic>
          <p:nvPicPr>
            <p:cNvPr id="462" name="" descr=""/>
            <p:cNvPicPr/>
            <p:nvPr/>
          </p:nvPicPr>
          <p:blipFill>
            <a:blip r:embed="rId2"/>
            <a:srcRect l="0" t="31447" r="0" b="0"/>
            <a:stretch/>
          </p:blipFill>
          <p:spPr>
            <a:xfrm>
              <a:off x="4724280" y="1508040"/>
              <a:ext cx="4419720" cy="42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7933680" y="368784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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6311880" y="2616120"/>
                  <a:ext cx="25272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Γ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E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465" name=""/>
            <p:cNvGrpSpPr/>
            <p:nvPr/>
          </p:nvGrpSpPr>
          <p:grpSpPr>
            <a:xfrm>
              <a:off x="5715000" y="1904760"/>
              <a:ext cx="1676160" cy="533520"/>
              <a:chOff x="5715000" y="1904760"/>
              <a:chExt cx="1676160" cy="533520"/>
            </a:xfrm>
          </p:grpSpPr>
          <p:sp>
            <p:nvSpPr>
              <p:cNvPr id="466" name=""/>
              <p:cNvSpPr/>
              <p:nvPr/>
            </p:nvSpPr>
            <p:spPr>
              <a:xfrm>
                <a:off x="5715000" y="2171880"/>
                <a:ext cx="6850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00080" y="2171880"/>
                <a:ext cx="456840" cy="2664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6400080" y="1904760"/>
                <a:ext cx="513720" cy="2667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765480" y="1977120"/>
                <a:ext cx="625680" cy="144000"/>
              </a:xfrm>
              <a:custGeom>
                <a:avLst/>
                <a:gdLst/>
                <a:ahLst/>
                <a:rect l="l" t="t" r="r" b="b"/>
                <a:pathLst>
                  <a:path w="526" h="130">
                    <a:moveTo>
                      <a:pt x="0" y="12"/>
                    </a:moveTo>
                    <a:cubicBezTo>
                      <a:pt x="20" y="27"/>
                      <a:pt x="74" y="105"/>
                      <a:pt x="117" y="104"/>
                    </a:cubicBezTo>
                    <a:cubicBezTo>
                      <a:pt x="160" y="103"/>
                      <a:pt x="212" y="0"/>
                      <a:pt x="259" y="4"/>
                    </a:cubicBezTo>
                    <a:cubicBezTo>
                      <a:pt x="306" y="8"/>
                      <a:pt x="356" y="128"/>
                      <a:pt x="400" y="129"/>
                    </a:cubicBezTo>
                    <a:cubicBezTo>
                      <a:pt x="444" y="130"/>
                      <a:pt x="500" y="37"/>
                      <a:pt x="526" y="12"/>
                    </a:cubicBez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152280" y="685800"/>
            <a:ext cx="48769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Motivati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acceptance evaluation with accuracy better than 1%, shape of kinematic variables (</a:t>
            </a:r>
            <a:r>
              <a:rPr b="0" i="1" lang="it-IT" sz="1800" spc="-1" strike="noStrike">
                <a:solidFill>
                  <a:srgbClr val="3333cc"/>
                </a:solidFill>
                <a:latin typeface="Comic Sans MS"/>
              </a:rPr>
              <a:t>e.g.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  E</a:t>
            </a:r>
            <a:r>
              <a:rPr b="0" lang="it-IT" sz="1800" spc="-1" strike="noStrike" baseline="-25000">
                <a:solidFill>
                  <a:srgbClr val="3333cc"/>
                </a:solidFill>
                <a:latin typeface="Comic Sans MS"/>
              </a:rPr>
              <a:t>miss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-p</a:t>
            </a:r>
            <a:r>
              <a:rPr b="0" lang="it-IT" sz="1800" spc="-1" strike="noStrike" baseline="-25000">
                <a:solidFill>
                  <a:srgbClr val="3333cc"/>
                </a:solidFill>
                <a:latin typeface="Comic Sans MS"/>
              </a:rPr>
              <a:t>miss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  spectr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New MC generators for</a:t>
            </a: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3300"/>
                </a:solidFill>
                <a:latin typeface="Symbol"/>
                <a:ea typeface="Symbol"/>
              </a:rPr>
              <a:t></a:t>
            </a: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and Kl3 decay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including radiated photon, without any cutoff on the energy.  The fraction of events in the tail is in agreement with present experimental knowled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52280" y="3508200"/>
                <a:ext cx="41911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π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νγ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eγ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πeν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Te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8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ijnen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5581800"/>
                <a:ext cx="56390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ππγ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ππ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)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3685680" y="5613480"/>
            <a:ext cx="2436480" cy="861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73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(2.56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.09)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C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6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lope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" y="762120"/>
            <a:ext cx="601992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LOE expected ( only statistical accuracy ) with 400 pb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1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 2.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 2.8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 2.6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 3.5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3703680"/>
            <a:ext cx="716256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olu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ep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om DC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ep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om DC, dominated by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880" y="5272200"/>
            <a:ext cx="74678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%  precision on 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0)  requires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= 0.001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Bijnens and Talavera, 2003; 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J.Bijnens and P.Talavera, hep-ph/030310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c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724280" y="1928880"/>
            <a:ext cx="4114800" cy="4014720"/>
            <a:chOff x="4724280" y="1928880"/>
            <a:chExt cx="4114800" cy="4014720"/>
          </a:xfrm>
        </p:grpSpPr>
        <p:pic>
          <p:nvPicPr>
            <p:cNvPr id="485" name="" descr=""/>
            <p:cNvPicPr/>
            <p:nvPr/>
          </p:nvPicPr>
          <p:blipFill>
            <a:blip r:embed="rId2"/>
            <a:srcRect l="16405" t="9140" r="18749" b="3765"/>
            <a:stretch/>
          </p:blipFill>
          <p:spPr>
            <a:xfrm>
              <a:off x="4724280" y="1928880"/>
              <a:ext cx="4114800" cy="40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6407280" y="3124440"/>
              <a:ext cx="4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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47000" y="255600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3400" y="39528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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81440" y="432756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95800" y="3660840"/>
              <a:ext cx="1420920" cy="75708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73760" y="4410000"/>
              <a:ext cx="642960" cy="88740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76600" y="3457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73680" y="47005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35800" y="2627280"/>
            <a:ext cx="3871800" cy="3621960"/>
            <a:chOff x="235800" y="2627280"/>
            <a:chExt cx="3871800" cy="3621960"/>
          </a:xfrm>
        </p:grpSpPr>
        <p:pic>
          <p:nvPicPr>
            <p:cNvPr id="495" name="" descr=""/>
            <p:cNvPicPr/>
            <p:nvPr/>
          </p:nvPicPr>
          <p:blipFill>
            <a:blip r:embed="rId3"/>
            <a:srcRect l="14917" t="25224" r="14917" b="25224"/>
            <a:stretch/>
          </p:blipFill>
          <p:spPr>
            <a:xfrm>
              <a:off x="911160" y="2936880"/>
              <a:ext cx="305100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946960" y="2863800"/>
              <a:ext cx="1160640" cy="36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inem.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59400" y="59119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69240" y="59119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10400" y="59119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88200" y="59119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0320" y="499752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332100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0320" y="415908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5800" y="262728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v/0.5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14400" y="2940120"/>
              <a:ext cx="29844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t: </a:t>
              </a:r>
              <a:r>
                <a:rPr b="0" lang="it-IT" sz="20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</a:t>
              </a:r>
              <a:r>
                <a:rPr b="0" lang="it-IT" sz="20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</a:t>
              </a:r>
              <a:r>
                <a:rPr b="0" lang="it-IT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3352680" y="588168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12952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eam tagged from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320" y="7621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measure absolute BR’s to &lt; 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1219320"/>
            <a:ext cx="4343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wo-body decay identified as peaks in the momentum spectrum of secondary tracks in the kaon rest fram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tags/pb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5562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cays – 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l3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419360" y="1600200"/>
            <a:ext cx="4502160" cy="4212000"/>
            <a:chOff x="4419360" y="1600200"/>
            <a:chExt cx="4502160" cy="421200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rcRect l="18421" t="35627" r="9299" b="13321"/>
            <a:stretch/>
          </p:blipFill>
          <p:spPr>
            <a:xfrm>
              <a:off x="5048280" y="1628640"/>
              <a:ext cx="3860640" cy="38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547400" y="1747800"/>
              <a:ext cx="1151640" cy="459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TOF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1680" y="5379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9360" y="24206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8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19360" y="39193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35160" y="541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35160" y="54133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03360" y="54133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42640" y="5022720"/>
              <a:ext cx="14788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(MeV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06960" y="1600200"/>
              <a:ext cx="1739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Ev/(14MeV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58000" y="2454120"/>
              <a:ext cx="193680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cc"/>
                  </a:solidFill>
                  <a:latin typeface="Comic Sans MS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C f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53720" y="2295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37360" y="3763800"/>
              <a:ext cx="86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762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fter tag a dedicated reconstruction of K tracks is performed, correcting for  dE/dx losses in the DC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2280" y="1676520"/>
            <a:ext cx="472464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225360" indent="-22536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1-prong kaon decay vertex in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given fiducial volume in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eject two-body decays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cutting on P</a:t>
            </a:r>
            <a:r>
              <a:rPr b="0" lang="it-IT" sz="2000" spc="-1" strike="noStrike" baseline="30000">
                <a:solidFill>
                  <a:srgbClr val="006600"/>
                </a:solidFill>
                <a:latin typeface="Comic Sans MS"/>
              </a:rPr>
              <a:t>*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sear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2 neutral clusters in EmC,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TOF matching the K decay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obtain charged daughter mass spectrum from TOF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9920" y="4724280"/>
            <a:ext cx="419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t</a:t>
            </a:r>
            <a:r>
              <a:rPr b="0" lang="en-GB" sz="2200" spc="-1" strike="noStrike" baseline="30000">
                <a:solidFill>
                  <a:srgbClr val="009900"/>
                </a:solidFill>
                <a:latin typeface="Comic Sans MS"/>
              </a:rPr>
              <a:t>decay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Comic Sans MS"/>
              </a:rPr>
              <a:t>K 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= t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Comic Sans MS"/>
              </a:rPr>
              <a:t>lept 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-L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Comic Sans MS"/>
              </a:rPr>
              <a:t>lept 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/(</a:t>
            </a:r>
            <a:r>
              <a:rPr b="0" lang="en-GB" sz="2200" spc="-1" strike="noStrike">
                <a:solidFill>
                  <a:srgbClr val="009900"/>
                </a:solidFill>
                <a:latin typeface="Symbol"/>
                <a:ea typeface="Symbol"/>
              </a:rPr>
              <a:t>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Comic Sans MS"/>
              </a:rPr>
              <a:t>lept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c) = </a:t>
            </a:r>
            <a:r>
              <a:rPr b="0" lang="en-GB" sz="2200" spc="-1" strike="noStrike">
                <a:solidFill>
                  <a:srgbClr val="009900"/>
                </a:solidFill>
                <a:latin typeface="Symbol"/>
                <a:ea typeface="Symbol"/>
              </a:rPr>
              <a:t>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t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-L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/c</a:t>
            </a:r>
            <a:r>
              <a:rPr b="0" lang="en-GB" sz="2200" spc="-1" strike="noStrike">
                <a:solidFill>
                  <a:srgbClr val="009900"/>
                </a:solidFill>
                <a:latin typeface="Symbol"/>
                <a:ea typeface="Symbol"/>
              </a:rPr>
              <a:t>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8000" y="5257800"/>
            <a:ext cx="659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Comic Sans MS"/>
              </a:rPr>
              <a:t>In progres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efficiency estimates and tag bi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MC with rad. cor. and optimized </a:t>
            </a:r>
            <a:r>
              <a:rPr b="0" lang="it-IT" sz="2200" spc="-1" strike="noStrike">
                <a:solidFill>
                  <a:srgbClr val="3333cc"/>
                </a:solidFill>
                <a:latin typeface="Symbol"/>
                <a:ea typeface="Symbol"/>
              </a:rPr>
              <a:t>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87320" y="1279440"/>
            <a:ext cx="3349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Comic Sans MS"/>
              </a:rPr>
              <a:t>450pb</a:t>
            </a:r>
            <a:r>
              <a:rPr b="0" lang="en-GB" sz="2000" spc="-1" strike="noStrike" baseline="30000">
                <a:solidFill>
                  <a:srgbClr val="cc0066"/>
                </a:solidFill>
                <a:latin typeface="Comic Sans MS"/>
              </a:rPr>
              <a:t>-1 </a:t>
            </a:r>
            <a:r>
              <a:rPr b="0" lang="en-GB" sz="20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cc0066"/>
                </a:solidFill>
                <a:latin typeface="Comic Sans MS"/>
              </a:rPr>
              <a:t> 3•10</a:t>
            </a:r>
            <a:r>
              <a:rPr b="0" lang="en-GB" sz="2000" spc="-1" strike="noStrike" baseline="30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cc0066"/>
                </a:solidFill>
                <a:latin typeface="Comic Sans MS"/>
              </a:rPr>
              <a:t> K</a:t>
            </a:r>
            <a:r>
              <a:rPr b="0" lang="en-GB" sz="20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 baseline="-25000">
                <a:solidFill>
                  <a:srgbClr val="cc0066"/>
                </a:solidFill>
                <a:latin typeface="Comic Sans MS"/>
              </a:rPr>
              <a:t>e3</a:t>
            </a:r>
            <a:r>
              <a:rPr b="0" lang="en-GB" sz="2000" spc="-1" strike="noStrike">
                <a:solidFill>
                  <a:srgbClr val="cc0066"/>
                </a:solidFill>
                <a:latin typeface="Comic Sans MS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aon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914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he </a:t>
            </a:r>
            <a:r>
              <a:rPr b="0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decay at rest provide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onochromatic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pure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kaon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beams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447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he KK pairs in the final state have the same quantum numbers as the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cc0066"/>
                </a:solidFill>
                <a:latin typeface="Times New Roman"/>
              </a:rPr>
              <a:t>i.e.,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hey are produced in a pure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cc0066"/>
                </a:solidFill>
                <a:latin typeface="Times New Roman"/>
              </a:rPr>
              <a:t>J</a:t>
            </a:r>
            <a:r>
              <a:rPr b="0" i="1" lang="en-US" sz="2000" spc="-1" strike="noStrike" baseline="30000">
                <a:solidFill>
                  <a:srgbClr val="cc0066"/>
                </a:solidFill>
                <a:latin typeface="Times New Roman"/>
              </a:rPr>
              <a:t>PC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1</a:t>
            </a:r>
            <a:r>
              <a:rPr b="0" lang="en-US" sz="20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– –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003200" y="2206800"/>
            <a:ext cx="4014360" cy="483120"/>
            <a:chOff x="4003200" y="2206800"/>
            <a:chExt cx="4014360" cy="483120"/>
          </a:xfrm>
        </p:grpSpPr>
        <p:sp>
          <p:nvSpPr>
            <p:cNvPr id="77" name=""/>
            <p:cNvSpPr/>
            <p:nvPr/>
          </p:nvSpPr>
          <p:spPr>
            <a:xfrm>
              <a:off x="5845680" y="2206800"/>
              <a:ext cx="32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3200" y="221472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Comic Sans MS"/>
                </a:rPr>
                <a:t>S</a:t>
              </a:r>
              <a:r>
                <a:rPr b="1" lang="en-US" sz="2200" spc="-1" strike="noStrike">
                  <a:solidFill>
                    <a:srgbClr val="ff0000"/>
                  </a:solidFill>
                  <a:latin typeface="Comic Sans MS"/>
                </a:rPr>
                <a:t>,K</a:t>
              </a:r>
              <a:r>
                <a:rPr b="1" lang="en-US" sz="2200" spc="-1" strike="noStrike" baseline="30000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42480" y="2214720"/>
              <a:ext cx="775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1" lang="en-US" sz="2200" spc="-1" strike="noStrike">
                  <a:solidFill>
                    <a:srgbClr val="ff0000"/>
                  </a:solidFill>
                  <a:latin typeface="Comic Sans MS"/>
                </a:rPr>
                <a:t>,K</a:t>
              </a:r>
              <a:r>
                <a:rPr b="1" lang="en-US" sz="22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3000" y="242424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874760" y="242424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11440" y="2214720"/>
            <a:ext cx="28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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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895480"/>
            <a:ext cx="813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detection of a K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(K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 guarantees the presence of a K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(K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 with known momentum and direction (the same for K</a:t>
            </a:r>
            <a:r>
              <a:rPr b="0" lang="en-US" sz="2000" spc="-1" strike="noStrike" baseline="30000">
                <a:solidFill>
                  <a:srgbClr val="cc0066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cc0066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 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ta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657600"/>
            <a:ext cx="59436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llows precision measurements of absolute B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llows interference measurements of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683240"/>
            <a:ext cx="2209680" cy="141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i="1" lang="it-IT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R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49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a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= 127 MeV/c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9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4648320"/>
            <a:ext cx="4648320" cy="178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R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34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;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a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110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0.6 cm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cays near interaction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40 cm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rge detector to keep      reasonable acceptance fo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cays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~0.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life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90720" y="64152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2280" y="562284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In progr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fficiency evaluation directly from data 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322960" y="4714920"/>
            <a:ext cx="3744720" cy="1185480"/>
            <a:chOff x="5322960" y="4714920"/>
            <a:chExt cx="3744720" cy="1185480"/>
          </a:xfrm>
        </p:grpSpPr>
        <p:sp>
          <p:nvSpPr>
            <p:cNvPr id="538" name=""/>
            <p:cNvSpPr/>
            <p:nvPr/>
          </p:nvSpPr>
          <p:spPr>
            <a:xfrm>
              <a:off x="5322960" y="4714920"/>
              <a:ext cx="3744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94240" y="4848120"/>
              <a:ext cx="367128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PDG fit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2.384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0.024 ns  (0.2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d60093"/>
                  </a:solidFill>
                  <a:latin typeface="Comic Sans MS"/>
                </a:rPr>
                <a:t>but 0.8 % is more realis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76320" y="76212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improve the present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0.2% accuracy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 on </a:t>
            </a:r>
            <a:r>
              <a:rPr b="0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-25000">
                <a:solidFill>
                  <a:srgbClr val="006600"/>
                </a:solidFill>
                <a:latin typeface="Comic Sans MS"/>
              </a:rPr>
              <a:t>K</a:t>
            </a:r>
            <a:r>
              <a:rPr b="0" lang="en-US" sz="22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320" y="1371600"/>
            <a:ext cx="525780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 independent methods to measure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aluation of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epping along the    charged kaon track up to decay verte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aking into account the dE/dx loss in the gas mixture of the DC 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nly DC info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K track of the tagging side is extrapolated to the signal hemisphere and the time measurements of the 2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’s from the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ecay are used to evaluate the K TOF (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nly EMC info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181480" y="838080"/>
            <a:ext cx="3810240" cy="4038120"/>
            <a:chOff x="5181480" y="838080"/>
            <a:chExt cx="3810240" cy="4038120"/>
          </a:xfrm>
        </p:grpSpPr>
        <p:pic>
          <p:nvPicPr>
            <p:cNvPr id="543" name="" descr=""/>
            <p:cNvPicPr/>
            <p:nvPr/>
          </p:nvPicPr>
          <p:blipFill>
            <a:blip r:embed="rId2"/>
            <a:srcRect l="19532" t="20938" r="25457" b="8559"/>
            <a:stretch/>
          </p:blipFill>
          <p:spPr>
            <a:xfrm>
              <a:off x="5181480" y="838080"/>
              <a:ext cx="3810240" cy="36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248520" y="985680"/>
              <a:ext cx="26683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verage: ~ 1.7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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Comic Sans MS"/>
                </a:rPr>
                <a:t>K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90 cm &lt;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L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&lt; 250 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67560" y="4435560"/>
              <a:ext cx="139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97880" y="1882800"/>
              <a:ext cx="11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100 pb</a:t>
              </a:r>
              <a:r>
                <a:rPr b="0" lang="it-IT" sz="1800" spc="-1" strike="noStrike" baseline="30000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2004 Da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ne</a:t>
            </a: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48320" y="914400"/>
            <a:ext cx="4374360" cy="5410080"/>
            <a:chOff x="4648320" y="914400"/>
            <a:chExt cx="4374360" cy="5410080"/>
          </a:xfrm>
        </p:grpSpPr>
        <p:grpSp>
          <p:nvGrpSpPr>
            <p:cNvPr id="551" name=""/>
            <p:cNvGrpSpPr/>
            <p:nvPr/>
          </p:nvGrpSpPr>
          <p:grpSpPr>
            <a:xfrm>
              <a:off x="4648320" y="914400"/>
              <a:ext cx="4374360" cy="5410080"/>
              <a:chOff x="4648320" y="914400"/>
              <a:chExt cx="4374360" cy="5410080"/>
            </a:xfrm>
          </p:grpSpPr>
          <p:pic>
            <p:nvPicPr>
              <p:cNvPr id="552" name="dafnelay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914400"/>
                <a:ext cx="4374360" cy="54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6054840" y="3962160"/>
                <a:ext cx="65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33cc"/>
                    </a:solidFill>
                    <a:latin typeface="Comic Sans MS"/>
                  </a:rPr>
                  <a:t>DE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4" name="kloe_logo" descr=""/>
              <p:cNvPicPr/>
              <p:nvPr/>
            </p:nvPicPr>
            <p:blipFill>
              <a:blip r:embed="rId3"/>
              <a:stretch/>
            </p:blipFill>
            <p:spPr>
              <a:xfrm>
                <a:off x="6396840" y="5333760"/>
                <a:ext cx="61200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finudalogocol1" descr=""/>
              <p:cNvPicPr/>
              <p:nvPr/>
            </p:nvPicPr>
            <p:blipFill>
              <a:blip r:embed="rId4"/>
              <a:stretch/>
            </p:blipFill>
            <p:spPr>
              <a:xfrm>
                <a:off x="6484680" y="3429000"/>
                <a:ext cx="53640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dear_logosmall" descr=""/>
              <p:cNvPicPr/>
              <p:nvPr/>
            </p:nvPicPr>
            <p:blipFill>
              <a:blip r:embed="rId5"/>
              <a:stretch/>
            </p:blipFill>
            <p:spPr>
              <a:xfrm>
                <a:off x="5784840" y="3504960"/>
                <a:ext cx="715320" cy="3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7" name=""/>
            <p:cNvSpPr/>
            <p:nvPr/>
          </p:nvSpPr>
          <p:spPr>
            <a:xfrm>
              <a:off x="6216480" y="6172200"/>
              <a:ext cx="14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46600" y="5805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63080" y="974880"/>
            <a:ext cx="402552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eam energy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= 51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umber of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bunches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ime between collisions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= 2.7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rossing angle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5 m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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–15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urrent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1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urrent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1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0.56 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0.56 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10.15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KLOE e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kloerecol3" descr=""/>
          <p:cNvPicPr/>
          <p:nvPr/>
        </p:nvPicPr>
        <p:blipFill>
          <a:blip r:embed="rId2"/>
          <a:stretch/>
        </p:blipFill>
        <p:spPr>
          <a:xfrm>
            <a:off x="81000" y="1171440"/>
            <a:ext cx="4262400" cy="4724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05080" y="905040"/>
            <a:ext cx="5034600" cy="55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Be beam pipe (0.5 mm thick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r =10 cm (K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 fiducial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Instrumented permanent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quadrupoles (32 PMT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ift chamber (4 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Ø ×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.3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90% He + 10% IsoB, CF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2582 stereo sens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Electromagnetic calo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ad/scintillating fi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4880 PMT’s, cover 98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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solid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b900"/>
                </a:solidFill>
                <a:latin typeface="Comic Sans MS"/>
              </a:rPr>
              <a:t>Superconducting c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b900"/>
                </a:solidFill>
                <a:latin typeface="Comic Sans MS"/>
              </a:rPr>
              <a:t>B = 0.52 T  (</a:t>
            </a:r>
            <a:r>
              <a:rPr b="0" lang="en-US" sz="2400" spc="-1" strike="noStrike">
                <a:solidFill>
                  <a:srgbClr val="e4b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4b9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e4b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4b900"/>
                </a:solidFill>
                <a:latin typeface="Comic Sans MS"/>
              </a:rPr>
              <a:t>Bdl  = 2 T</a:t>
            </a:r>
            <a:r>
              <a:rPr b="0" lang="en-US" sz="2400" spc="-1" strike="noStrike">
                <a:solidFill>
                  <a:srgbClr val="e4b900"/>
                </a:solidFill>
                <a:latin typeface="Comic Sans MS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e4b900"/>
                </a:solidFill>
                <a:latin typeface="Comic Sans MS"/>
              </a:rPr>
              <a:t>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LOE detector specif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Kloecal" descr=""/>
          <p:cNvPicPr/>
          <p:nvPr/>
        </p:nvPicPr>
        <p:blipFill>
          <a:blip r:embed="rId2"/>
          <a:srcRect l="16410" t="3117" r="2338" b="3117"/>
          <a:stretch/>
        </p:blipFill>
        <p:spPr>
          <a:xfrm>
            <a:off x="533520" y="1219320"/>
            <a:ext cx="3628800" cy="3197160"/>
          </a:xfrm>
          <a:prstGeom prst="rect">
            <a:avLst/>
          </a:prstGeom>
          <a:ln w="0">
            <a:noFill/>
          </a:ln>
        </p:spPr>
      </p:pic>
      <p:pic>
        <p:nvPicPr>
          <p:cNvPr id="97" name="dc2" descr=""/>
          <p:cNvPicPr/>
          <p:nvPr/>
        </p:nvPicPr>
        <p:blipFill>
          <a:blip r:embed="rId3"/>
          <a:srcRect l="10402" t="88" r="15748" b="0"/>
          <a:stretch/>
        </p:blipFill>
        <p:spPr>
          <a:xfrm>
            <a:off x="5008680" y="1201680"/>
            <a:ext cx="3546360" cy="3198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1280" y="380376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lori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51520" y="380844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rift cha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635360"/>
            <a:ext cx="45464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/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5.7% 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54 ps 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(GeV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50 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relative time between clus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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~ 2 c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rom 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0240" y="4619520"/>
            <a:ext cx="42796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/p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0.4 %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tracks with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&gt; 45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°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hi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5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 (xy), 2 mm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vertex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~ 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aon physics at KL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912960"/>
          <a:ext cx="8534160" cy="5335560"/>
        </p:xfrm>
        <a:graphic>
          <a:graphicData uri="http://schemas.openxmlformats.org/drawingml/2006/table">
            <a:tbl>
              <a:tblPr/>
              <a:tblGrid>
                <a:gridCol w="2895480"/>
                <a:gridCol w="5638680"/>
              </a:tblGrid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results</a:t>
                      </a: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873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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8 21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pdate with ’01-’02 data 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8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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5 37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update with ’01-’02 d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LOE Note 181 (http://www.lnf.infn.it/kl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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s. Lett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66 61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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,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,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,3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us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rom K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and K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it-IT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L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n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26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olation &amp; inter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u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om 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±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. Lett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97 2 (20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6320" y="757080"/>
            <a:ext cx="4465440" cy="5567400"/>
            <a:chOff x="76320" y="757080"/>
            <a:chExt cx="4465440" cy="5567400"/>
          </a:xfrm>
        </p:grpSpPr>
        <p:sp>
          <p:nvSpPr>
            <p:cNvPr id="107" name=""/>
            <p:cNvSpPr/>
            <p:nvPr/>
          </p:nvSpPr>
          <p:spPr>
            <a:xfrm>
              <a:off x="76320" y="925560"/>
              <a:ext cx="4465440" cy="53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rcRect l="17158" t="10197" r="19502" b="4776"/>
            <a:stretch/>
          </p:blipFill>
          <p:spPr>
            <a:xfrm>
              <a:off x="274680" y="1278000"/>
              <a:ext cx="3994200" cy="38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036440" y="2562120"/>
              <a:ext cx="136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1" i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06760" y="346248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1" i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2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33520" y="3276720"/>
              <a:ext cx="30492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680" y="757080"/>
              <a:ext cx="4103640" cy="85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336600"/>
                  </a:solidFill>
                  <a:latin typeface="Comic Sans MS"/>
                </a:rPr>
                <a:t>K</a:t>
              </a:r>
              <a:r>
                <a:rPr b="0" lang="it-IT" sz="2200" spc="-1" strike="noStrike" baseline="-25000">
                  <a:solidFill>
                    <a:srgbClr val="336600"/>
                  </a:solidFill>
                  <a:latin typeface="Comic Sans MS"/>
                </a:rPr>
                <a:t>L</a:t>
              </a:r>
              <a:r>
                <a:rPr b="0" lang="it-IT" sz="2200" spc="-1" strike="noStrike">
                  <a:solidFill>
                    <a:srgbClr val="336600"/>
                  </a:solidFill>
                  <a:latin typeface="Comic Sans MS"/>
                </a:rPr>
                <a:t> tagged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336600"/>
                  </a:solidFill>
                  <a:latin typeface="Comic Sans MS"/>
                </a:rPr>
                <a:t>      </a:t>
              </a:r>
              <a:r>
                <a:rPr b="0" lang="it-IT" sz="2200" spc="-1" strike="noStrike">
                  <a:solidFill>
                    <a:srgbClr val="336600"/>
                  </a:solidFill>
                  <a:latin typeface="Comic Sans MS"/>
                </a:rPr>
                <a:t>by K</a:t>
              </a:r>
              <a:r>
                <a:rPr b="0" lang="it-IT" sz="2200" spc="-1" strike="noStrike" baseline="-25000">
                  <a:solidFill>
                    <a:srgbClr val="336600"/>
                  </a:solidFill>
                  <a:latin typeface="Comic Sans MS"/>
                </a:rPr>
                <a:t>S</a:t>
              </a:r>
              <a:r>
                <a:rPr b="0" lang="it-IT" sz="2200" spc="-1" strike="noStrike">
                  <a:solidFill>
                    <a:srgbClr val="336600"/>
                  </a:solidFill>
                  <a:latin typeface="Comic Sans MS"/>
                </a:rPr>
                <a:t> </a:t>
              </a:r>
              <a:r>
                <a:rPr b="0" lang="it-IT" sz="22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</a:t>
              </a:r>
              <a:r>
                <a:rPr b="0" lang="it-IT" sz="2200" spc="-1" strike="noStrike">
                  <a:solidFill>
                    <a:srgbClr val="336600"/>
                  </a:solidFill>
                  <a:latin typeface="Comic Sans MS"/>
                </a:rPr>
                <a:t> </a:t>
              </a:r>
              <a:r>
                <a:rPr b="0" lang="it-IT" sz="22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</a:t>
              </a:r>
              <a:r>
                <a:rPr b="0" lang="it-IT" sz="2200" spc="-1" strike="noStrike" baseline="30000">
                  <a:solidFill>
                    <a:srgbClr val="336600"/>
                  </a:solidFill>
                  <a:latin typeface="Symbol"/>
                  <a:ea typeface="Symbol"/>
                </a:rPr>
                <a:t></a:t>
              </a:r>
              <a:r>
                <a:rPr b="0" lang="it-IT" sz="22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</a:t>
              </a:r>
              <a:r>
                <a:rPr b="0" lang="it-IT" sz="2200" spc="-1" strike="noStrike" baseline="30000">
                  <a:solidFill>
                    <a:srgbClr val="336600"/>
                  </a:solidFill>
                  <a:latin typeface="Symbol"/>
                  <a:ea typeface="Symbol"/>
                </a:rPr>
                <a:t></a:t>
              </a:r>
              <a:r>
                <a:rPr b="0" lang="it-IT" sz="2200" spc="-1" strike="noStrike">
                  <a:solidFill>
                    <a:srgbClr val="336600"/>
                  </a:solidFill>
                  <a:latin typeface="Comic Sans MS"/>
                </a:rPr>
                <a:t> vertex at I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600" y="47847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×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10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Comic Sans MS"/>
                </a:rPr>
                <a:t>5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tags/pb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9400" y="5257800"/>
            <a:ext cx="457668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~ 70%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336600"/>
                </a:solidFill>
                <a:latin typeface="Comic Sans MS"/>
              </a:rPr>
              <a:t>(mainly geometr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K</a:t>
            </a:r>
            <a:r>
              <a:rPr b="0" lang="en-US" sz="2000" spc="-1" strike="noStrike" baseline="-25000">
                <a:solidFill>
                  <a:srgbClr val="336600"/>
                </a:solidFill>
                <a:latin typeface="Comic Sans MS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angular resolution: ~ 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K</a:t>
            </a:r>
            <a:r>
              <a:rPr b="0" lang="en-US" sz="2000" spc="-1" strike="noStrike" baseline="-25000">
                <a:solidFill>
                  <a:srgbClr val="336600"/>
                </a:solidFill>
                <a:latin typeface="Comic Sans MS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momentum resolution: ~ 1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64000" y="990720"/>
            <a:ext cx="4608720" cy="53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agging of 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b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38680" y="1285920"/>
            <a:ext cx="4405320" cy="5042520"/>
            <a:chOff x="4738680" y="1285920"/>
            <a:chExt cx="4405320" cy="5042520"/>
          </a:xfrm>
        </p:grpSpPr>
        <p:sp>
          <p:nvSpPr>
            <p:cNvPr id="119" name=""/>
            <p:cNvSpPr/>
            <p:nvPr/>
          </p:nvSpPr>
          <p:spPr>
            <a:xfrm>
              <a:off x="4738680" y="5175360"/>
              <a:ext cx="4405320" cy="11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~ 30%  </a:t>
              </a: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(largely geometric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angular resolution: ~ 1°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(0.3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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in 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momentum resolution: ~ 1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rcRect l="18004" t="10197" r="18753" b="4776"/>
            <a:stretch/>
          </p:blipFill>
          <p:spPr>
            <a:xfrm>
              <a:off x="4818240" y="1285920"/>
              <a:ext cx="4003560" cy="39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948720" y="1363680"/>
              <a:ext cx="1829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</a:rPr>
                <a:t>“crash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=0.22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TO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13360" y="1692360"/>
              <a:ext cx="120600" cy="1498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95480" y="3591000"/>
              <a:ext cx="152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1" i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×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10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Comic Sans MS"/>
                </a:rPr>
                <a:t>5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tags/pb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822920" y="685800"/>
            <a:ext cx="4033800" cy="85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it-IT" sz="22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tagg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by K</a:t>
            </a:r>
            <a:r>
              <a:rPr b="0" lang="it-IT" sz="22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interaction in Em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kloe_logo" descr=""/>
          <p:cNvPicPr/>
          <p:nvPr/>
        </p:nvPicPr>
        <p:blipFill>
          <a:blip r:embed="rId3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– tests of </a:t>
            </a:r>
            <a:r>
              <a:rPr b="0" i="1" lang="en-US" sz="3600" spc="-1" strike="noStrike">
                <a:solidFill>
                  <a:srgbClr val="3333cc"/>
                </a:solidFill>
                <a:latin typeface="Comic Sans MS"/>
              </a:rPr>
              <a:t>CP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i="1" lang="en-US" sz="3600" spc="-1" strike="noStrike">
                <a:solidFill>
                  <a:srgbClr val="3333cc"/>
                </a:solidFill>
                <a:latin typeface="Comic Sans MS"/>
              </a:rPr>
              <a:t>C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6400800"/>
            <a:ext cx="73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ent results from KLOE at D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ΦNE – P. de Simone – LNF/IN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7120" y="3763800"/>
            <a:ext cx="7780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(1 + i tan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SW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)Re 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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f 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A*(K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f) A(K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f)/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 = (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i + tan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SW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) Im 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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3306600"/>
            <a:ext cx="1676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Comic Sans MS"/>
              </a:rPr>
              <a:t>S,L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=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360" y="5410080"/>
            <a:ext cx="8577720" cy="906120"/>
            <a:chOff x="171360" y="5410080"/>
            <a:chExt cx="8577720" cy="906120"/>
          </a:xfrm>
        </p:grpSpPr>
        <p:sp>
          <p:nvSpPr>
            <p:cNvPr id="133" name=""/>
            <p:cNvSpPr/>
            <p:nvPr/>
          </p:nvSpPr>
          <p:spPr>
            <a:xfrm>
              <a:off x="171360" y="5648040"/>
              <a:ext cx="242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|Im</a:t>
              </a:r>
              <a:r>
                <a:rPr b="0" lang="en-US" sz="2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| </a:t>
              </a:r>
              <a:r>
                <a:rPr b="1" lang="en-US" sz="2200" spc="-1" strike="noStrike">
                  <a:solidFill>
                    <a:srgbClr val="3333cc"/>
                  </a:solidFill>
                  <a:latin typeface="Times New Roman"/>
                </a:rPr>
                <a:t>&lt; ~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2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×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10</a:t>
              </a:r>
              <a:r>
                <a:rPr b="0" lang="en-US" sz="2200" spc="-1" strike="noStrike" baseline="30000">
                  <a:solidFill>
                    <a:srgbClr val="3333cc"/>
                  </a:solidFill>
                  <a:latin typeface="Comic Sans MS"/>
                </a:rPr>
                <a:t>-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3200400" y="5410080"/>
              <a:ext cx="251460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981760" y="5554440"/>
              <a:ext cx="27673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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</a:rPr>
                <a:t>K0 </a:t>
              </a:r>
              <a:r>
                <a:rPr b="0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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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</a:rPr>
                <a:t>K0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assumed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6880" y="5814720"/>
              <a:ext cx="381240" cy="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62920" y="5814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990720"/>
            <a:ext cx="91440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servation of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3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signals </a:t>
            </a:r>
            <a:r>
              <a:rPr b="0" i="1" lang="en-US" sz="2200" spc="-1" strike="noStrike">
                <a:solidFill>
                  <a:srgbClr val="3333cc"/>
                </a:solidFill>
                <a:latin typeface="Comic Sans MS"/>
              </a:rPr>
              <a:t>CP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violation in mixing and/or deca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CPT conserved: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S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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+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000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|</a:t>
            </a:r>
            <a:r>
              <a:rPr b="0" lang="en-US" sz="2000" spc="-1" strike="noStrike" baseline="30000">
                <a:solidFill>
                  <a:srgbClr val="cc0066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L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000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|</a:t>
            </a:r>
            <a:r>
              <a:rPr b="0" lang="en-US" sz="2000" spc="-1" strike="noStrike" baseline="30000">
                <a:solidFill>
                  <a:srgbClr val="cc0066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   BR(K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 3</a:t>
            </a:r>
            <a:r>
              <a:rPr b="0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cc0066"/>
                </a:solidFill>
                <a:latin typeface="Comic Sans MS"/>
              </a:rPr>
              <a:t>0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) ~ 2 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cc0066"/>
                </a:solidFill>
                <a:latin typeface="Comic Sans MS"/>
              </a:rPr>
              <a:t>10</a:t>
            </a:r>
            <a:r>
              <a:rPr b="0" lang="en-US" sz="2200" spc="-1" strike="noStrike" baseline="30000">
                <a:solidFill>
                  <a:srgbClr val="cc0066"/>
                </a:solidFill>
                <a:latin typeface="Comic Sans MS"/>
              </a:rPr>
              <a:t>-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R &lt; 1.4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×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@ 90% CL SND ’99                                  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direct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R &lt; 7.4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×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7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@ 90% CL NA48 ’04 (hep-ex/0408053)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indirect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ncertainty on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mplitude currently limits precision on Im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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ell-Steinberger rela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m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(2.4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5.0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×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PLEAR ’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m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(-0.2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2.0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×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A48 ’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 limit on BR(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3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) at 10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-7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level would limi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zia</cp:lastModifiedBy>
  <cp:lastPrinted>2004-09-01T11:01:48Z</cp:lastPrinted>
  <dcterms:modified xsi:type="dcterms:W3CDTF">2004-09-15T04:23:10Z</dcterms:modified>
  <cp:revision>224</cp:revision>
  <dc:subject/>
  <dc:title>PowerPoint Presentation</dc:title>
</cp:coreProperties>
</file>