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5.wmf" ContentType="image/x-wmf"/>
  <Override PartName="/ppt/media/image41.png" ContentType="image/png"/>
  <Override PartName="/ppt/media/image53.png" ContentType="image/png"/>
  <Override PartName="/ppt/media/image36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247D-0E56-4A29-A44E-00D959FD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691-4A5C-4A02-BA0C-BAE64D41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E02-1287-47D0-853E-3F06D2B2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F900-1BAC-4696-8DD7-E0DFFFA6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F261-BD14-43F2-92BA-AD08AFB6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59220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39880" y="4862160"/>
            <a:ext cx="46195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BDB-33AE-49F0-90F0-9ADA0531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9080" y="76032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7280" y="4721400"/>
            <a:ext cx="496260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Kinematic fit requires phi momentum, photon time (prompt), pion mass, Ks mass, crash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 reject bkg the first step of our analysis is the application of a kine fit. As you can see in the plot we have a good signal/bkg separation in this variable. Applying a cut at the level of 30 we have a signal effi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E1F9-5FCE-4D4E-A1F3-1D318F17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AE8-B670-43A6-BED0-780533FE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F30-1B47-42F9-87EA-7FAF8D8C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E26-AED2-45B7-B8C7-F1FB6776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0DF-DB94-4703-9160-24A55AE9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C6B1-8D68-4718-A6CA-C981403F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l -&gt; che significa paper in prepa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2D7-46BC-45FE-8F86-C517FE33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got more than 1 fb of data which are considered good for the reconst. (conditions of machine aqnd detector were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CAE5-06BE-481B-BD60-AB25EACD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B1D7-3AF6-4E92-8341-A00EC0F3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A348-2EB8-43AF-940A-E1826890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u? 51.54 o 51.7(bloise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85C-4AA0-4BD2-ADFC-710A4617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5F9F-F311-4151-865F-15441938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23E-2B72-4D1D-8959-5FAD7362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077-0484-444B-AD63-45C953EA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4F6-181C-4E1A-BD04-ACCEA726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E83-1809-4FAD-9F77-C8A93400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35E-EF7D-47AD-AE85-D264916C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EA8-32DB-410C-9CFD-3EC2BF16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716-C351-4E17-925D-565295D2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283-2C39-45CE-A999-351137E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4AB-57AD-4883-AAA0-8828A13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7E2-1706-4942-9C9D-A9596CC5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4000" y="20124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582-05EB-4E3E-9783-55E7BD1A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BBA-565D-4E3A-8C7F-2F62523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8A6-906B-4F21-94ED-61B87A9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9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C1D-5AB0-407E-8A4D-82249BC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AD60-3C7C-489E-8AE8-02B46DE3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026560" y="-27000"/>
            <a:ext cx="1082520" cy="768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0760" y="661032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F87-3C2F-4ACD-80F1-238AA4BEA651}" type="slidenum">
              <a:rPr b="1" i="1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886120" y="6615000"/>
            <a:ext cx="31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Times New Roman"/>
              </a:rPr>
              <a:t>Graziano Venanzoni 7/07/2005 – CSN1/Trie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8280" y="6737400"/>
            <a:ext cx="2548080" cy="4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92240" y="765000"/>
            <a:ext cx="7696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000840" y="6740640"/>
            <a:ext cx="31082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88840" y="816120"/>
            <a:ext cx="769644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17520" y="6788160"/>
            <a:ext cx="2525760" cy="2556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0360" y="6788160"/>
            <a:ext cx="306252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o dell’analisi e della presa dati di KL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92360" y="5311440"/>
            <a:ext cx="64008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Venanz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F-Fras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KLO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106640"/>
            <a:ext cx="6338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cays and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825560"/>
            <a:ext cx="87631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escription from hep-ph/0411097 (F. Mescia @ICHEP0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) Quadratic parametrization of the form fact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03800" y="2619360"/>
            <a:ext cx="4208400" cy="1194840"/>
            <a:chOff x="4303800" y="2619360"/>
            <a:chExt cx="4208400" cy="1194840"/>
          </a:xfrm>
        </p:grpSpPr>
        <p:sp>
          <p:nvSpPr>
            <p:cNvPr id="131" name=""/>
            <p:cNvSpPr/>
            <p:nvPr/>
          </p:nvSpPr>
          <p:spPr>
            <a:xfrm>
              <a:off x="4330800" y="2619360"/>
              <a:ext cx="24998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GB" sz="2000" spc="-1" strike="noStrike" baseline="-33000">
                  <a:solidFill>
                    <a:srgbClr val="ff0000"/>
                  </a:solidFill>
                  <a:latin typeface="Symbol"/>
                  <a:ea typeface="Symbol"/>
                </a:rPr>
                <a:t>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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36200" y="3381120"/>
              <a:ext cx="24876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GB" sz="2000" spc="-1" strike="noStrike" baseline="-33000">
                  <a:solidFill>
                    <a:srgbClr val="ff0000"/>
                  </a:solidFill>
                  <a:latin typeface="Symbol"/>
                  <a:ea typeface="Symbol"/>
                </a:rPr>
                <a:t>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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03800" y="3000240"/>
              <a:ext cx="25855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</a:t>
              </a:r>
              <a:r>
                <a:rPr b="1" lang="en-GB" sz="2000" spc="-1" strike="noStrike" baseline="-33000">
                  <a:solidFill>
                    <a:srgbClr val="ff0000"/>
                  </a:solidFill>
                  <a:latin typeface="Symbol"/>
                  <a:ea typeface="Symbol"/>
                </a:rPr>
                <a:t>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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05680" y="2744640"/>
              <a:ext cx="14065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from KTeV  + IST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600" y="3838680"/>
            <a:ext cx="7315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) 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lifetime from KLOE  (average of the two measurements)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143240"/>
            <a:ext cx="3248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KL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(50.81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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s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Times New Roman"/>
              </a:rPr>
              <a:t>(contribution to Vus ~ 0.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0240" y="4981680"/>
            <a:ext cx="27363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) BRs from KL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setting the sum =1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60134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GB" sz="2000" spc="-1" strike="noStrike" baseline="-25000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GB" sz="20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GB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from Leutwyler-Roos: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96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981680"/>
            <a:ext cx="46483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0.4007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06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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0.2698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06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82600" y="2695680"/>
                <a:ext cx="40194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7616520" y="3610080"/>
            <a:ext cx="1454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x 2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han PD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552720" y="3990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560" y="812880"/>
            <a:ext cx="5227200" cy="44892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|  from neutral K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partial decay wid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440" y="127944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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2400" y="1279440"/>
            <a:ext cx="206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1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86000" y="1279440"/>
            <a:ext cx="110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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58240" y="1276200"/>
            <a:ext cx="145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 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40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it-IT" sz="4000" spc="-1" strike="noStrike" baseline="-25000">
                <a:solidFill>
                  <a:srgbClr val="000000"/>
                </a:solidFill>
                <a:latin typeface="Arial"/>
              </a:rPr>
              <a:t>l3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decays and </a:t>
            </a:r>
            <a:r>
              <a:rPr b="0" lang="it-IT" sz="4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57400" y="762120"/>
            <a:ext cx="5791320" cy="3970080"/>
            <a:chOff x="2057400" y="762120"/>
            <a:chExt cx="5791320" cy="397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2274840" y="762120"/>
              <a:ext cx="5573880" cy="39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057400" y="2214720"/>
              <a:ext cx="4572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828800" y="4724280"/>
            <a:ext cx="6172200" cy="15624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KLOE results: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0) 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Se3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 = 0.2169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0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0) 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e3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0.2164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0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0)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 = 0.2174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0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From Unitarity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:      (1-|V</a:t>
            </a:r>
            <a:r>
              <a:rPr b="1" lang="en-GB" sz="2000" spc="-1" strike="noStrike" baseline="-33000">
                <a:solidFill>
                  <a:srgbClr val="000099"/>
                </a:solidFill>
                <a:latin typeface="Times New Roman"/>
              </a:rPr>
              <a:t>ud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|</a:t>
            </a:r>
            <a:r>
              <a:rPr b="1" lang="en-GB" sz="2000" spc="-1" strike="noStrike" baseline="33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en-GB" sz="2000" spc="-1" strike="noStrike" baseline="33000">
                <a:solidFill>
                  <a:srgbClr val="000099"/>
                </a:solidFill>
                <a:latin typeface="Times New Roman"/>
              </a:rPr>
              <a:t>1/2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(0)  = 0.2177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 0.00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986120"/>
            <a:ext cx="2209680" cy="57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 summary 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0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901800"/>
            <a:ext cx="899172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6254640" y="2438280"/>
            <a:ext cx="2889360" cy="3757680"/>
            <a:chOff x="6254640" y="2438280"/>
            <a:chExt cx="2889360" cy="3757680"/>
          </a:xfrm>
        </p:grpSpPr>
        <p:sp>
          <p:nvSpPr>
            <p:cNvPr id="157" name=""/>
            <p:cNvSpPr/>
            <p:nvPr/>
          </p:nvSpPr>
          <p:spPr>
            <a:xfrm>
              <a:off x="6781680" y="2438280"/>
              <a:ext cx="2362320" cy="2895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858000" y="5181120"/>
              <a:ext cx="457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54640" y="5827680"/>
              <a:ext cx="22352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ith charged Ka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07760" y="2895480"/>
            <a:ext cx="2889360" cy="3452760"/>
            <a:chOff x="707760" y="2895480"/>
            <a:chExt cx="2889360" cy="3452760"/>
          </a:xfrm>
        </p:grpSpPr>
        <p:sp>
          <p:nvSpPr>
            <p:cNvPr id="161" name=""/>
            <p:cNvSpPr/>
            <p:nvPr/>
          </p:nvSpPr>
          <p:spPr>
            <a:xfrm>
              <a:off x="1235160" y="2895480"/>
              <a:ext cx="2361960" cy="2438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311120" y="5333760"/>
              <a:ext cx="457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7760" y="5979960"/>
              <a:ext cx="210852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ith neutral Ka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FISICA DEL K</a:t>
            </a:r>
            <a:r>
              <a:rPr b="0" lang="it-IT" sz="4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4320" y="3462480"/>
            <a:ext cx="5579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 del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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immetria di carica, t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R del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R del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4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semileptonic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800" y="1038240"/>
            <a:ext cx="769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nsitivity to CPT violating effects through charge asymmet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12200" y="3470400"/>
            <a:ext cx="5326920" cy="1197720"/>
            <a:chOff x="412200" y="3470400"/>
            <a:chExt cx="5326920" cy="1197720"/>
          </a:xfrm>
        </p:grpSpPr>
        <p:sp>
          <p:nvSpPr>
            <p:cNvPr id="169" name=""/>
            <p:cNvSpPr/>
            <p:nvPr/>
          </p:nvSpPr>
          <p:spPr>
            <a:xfrm>
              <a:off x="412200" y="3770280"/>
              <a:ext cx="532692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nsitivity to CP violation in 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mixing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2R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(CPT symmetry assumed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32240" y="34704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2760" y="4675320"/>
            <a:ext cx="3268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never measured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514600"/>
            <a:ext cx="87631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CPT holds,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gnals CPT violation in mixing and/or decay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28040" y="1271520"/>
            <a:ext cx="4893480" cy="1186200"/>
            <a:chOff x="1328040" y="1271520"/>
            <a:chExt cx="4893480" cy="1186200"/>
          </a:xfrm>
        </p:grpSpPr>
        <p:grpSp>
          <p:nvGrpSpPr>
            <p:cNvPr id="174" name=""/>
            <p:cNvGrpSpPr/>
            <p:nvPr/>
          </p:nvGrpSpPr>
          <p:grpSpPr>
            <a:xfrm>
              <a:off x="2182680" y="1271520"/>
              <a:ext cx="4038840" cy="1186200"/>
              <a:chOff x="2182680" y="1271520"/>
              <a:chExt cx="4038840" cy="1186200"/>
            </a:xfrm>
          </p:grpSpPr>
          <p:sp>
            <p:nvSpPr>
              <p:cNvPr id="175" name=""/>
              <p:cNvSpPr/>
              <p:nvPr/>
            </p:nvSpPr>
            <p:spPr>
              <a:xfrm>
                <a:off x="2218320" y="1490400"/>
                <a:ext cx="39312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K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K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83040" y="1982520"/>
                <a:ext cx="40014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K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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K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82680" y="1952280"/>
                <a:ext cx="403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10040" y="12715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29120" y="17665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28040" y="1746000"/>
              <a:ext cx="8391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5600" y="5745240"/>
            <a:ext cx="6278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extract |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via measurement of BR(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720" y="5211720"/>
            <a:ext cx="763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of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 rule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1 + 4 R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84040"/>
            <a:ext cx="467964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4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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GB" sz="4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3984480"/>
            <a:ext cx="259092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38320" y="800280"/>
            <a:ext cx="3326400" cy="5797080"/>
            <a:chOff x="5638320" y="800280"/>
            <a:chExt cx="3326400" cy="5797080"/>
          </a:xfrm>
        </p:grpSpPr>
        <p:grpSp>
          <p:nvGrpSpPr>
            <p:cNvPr id="186" name=""/>
            <p:cNvGrpSpPr/>
            <p:nvPr/>
          </p:nvGrpSpPr>
          <p:grpSpPr>
            <a:xfrm>
              <a:off x="5638320" y="3336840"/>
              <a:ext cx="1120320" cy="456840"/>
              <a:chOff x="5638320" y="3336840"/>
              <a:chExt cx="1120320" cy="456840"/>
            </a:xfrm>
          </p:grpSpPr>
          <p:sp>
            <p:nvSpPr>
              <p:cNvPr id="187" name=""/>
              <p:cNvSpPr/>
              <p:nvPr/>
            </p:nvSpPr>
            <p:spPr>
              <a:xfrm>
                <a:off x="5643720" y="3336840"/>
                <a:ext cx="1109520" cy="456840"/>
              </a:xfrm>
              <a:prstGeom prst="roundRect">
                <a:avLst>
                  <a:gd name="adj" fmla="val 3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38320" y="3336840"/>
                <a:ext cx="1120320" cy="434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145200" y="800280"/>
              <a:ext cx="2743200" cy="26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987240" y="800280"/>
              <a:ext cx="789120" cy="52380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3000" spc="-1" strike="noStrike" baseline="30000">
                  <a:solidFill>
                    <a:srgbClr val="ff0000"/>
                  </a:solidFill>
                  <a:latin typeface="SymbolProp BT"/>
                  <a:ea typeface="SymbolProp BT"/>
                </a:rPr>
                <a:t></a:t>
              </a:r>
              <a:r>
                <a:rPr b="0" i="1" lang="en-GB" sz="3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GB" sz="3000" spc="-1" strike="noStrike" baseline="30000">
                  <a:solidFill>
                    <a:srgbClr val="ff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GB" sz="3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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63480" y="1241280"/>
              <a:ext cx="1471680" cy="37728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1531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145200" y="3848040"/>
              <a:ext cx="28195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99760" y="3771720"/>
              <a:ext cx="789120" cy="52380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66ff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3000" spc="-1" strike="noStrike" baseline="30000">
                  <a:solidFill>
                    <a:srgbClr val="0066ff"/>
                  </a:solidFill>
                  <a:latin typeface="SymbolProp BT"/>
                  <a:ea typeface="SymbolProp BT"/>
                </a:rPr>
                <a:t></a:t>
              </a:r>
              <a:r>
                <a:rPr b="0" i="1" lang="en-GB" sz="3000" spc="-1" strike="noStrike">
                  <a:solidFill>
                    <a:srgbClr val="0066ff"/>
                  </a:solidFill>
                  <a:latin typeface="Times New Roman"/>
                </a:rPr>
                <a:t>e</a:t>
              </a:r>
              <a:r>
                <a:rPr b="0" lang="en-GB" sz="3000" spc="-1" strike="noStrike" baseline="30000">
                  <a:solidFill>
                    <a:srgbClr val="0066ff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3000" spc="-1" strike="noStrike">
                  <a:solidFill>
                    <a:srgbClr val="0066ff"/>
                  </a:solidFill>
                  <a:latin typeface="SymbolProp BT"/>
                  <a:ea typeface="SymbolProp BT"/>
                </a:rPr>
                <a:t>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120" y="4340160"/>
              <a:ext cx="1599840" cy="37728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1805 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17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02400" y="3467160"/>
              <a:ext cx="22860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neva"/>
                </a:rPr>
                <a:t>E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Geneva"/>
                </a:rPr>
                <a:t>MISS </a:t>
              </a:r>
              <a:r>
                <a:rPr b="0" lang="en-GB" sz="1600" spc="-1" strike="noStrike">
                  <a:solidFill>
                    <a:srgbClr val="000000"/>
                  </a:solidFill>
                  <a:latin typeface="Geneva"/>
                </a:rPr>
                <a:t>– cP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Geneva"/>
                </a:rPr>
                <a:t>MISS</a:t>
              </a:r>
              <a:r>
                <a:rPr b="0" lang="en-GB" sz="1600" spc="-1" strike="noStrike">
                  <a:solidFill>
                    <a:srgbClr val="000000"/>
                  </a:solidFill>
                  <a:latin typeface="Geneva"/>
                </a:rPr>
                <a:t>(Me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agged by K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nte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E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(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, 2-track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/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ID by 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= (24.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0.2)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 = (23.6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0.2)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decays included in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 data to MC spectra of signal (missing E - cP ~ 0) +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to PDG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get </a:t>
            </a:r>
            <a:r>
              <a:rPr b="0" lang="en-US" sz="2000" spc="-1" strike="noStrike">
                <a:solidFill>
                  <a:srgbClr val="ff1a3b"/>
                </a:solidFill>
                <a:latin typeface="Arial"/>
              </a:rPr>
              <a:t>BR(K</a:t>
            </a:r>
            <a:r>
              <a:rPr b="0" lang="en-US" sz="2000" spc="-1" strike="noStrike" baseline="-25000">
                <a:solidFill>
                  <a:srgbClr val="ff1a3b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1a3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1a3b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1a3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2160" y="5181480"/>
            <a:ext cx="5884920" cy="448920"/>
          </a:xfrm>
          <a:prstGeom prst="roundRect">
            <a:avLst>
              <a:gd name="adj" fmla="val 315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= (7.09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0.07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0.08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715000"/>
            <a:ext cx="7696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6093000"/>
            <a:ext cx="525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3.32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058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047)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KTeV 20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3.317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07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072)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NA48 200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76960" y="404640"/>
            <a:ext cx="231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10p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2001/02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(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motivations of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e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BR: expec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events from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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IDs of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ome charge identification for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way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ver done before. Here it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1120" y="2362320"/>
            <a:ext cx="8287920" cy="3970440"/>
            <a:chOff x="411120" y="2362320"/>
            <a:chExt cx="8287920" cy="3970440"/>
          </a:xfrm>
        </p:grpSpPr>
        <p:grpSp>
          <p:nvGrpSpPr>
            <p:cNvPr id="204" name=""/>
            <p:cNvGrpSpPr/>
            <p:nvPr/>
          </p:nvGrpSpPr>
          <p:grpSpPr>
            <a:xfrm>
              <a:off x="411120" y="2432880"/>
              <a:ext cx="8287920" cy="3899880"/>
              <a:chOff x="411120" y="2432880"/>
              <a:chExt cx="8287920" cy="38998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11120" y="2445840"/>
                <a:ext cx="8215200" cy="3302640"/>
                <a:chOff x="411120" y="2445840"/>
                <a:chExt cx="8215200" cy="33026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36720" y="2445840"/>
                  <a:ext cx="4089600" cy="330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11120" y="2467800"/>
                  <a:ext cx="4134240" cy="326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8" name=""/>
              <p:cNvGrpSpPr/>
              <p:nvPr/>
            </p:nvGrpSpPr>
            <p:grpSpPr>
              <a:xfrm>
                <a:off x="446400" y="2432880"/>
                <a:ext cx="8170920" cy="3323520"/>
                <a:chOff x="446400" y="2432880"/>
                <a:chExt cx="8170920" cy="33235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46400" y="2432880"/>
                  <a:ext cx="8170920" cy="3323520"/>
                  <a:chOff x="446400" y="2432880"/>
                  <a:chExt cx="8170920" cy="3323520"/>
                </a:xfrm>
              </p:grpSpPr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5000" y="2446920"/>
                    <a:ext cx="4072320" cy="328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" y="2432880"/>
                    <a:ext cx="4054320" cy="33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12" name=""/>
                <p:cNvSpPr/>
                <p:nvPr/>
              </p:nvSpPr>
              <p:spPr>
                <a:xfrm>
                  <a:off x="946440" y="3735360"/>
                  <a:ext cx="1264320" cy="160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uts 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*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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pos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1" lang="en-GB" sz="2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t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996440" y="3735360"/>
                  <a:ext cx="1264320" cy="160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uts 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*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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pos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1" lang="en-GB" sz="2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t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2475000" y="5869080"/>
                <a:ext cx="208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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MeV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48600" y="5680440"/>
                <a:ext cx="86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56804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18320" y="5680440"/>
                <a:ext cx="85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35440" y="5680440"/>
                <a:ext cx="85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99400" y="5680440"/>
                <a:ext cx="85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83080" y="2646360"/>
                <a:ext cx="325836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735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2002 Da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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1" lang="en-GB" sz="24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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15000" y="5873040"/>
                <a:ext cx="208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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MeV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8176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00320" y="5685840"/>
                <a:ext cx="85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680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5852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92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6280" y="2650320"/>
                <a:ext cx="325692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735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2002 Da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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1" lang="en-GB" sz="24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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839040" y="23623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46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54920" y="23623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465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GB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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test of CP and C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00" y="838080"/>
            <a:ext cx="87836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Observation of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signals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violation in mixing and/or deca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P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conserved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S000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L000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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000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~ 2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est results: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R &lt; 1.4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 90% CL   SND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R &lt; 7.4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7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  90% CL  NA48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Uncertainty on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amplitude currently limits precision on Im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1a3b"/>
                </a:solidFill>
                <a:latin typeface="Times New Roman"/>
              </a:rPr>
              <a:t>From unitarity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Bell-Steinberger relation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est results: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Im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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= (2.4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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5.0)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            CPLEAR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Im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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= (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1.2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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3.0)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NA48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03 prelimi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2913120"/>
            <a:ext cx="1953720" cy="61020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eneva"/>
              </a:rPr>
              <a:t>describes C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1a3b"/>
                </a:solidFill>
                <a:latin typeface="SymbolProp BT"/>
                <a:ea typeface="SymbolProp BT"/>
              </a:rPr>
              <a:t></a:t>
            </a:r>
            <a:r>
              <a:rPr b="0" lang="en-GB" sz="1800" spc="-1" strike="noStrike">
                <a:solidFill>
                  <a:srgbClr val="ff1a3b"/>
                </a:solidFill>
                <a:latin typeface="Geneva"/>
              </a:rPr>
              <a:t> </a:t>
            </a:r>
            <a:r>
              <a:rPr b="0" lang="en-GB" sz="1800" spc="-1" strike="noStrike">
                <a:solidFill>
                  <a:srgbClr val="ff1a3b"/>
                </a:solidFill>
                <a:latin typeface="Geneva"/>
              </a:rPr>
              <a:t>describes C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58600" y="3400560"/>
            <a:ext cx="6949440" cy="808560"/>
            <a:chOff x="858600" y="3400560"/>
            <a:chExt cx="6949440" cy="808560"/>
          </a:xfrm>
        </p:grpSpPr>
        <p:sp>
          <p:nvSpPr>
            <p:cNvPr id="234" name=""/>
            <p:cNvSpPr/>
            <p:nvPr/>
          </p:nvSpPr>
          <p:spPr>
            <a:xfrm>
              <a:off x="4839480" y="3502080"/>
              <a:ext cx="374400" cy="571680"/>
            </a:xfrm>
            <a:custGeom>
              <a:avLst/>
              <a:gdLst/>
              <a:ahLst/>
              <a:rect l="l" t="t" r="r" b="b"/>
              <a:pathLst>
                <a:path w="21600" h="32971">
                  <a:moveTo>
                    <a:pt x="69" y="0"/>
                  </a:moveTo>
                  <a:arcTo wR="69" hR="69" stAng="16200000" swAng="-5400000"/>
                  <a:lnTo>
                    <a:pt x="0" y="32902"/>
                  </a:lnTo>
                  <a:arcTo wR="69" hR="69" stAng="10800000" swAng="-5400000"/>
                  <a:lnTo>
                    <a:pt x="21531" y="32971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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600" y="3578400"/>
              <a:ext cx="3586320" cy="4489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tan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</a:t>
              </a:r>
              <a:r>
                <a:rPr b="0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SW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) [Re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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m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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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7800" y="3578400"/>
              <a:ext cx="2370240" cy="4489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524480" y="3400560"/>
              <a:ext cx="364320" cy="808560"/>
              <a:chOff x="4524480" y="3400560"/>
              <a:chExt cx="364320" cy="808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24480" y="3756240"/>
                <a:ext cx="364320" cy="452880"/>
              </a:xfrm>
              <a:custGeom>
                <a:avLst/>
                <a:gdLst>
                  <a:gd name="textAreaLeft" fmla="*/ 360 w 364320"/>
                  <a:gd name="textAreaRight" fmla="*/ 363960 w 364320"/>
                  <a:gd name="textAreaTop" fmla="*/ 360 h 452880"/>
                  <a:gd name="textAreaBottom" fmla="*/ 452520 h 452880"/>
                </a:gdLst>
                <a:ahLst/>
                <a:rect l="textAreaLeft" t="textAreaTop" r="textAreaRight" b="textAreaBottom"/>
                <a:pathLst>
                  <a:path w="21600" h="26845">
                    <a:moveTo>
                      <a:pt x="80" y="0"/>
                    </a:moveTo>
                    <a:arcTo wR="80" hR="80" stAng="16200000" swAng="-5400000"/>
                    <a:lnTo>
                      <a:pt x="0" y="26765"/>
                    </a:lnTo>
                    <a:arcTo wR="80" hR="80" stAng="10800000" swAng="-5400000"/>
                    <a:lnTo>
                      <a:pt x="21520" y="26845"/>
                    </a:lnTo>
                    <a:arcTo wR="80" hR="80" stAng="5400000" swAng="-5400000"/>
                    <a:lnTo>
                      <a:pt x="21600" y="80"/>
                    </a:lnTo>
                    <a:arcTo wR="80" hR="8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</a:t>
                </a:r>
                <a:r>
                  <a:rPr b="0" i="1" lang="en-GB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44280" y="3400560"/>
                <a:ext cx="321480" cy="406080"/>
              </a:xfrm>
              <a:custGeom>
                <a:avLst/>
                <a:gdLst>
                  <a:gd name="textAreaLeft" fmla="*/ 360 w 321480"/>
                  <a:gd name="textAreaRight" fmla="*/ 321120 w 321480"/>
                  <a:gd name="textAreaTop" fmla="*/ 360 h 406080"/>
                  <a:gd name="textAreaBottom" fmla="*/ 405720 h 406080"/>
                </a:gdLst>
                <a:ahLst/>
                <a:rect l="textAreaLeft" t="textAreaTop" r="textAreaRight" b="textAreaBottom"/>
                <a:pathLst>
                  <a:path w="21600" h="27278">
                    <a:moveTo>
                      <a:pt x="105" y="0"/>
                    </a:moveTo>
                    <a:arcTo wR="105" hR="105" stAng="16200000" swAng="-5400000"/>
                    <a:lnTo>
                      <a:pt x="0" y="27173"/>
                    </a:lnTo>
                    <a:arcTo wR="105" hR="105" stAng="10800000" swAng="-5400000"/>
                    <a:lnTo>
                      <a:pt x="21495" y="27278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91080" y="3792600"/>
                <a:ext cx="228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304920" y="5105520"/>
            <a:ext cx="8610480" cy="914400"/>
            <a:chOff x="304920" y="5105520"/>
            <a:chExt cx="8610480" cy="914400"/>
          </a:xfrm>
        </p:grpSpPr>
        <p:sp>
          <p:nvSpPr>
            <p:cNvPr id="242" name=""/>
            <p:cNvSpPr/>
            <p:nvPr/>
          </p:nvSpPr>
          <p:spPr>
            <a:xfrm>
              <a:off x="6340680" y="5181840"/>
              <a:ext cx="2509200" cy="787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Compare 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Planc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= 4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174840" y="5141880"/>
                  <a:ext cx="121608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4435560" y="5348520"/>
              <a:ext cx="1698120" cy="406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&lt;  ~ 8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73360" y="5367600"/>
              <a:ext cx="228600" cy="390240"/>
            </a:xfrm>
            <a:custGeom>
              <a:avLst/>
              <a:gdLst/>
              <a:ahLst/>
              <a:rect l="l" t="t" r="r" b="b"/>
              <a:pathLst>
                <a:path w="636" h="1085">
                  <a:moveTo>
                    <a:pt x="0" y="339"/>
                  </a:moveTo>
                  <a:lnTo>
                    <a:pt x="344" y="339"/>
                  </a:lnTo>
                  <a:lnTo>
                    <a:pt x="344" y="0"/>
                  </a:lnTo>
                  <a:lnTo>
                    <a:pt x="635" y="542"/>
                  </a:lnTo>
                  <a:lnTo>
                    <a:pt x="344" y="1084"/>
                  </a:lnTo>
                  <a:lnTo>
                    <a:pt x="344" y="745"/>
                  </a:lnTo>
                  <a:lnTo>
                    <a:pt x="0" y="745"/>
                  </a:lnTo>
                  <a:lnTo>
                    <a:pt x="0" y="3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7040" y="5342040"/>
              <a:ext cx="23068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4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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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&lt; ~ 2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4920" y="5105520"/>
              <a:ext cx="861048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(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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876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rest decay studied by KLOE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ample: 0.5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1-2002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.8 x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rash tag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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6 prompt phot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ackground ~40K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matic fit,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imator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ll analysis cut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4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candidate events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pected backgr. =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13 ± 0.82 ± 0.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4800600" cy="2274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327640" y="1773360"/>
            <a:ext cx="3816360" cy="37130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638680" y="1163520"/>
            <a:ext cx="3310200" cy="7095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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 ≤ 1.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@90% CL. </a:t>
            </a: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Best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0520" y="595620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C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ot sca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63040" y="5979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13760" y="5877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in 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619 61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00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(CPC)~ 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R(CPV)~1.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 measurement of CPC part possible with ultimate 2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tests untested prediction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ample: 740 pb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pb-1 (2001/2 data)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67 (2004 data 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BR=3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~230 signal event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60199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ysic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ata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ltimate goal: physics  with 2.5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.5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ff-peak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70480" y="1371600"/>
            <a:ext cx="482436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ject background with kinematic 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aints (8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4-momentum con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fro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m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m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lt; 3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t efficiency = 48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all signal efficiency = 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99% of background rej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ackground re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3400" y="944640"/>
            <a:ext cx="845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MC, 24060 events expected after preselection (of which ~16 sig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35080" y="1523880"/>
            <a:ext cx="4095720" cy="4343400"/>
            <a:chOff x="235080" y="1523880"/>
            <a:chExt cx="4095720" cy="43434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235080" y="1523880"/>
              <a:ext cx="40957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030320" y="1854000"/>
              <a:ext cx="28875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from kinematic fi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25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imes New Roman"/>
                </a:rPr>
                <a:t>MC backgr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2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C signal (</a:t>
              </a: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~10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68560" y="2463840"/>
              <a:ext cx="3045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68560" y="2857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419720" y="5281560"/>
            <a:ext cx="4647960" cy="1341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liminary results with 740 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 efficiency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~ 1.5%, 6 candida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ground (sidebands)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5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al error: ~ 100%, systematics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FISICA DEL K</a:t>
            </a:r>
            <a:r>
              <a:rPr b="0" lang="it-IT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54360" y="3838680"/>
            <a:ext cx="30682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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d 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sura della vita media del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agging of charged ka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20" y="2057400"/>
            <a:ext cx="44193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ag performed sel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cays (85% of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y measuring the charged p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mentum in the K rest frame (P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igger required on the tag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4645080" cy="4724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asurement of BR(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886200"/>
            <a:ext cx="412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ag from K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self-trigg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002 data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75 pb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2/3 is us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fficiency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ckground even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ied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he presence of a neutral p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419720" y="1066680"/>
            <a:ext cx="4702680" cy="4722840"/>
            <a:chOff x="4419720" y="1066680"/>
            <a:chExt cx="4702680" cy="47228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485960" y="1283040"/>
              <a:ext cx="4332600" cy="41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419720" y="5136840"/>
              <a:ext cx="46476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59840" y="31579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65040" y="1860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34960" y="3518640"/>
              <a:ext cx="12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r>
                <a:rPr b="1" lang="it-IT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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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92120" y="53906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6680" y="1066680"/>
              <a:ext cx="40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article momentum in K rest fr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28600" y="1066680"/>
            <a:ext cx="451152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bining the experimental valu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K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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))/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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ith 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/f</a:t>
            </a:r>
            <a:r>
              <a:rPr b="1" lang="it-IT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from lattic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e can extract the ratio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|/|V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ud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Marciano hep-ph/040632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34290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2440" y="2124000"/>
            <a:ext cx="5403960" cy="43531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510160" y="2895480"/>
            <a:ext cx="3481560" cy="31402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541440" y="914400"/>
            <a:ext cx="8297640" cy="1000080"/>
            <a:chOff x="541440" y="914400"/>
            <a:chExt cx="8297640" cy="1000080"/>
          </a:xfrm>
        </p:grpSpPr>
        <p:sp>
          <p:nvSpPr>
            <p:cNvPr id="290" name=""/>
            <p:cNvSpPr/>
            <p:nvPr/>
          </p:nvSpPr>
          <p:spPr>
            <a:xfrm>
              <a:off x="4724280" y="990720"/>
              <a:ext cx="4114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440" y="914400"/>
              <a:ext cx="7993080" cy="1000080"/>
            </a:xfrm>
            <a:prstGeom prst="roundRect">
              <a:avLst>
                <a:gd name="adj" fmla="val 157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1219320"/>
              <a:ext cx="746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BR(K</a:t>
              </a:r>
              <a:r>
                <a:rPr b="0" lang="en-US" sz="2400" spc="-1" strike="noStrike" baseline="30000">
                  <a:solidFill>
                    <a:srgbClr val="cc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30000">
                  <a:solidFill>
                    <a:srgbClr val="cc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)) = 0.6366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0.0009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Comic Sans MS"/>
                </a:rPr>
                <a:t>stat.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0.0015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Comic Sans MS"/>
                </a:rPr>
                <a:t>sy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105520" cy="48132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7800" y="1219320"/>
            <a:ext cx="558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/f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1.21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14 (MILC Coll. hep-lat/04070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6480" y="838080"/>
            <a:ext cx="621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llowing the method from Marciano hep-ph/0406324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9000" y="3105000"/>
            <a:ext cx="2698200" cy="87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=0.2223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±0.00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905120"/>
            <a:ext cx="2895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0.974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erallowed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c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05920" y="3200400"/>
            <a:ext cx="45720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6019920"/>
            <a:ext cx="533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Comic Sans MS"/>
              </a:rPr>
              <a:t>new unpublished V</a:t>
            </a:r>
            <a:r>
              <a:rPr b="0" lang="en-US" sz="1600" spc="-1" strike="noStrike" u="sng" baseline="-25000">
                <a:solidFill>
                  <a:srgbClr val="800080"/>
                </a:solidFill>
                <a:uFillTx/>
                <a:latin typeface="Comic Sans MS"/>
              </a:rPr>
              <a:t>ud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omic Sans MS"/>
              </a:rPr>
              <a:t> value will shrink the error b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emileptonic decays of K</a:t>
            </a:r>
            <a:r>
              <a:rPr b="0" lang="it-IT" sz="4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1050840"/>
            <a:ext cx="487692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bsolute BR measurement.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agging with K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vertex in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jection of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pectrum of charged daughter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TO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(c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/L)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1]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tio of data and MC efficiency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o correct MC accep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867280" y="838080"/>
            <a:ext cx="3200400" cy="2895840"/>
            <a:chOff x="5867280" y="838080"/>
            <a:chExt cx="3200400" cy="289584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2004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185240" y="174240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79680" y="130968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15760" y="2340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34040" y="2601360"/>
              <a:ext cx="38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56000" y="2125080"/>
              <a:ext cx="1104840" cy="545760"/>
            </a:xfrm>
            <a:prstGeom prst="line">
              <a:avLst/>
            </a:prstGeom>
            <a:ln w="2232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760800" y="2665440"/>
              <a:ext cx="500040" cy="639720"/>
            </a:xfrm>
            <a:prstGeom prst="line">
              <a:avLst/>
            </a:prstGeom>
            <a:ln w="2232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68040" y="19623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9080" y="285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657600"/>
            <a:ext cx="3733920" cy="2971800"/>
            <a:chOff x="5410080" y="3657600"/>
            <a:chExt cx="3733920" cy="297180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rcRect l="1516" t="10183" r="28558" b="11386"/>
            <a:stretch/>
          </p:blipFill>
          <p:spPr>
            <a:xfrm>
              <a:off x="5410080" y="3657600"/>
              <a:ext cx="37339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257960" y="4999320"/>
              <a:ext cx="148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6" name=""/>
          <p:cNvGraphicFramePr/>
          <p:nvPr/>
        </p:nvGraphicFramePr>
        <p:xfrm>
          <a:off x="611280" y="4869000"/>
          <a:ext cx="7467480" cy="1304640"/>
        </p:xfrm>
        <a:graphic>
          <a:graphicData uri="http://schemas.openxmlformats.org/drawingml/2006/table">
            <a:tbl>
              <a:tblPr/>
              <a:tblGrid>
                <a:gridCol w="762120"/>
                <a:gridCol w="1752480"/>
                <a:gridCol w="1676520"/>
                <a:gridCol w="1676160"/>
                <a:gridCol w="1600200"/>
              </a:tblGrid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e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13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42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92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59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08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15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3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84160" y="625644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ill be announced at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asurement of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5000" y="5349960"/>
            <a:ext cx="8856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we have two different methods to measure the charged kaon lifetime : (1) by K decay length and (2) by K decay tim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066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e Particle Data Group values are questiona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66760" y="1590840"/>
            <a:ext cx="5219640" cy="3743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800600" y="29718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= (12.385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0.025)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asurement of K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fetime: fit of the proper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28600" y="1676520"/>
            <a:ext cx="4343400" cy="4210560"/>
            <a:chOff x="228600" y="1676520"/>
            <a:chExt cx="4343400" cy="421056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304920" y="1820880"/>
              <a:ext cx="4200480" cy="40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776240" y="1978920"/>
              <a:ext cx="2262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</a:t>
              </a:r>
              <a:r>
                <a:rPr b="0" lang="it-IT" sz="2800" spc="-1" strike="noStrike" baseline="30000">
                  <a:solidFill>
                    <a:srgbClr val="ff0000"/>
                  </a:solidFill>
                  <a:latin typeface="Comic Sans MS"/>
                </a:rPr>
                <a:t>2  </a:t>
              </a: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= 1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3920" y="5518800"/>
              <a:ext cx="838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" y="1676520"/>
              <a:ext cx="990720" cy="36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48320" y="4572000"/>
            <a:ext cx="4495680" cy="14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C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vxt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resolutio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obtained smearing the MC D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vtx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esolution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comparing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–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DC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) in DATA and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038480" y="1676520"/>
            <a:ext cx="5105160" cy="2681280"/>
            <a:chOff x="4038480" y="1676520"/>
            <a:chExt cx="5105160" cy="2681280"/>
          </a:xfrm>
        </p:grpSpPr>
        <p:sp>
          <p:nvSpPr>
            <p:cNvPr id="331" name=""/>
            <p:cNvSpPr/>
            <p:nvPr/>
          </p:nvSpPr>
          <p:spPr>
            <a:xfrm>
              <a:off x="8525160" y="3989520"/>
              <a:ext cx="618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4038480" y="1981080"/>
              <a:ext cx="5105160" cy="21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812120" y="2514600"/>
              <a:ext cx="208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Comic Sans MS"/>
                </a:rPr>
                <a:t>t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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400 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95000" y="1676520"/>
              <a:ext cx="2862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vtx) –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DC vtx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4920" y="89856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proper time slope is fitted with an exponential function convoluted with the appropriate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C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resolutio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functions bin by bi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500 ps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8360" y="5715000"/>
                <a:ext cx="3744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n physics results with 0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1-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E has performed a preliminary measurem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jor 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BRs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lifetime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(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 baseline="30000">
                <a:solidFill>
                  <a:srgbClr val="ff0000"/>
                </a:solidFill>
                <a:latin typeface="MT Extra"/>
                <a:ea typeface="MT Extra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(K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</a:t>
            </a:r>
            <a:r>
              <a:rPr b="1" lang="en-US" sz="1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ccurac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BRs are inclusive of th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papers are under review by the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E has set the best upper limit on BR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number of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mileptonic decays has been selected and allows a BR measurement with accuracy &lt; 1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E is now measu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ng so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few ‰ accuracy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tur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Kaon Physics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160640"/>
          <a:ext cx="7391520" cy="5240160"/>
        </p:xfrm>
        <a:graphic>
          <a:graphicData uri="http://schemas.openxmlformats.org/drawingml/2006/table">
            <a:tbl>
              <a:tblPr/>
              <a:tblGrid>
                <a:gridCol w="3581280"/>
                <a:gridCol w="3810240"/>
              </a:tblGrid>
              <a:tr h="6130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Major decays of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K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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 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 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0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 3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aper in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6 61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Comic Sans MS"/>
                        </a:rPr>
                        <a:t>us</a:t>
                      </a:r>
                      <a:r>
                        <a:rPr b="1" lang="en-US" sz="1500" spc="-1" strike="noStrike" baseline="-25000">
                          <a:solidFill>
                            <a:srgbClr val="cc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 and K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Comic Sans MS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aper in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K</a:t>
                      </a:r>
                      <a:r>
                        <a:rPr b="0" lang="it-IT" sz="15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1" lang="it-IT" sz="15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life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aper in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04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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8 21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pdate with ’01-’02 data in prog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04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SymbolProp BT"/>
                          <a:ea typeface="SymbolProp BT"/>
                        </a:rPr>
                        <a:t>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</a:t>
                      </a: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5 37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pdate with ’01-’02 data in prog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619 61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5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n progress, uses also 2004 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22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OE Note 181, www.lnf.infn.it/klo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22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.M. inter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cc0000"/>
                          </a:solidFill>
                          <a:latin typeface="Comic Sans MS"/>
                        </a:rPr>
                        <a:t>us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1500" spc="-1" strike="noStrike" baseline="30000">
                          <a:solidFill>
                            <a:srgbClr val="cc0000"/>
                          </a:solidFill>
                          <a:latin typeface="Comic Sans MS"/>
                        </a:rPr>
                        <a:t>±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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aper in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786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cc0000"/>
                          </a:solidFill>
                          <a:latin typeface="Comic Sans MS"/>
                        </a:rPr>
                        <a:t>±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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cc0000"/>
                          </a:solidFill>
                          <a:latin typeface="Comic Sans MS"/>
                        </a:rPr>
                        <a:t>±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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cc0000"/>
                          </a:solidFill>
                          <a:latin typeface="Comic Sans MS"/>
                        </a:rPr>
                        <a:t>± 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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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cc0000"/>
                          </a:solidFill>
                          <a:latin typeface="Comic Sans MS"/>
                        </a:rPr>
                        <a:t>±</a:t>
                      </a: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 life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n prog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22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 B597 139 (200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64" name=""/>
          <p:cNvGrpSpPr/>
          <p:nvPr/>
        </p:nvGrpSpPr>
        <p:grpSpPr>
          <a:xfrm>
            <a:off x="414720" y="1157400"/>
            <a:ext cx="465480" cy="4620960"/>
            <a:chOff x="414720" y="1157400"/>
            <a:chExt cx="465480" cy="4620960"/>
          </a:xfrm>
        </p:grpSpPr>
        <p:sp>
          <p:nvSpPr>
            <p:cNvPr id="65" name=""/>
            <p:cNvSpPr/>
            <p:nvPr/>
          </p:nvSpPr>
          <p:spPr>
            <a:xfrm>
              <a:off x="414720" y="327672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720" y="525780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4720" y="207180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6160" y="396252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6160" y="115740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sults 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diative dec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14400" y="1081080"/>
          <a:ext cx="7238880" cy="5353200"/>
        </p:xfrm>
        <a:graphic>
          <a:graphicData uri="http://schemas.openxmlformats.org/drawingml/2006/table">
            <a:tbl>
              <a:tblPr/>
              <a:tblGrid>
                <a:gridCol w="2943360"/>
                <a:gridCol w="4295520"/>
              </a:tblGrid>
              <a:tr h="6555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980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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6 209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– 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date in progres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50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980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7 21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 - 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date in progres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2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980)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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w preliminary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60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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41  45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 – 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date in progres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60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91 45 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80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74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alitz plot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3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11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 B606 276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80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1 55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11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eptonic wid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 B608 199-205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14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adronic cross 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 B606 12-24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414720" y="2224080"/>
            <a:ext cx="464040" cy="4254480"/>
            <a:chOff x="414720" y="2224080"/>
            <a:chExt cx="464040" cy="4254480"/>
          </a:xfrm>
        </p:grpSpPr>
        <p:sp>
          <p:nvSpPr>
            <p:cNvPr id="342" name=""/>
            <p:cNvSpPr/>
            <p:nvPr/>
          </p:nvSpPr>
          <p:spPr>
            <a:xfrm>
              <a:off x="414720" y="351972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720" y="595800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4720" y="222408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36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ibution t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de-D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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5760" y="682560"/>
            <a:ext cx="8088120" cy="4888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5400000">
            <a:off x="3647520" y="141768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-225720" y="141768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28880" y="3673440"/>
            <a:ext cx="2291400" cy="20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Bookman Old Style"/>
              </a:rPr>
              <a:t>EVA (ISR+F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EVA (ISR+FSR) + </a:t>
            </a: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f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man Old Style"/>
              </a:rPr>
              <a:t>(K-loop model)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Bookman Old Sty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-433080" y="124596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sym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3631680" y="149400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59920" y="5334120"/>
            <a:ext cx="133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[MeV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01920" y="5318280"/>
            <a:ext cx="133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[MeV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4560" y="5699160"/>
            <a:ext cx="881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th the insertion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980) the MC now has the same shape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93640" y="8380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rward-backward pion 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400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en-US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Tests O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938760" cy="38530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267080" y="990720"/>
            <a:ext cx="3598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al + background after fit reproduces well th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8920" y="6021360"/>
            <a:ext cx="5606280" cy="5353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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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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( 8.4 ±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7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a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4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yst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0542200">
            <a:off x="6156000" y="5157720"/>
            <a:ext cx="2736720" cy="576360"/>
          </a:xfrm>
          <a:prstGeom prst="rect">
            <a:avLst/>
          </a:prstGeom>
          <a:solidFill>
            <a:srgbClr val="ffccff"/>
          </a:solidFill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8480" y="1752480"/>
            <a:ext cx="5181480" cy="2819160"/>
            <a:chOff x="4038480" y="1752480"/>
            <a:chExt cx="5181480" cy="281916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4038480" y="1752480"/>
              <a:ext cx="42879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052400" y="3519000"/>
              <a:ext cx="1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9640" y="3657960"/>
              <a:ext cx="76680" cy="54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4040" y="2176200"/>
              <a:ext cx="554760" cy="5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89440" y="3145680"/>
              <a:ext cx="31042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789440" y="3375720"/>
              <a:ext cx="31042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789440" y="3652920"/>
              <a:ext cx="31042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67880" y="3083760"/>
              <a:ext cx="12520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Crys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Ball (20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28360" y="3090240"/>
              <a:ext cx="0" cy="6001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29880" y="2360520"/>
              <a:ext cx="69912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600" spc="-1" strike="noStrike">
                  <a:solidFill>
                    <a:srgbClr val="009900"/>
                  </a:solidFill>
                  <a:latin typeface="Times New Roman"/>
                </a:rPr>
                <a:t>GAMS (198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789440" y="2315160"/>
              <a:ext cx="3104280" cy="507240"/>
              <a:chOff x="4789440" y="2315160"/>
              <a:chExt cx="3104280" cy="50724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4789440" y="2591640"/>
                <a:ext cx="31042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789440" y="2315160"/>
                <a:ext cx="3104280" cy="0"/>
              </a:xfrm>
              <a:prstGeom prst="line">
                <a:avLst/>
              </a:prstGeom>
              <a:ln w="442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4789440" y="2822400"/>
                <a:ext cx="3104280" cy="0"/>
              </a:xfrm>
              <a:prstGeom prst="line">
                <a:avLst/>
              </a:prstGeom>
              <a:ln w="41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8005320" y="2315160"/>
              <a:ext cx="0" cy="507240"/>
            </a:xfrm>
            <a:prstGeom prst="line">
              <a:avLst/>
            </a:prstGeom>
            <a:ln w="4428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04200" y="3757320"/>
              <a:ext cx="76680" cy="6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75120" y="3625200"/>
              <a:ext cx="78480" cy="66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83880" y="3582720"/>
              <a:ext cx="0" cy="391680"/>
            </a:xfrm>
            <a:prstGeom prst="line">
              <a:avLst/>
            </a:prstGeom>
            <a:ln w="25560">
              <a:solidFill>
                <a:srgbClr val="ff66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88640" y="3672720"/>
              <a:ext cx="69552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600" spc="-1" strike="noStrike">
                  <a:solidFill>
                    <a:srgbClr val="ff66cc"/>
                  </a:solidFill>
                  <a:latin typeface="Times New Roman"/>
                </a:rPr>
                <a:t>KLO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36560" y="4594320"/>
            <a:ext cx="42670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Bitstream Vera Serif"/>
              </a:rPr>
              <a:t>N</a:t>
            </a:r>
            <a:r>
              <a:rPr b="0" lang="en-GB" sz="1800" spc="-1" strike="noStrike" baseline="-33000">
                <a:solidFill>
                  <a:srgbClr val="333399"/>
                </a:solidFill>
                <a:latin typeface="Bitstream Vera Serif"/>
              </a:rPr>
              <a:t>DATA </a:t>
            </a:r>
            <a:r>
              <a:rPr b="0" lang="en-GB" sz="1800" spc="-1" strike="noStrike">
                <a:solidFill>
                  <a:srgbClr val="333399"/>
                </a:solidFill>
                <a:latin typeface="Bitstream Vera Serif"/>
              </a:rPr>
              <a:t>= 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Bitstream Vera Serif"/>
              </a:rPr>
              <a:t>N</a:t>
            </a:r>
            <a:r>
              <a:rPr b="0" lang="en-GB" sz="1800" spc="-1" strike="noStrike" baseline="-33000">
                <a:solidFill>
                  <a:srgbClr val="333399"/>
                </a:solidFill>
                <a:latin typeface="Bitstream Vera Serif"/>
              </a:rPr>
              <a:t>bkg</a:t>
            </a:r>
            <a:r>
              <a:rPr b="0" lang="en-GB" sz="1800" spc="-1" strike="noStrike">
                <a:solidFill>
                  <a:srgbClr val="333399"/>
                </a:solidFill>
                <a:latin typeface="Bitstream Vera Serif"/>
              </a:rPr>
              <a:t>    = 667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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</a:t>
            </a:r>
            <a:r>
              <a:rPr b="0" lang="en-GB" sz="1800" spc="-1" strike="noStrike" baseline="-33000">
                <a:solidFill>
                  <a:srgbClr val="333399"/>
                </a:solidFill>
                <a:latin typeface="Bitstream Vera Serif"/>
              </a:rPr>
              <a:t>sig       </a:t>
            </a:r>
            <a:r>
              <a:rPr b="0" lang="en-GB" sz="1800" spc="-1" strike="noStrike">
                <a:solidFill>
                  <a:srgbClr val="333399"/>
                </a:solidFill>
                <a:latin typeface="Bitstream Vera Serif"/>
              </a:rPr>
              <a:t>=   68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</a:t>
            </a:r>
            <a:r>
              <a:rPr b="0" lang="en-GB" sz="1800" spc="-1" strike="noStrike" baseline="33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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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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on form factor, extracted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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13200" y="838080"/>
            <a:ext cx="4169880" cy="5261400"/>
            <a:chOff x="313200" y="838080"/>
            <a:chExt cx="4169880" cy="5261400"/>
          </a:xfrm>
        </p:grpSpPr>
        <p:sp>
          <p:nvSpPr>
            <p:cNvPr id="384" name=""/>
            <p:cNvSpPr/>
            <p:nvPr/>
          </p:nvSpPr>
          <p:spPr>
            <a:xfrm>
              <a:off x="1316520" y="39765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Times-Italic"/>
                </a:rPr>
                <a:t>1.3</a:t>
              </a:r>
              <a:r>
                <a:rPr b="0" lang="de-DE" sz="2000" spc="-1" strike="noStrike">
                  <a:solidFill>
                    <a:srgbClr val="333399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333399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16520" y="431784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-Italic"/>
                </a:rPr>
                <a:t>0.9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7760" y="838080"/>
              <a:ext cx="4113360" cy="45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587520" y="1295280"/>
              <a:ext cx="3747960" cy="34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74800" y="1414440"/>
              <a:ext cx="100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CMD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Times New Roman"/>
                </a:rPr>
                <a:t>KLO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2680" y="4708440"/>
              <a:ext cx="368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096200" y="4734000"/>
              <a:ext cx="2982240" cy="307080"/>
              <a:chOff x="1096200" y="4734000"/>
              <a:chExt cx="2982240" cy="307080"/>
            </a:xfrm>
          </p:grpSpPr>
          <p:sp>
            <p:nvSpPr>
              <p:cNvPr id="391" name=""/>
              <p:cNvSpPr/>
              <p:nvPr/>
            </p:nvSpPr>
            <p:spPr>
              <a:xfrm>
                <a:off x="2225160" y="4757400"/>
                <a:ext cx="703080" cy="11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962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2612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420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6730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914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6738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32080" y="1224000"/>
              <a:ext cx="236520" cy="35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20840" y="1539720"/>
              <a:ext cx="364320" cy="3320640"/>
              <a:chOff x="420840" y="1539720"/>
              <a:chExt cx="364320" cy="332064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420840" y="1539720"/>
                <a:ext cx="364320" cy="2638440"/>
                <a:chOff x="420840" y="1539720"/>
                <a:chExt cx="364320" cy="26384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22640" y="153972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4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22640" y="187020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2640" y="220176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22640" y="253620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22640" y="286704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24440" y="320112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22640" y="353160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20840" y="387108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493200" y="42246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93200" y="4553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424320" y="49402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 (GeV</a:t>
              </a:r>
              <a:r>
                <a:rPr b="0" lang="de-DE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74200" y="890640"/>
              <a:ext cx="21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LOE vs. CMD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4840" y="5395680"/>
              <a:ext cx="383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Fair agreement, but relatively lar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eviations: reasons unknown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3200" y="871560"/>
              <a:ext cx="87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|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s)|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25880" y="1460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22480" y="190188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40760" y="1773000"/>
              <a:ext cx="5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80720" y="166536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01560" y="1751040"/>
              <a:ext cx="947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cc0000"/>
                  </a:solidFill>
                  <a:latin typeface="Times New Roman"/>
                </a:rPr>
                <a:t>|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(s)|</a:t>
              </a:r>
              <a:r>
                <a:rPr b="1" lang="en-US" sz="1600" spc="-1" strike="noStrike" baseline="30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5520" y="1409760"/>
              <a:ext cx="13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14800" y="2082600"/>
              <a:ext cx="1177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Pion Form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       </a:t>
              </a: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f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 rot="19800000">
            <a:off x="1688040" y="34138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neva"/>
              </a:rPr>
              <a:t>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40000" y="838080"/>
            <a:ext cx="4743720" cy="5263200"/>
            <a:chOff x="4140000" y="838080"/>
            <a:chExt cx="4743720" cy="5263200"/>
          </a:xfrm>
        </p:grpSpPr>
        <p:grpSp>
          <p:nvGrpSpPr>
            <p:cNvPr id="424" name=""/>
            <p:cNvGrpSpPr/>
            <p:nvPr/>
          </p:nvGrpSpPr>
          <p:grpSpPr>
            <a:xfrm>
              <a:off x="4140000" y="838080"/>
              <a:ext cx="4743720" cy="5263200"/>
              <a:chOff x="4140000" y="838080"/>
              <a:chExt cx="4743720" cy="5263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4572000" y="838080"/>
                <a:ext cx="4311720" cy="5263200"/>
                <a:chOff x="4572000" y="838080"/>
                <a:chExt cx="4311720" cy="5263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618080" y="838080"/>
                  <a:ext cx="4265640" cy="454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72520" y="914400"/>
                  <a:ext cx="381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tive Difference e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s.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464520" y="4967280"/>
                  <a:ext cx="106344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40800" y="4919760"/>
                  <a:ext cx="97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 (GeV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121720" y="5397480"/>
                  <a:ext cx="3472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 and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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– data incompatible!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Times New Roman"/>
                    </a:rPr>
                    <a:t>Isospin breaking effects?!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4805640" y="1220760"/>
                  <a:ext cx="4030560" cy="4157280"/>
                  <a:chOff x="4805640" y="1220760"/>
                  <a:chExt cx="4030560" cy="4157280"/>
                </a:xfrm>
              </p:grpSpPr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5640" y="1220760"/>
                    <a:ext cx="4030560" cy="41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6788160" y="1536840"/>
                    <a:ext cx="990720" cy="936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588440" y="2414160"/>
                    <a:ext cx="304920" cy="424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5354640" y="1528920"/>
                  <a:ext cx="2224080" cy="67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</a:t>
                  </a: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Data (ALEPH, OPAL, CLEO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5551200" y="2192400"/>
                  <a:ext cx="173160" cy="43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27760" y="4083120"/>
                  <a:ext cx="18432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777440" y="4903920"/>
                  <a:ext cx="97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Times New Roman"/>
                    </a:rPr>
                    <a:t>s (GeV</a:t>
                  </a:r>
                  <a:r>
                    <a:rPr b="0" lang="de-DE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de-DE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435720" y="5092560"/>
                  <a:ext cx="1078200" cy="28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264280" y="4732200"/>
                  <a:ext cx="3484440" cy="208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5376240" y="4726080"/>
                  <a:ext cx="2963520" cy="307080"/>
                  <a:chOff x="5376240" y="4726080"/>
                  <a:chExt cx="2963520" cy="307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537624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01560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65532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29540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93512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4786560" y="1236600"/>
                  <a:ext cx="315720" cy="25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803840" y="1671480"/>
                  <a:ext cx="325440" cy="320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5680" y="1743120"/>
                  <a:ext cx="53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675680" y="2286000"/>
                  <a:ext cx="53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686480" y="2644920"/>
                  <a:ext cx="5284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572000" y="3909960"/>
                  <a:ext cx="64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- 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616640" y="3405240"/>
                  <a:ext cx="59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-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4140000" y="5086440"/>
                <a:ext cx="27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. H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ker @ ICHEP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4597560" y="5105520"/>
              <a:ext cx="1905120" cy="30456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data used in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9120" y="765000"/>
            <a:ext cx="8846280" cy="5254920"/>
            <a:chOff x="69120" y="765000"/>
            <a:chExt cx="8846280" cy="5254920"/>
          </a:xfrm>
        </p:grpSpPr>
        <p:grpSp>
          <p:nvGrpSpPr>
            <p:cNvPr id="458" name=""/>
            <p:cNvGrpSpPr/>
            <p:nvPr/>
          </p:nvGrpSpPr>
          <p:grpSpPr>
            <a:xfrm>
              <a:off x="69120" y="765000"/>
              <a:ext cx="8846280" cy="5254920"/>
              <a:chOff x="69120" y="765000"/>
              <a:chExt cx="8846280" cy="5254920"/>
            </a:xfrm>
          </p:grpSpPr>
          <p:sp>
            <p:nvSpPr>
              <p:cNvPr id="459" name=""/>
              <p:cNvSpPr/>
              <p:nvPr/>
            </p:nvSpPr>
            <p:spPr>
              <a:xfrm>
                <a:off x="650880" y="10224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6840" y="765000"/>
                <a:ext cx="8548560" cy="525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3120" y="1422360"/>
                <a:ext cx="4480200" cy="41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1590840" y="5262480"/>
                <a:ext cx="2530440" cy="33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37480" y="5168880"/>
                <a:ext cx="26892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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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1 659 000 ∙ 10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-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4920" y="4237200"/>
                <a:ext cx="4470480" cy="62064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74920" y="1427040"/>
                <a:ext cx="4470480" cy="2732040"/>
              </a:xfrm>
              <a:prstGeom prst="rect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72160" y="4311720"/>
                <a:ext cx="208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8000"/>
                    </a:solidFill>
                    <a:latin typeface="Times New Roman"/>
                  </a:rPr>
                  <a:t>Experiment E82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7840" y="1535040"/>
                <a:ext cx="1697040" cy="86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6040" y="1652760"/>
                <a:ext cx="30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69696"/>
                    </a:solidFill>
                    <a:latin typeface="Times New Roman"/>
                  </a:rPr>
                  <a:t>DEHZ’03 [e+e- based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146600" y="2075040"/>
                <a:ext cx="277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69696"/>
                    </a:solidFill>
                    <a:latin typeface="Times New Roman"/>
                  </a:rPr>
                  <a:t>DEHZ’03 [</a:t>
                </a:r>
                <a:r>
                  <a:rPr b="1" lang="en-US" sz="1600" spc="-1" strike="noStrike">
                    <a:solidFill>
                      <a:srgbClr val="969696"/>
                    </a:solidFill>
                    <a:latin typeface="SymbolProp BT"/>
                    <a:ea typeface="SymbolProp BT"/>
                  </a:rPr>
                  <a:t></a:t>
                </a:r>
                <a:r>
                  <a:rPr b="1" lang="en-US" sz="1600" spc="-1" strike="noStrike">
                    <a:solidFill>
                      <a:srgbClr val="969696"/>
                    </a:solidFill>
                    <a:latin typeface="Times New Roman"/>
                  </a:rPr>
                  <a:t>based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840" y="933480"/>
                <a:ext cx="3324240" cy="267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New Information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w KLOE Measur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hys. Lett. B606 (2005) 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New 4</a:t>
                </a:r>
                <a:r>
                  <a:rPr b="0" lang="en-US" sz="1800" spc="-1" strike="noStrike" baseline="30000">
                    <a:solidFill>
                      <a:srgbClr val="cc0000"/>
                    </a:solidFill>
                    <a:latin typeface="Times New Roman"/>
                  </a:rPr>
                  <a:t>th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 order QE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calcu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Kinoshita, Nio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hys.Rev.D70 (2004) 1130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w 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‘Light-by-light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calcu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Melnikov, Vainshtein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hys.Rev.D70 (2004) 113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98760" y="2416320"/>
                <a:ext cx="342432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8600" y="3575160"/>
                <a:ext cx="301788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7600" y="3524400"/>
                <a:ext cx="320040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120" y="1119240"/>
                <a:ext cx="405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. H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ker @ ICHEP04: hep-ph/041008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241560" y="2762280"/>
                <a:ext cx="4324320" cy="1294560"/>
                <a:chOff x="241560" y="2762280"/>
                <a:chExt cx="4324320" cy="12945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305080" y="2762280"/>
                  <a:ext cx="22608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cc0000"/>
                      </a:solidFill>
                      <a:latin typeface="Arial"/>
                    </a:rPr>
                    <a:t>contains CMD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cc0000"/>
                      </a:solidFill>
                      <a:latin typeface="Arial"/>
                    </a:rPr>
                    <a:t>and KLO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164040" y="3297240"/>
                  <a:ext cx="179280" cy="3348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5920" y="3373560"/>
                  <a:ext cx="1058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cc0000"/>
                      </a:solidFill>
                      <a:latin typeface="Times New Roman"/>
                    </a:rPr>
                    <a:t>Theory: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560" y="3719520"/>
                  <a:ext cx="25765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0000"/>
                      </a:solidFill>
                      <a:latin typeface="Arial"/>
                    </a:rPr>
                    <a:t>DEHZ’04</a:t>
                  </a:r>
                  <a:r>
                    <a:rPr b="1" lang="en-US" sz="1600" spc="-1" strike="noStrike">
                      <a:solidFill>
                        <a:srgbClr val="cc0000"/>
                      </a:solidFill>
                      <a:latin typeface="Times New Roman"/>
                    </a:rPr>
                    <a:t> [e+e-]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51360" y="3659040"/>
                  <a:ext cx="131760" cy="131760"/>
                </a:xfrm>
                <a:prstGeom prst="ellipse">
                  <a:avLst/>
                </a:prstGeom>
                <a:solidFill>
                  <a:srgbClr val="cc0000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25920" y="3718080"/>
                  <a:ext cx="7732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725920" y="3676680"/>
                  <a:ext cx="0" cy="10152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497400" y="3666960"/>
                  <a:ext cx="0" cy="10188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5029200" y="4187880"/>
                <a:ext cx="889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0280" y="4178160"/>
                <a:ext cx="889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33600" y="3782880"/>
                <a:ext cx="31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Clr>
                    <a:srgbClr val="0000ff"/>
                  </a:buClr>
                  <a:buFont typeface="SymbolProp BT" charset="2"/>
                  <a:buChar char="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–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Data not consider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sufficient understanding o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sospin breaking corrections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8520" y="4286160"/>
                <a:ext cx="1219320" cy="4669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571680" y="4836960"/>
                <a:ext cx="5243040" cy="469080"/>
                <a:chOff x="571680" y="4836960"/>
                <a:chExt cx="5243040" cy="4690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881720" y="4935240"/>
                  <a:ext cx="2238480" cy="37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-Italic"/>
                      <a:ea typeface="Times New Roman"/>
                    </a:rPr>
                    <a:t>a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</a:t>
                  </a: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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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-Italic"/>
                      <a:ea typeface="Times New Roman"/>
                    </a:rPr>
                    <a:t>  11 659 000 ∙ 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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-Italic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1680" y="4940280"/>
                  <a:ext cx="524304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456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1312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5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5024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8916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7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72628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6520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80232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34124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5200200" y="4830840"/>
                <a:ext cx="3536280" cy="10504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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eory (SM) - Experimen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exp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theo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( 25.2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2 )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10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7 “standard deviations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436040" y="5194440"/>
                <a:ext cx="281268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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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  11 659 000 x 10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95080" y="1143000"/>
              <a:ext cx="3047760" cy="30492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er the ga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011920" cy="50738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219640" y="162864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867280" y="1773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75800" y="15289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p-ex/05060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0 Giugno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49600" y="5824440"/>
            <a:ext cx="44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D data just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-2 new data will be published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3505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EPS devo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dron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05640" y="217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95640" y="4365720"/>
            <a:ext cx="143964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tato della presa da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41720" y="18900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INTEGRATED LUMIN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943240" y="566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978240" y="566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86320" y="100476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55640" y="1398600"/>
            <a:ext cx="6943680" cy="4262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406160" y="5654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34880" y="566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64400" y="6040440"/>
            <a:ext cx="52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oggi abbiamo ~1.7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dati raccolti su n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910520" y="1890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MONTH LUMIN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86320" y="100476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023840" y="1405080"/>
            <a:ext cx="6961320" cy="4400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03280" y="5950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cremento in luminosita’ e’ stato accompagnato da una riduzione dei fondi mac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944360" y="1890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DAILY LUMIN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360" y="5681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82520" y="5753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517680" y="1251000"/>
            <a:ext cx="7223040" cy="43387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202000" y="105264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20000" y="112536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5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7740720" y="1341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028000" y="250020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74072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74072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4072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028000" y="364500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FISICA DEL K</a:t>
            </a:r>
            <a:r>
              <a:rPr b="0" lang="it-IT" sz="4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49480" y="2550960"/>
            <a:ext cx="545472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a dei BR’s dei principali canali di deca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a della vita media del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a dei fattori di forma semilepto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test di unitarietà della C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95280" y="981000"/>
            <a:ext cx="74073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28700 (9 May 04) to 37457 (30 Jun 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0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 on disk OK for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6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 with full calib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7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 fully reconstr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% ef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28600"/>
            <a:ext cx="858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construction in 2004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3124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onstruction  follows closel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acqui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each reconstruction job lasts 2h as maximu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300720" y="2565360"/>
          <a:ext cx="2362320" cy="2282760"/>
        </p:xfrm>
        <a:graphic>
          <a:graphicData uri="http://schemas.openxmlformats.org/drawingml/2006/table">
            <a:tbl>
              <a:tblPr/>
              <a:tblGrid>
                <a:gridCol w="1542960"/>
                <a:gridCol w="819360"/>
              </a:tblGrid>
              <a:tr h="63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=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sity (pb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 to 30 Ju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808200" y="45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23200" y="508464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quality continuously monitored “onlin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57200" y="115920"/>
            <a:ext cx="72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bility of beam energy at O(100 Ke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04920" y="1143000"/>
            <a:ext cx="8599320" cy="2416320"/>
            <a:chOff x="304920" y="1143000"/>
            <a:chExt cx="8599320" cy="2416320"/>
          </a:xfrm>
        </p:grpSpPr>
        <p:pic>
          <p:nvPicPr>
            <p:cNvPr id="544" name="" descr=""/>
            <p:cNvPicPr/>
            <p:nvPr/>
          </p:nvPicPr>
          <p:blipFill>
            <a:blip r:embed="rId1"/>
            <a:stretch/>
          </p:blipFill>
          <p:spPr>
            <a:xfrm>
              <a:off x="304920" y="1438200"/>
              <a:ext cx="440532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4496040" y="1514520"/>
              <a:ext cx="440820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47720" y="31528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y-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05320" y="3114720"/>
              <a:ext cx="11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p-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54680" y="31910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ct-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50160" y="31910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ec-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79520" y="120636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294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22920" y="11476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397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480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18960" y="3633840"/>
            <a:ext cx="8596440" cy="2592360"/>
            <a:chOff x="318960" y="3633840"/>
            <a:chExt cx="8596440" cy="2592360"/>
          </a:xfrm>
        </p:grpSpPr>
        <p:pic>
          <p:nvPicPr>
            <p:cNvPr id="554" name="" descr=""/>
            <p:cNvPicPr/>
            <p:nvPr/>
          </p:nvPicPr>
          <p:blipFill>
            <a:blip r:embed="rId3"/>
            <a:stretch/>
          </p:blipFill>
          <p:spPr>
            <a:xfrm>
              <a:off x="318960" y="4081320"/>
              <a:ext cx="4402080" cy="19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4"/>
            <a:stretch/>
          </p:blipFill>
          <p:spPr>
            <a:xfrm>
              <a:off x="4510080" y="4081320"/>
              <a:ext cx="44053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549360" y="58579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eb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44840" y="578160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-Apr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92760" y="5857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1-Apr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59640" y="58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-May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46200" y="371484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248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18200" y="377676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85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2880" y="3633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762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1a3b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1a3b"/>
                </a:solidFill>
                <a:latin typeface="Arial"/>
              </a:rPr>
              <a:t>s mostly between 1019.3 and 1019.6: OK. </a:t>
            </a:r>
            <a:r>
              <a:rPr b="1" lang="en-GB" sz="2400" spc="-1" strike="noStrike">
                <a:solidFill>
                  <a:srgbClr val="ff1a3b"/>
                </a:solidFill>
                <a:latin typeface="Arial"/>
              </a:rPr>
              <a:t>Better tha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52560"/>
            <a:ext cx="8077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invariant mass stable within O(50 Ke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371600" y="762120"/>
            <a:ext cx="6324480" cy="5792760"/>
            <a:chOff x="1371600" y="762120"/>
            <a:chExt cx="6324480" cy="579276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1371600" y="3657600"/>
              <a:ext cx="62960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2"/>
            <a:stretch/>
          </p:blipFill>
          <p:spPr>
            <a:xfrm>
              <a:off x="1400040" y="762120"/>
              <a:ext cx="629604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913040" y="3276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eb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15240" y="3276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-Apr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78320" y="618660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1-Apr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97680" y="61866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-May-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rospettive con 2.5 fb</a:t>
            </a:r>
            <a:r>
              <a:rPr b="0" lang="it-IT" sz="4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cays and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8360" y="1700280"/>
            <a:ext cx="8945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ibutions  to the relative error on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9920" y="6400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47560" y="3048120"/>
            <a:ext cx="5997960" cy="2892240"/>
            <a:chOff x="547560" y="3048120"/>
            <a:chExt cx="5997960" cy="2892240"/>
          </a:xfrm>
        </p:grpSpPr>
        <p:sp>
          <p:nvSpPr>
            <p:cNvPr id="577" name=""/>
            <p:cNvSpPr/>
            <p:nvPr/>
          </p:nvSpPr>
          <p:spPr>
            <a:xfrm>
              <a:off x="547560" y="3695760"/>
              <a:ext cx="599796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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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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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</a:t>
              </a:r>
              <a:r>
                <a:rPr b="0" lang="en-US" sz="18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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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5146920" y="3048120"/>
                  <a:ext cx="3934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I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698920" y="3048120"/>
                  <a:ext cx="5302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3996000" y="3048120"/>
                  <a:ext cx="3934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τ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τ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1" name=""/>
          <p:cNvGrpSpPr/>
          <p:nvPr/>
        </p:nvGrpSpPr>
        <p:grpSpPr>
          <a:xfrm>
            <a:off x="2556000" y="3624120"/>
            <a:ext cx="5910120" cy="2376360"/>
            <a:chOff x="2556000" y="3624120"/>
            <a:chExt cx="5910120" cy="2376360"/>
          </a:xfrm>
        </p:grpSpPr>
        <p:sp>
          <p:nvSpPr>
            <p:cNvPr id="582" name=""/>
            <p:cNvSpPr/>
            <p:nvPr/>
          </p:nvSpPr>
          <p:spPr>
            <a:xfrm>
              <a:off x="4643280" y="3624120"/>
              <a:ext cx="1150920" cy="216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80000" y="5135400"/>
              <a:ext cx="792000" cy="649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56000" y="4271760"/>
              <a:ext cx="863640" cy="1513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57600" y="4343400"/>
              <a:ext cx="210852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urther 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rom KL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16720" y="499248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916000" y="6000480"/>
              <a:ext cx="36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916360" y="5784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211640" y="5784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219640" y="5784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612360" y="5950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= 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lue   = P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cays and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69920" y="616104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35400" y="2973240"/>
            <a:ext cx="5822640" cy="2892600"/>
            <a:chOff x="635400" y="2973240"/>
            <a:chExt cx="5822640" cy="2892600"/>
          </a:xfrm>
        </p:grpSpPr>
        <p:sp>
          <p:nvSpPr>
            <p:cNvPr id="595" name=""/>
            <p:cNvSpPr/>
            <p:nvPr/>
          </p:nvSpPr>
          <p:spPr>
            <a:xfrm>
              <a:off x="635400" y="3621240"/>
              <a:ext cx="582264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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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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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</a:t>
              </a:r>
              <a:r>
                <a:rPr b="0" lang="en-US" sz="18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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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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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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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5146920" y="2973240"/>
                  <a:ext cx="3934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I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698920" y="2973240"/>
                  <a:ext cx="5302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3996000" y="2973240"/>
                  <a:ext cx="3934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τ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τ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9" name=""/>
          <p:cNvSpPr/>
          <p:nvPr/>
        </p:nvSpPr>
        <p:spPr>
          <a:xfrm>
            <a:off x="4643280" y="3549600"/>
            <a:ext cx="1150920" cy="216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80000" y="5060880"/>
            <a:ext cx="792000" cy="6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56000" y="4197240"/>
            <a:ext cx="86364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916000" y="59259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16360" y="57099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211640" y="57099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219640" y="57099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25560" y="4268880"/>
            <a:ext cx="21726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Furthe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from 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16720" y="49179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68360" y="1676520"/>
            <a:ext cx="8207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ibutions  to the relative error on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spects for rar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520" y="127116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opportunity to measure interesting rar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ays, down to BR ~ few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need to exploit to the maximum KLOE and D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295280" y="2643120"/>
          <a:ext cx="6324840" cy="3449520"/>
        </p:xfrm>
        <a:graphic>
          <a:graphicData uri="http://schemas.openxmlformats.org/drawingml/2006/table">
            <a:tbl>
              <a:tblPr/>
              <a:tblGrid>
                <a:gridCol w="1971720"/>
                <a:gridCol w="435312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y chann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or measured 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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2 x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7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48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ヒラギノ角ゴ Pro W3"/>
                        </a:rPr>
                        <a:t>+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.2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7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.04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NA48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x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7.09 ± 0.07 ± 0.08)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spects for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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277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tatistic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6.5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o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agging by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tex in 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background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bkg source after all cuts is the splitting of e.m.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ging procedure removes bkg but leaves signal untou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 in data go from 2 to 0, in MC from 3.13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kinemat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better understanding of the know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7840" y="4735440"/>
            <a:ext cx="8114760" cy="76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f we will be able to suppress the background to a ~negligibl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UL can be improved up to a factor of 10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(down to few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eneva"/>
              </a:rPr>
              <a:t>-8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spects for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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1844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efficiency ~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1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, very preliminary results with 0.74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s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~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(estimated from side bands in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events consistent with expectations within the statistical error (~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ystematic error, no error o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the values of signal and background to 2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ex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~1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, of whic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~9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~60%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accurac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BR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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4360" y="4917960"/>
            <a:ext cx="7920000" cy="16671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With further effort by KLOE to suppress background and 2.5 fb</a:t>
            </a:r>
            <a:r>
              <a:rPr b="0" lang="en-US" sz="21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by DA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NE, we can measure this BR with accuracy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below 50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competitive with other measurements (and the only direct search!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spects for BR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al 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1% on the BR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cc0000"/>
                </a:solidFill>
                <a:latin typeface="MT Extra"/>
                <a:ea typeface="MT Extra"/>
              </a:rPr>
              <a:t>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at the level of 3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charge asymmetr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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direct measurement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9966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996600"/>
                </a:solidFill>
                <a:latin typeface="MT Extra"/>
                <a:ea typeface="MT Extra"/>
              </a:rPr>
              <a:t>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ccuracy &lt;2%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uncertainty expected to be largely dominated by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of charge asymmetry much more complicated than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K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cays: absolute BRs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651120"/>
            <a:ext cx="8439120" cy="20901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4049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0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tat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31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yst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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272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8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tat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22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yst</a:t>
            </a:r>
            <a:r>
              <a:rPr b="1" lang="it-IT" sz="22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5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 = 0.2018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4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tat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26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yst</a:t>
            </a:r>
            <a:r>
              <a:rPr b="1" lang="it-IT" sz="22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127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6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tat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6</a:t>
            </a:r>
            <a:r>
              <a:rPr b="1" lang="en-GB" sz="2200" spc="-1" strike="noStrike" baseline="-25000">
                <a:solidFill>
                  <a:srgbClr val="333399"/>
                </a:solidFill>
                <a:latin typeface="Times New Roman"/>
              </a:rPr>
              <a:t>syst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2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990720"/>
            <a:ext cx="876312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Geneva"/>
              </a:rPr>
              <a:t>DATA S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2001+2002 data sample: 400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statistics, 50 x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eneva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tagged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492280"/>
            <a:ext cx="80010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- 3/4</a:t>
            </a: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   of 2001-2002 data has been used for efficiency e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- 1/4</a:t>
            </a: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   for BR measurement corresponding to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13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Geneva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tagged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3840" y="5877000"/>
            <a:ext cx="828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lute BRs results obtained with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K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(51.54 ± 0.44) ns in the acceptanc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ve an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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itz decays with 2.5 f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560" y="127152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dition to radiative, also Dalitz decays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udied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2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~ 7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dilepton) spectra give transition FF(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FF(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BR can test VMD and Lattice theore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ted BR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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= 5.3-6.8 x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can also study Dalitz and double Dalitz decay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 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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BR ~ 6.5 x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never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the ultimate goal of understanding better the natur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ons (via Dalitz plot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2514600" y="2033640"/>
            <a:ext cx="44956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with 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6320" y="3406680"/>
            <a:ext cx="6248160" cy="297504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5826600" y="1044720"/>
            <a:ext cx="3164760" cy="2989800"/>
            <a:chOff x="5826600" y="1044720"/>
            <a:chExt cx="3164760" cy="2989800"/>
          </a:xfrm>
        </p:grpSpPr>
        <p:grpSp>
          <p:nvGrpSpPr>
            <p:cNvPr id="626" name=""/>
            <p:cNvGrpSpPr/>
            <p:nvPr/>
          </p:nvGrpSpPr>
          <p:grpSpPr>
            <a:xfrm>
              <a:off x="5826600" y="1044720"/>
              <a:ext cx="3164760" cy="2819160"/>
              <a:chOff x="5826600" y="1044720"/>
              <a:chExt cx="3164760" cy="2819160"/>
            </a:xfrm>
          </p:grpSpPr>
          <p:pic>
            <p:nvPicPr>
              <p:cNvPr id="6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0120" y="1044720"/>
                <a:ext cx="2901240" cy="28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 rot="20400000">
                <a:off x="5790960" y="2119320"/>
                <a:ext cx="1970640" cy="14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0880000">
                <a:off x="5992560" y="1456200"/>
                <a:ext cx="1035720" cy="1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10280" y="3559320"/>
              <a:ext cx="167652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M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(MeV/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Genev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5715000" y="49305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498000" y="470232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Geneva"/>
              </a:rPr>
              <a:t>Will improve by fact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22400" y="5388120"/>
            <a:ext cx="25840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Will improve by √(L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Geneva"/>
              </a:rPr>
              <a:t>NEW</a:t>
            </a: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/L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Geneva"/>
              </a:rPr>
              <a:t>OLD</a:t>
            </a: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(background lim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715000" y="5616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600" y="1343160"/>
            <a:ext cx="5867280" cy="1758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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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easure m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racking and √s constraint can get few x 10 KeV accuracy, competitive w/NA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all major BR with permil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s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with 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d the 2.5 f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2320" y="1011240"/>
            <a:ext cx="8304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ultimate goal of the 2.5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ap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s been achie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ould like to perform a short program of off-peak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nning at 1000 MeV c.m.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3068640"/>
            <a:ext cx="7567560" cy="36511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tivation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scan (4 points max, 5 MeV st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alibration of KLOE energy scale, lin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udying the model dependence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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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leptonic width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Main motivations for running at 100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Measurement of th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) down to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photon physics with KL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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 low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0120" y="2408760"/>
            <a:ext cx="4511520" cy="4188960"/>
            <a:chOff x="60120" y="2408760"/>
            <a:chExt cx="4511520" cy="4188960"/>
          </a:xfrm>
        </p:grpSpPr>
        <p:grpSp>
          <p:nvGrpSpPr>
            <p:cNvPr id="643" name=""/>
            <p:cNvGrpSpPr/>
            <p:nvPr/>
          </p:nvGrpSpPr>
          <p:grpSpPr>
            <a:xfrm>
              <a:off x="60120" y="2408760"/>
              <a:ext cx="4511520" cy="4188960"/>
              <a:chOff x="60120" y="2408760"/>
              <a:chExt cx="4511520" cy="41889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60120" y="2470680"/>
                <a:ext cx="4511520" cy="4127040"/>
                <a:chOff x="60120" y="2470680"/>
                <a:chExt cx="4511520" cy="4127040"/>
              </a:xfrm>
            </p:grpSpPr>
            <p:grpSp>
              <p:nvGrpSpPr>
                <p:cNvPr id="645" name=""/>
                <p:cNvGrpSpPr/>
                <p:nvPr/>
              </p:nvGrpSpPr>
              <p:grpSpPr>
                <a:xfrm>
                  <a:off x="363240" y="2692440"/>
                  <a:ext cx="4208400" cy="3905280"/>
                  <a:chOff x="363240" y="2692440"/>
                  <a:chExt cx="4208400" cy="3905280"/>
                </a:xfrm>
              </p:grpSpPr>
              <p:pic>
                <p:nvPicPr>
                  <p:cNvPr id="646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84000" y="2692440"/>
                    <a:ext cx="38876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rcRect l="41342" t="85731" r="3289" b="5488"/>
                  <a:stretch/>
                </p:blipFill>
                <p:spPr>
                  <a:xfrm>
                    <a:off x="363240" y="6067440"/>
                    <a:ext cx="417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48" name=""/>
                <p:cNvSpPr/>
                <p:nvPr/>
              </p:nvSpPr>
              <p:spPr>
                <a:xfrm rot="16200000">
                  <a:off x="-396720" y="2927880"/>
                  <a:ext cx="1444680" cy="53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r>
                    <a:rPr b="0" lang="it-IT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ta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"/>
              <p:cNvSpPr/>
              <p:nvPr/>
            </p:nvSpPr>
            <p:spPr>
              <a:xfrm>
                <a:off x="737640" y="2408760"/>
                <a:ext cx="315000" cy="390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0" name="" descr=""/>
            <p:cNvPicPr/>
            <p:nvPr/>
          </p:nvPicPr>
          <p:blipFill>
            <a:blip r:embed="rId3"/>
            <a:srcRect l="66152" t="31255" r="12847" b="50155"/>
            <a:stretch/>
          </p:blipFill>
          <p:spPr>
            <a:xfrm>
              <a:off x="2346480" y="3049560"/>
              <a:ext cx="1871640" cy="11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"/>
          <p:cNvSpPr/>
          <p:nvPr/>
        </p:nvSpPr>
        <p:spPr>
          <a:xfrm>
            <a:off x="611280" y="1386000"/>
            <a:ext cx="4321080" cy="82188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at. error on </a:t>
            </a:r>
            <a:r>
              <a:rPr b="0" lang="de-DE" sz="1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800" spc="-1" strike="noStrike" baseline="30000">
                <a:solidFill>
                  <a:srgbClr val="000000"/>
                </a:solidFill>
                <a:latin typeface="Geneva"/>
              </a:rPr>
              <a:t>had,</a:t>
            </a:r>
            <a:r>
              <a:rPr b="0" lang="de-DE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s fully do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by region 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(2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Genev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&lt; 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&lt; 0.35 Ge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927680" y="2787480"/>
            <a:ext cx="4050000" cy="3581640"/>
            <a:chOff x="4927680" y="2787480"/>
            <a:chExt cx="4050000" cy="3581640"/>
          </a:xfrm>
        </p:grpSpPr>
        <p:pic>
          <p:nvPicPr>
            <p:cNvPr id="653" name="" descr=""/>
            <p:cNvPicPr/>
            <p:nvPr/>
          </p:nvPicPr>
          <p:blipFill>
            <a:blip r:embed="rId4"/>
            <a:stretch/>
          </p:blipFill>
          <p:spPr>
            <a:xfrm>
              <a:off x="4927680" y="2787480"/>
              <a:ext cx="369720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889320" y="3513960"/>
              <a:ext cx="208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181e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ed181e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ed181e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ed181e"/>
                  </a:solidFill>
                  <a:latin typeface="Times New Roman"/>
                </a:rPr>
                <a:t>- </a:t>
              </a:r>
              <a:r>
                <a:rPr b="0" lang="en-US" sz="2000" spc="-1" strike="noStrike">
                  <a:solidFill>
                    <a:srgbClr val="ed181e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ed181e"/>
                  </a:solidFill>
                  <a:latin typeface="Times New Roman"/>
                </a:rPr>
                <a:t>0 </a:t>
              </a:r>
              <a:r>
                <a:rPr b="0" lang="en-US" sz="2000" spc="-1" strike="noStrike">
                  <a:solidFill>
                    <a:srgbClr val="ed181e"/>
                  </a:solidFill>
                  <a:latin typeface="Times New Roman"/>
                </a:rPr>
                <a:t>backgr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181e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ed181e"/>
                  </a:solidFill>
                  <a:latin typeface="Times New Roman"/>
                </a:rPr>
                <a:t>(after fi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5769000" y="1176480"/>
            <a:ext cx="2690640" cy="14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 background t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E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r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-angle analys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-tagging+kinemat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400800" y="4159080"/>
            <a:ext cx="0" cy="18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486400" y="4159080"/>
            <a:ext cx="0" cy="18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940000" y="2492280"/>
            <a:ext cx="360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de-DE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3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t low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457200" y="711360"/>
            <a:ext cx="3843360" cy="37843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738720" y="8701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2040" y="3917880"/>
            <a:ext cx="10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[M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5000760" y="1066680"/>
          <a:ext cx="3457440" cy="2724120"/>
        </p:xfrm>
        <a:graphic>
          <a:graphicData uri="http://schemas.openxmlformats.org/drawingml/2006/table">
            <a:tbl>
              <a:tblPr/>
              <a:tblGrid>
                <a:gridCol w="1582560"/>
                <a:gridCol w="187488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[MeV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)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0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~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685800" y="4959360"/>
            <a:ext cx="784872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s=1000 M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allow a measuremen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ee from the resonant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integrated luminosity unde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52120" y="394344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SND, Phys. Rev. D66 032001 (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38080" y="1173240"/>
            <a:ext cx="1148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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te analisi pubblicate o in corso di pubbl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 assoluti del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misura di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tori di forma del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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 media del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zione d’urto adronica (a grande e a piccolo ango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imenti radiativi del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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a dati attuale stabile anche se con qualche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E funziona egregi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l 2001  (~1.3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maggio del 2004) di luminosita’ integr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2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grati nel 2004-0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5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ese x i prossimi 5 me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aking del 2006 dedicato allo scan ed a  ~20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f-p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analisi dell’intero data set permetteranno di migliorare molte delle misure fatte e di accedere al settore raro de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allo studio del Dalitz plot dei decadimenti radiativi dell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BR’s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3440" y="3816360"/>
            <a:ext cx="356544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62040" y="3878280"/>
            <a:ext cx="3481200" cy="2281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659040" cy="250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60240" y="1197000"/>
            <a:ext cx="3481560" cy="2638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21440" y="1484280"/>
            <a:ext cx="81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A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0880" y="1700280"/>
            <a:ext cx="81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3800" y="4005360"/>
            <a:ext cx="89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A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4520" y="4149720"/>
            <a:ext cx="8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720" y="1447920"/>
            <a:ext cx="139680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</a:t>
            </a: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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47520" y="1447920"/>
            <a:ext cx="128412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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00" y="4149720"/>
            <a:ext cx="1311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 3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2320" y="4064040"/>
            <a:ext cx="17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i="1" lang="el-GR" sz="2400" spc="-1" strike="noStrike">
                <a:solidFill>
                  <a:srgbClr val="006600"/>
                </a:solidFill>
                <a:latin typeface="Symbol"/>
                <a:ea typeface="Symbol"/>
              </a:rPr>
              <a:t>π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i="1" lang="el-GR" sz="2400" spc="-1" strike="noStrike">
                <a:solidFill>
                  <a:srgbClr val="006600"/>
                </a:solidFill>
                <a:latin typeface="Symbol"/>
                <a:ea typeface="Symbol"/>
              </a:rPr>
              <a:t>π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 baseline="26000">
                <a:solidFill>
                  <a:srgbClr val="0066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K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cays: absolute B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0560" y="2827440"/>
            <a:ext cx="41227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mposing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BR(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)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645000"/>
            <a:ext cx="7315200" cy="24184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4007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4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trk)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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2698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4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tr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 = 0.1997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5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9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 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-coun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1263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5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1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tr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41480"/>
            <a:ext cx="6407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e measur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(KL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1.010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00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1989000"/>
            <a:ext cx="4392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ing rare decays from PDG (0.3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801880"/>
            <a:ext cx="43531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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)= (50.72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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23640" y="2492280"/>
            <a:ext cx="1295640" cy="432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520" y="611172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~0.5% accurac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8520" y="28702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626920" y="1412640"/>
            <a:ext cx="792360" cy="431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ifetime from 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62040" y="914400"/>
            <a:ext cx="4141800" cy="3678120"/>
            <a:chOff x="662040" y="914400"/>
            <a:chExt cx="4141800" cy="36781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662040" y="914400"/>
              <a:ext cx="4141800" cy="36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H="1">
              <a:off x="1564920" y="1889280"/>
              <a:ext cx="19080" cy="229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225960" y="2619360"/>
              <a:ext cx="1440" cy="165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7920" y="231624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Times New Roman"/>
                </a:rPr>
                <a:t>+ </a:t>
              </a:r>
              <a:r>
                <a:rPr b="1" lang="it-IT" sz="1600" spc="-1" strike="noStrike">
                  <a:solidFill>
                    <a:srgbClr val="ff0000"/>
                  </a:solidFill>
                  <a:latin typeface="Geneva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rot="16200000">
            <a:off x="-607680" y="19209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eneva"/>
              </a:rPr>
              <a:t>Events/0.3 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7240" y="4494240"/>
            <a:ext cx="228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*= L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(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4876920"/>
            <a:ext cx="3467160" cy="8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Symbol"/>
                <a:ea typeface="Symbol"/>
              </a:rPr>
              <a:t></a:t>
            </a:r>
            <a:r>
              <a:rPr b="1" lang="it-IT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Geneva"/>
              </a:rPr>
              <a:t>14 x 10</a:t>
            </a:r>
            <a:r>
              <a:rPr b="1" lang="it-IT" sz="1800" spc="-1" strike="noStrike" baseline="30000">
                <a:solidFill>
                  <a:srgbClr val="000099"/>
                </a:solidFill>
                <a:latin typeface="Geneva"/>
              </a:rPr>
              <a:t>6</a:t>
            </a:r>
            <a:r>
              <a:rPr b="1" lang="it-IT" sz="1800" spc="-1" strike="noStrike">
                <a:solidFill>
                  <a:srgbClr val="000099"/>
                </a:solidFill>
                <a:latin typeface="Geneva"/>
              </a:rPr>
              <a:t>  events</a:t>
            </a:r>
            <a:r>
              <a:rPr b="1" lang="it-IT" sz="1600" spc="-1" strike="noStrike">
                <a:solidFill>
                  <a:srgbClr val="000099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Geneva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Geneva"/>
              </a:rPr>
              <a:t>Fit region = 6 -26 ns (40%</a:t>
            </a:r>
            <a:r>
              <a:rPr b="1" lang="it-IT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L</a:t>
            </a:r>
            <a:r>
              <a:rPr b="1" lang="it-IT" sz="20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3880" y="1217520"/>
            <a:ext cx="2781360" cy="719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913280" y="3657600"/>
            <a:ext cx="3444840" cy="28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43640" y="402264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KLOE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71800" y="464832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KLOE in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0600" y="549756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osburgh et 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D 6 (1972), 1834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8400" y="3429000"/>
            <a:ext cx="417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LOE average: </a:t>
            </a:r>
            <a:r>
              <a:rPr b="1" lang="el-GR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τ</a:t>
            </a:r>
            <a:r>
              <a:rPr b="1" lang="it-IT" sz="20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it-IT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= (50.81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± 0.23)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295280"/>
            <a:ext cx="3859200" cy="1934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it-IT" sz="1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cc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 = (50.87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±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 0.16</a:t>
            </a:r>
            <a:r>
              <a:rPr b="1" lang="en-GB" sz="1800" spc="-1" strike="noStrike" baseline="-25000">
                <a:solidFill>
                  <a:srgbClr val="cc0000"/>
                </a:solidFill>
                <a:latin typeface="Times New Roman"/>
              </a:rPr>
              <a:t>stat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±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 0.26</a:t>
            </a:r>
            <a:r>
              <a:rPr b="1" lang="en-GB" sz="1800" spc="-1" strike="noStrike" baseline="-25000">
                <a:solidFill>
                  <a:srgbClr val="cc0000"/>
                </a:solidFill>
                <a:latin typeface="Times New Roman"/>
              </a:rPr>
              <a:t>syst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 ) ns (KLOE direct)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51.5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4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Vosburgh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0" y="597996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e submitted to P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emileptonic Form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9064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22320"/>
            <a:ext cx="88394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leptonic FF describe the t- distribution of the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space integral depends on such a paramet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e-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e+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alitz plot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ing  :  clusters from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 associated to triggering sector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ori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:   2 opposite-charge tracks with vertex :   35&lt;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120,  | Z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between different mass hypotheses to identify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rged decays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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ileptonic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560" y="1714680"/>
                <a:ext cx="3097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t</m:t>
                        </m:r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{  {t rSup { size 8{2} } }  over  {m rSub { size 8{π} }  rSup { size 8{4} } 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01000" y="922320"/>
                <a:ext cx="1584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156280" y="1714680"/>
                <a:ext cx="2251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705720" y="62816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724280"/>
            <a:ext cx="494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stical Precision - 330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13320" y="5156280"/>
          <a:ext cx="4325760" cy="1377720"/>
        </p:xfrm>
        <a:graphic>
          <a:graphicData uri="http://schemas.openxmlformats.org/drawingml/2006/table">
            <a:tbl>
              <a:tblPr/>
              <a:tblGrid>
                <a:gridCol w="591840"/>
                <a:gridCol w="990720"/>
                <a:gridCol w="990720"/>
                <a:gridCol w="838080"/>
                <a:gridCol w="914400"/>
              </a:tblGrid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’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’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97800" y="558972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of systematics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60278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 expected for EPS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10:11Z</dcterms:created>
  <dc:creator>graziano</dc:creator>
  <dc:description/>
  <dc:language>en-US</dc:language>
  <cp:lastModifiedBy>add</cp:lastModifiedBy>
  <dcterms:modified xsi:type="dcterms:W3CDTF">2005-08-05T15:34:06Z</dcterms:modified>
  <cp:revision>319</cp:revision>
  <dc:subject/>
  <dc:title>Stato dell’analisi di KLOE</dc:title>
</cp:coreProperties>
</file>