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3.wmf" ContentType="image/x-wmf"/>
  <Override PartName="/ppt/media/image56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47.jpeg" ContentType="image/jpeg"/>
  <Override PartName="/ppt/media/image46.png" ContentType="image/png"/>
  <Override PartName="/ppt/media/image55.png" ContentType="image/png"/>
  <Override PartName="/ppt/media/image45.jpeg" ContentType="image/jpe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3.png" ContentType="image/png"/>
  <Override PartName="/ppt/media/image31.png" ContentType="image/png"/>
  <Override PartName="/ppt/media/image71.wmf" ContentType="image/x-wmf"/>
  <Override PartName="/ppt/media/image12.png" ContentType="image/png"/>
  <Override PartName="/ppt/media/image49.jpeg" ContentType="image/jpeg"/>
  <Override PartName="/ppt/media/image20.png" ContentType="image/png"/>
  <Override PartName="/ppt/media/image28.jpeg" ContentType="image/jpeg"/>
  <Override PartName="/ppt/media/image62.png" ContentType="image/png"/>
  <Override PartName="/ppt/media/image60.png" ContentType="image/png"/>
  <Override PartName="/ppt/media/image21.wmf" ContentType="image/x-wmf"/>
  <Override PartName="/ppt/media/image64.png" ContentType="image/png"/>
  <Override PartName="/ppt/media/image22.png" ContentType="image/png"/>
  <Override PartName="/ppt/media/image52.wmf" ContentType="image/x-wmf"/>
  <Override PartName="/ppt/media/image24.jpeg" ContentType="image/jpeg"/>
  <Override PartName="/ppt/media/image59.png" ContentType="image/png"/>
  <Override PartName="/ppt/media/image66.jpeg" ContentType="image/jpeg"/>
  <Override PartName="/ppt/media/image11.png" ContentType="image/png"/>
  <Override PartName="/ppt/media/image25.png" ContentType="image/png"/>
  <Override PartName="/ppt/media/image65.wmf" ContentType="image/x-wmf"/>
  <Override PartName="/ppt/media/image77.png" ContentType="image/png"/>
  <Override PartName="/ppt/media/image76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75.png" ContentType="image/png"/>
  <Override PartName="/ppt/media/image74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26.png" ContentType="image/png"/>
  <Override PartName="/ppt/media/image63.png" ContentType="image/png"/>
  <Override PartName="/ppt/media/image73.wmf" ContentType="image/x-wmf"/>
  <Override PartName="/ppt/media/image15.png" ContentType="image/png"/>
  <Override PartName="/ppt/media/image72.wmf" ContentType="image/x-wmf"/>
  <Override PartName="/ppt/media/image32.png" ContentType="image/png"/>
  <Override PartName="/ppt/media/image70.png" ContentType="image/png"/>
  <Override PartName="/ppt/media/image68.wmf" ContentType="image/x-wmf"/>
  <Override PartName="/ppt/media/image14.png" ContentType="image/png"/>
  <Override PartName="/ppt/media/image69.wmf" ContentType="image/x-wmf"/>
  <Override PartName="/ppt/media/image57.png" ContentType="image/png"/>
  <Override PartName="/ppt/media/image2.wmf" ContentType="image/x-wmf"/>
  <Override PartName="/ppt/media/image67.jpeg" ContentType="image/jpeg"/>
  <Override PartName="/ppt/media/image29.jpeg" ContentType="image/jpeg"/>
  <Override PartName="/ppt/media/image27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3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132-0D52-4EF6-BA93-C7A18703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DDF-C8E4-4C27-9FF2-28CB0C53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7E2-8ED4-4384-8F08-A9BEA641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65B-EA92-4000-9830-2F3AC835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CC21-A938-4EAA-9063-1133A27B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CBE4-762D-4F19-A601-3F71620D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A35C-73CC-4F25-85DC-7956A825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6B84-02FE-4D42-A245-C2214989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DC0A-3A30-45D8-A3BB-616EF24D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0E21-3EBF-42BB-AA81-F616765A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6DE0-7CD0-42C6-8AEA-618DCC69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839-51AB-4D71-BAFA-78342633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AD33-853A-4F2E-869F-B4240C77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00A8-A210-420F-AA4C-120B0B36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24F2-394D-4AC6-83BE-CDEEE447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6DB2-D498-4E62-9EB9-33A079C5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0453-2C77-4C44-A19B-636B0B2F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909-9E8B-4EB5-89BA-BAC6AD68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DE0-25DE-4CCF-9C68-A685B66C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48C-8CC7-43F4-A3D8-01D4263E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1C8-63D8-487D-A2B2-06E9D60D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E6D-DB89-4AE4-8006-B06815B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2B9-2406-432E-B97B-8806EFB5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2B1-8120-4667-A6A4-5585A56D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1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5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G. Venanz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eminar @BNL – 7 Jul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ECEE-1B22-446D-ACE0-D9A68204BD27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kloe_logo" descr=""/>
          <p:cNvPicPr/>
          <p:nvPr/>
        </p:nvPicPr>
        <p:blipFill>
          <a:blip r:embed="rId2"/>
          <a:stretch/>
        </p:blipFill>
        <p:spPr>
          <a:xfrm>
            <a:off x="7886880" y="10800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85800" y="6172200"/>
            <a:ext cx="77598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1066680"/>
            <a:ext cx="7772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80880" y="1219320"/>
            <a:ext cx="77598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287280" y="2330280"/>
            <a:ext cx="9009000" cy="1052640"/>
            <a:chOff x="287280" y="2330280"/>
            <a:chExt cx="9009000" cy="1052640"/>
          </a:xfrm>
        </p:grpSpPr>
        <p:grpSp>
          <p:nvGrpSpPr>
            <p:cNvPr id="57" name=""/>
            <p:cNvGrpSpPr/>
            <p:nvPr/>
          </p:nvGrpSpPr>
          <p:grpSpPr>
            <a:xfrm>
              <a:off x="577800" y="2438280"/>
              <a:ext cx="711360" cy="474840"/>
              <a:chOff x="577800" y="2438280"/>
              <a:chExt cx="711360" cy="474840"/>
            </a:xfrm>
          </p:grpSpPr>
          <p:sp>
            <p:nvSpPr>
              <p:cNvPr id="58" name=""/>
              <p:cNvSpPr/>
              <p:nvPr/>
            </p:nvSpPr>
            <p:spPr>
              <a:xfrm>
                <a:off x="577800" y="2438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60840" y="2438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01640" y="2860560"/>
              <a:ext cx="737640" cy="474840"/>
              <a:chOff x="701640" y="2860560"/>
              <a:chExt cx="737640" cy="474840"/>
            </a:xfrm>
          </p:grpSpPr>
          <p:sp>
            <p:nvSpPr>
              <p:cNvPr id="61" name=""/>
              <p:cNvSpPr/>
              <p:nvPr/>
            </p:nvSpPr>
            <p:spPr>
              <a:xfrm>
                <a:off x="701640" y="2860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70280" y="2860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287280" y="2787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22320" y="2330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03360" y="3152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7668-FC7B-4A66-BF02-5B87A3058530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172200"/>
            <a:ext cx="77598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8160" y="3168720"/>
            <a:ext cx="7772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8160" y="3321000"/>
            <a:ext cx="77598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523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easurement of the Hadronic Cross Section with KLO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6172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ar at BNL, 7 July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kloe_logo" descr=""/>
          <p:cNvPicPr/>
          <p:nvPr/>
        </p:nvPicPr>
        <p:blipFill>
          <a:blip r:embed="rId1"/>
          <a:stretch/>
        </p:blipFill>
        <p:spPr>
          <a:xfrm>
            <a:off x="2743200" y="3537000"/>
            <a:ext cx="3276720" cy="2101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ziano Venanz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N – LNF Fras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68280" y="1523880"/>
            <a:ext cx="5295960" cy="387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499680" y="1066680"/>
            <a:ext cx="83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ation btw.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MD-2 and 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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 limited Energy Rang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bove the  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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Pe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400" y="258840"/>
            <a:ext cx="74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mparison of e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vs.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for 2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20760" y="5334120"/>
            <a:ext cx="621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Possible Explanatio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Fred Jegerlehner:   </a:t>
            </a:r>
            <a:r>
              <a:rPr b="0" lang="de-DE" sz="2000" spc="-1" strike="noStrike">
                <a:solidFill>
                  <a:srgbClr val="ff0000"/>
                </a:solidFill>
                <a:latin typeface="Times-Italic"/>
              </a:rPr>
              <a:t>m(</a:t>
            </a:r>
            <a:r>
              <a:rPr b="0" lang="de-DE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</a:t>
            </a:r>
            <a:r>
              <a:rPr b="0" lang="de-DE" sz="20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</a:t>
            </a:r>
            <a:r>
              <a:rPr b="0" lang="de-DE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</a:t>
            </a: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Times-Italic"/>
              </a:rPr>
              <a:t>m(</a:t>
            </a:r>
            <a:r>
              <a:rPr b="0" lang="de-DE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</a:t>
            </a:r>
            <a:r>
              <a:rPr b="0" lang="de-DE" sz="20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</a:t>
            </a:r>
            <a:r>
              <a:rPr b="0" lang="de-DE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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rrect </a:t>
            </a:r>
            <a:r>
              <a:rPr b="0" lang="de-DE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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Data (but how much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57760" y="3325320"/>
            <a:ext cx="4657680" cy="2084400"/>
            <a:chOff x="3857760" y="3325320"/>
            <a:chExt cx="4657680" cy="2084400"/>
          </a:xfrm>
        </p:grpSpPr>
        <p:sp>
          <p:nvSpPr>
            <p:cNvPr id="286" name=""/>
            <p:cNvSpPr/>
            <p:nvPr/>
          </p:nvSpPr>
          <p:spPr>
            <a:xfrm>
              <a:off x="4740120" y="4452840"/>
              <a:ext cx="739800" cy="944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479920" y="4838400"/>
              <a:ext cx="129708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34520" y="3495600"/>
              <a:ext cx="1780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Prop BT"/>
                  <a:ea typeface="SymbolProp BT"/>
                </a:rPr>
                <a:t>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-Data a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ystematical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higher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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10% 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4240080" y="2942640"/>
              <a:ext cx="1111320" cy="1876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6753240" y="297180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23880" y="19051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ny reasons to have a new measurement of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(e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88560" y="239760"/>
            <a:ext cx="7025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Conclusions on a</a:t>
            </a:r>
            <a:r>
              <a:rPr b="0" lang="en-GB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and e</a:t>
            </a:r>
            <a:r>
              <a:rPr b="0" lang="en-GB" sz="3200" spc="-1" strike="noStrike" baseline="30000">
                <a:solidFill>
                  <a:srgbClr val="3333cc"/>
                </a:solidFill>
                <a:latin typeface="Tahoma"/>
              </a:rPr>
              <a:t>+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GB" sz="3200" spc="-1" strike="noStrike" baseline="30000">
                <a:solidFill>
                  <a:srgbClr val="3333cc"/>
                </a:solidFill>
                <a:latin typeface="Tahoma"/>
              </a:rPr>
              <a:t>-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vs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3443400"/>
            <a:ext cx="60958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ahoma"/>
              </a:rPr>
              <a:t>KLOE has already finished the analysis on this channel (using the radiative return), which I’m going to present you with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868680" y="374760"/>
            <a:ext cx="37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Radiative Re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440" y="1217520"/>
            <a:ext cx="85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tandard method of measuring </a:t>
            </a:r>
            <a:r>
              <a:rPr b="0" lang="de-DE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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e</a:t>
            </a:r>
            <a:r>
              <a:rPr b="0" lang="de-DE" sz="1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e-DE" sz="18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hadrons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) is an energy scan by varying the beam energy within the desired range. Since at DA</a:t>
            </a:r>
            <a:r>
              <a:rPr b="0" lang="de-DE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 the collision energy is fixed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one uses the </a:t>
            </a:r>
            <a:r>
              <a:rPr b="0" lang="de-DE" sz="1800" spc="-1" strike="noStrike">
                <a:solidFill>
                  <a:srgbClr val="ff0000"/>
                </a:solidFill>
                <a:latin typeface="Tahoma"/>
              </a:rPr>
              <a:t>radiative return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which exploits th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520" y="2793960"/>
            <a:ext cx="5818320" cy="8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re the photon is emitted in the initial state 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S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[Binner, Kühn, Melniko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41040" y="2184480"/>
            <a:ext cx="234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e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+ Hadro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5720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 this approach the overall normalisation enters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only on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7600" y="3487680"/>
            <a:ext cx="8258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invariant mass of the hadronic system, varies continuously  betwee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20240" y="3917880"/>
            <a:ext cx="33080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(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–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·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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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ISR" descr=""/>
          <p:cNvPicPr/>
          <p:nvPr/>
        </p:nvPicPr>
        <p:blipFill>
          <a:blip r:embed="rId1"/>
          <a:srcRect l="19895" t="28400" r="24232" b="26469"/>
          <a:stretch/>
        </p:blipFill>
        <p:spPr>
          <a:xfrm>
            <a:off x="5715000" y="2057400"/>
            <a:ext cx="2514600" cy="1523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51656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However careful evaluation of radiative corrections: PHOKH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Generator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. Kühn, H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zy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ż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, G. Rodrigo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838080" y="1447920"/>
            <a:ext cx="7010280" cy="4419000"/>
            <a:chOff x="838080" y="1447920"/>
            <a:chExt cx="7010280" cy="4419000"/>
          </a:xfrm>
        </p:grpSpPr>
        <p:pic>
          <p:nvPicPr>
            <p:cNvPr id="304" name="LNF00606" descr=""/>
            <p:cNvPicPr/>
            <p:nvPr/>
          </p:nvPicPr>
          <p:blipFill>
            <a:blip r:embed="rId1"/>
            <a:srcRect l="0" t="0" r="10926" b="0"/>
            <a:stretch/>
          </p:blipFill>
          <p:spPr>
            <a:xfrm>
              <a:off x="838080" y="1447920"/>
              <a:ext cx="7010280" cy="4419000"/>
            </a:xfrm>
            <a:prstGeom prst="rect">
              <a:avLst/>
            </a:prstGeom>
            <a:ln w="38160">
              <a:solidFill>
                <a:srgbClr val="333399"/>
              </a:solidFill>
              <a:miter/>
            </a:ln>
          </p:spPr>
        </p:pic>
        <p:sp>
          <p:nvSpPr>
            <p:cNvPr id="305" name=""/>
            <p:cNvSpPr/>
            <p:nvPr/>
          </p:nvSpPr>
          <p:spPr>
            <a:xfrm>
              <a:off x="2930400" y="2358720"/>
              <a:ext cx="107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i="1" lang="en-US" sz="14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i="1" lang="en-US" sz="14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i="1" lang="en-US" sz="1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i="1" lang="en-US" sz="14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i="1" lang="en-US" sz="1400" spc="-1" strike="noStrike">
                  <a:solidFill>
                    <a:srgbClr val="0000ff"/>
                  </a:solidFill>
                  <a:latin typeface="Arial"/>
                </a:rPr>
                <a:t>g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968600">
              <a:off x="4305960" y="3977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cc"/>
                  </a:solidFill>
                  <a:latin typeface="Arial"/>
                </a:rPr>
                <a:t>Lin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0527200">
              <a:off x="1126440" y="2787120"/>
              <a:ext cx="89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cc"/>
                  </a:solidFill>
                  <a:latin typeface="Arial"/>
                </a:rPr>
                <a:t>Dam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cc"/>
                  </a:solidFill>
                  <a:latin typeface="Arial"/>
                </a:rPr>
                <a:t>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0178000">
              <a:off x="1471320" y="3398400"/>
              <a:ext cx="103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cc"/>
                  </a:solidFill>
                  <a:latin typeface="Arial"/>
                </a:rPr>
                <a:t>Beam tes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cc"/>
                  </a:solidFill>
                  <a:latin typeface="Arial"/>
                </a:rPr>
                <a:t>fac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9954800">
              <a:off x="2131920" y="203292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cc"/>
                  </a:solidFill>
                  <a:latin typeface="Arial"/>
                </a:rPr>
                <a:t>KLOE h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820200">
              <a:off x="3519720" y="1738440"/>
              <a:ext cx="114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cc"/>
                  </a:solidFill>
                  <a:latin typeface="Arial"/>
                </a:rPr>
                <a:t>Synchrotr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cc"/>
                  </a:solidFill>
                  <a:latin typeface="Arial"/>
                </a:rPr>
                <a:t>l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1720" y="2188800"/>
              <a:ext cx="1631520" cy="68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05400" y="2190240"/>
              <a:ext cx="1631160" cy="6832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203480" y="76320"/>
            <a:ext cx="733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DAFNE: a </a:t>
            </a:r>
            <a:r>
              <a:rPr b="0" lang="en-GB" sz="28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-factory at INFN-Na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Laboratories in Frascati (near 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1295280" y="4041720"/>
          <a:ext cx="3581640" cy="1825560"/>
        </p:xfrm>
        <a:graphic>
          <a:graphicData uri="http://schemas.openxmlformats.org/drawingml/2006/table">
            <a:tbl>
              <a:tblPr/>
              <a:tblGrid>
                <a:gridCol w="1868760"/>
                <a:gridCol w="1712880"/>
              </a:tblGrid>
              <a:tr h="3661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Dec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BR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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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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16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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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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731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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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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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152280" y="1295280"/>
            <a:ext cx="56390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s = M</a:t>
            </a:r>
            <a:r>
              <a:rPr b="0" lang="it-IT" sz="2000" spc="-1" strike="noStrike" baseline="-22000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 = 1.02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 3.3 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a 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-factory is mostly a kaon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kaons are produced back to back in the CoM with |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10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it-IT" sz="20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it-IT" sz="20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in two separate rings with crossing angle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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25mrad at IP (small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momentum p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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13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943600" y="1447920"/>
            <a:ext cx="2873160" cy="4343400"/>
            <a:chOff x="5943600" y="1447920"/>
            <a:chExt cx="2873160" cy="4343400"/>
          </a:xfrm>
        </p:grpSpPr>
        <p:pic>
          <p:nvPicPr>
            <p:cNvPr id="317" name="dafnelay" descr=""/>
            <p:cNvPicPr/>
            <p:nvPr/>
          </p:nvPicPr>
          <p:blipFill>
            <a:blip r:embed="rId1"/>
            <a:stretch/>
          </p:blipFill>
          <p:spPr>
            <a:xfrm>
              <a:off x="5943600" y="1447920"/>
              <a:ext cx="287316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869160" y="389520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66"/>
                  </a:solidFill>
                  <a:latin typeface="Comic Sans MS"/>
                </a:rPr>
                <a:t>DE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9" name="kloe_logo" descr=""/>
            <p:cNvPicPr/>
            <p:nvPr/>
          </p:nvPicPr>
          <p:blipFill>
            <a:blip r:embed="rId2"/>
            <a:stretch/>
          </p:blipFill>
          <p:spPr>
            <a:xfrm>
              <a:off x="7329240" y="4822920"/>
              <a:ext cx="40176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finudalogocol1" descr=""/>
            <p:cNvPicPr/>
            <p:nvPr/>
          </p:nvPicPr>
          <p:blipFill>
            <a:blip r:embed="rId3"/>
            <a:stretch/>
          </p:blipFill>
          <p:spPr>
            <a:xfrm>
              <a:off x="7149960" y="3467160"/>
              <a:ext cx="35244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dear_logosmall" descr=""/>
            <p:cNvPicPr/>
            <p:nvPr/>
          </p:nvPicPr>
          <p:blipFill>
            <a:blip r:embed="rId4"/>
            <a:stretch/>
          </p:blipFill>
          <p:spPr>
            <a:xfrm>
              <a:off x="6689520" y="3527280"/>
              <a:ext cx="469800" cy="30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747360" y="-76320"/>
            <a:ext cx="6576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DA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NE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</a:rPr>
              <a:t> : </a:t>
            </a:r>
            <a:r>
              <a:rPr b="0" i="1" lang="it-IT" sz="28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0" i="1" lang="it-IT" sz="2800" spc="-1" strike="noStrike" baseline="26000">
                <a:solidFill>
                  <a:srgbClr val="ff0066"/>
                </a:solidFill>
                <a:latin typeface="Times New Roman"/>
              </a:rPr>
              <a:t>+ </a:t>
            </a:r>
            <a:r>
              <a:rPr b="0" i="1" lang="it-IT" sz="2800" spc="-1" strike="noStrike">
                <a:solidFill>
                  <a:srgbClr val="ff0066"/>
                </a:solidFill>
                <a:latin typeface="Times New Roman"/>
              </a:rPr>
              <a:t>e </a:t>
            </a:r>
            <a:r>
              <a:rPr b="0" i="1" lang="it-IT" sz="2800" spc="-1" strike="noStrike" baseline="26000">
                <a:solidFill>
                  <a:srgbClr val="ff0066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high luminosity collider</a:t>
            </a:r>
            <a:r>
              <a:rPr b="0" lang="it-IT" sz="2800" spc="-1" strike="noStrike">
                <a:solidFill>
                  <a:srgbClr val="ffcf0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i="1" lang="it-IT" sz="2800" spc="-1" strike="noStrike" baseline="-25000">
                <a:solidFill>
                  <a:srgbClr val="3333cc"/>
                </a:solidFill>
                <a:latin typeface="Times New Roman"/>
              </a:rPr>
              <a:t>design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= 5x10</a:t>
            </a:r>
            <a:r>
              <a:rPr b="0" lang="it-IT" sz="2800" spc="-1" strike="noStrike" baseline="32000">
                <a:solidFill>
                  <a:srgbClr val="3333cc"/>
                </a:solidFill>
                <a:latin typeface="Times New Roman"/>
              </a:rPr>
              <a:t>32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cm</a:t>
            </a:r>
            <a:r>
              <a:rPr b="0" lang="it-IT" sz="2800" spc="-1" strike="noStrike" baseline="32000">
                <a:solidFill>
                  <a:srgbClr val="3333cc"/>
                </a:solidFill>
                <a:latin typeface="Times New Roman"/>
              </a:rPr>
              <a:t>-2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it-IT" sz="2800" spc="-1" strike="noStrike" baseline="32000">
                <a:solidFill>
                  <a:srgbClr val="3333cc"/>
                </a:solidFill>
                <a:latin typeface="Times New Roman"/>
              </a:rPr>
              <a:t>-1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set at the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peak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430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DA</a:t>
            </a:r>
            <a:r>
              <a:rPr b="0" lang="it-IT" sz="3200" spc="-1" strike="noStrike">
                <a:solidFill>
                  <a:srgbClr val="333399"/>
                </a:solidFill>
                <a:latin typeface="Symbol"/>
                <a:ea typeface="Symbol"/>
              </a:rPr>
              <a:t>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NE perform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495680" y="1173240"/>
          <a:ext cx="4267080" cy="2560680"/>
        </p:xfrm>
        <a:graphic>
          <a:graphicData uri="http://schemas.openxmlformats.org/drawingml/2006/table">
            <a:tbl>
              <a:tblPr/>
              <a:tblGrid>
                <a:gridCol w="2090520"/>
                <a:gridCol w="1042920"/>
                <a:gridCol w="113364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KLOE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bun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120+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1+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tim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curr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un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4.4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  <a:ea typeface="Times New Roman"/>
                        </a:rPr>
                        <a:t>·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d60093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5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·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ea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5.3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  <a:ea typeface="Times New Roman"/>
                        </a:rPr>
                        <a:t>·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d60093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8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·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pic>
        <p:nvPicPr>
          <p:cNvPr id="325" name="300pbhr" descr="file:///C:/Documents%20and%20Settings/mario%20antonelli/Desktop/300pbhr.jpg"/>
          <p:cNvPicPr/>
          <p:nvPr/>
        </p:nvPicPr>
        <p:blipFill>
          <a:blip r:embed="rId1"/>
          <a:srcRect l="9214" t="13167" r="7938" b="0"/>
          <a:stretch/>
        </p:blipFill>
        <p:spPr>
          <a:xfrm>
            <a:off x="152280" y="990720"/>
            <a:ext cx="4191120" cy="289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6" name=""/>
          <p:cNvSpPr/>
          <p:nvPr/>
        </p:nvSpPr>
        <p:spPr>
          <a:xfrm>
            <a:off x="547920" y="3962520"/>
            <a:ext cx="3507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ndard analysis s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450 pb</a:t>
            </a:r>
            <a:r>
              <a:rPr b="0" lang="it-IT" sz="2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rom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5480" y="1057320"/>
            <a:ext cx="11970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(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3962520"/>
            <a:ext cx="423864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am trajectory length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~ 98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am crossing frequency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68.25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nch spacing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: 2.7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nch sizes @ I.P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cf01"/>
              </a:buClr>
              <a:buFont typeface="SymbolProp BT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SymbolProp BT"/>
                <a:ea typeface="SymbolProp BT"/>
              </a:rPr>
              <a:t></a:t>
            </a:r>
            <a:r>
              <a:rPr b="0" lang="en-US" sz="2000" spc="-1" strike="noStrike" baseline="-25000">
                <a:solidFill>
                  <a:srgbClr val="ffcf01"/>
                </a:solidFill>
                <a:latin typeface="Comic Sans MS"/>
              </a:rPr>
              <a:t>x </a:t>
            </a:r>
            <a:r>
              <a:rPr b="0" lang="en-US" sz="2000" spc="-1" strike="noStrike" baseline="-25000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ffcf01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cf01"/>
                </a:solidFill>
                <a:latin typeface="SymbolProp BT"/>
                <a:ea typeface="SymbolProp BT"/>
              </a:rPr>
              <a:t></a:t>
            </a:r>
            <a:r>
              <a:rPr b="0" lang="en-US" sz="2000" spc="-1" strike="noStrike" baseline="-25000">
                <a:solidFill>
                  <a:srgbClr val="ffcf01"/>
                </a:solidFill>
                <a:latin typeface="Comic Sans MS"/>
              </a:rPr>
              <a:t>y </a:t>
            </a:r>
            <a:r>
              <a:rPr b="0" lang="en-US" sz="2000" spc="-1" strike="noStrike" baseline="-25000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ffcf01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cf01"/>
                </a:solidFill>
                <a:latin typeface="SymbolProp BT"/>
                <a:ea typeface="SymbolProp BT"/>
              </a:rPr>
              <a:t></a:t>
            </a:r>
            <a:r>
              <a:rPr b="0" lang="en-US" sz="2000" spc="-1" strike="noStrike" baseline="-25000">
                <a:solidFill>
                  <a:srgbClr val="ffcf01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2mm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20 </a:t>
            </a:r>
            <a:r>
              <a:rPr b="0" lang="en-US" sz="2000" spc="-1" strike="noStrike">
                <a:solidFill>
                  <a:srgbClr val="ffcf01"/>
                </a:solidFill>
                <a:latin typeface="SymbolProp BT"/>
                <a:ea typeface="SymbolProp BT"/>
              </a:rPr>
              <a:t>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m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3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6320" y="4807080"/>
            <a:ext cx="4495680" cy="1590120"/>
            <a:chOff x="76320" y="4807080"/>
            <a:chExt cx="4495680" cy="1590120"/>
          </a:xfrm>
        </p:grpSpPr>
        <p:sp>
          <p:nvSpPr>
            <p:cNvPr id="330" name=""/>
            <p:cNvSpPr/>
            <p:nvPr/>
          </p:nvSpPr>
          <p:spPr>
            <a:xfrm>
              <a:off x="1523880" y="4807080"/>
              <a:ext cx="3048120" cy="159012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99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it-IT" sz="1800" spc="-1" strike="noStrike" baseline="-25000">
                  <a:solidFill>
                    <a:srgbClr val="ff0000"/>
                  </a:solidFill>
                  <a:latin typeface="Arial"/>
                </a:rPr>
                <a:t>peak</a:t>
              </a: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  =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·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32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cm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L 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int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/ day = 10 pb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L 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int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/ year = 2 fb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(2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9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K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S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K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L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320" y="5181480"/>
              <a:ext cx="1447560" cy="609840"/>
            </a:xfrm>
            <a:prstGeom prst="rightArrow">
              <a:avLst>
                <a:gd name="adj1" fmla="val 50000"/>
                <a:gd name="adj2" fmla="val 5934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2004 go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Physics reach vs Integrated lumin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9920" y="1289160"/>
            <a:ext cx="8693280" cy="4824360"/>
            <a:chOff x="79920" y="1289160"/>
            <a:chExt cx="8693280" cy="4824360"/>
          </a:xfrm>
        </p:grpSpPr>
        <p:grpSp>
          <p:nvGrpSpPr>
            <p:cNvPr id="334" name=""/>
            <p:cNvGrpSpPr/>
            <p:nvPr/>
          </p:nvGrpSpPr>
          <p:grpSpPr>
            <a:xfrm>
              <a:off x="6300360" y="1400760"/>
              <a:ext cx="1679040" cy="4593240"/>
              <a:chOff x="6300360" y="1400760"/>
              <a:chExt cx="1679040" cy="4593240"/>
            </a:xfrm>
          </p:grpSpPr>
          <p:sp>
            <p:nvSpPr>
              <p:cNvPr id="335" name=""/>
              <p:cNvSpPr/>
              <p:nvPr/>
            </p:nvSpPr>
            <p:spPr>
              <a:xfrm rot="303600">
                <a:off x="7077600" y="1427760"/>
                <a:ext cx="622440" cy="14148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 rot="357000">
                <a:off x="6527160" y="1500120"/>
                <a:ext cx="1225080" cy="4442400"/>
              </a:xfrm>
              <a:custGeom>
                <a:avLst/>
                <a:gdLst>
                  <a:gd name="textAreaLeft" fmla="*/ 371880 w 1225080"/>
                  <a:gd name="textAreaRight" fmla="*/ 853200 w 1225080"/>
                  <a:gd name="textAreaTop" fmla="*/ 1349280 h 4442400"/>
                  <a:gd name="textAreaBottom" fmla="*/ 3093120 h 4442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41" y="21600"/>
                    </a:lnTo>
                    <a:lnTo>
                      <a:pt x="8659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7569360" y="4883760"/>
              <a:ext cx="1058400" cy="398880"/>
              <a:chOff x="7569360" y="4883760"/>
              <a:chExt cx="1058400" cy="398880"/>
            </a:xfrm>
          </p:grpSpPr>
          <p:sp>
            <p:nvSpPr>
              <p:cNvPr id="338" name=""/>
              <p:cNvSpPr/>
              <p:nvPr/>
            </p:nvSpPr>
            <p:spPr>
              <a:xfrm>
                <a:off x="7935120" y="48837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Times New Roman"/>
                  </a:rPr>
                  <a:t>199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569360" y="5077080"/>
                <a:ext cx="4266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540920" y="3704040"/>
              <a:ext cx="1096200" cy="398880"/>
              <a:chOff x="7540920" y="3704040"/>
              <a:chExt cx="1096200" cy="398880"/>
            </a:xfrm>
          </p:grpSpPr>
          <p:sp>
            <p:nvSpPr>
              <p:cNvPr id="341" name=""/>
              <p:cNvSpPr/>
              <p:nvPr/>
            </p:nvSpPr>
            <p:spPr>
              <a:xfrm>
                <a:off x="7944480" y="370404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Times New Roman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40920" y="3902040"/>
                <a:ext cx="4269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7547400" y="2537640"/>
              <a:ext cx="1225800" cy="398880"/>
              <a:chOff x="7547400" y="2537640"/>
              <a:chExt cx="1225800" cy="398880"/>
            </a:xfrm>
          </p:grpSpPr>
          <p:sp>
            <p:nvSpPr>
              <p:cNvPr id="344" name=""/>
              <p:cNvSpPr/>
              <p:nvPr/>
            </p:nvSpPr>
            <p:spPr>
              <a:xfrm>
                <a:off x="7940160" y="2537640"/>
                <a:ext cx="83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Toda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7400" y="2735280"/>
                <a:ext cx="426960" cy="0"/>
              </a:xfrm>
              <a:prstGeom prst="line">
                <a:avLst/>
              </a:prstGeom>
              <a:ln w="28440">
                <a:solidFill>
                  <a:srgbClr val="ffc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7914960" y="29397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2200" y="3128760"/>
              <a:ext cx="4255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65400" y="454968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imes New Roman"/>
                </a:rPr>
                <a:t>5 pb</a:t>
              </a:r>
              <a:r>
                <a:rPr b="0" lang="en-US" sz="2000" spc="-1" strike="noStrike" baseline="30000">
                  <a:solidFill>
                    <a:srgbClr val="cc66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64560" y="3439440"/>
              <a:ext cx="88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imes New Roman"/>
                </a:rPr>
                <a:t>50 pb</a:t>
              </a:r>
              <a:r>
                <a:rPr b="0" lang="en-US" sz="2000" spc="-1" strike="noStrike" baseline="30000">
                  <a:solidFill>
                    <a:srgbClr val="cc66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89200" y="2607120"/>
              <a:ext cx="10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f01"/>
                  </a:solidFill>
                  <a:latin typeface="Times New Roman"/>
                </a:rPr>
                <a:t>500 pb</a:t>
              </a:r>
              <a:r>
                <a:rPr b="0" lang="en-US" sz="2000" spc="-1" strike="noStrike" baseline="30000">
                  <a:solidFill>
                    <a:srgbClr val="ffcf01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94000" y="1913400"/>
              <a:ext cx="66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imes New Roman"/>
                </a:rPr>
                <a:t>5</a:t>
              </a:r>
              <a:r>
                <a:rPr b="0" lang="en-US" sz="1800" spc="-1" strike="noStrike">
                  <a:solidFill>
                    <a:srgbClr val="cc0000"/>
                  </a:solidFill>
                  <a:latin typeface="Times New Roman"/>
                </a:rPr>
                <a:t> fb</a:t>
              </a:r>
              <a:r>
                <a:rPr b="0" lang="en-US" sz="1800" spc="-1" strike="noStrike" baseline="30000">
                  <a:solidFill>
                    <a:srgbClr val="cc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4959360" y="1996920"/>
              <a:ext cx="2116440" cy="3591000"/>
              <a:chOff x="4959360" y="1996920"/>
              <a:chExt cx="2116440" cy="359100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4959360" y="4299120"/>
                <a:ext cx="1545480" cy="1288800"/>
                <a:chOff x="4959360" y="4299120"/>
                <a:chExt cx="1545480" cy="12888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959360" y="5586480"/>
                  <a:ext cx="1212120" cy="144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544360" y="5095440"/>
                  <a:ext cx="743040" cy="144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774040" y="4718160"/>
                  <a:ext cx="617760" cy="288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663160" y="4901760"/>
                  <a:ext cx="671040" cy="144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822640" y="4589640"/>
                  <a:ext cx="600480" cy="108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004080" y="4299120"/>
                  <a:ext cx="500760" cy="144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965200" y="4375800"/>
                  <a:ext cx="520920" cy="108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899320" y="4472640"/>
                  <a:ext cx="563040" cy="108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630760" y="3340800"/>
                <a:ext cx="1126440" cy="901440"/>
                <a:chOff x="5630760" y="3340800"/>
                <a:chExt cx="1126440" cy="9014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630760" y="4241160"/>
                  <a:ext cx="883440" cy="108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057000" y="3897360"/>
                  <a:ext cx="541440" cy="108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224400" y="3633840"/>
                  <a:ext cx="450360" cy="180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143400" y="3762000"/>
                  <a:ext cx="488880" cy="108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260040" y="3543840"/>
                  <a:ext cx="437400" cy="72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392160" y="3340800"/>
                  <a:ext cx="365040" cy="108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63720" y="3394080"/>
                  <a:ext cx="379800" cy="72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15840" y="3462120"/>
                  <a:ext cx="410040" cy="72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6048360" y="2564640"/>
                <a:ext cx="896760" cy="740880"/>
                <a:chOff x="6048360" y="2564640"/>
                <a:chExt cx="896760" cy="7408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048360" y="3304800"/>
                  <a:ext cx="703080" cy="72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387480" y="3022560"/>
                  <a:ext cx="430920" cy="72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521040" y="2805480"/>
                  <a:ext cx="358560" cy="144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456600" y="2910960"/>
                  <a:ext cx="389160" cy="72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549120" y="2731680"/>
                  <a:ext cx="348480" cy="72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654600" y="2564640"/>
                  <a:ext cx="290520" cy="72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631920" y="2608560"/>
                  <a:ext cx="302400" cy="72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593760" y="2664360"/>
                  <a:ext cx="326520" cy="72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6480000" y="1996920"/>
                <a:ext cx="595800" cy="532800"/>
                <a:chOff x="6480000" y="1996920"/>
                <a:chExt cx="595800" cy="5328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480000" y="2529360"/>
                  <a:ext cx="467640" cy="36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705360" y="2326320"/>
                  <a:ext cx="286560" cy="36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794280" y="2170080"/>
                  <a:ext cx="238320" cy="108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751440" y="2246040"/>
                  <a:ext cx="258840" cy="36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813000" y="2117160"/>
                  <a:ext cx="231480" cy="36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882840" y="1996920"/>
                  <a:ext cx="192960" cy="36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867720" y="2028600"/>
                  <a:ext cx="200880" cy="36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842520" y="2068560"/>
                  <a:ext cx="217080" cy="36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411480" y="4000320"/>
              <a:ext cx="3002760" cy="2113200"/>
            </a:xfrm>
            <a:prstGeom prst="rect">
              <a:avLst/>
            </a:prstGeom>
            <a:noFill/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Times New Roman"/>
                </a:rPr>
                <a:t>K</a:t>
              </a:r>
              <a:r>
                <a:rPr b="0" i="1" lang="en-US" sz="2400" spc="-1" strike="noStrike" baseline="-25000">
                  <a:solidFill>
                    <a:srgbClr val="6633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 phys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18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BR(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Times New Roman"/>
                </a:rPr>
                <a:t>K</a:t>
              </a:r>
              <a:r>
                <a:rPr b="0" i="1" lang="en-US" sz="2000" spc="-1" strike="noStrike" baseline="-25000">
                  <a:solidFill>
                    <a:srgbClr val="663300"/>
                  </a:solidFill>
                  <a:latin typeface="Times New Roman"/>
                </a:rPr>
                <a:t>S 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000" spc="-1" strike="noStrike" baseline="30000">
                  <a:solidFill>
                    <a:srgbClr val="6633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000" spc="-1" strike="noStrike" baseline="30000">
                  <a:solidFill>
                    <a:srgbClr val="6633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)/BR(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Times New Roman"/>
                </a:rPr>
                <a:t>K</a:t>
              </a:r>
              <a:r>
                <a:rPr b="0" i="1" lang="en-US" sz="2000" spc="-1" strike="noStrike" baseline="-25000">
                  <a:solidFill>
                    <a:srgbClr val="663300"/>
                  </a:solidFill>
                  <a:latin typeface="Times New Roman"/>
                </a:rPr>
                <a:t>S 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000" spc="-1" strike="noStrike" baseline="30000">
                  <a:solidFill>
                    <a:srgbClr val="663300"/>
                  </a:solidFill>
                  <a:latin typeface="SymbolProp BT"/>
                  <a:ea typeface="SymbolProp BT"/>
                </a:rPr>
                <a:t>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000" spc="-1" strike="noStrike" baseline="30000">
                  <a:solidFill>
                    <a:srgbClr val="663300"/>
                  </a:solidFill>
                  <a:latin typeface="SymbolProp BT"/>
                  <a:ea typeface="SymbolProp BT"/>
                </a:rPr>
                <a:t>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18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BR(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Times New Roman"/>
                </a:rPr>
                <a:t>K</a:t>
              </a:r>
              <a:r>
                <a:rPr b="0" i="1" lang="en-US" sz="2000" spc="-1" strike="noStrike" baseline="-25000">
                  <a:solidFill>
                    <a:srgbClr val="663300"/>
                  </a:solidFill>
                  <a:latin typeface="Times New Roman"/>
                </a:rPr>
                <a:t>S</a:t>
              </a:r>
              <a:r>
                <a:rPr b="0" i="1" lang="en-US" sz="2000" spc="-1" strike="noStrike" baseline="-25000">
                  <a:solidFill>
                    <a:srgbClr val="663300"/>
                  </a:solidFill>
                  <a:latin typeface="SymbolProp BT"/>
                  <a:ea typeface="SymbolProp BT"/>
                </a:rPr>
                <a:t>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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Times New Roman"/>
                </a:rPr>
                <a:t>e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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</a:t>
              </a: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radiative deca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18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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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18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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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, </a:t>
              </a:r>
              <a:r>
                <a:rPr b="0" lang="en-US" sz="2000" spc="-1" strike="noStrike">
                  <a:solidFill>
                    <a:srgbClr val="663300"/>
                  </a:solidFill>
                  <a:latin typeface="SymbolProp BT"/>
                  <a:ea typeface="SymbolProp BT"/>
                </a:rPr>
                <a:t>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1120" y="2563560"/>
              <a:ext cx="3868920" cy="1500840"/>
            </a:xfrm>
            <a:prstGeom prst="rect">
              <a:avLst/>
            </a:prstGeom>
            <a:noFill/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semileptonic asymmetry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3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SymbolProp BT"/>
                  <a:ea typeface="SymbolProp BT"/>
                </a:rPr>
                <a:t>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2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Prop BT"/>
                  <a:ea typeface="SymbolProp BT"/>
                </a:rPr>
                <a:t>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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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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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33cc"/>
                  </a:solidFill>
                  <a:latin typeface="SymbolProp BT"/>
                  <a:ea typeface="SymbolProp BT"/>
                </a:rPr>
                <a:t></a:t>
              </a:r>
              <a:r>
                <a:rPr b="0" lang="it-IT" sz="24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i="1" lang="it-IT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it-IT" sz="2400" spc="-1" strike="noStrike" baseline="30000">
                  <a:solidFill>
                    <a:srgbClr val="3333cc"/>
                  </a:solidFill>
                  <a:latin typeface="SymbolProp BT"/>
                  <a:ea typeface="SymbolProp BT"/>
                </a:rPr>
                <a:t></a:t>
              </a:r>
              <a:r>
                <a:rPr b="0" i="1" lang="it-IT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it-IT" sz="2400" spc="-1" strike="noStrike" baseline="30000">
                  <a:solidFill>
                    <a:srgbClr val="3333cc"/>
                  </a:solidFill>
                  <a:latin typeface="SymbolProp BT"/>
                  <a:ea typeface="SymbolProp BT"/>
                </a:rPr>
                <a:t></a:t>
              </a:r>
              <a:r>
                <a:rPr b="0" lang="it-IT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3333cc"/>
                  </a:solidFill>
                  <a:latin typeface="SymbolProp BT"/>
                  <a:ea typeface="SymbolProp BT"/>
                </a:rPr>
                <a:t></a:t>
              </a:r>
              <a:r>
                <a:rPr b="0" lang="it-IT" sz="2400" spc="-1" strike="noStrike">
                  <a:solidFill>
                    <a:srgbClr val="3333cc"/>
                  </a:solidFill>
                  <a:latin typeface="Times New Roman"/>
                </a:rPr>
                <a:t> hadrons)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to 1%  </a:t>
              </a:r>
              <a:r>
                <a:rPr b="0" lang="en-US" sz="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920" y="1289160"/>
              <a:ext cx="3908520" cy="124164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Interferome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SymbolProp BT"/>
                  <a:ea typeface="SymbolProp BT"/>
                </a:rPr>
                <a:t>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to </a:t>
              </a:r>
              <a:r>
                <a:rPr b="0" lang="en-US" sz="2400" spc="-1" strike="noStrike">
                  <a:solidFill>
                    <a:srgbClr val="cc0000"/>
                  </a:solidFill>
                  <a:latin typeface="Monotype Corsiva"/>
                </a:rPr>
                <a:t>O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(10</a:t>
              </a:r>
              <a:r>
                <a:rPr b="0" lang="en-US" sz="2400" spc="-1" strike="noStrike" baseline="30000">
                  <a:solidFill>
                    <a:srgbClr val="cc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400" spc="-1" strike="noStrike" baseline="30000">
                  <a:solidFill>
                    <a:srgbClr val="cc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) via double rat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rare </a:t>
              </a:r>
              <a:r>
                <a:rPr b="0" i="1" lang="en-US" sz="24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r>
                <a:rPr b="0" i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S,L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 decays, CPT te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2" name=""/>
            <p:cNvCxnSpPr>
              <a:stCxn id="389" idx="3"/>
              <a:endCxn id="349" idx="1"/>
            </p:cNvCxnSpPr>
            <p:nvPr/>
          </p:nvCxnSpPr>
          <p:spPr>
            <a:xfrm flipV="1">
              <a:off x="3856320" y="3619800"/>
              <a:ext cx="1302480" cy="12783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cc66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90" idx="3"/>
              <a:endCxn id="350" idx="1"/>
            </p:cNvCxnSpPr>
            <p:nvPr/>
          </p:nvCxnSpPr>
          <p:spPr>
            <a:xfrm flipV="1">
              <a:off x="4015800" y="2787120"/>
              <a:ext cx="1368000" cy="429480"/>
            </a:xfrm>
            <a:prstGeom prst="bentConnector3">
              <a:avLst>
                <a:gd name="adj1" fmla="val 49407"/>
              </a:avLst>
            </a:prstGeom>
            <a:ln w="28440">
              <a:solidFill>
                <a:srgbClr val="ffcf01"/>
              </a:solidFill>
              <a:miter/>
              <a:tailEnd len="med" type="triangle" w="med"/>
            </a:ln>
          </p:spPr>
        </p:cxnSp>
        <p:cxnSp>
          <p:nvCxnSpPr>
            <p:cNvPr id="394" name=""/>
            <p:cNvCxnSpPr>
              <a:stCxn id="391" idx="3"/>
              <a:endCxn id="351" idx="1"/>
            </p:cNvCxnSpPr>
            <p:nvPr/>
          </p:nvCxnSpPr>
          <p:spPr>
            <a:xfrm>
              <a:off x="4006080" y="1842480"/>
              <a:ext cx="1977840" cy="252000"/>
            </a:xfrm>
            <a:prstGeom prst="bentConnector3">
              <a:avLst>
                <a:gd name="adj1" fmla="val 496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</p:grpSp>
      <p:grpSp>
        <p:nvGrpSpPr>
          <p:cNvPr id="395" name=""/>
          <p:cNvGrpSpPr/>
          <p:nvPr/>
        </p:nvGrpSpPr>
        <p:grpSpPr>
          <a:xfrm>
            <a:off x="6321240" y="1191600"/>
            <a:ext cx="1742040" cy="5038200"/>
            <a:chOff x="6321240" y="1191600"/>
            <a:chExt cx="1742040" cy="5038200"/>
          </a:xfrm>
        </p:grpSpPr>
        <p:sp>
          <p:nvSpPr>
            <p:cNvPr id="396" name=""/>
            <p:cNvSpPr/>
            <p:nvPr/>
          </p:nvSpPr>
          <p:spPr>
            <a:xfrm rot="303600">
              <a:off x="7129080" y="1218960"/>
              <a:ext cx="631800" cy="15552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 rot="357000">
              <a:off x="6570720" y="1298520"/>
              <a:ext cx="1243080" cy="4879800"/>
            </a:xfrm>
            <a:custGeom>
              <a:avLst/>
              <a:gdLst>
                <a:gd name="textAreaLeft" fmla="*/ 377640 w 1243080"/>
                <a:gd name="textAreaRight" fmla="*/ 865440 w 1243080"/>
                <a:gd name="textAreaTop" fmla="*/ 1482120 h 4879800"/>
                <a:gd name="textAreaBottom" fmla="*/ 3397680 h 48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41" y="21600"/>
                  </a:lnTo>
                  <a:lnTo>
                    <a:pt x="865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The KLOE detecto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219320"/>
            <a:ext cx="4419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lectromagnetic Calorimeter (EM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e sampling Pb (0.5 mm thick) / Scifi (1 mm 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rmetical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 efficiency for low energy phot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E = 5%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(GeV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50ps/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(G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entral drift chamber (D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rge detection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form tracking and vertexing in all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lium based gas mix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1 mm        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p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/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0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r,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200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      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2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Quadrupoles’ calorimeter (Q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b/Sci tile calorimeter covering quads inside KL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1279440"/>
            <a:ext cx="3768840" cy="440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181480" y="5386320"/>
            <a:ext cx="3768840" cy="3016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5181480" y="5084640"/>
            <a:ext cx="3768840" cy="3016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5181480" y="4782960"/>
            <a:ext cx="3768840" cy="301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5181480" y="4481640"/>
            <a:ext cx="3768840" cy="3013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5181480" y="4179960"/>
            <a:ext cx="3768840" cy="3016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6"/>
          <a:stretch/>
        </p:blipFill>
        <p:spPr>
          <a:xfrm>
            <a:off x="5181480" y="3878280"/>
            <a:ext cx="3768840" cy="3016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7"/>
          <a:stretch/>
        </p:blipFill>
        <p:spPr>
          <a:xfrm>
            <a:off x="5181480" y="3575160"/>
            <a:ext cx="3768840" cy="3031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8"/>
          <a:stretch/>
        </p:blipFill>
        <p:spPr>
          <a:xfrm>
            <a:off x="5181480" y="3273480"/>
            <a:ext cx="3768840" cy="3016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9"/>
          <a:stretch/>
        </p:blipFill>
        <p:spPr>
          <a:xfrm>
            <a:off x="5181480" y="2971800"/>
            <a:ext cx="3768840" cy="3016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0"/>
          <a:stretch/>
        </p:blipFill>
        <p:spPr>
          <a:xfrm>
            <a:off x="5181480" y="2670120"/>
            <a:ext cx="3768840" cy="3016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1"/>
          <a:stretch/>
        </p:blipFill>
        <p:spPr>
          <a:xfrm>
            <a:off x="5181480" y="2368440"/>
            <a:ext cx="3768840" cy="3016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2"/>
          <a:stretch/>
        </p:blipFill>
        <p:spPr>
          <a:xfrm>
            <a:off x="5181480" y="2066760"/>
            <a:ext cx="3768840" cy="301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3"/>
          <a:stretch/>
        </p:blipFill>
        <p:spPr>
          <a:xfrm>
            <a:off x="5181480" y="1765440"/>
            <a:ext cx="3768840" cy="3013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4"/>
          <a:stretch/>
        </p:blipFill>
        <p:spPr>
          <a:xfrm>
            <a:off x="5181480" y="1463760"/>
            <a:ext cx="3768840" cy="3016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5"/>
          <a:stretch/>
        </p:blipFill>
        <p:spPr>
          <a:xfrm>
            <a:off x="5181480" y="1279440"/>
            <a:ext cx="3768840" cy="184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4876920" y="198108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198108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724280" y="403812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800600" y="495252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qcal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2590560" cy="19126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421" name=""/>
          <p:cNvSpPr/>
          <p:nvPr/>
        </p:nvSpPr>
        <p:spPr>
          <a:xfrm>
            <a:off x="1295280" y="15228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KLOE det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rcRect l="25726" t="10227" r="21652" b="7968"/>
          <a:stretch/>
        </p:blipFill>
        <p:spPr>
          <a:xfrm>
            <a:off x="2819520" y="1676520"/>
            <a:ext cx="3552840" cy="4038480"/>
          </a:xfrm>
          <a:prstGeom prst="rect">
            <a:avLst/>
          </a:prstGeom>
          <a:ln w="0">
            <a:noFill/>
          </a:ln>
        </p:spPr>
      </p:pic>
      <p:pic>
        <p:nvPicPr>
          <p:cNvPr id="423" name="dc2" descr=""/>
          <p:cNvPicPr/>
          <p:nvPr/>
        </p:nvPicPr>
        <p:blipFill>
          <a:blip r:embed="rId3"/>
          <a:srcRect l="10399" t="88" r="15748" b="0"/>
          <a:stretch/>
        </p:blipFill>
        <p:spPr>
          <a:xfrm>
            <a:off x="6324480" y="1295280"/>
            <a:ext cx="2667240" cy="22194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424" name=""/>
          <p:cNvSpPr/>
          <p:nvPr/>
        </p:nvSpPr>
        <p:spPr>
          <a:xfrm>
            <a:off x="6643440" y="116208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1080" y="289548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pherical Beam 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143000" y="2666520"/>
            <a:ext cx="15228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6840" y="1828800"/>
            <a:ext cx="228600" cy="76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1828800"/>
            <a:ext cx="22860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90920" y="2133720"/>
            <a:ext cx="175248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181120" y="2895480"/>
            <a:ext cx="121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5486400" y="4038120"/>
            <a:ext cx="1447920" cy="838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514600" y="3580920"/>
            <a:ext cx="198108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1066680"/>
            <a:ext cx="1981080" cy="381240"/>
            <a:chOff x="3657600" y="1066680"/>
            <a:chExt cx="1981080" cy="381240"/>
          </a:xfrm>
        </p:grpSpPr>
        <p:sp>
          <p:nvSpPr>
            <p:cNvPr id="434" name=""/>
            <p:cNvSpPr/>
            <p:nvPr/>
          </p:nvSpPr>
          <p:spPr>
            <a:xfrm>
              <a:off x="3657600" y="1066680"/>
              <a:ext cx="198108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59480" y="1066680"/>
              <a:ext cx="169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SC coil B=6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4038480" y="1447920"/>
            <a:ext cx="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Kloecal" descr=""/>
          <p:cNvPicPr/>
          <p:nvPr/>
        </p:nvPicPr>
        <p:blipFill>
          <a:blip r:embed="rId4"/>
          <a:srcRect l="16410" t="3117" r="2338" b="3117"/>
          <a:stretch/>
        </p:blipFill>
        <p:spPr>
          <a:xfrm>
            <a:off x="380880" y="1295280"/>
            <a:ext cx="2586240" cy="2103480"/>
          </a:xfrm>
          <a:prstGeom prst="rect">
            <a:avLst/>
          </a:prstGeom>
          <a:ln w="0">
            <a:noFill/>
          </a:ln>
        </p:spPr>
      </p:pic>
      <p:pic>
        <p:nvPicPr>
          <p:cNvPr id="438" name="kloe_end1" descr=""/>
          <p:cNvPicPr/>
          <p:nvPr/>
        </p:nvPicPr>
        <p:blipFill>
          <a:blip r:embed="rId5"/>
          <a:stretch/>
        </p:blipFill>
        <p:spPr>
          <a:xfrm>
            <a:off x="6781680" y="3962520"/>
            <a:ext cx="1524240" cy="19810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81600" y="3886200"/>
            <a:ext cx="20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Quadrup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6120" y="546084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pherical Beam 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447920" y="5210280"/>
            <a:ext cx="15228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61760" y="4371840"/>
            <a:ext cx="228600" cy="76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4371840"/>
            <a:ext cx="228600" cy="152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4120" y="115740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ead Scifi E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76640" y="390060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nd-c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01956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67440" y="32004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44240" y="31240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380880" y="1219320"/>
          <a:ext cx="8382240" cy="5087880"/>
        </p:xfrm>
        <a:graphic>
          <a:graphicData uri="http://schemas.openxmlformats.org/drawingml/2006/table">
            <a:tbl>
              <a:tblPr/>
              <a:tblGrid>
                <a:gridCol w="2438640"/>
                <a:gridCol w="5943600"/>
              </a:tblGrid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873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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hys. Lett.</a:t>
                      </a:r>
                      <a:r>
                        <a:rPr b="0" lang="it-IT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538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1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Update with ’01-’02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038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</a:t>
                      </a:r>
                      <a:r>
                        <a:rPr b="0" i="1" lang="it-IT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hys. Lett.</a:t>
                      </a:r>
                      <a:r>
                        <a:rPr b="0" lang="it-IT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535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7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eliminary update with ’01-’02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KLOE Note 181 (http://www.lnf.infn.it/klo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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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</a:t>
                      </a:r>
                      <a:r>
                        <a:rPr b="0" lang="it-IT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hys. Lett.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566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1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(200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340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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 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0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 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038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olation &amp; inter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 progr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88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eliminary results (hep-ex/03070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51" name=""/>
          <p:cNvSpPr/>
          <p:nvPr/>
        </p:nvSpPr>
        <p:spPr>
          <a:xfrm>
            <a:off x="1069920" y="228600"/>
            <a:ext cx="822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Kaon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physics at KLOE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urrent status of the analy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22120" y="151920"/>
            <a:ext cx="6497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tivation of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hadr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) at low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tus of 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ha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and comparison of 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hadr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v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ec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KLOE experiment at the DA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fa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ults on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clusions &amp; outl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469800" y="1538280"/>
          <a:ext cx="8191440" cy="4729320"/>
        </p:xfrm>
        <a:graphic>
          <a:graphicData uri="http://schemas.openxmlformats.org/drawingml/2006/table">
            <a:tbl>
              <a:tblPr/>
              <a:tblGrid>
                <a:gridCol w="2705040"/>
                <a:gridCol w="5486400"/>
              </a:tblGrid>
              <a:tr h="8254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son 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1156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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hys. Lett.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56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55 (200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112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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eliminar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112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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hep-ex/0402011, submitted to </a:t>
                      </a: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hys. Let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205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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hys. Lett.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54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45 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Update with ’01-’02 data in 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3816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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hys. Lett.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536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209 (2002),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537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21 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Update with ’01-’02 data in 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112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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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his talk 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53" name=""/>
          <p:cNvSpPr/>
          <p:nvPr/>
        </p:nvSpPr>
        <p:spPr>
          <a:xfrm>
            <a:off x="917640" y="304920"/>
            <a:ext cx="822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4a8"/>
                </a:solidFill>
                <a:latin typeface="Tahoma"/>
              </a:rPr>
              <a:t>Hadronic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physics at KLOE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urrent status of the analy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38080" y="76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asurement of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de-DE" sz="32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de-DE" sz="32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de-DE" sz="32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de-DE" sz="32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de-DE" sz="3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</a:t>
            </a:r>
            <a:r>
              <a:rPr b="0" lang="de-DE" sz="3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0" lang="de-DE" sz="3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lang="de-DE" sz="32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de-DE" sz="32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de-DE" sz="32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de-DE" sz="32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de-DE" sz="3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</a:t>
            </a:r>
            <a:r>
              <a:rPr b="0" lang="de-DE" sz="3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0" lang="de-DE" sz="3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lang="de-DE" sz="3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de-DE" sz="3200" spc="-1" strike="noStrike">
                <a:solidFill>
                  <a:srgbClr val="333399"/>
                </a:solidFill>
                <a:latin typeface="Symbol"/>
                <a:ea typeface="Symbol"/>
              </a:rPr>
              <a:t>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50840" y="1763640"/>
            <a:ext cx="6797880" cy="26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Selection of </a:t>
            </a:r>
            <a:r>
              <a:rPr b="1" lang="de-DE" sz="28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de-DE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1" lang="de-DE" sz="28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de-DE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de-DE" sz="2800" spc="-1" strike="noStrike">
                <a:solidFill>
                  <a:srgbClr val="3333cc"/>
                </a:solidFill>
                <a:latin typeface="Symbol"/>
                <a:ea typeface="Symbol"/>
              </a:rPr>
              <a:t>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Measurement of d</a:t>
            </a:r>
            <a:r>
              <a:rPr b="1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de-DE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de-DE" sz="28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de-DE" sz="28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</a:t>
            </a:r>
            <a:r>
              <a:rPr b="1" lang="de-DE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1" lang="de-DE" sz="28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de-DE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de-DE" sz="2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)/ds</a:t>
            </a:r>
            <a:r>
              <a:rPr b="1" lang="de-DE" sz="2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ahoma"/>
              </a:rPr>
              <a:t>Extraction of</a:t>
            </a: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de-DE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de-DE" sz="28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de-DE" sz="28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</a:t>
            </a:r>
            <a:r>
              <a:rPr b="1" lang="de-DE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1" lang="de-DE" sz="28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de-DE" sz="2800" spc="-1" strike="noStrike">
                <a:solidFill>
                  <a:srgbClr val="3333cc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181160" y="44956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181160" y="48769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790640" y="43434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2416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33640" y="48006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009960" y="44197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09960" y="49528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84200" y="4273560"/>
            <a:ext cx="1201680" cy="1028520"/>
          </a:xfrm>
          <a:custGeom>
            <a:avLst/>
            <a:gdLst/>
            <a:ahLst/>
            <a:rect l="l" t="t" r="r" b="b"/>
            <a:pathLst>
              <a:path w="757" h="648">
                <a:moveTo>
                  <a:pt x="600" y="8"/>
                </a:moveTo>
                <a:cubicBezTo>
                  <a:pt x="637" y="21"/>
                  <a:pt x="665" y="28"/>
                  <a:pt x="696" y="48"/>
                </a:cubicBezTo>
                <a:cubicBezTo>
                  <a:pt x="702" y="57"/>
                  <a:pt x="711" y="63"/>
                  <a:pt x="716" y="72"/>
                </a:cubicBezTo>
                <a:cubicBezTo>
                  <a:pt x="720" y="79"/>
                  <a:pt x="719" y="89"/>
                  <a:pt x="724" y="96"/>
                </a:cubicBezTo>
                <a:cubicBezTo>
                  <a:pt x="727" y="100"/>
                  <a:pt x="729" y="104"/>
                  <a:pt x="732" y="108"/>
                </a:cubicBezTo>
                <a:cubicBezTo>
                  <a:pt x="739" y="137"/>
                  <a:pt x="746" y="167"/>
                  <a:pt x="756" y="196"/>
                </a:cubicBezTo>
                <a:cubicBezTo>
                  <a:pt x="755" y="204"/>
                  <a:pt x="757" y="213"/>
                  <a:pt x="752" y="220"/>
                </a:cubicBezTo>
                <a:cubicBezTo>
                  <a:pt x="746" y="228"/>
                  <a:pt x="736" y="231"/>
                  <a:pt x="728" y="236"/>
                </a:cubicBezTo>
                <a:cubicBezTo>
                  <a:pt x="723" y="239"/>
                  <a:pt x="721" y="245"/>
                  <a:pt x="716" y="248"/>
                </a:cubicBezTo>
                <a:cubicBezTo>
                  <a:pt x="709" y="252"/>
                  <a:pt x="692" y="256"/>
                  <a:pt x="692" y="256"/>
                </a:cubicBezTo>
                <a:cubicBezTo>
                  <a:pt x="668" y="274"/>
                  <a:pt x="682" y="264"/>
                  <a:pt x="652" y="284"/>
                </a:cubicBezTo>
                <a:cubicBezTo>
                  <a:pt x="645" y="289"/>
                  <a:pt x="635" y="287"/>
                  <a:pt x="628" y="292"/>
                </a:cubicBezTo>
                <a:cubicBezTo>
                  <a:pt x="596" y="314"/>
                  <a:pt x="564" y="335"/>
                  <a:pt x="532" y="356"/>
                </a:cubicBezTo>
                <a:cubicBezTo>
                  <a:pt x="513" y="385"/>
                  <a:pt x="493" y="415"/>
                  <a:pt x="468" y="440"/>
                </a:cubicBezTo>
                <a:cubicBezTo>
                  <a:pt x="458" y="469"/>
                  <a:pt x="465" y="457"/>
                  <a:pt x="452" y="476"/>
                </a:cubicBezTo>
                <a:cubicBezTo>
                  <a:pt x="439" y="529"/>
                  <a:pt x="406" y="548"/>
                  <a:pt x="364" y="576"/>
                </a:cubicBezTo>
                <a:cubicBezTo>
                  <a:pt x="347" y="587"/>
                  <a:pt x="332" y="601"/>
                  <a:pt x="316" y="612"/>
                </a:cubicBezTo>
                <a:cubicBezTo>
                  <a:pt x="285" y="633"/>
                  <a:pt x="244" y="639"/>
                  <a:pt x="208" y="648"/>
                </a:cubicBezTo>
                <a:cubicBezTo>
                  <a:pt x="188" y="647"/>
                  <a:pt x="168" y="646"/>
                  <a:pt x="148" y="644"/>
                </a:cubicBezTo>
                <a:cubicBezTo>
                  <a:pt x="134" y="643"/>
                  <a:pt x="108" y="632"/>
                  <a:pt x="108" y="632"/>
                </a:cubicBezTo>
                <a:cubicBezTo>
                  <a:pt x="99" y="618"/>
                  <a:pt x="85" y="606"/>
                  <a:pt x="76" y="592"/>
                </a:cubicBezTo>
                <a:cubicBezTo>
                  <a:pt x="67" y="578"/>
                  <a:pt x="61" y="562"/>
                  <a:pt x="52" y="548"/>
                </a:cubicBezTo>
                <a:cubicBezTo>
                  <a:pt x="44" y="508"/>
                  <a:pt x="36" y="503"/>
                  <a:pt x="24" y="468"/>
                </a:cubicBezTo>
                <a:cubicBezTo>
                  <a:pt x="14" y="437"/>
                  <a:pt x="6" y="404"/>
                  <a:pt x="0" y="372"/>
                </a:cubicBezTo>
                <a:cubicBezTo>
                  <a:pt x="3" y="329"/>
                  <a:pt x="3" y="281"/>
                  <a:pt x="28" y="244"/>
                </a:cubicBezTo>
                <a:cubicBezTo>
                  <a:pt x="35" y="216"/>
                  <a:pt x="72" y="164"/>
                  <a:pt x="96" y="148"/>
                </a:cubicBezTo>
                <a:cubicBezTo>
                  <a:pt x="150" y="67"/>
                  <a:pt x="251" y="50"/>
                  <a:pt x="340" y="28"/>
                </a:cubicBezTo>
                <a:cubicBezTo>
                  <a:pt x="358" y="23"/>
                  <a:pt x="368" y="11"/>
                  <a:pt x="388" y="8"/>
                </a:cubicBezTo>
                <a:cubicBezTo>
                  <a:pt x="430" y="1"/>
                  <a:pt x="404" y="5"/>
                  <a:pt x="468" y="0"/>
                </a:cubicBezTo>
                <a:cubicBezTo>
                  <a:pt x="504" y="1"/>
                  <a:pt x="540" y="2"/>
                  <a:pt x="576" y="4"/>
                </a:cubicBezTo>
                <a:cubicBezTo>
                  <a:pt x="579" y="4"/>
                  <a:pt x="611" y="19"/>
                  <a:pt x="600" y="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8920" y="426708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05680" y="48769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56680" y="411480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53440" y="502920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94920" y="46483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~F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4328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162240" y="403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81560" y="41911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99240" y="4419720"/>
            <a:ext cx="37162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 the invariant ma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quared of the 2 pion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219240" y="196920"/>
            <a:ext cx="83768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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ceptance c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200400" y="1447920"/>
            <a:ext cx="29275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ion track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at large 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Times-Italic"/>
              </a:rPr>
              <a:t>50</a:t>
            </a:r>
            <a:r>
              <a:rPr b="0" lang="it-IT" sz="2000" spc="-1" strike="noStrike" baseline="30000">
                <a:solidFill>
                  <a:srgbClr val="ff0000"/>
                </a:solidFill>
                <a:latin typeface="Times-Italic"/>
              </a:rPr>
              <a:t>o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&lt; </a:t>
            </a:r>
            <a:r>
              <a:rPr b="0" lang="it-IT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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&lt; </a:t>
            </a:r>
            <a:r>
              <a:rPr b="0" lang="it-IT" sz="2000" spc="-1" strike="noStrike">
                <a:solidFill>
                  <a:srgbClr val="ff0000"/>
                </a:solidFill>
                <a:latin typeface="Times-Italic"/>
              </a:rPr>
              <a:t>130</a:t>
            </a:r>
            <a:r>
              <a:rPr b="0" lang="it-IT" sz="2000" spc="-1" strike="noStrike" baseline="30000">
                <a:solidFill>
                  <a:srgbClr val="ff0000"/>
                </a:solidFill>
                <a:latin typeface="Times-Italic"/>
              </a:rPr>
              <a:t>o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944960" y="4876920"/>
            <a:ext cx="401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statistics for </a:t>
            </a:r>
            <a:r>
              <a:rPr b="1" lang="en-US" sz="2000" spc="-1" strike="noStrike">
                <a:solidFill>
                  <a:srgbClr val="000000"/>
                </a:solidFill>
                <a:latin typeface="Times-Italic"/>
              </a:rPr>
              <a:t>I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d background conta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relative contribution of </a:t>
            </a:r>
            <a:r>
              <a:rPr b="1" lang="en-US" sz="2000" spc="-1" strike="noStrike">
                <a:solidFill>
                  <a:srgbClr val="000000"/>
                </a:solidFill>
                <a:latin typeface="Times-Italic"/>
              </a:rPr>
              <a:t>F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4327560"/>
            <a:ext cx="26971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Photons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t small 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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&lt; </a:t>
            </a:r>
            <a:r>
              <a:rPr b="0" lang="it-IT" sz="2000" spc="-1" strike="noStrike">
                <a:solidFill>
                  <a:srgbClr val="0000ff"/>
                </a:solidFill>
                <a:latin typeface="Times-Italic"/>
              </a:rPr>
              <a:t>15</a:t>
            </a:r>
            <a:r>
              <a:rPr b="0" lang="it-IT" sz="2000" spc="-1" strike="noStrike" baseline="30000">
                <a:solidFill>
                  <a:srgbClr val="0000ff"/>
                </a:solidFill>
                <a:latin typeface="Times-Italic"/>
              </a:rPr>
              <a:t>o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and  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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SymbolProp BT"/>
                <a:ea typeface="SymbolProp BT"/>
              </a:rPr>
              <a:t>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&gt; </a:t>
            </a:r>
            <a:r>
              <a:rPr b="0" lang="it-IT" sz="2000" spc="-1" strike="noStrike">
                <a:solidFill>
                  <a:srgbClr val="0000ff"/>
                </a:solidFill>
                <a:latin typeface="Times-Italic"/>
              </a:rPr>
              <a:t>165</a:t>
            </a:r>
            <a:r>
              <a:rPr b="0" lang="it-IT" sz="2000" spc="-1" strike="noStrike" baseline="30000">
                <a:solidFill>
                  <a:srgbClr val="0000ff"/>
                </a:solidFill>
                <a:latin typeface="Times-Italic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re shadow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quadrupoles near the I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130720" y="4495680"/>
                <a:ext cx="294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5054400" y="4114800"/>
            <a:ext cx="29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HOTON TA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52280" y="1150920"/>
            <a:ext cx="4114440" cy="3116160"/>
            <a:chOff x="152280" y="1150920"/>
            <a:chExt cx="4114440" cy="3116160"/>
          </a:xfrm>
        </p:grpSpPr>
        <p:sp>
          <p:nvSpPr>
            <p:cNvPr id="480" name=""/>
            <p:cNvSpPr/>
            <p:nvPr/>
          </p:nvSpPr>
          <p:spPr>
            <a:xfrm>
              <a:off x="595080" y="2971800"/>
              <a:ext cx="3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ppgcuts" descr=""/>
            <p:cNvPicPr/>
            <p:nvPr/>
          </p:nvPicPr>
          <p:blipFill>
            <a:blip r:embed="rId1"/>
            <a:stretch/>
          </p:blipFill>
          <p:spPr>
            <a:xfrm>
              <a:off x="761760" y="1608120"/>
              <a:ext cx="2901960" cy="26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1350000" y="115092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ide 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2280" y="2903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657240" y="2903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3720" y="25225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10520" y="24462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ahoma"/>
                </a:rPr>
                <a:t>e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943600" y="1371600"/>
            <a:ext cx="2311560" cy="2535120"/>
            <a:chOff x="5943600" y="1371600"/>
            <a:chExt cx="2311560" cy="2535120"/>
          </a:xfrm>
        </p:grpSpPr>
        <p:grpSp>
          <p:nvGrpSpPr>
            <p:cNvPr id="488" name=""/>
            <p:cNvGrpSpPr/>
            <p:nvPr/>
          </p:nvGrpSpPr>
          <p:grpSpPr>
            <a:xfrm>
              <a:off x="5943600" y="1828800"/>
              <a:ext cx="2311560" cy="2077920"/>
              <a:chOff x="5943600" y="1828800"/>
              <a:chExt cx="2311560" cy="2077920"/>
            </a:xfrm>
          </p:grpSpPr>
          <p:pic>
            <p:nvPicPr>
              <p:cNvPr id="489" name="ppg_pic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3600" y="1828800"/>
                <a:ext cx="2311560" cy="20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flipH="1">
                <a:off x="6445800" y="2860200"/>
                <a:ext cx="649800" cy="539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flipV="1">
              <a:off x="6464520" y="2892240"/>
              <a:ext cx="609480" cy="4716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69160" y="1849320"/>
              <a:ext cx="228600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57440" y="1371600"/>
              <a:ext cx="167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ront 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92200" y="211284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50840" y="276372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09320" y="3068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73392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04920" y="126684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duce Bhabha contamination, a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e sep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erformed using a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article ID estim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d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4038480"/>
            <a:ext cx="38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event is selected if at least one of the charged tracks is identified to be a p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2362320"/>
            <a:ext cx="3990960" cy="13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>
              <a:lnSpc>
                <a:spcPct val="10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OF of charged clusters in E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10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hape and energy deposition of    th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0" y="1447920"/>
            <a:ext cx="4202280" cy="3682080"/>
            <a:chOff x="4935600" y="1447920"/>
            <a:chExt cx="4202280" cy="3682080"/>
          </a:xfrm>
        </p:grpSpPr>
        <p:sp>
          <p:nvSpPr>
            <p:cNvPr id="502" name=""/>
            <p:cNvSpPr/>
            <p:nvPr/>
          </p:nvSpPr>
          <p:spPr>
            <a:xfrm>
              <a:off x="8023680" y="4724280"/>
              <a:ext cx="6591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T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3" name="" descr=""/>
            <p:cNvPicPr/>
            <p:nvPr/>
          </p:nvPicPr>
          <p:blipFill>
            <a:blip r:embed="rId1"/>
            <a:stretch/>
          </p:blipFill>
          <p:spPr>
            <a:xfrm>
              <a:off x="4935600" y="1447920"/>
              <a:ext cx="3521160" cy="33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6296040" y="3308400"/>
              <a:ext cx="81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66320" y="1469880"/>
              <a:ext cx="70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1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1" i="1" lang="en-US" sz="1800" spc="-1" strike="noStrike" baseline="30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1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830560" y="2575080"/>
              <a:ext cx="530280" cy="480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76520" y="2049480"/>
              <a:ext cx="199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before cutting 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particle ID estim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43480" y="3443400"/>
              <a:ext cx="199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after cutting 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particle ID estim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778800" y="3992400"/>
              <a:ext cx="483840" cy="40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32280" y="470700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 baseline="30000">
                  <a:solidFill>
                    <a:srgbClr val="009900"/>
                  </a:solidFill>
                  <a:latin typeface="Symbol"/>
                  <a:ea typeface="Symbol"/>
                </a:rPr>
                <a:t></a:t>
              </a: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 baseline="30000">
                  <a:solidFill>
                    <a:srgbClr val="009900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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84680" y="4205160"/>
              <a:ext cx="81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009900"/>
                  </a:solidFill>
                  <a:latin typeface="Symbol"/>
                  <a:ea typeface="Symbol"/>
                </a:rPr>
                <a:t></a:t>
              </a: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009900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009900"/>
                  </a:solidFill>
                  <a:latin typeface="Symbol"/>
                  <a:ea typeface="Symbol"/>
                </a:rPr>
                <a:t>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83280" y="4430880"/>
              <a:ext cx="442800" cy="34128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67680" y="4506840"/>
              <a:ext cx="1208160" cy="22248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58840" y="4648320"/>
              <a:ext cx="44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80160" y="4568760"/>
              <a:ext cx="0" cy="114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80160" y="1509840"/>
              <a:ext cx="163692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4572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1840" y="100080"/>
            <a:ext cx="8105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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dentific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ion tracks 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ID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meth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5280120"/>
            <a:ext cx="8153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de-DE" sz="1800" spc="-1" strike="noStrike" baseline="-25000">
                <a:solidFill>
                  <a:srgbClr val="ff0000"/>
                </a:solidFill>
                <a:latin typeface="Comic Sans MS"/>
              </a:rPr>
              <a:t>TRK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is the mass of the charged  particle, under the hypothesis that the final state consists of two particles with the same mass and one pho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0"/>
            <a:ext cx="7307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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jec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</a:t>
            </a:r>
            <a:r>
              <a:rPr b="0" lang="it-IT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it-IT" sz="2800" spc="-1" strike="noStrike" baseline="30000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352680"/>
            <a:ext cx="41925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Times New Roman"/>
              </a:rPr>
              <a:t>trk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~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correponds to 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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Times New Roman"/>
              </a:rPr>
              <a:t>trk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&gt;m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orresponds to the multi-photon emission (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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os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hese events are retained by this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86000" y="16732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de-DE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</a:t>
            </a:r>
            <a:r>
              <a:rPr b="1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de-DE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</a:t>
            </a:r>
            <a:r>
              <a:rPr b="1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de-DE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45480" y="356868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de-DE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</a:t>
            </a:r>
            <a:r>
              <a:rPr b="1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de-DE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</a:t>
            </a:r>
            <a:r>
              <a:rPr b="1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28560" y="5180040"/>
            <a:ext cx="11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1" lang="de-DE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</a:t>
            </a:r>
            <a:r>
              <a:rPr b="1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1" lang="de-DE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</a:t>
            </a:r>
            <a:r>
              <a:rPr b="1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>
            <a:lum contrast="-20000"/>
          </a:blip>
          <a:srcRect l="5168" t="21755" r="11951" b="21173"/>
          <a:stretch/>
        </p:blipFill>
        <p:spPr>
          <a:xfrm>
            <a:off x="4495680" y="1523880"/>
            <a:ext cx="4430880" cy="43164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889520" y="1550880"/>
            <a:ext cx="2959200" cy="2070360"/>
          </a:xfrm>
          <a:custGeom>
            <a:avLst/>
            <a:gdLst/>
            <a:ahLst/>
            <a:rect l="l" t="t" r="r" b="b"/>
            <a:pathLst>
              <a:path w="1768" h="1256">
                <a:moveTo>
                  <a:pt x="0" y="1256"/>
                </a:moveTo>
                <a:cubicBezTo>
                  <a:pt x="412" y="1112"/>
                  <a:pt x="824" y="968"/>
                  <a:pt x="1104" y="776"/>
                </a:cubicBezTo>
                <a:cubicBezTo>
                  <a:pt x="1384" y="584"/>
                  <a:pt x="1592" y="208"/>
                  <a:pt x="1680" y="104"/>
                </a:cubicBezTo>
                <a:cubicBezTo>
                  <a:pt x="1768" y="0"/>
                  <a:pt x="1700" y="76"/>
                  <a:pt x="1632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89520" y="4446720"/>
            <a:ext cx="4038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785000" y="1627200"/>
            <a:ext cx="1067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50880" y="1992240"/>
            <a:ext cx="810720" cy="398880"/>
          </a:xfrm>
          <a:prstGeom prst="rect">
            <a:avLst/>
          </a:prstGeom>
          <a:solidFill>
            <a:srgbClr val="cccd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75760" y="4659480"/>
            <a:ext cx="751680" cy="398880"/>
          </a:xfrm>
          <a:prstGeom prst="rect">
            <a:avLst/>
          </a:prstGeom>
          <a:solidFill>
            <a:srgbClr val="cccd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22880" y="1098720"/>
            <a:ext cx="15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-Italic"/>
              </a:rPr>
              <a:t>m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TRK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(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81000" y="2313000"/>
            <a:ext cx="1333440" cy="398880"/>
          </a:xfrm>
          <a:prstGeom prst="rect">
            <a:avLst/>
          </a:prstGeom>
          <a:solidFill>
            <a:srgbClr val="cccd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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6240" y="95868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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e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lready appl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705360" y="16002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494840" y="5486400"/>
            <a:ext cx="136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30800" y="3260880"/>
            <a:ext cx="151848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/>
          <p:nvPr/>
        </p:nvCxnSpPr>
        <p:spPr>
          <a:xfrm>
            <a:off x="2743200" y="2641680"/>
            <a:ext cx="1753200" cy="1397520"/>
          </a:xfrm>
          <a:prstGeom prst="bentConnector3">
            <a:avLst>
              <a:gd name="adj1" fmla="val 677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304920" y="2133720"/>
            <a:ext cx="33526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ematical selection  in the plane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962520" y="2971800"/>
            <a:ext cx="34290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010240" y="228600"/>
            <a:ext cx="472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lang="de-DE" sz="3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0" lang="de-DE" sz="3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lang="de-DE" sz="3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de-DE" sz="32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served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4632480" y="1041480"/>
            <a:ext cx="4354200" cy="44449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8137080" y="5410080"/>
            <a:ext cx="918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1800" spc="-1" strike="noStrike">
                <a:solidFill>
                  <a:srgbClr val="000000"/>
                </a:solidFill>
                <a:latin typeface="Arial Narrow"/>
              </a:rPr>
              <a:t>(GeV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31080" y="6400800"/>
            <a:ext cx="4532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</a:t>
            </a:r>
            <a:r>
              <a:rPr b="1" lang="en-GB" sz="1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&lt;15</a:t>
            </a:r>
            <a:r>
              <a:rPr b="1" lang="en-GB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lang="en-GB" sz="1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 &gt;165</a:t>
            </a:r>
            <a:r>
              <a:rPr b="1" lang="en-GB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 50</a:t>
            </a:r>
            <a:r>
              <a:rPr b="1" lang="en-GB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lang="en-GB" sz="1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GB" sz="1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&lt;130</a:t>
            </a:r>
            <a:r>
              <a:rPr b="1" lang="en-GB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 E</a:t>
            </a:r>
            <a:r>
              <a:rPr b="1" lang="en-GB" sz="1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&gt;10 M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69680" y="1295280"/>
            <a:ext cx="131292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 Narrow"/>
              </a:rPr>
              <a:t>N</a:t>
            </a:r>
            <a:r>
              <a:rPr b="1" lang="it-IT" sz="2000" spc="-1" strike="noStrike" baseline="-25000">
                <a:solidFill>
                  <a:srgbClr val="0000cc"/>
                </a:solidFill>
                <a:latin typeface="Arial Narrow"/>
              </a:rPr>
              <a:t>i</a:t>
            </a:r>
            <a:r>
              <a:rPr b="1" lang="it-IT" sz="2000" spc="-1" strike="noStrike">
                <a:solidFill>
                  <a:srgbClr val="0000cc"/>
                </a:solidFill>
                <a:latin typeface="Arial Narrow"/>
              </a:rPr>
              <a:t>/0.01GeV</a:t>
            </a:r>
            <a:r>
              <a:rPr b="1" lang="it-IT" sz="2000" spc="-1" strike="noStrike" baseline="30000">
                <a:solidFill>
                  <a:srgbClr val="0000cc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2680" y="3041640"/>
            <a:ext cx="371340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fter selection: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1 550 000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(11000 evts/pb</a:t>
            </a:r>
            <a:r>
              <a:rPr b="1" lang="de-DE" sz="1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statistical error/bin  &lt;</a:t>
            </a:r>
            <a:r>
              <a:rPr b="0" lang="de-DE" sz="1800" spc="-1" strike="noStrike">
                <a:solidFill>
                  <a:srgbClr val="cc0000"/>
                </a:solidFill>
                <a:latin typeface="Times New Roman"/>
              </a:rPr>
              <a:t>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25320" y="1569960"/>
            <a:ext cx="268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Tahoma"/>
              </a:rPr>
              <a:t>141.4 pb</a:t>
            </a:r>
            <a:r>
              <a:rPr b="1" lang="de-DE" sz="2000" spc="-1" strike="noStrike" baseline="30000">
                <a:solidFill>
                  <a:srgbClr val="3333cc"/>
                </a:solidFill>
                <a:latin typeface="Tahoma"/>
              </a:rPr>
              <a:t>-1</a:t>
            </a:r>
            <a:r>
              <a:rPr b="1" lang="de-DE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Tahoma"/>
              </a:rPr>
              <a:t>of 2001 data were selected by the mentioned c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1880" y="4656240"/>
            <a:ext cx="5757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r cuts select events with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&gt;550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will measure the cross section n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reshold looking at the photon at large ang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analysis is in progress, see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257800" y="4876920"/>
            <a:ext cx="12193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495288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838080" y="2678040"/>
                <a:ext cx="6529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bkg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lec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 flipV="1">
            <a:off x="4114800" y="2133360"/>
            <a:ext cx="345960" cy="608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028840" y="3962520"/>
            <a:ext cx="585720" cy="712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61040" y="187308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 Narrow"/>
              </a:rPr>
              <a:t>Residual 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58480" y="2057400"/>
            <a:ext cx="7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 Narrow"/>
              </a:rPr>
              <a:t>Signal</a:t>
            </a:r>
            <a:r>
              <a:rPr b="1" lang="en-US" sz="1800" spc="-1" strike="noStrike">
                <a:solidFill>
                  <a:srgbClr val="0000cc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14600" y="2362320"/>
            <a:ext cx="9360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90400" y="472428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 Narrow"/>
              </a:rPr>
              <a:t>Selection efficienc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69520" y="449568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 Narrow"/>
              </a:rPr>
              <a:t>Lumino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94480" y="3962520"/>
            <a:ext cx="658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9072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Measurement of  d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1" lang="de-DE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de-DE" sz="28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de-DE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de-DE" sz="28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de-DE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</a:t>
            </a:r>
            <a:r>
              <a:rPr b="1" lang="de-DE" sz="2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1" lang="de-DE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1" lang="de-DE" sz="2800" spc="-1" strike="noStrike">
                <a:solidFill>
                  <a:srgbClr val="333399"/>
                </a:solidFill>
                <a:latin typeface="Symbol"/>
                <a:ea typeface="Symbol"/>
              </a:rPr>
              <a:t></a:t>
            </a:r>
            <a:r>
              <a:rPr b="1" lang="de-DE" sz="2800" spc="-1" strike="noStrike">
                <a:solidFill>
                  <a:srgbClr val="333399"/>
                </a:solidFill>
                <a:latin typeface="Tahoma"/>
              </a:rPr>
              <a:t>ds</a:t>
            </a:r>
            <a:r>
              <a:rPr b="1" lang="de-DE" sz="2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480060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lding of the experimental resolutio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03040" y="137160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olute measurem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33920" y="38862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42480" y="434340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 Narrow"/>
              </a:rPr>
              <a:t>Accep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143000" y="43434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632240" y="28584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stimate of residual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1600200"/>
            <a:ext cx="312444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sidual contamination from 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de-DE" sz="2000" spc="-1" strike="noStrike" baseline="30000">
                <a:solidFill>
                  <a:srgbClr val="ff0000"/>
                </a:solidFill>
                <a:latin typeface="Tahoma"/>
              </a:rPr>
              <a:t>+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de-DE" sz="2000" spc="-1" strike="noStrike" baseline="30000">
                <a:solidFill>
                  <a:srgbClr val="ff0000"/>
                </a:solidFill>
                <a:latin typeface="Tahoma"/>
              </a:rPr>
              <a:t>-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de-DE" sz="2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1" lang="de-DE" sz="20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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de-DE" sz="2000" spc="-1" strike="noStrike">
                <a:solidFill>
                  <a:srgbClr val="ff0000"/>
                </a:solidFill>
                <a:latin typeface="Tahoma"/>
              </a:rPr>
              <a:t>Bhabha‘s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s evaluated by fitting the shape of signal and background in the trackmass distribution for different slices of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stimated number of background events is then subtracted from the spectr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rcRect l="11858" t="16926" r="8844" b="19931"/>
          <a:stretch/>
        </p:blipFill>
        <p:spPr>
          <a:xfrm>
            <a:off x="4495680" y="1357200"/>
            <a:ext cx="4019760" cy="47386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4808520" y="1057320"/>
            <a:ext cx="20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. of events / 0.5 M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035840" y="1488960"/>
            <a:ext cx="71892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3333cc"/>
                </a:solidFill>
                <a:latin typeface="Symbol"/>
                <a:ea typeface="Symbol"/>
              </a:rPr>
              <a:t>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009900"/>
                </a:solidFill>
                <a:latin typeface="Symbol"/>
                <a:ea typeface="Symbol"/>
              </a:rPr>
              <a:t>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0760" y="4008600"/>
            <a:ext cx="194472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</a:t>
            </a: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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732200" y="3576600"/>
            <a:ext cx="37436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1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1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[0.32,0.37] GeV</a:t>
            </a:r>
            <a:r>
              <a:rPr b="1" lang="it-IT" sz="15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1" lang="it-IT" sz="1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it-IT" sz="1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 = 87.0/8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14712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66920" y="304920"/>
            <a:ext cx="77770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Estimates of the residual background (I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rcRect l="11742" t="17598" r="8420" b="20600"/>
          <a:stretch/>
        </p:blipFill>
        <p:spPr>
          <a:xfrm>
            <a:off x="457200" y="1447920"/>
            <a:ext cx="3989520" cy="42670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538200" y="981000"/>
            <a:ext cx="177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. of events / M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2240" y="3573360"/>
            <a:ext cx="374328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1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1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[0.38,0.42] GeV</a:t>
            </a:r>
            <a:r>
              <a:rPr b="1" lang="it-IT" sz="15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1" lang="it-IT" sz="1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it-IT" sz="1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 = 104.4/8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0240" y="1349280"/>
            <a:ext cx="935280" cy="709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3333cc"/>
                </a:solidFill>
                <a:latin typeface="Symbol"/>
                <a:ea typeface="Symbol"/>
              </a:rPr>
              <a:t>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lang="de-DE" sz="15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</a:t>
            </a:r>
            <a:r>
              <a:rPr b="1" lang="de-DE" sz="15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lang="de-DE" sz="15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</a:t>
            </a:r>
            <a:r>
              <a:rPr b="1" lang="de-DE" sz="15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lang="de-DE" sz="15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0880" y="3914640"/>
            <a:ext cx="2232000" cy="504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</a:t>
            </a: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de-DE" sz="15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de-DE" sz="15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de-DE" sz="15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rcRect l="7640" t="14959" r="2797" b="20940"/>
          <a:stretch/>
        </p:blipFill>
        <p:spPr>
          <a:xfrm>
            <a:off x="4876920" y="1219320"/>
            <a:ext cx="3909960" cy="396216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6532560" y="3062160"/>
            <a:ext cx="185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tal 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i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147000" y="1873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27640" y="510552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ystematic error o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ckground subtra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&lt;0.3% above 0.55 Ge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rcRect l="31122" t="47426" r="34706" b="29203"/>
          <a:stretch/>
        </p:blipFill>
        <p:spPr>
          <a:xfrm>
            <a:off x="4419720" y="1371600"/>
            <a:ext cx="4144680" cy="40132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7708320" y="5486400"/>
            <a:ext cx="918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1800" spc="-1" strike="noStrike">
                <a:solidFill>
                  <a:srgbClr val="000000"/>
                </a:solidFill>
                <a:latin typeface="Arial Narrow"/>
              </a:rPr>
              <a:t>(GeV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86560" y="28954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89520" y="175248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ot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515440" y="1521000"/>
            <a:ext cx="0" cy="1933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691640" y="133200"/>
            <a:ext cx="42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aluation of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1374840"/>
            <a:ext cx="1197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2101680"/>
            <a:ext cx="2252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constr.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2695680"/>
            <a:ext cx="2602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racking / Vertex</a:t>
            </a:r>
            <a:r>
              <a:rPr b="1" lang="en-US" sz="2400" spc="-1" strike="noStrike">
                <a:solidFill>
                  <a:srgbClr val="ffcf0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3381480"/>
            <a:ext cx="2055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-e se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4041720"/>
            <a:ext cx="16430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rack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452448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= estimated from data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dep. control samples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</a:t>
            </a:r>
            <a:r>
              <a:rPr b="0" lang="en-US" sz="1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Kinematics simulated by 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4080" y="5362560"/>
            <a:ext cx="271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=  estimated from MC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pared with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00000" y="17193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 Narrow"/>
              </a:rPr>
              <a:t>including Cosmic-ray Veto E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precise measurement of low energy hadronic cross sections  enters in many important tests of  the Standard Mode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nomalous magnetic moment of the muon 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= (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2)/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unning fine structure constant at Z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Q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est of CVC (hadronic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cays v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dron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51640" y="3139560"/>
            <a:ext cx="3957120" cy="2654640"/>
            <a:chOff x="4751640" y="3139560"/>
            <a:chExt cx="3957120" cy="2654640"/>
          </a:xfrm>
        </p:grpSpPr>
        <p:sp>
          <p:nvSpPr>
            <p:cNvPr id="120" name=""/>
            <p:cNvSpPr/>
            <p:nvPr/>
          </p:nvSpPr>
          <p:spPr>
            <a:xfrm>
              <a:off x="4751640" y="4968720"/>
              <a:ext cx="395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 will concentrate on the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wo i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5687640" y="44355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678720" y="3139560"/>
              <a:ext cx="38088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588040" y="328680"/>
            <a:ext cx="18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19320" y="4343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1560" y="1515960"/>
            <a:ext cx="54554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detector matrix “almost”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unfold the spectrum 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GUR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. 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ker et.al./ALEPH), a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SVD de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ss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iability of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MC simulation  </a:t>
            </a:r>
            <a:r>
              <a:rPr b="0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Correct choice of the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regu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440" y="4343400"/>
            <a:ext cx="9315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Systema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Bin-by-Bin chang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different values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ization parameter  large (up to 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uncorrelated systematic err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e to nature of the dispersion integral the 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effect on a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 is almost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6019920" y="1219320"/>
            <a:ext cx="2514600" cy="2057400"/>
            <a:chOff x="6019920" y="1219320"/>
            <a:chExt cx="2514600" cy="205740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rcRect l="0" t="35899" r="4386" b="1708"/>
            <a:stretch/>
          </p:blipFill>
          <p:spPr>
            <a:xfrm>
              <a:off x="6019920" y="1219320"/>
              <a:ext cx="25146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7057080" y="2286000"/>
              <a:ext cx="1195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0% in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entral bi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31680" y="1295280"/>
              <a:ext cx="79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14360" y="2787480"/>
              <a:ext cx="740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 o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4800600" y="1905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trkmas_dati_mc_cesare+corrtheta1+smearing_mtf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7769880" y="3352680"/>
            <a:ext cx="10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•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05520" y="35812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62000" y="82440"/>
            <a:ext cx="7777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uminosity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839960" y="1600200"/>
                <a:ext cx="1795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kg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ha</m:t>
                                </m:r>
                              </m:sub>
                            </m:sSub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800280" y="1219320"/>
            <a:ext cx="216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Large angle Bhabha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79280" y="1455840"/>
            <a:ext cx="1575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55° &lt; </a:t>
            </a:r>
            <a:r>
              <a:rPr b="1" lang="it-IT" sz="15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it-IT" sz="15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&lt; 125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acollinearity &lt; 9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it-IT" sz="1500" spc="-1" strike="noStrike" baseline="-25000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it-IT" sz="15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  400 Me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79280" y="3213000"/>
            <a:ext cx="3178440" cy="2990880"/>
            <a:chOff x="179280" y="3213000"/>
            <a:chExt cx="3178440" cy="2990880"/>
          </a:xfrm>
        </p:grpSpPr>
        <p:pic>
          <p:nvPicPr>
            <p:cNvPr id="616" name="" descr=""/>
            <p:cNvPicPr/>
            <p:nvPr/>
          </p:nvPicPr>
          <p:blipFill>
            <a:blip r:embed="rId1"/>
            <a:srcRect l="34376" t="28124" r="26564" b="25004"/>
            <a:stretch/>
          </p:blipFill>
          <p:spPr>
            <a:xfrm>
              <a:off x="179280" y="3213000"/>
              <a:ext cx="317844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1581840" y="5148720"/>
              <a:ext cx="3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96160" y="363132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3040" y="5798880"/>
              <a:ext cx="345240" cy="28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25200" y="5726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886200" y="977760"/>
            <a:ext cx="5181480" cy="2669040"/>
            <a:chOff x="3886200" y="977760"/>
            <a:chExt cx="5181480" cy="2669040"/>
          </a:xfrm>
        </p:grpSpPr>
        <p:pic>
          <p:nvPicPr>
            <p:cNvPr id="622" name="" descr=""/>
            <p:cNvPicPr/>
            <p:nvPr/>
          </p:nvPicPr>
          <p:blipFill>
            <a:blip r:embed="rId2"/>
            <a:stretch/>
          </p:blipFill>
          <p:spPr>
            <a:xfrm>
              <a:off x="3886200" y="977760"/>
              <a:ext cx="5181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335840" y="1053720"/>
              <a:ext cx="1985040" cy="19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ff"/>
                  </a:solidFill>
                  <a:latin typeface="Times New Roman"/>
                </a:rPr>
                <a:t>*</a:t>
              </a: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66ff33"/>
                </a:buClr>
                <a:buSzPct val="110000"/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</a:rPr>
                <a:t>Babayaga (M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</a:rPr>
                <a:t>(Pavia theory grou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ff0000"/>
                </a:buClr>
                <a:buSzPct val="110000"/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Bhagenf (M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(Berends ada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by E. Drago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G. Venanzon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857200" y="3339720"/>
              <a:ext cx="20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ck momentum 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(MeV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196200" y="2349360"/>
            <a:ext cx="32810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Times New Roman"/>
              </a:rPr>
              <a:t>BABAYAGA: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bha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=  ( 428.8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3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stat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) n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BHAGENF: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bha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=  ( 428.5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3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stat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) n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4067280" y="3573360"/>
            <a:ext cx="4957560" cy="22669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7861320" y="5445000"/>
            <a:ext cx="743040" cy="304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97680" y="5745240"/>
            <a:ext cx="339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heoretical Systematic Error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= 0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otal Error = 0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310720" y="4079880"/>
            <a:ext cx="627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of  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138320" y="228600"/>
            <a:ext cx="7777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e cross sectio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de-DE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de-DE" sz="28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de-DE" sz="2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de-DE" sz="28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de-DE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</a:t>
            </a:r>
            <a:r>
              <a:rPr b="0" lang="de-DE" sz="2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0" lang="de-DE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lang="de-DE" sz="2800" spc="-1" strike="noStrike">
                <a:solidFill>
                  <a:srgbClr val="333399"/>
                </a:solidFill>
                <a:latin typeface="Symbol"/>
                <a:ea typeface="Symbol"/>
              </a:rPr>
              <a:t>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ds</a:t>
            </a:r>
            <a:r>
              <a:rPr b="0" lang="de-DE" sz="2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226040" y="1295280"/>
            <a:ext cx="4841280" cy="5056920"/>
            <a:chOff x="4226040" y="1295280"/>
            <a:chExt cx="4841280" cy="5056920"/>
          </a:xfrm>
        </p:grpSpPr>
        <p:pic>
          <p:nvPicPr>
            <p:cNvPr id="632" name="" descr=""/>
            <p:cNvPicPr/>
            <p:nvPr/>
          </p:nvPicPr>
          <p:blipFill>
            <a:blip r:embed="rId1"/>
            <a:srcRect l="2510" t="9109" r="9174" b="5579"/>
            <a:stretch/>
          </p:blipFill>
          <p:spPr>
            <a:xfrm>
              <a:off x="4226040" y="1295280"/>
              <a:ext cx="4841280" cy="473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4780440" y="1479240"/>
              <a:ext cx="318600" cy="273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6221000">
              <a:off x="3996720" y="2516400"/>
              <a:ext cx="20293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it-IT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it-IT" sz="1700" spc="-1" strike="noStrike">
                  <a:solidFill>
                    <a:srgbClr val="000000"/>
                  </a:solidFill>
                  <a:latin typeface="Times New Roman"/>
                </a:rPr>
                <a:t>/dM</a:t>
              </a:r>
              <a:r>
                <a:rPr b="1" lang="it-IT" sz="17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1" lang="it-IT" sz="17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it-IT" sz="1700" spc="-1" strike="noStrike">
                  <a:solidFill>
                    <a:srgbClr val="000000"/>
                  </a:solidFill>
                  <a:latin typeface="Times New Roman"/>
                </a:rPr>
                <a:t> (nb/GeV</a:t>
              </a:r>
              <a:r>
                <a:rPr b="1" lang="it-IT" sz="17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it-IT" sz="1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827840" y="5981400"/>
              <a:ext cx="989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1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 (GeV</a:t>
              </a:r>
              <a:r>
                <a:rPr b="1" lang="it-IT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687280" y="4749480"/>
              <a:ext cx="178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SymbolProp BT"/>
                  <a:ea typeface="SymbolProp BT"/>
                </a:rPr>
                <a:t></a:t>
              </a:r>
              <a:r>
                <a:rPr b="0" lang="de-DE" sz="2000" spc="-1" strike="noStrike">
                  <a:solidFill>
                    <a:srgbClr val="ff0000"/>
                  </a:solidFill>
                  <a:latin typeface="Times New Roman"/>
                </a:rPr>
                <a:t>Inter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26800" y="2925720"/>
              <a:ext cx="0" cy="183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551880" y="3475080"/>
            <a:ext cx="21952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ackgrou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-Italic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-Italic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-Italic"/>
              </a:rPr>
              <a:t>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-Italic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-Italic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-Italic"/>
              </a:rPr>
              <a:t>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-Italic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-Italic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-Italic"/>
              </a:rPr>
              <a:t>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</a:t>
            </a: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</a:t>
            </a: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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SymbolProp BT"/>
                <a:ea typeface="SymbolProp BT"/>
              </a:rPr>
              <a:t></a:t>
            </a:r>
            <a:r>
              <a:rPr b="0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SymbolProp BT"/>
                <a:ea typeface="SymbolProp BT"/>
              </a:rPr>
              <a:t></a:t>
            </a:r>
            <a:r>
              <a:rPr b="0" lang="en-US" sz="1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SymbolProp BT"/>
                <a:ea typeface="SymbolProp BT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6560" y="982800"/>
            <a:ext cx="281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Efficien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Trigger &amp; Cosmic v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cking, Ve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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s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construction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ckmass-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folding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22360" y="4776840"/>
            <a:ext cx="299412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umino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habhas at large angl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-Italic"/>
                <a:ea typeface="Times New Roman"/>
              </a:rPr>
              <a:t>eff</a:t>
            </a:r>
            <a:r>
              <a:rPr b="1" lang="en-US" sz="18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 = 430 n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9120" y="1233360"/>
            <a:ext cx="0" cy="2005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86080" y="30243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Times-Italic"/>
              </a:rPr>
              <a:t>0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79680" y="3741840"/>
            <a:ext cx="6555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38480" y="3732120"/>
            <a:ext cx="0" cy="8143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129120" y="3220920"/>
            <a:ext cx="1425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95800" y="43434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Times-Italic"/>
              </a:rPr>
              <a:t>0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38480" y="4540320"/>
            <a:ext cx="142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81120" y="5108400"/>
            <a:ext cx="655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39920" y="5099040"/>
            <a:ext cx="0" cy="8143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69520" y="5334120"/>
            <a:ext cx="107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Times-Italic"/>
              </a:rPr>
              <a:t>0.3%</a:t>
            </a:r>
            <a:r>
              <a:rPr b="0" lang="de-DE" sz="2000" spc="-1" strike="noStrike" baseline="-25000">
                <a:solidFill>
                  <a:srgbClr val="0000ff"/>
                </a:solidFill>
                <a:latin typeface="Times-Italic"/>
              </a:rPr>
              <a:t>ex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-Italic"/>
              </a:rPr>
              <a:t>0.5%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Times-Italic"/>
              </a:rPr>
              <a:t>th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39920" y="5907240"/>
            <a:ext cx="142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03640" y="1243080"/>
            <a:ext cx="823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249720" y="267336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ff"/>
                </a:solidFill>
                <a:uFillTx/>
                <a:latin typeface="Times-Italic"/>
              </a:rPr>
              <a:t>Errors</a:t>
            </a:r>
            <a:r>
              <a:rPr b="0" lang="de-DE" sz="2000" spc="-1" strike="noStrike">
                <a:solidFill>
                  <a:srgbClr val="0000ff"/>
                </a:solidFill>
                <a:latin typeface="Times-Ital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973880" y="279360"/>
            <a:ext cx="50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2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xtraction of </a:t>
            </a:r>
            <a:r>
              <a:rPr b="1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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it-IT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it-IT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</a:t>
            </a:r>
            <a:r>
              <a:rPr b="1" lang="it-IT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</a:t>
            </a:r>
            <a:r>
              <a:rPr b="1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it-IT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</a:t>
            </a:r>
            <a:r>
              <a:rPr b="1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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KLOE_LOGO" descr=""/>
          <p:cNvPicPr/>
          <p:nvPr/>
        </p:nvPicPr>
        <p:blipFill>
          <a:blip r:embed="rId1"/>
          <a:stretch/>
        </p:blipFill>
        <p:spPr>
          <a:xfrm>
            <a:off x="7467480" y="152280"/>
            <a:ext cx="1524240" cy="89712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289080" y="426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52280" y="1143000"/>
            <a:ext cx="8498880" cy="4419720"/>
            <a:chOff x="152280" y="1143000"/>
            <a:chExt cx="8498880" cy="4419720"/>
          </a:xfrm>
        </p:grpSpPr>
        <p:sp>
          <p:nvSpPr>
            <p:cNvPr id="658" name=""/>
            <p:cNvSpPr/>
            <p:nvPr/>
          </p:nvSpPr>
          <p:spPr>
            <a:xfrm>
              <a:off x="6203160" y="1905120"/>
              <a:ext cx="24480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ahoma"/>
                </a:rPr>
                <a:t>s</a:t>
              </a:r>
              <a:r>
                <a:rPr b="1" i="1" lang="en-US" sz="20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is invariant 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f the 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2280" y="1143000"/>
              <a:ext cx="809496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Neglecting FSR emission: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0" name=""/>
                <p:cNvSpPr txBox="1"/>
                <p:nvPr/>
              </p:nvSpPr>
              <p:spPr>
                <a:xfrm>
                  <a:off x="1881360" y="3962520"/>
                  <a:ext cx="3268440" cy="110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π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d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ππγ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d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ππγ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π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"/>
            <p:cNvSpPr/>
            <p:nvPr/>
          </p:nvSpPr>
          <p:spPr>
            <a:xfrm>
              <a:off x="2417760" y="2871720"/>
              <a:ext cx="35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2687400" y="1731960"/>
              <a:ext cx="3085200" cy="1220040"/>
              <a:chOff x="2687400" y="1731960"/>
              <a:chExt cx="3085200" cy="1220040"/>
            </a:xfrm>
          </p:grpSpPr>
          <p:sp>
            <p:nvSpPr>
              <p:cNvPr id="663" name=""/>
              <p:cNvSpPr/>
              <p:nvPr/>
            </p:nvSpPr>
            <p:spPr>
              <a:xfrm>
                <a:off x="3011760" y="2048760"/>
                <a:ext cx="98748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3011760" y="2365200"/>
                <a:ext cx="98748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3538440" y="1922040"/>
                <a:ext cx="72432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3340800" y="1795320"/>
                <a:ext cx="921960" cy="38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999600" y="2365560"/>
                <a:ext cx="59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6280" y="2302200"/>
                <a:ext cx="131760" cy="12636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4592160" y="1985400"/>
                <a:ext cx="72396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92160" y="2428920"/>
                <a:ext cx="72396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87080" y="1863720"/>
                <a:ext cx="1038600" cy="855360"/>
              </a:xfrm>
              <a:custGeom>
                <a:avLst/>
                <a:gdLst/>
                <a:ahLst/>
                <a:rect l="l" t="t" r="r" b="b"/>
                <a:pathLst>
                  <a:path w="757" h="648">
                    <a:moveTo>
                      <a:pt x="600" y="8"/>
                    </a:moveTo>
                    <a:cubicBezTo>
                      <a:pt x="637" y="21"/>
                      <a:pt x="665" y="28"/>
                      <a:pt x="696" y="48"/>
                    </a:cubicBezTo>
                    <a:cubicBezTo>
                      <a:pt x="702" y="57"/>
                      <a:pt x="711" y="63"/>
                      <a:pt x="716" y="72"/>
                    </a:cubicBezTo>
                    <a:cubicBezTo>
                      <a:pt x="720" y="79"/>
                      <a:pt x="719" y="89"/>
                      <a:pt x="724" y="96"/>
                    </a:cubicBezTo>
                    <a:cubicBezTo>
                      <a:pt x="727" y="100"/>
                      <a:pt x="729" y="104"/>
                      <a:pt x="732" y="108"/>
                    </a:cubicBezTo>
                    <a:cubicBezTo>
                      <a:pt x="739" y="137"/>
                      <a:pt x="746" y="167"/>
                      <a:pt x="756" y="196"/>
                    </a:cubicBezTo>
                    <a:cubicBezTo>
                      <a:pt x="755" y="204"/>
                      <a:pt x="757" y="213"/>
                      <a:pt x="752" y="220"/>
                    </a:cubicBezTo>
                    <a:cubicBezTo>
                      <a:pt x="746" y="228"/>
                      <a:pt x="736" y="231"/>
                      <a:pt x="728" y="236"/>
                    </a:cubicBezTo>
                    <a:cubicBezTo>
                      <a:pt x="723" y="239"/>
                      <a:pt x="721" y="245"/>
                      <a:pt x="716" y="248"/>
                    </a:cubicBezTo>
                    <a:cubicBezTo>
                      <a:pt x="709" y="252"/>
                      <a:pt x="692" y="256"/>
                      <a:pt x="692" y="256"/>
                    </a:cubicBezTo>
                    <a:cubicBezTo>
                      <a:pt x="668" y="274"/>
                      <a:pt x="682" y="264"/>
                      <a:pt x="652" y="284"/>
                    </a:cubicBezTo>
                    <a:cubicBezTo>
                      <a:pt x="645" y="289"/>
                      <a:pt x="635" y="287"/>
                      <a:pt x="628" y="292"/>
                    </a:cubicBezTo>
                    <a:cubicBezTo>
                      <a:pt x="596" y="314"/>
                      <a:pt x="564" y="335"/>
                      <a:pt x="532" y="356"/>
                    </a:cubicBezTo>
                    <a:cubicBezTo>
                      <a:pt x="513" y="385"/>
                      <a:pt x="493" y="415"/>
                      <a:pt x="468" y="440"/>
                    </a:cubicBezTo>
                    <a:cubicBezTo>
                      <a:pt x="458" y="469"/>
                      <a:pt x="465" y="457"/>
                      <a:pt x="452" y="476"/>
                    </a:cubicBezTo>
                    <a:cubicBezTo>
                      <a:pt x="439" y="529"/>
                      <a:pt x="406" y="548"/>
                      <a:pt x="364" y="576"/>
                    </a:cubicBezTo>
                    <a:cubicBezTo>
                      <a:pt x="347" y="587"/>
                      <a:pt x="332" y="601"/>
                      <a:pt x="316" y="612"/>
                    </a:cubicBezTo>
                    <a:cubicBezTo>
                      <a:pt x="285" y="633"/>
                      <a:pt x="244" y="639"/>
                      <a:pt x="208" y="648"/>
                    </a:cubicBezTo>
                    <a:cubicBezTo>
                      <a:pt x="188" y="647"/>
                      <a:pt x="168" y="646"/>
                      <a:pt x="148" y="644"/>
                    </a:cubicBezTo>
                    <a:cubicBezTo>
                      <a:pt x="134" y="643"/>
                      <a:pt x="108" y="632"/>
                      <a:pt x="108" y="632"/>
                    </a:cubicBezTo>
                    <a:cubicBezTo>
                      <a:pt x="99" y="618"/>
                      <a:pt x="85" y="606"/>
                      <a:pt x="76" y="592"/>
                    </a:cubicBezTo>
                    <a:cubicBezTo>
                      <a:pt x="67" y="578"/>
                      <a:pt x="61" y="562"/>
                      <a:pt x="52" y="548"/>
                    </a:cubicBezTo>
                    <a:cubicBezTo>
                      <a:pt x="44" y="508"/>
                      <a:pt x="36" y="503"/>
                      <a:pt x="24" y="468"/>
                    </a:cubicBezTo>
                    <a:cubicBezTo>
                      <a:pt x="14" y="437"/>
                      <a:pt x="6" y="404"/>
                      <a:pt x="0" y="372"/>
                    </a:cubicBezTo>
                    <a:cubicBezTo>
                      <a:pt x="3" y="329"/>
                      <a:pt x="3" y="281"/>
                      <a:pt x="28" y="244"/>
                    </a:cubicBezTo>
                    <a:cubicBezTo>
                      <a:pt x="35" y="216"/>
                      <a:pt x="72" y="164"/>
                      <a:pt x="96" y="148"/>
                    </a:cubicBezTo>
                    <a:cubicBezTo>
                      <a:pt x="150" y="67"/>
                      <a:pt x="251" y="50"/>
                      <a:pt x="340" y="28"/>
                    </a:cubicBezTo>
                    <a:cubicBezTo>
                      <a:pt x="358" y="23"/>
                      <a:pt x="368" y="11"/>
                      <a:pt x="388" y="8"/>
                    </a:cubicBezTo>
                    <a:cubicBezTo>
                      <a:pt x="430" y="1"/>
                      <a:pt x="404" y="5"/>
                      <a:pt x="468" y="0"/>
                    </a:cubicBezTo>
                    <a:cubicBezTo>
                      <a:pt x="504" y="1"/>
                      <a:pt x="540" y="2"/>
                      <a:pt x="576" y="4"/>
                    </a:cubicBezTo>
                    <a:cubicBezTo>
                      <a:pt x="579" y="4"/>
                      <a:pt x="611" y="19"/>
                      <a:pt x="600" y="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693520" y="1861200"/>
                <a:ext cx="41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687400" y="236556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325120" y="173196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321520" y="2492280"/>
                <a:ext cx="40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67040" y="2174040"/>
                <a:ext cx="934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~F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(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5080" y="2428920"/>
                <a:ext cx="18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2944800" y="3125880"/>
              <a:ext cx="98892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2944800" y="3441600"/>
              <a:ext cx="98892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3471840" y="2998800"/>
              <a:ext cx="725400" cy="316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273480" y="2871720"/>
              <a:ext cx="923760" cy="37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33720" y="3441600"/>
              <a:ext cx="59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525920" y="3060720"/>
              <a:ext cx="723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25920" y="3441600"/>
              <a:ext cx="72396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19400" y="2940120"/>
              <a:ext cx="1041480" cy="853920"/>
            </a:xfrm>
            <a:custGeom>
              <a:avLst/>
              <a:gdLst/>
              <a:ahLst/>
              <a:rect l="l" t="t" r="r" b="b"/>
              <a:pathLst>
                <a:path w="757" h="648">
                  <a:moveTo>
                    <a:pt x="600" y="8"/>
                  </a:moveTo>
                  <a:cubicBezTo>
                    <a:pt x="637" y="21"/>
                    <a:pt x="665" y="28"/>
                    <a:pt x="696" y="48"/>
                  </a:cubicBezTo>
                  <a:cubicBezTo>
                    <a:pt x="702" y="57"/>
                    <a:pt x="711" y="63"/>
                    <a:pt x="716" y="72"/>
                  </a:cubicBezTo>
                  <a:cubicBezTo>
                    <a:pt x="720" y="79"/>
                    <a:pt x="719" y="89"/>
                    <a:pt x="724" y="96"/>
                  </a:cubicBezTo>
                  <a:cubicBezTo>
                    <a:pt x="727" y="100"/>
                    <a:pt x="729" y="104"/>
                    <a:pt x="732" y="108"/>
                  </a:cubicBezTo>
                  <a:cubicBezTo>
                    <a:pt x="739" y="137"/>
                    <a:pt x="746" y="167"/>
                    <a:pt x="756" y="196"/>
                  </a:cubicBezTo>
                  <a:cubicBezTo>
                    <a:pt x="755" y="204"/>
                    <a:pt x="757" y="213"/>
                    <a:pt x="752" y="220"/>
                  </a:cubicBezTo>
                  <a:cubicBezTo>
                    <a:pt x="746" y="228"/>
                    <a:pt x="736" y="231"/>
                    <a:pt x="728" y="236"/>
                  </a:cubicBezTo>
                  <a:cubicBezTo>
                    <a:pt x="723" y="239"/>
                    <a:pt x="721" y="245"/>
                    <a:pt x="716" y="248"/>
                  </a:cubicBezTo>
                  <a:cubicBezTo>
                    <a:pt x="709" y="252"/>
                    <a:pt x="692" y="256"/>
                    <a:pt x="692" y="256"/>
                  </a:cubicBezTo>
                  <a:cubicBezTo>
                    <a:pt x="668" y="274"/>
                    <a:pt x="682" y="264"/>
                    <a:pt x="652" y="284"/>
                  </a:cubicBezTo>
                  <a:cubicBezTo>
                    <a:pt x="645" y="289"/>
                    <a:pt x="635" y="287"/>
                    <a:pt x="628" y="292"/>
                  </a:cubicBezTo>
                  <a:cubicBezTo>
                    <a:pt x="596" y="314"/>
                    <a:pt x="564" y="335"/>
                    <a:pt x="532" y="356"/>
                  </a:cubicBezTo>
                  <a:cubicBezTo>
                    <a:pt x="513" y="385"/>
                    <a:pt x="493" y="415"/>
                    <a:pt x="468" y="440"/>
                  </a:cubicBezTo>
                  <a:cubicBezTo>
                    <a:pt x="458" y="469"/>
                    <a:pt x="465" y="457"/>
                    <a:pt x="452" y="476"/>
                  </a:cubicBezTo>
                  <a:cubicBezTo>
                    <a:pt x="439" y="529"/>
                    <a:pt x="406" y="548"/>
                    <a:pt x="364" y="576"/>
                  </a:cubicBezTo>
                  <a:cubicBezTo>
                    <a:pt x="347" y="587"/>
                    <a:pt x="332" y="601"/>
                    <a:pt x="316" y="612"/>
                  </a:cubicBezTo>
                  <a:cubicBezTo>
                    <a:pt x="285" y="633"/>
                    <a:pt x="244" y="639"/>
                    <a:pt x="208" y="648"/>
                  </a:cubicBezTo>
                  <a:cubicBezTo>
                    <a:pt x="188" y="647"/>
                    <a:pt x="168" y="646"/>
                    <a:pt x="148" y="644"/>
                  </a:cubicBezTo>
                  <a:cubicBezTo>
                    <a:pt x="134" y="643"/>
                    <a:pt x="108" y="632"/>
                    <a:pt x="108" y="632"/>
                  </a:cubicBezTo>
                  <a:cubicBezTo>
                    <a:pt x="99" y="618"/>
                    <a:pt x="85" y="606"/>
                    <a:pt x="76" y="592"/>
                  </a:cubicBezTo>
                  <a:cubicBezTo>
                    <a:pt x="67" y="578"/>
                    <a:pt x="61" y="562"/>
                    <a:pt x="52" y="548"/>
                  </a:cubicBezTo>
                  <a:cubicBezTo>
                    <a:pt x="44" y="508"/>
                    <a:pt x="36" y="503"/>
                    <a:pt x="24" y="468"/>
                  </a:cubicBezTo>
                  <a:cubicBezTo>
                    <a:pt x="14" y="437"/>
                    <a:pt x="6" y="404"/>
                    <a:pt x="0" y="372"/>
                  </a:cubicBezTo>
                  <a:cubicBezTo>
                    <a:pt x="3" y="329"/>
                    <a:pt x="3" y="281"/>
                    <a:pt x="28" y="244"/>
                  </a:cubicBezTo>
                  <a:cubicBezTo>
                    <a:pt x="35" y="216"/>
                    <a:pt x="72" y="164"/>
                    <a:pt x="96" y="148"/>
                  </a:cubicBezTo>
                  <a:cubicBezTo>
                    <a:pt x="150" y="67"/>
                    <a:pt x="251" y="50"/>
                    <a:pt x="340" y="28"/>
                  </a:cubicBezTo>
                  <a:cubicBezTo>
                    <a:pt x="358" y="23"/>
                    <a:pt x="368" y="11"/>
                    <a:pt x="388" y="8"/>
                  </a:cubicBezTo>
                  <a:cubicBezTo>
                    <a:pt x="430" y="1"/>
                    <a:pt x="404" y="5"/>
                    <a:pt x="468" y="0"/>
                  </a:cubicBezTo>
                  <a:cubicBezTo>
                    <a:pt x="504" y="1"/>
                    <a:pt x="540" y="2"/>
                    <a:pt x="576" y="4"/>
                  </a:cubicBezTo>
                  <a:cubicBezTo>
                    <a:pt x="579" y="4"/>
                    <a:pt x="611" y="19"/>
                    <a:pt x="600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25120" y="293544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21880" y="34416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58520" y="280836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55280" y="3567240"/>
              <a:ext cx="40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26080" y="325116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~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674360" y="320508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omic Sans MS"/>
                </a:rPr>
                <a:t>H(s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57320" y="2682720"/>
              <a:ext cx="3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5080" y="2554200"/>
              <a:ext cx="162072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|F</a:t>
              </a:r>
              <a:r>
                <a:rPr b="1" lang="en-US" sz="40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4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</a:t>
              </a:r>
              <a:r>
                <a:rPr b="1" lang="en-US" sz="3200" spc="-1" strike="noStrike">
                  <a:solidFill>
                    <a:srgbClr val="3333cc"/>
                  </a:solidFill>
                  <a:latin typeface="Comic Sans MS"/>
                </a:rPr>
                <a:t>s</a:t>
              </a:r>
              <a:r>
                <a:rPr b="1" lang="en-US" sz="4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</a:t>
              </a: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lang="en-US" sz="40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81320" y="2100240"/>
              <a:ext cx="148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3399"/>
                  </a:solidFill>
                  <a:latin typeface="Comic Sans MS"/>
                </a:rPr>
                <a:t>d</a:t>
              </a:r>
              <a:r>
                <a:rPr b="1" lang="it-IT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</a:t>
              </a:r>
              <a:r>
                <a:rPr b="1" lang="it-IT" sz="2400" spc="-1" strike="noStrike" baseline="-25000">
                  <a:solidFill>
                    <a:srgbClr val="333399"/>
                  </a:solidFill>
                  <a:latin typeface="Symbol"/>
                  <a:ea typeface="Symbol"/>
                </a:rPr>
                <a:t></a:t>
              </a:r>
              <a:r>
                <a:rPr b="1" lang="it-IT" sz="2400" spc="-1" strike="noStrike">
                  <a:solidFill>
                    <a:srgbClr val="333399"/>
                  </a:solidFill>
                  <a:latin typeface="Comic Sans MS"/>
                </a:rPr>
                <a:t>(s</a:t>
              </a:r>
              <a:r>
                <a:rPr b="1" lang="it-IT" sz="2400" spc="-1" strike="noStrike" baseline="-25000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it-IT" sz="2400" spc="-1" strike="noStrike">
                  <a:solidFill>
                    <a:srgbClr val="333399"/>
                  </a:solidFill>
                  <a:latin typeface="Comic Sans MS"/>
                </a:rPr>
                <a:t>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97360" y="1219320"/>
              <a:ext cx="75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33cc"/>
                  </a:solidFill>
                  <a:latin typeface="Comic Sans MS"/>
                </a:rPr>
                <a:t>s=s</a:t>
              </a:r>
              <a:r>
                <a:rPr b="1" lang="it-IT" sz="24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09560" y="2763720"/>
              <a:ext cx="2487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s invariant 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f the intermedi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hot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2320920"/>
              <a:ext cx="3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181480" y="4724280"/>
              <a:ext cx="53352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05360" y="4518000"/>
              <a:ext cx="7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04000" y="1806480"/>
              <a:ext cx="212760" cy="957240"/>
            </a:xfrm>
            <a:custGeom>
              <a:avLst/>
              <a:gdLst>
                <a:gd name="textAreaLeft" fmla="*/ 0 w 212760"/>
                <a:gd name="textAreaRight" fmla="*/ 76680 w 212760"/>
                <a:gd name="textAreaTop" fmla="*/ 24840 h 957240"/>
                <a:gd name="textAreaBottom" fmla="*/ 932400 h 9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46320" y="4925880"/>
            <a:ext cx="7731000" cy="1100160"/>
            <a:chOff x="346320" y="4925880"/>
            <a:chExt cx="7731000" cy="1100160"/>
          </a:xfrm>
        </p:grpSpPr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5054760" y="5181480"/>
                  <a:ext cx="302256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ππ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πα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sSubSup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π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</m:sSubSup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π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703" name=""/>
            <p:cNvSpPr/>
            <p:nvPr/>
          </p:nvSpPr>
          <p:spPr>
            <a:xfrm>
              <a:off x="346320" y="4925880"/>
              <a:ext cx="34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From which we obt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4" name=""/>
            <p:cNvCxnSpPr/>
            <p:nvPr/>
          </p:nvCxnSpPr>
          <p:spPr>
            <a:xfrm flipH="1" rot="16200000">
              <a:off x="3904560" y="4767840"/>
              <a:ext cx="396000" cy="1651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2014560" y="252360"/>
            <a:ext cx="33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hich Kind of FS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90800" y="6262560"/>
            <a:ext cx="8724600" cy="152640"/>
            <a:chOff x="190800" y="6262560"/>
            <a:chExt cx="8724600" cy="152640"/>
          </a:xfrm>
        </p:grpSpPr>
        <p:sp>
          <p:nvSpPr>
            <p:cNvPr id="707" name=""/>
            <p:cNvSpPr/>
            <p:nvPr/>
          </p:nvSpPr>
          <p:spPr>
            <a:xfrm flipH="1">
              <a:off x="381240" y="6415200"/>
              <a:ext cx="8534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0800" y="6262560"/>
              <a:ext cx="85341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9" name="out2" descr=""/>
          <p:cNvPicPr/>
          <p:nvPr/>
        </p:nvPicPr>
        <p:blipFill>
          <a:blip r:embed="rId1"/>
          <a:stretch/>
        </p:blipFill>
        <p:spPr>
          <a:xfrm>
            <a:off x="609480" y="4325760"/>
            <a:ext cx="2819520" cy="1389240"/>
          </a:xfrm>
          <a:prstGeom prst="rect">
            <a:avLst/>
          </a:prstGeom>
          <a:ln w="0">
            <a:noFill/>
          </a:ln>
        </p:spPr>
      </p:pic>
      <p:pic>
        <p:nvPicPr>
          <p:cNvPr id="710" name="out1" descr=""/>
          <p:cNvPicPr/>
          <p:nvPr/>
        </p:nvPicPr>
        <p:blipFill>
          <a:blip r:embed="rId2"/>
          <a:stretch/>
        </p:blipFill>
        <p:spPr>
          <a:xfrm>
            <a:off x="5565600" y="4038480"/>
            <a:ext cx="1901880" cy="22100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4191120" y="4648320"/>
            <a:ext cx="685800" cy="333360"/>
          </a:xfrm>
          <a:prstGeom prst="leftRightArrow">
            <a:avLst>
              <a:gd name="adj1" fmla="val 50000"/>
              <a:gd name="adj2" fmla="val 40954"/>
            </a:avLst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320" y="3881520"/>
            <a:ext cx="9197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  cross section</a:t>
            </a:r>
            <a:r>
              <a:rPr b="0" lang="en-US" sz="1900" spc="-1" strike="noStrike">
                <a:solidFill>
                  <a:srgbClr val="000000"/>
                </a:solidFill>
                <a:latin typeface="Tempus Sans ITC"/>
              </a:rPr>
              <a:t> e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empus Sans ITC"/>
              </a:rPr>
              <a:t>+</a:t>
            </a:r>
            <a:r>
              <a:rPr b="0" lang="en-US" sz="1900" spc="-1" strike="noStrike">
                <a:solidFill>
                  <a:srgbClr val="000000"/>
                </a:solidFill>
                <a:latin typeface="Tempus Sans ITC"/>
              </a:rPr>
              <a:t>e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empus Sans ITC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9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as to be inclusive with respect to </a:t>
            </a:r>
            <a:r>
              <a:rPr b="1" lang="en-US" sz="1900" spc="-1" strike="noStrike">
                <a:solidFill>
                  <a:srgbClr val="cc0000"/>
                </a:solidFill>
                <a:latin typeface="Tahoma"/>
              </a:rPr>
              <a:t>NLO FSR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even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27480" y="1295280"/>
            <a:ext cx="7144560" cy="2376720"/>
            <a:chOff x="627480" y="1295280"/>
            <a:chExt cx="7144560" cy="2376720"/>
          </a:xfrm>
        </p:grpSpPr>
        <p:pic>
          <p:nvPicPr>
            <p:cNvPr id="714" name="plot1fsr_eps_w" descr=""/>
            <p:cNvPicPr/>
            <p:nvPr/>
          </p:nvPicPr>
          <p:blipFill>
            <a:blip r:embed="rId3"/>
            <a:stretch/>
          </p:blipFill>
          <p:spPr>
            <a:xfrm>
              <a:off x="757080" y="1295280"/>
              <a:ext cx="70149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6082920" y="1471320"/>
              <a:ext cx="96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it-IT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32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16960" y="1580760"/>
              <a:ext cx="96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it-IT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32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80160" y="249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18560" y="2493360"/>
              <a:ext cx="1227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c0000"/>
                  </a:solidFill>
                  <a:latin typeface="Times New Roman"/>
                </a:rPr>
                <a:t>s= </a:t>
              </a:r>
              <a:r>
                <a:rPr b="0" lang="it-IT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it-IT" sz="3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7480" y="2057400"/>
              <a:ext cx="737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it-IT" sz="3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456440" y="2057400"/>
              <a:ext cx="737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it-IT" sz="3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295280" y="304920"/>
            <a:ext cx="4267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 FSR Cor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1960" y="1447920"/>
            <a:ext cx="55587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 FSR is a background since  the Pion form fa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evaluated at the same fixed scale s=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267080" y="2209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89760" y="2514600"/>
            <a:ext cx="45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to be subtracted as much as possi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14400" y="55627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contribution becomes  &lt; 1% due  to our acceptance c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981080" y="2895480"/>
            <a:ext cx="4453200" cy="2719080"/>
            <a:chOff x="1981080" y="2895480"/>
            <a:chExt cx="4453200" cy="2719080"/>
          </a:xfrm>
        </p:grpSpPr>
        <p:grpSp>
          <p:nvGrpSpPr>
            <p:cNvPr id="727" name=""/>
            <p:cNvGrpSpPr/>
            <p:nvPr/>
          </p:nvGrpSpPr>
          <p:grpSpPr>
            <a:xfrm>
              <a:off x="1981080" y="2973240"/>
              <a:ext cx="4352040" cy="2641320"/>
              <a:chOff x="1981080" y="2973240"/>
              <a:chExt cx="4352040" cy="2641320"/>
            </a:xfrm>
          </p:grpSpPr>
          <p:pic>
            <p:nvPicPr>
              <p:cNvPr id="728" name="plot2fsr_eps_w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2973240"/>
                <a:ext cx="4352040" cy="25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5217840" y="5243760"/>
                <a:ext cx="94716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empus Sans ITC"/>
                  </a:rPr>
                  <a:t>s</a:t>
                </a:r>
                <a:r>
                  <a:rPr b="1" lang="en-US" sz="1600" spc="-1" strike="noStrike" baseline="-25000">
                    <a:solidFill>
                      <a:srgbClr val="cc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1600" spc="-1" strike="noStrike">
                    <a:solidFill>
                      <a:srgbClr val="cc0000"/>
                    </a:solidFill>
                    <a:latin typeface="Tempus Sans ITC"/>
                  </a:rPr>
                  <a:t>(GeV</a:t>
                </a:r>
                <a:r>
                  <a:rPr b="1" lang="en-US" sz="1600" spc="-1" strike="noStrike" baseline="30000">
                    <a:solidFill>
                      <a:srgbClr val="cc0000"/>
                    </a:solidFill>
                    <a:latin typeface="Tempus Sans ITC"/>
                  </a:rPr>
                  <a:t>2</a:t>
                </a:r>
                <a:r>
                  <a:rPr b="1" lang="en-US" sz="1600" spc="-1" strike="noStrike">
                    <a:solidFill>
                      <a:srgbClr val="cc0000"/>
                    </a:solidFill>
                    <a:latin typeface="Tempus Sans ITC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5246280" y="2895480"/>
              <a:ext cx="1188000" cy="39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cc"/>
                  </a:solidFill>
                  <a:latin typeface="Tempus Sans ITC"/>
                </a:rPr>
                <a:t>LO - FS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645200" y="35924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empus Sans ITC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5644080" y="1398240"/>
            <a:ext cx="3274200" cy="1270800"/>
            <a:chOff x="5644080" y="1398240"/>
            <a:chExt cx="3274200" cy="1270800"/>
          </a:xfrm>
        </p:grpSpPr>
        <p:sp>
          <p:nvSpPr>
            <p:cNvPr id="733" name=""/>
            <p:cNvSpPr/>
            <p:nvPr/>
          </p:nvSpPr>
          <p:spPr>
            <a:xfrm>
              <a:off x="5969160" y="1736280"/>
              <a:ext cx="991440" cy="3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5969160" y="2073600"/>
              <a:ext cx="99144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687800" y="1398240"/>
              <a:ext cx="594720" cy="54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60960" y="2073960"/>
              <a:ext cx="594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89440" y="2006640"/>
              <a:ext cx="131760" cy="135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7555680" y="1668240"/>
              <a:ext cx="72684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55680" y="2141640"/>
              <a:ext cx="72684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647680" y="153216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44080" y="20739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292240" y="13986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289360" y="2209320"/>
              <a:ext cx="40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24800" y="1875600"/>
              <a:ext cx="129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~F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r>
                <a:rPr b="0" lang="it-IT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r>
                <a:rPr b="0" lang="it-IT" sz="24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09600" y="2138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57200" y="2141640"/>
              <a:ext cx="995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omic Sans MS"/>
                </a:rPr>
                <a:t>s=m</a:t>
              </a:r>
              <a:r>
                <a:rPr b="1" lang="it-IT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r>
                <a:rPr b="1" lang="it-IT" sz="24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4572000" y="3276720"/>
            <a:ext cx="4419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ahoma"/>
              </a:rPr>
              <a:t>This contribution is as large as 5% in </a:t>
            </a:r>
            <a:r>
              <a:rPr b="0" i="1" lang="it-IT" sz="2000" spc="-1" strike="noStrike">
                <a:solidFill>
                  <a:srgbClr val="0000ff"/>
                </a:solidFill>
                <a:latin typeface="Tahoma"/>
              </a:rPr>
              <a:t>low M</a:t>
            </a:r>
            <a:r>
              <a:rPr b="0" i="1" lang="it-IT" sz="20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i="1" lang="it-IT" sz="20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</a:t>
            </a:r>
            <a:r>
              <a:rPr b="0" i="1" lang="it-IT" sz="2000" spc="-1" strike="noStrike">
                <a:solidFill>
                  <a:srgbClr val="0000ff"/>
                </a:solidFill>
                <a:latin typeface="Tahoma"/>
              </a:rPr>
              <a:t> b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ahoma"/>
              </a:rPr>
              <a:t>FSR contribution + cut efficiency are evaluated by MC (PHOKHARA Genera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57120" y="1204920"/>
            <a:ext cx="3783240" cy="412920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1940760" y="2666880"/>
            <a:ext cx="1991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empus Sans ITC"/>
              </a:rPr>
              <a:t>Before trackmass cut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806480" y="4495680"/>
            <a:ext cx="1805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empus Sans ITC"/>
              </a:rPr>
              <a:t>After trackmass cut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84080" y="1379520"/>
            <a:ext cx="173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empus Sans ITC"/>
              </a:rPr>
              <a:t>FSR (nlo) /IS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3520" y="1231920"/>
            <a:ext cx="508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58120" y="2227320"/>
            <a:ext cx="418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3440" y="1739880"/>
            <a:ext cx="418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3720" y="2692440"/>
            <a:ext cx="50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7600" y="3687840"/>
            <a:ext cx="418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2920" y="3200400"/>
            <a:ext cx="418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9840" y="4660920"/>
            <a:ext cx="47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45160" y="4173480"/>
            <a:ext cx="47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30760" y="5003640"/>
            <a:ext cx="476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78640" y="5194440"/>
            <a:ext cx="61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de-DE" sz="18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de-DE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0360" y="5010120"/>
            <a:ext cx="404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002600" y="5003640"/>
            <a:ext cx="404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62680" y="5010120"/>
            <a:ext cx="404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69200" y="5003640"/>
            <a:ext cx="404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432880" y="4998960"/>
            <a:ext cx="404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93320" y="5003640"/>
            <a:ext cx="404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368520" y="5010120"/>
            <a:ext cx="425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752480" y="2971800"/>
            <a:ext cx="6098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1599840" y="4114440"/>
            <a:ext cx="228600" cy="3049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9072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NLO FSR Correction: simultaneous emission of ISR and FS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out2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281952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9144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xtraction of </a:t>
            </a:r>
            <a:r>
              <a:rPr b="1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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it-IT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it-IT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</a:t>
            </a:r>
            <a:r>
              <a:rPr b="1" lang="it-IT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</a:t>
            </a:r>
            <a:r>
              <a:rPr b="1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it-IT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</a:t>
            </a:r>
            <a:r>
              <a:rPr b="1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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in presence of simultaneous emission of ISR and F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-19440" y="1219320"/>
            <a:ext cx="918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resence of NLO FSR, our procedure must be modified 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743200" y="3200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429000" y="22096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429000" y="25909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4038480" y="20574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81480" y="25146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257800" y="21337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257800" y="26668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32040" y="1987560"/>
            <a:ext cx="1202040" cy="1028520"/>
          </a:xfrm>
          <a:custGeom>
            <a:avLst/>
            <a:gdLst/>
            <a:ahLst/>
            <a:rect l="l" t="t" r="r" b="b"/>
            <a:pathLst>
              <a:path w="757" h="648">
                <a:moveTo>
                  <a:pt x="600" y="8"/>
                </a:moveTo>
                <a:cubicBezTo>
                  <a:pt x="637" y="21"/>
                  <a:pt x="665" y="28"/>
                  <a:pt x="696" y="48"/>
                </a:cubicBezTo>
                <a:cubicBezTo>
                  <a:pt x="702" y="57"/>
                  <a:pt x="711" y="63"/>
                  <a:pt x="716" y="72"/>
                </a:cubicBezTo>
                <a:cubicBezTo>
                  <a:pt x="720" y="79"/>
                  <a:pt x="719" y="89"/>
                  <a:pt x="724" y="96"/>
                </a:cubicBezTo>
                <a:cubicBezTo>
                  <a:pt x="727" y="100"/>
                  <a:pt x="729" y="104"/>
                  <a:pt x="732" y="108"/>
                </a:cubicBezTo>
                <a:cubicBezTo>
                  <a:pt x="739" y="137"/>
                  <a:pt x="746" y="167"/>
                  <a:pt x="756" y="196"/>
                </a:cubicBezTo>
                <a:cubicBezTo>
                  <a:pt x="755" y="204"/>
                  <a:pt x="757" y="213"/>
                  <a:pt x="752" y="220"/>
                </a:cubicBezTo>
                <a:cubicBezTo>
                  <a:pt x="746" y="228"/>
                  <a:pt x="736" y="231"/>
                  <a:pt x="728" y="236"/>
                </a:cubicBezTo>
                <a:cubicBezTo>
                  <a:pt x="723" y="239"/>
                  <a:pt x="721" y="245"/>
                  <a:pt x="716" y="248"/>
                </a:cubicBezTo>
                <a:cubicBezTo>
                  <a:pt x="709" y="252"/>
                  <a:pt x="692" y="256"/>
                  <a:pt x="692" y="256"/>
                </a:cubicBezTo>
                <a:cubicBezTo>
                  <a:pt x="668" y="274"/>
                  <a:pt x="682" y="264"/>
                  <a:pt x="652" y="284"/>
                </a:cubicBezTo>
                <a:cubicBezTo>
                  <a:pt x="645" y="289"/>
                  <a:pt x="635" y="287"/>
                  <a:pt x="628" y="292"/>
                </a:cubicBezTo>
                <a:cubicBezTo>
                  <a:pt x="596" y="314"/>
                  <a:pt x="564" y="335"/>
                  <a:pt x="532" y="356"/>
                </a:cubicBezTo>
                <a:cubicBezTo>
                  <a:pt x="513" y="385"/>
                  <a:pt x="493" y="415"/>
                  <a:pt x="468" y="440"/>
                </a:cubicBezTo>
                <a:cubicBezTo>
                  <a:pt x="458" y="469"/>
                  <a:pt x="465" y="457"/>
                  <a:pt x="452" y="476"/>
                </a:cubicBezTo>
                <a:cubicBezTo>
                  <a:pt x="439" y="529"/>
                  <a:pt x="406" y="548"/>
                  <a:pt x="364" y="576"/>
                </a:cubicBezTo>
                <a:cubicBezTo>
                  <a:pt x="347" y="587"/>
                  <a:pt x="332" y="601"/>
                  <a:pt x="316" y="612"/>
                </a:cubicBezTo>
                <a:cubicBezTo>
                  <a:pt x="285" y="633"/>
                  <a:pt x="244" y="639"/>
                  <a:pt x="208" y="648"/>
                </a:cubicBezTo>
                <a:cubicBezTo>
                  <a:pt x="188" y="647"/>
                  <a:pt x="168" y="646"/>
                  <a:pt x="148" y="644"/>
                </a:cubicBezTo>
                <a:cubicBezTo>
                  <a:pt x="134" y="643"/>
                  <a:pt x="108" y="632"/>
                  <a:pt x="108" y="632"/>
                </a:cubicBezTo>
                <a:cubicBezTo>
                  <a:pt x="99" y="618"/>
                  <a:pt x="85" y="606"/>
                  <a:pt x="76" y="592"/>
                </a:cubicBezTo>
                <a:cubicBezTo>
                  <a:pt x="67" y="578"/>
                  <a:pt x="61" y="562"/>
                  <a:pt x="52" y="548"/>
                </a:cubicBezTo>
                <a:cubicBezTo>
                  <a:pt x="44" y="508"/>
                  <a:pt x="36" y="503"/>
                  <a:pt x="24" y="468"/>
                </a:cubicBezTo>
                <a:cubicBezTo>
                  <a:pt x="14" y="437"/>
                  <a:pt x="6" y="404"/>
                  <a:pt x="0" y="372"/>
                </a:cubicBezTo>
                <a:cubicBezTo>
                  <a:pt x="3" y="329"/>
                  <a:pt x="3" y="281"/>
                  <a:pt x="28" y="244"/>
                </a:cubicBezTo>
                <a:cubicBezTo>
                  <a:pt x="35" y="216"/>
                  <a:pt x="72" y="164"/>
                  <a:pt x="96" y="148"/>
                </a:cubicBezTo>
                <a:cubicBezTo>
                  <a:pt x="150" y="67"/>
                  <a:pt x="251" y="50"/>
                  <a:pt x="340" y="28"/>
                </a:cubicBezTo>
                <a:cubicBezTo>
                  <a:pt x="358" y="23"/>
                  <a:pt x="368" y="11"/>
                  <a:pt x="388" y="8"/>
                </a:cubicBezTo>
                <a:cubicBezTo>
                  <a:pt x="430" y="1"/>
                  <a:pt x="404" y="5"/>
                  <a:pt x="468" y="0"/>
                </a:cubicBezTo>
                <a:cubicBezTo>
                  <a:pt x="504" y="1"/>
                  <a:pt x="540" y="2"/>
                  <a:pt x="576" y="4"/>
                </a:cubicBezTo>
                <a:cubicBezTo>
                  <a:pt x="579" y="4"/>
                  <a:pt x="611" y="19"/>
                  <a:pt x="600" y="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057120" y="198108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53880" y="25909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104520" y="182880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101640" y="274320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342760" y="23623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~F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1911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52680" y="35053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3352680" y="38858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3962520" y="33523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49568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181480" y="34290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181480" y="38862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56080" y="3282840"/>
            <a:ext cx="1201680" cy="1028880"/>
          </a:xfrm>
          <a:custGeom>
            <a:avLst/>
            <a:gdLst/>
            <a:ahLst/>
            <a:rect l="l" t="t" r="r" b="b"/>
            <a:pathLst>
              <a:path w="757" h="648">
                <a:moveTo>
                  <a:pt x="600" y="8"/>
                </a:moveTo>
                <a:cubicBezTo>
                  <a:pt x="637" y="21"/>
                  <a:pt x="665" y="28"/>
                  <a:pt x="696" y="48"/>
                </a:cubicBezTo>
                <a:cubicBezTo>
                  <a:pt x="702" y="57"/>
                  <a:pt x="711" y="63"/>
                  <a:pt x="716" y="72"/>
                </a:cubicBezTo>
                <a:cubicBezTo>
                  <a:pt x="720" y="79"/>
                  <a:pt x="719" y="89"/>
                  <a:pt x="724" y="96"/>
                </a:cubicBezTo>
                <a:cubicBezTo>
                  <a:pt x="727" y="100"/>
                  <a:pt x="729" y="104"/>
                  <a:pt x="732" y="108"/>
                </a:cubicBezTo>
                <a:cubicBezTo>
                  <a:pt x="739" y="137"/>
                  <a:pt x="746" y="167"/>
                  <a:pt x="756" y="196"/>
                </a:cubicBezTo>
                <a:cubicBezTo>
                  <a:pt x="755" y="204"/>
                  <a:pt x="757" y="213"/>
                  <a:pt x="752" y="220"/>
                </a:cubicBezTo>
                <a:cubicBezTo>
                  <a:pt x="746" y="228"/>
                  <a:pt x="736" y="231"/>
                  <a:pt x="728" y="236"/>
                </a:cubicBezTo>
                <a:cubicBezTo>
                  <a:pt x="723" y="239"/>
                  <a:pt x="721" y="245"/>
                  <a:pt x="716" y="248"/>
                </a:cubicBezTo>
                <a:cubicBezTo>
                  <a:pt x="709" y="252"/>
                  <a:pt x="692" y="256"/>
                  <a:pt x="692" y="256"/>
                </a:cubicBezTo>
                <a:cubicBezTo>
                  <a:pt x="668" y="274"/>
                  <a:pt x="682" y="264"/>
                  <a:pt x="652" y="284"/>
                </a:cubicBezTo>
                <a:cubicBezTo>
                  <a:pt x="645" y="289"/>
                  <a:pt x="635" y="287"/>
                  <a:pt x="628" y="292"/>
                </a:cubicBezTo>
                <a:cubicBezTo>
                  <a:pt x="596" y="314"/>
                  <a:pt x="564" y="335"/>
                  <a:pt x="532" y="356"/>
                </a:cubicBezTo>
                <a:cubicBezTo>
                  <a:pt x="513" y="385"/>
                  <a:pt x="493" y="415"/>
                  <a:pt x="468" y="440"/>
                </a:cubicBezTo>
                <a:cubicBezTo>
                  <a:pt x="458" y="469"/>
                  <a:pt x="465" y="457"/>
                  <a:pt x="452" y="476"/>
                </a:cubicBezTo>
                <a:cubicBezTo>
                  <a:pt x="439" y="529"/>
                  <a:pt x="406" y="548"/>
                  <a:pt x="364" y="576"/>
                </a:cubicBezTo>
                <a:cubicBezTo>
                  <a:pt x="347" y="587"/>
                  <a:pt x="332" y="601"/>
                  <a:pt x="316" y="612"/>
                </a:cubicBezTo>
                <a:cubicBezTo>
                  <a:pt x="285" y="633"/>
                  <a:pt x="244" y="639"/>
                  <a:pt x="208" y="648"/>
                </a:cubicBezTo>
                <a:cubicBezTo>
                  <a:pt x="188" y="647"/>
                  <a:pt x="168" y="646"/>
                  <a:pt x="148" y="644"/>
                </a:cubicBezTo>
                <a:cubicBezTo>
                  <a:pt x="134" y="643"/>
                  <a:pt x="108" y="632"/>
                  <a:pt x="108" y="632"/>
                </a:cubicBezTo>
                <a:cubicBezTo>
                  <a:pt x="99" y="618"/>
                  <a:pt x="85" y="606"/>
                  <a:pt x="76" y="592"/>
                </a:cubicBezTo>
                <a:cubicBezTo>
                  <a:pt x="67" y="578"/>
                  <a:pt x="61" y="562"/>
                  <a:pt x="52" y="548"/>
                </a:cubicBezTo>
                <a:cubicBezTo>
                  <a:pt x="44" y="508"/>
                  <a:pt x="36" y="503"/>
                  <a:pt x="24" y="468"/>
                </a:cubicBezTo>
                <a:cubicBezTo>
                  <a:pt x="14" y="437"/>
                  <a:pt x="6" y="404"/>
                  <a:pt x="0" y="372"/>
                </a:cubicBezTo>
                <a:cubicBezTo>
                  <a:pt x="3" y="329"/>
                  <a:pt x="3" y="281"/>
                  <a:pt x="28" y="244"/>
                </a:cubicBezTo>
                <a:cubicBezTo>
                  <a:pt x="35" y="216"/>
                  <a:pt x="72" y="164"/>
                  <a:pt x="96" y="148"/>
                </a:cubicBezTo>
                <a:cubicBezTo>
                  <a:pt x="150" y="67"/>
                  <a:pt x="251" y="50"/>
                  <a:pt x="340" y="28"/>
                </a:cubicBezTo>
                <a:cubicBezTo>
                  <a:pt x="358" y="23"/>
                  <a:pt x="368" y="11"/>
                  <a:pt x="388" y="8"/>
                </a:cubicBezTo>
                <a:cubicBezTo>
                  <a:pt x="430" y="1"/>
                  <a:pt x="404" y="5"/>
                  <a:pt x="468" y="0"/>
                </a:cubicBezTo>
                <a:cubicBezTo>
                  <a:pt x="504" y="1"/>
                  <a:pt x="540" y="2"/>
                  <a:pt x="576" y="4"/>
                </a:cubicBezTo>
                <a:cubicBezTo>
                  <a:pt x="579" y="4"/>
                  <a:pt x="611" y="19"/>
                  <a:pt x="600" y="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980800" y="327672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77560" y="38862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28560" y="312408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025320" y="403848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1880" y="36576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~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42480" y="36576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H(s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235240" y="2819520"/>
            <a:ext cx="35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0280" y="2819520"/>
            <a:ext cx="162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|F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lang="en-US" sz="4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410080" y="1752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39600" y="2590920"/>
            <a:ext cx="82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1" lang="it-IT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629400" y="19051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254360" y="2133720"/>
            <a:ext cx="54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81680" y="33526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407000" y="3578400"/>
            <a:ext cx="54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35640" y="3962520"/>
            <a:ext cx="75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s=s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689120" y="2209680"/>
            <a:ext cx="138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1" lang="it-IT" sz="2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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(s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1081080" y="4576680"/>
                <a:ext cx="53625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γ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d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γ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4" name=""/>
          <p:cNvSpPr/>
          <p:nvPr/>
        </p:nvSpPr>
        <p:spPr>
          <a:xfrm>
            <a:off x="7740000" y="1676520"/>
            <a:ext cx="82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1" lang="it-IT" sz="2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95000" y="56386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ance cor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905120" y="5486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5334120" y="56386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261480" y="556272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1327320" y="1676520"/>
            <a:ext cx="28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 this way we 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811600" y="36576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811600" y="40381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5460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64080" y="3962520"/>
            <a:ext cx="15228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640400" y="35809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640400" y="4114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439360" y="34290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436120" y="40384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87120" y="33415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83880" y="419112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7336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792680" y="32000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087800" y="4038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216320" y="1441440"/>
                <a:ext cx="3022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ππ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34" name=""/>
          <p:cNvSpPr/>
          <p:nvPr/>
        </p:nvSpPr>
        <p:spPr>
          <a:xfrm>
            <a:off x="1065600" y="2590920"/>
            <a:ext cx="66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ich is inclusive in FSR (hard, soft  &amp; virtual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22400" y="5013360"/>
            <a:ext cx="764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Remember that for </a:t>
            </a:r>
            <a:r>
              <a:rPr b="0" i="1" lang="en-GB" sz="20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i="1" lang="en-GB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calculation we n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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inclusive w.r.t. FSR and corrected for VP (bare cross s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1430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FSR Correction:How to cross-check </a:t>
            </a:r>
            <a:br>
              <a:rPr sz="2800"/>
            </a:b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the above proced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33520" y="127944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checked our procedure with a different metho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28600" y="22096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tract FSR (nlo) contribution to the observed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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80680" y="2133720"/>
            <a:ext cx="2648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(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S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343400" y="2285640"/>
            <a:ext cx="4334040" cy="536040"/>
            <a:chOff x="4343400" y="2285640"/>
            <a:chExt cx="4334040" cy="536040"/>
          </a:xfrm>
        </p:grpSpPr>
        <p:grpSp>
          <p:nvGrpSpPr>
            <p:cNvPr id="841" name=""/>
            <p:cNvGrpSpPr/>
            <p:nvPr/>
          </p:nvGrpSpPr>
          <p:grpSpPr>
            <a:xfrm>
              <a:off x="6378480" y="2285640"/>
              <a:ext cx="2298960" cy="536040"/>
              <a:chOff x="6378480" y="2285640"/>
              <a:chExt cx="2298960" cy="536040"/>
            </a:xfrm>
          </p:grpSpPr>
          <p:grpSp>
            <p:nvGrpSpPr>
              <p:cNvPr id="842" name=""/>
              <p:cNvGrpSpPr/>
              <p:nvPr/>
            </p:nvGrpSpPr>
            <p:grpSpPr>
              <a:xfrm>
                <a:off x="7988400" y="2285640"/>
                <a:ext cx="304560" cy="305280"/>
                <a:chOff x="7988400" y="2285640"/>
                <a:chExt cx="304560" cy="30528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7988400" y="2286000"/>
                  <a:ext cx="304560" cy="304920"/>
                </a:xfrm>
                <a:prstGeom prst="line">
                  <a:avLst/>
                </a:prstGeom>
                <a:ln w="190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V="1">
                  <a:off x="7988400" y="2285640"/>
                  <a:ext cx="304560" cy="304920"/>
                </a:xfrm>
                <a:prstGeom prst="line">
                  <a:avLst/>
                </a:prstGeom>
                <a:ln w="190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" name=""/>
              <p:cNvSpPr/>
              <p:nvPr/>
            </p:nvSpPr>
            <p:spPr>
              <a:xfrm>
                <a:off x="6378480" y="2514600"/>
                <a:ext cx="229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Tempus Sans ITC"/>
                  </a:rPr>
                  <a:t>subtract FSR contribu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4343400" y="23479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263760" y="3870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4343400" y="3468600"/>
            <a:ext cx="3977280" cy="745560"/>
            <a:chOff x="4343400" y="3468600"/>
            <a:chExt cx="3977280" cy="745560"/>
          </a:xfrm>
        </p:grpSpPr>
        <p:sp>
          <p:nvSpPr>
            <p:cNvPr id="849" name=""/>
            <p:cNvSpPr/>
            <p:nvPr/>
          </p:nvSpPr>
          <p:spPr>
            <a:xfrm>
              <a:off x="4343400" y="3697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28880" y="3468600"/>
              <a:ext cx="18918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-Italic"/>
                </a:rPr>
                <a:t>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-Italic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-Italic"/>
                </a:rPr>
                <a:t>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-Italic"/>
                </a:rPr>
                <a:t>-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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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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S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0" y="3468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the analysis corrections, as in the case of pure I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4343400" y="4403880"/>
            <a:ext cx="4596480" cy="1618200"/>
            <a:chOff x="4343400" y="4403880"/>
            <a:chExt cx="4596480" cy="1618200"/>
          </a:xfrm>
        </p:grpSpPr>
        <p:grpSp>
          <p:nvGrpSpPr>
            <p:cNvPr id="853" name=""/>
            <p:cNvGrpSpPr/>
            <p:nvPr/>
          </p:nvGrpSpPr>
          <p:grpSpPr>
            <a:xfrm>
              <a:off x="6471000" y="4403880"/>
              <a:ext cx="2468880" cy="1618200"/>
              <a:chOff x="6471000" y="4403880"/>
              <a:chExt cx="2468880" cy="1618200"/>
            </a:xfrm>
          </p:grpSpPr>
          <p:sp>
            <p:nvSpPr>
              <p:cNvPr id="854" name=""/>
              <p:cNvSpPr/>
              <p:nvPr/>
            </p:nvSpPr>
            <p:spPr>
              <a:xfrm flipH="1" flipV="1">
                <a:off x="8226000" y="5089680"/>
                <a:ext cx="2286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671520" y="5318280"/>
                <a:ext cx="226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chwinger 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0.8% for s&lt;1GeV</a:t>
                </a:r>
                <a:r>
                  <a:rPr b="0" lang="en-GB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6471000" y="4403880"/>
                <a:ext cx="2090160" cy="946080"/>
                <a:chOff x="6471000" y="4403880"/>
                <a:chExt cx="2090160" cy="94608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7661160" y="4403880"/>
                  <a:ext cx="6098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c0000"/>
                      </a:solidFill>
                      <a:latin typeface="SymbolProp BT"/>
                      <a:ea typeface="SymbolProp BT"/>
                    </a:rPr>
                    <a:t></a:t>
                  </a:r>
                  <a:r>
                    <a:rPr b="0" lang="en-US" sz="20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FS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471000" y="4796280"/>
                  <a:ext cx="2090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cc0000"/>
                      </a:solidFill>
                      <a:latin typeface="Times New Roman"/>
                    </a:rPr>
                    <a:t>0.8 .. 0.9%  Schwinger ‘9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9" name=""/>
            <p:cNvSpPr/>
            <p:nvPr/>
          </p:nvSpPr>
          <p:spPr>
            <a:xfrm>
              <a:off x="4343400" y="5241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457200" y="5013360"/>
            <a:ext cx="3733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 (pointlike) FSR corr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FS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4248000" y="4419720"/>
            <a:ext cx="3913200" cy="703800"/>
            <a:chOff x="4248000" y="4419720"/>
            <a:chExt cx="3913200" cy="703800"/>
          </a:xfrm>
        </p:grpSpPr>
        <p:sp>
          <p:nvSpPr>
            <p:cNvPr id="862" name=""/>
            <p:cNvSpPr/>
            <p:nvPr/>
          </p:nvSpPr>
          <p:spPr>
            <a:xfrm>
              <a:off x="4248000" y="4647960"/>
              <a:ext cx="157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43120" y="4419720"/>
              <a:ext cx="191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-Italic"/>
                </a:rPr>
                <a:t>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-Italic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-Italic"/>
                </a:rPr>
                <a:t>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-Italic"/>
                </a:rPr>
                <a:t>-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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685800" y="4495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 for radiator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74240" y="548640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do they a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adronic contribution to a</a:t>
            </a:r>
            <a:r>
              <a:rPr b="0" lang="en-GB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495680" y="2505240"/>
          <a:ext cx="40388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505240"/>
                    <a:ext cx="40388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04920" y="1327320"/>
            <a:ext cx="8610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one of the most precise measurement in high energy physics (5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lativ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4680" y="3048120"/>
            <a:ext cx="373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QED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+ 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EW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had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+ 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NO SM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H="1" rot="16200000">
            <a:off x="1942920" y="2704680"/>
            <a:ext cx="1600920" cy="320112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9" name=""/>
          <p:cNvGrpSpPr/>
          <p:nvPr/>
        </p:nvGrpSpPr>
        <p:grpSpPr>
          <a:xfrm>
            <a:off x="327240" y="2133720"/>
            <a:ext cx="3940200" cy="762120"/>
            <a:chOff x="327240" y="2133720"/>
            <a:chExt cx="3940200" cy="762120"/>
          </a:xfrm>
        </p:grpSpPr>
        <p:sp>
          <p:nvSpPr>
            <p:cNvPr id="130" name=""/>
            <p:cNvSpPr/>
            <p:nvPr/>
          </p:nvSpPr>
          <p:spPr>
            <a:xfrm>
              <a:off x="327240" y="2133720"/>
              <a:ext cx="338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ahoma"/>
                </a:rPr>
                <a:t>exp</a:t>
              </a: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 = (11 659 208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 6)10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ahoma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9400" y="2438280"/>
              <a:ext cx="22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.W. Bennett at. Al. 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31" idx="1"/>
            </p:cNvCxnSpPr>
            <p:nvPr/>
          </p:nvCxnSpPr>
          <p:spPr>
            <a:xfrm flipH="1" flipV="1" rot="10800000">
              <a:off x="1614240" y="2590560"/>
              <a:ext cx="2653200" cy="305280"/>
            </a:xfrm>
            <a:prstGeom prst="bentConnector3">
              <a:avLst>
                <a:gd name="adj1" fmla="val -137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33" name=""/>
          <p:cNvCxnSpPr/>
          <p:nvPr/>
        </p:nvCxnSpPr>
        <p:spPr>
          <a:xfrm>
            <a:off x="1828800" y="3504960"/>
            <a:ext cx="2743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7842600" y="289548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85160" y="4876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92880" y="426708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d (LO+N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5840" y="320040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31640" y="373392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30280" y="3747960"/>
            <a:ext cx="3065400" cy="824400"/>
            <a:chOff x="1430280" y="3747960"/>
            <a:chExt cx="3065400" cy="824400"/>
          </a:xfrm>
        </p:grpSpPr>
        <p:sp>
          <p:nvSpPr>
            <p:cNvPr id="140" name=""/>
            <p:cNvSpPr/>
            <p:nvPr/>
          </p:nvSpPr>
          <p:spPr>
            <a:xfrm>
              <a:off x="1430280" y="3747960"/>
              <a:ext cx="2868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Tahoma"/>
                </a:rPr>
                <a:t>had</a:t>
              </a: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 = a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Tahoma"/>
                </a:rPr>
                <a:t>had,LO+NLO</a:t>
              </a: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 + a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Tahoma"/>
                </a:rPr>
                <a:t>had,LB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14800" y="4038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/>
            <p:nvPr/>
          </p:nvCxnSpPr>
          <p:spPr>
            <a:xfrm flipH="1" flipV="1" rot="10800000">
              <a:off x="2514240" y="4190760"/>
              <a:ext cx="1905840" cy="381600"/>
            </a:xfrm>
            <a:prstGeom prst="bentConnector3">
              <a:avLst>
                <a:gd name="adj1" fmla="val -73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3" name=""/>
          <p:cNvSpPr/>
          <p:nvPr/>
        </p:nvSpPr>
        <p:spPr>
          <a:xfrm>
            <a:off x="2057400" y="3657600"/>
            <a:ext cx="1219320" cy="609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1000" y="2057400"/>
            <a:ext cx="272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ibution to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20320" y="563868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331920" y="1714680"/>
            <a:ext cx="4248000" cy="43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89600" y="1714680"/>
            <a:ext cx="3390840" cy="31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8" name="fpi_mtf" descr=""/>
          <p:cNvPicPr/>
          <p:nvPr/>
        </p:nvPicPr>
        <p:blipFill>
          <a:blip r:embed="rId1"/>
          <a:stretch/>
        </p:blipFill>
        <p:spPr>
          <a:xfrm>
            <a:off x="528480" y="1836720"/>
            <a:ext cx="3757680" cy="4179960"/>
          </a:xfrm>
          <a:prstGeom prst="rect">
            <a:avLst/>
          </a:prstGeom>
          <a:ln w="0">
            <a:noFill/>
          </a:ln>
        </p:spPr>
      </p:pic>
      <p:pic>
        <p:nvPicPr>
          <p:cNvPr id="869" name="fpi_diff_mtf" descr=""/>
          <p:cNvPicPr/>
          <p:nvPr/>
        </p:nvPicPr>
        <p:blipFill>
          <a:blip r:embed="rId2"/>
          <a:stretch/>
        </p:blipFill>
        <p:spPr>
          <a:xfrm>
            <a:off x="5300640" y="1817640"/>
            <a:ext cx="2860560" cy="296388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6103800" y="3657600"/>
            <a:ext cx="180036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17680" y="1203480"/>
            <a:ext cx="44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xcellent agreement (</a:t>
            </a:r>
            <a:r>
              <a:rPr b="1" lang="en-US" sz="2000" spc="-1" strike="noStrike">
                <a:solidFill>
                  <a:srgbClr val="cc0000"/>
                </a:solidFill>
                <a:latin typeface="SymbolProp BT"/>
                <a:ea typeface="SymbolProp BT"/>
              </a:rPr>
              <a:t>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= 0.002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0.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617720" y="4853160"/>
            <a:ext cx="453492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FSR systematics=0.3%, two contrib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0.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ifference incl.-excl.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put an upper limit of 20% fo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odel of scalar Q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20% * 1% = 0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955840" y="389880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Prop BT"/>
                <a:ea typeface="SymbolProp BT"/>
              </a:rPr>
              <a:t>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= 0.2%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± 0.1%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533200" y="1876320"/>
            <a:ext cx="256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Rel. difference inclusive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94080" y="21225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exclusive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102320" y="1814400"/>
            <a:ext cx="296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Pion Formfactor (KLO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79240" y="295200"/>
            <a:ext cx="71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SR corrections: comparison of the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27520" y="4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543640" y="4511520"/>
            <a:ext cx="24843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609160" y="4449600"/>
            <a:ext cx="2470320" cy="292320"/>
            <a:chOff x="5609160" y="4449600"/>
            <a:chExt cx="2470320" cy="292320"/>
          </a:xfrm>
        </p:grpSpPr>
        <p:sp>
          <p:nvSpPr>
            <p:cNvPr id="881" name=""/>
            <p:cNvSpPr/>
            <p:nvPr/>
          </p:nvSpPr>
          <p:spPr>
            <a:xfrm>
              <a:off x="5609160" y="446544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ff"/>
                  </a:solidFill>
                  <a:latin typeface="Times New Roman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991480" y="445896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ff"/>
                  </a:solidFill>
                  <a:latin typeface="Times New Roman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06920" y="445896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ff"/>
                  </a:solidFill>
                  <a:latin typeface="Times New Roman"/>
                </a:rPr>
                <a:t>0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54760" y="445896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ff"/>
                  </a:solidFill>
                  <a:latin typeface="Times New Roman"/>
                </a:rPr>
                <a:t>0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81720" y="444960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ff"/>
                  </a:solidFill>
                  <a:latin typeface="Times New Roman"/>
                </a:rPr>
                <a:t>0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708320" y="444960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ff"/>
                  </a:solidFill>
                  <a:latin typeface="Times New Roman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5288040" y="3000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284800" y="1762200"/>
            <a:ext cx="173160" cy="28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094360" y="196524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92560" y="250344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1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08400" y="35622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0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113440" y="381492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0.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13440" y="4086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0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092560" y="434484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0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8400" y="32907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097600" y="276084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097600" y="223992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1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106960" y="17049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249880" y="2975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311120" y="24300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arge asymmetry: test of FS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4600" y="996840"/>
            <a:ext cx="7578720" cy="48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Times New Roman"/>
              </a:rPr>
              <a:t>At large Photon angles the amount of FSR is larg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st the model of </a:t>
            </a:r>
            <a:r>
              <a:rPr b="0" lang="de-DE" sz="2000" spc="-1" strike="noStrike">
                <a:solidFill>
                  <a:srgbClr val="0000ff"/>
                </a:solidFill>
                <a:latin typeface="Times New Roman"/>
              </a:rPr>
              <a:t>scalar QED (i.e. poinlike pions),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which usually i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ken for the radiation of photons from pions in MC 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ff"/>
                </a:solidFill>
                <a:latin typeface="Times New Roman"/>
              </a:rPr>
              <a:t>Measur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ff"/>
                </a:solidFill>
                <a:latin typeface="Times New Roman"/>
              </a:rPr>
              <a:t>Charge A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d compare data with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harge asymmetry is du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C-Parity of ISR-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FS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amplitu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liminary results in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plementary </a:t>
            </a:r>
            <a:r>
              <a:rPr b="0" lang="de-DE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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–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0" lang="de-DE" sz="1800" spc="-1" strike="noStrike">
                <a:solidFill>
                  <a:srgbClr val="0000ff"/>
                </a:solidFill>
                <a:latin typeface="Times New Roman"/>
              </a:rPr>
              <a:t>large photon angle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show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ood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 agreement of data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model of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 scalar Q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4371840" y="2419200"/>
            <a:ext cx="4042440" cy="3204360"/>
            <a:chOff x="4371840" y="2419200"/>
            <a:chExt cx="4042440" cy="3204360"/>
          </a:xfrm>
        </p:grpSpPr>
        <p:grpSp>
          <p:nvGrpSpPr>
            <p:cNvPr id="903" name=""/>
            <p:cNvGrpSpPr/>
            <p:nvPr/>
          </p:nvGrpSpPr>
          <p:grpSpPr>
            <a:xfrm>
              <a:off x="4371840" y="2419200"/>
              <a:ext cx="3994200" cy="3192480"/>
              <a:chOff x="4371840" y="2419200"/>
              <a:chExt cx="3994200" cy="3192480"/>
            </a:xfrm>
          </p:grpSpPr>
          <p:sp>
            <p:nvSpPr>
              <p:cNvPr id="904" name=""/>
              <p:cNvSpPr/>
              <p:nvPr/>
            </p:nvSpPr>
            <p:spPr>
              <a:xfrm>
                <a:off x="4371840" y="2419200"/>
                <a:ext cx="3994200" cy="319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05" name="asi_w" descr=""/>
              <p:cNvPicPr/>
              <p:nvPr/>
            </p:nvPicPr>
            <p:blipFill>
              <a:blip r:embed="rId1"/>
              <a:stretch/>
            </p:blipFill>
            <p:spPr>
              <a:xfrm>
                <a:off x="4678200" y="2565360"/>
                <a:ext cx="3581280" cy="26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6" name=""/>
              <p:cNvSpPr/>
              <p:nvPr/>
            </p:nvSpPr>
            <p:spPr>
              <a:xfrm>
                <a:off x="4571640" y="2757240"/>
                <a:ext cx="320760" cy="2387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765320" y="5170320"/>
                <a:ext cx="355608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4765320" y="50972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62000" y="50972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379560" y="50972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38080" y="509724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927200" y="509724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530960" y="480816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530960" y="428436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700520" y="3786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98640" y="2771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98640" y="3274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63680" y="257616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ff"/>
                  </a:solidFill>
                  <a:latin typeface="Times New Roman"/>
                </a:rPr>
                <a:t>Asymmetry [%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91120" y="5286240"/>
              <a:ext cx="142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ff"/>
                  </a:solidFill>
                  <a:latin typeface="Times New Roman"/>
                </a:rPr>
                <a:t>Polar Angle [°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109840" y="3174840"/>
              <a:ext cx="81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DE" sz="2000" spc="-1" strike="noStrike">
                  <a:solidFill>
                    <a:srgbClr val="ff0000"/>
                  </a:solidFill>
                  <a:latin typeface="Times New Roman"/>
                </a:rPr>
                <a:t>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681880" y="4721040"/>
              <a:ext cx="24210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Letter Gothic"/>
                </a:rPr>
                <a:t>K L O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Letter Gothic"/>
                </a:rPr>
                <a:t>P R E L I M I N A R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985680" y="2779560"/>
                <a:ext cx="22878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609480" y="1190520"/>
            <a:ext cx="4905360" cy="483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084320" y="304920"/>
            <a:ext cx="43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ross Section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</a:t>
            </a:r>
            <a:r>
              <a:rPr b="1" lang="en-US" sz="2800" spc="-1" strike="noStrike">
                <a:solidFill>
                  <a:srgbClr val="333399"/>
                </a:solidFill>
                <a:latin typeface="Times-Italic"/>
              </a:rPr>
              <a:t>e</a:t>
            </a:r>
            <a:r>
              <a:rPr b="1" lang="en-US" sz="2800" spc="-1" strike="noStrike" baseline="30000">
                <a:solidFill>
                  <a:srgbClr val="333399"/>
                </a:solidFill>
                <a:latin typeface="Times-Italic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Times-Italic"/>
              </a:rPr>
              <a:t>e</a:t>
            </a:r>
            <a:r>
              <a:rPr b="1" lang="en-US" sz="2800" spc="-1" strike="noStrike" baseline="30000">
                <a:solidFill>
                  <a:srgbClr val="333399"/>
                </a:solidFill>
                <a:latin typeface="Times-Italic"/>
              </a:rPr>
              <a:t>-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99"/>
                </a:solidFill>
                <a:latin typeface="Times-Italic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1" lang="en-US" sz="2800" spc="-1" strike="noStrike" baseline="30000">
                <a:solidFill>
                  <a:srgbClr val="333399"/>
                </a:solidFill>
                <a:latin typeface="Times-Italic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1" lang="en-US" sz="2800" spc="-1" strike="noStrike" baseline="30000">
                <a:solidFill>
                  <a:srgbClr val="333399"/>
                </a:solidFill>
                <a:latin typeface="Times-Italic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rosssection_pp_mtf" descr=""/>
          <p:cNvPicPr/>
          <p:nvPr/>
        </p:nvPicPr>
        <p:blipFill>
          <a:blip r:embed="rId1"/>
          <a:stretch/>
        </p:blipFill>
        <p:spPr>
          <a:xfrm>
            <a:off x="947880" y="1300320"/>
            <a:ext cx="4552920" cy="455292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5667480" y="1209600"/>
            <a:ext cx="3105000" cy="342900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5629320" y="3181320"/>
            <a:ext cx="3267000" cy="314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581800" y="4305240"/>
            <a:ext cx="3267000" cy="314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38680" y="4838760"/>
            <a:ext cx="321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740560" y="4957920"/>
            <a:ext cx="2885760" cy="398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OTAL ERROR    1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652000" y="5419800"/>
            <a:ext cx="31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o be compared the 0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MD-2 error: exp.+syst.+st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2" name=""/>
          <p:cNvGrpSpPr/>
          <p:nvPr/>
        </p:nvGrpSpPr>
        <p:grpSpPr>
          <a:xfrm>
            <a:off x="608760" y="3425760"/>
            <a:ext cx="7340400" cy="1264320"/>
            <a:chOff x="608760" y="3425760"/>
            <a:chExt cx="7340400" cy="1264320"/>
          </a:xfrm>
        </p:grpSpPr>
        <p:sp>
          <p:nvSpPr>
            <p:cNvPr id="933" name=""/>
            <p:cNvSpPr/>
            <p:nvPr/>
          </p:nvSpPr>
          <p:spPr>
            <a:xfrm>
              <a:off x="608760" y="3425760"/>
              <a:ext cx="734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de-DE" sz="2000" spc="-1" strike="noStrike">
                  <a:solidFill>
                    <a:srgbClr val="ff0000"/>
                  </a:solidFill>
                  <a:latin typeface="Times New Roman"/>
                </a:rPr>
                <a:t>Comparison with CMD-2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in the Energy Range </a:t>
              </a:r>
              <a:r>
                <a:rPr b="0" lang="de-DE" sz="2000" spc="-1" strike="noStrike">
                  <a:solidFill>
                    <a:srgbClr val="0000ff"/>
                  </a:solidFill>
                  <a:latin typeface="Times New Roman"/>
                </a:rPr>
                <a:t>0.37 &lt;</a:t>
              </a:r>
              <a:r>
                <a:rPr b="0" lang="de-DE" sz="2000" spc="-1" strike="noStrike">
                  <a:solidFill>
                    <a:srgbClr val="0000ff"/>
                  </a:solidFill>
                  <a:latin typeface="Times-Italic"/>
                </a:rPr>
                <a:t>s</a:t>
              </a:r>
              <a:r>
                <a:rPr b="0" lang="de-DE" sz="2000" spc="-1" strike="noStrike" baseline="-25000">
                  <a:solidFill>
                    <a:srgbClr val="0000ff"/>
                  </a:solidFill>
                  <a:latin typeface="SymbolProp BT"/>
                  <a:ea typeface="SymbolProp BT"/>
                </a:rPr>
                <a:t></a:t>
              </a:r>
              <a:r>
                <a:rPr b="0" lang="de-DE" sz="2000" spc="-1" strike="noStrike">
                  <a:solidFill>
                    <a:srgbClr val="0000ff"/>
                  </a:solidFill>
                  <a:latin typeface="Times New Roman"/>
                </a:rPr>
                <a:t>&lt;0.93 GeV</a:t>
              </a:r>
              <a:r>
                <a:rPr b="0" lang="de-DE" sz="20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30960" y="3848040"/>
              <a:ext cx="42375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Times-Italic"/>
                </a:rPr>
                <a:t>(375.6 </a:t>
              </a:r>
              <a:r>
                <a:rPr b="0" lang="en-US" sz="2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0000ff"/>
                  </a:solidFill>
                  <a:latin typeface="Times-Italic"/>
                </a:rPr>
                <a:t> 0.8</a:t>
              </a:r>
              <a:r>
                <a:rPr b="0" lang="en-US" sz="2200" spc="-1" strike="noStrike" baseline="-25000">
                  <a:solidFill>
                    <a:srgbClr val="0000ff"/>
                  </a:solidFill>
                  <a:latin typeface="Times-Italic"/>
                </a:rPr>
                <a:t>stat</a:t>
              </a:r>
              <a:r>
                <a:rPr b="0" lang="en-US" sz="2200" spc="-1" strike="noStrike">
                  <a:solidFill>
                    <a:srgbClr val="0000ff"/>
                  </a:solidFill>
                  <a:latin typeface="Times-Italic"/>
                </a:rPr>
                <a:t> </a:t>
              </a:r>
              <a:r>
                <a:rPr b="0" lang="en-US" sz="2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0000ff"/>
                  </a:solidFill>
                  <a:latin typeface="Times-Italic"/>
                </a:rPr>
                <a:t> 4.9</a:t>
              </a:r>
              <a:r>
                <a:rPr b="0" lang="en-US" sz="2200" spc="-1" strike="noStrike" baseline="-25000">
                  <a:solidFill>
                    <a:srgbClr val="0000ff"/>
                  </a:solidFill>
                  <a:latin typeface="Times-Italic"/>
                </a:rPr>
                <a:t>syst+theo</a:t>
              </a:r>
              <a:r>
                <a:rPr b="0" lang="en-US" sz="2200" spc="-1" strike="noStrike">
                  <a:solidFill>
                    <a:srgbClr val="0000ff"/>
                  </a:solidFill>
                  <a:latin typeface="Times-Italic"/>
                </a:rPr>
                <a:t>) 10</a:t>
              </a:r>
              <a:r>
                <a:rPr b="0" lang="en-US" sz="2200" spc="-1" strike="noStrike" baseline="30000">
                  <a:solidFill>
                    <a:srgbClr val="0000ff"/>
                  </a:solidFill>
                  <a:latin typeface="Times-Italic"/>
                </a:rPr>
                <a:t>-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828080" y="4214880"/>
              <a:ext cx="42375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-Italic"/>
                </a:rPr>
                <a:t>(378.6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-Italic"/>
                </a:rPr>
                <a:t> 2.7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-Italic"/>
                </a:rPr>
                <a:t>stat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-Italic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-Italic"/>
                </a:rPr>
                <a:t> 2.3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-Italic"/>
                </a:rPr>
                <a:t>syst+theo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-Italic"/>
                </a:rPr>
                <a:t>)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-Italic"/>
                </a:rPr>
                <a:t>-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38600" y="3863880"/>
              <a:ext cx="872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Times-Italic"/>
                </a:rPr>
                <a:t>KLO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965880" y="4241880"/>
              <a:ext cx="974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-Italic"/>
                </a:rPr>
                <a:t>CMD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235920" y="388296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cc"/>
                  </a:solidFill>
                  <a:latin typeface="Times-Italic"/>
                </a:rPr>
                <a:t>1.3</a:t>
              </a:r>
              <a:r>
                <a:rPr b="0" lang="de-DE" sz="2000" spc="-1" strike="noStrike">
                  <a:solidFill>
                    <a:srgbClr val="3333cc"/>
                  </a:solidFill>
                  <a:latin typeface="Times New Roman"/>
                </a:rPr>
                <a:t>% </a:t>
              </a:r>
              <a:r>
                <a:rPr b="0" i="1" lang="de-DE" sz="2000" spc="-1" strike="noStrike">
                  <a:solidFill>
                    <a:srgbClr val="3333cc"/>
                  </a:solidFill>
                  <a:latin typeface="Times New Roman"/>
                </a:rPr>
                <a:t>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18640" y="42163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-Italic"/>
                </a:rPr>
                <a:t>0.9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%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1066680" y="2438280"/>
            <a:ext cx="5742000" cy="810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-Italic"/>
              </a:rPr>
              <a:t>a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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lang="en-US" sz="2200" spc="-1" strike="noStrike">
                <a:solidFill>
                  <a:srgbClr val="ff0000"/>
                </a:solidFill>
                <a:latin typeface="Times-Italic"/>
              </a:rPr>
              <a:t>388.7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ff0000"/>
                </a:solidFill>
                <a:latin typeface="Times-Italic"/>
              </a:rPr>
              <a:t> 0.8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-Italic"/>
              </a:rPr>
              <a:t>stat</a:t>
            </a:r>
            <a:r>
              <a:rPr b="1" lang="en-US" sz="2200" spc="-1" strike="noStrike">
                <a:solidFill>
                  <a:srgbClr val="ff0000"/>
                </a:solidFill>
                <a:latin typeface="Times-Italic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ff0000"/>
                </a:solidFill>
                <a:latin typeface="Times-Italic"/>
              </a:rPr>
              <a:t> 3.5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-Italic"/>
              </a:rPr>
              <a:t>syst</a:t>
            </a:r>
            <a:r>
              <a:rPr b="1" lang="en-US" sz="2200" spc="-1" strike="noStrike">
                <a:solidFill>
                  <a:srgbClr val="ff0000"/>
                </a:solidFill>
                <a:latin typeface="Times-Italic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ff0000"/>
                </a:solidFill>
                <a:latin typeface="Times-Italic"/>
              </a:rPr>
              <a:t> 3.5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-Italic"/>
              </a:rPr>
              <a:t>theo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ff0000"/>
                </a:solidFill>
                <a:latin typeface="Times-Italic"/>
              </a:rPr>
              <a:t>1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Times-Italic"/>
              </a:rPr>
              <a:t>-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42760" y="295200"/>
            <a:ext cx="380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tribution to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SymbolProp BT"/>
                <a:ea typeface="SymbolProp BT"/>
              </a:rPr>
              <a:t></a:t>
            </a:r>
            <a:r>
              <a:rPr b="0" i="1" lang="en-US" sz="2800" spc="-1" strike="noStrike" baseline="30000">
                <a:solidFill>
                  <a:srgbClr val="333399"/>
                </a:solidFill>
                <a:latin typeface="Times New Roman"/>
              </a:rPr>
              <a:t>had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5880" y="1436760"/>
            <a:ext cx="738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 have evaluated the </a:t>
            </a: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Dispersions Integral for the 2-Pion-Channel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 the Energy Range </a:t>
            </a:r>
            <a:r>
              <a:rPr b="0" lang="de-DE" sz="2000" spc="-1" strike="noStrike">
                <a:solidFill>
                  <a:srgbClr val="0000ff"/>
                </a:solidFill>
                <a:latin typeface="Times New Roman"/>
              </a:rPr>
              <a:t>0.35 &lt;</a:t>
            </a:r>
            <a:r>
              <a:rPr b="0" lang="de-DE" sz="2000" spc="-1" strike="noStrike">
                <a:solidFill>
                  <a:srgbClr val="0000ff"/>
                </a:solidFill>
                <a:latin typeface="Times-Italic"/>
              </a:rPr>
              <a:t>s</a:t>
            </a:r>
            <a:r>
              <a:rPr b="0" lang="de-DE" sz="2000" spc="-1" strike="noStrike" baseline="-25000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de-DE" sz="2000" spc="-1" strike="noStrike">
                <a:solidFill>
                  <a:srgbClr val="0000ff"/>
                </a:solidFill>
                <a:latin typeface="Times New Roman"/>
              </a:rPr>
              <a:t>&lt;0.95 GeV</a:t>
            </a:r>
            <a:r>
              <a:rPr b="0" lang="de-DE" sz="20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1216800" y="0"/>
            <a:ext cx="7946280" cy="6013080"/>
            <a:chOff x="1216800" y="0"/>
            <a:chExt cx="7946280" cy="6013080"/>
          </a:xfrm>
        </p:grpSpPr>
        <p:sp>
          <p:nvSpPr>
            <p:cNvPr id="944" name=""/>
            <p:cNvSpPr/>
            <p:nvPr/>
          </p:nvSpPr>
          <p:spPr>
            <a:xfrm>
              <a:off x="1216800" y="4962600"/>
              <a:ext cx="758700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t large values of s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(&gt;m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) we are consistent with CMD and ther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de-DE" sz="2000" spc="-1" strike="noStrike">
                  <a:solidFill>
                    <a:srgbClr val="cc0000"/>
                  </a:solidFill>
                  <a:latin typeface="Times New Roman"/>
                </a:rPr>
                <a:t>we confirm the  </a:t>
              </a:r>
              <a:r>
                <a:rPr b="0" lang="de-DE" sz="2000" spc="-1" strike="noStrike">
                  <a:solidFill>
                    <a:srgbClr val="ff0000"/>
                  </a:solidFill>
                  <a:latin typeface="Times New Roman"/>
                </a:rPr>
                <a:t>deviation from </a:t>
              </a:r>
              <a:r>
                <a:rPr b="0" lang="de-DE" sz="2000" spc="-1" strike="noStrike">
                  <a:solidFill>
                    <a:srgbClr val="ff0000"/>
                  </a:solidFill>
                  <a:latin typeface="SymbolProp BT"/>
                  <a:ea typeface="SymbolProp BT"/>
                </a:rPr>
                <a:t></a:t>
              </a:r>
              <a:r>
                <a:rPr b="0" lang="de-DE" sz="2000" spc="-1" strike="noStrike">
                  <a:solidFill>
                    <a:srgbClr val="ff0000"/>
                  </a:solidFill>
                  <a:latin typeface="Times New Roman"/>
                </a:rPr>
                <a:t>-data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4645080" y="0"/>
              <a:ext cx="4518000" cy="4775400"/>
              <a:chOff x="4645080" y="0"/>
              <a:chExt cx="4518000" cy="4775400"/>
            </a:xfrm>
          </p:grpSpPr>
          <p:sp>
            <p:nvSpPr>
              <p:cNvPr id="946" name=""/>
              <p:cNvSpPr/>
              <p:nvPr/>
            </p:nvSpPr>
            <p:spPr>
              <a:xfrm>
                <a:off x="4645080" y="0"/>
                <a:ext cx="4498920" cy="47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47" name="kloe_vs_cmd2_new_mtf" descr=""/>
              <p:cNvPicPr/>
              <p:nvPr/>
            </p:nvPicPr>
            <p:blipFill>
              <a:blip r:embed="rId1"/>
              <a:stretch/>
            </p:blipFill>
            <p:spPr>
              <a:xfrm>
                <a:off x="5054040" y="424800"/>
                <a:ext cx="3857400" cy="387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8" name=""/>
              <p:cNvSpPr/>
              <p:nvPr/>
            </p:nvSpPr>
            <p:spPr>
              <a:xfrm>
                <a:off x="6109920" y="125640"/>
                <a:ext cx="200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ff"/>
                    </a:solidFill>
                    <a:latin typeface="Times New Roman"/>
                  </a:rPr>
                  <a:t>Pion Formfa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526880" y="851040"/>
                <a:ext cx="973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CMD-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ff0000"/>
                    </a:solidFill>
                    <a:latin typeface="Times New Roman"/>
                  </a:rPr>
                  <a:t>KLO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8240" y="4216320"/>
                <a:ext cx="377856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5537160" y="4206960"/>
                <a:ext cx="3175920" cy="277560"/>
                <a:chOff x="5537160" y="4206960"/>
                <a:chExt cx="3175920" cy="27756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6760800" y="4206960"/>
                  <a:ext cx="765360" cy="13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5537160" y="4208040"/>
                  <a:ext cx="371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ff"/>
                      </a:solidFill>
                      <a:latin typeface="Times New Roman"/>
                    </a:rPr>
                    <a:t>0.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114600" y="4208040"/>
                  <a:ext cx="371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ff"/>
                      </a:solidFill>
                      <a:latin typeface="Times New Roman"/>
                    </a:rPr>
                    <a:t>0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679080" y="4208040"/>
                  <a:ext cx="371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ff"/>
                      </a:solidFill>
                      <a:latin typeface="Times New Roman"/>
                    </a:rPr>
                    <a:t>0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245360" y="4208040"/>
                  <a:ext cx="371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ff"/>
                      </a:solidFill>
                      <a:latin typeface="Times New Roman"/>
                    </a:rPr>
                    <a:t>0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817040" y="4208040"/>
                  <a:ext cx="371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ff"/>
                      </a:solidFill>
                      <a:latin typeface="Times New Roman"/>
                    </a:rPr>
                    <a:t>0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8341920" y="4208040"/>
                  <a:ext cx="371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ff"/>
                      </a:solidFill>
                      <a:latin typeface="Times New Roman"/>
                    </a:rPr>
                    <a:t>0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9" name=""/>
              <p:cNvSpPr/>
              <p:nvPr/>
            </p:nvSpPr>
            <p:spPr>
              <a:xfrm>
                <a:off x="8212680" y="4404600"/>
                <a:ext cx="950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de-DE" sz="1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 [GeV</a:t>
                </a:r>
                <a:r>
                  <a:rPr b="0" lang="de-DE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946040" y="358200"/>
                <a:ext cx="242280" cy="391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18320" y="70956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ff"/>
                    </a:solidFill>
                    <a:latin typeface="Times New Roman"/>
                  </a:rPr>
                  <a:t>4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918320" y="10818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ff"/>
                    </a:solidFill>
                    <a:latin typeface="Times New Roman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918320" y="14558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ff"/>
                    </a:solidFill>
                    <a:latin typeface="Times New Roman"/>
                  </a:rPr>
                  <a:t>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918320" y="182952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ff"/>
                    </a:solidFill>
                    <a:latin typeface="Times New Roman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918320" y="220716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ff"/>
                    </a:solidFill>
                    <a:latin typeface="Times New Roman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918320" y="25750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ff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918320" y="29516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ff"/>
                    </a:solidFill>
                    <a:latin typeface="Times New Roman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918320" y="33210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ff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987080" y="3696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918320" y="33732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ff"/>
                    </a:solidFill>
                    <a:latin typeface="Times New Roman"/>
                  </a:rPr>
                  <a:t>4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987080" y="40698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ff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 rot="19846800">
              <a:off x="6687720" y="1920960"/>
              <a:ext cx="1208160" cy="27036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182960" y="243000"/>
            <a:ext cx="20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2122560" y="1481040"/>
            <a:ext cx="5571720" cy="4510080"/>
            <a:chOff x="2122560" y="1481040"/>
            <a:chExt cx="5571720" cy="4510080"/>
          </a:xfrm>
        </p:grpSpPr>
        <p:sp>
          <p:nvSpPr>
            <p:cNvPr id="975" name=""/>
            <p:cNvSpPr/>
            <p:nvPr/>
          </p:nvSpPr>
          <p:spPr>
            <a:xfrm>
              <a:off x="2122560" y="1481040"/>
              <a:ext cx="5571720" cy="45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6" name="g-2_new_mtf" descr=""/>
            <p:cNvPicPr/>
            <p:nvPr/>
          </p:nvPicPr>
          <p:blipFill>
            <a:blip r:embed="rId1"/>
            <a:stretch/>
          </p:blipFill>
          <p:spPr>
            <a:xfrm>
              <a:off x="2703600" y="1746000"/>
              <a:ext cx="4420800" cy="414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7" name=""/>
          <p:cNvSpPr/>
          <p:nvPr/>
        </p:nvSpPr>
        <p:spPr>
          <a:xfrm>
            <a:off x="789480" y="1143000"/>
            <a:ext cx="809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00"/>
                </a:solidFill>
                <a:latin typeface="Times New Roman"/>
              </a:rPr>
              <a:t>KLOE has confirmed a </a:t>
            </a:r>
            <a:r>
              <a:rPr b="0" lang="de-DE" sz="2000" spc="-1" strike="noStrike">
                <a:solidFill>
                  <a:srgbClr val="cc0000"/>
                </a:solidFill>
                <a:latin typeface="Symbol"/>
                <a:ea typeface="Symbol"/>
              </a:rPr>
              <a:t></a:t>
            </a:r>
            <a:r>
              <a:rPr b="0" lang="de-DE" sz="2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de-DE" sz="20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de-DE" sz="2000" spc="-1" strike="noStrike">
                <a:solidFill>
                  <a:srgbClr val="cc0000"/>
                </a:solidFill>
                <a:latin typeface="Times New Roman"/>
              </a:rPr>
              <a:t> deviation btw. theory and experiment for (g-2)</a:t>
            </a:r>
            <a:r>
              <a:rPr b="0" lang="de-DE" sz="20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cc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376840" y="4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83640" y="3686040"/>
            <a:ext cx="4879080" cy="2028960"/>
            <a:chOff x="683640" y="3686040"/>
            <a:chExt cx="4879080" cy="2028960"/>
          </a:xfrm>
        </p:grpSpPr>
        <p:grpSp>
          <p:nvGrpSpPr>
            <p:cNvPr id="980" name=""/>
            <p:cNvGrpSpPr/>
            <p:nvPr/>
          </p:nvGrpSpPr>
          <p:grpSpPr>
            <a:xfrm>
              <a:off x="683640" y="3686040"/>
              <a:ext cx="4329360" cy="825480"/>
              <a:chOff x="683640" y="3686040"/>
              <a:chExt cx="4329360" cy="825480"/>
            </a:xfrm>
          </p:grpSpPr>
          <p:grpSp>
            <p:nvGrpSpPr>
              <p:cNvPr id="981" name=""/>
              <p:cNvGrpSpPr/>
              <p:nvPr/>
            </p:nvGrpSpPr>
            <p:grpSpPr>
              <a:xfrm>
                <a:off x="4419720" y="4006800"/>
                <a:ext cx="593280" cy="141480"/>
                <a:chOff x="4419720" y="4006800"/>
                <a:chExt cx="593280" cy="14148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4671360" y="4035960"/>
                  <a:ext cx="83880" cy="82440"/>
                </a:xfrm>
                <a:prstGeom prst="ellipse">
                  <a:avLst/>
                </a:prstGeom>
                <a:solidFill>
                  <a:srgbClr val="00e4a8"/>
                </a:solidFill>
                <a:ln w="19080">
                  <a:solidFill>
                    <a:srgbClr val="ffc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V="1">
                  <a:off x="4755600" y="4068360"/>
                  <a:ext cx="257400" cy="2880"/>
                </a:xfrm>
                <a:prstGeom prst="line">
                  <a:avLst/>
                </a:prstGeom>
                <a:ln w="19080">
                  <a:solidFill>
                    <a:srgbClr val="ffc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V="1">
                  <a:off x="4422600" y="4077360"/>
                  <a:ext cx="248760" cy="2520"/>
                </a:xfrm>
                <a:prstGeom prst="line">
                  <a:avLst/>
                </a:prstGeom>
                <a:ln w="19080">
                  <a:solidFill>
                    <a:srgbClr val="ffc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007240" y="4006800"/>
                  <a:ext cx="0" cy="141480"/>
                </a:xfrm>
                <a:prstGeom prst="line">
                  <a:avLst/>
                </a:prstGeom>
                <a:ln w="19080">
                  <a:solidFill>
                    <a:srgbClr val="ffc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419720" y="4006800"/>
                  <a:ext cx="0" cy="141480"/>
                </a:xfrm>
                <a:prstGeom prst="line">
                  <a:avLst/>
                </a:prstGeom>
                <a:ln w="19080">
                  <a:solidFill>
                    <a:srgbClr val="ffc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683640" y="3686040"/>
                <a:ext cx="1747440" cy="8254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cf01"/>
                    </a:solidFill>
                    <a:latin typeface="Times New Roman"/>
                  </a:rPr>
                  <a:t>Including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cf01"/>
                    </a:solidFill>
                    <a:latin typeface="Times New Roman"/>
                  </a:rPr>
                  <a:t>KLOE resul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001960" y="4029120"/>
                <a:ext cx="2444760" cy="339840"/>
              </a:xfrm>
              <a:prstGeom prst="line">
                <a:avLst/>
              </a:prstGeom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4446720" y="4187880"/>
                <a:ext cx="203040" cy="187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 txBox="1"/>
            <p:nvPr/>
          </p:nvSpPr>
          <p:spPr>
            <a:xfrm>
              <a:off x="3124080" y="4038480"/>
              <a:ext cx="2438640" cy="16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e4a8">
                      <a:alpha val="50000"/>
                    </a:srgbClr>
                  </a:solidFill>
                  <a:latin typeface="Arial Black"/>
                </a:rPr>
                <a:t>Preliminary</a:t>
              </a:r>
              <a:endParaRPr b="0" lang="en-US" sz="2400" spc="1" strike="noStrike">
                <a:ln w="0">
                  <a:noFill/>
                </a:ln>
                <a:solidFill>
                  <a:srgbClr val="00e4a8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943920" y="214200"/>
            <a:ext cx="50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clusions  </a:t>
            </a:r>
            <a:r>
              <a:rPr b="0" lang="en-US" sz="3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</a:t>
            </a:r>
            <a:r>
              <a:rPr b="0" lang="en-US" sz="3600" spc="-1" strike="noStrike">
                <a:solidFill>
                  <a:srgbClr val="000000"/>
                </a:solidFill>
                <a:latin typeface="Times-Italic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-Italic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-Italic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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-Italic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11040" y="1371600"/>
            <a:ext cx="868068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LOE has measured </a:t>
            </a:r>
            <a:r>
              <a:rPr b="0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 with 1.3% precis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e analysis is finished and we are going to publish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LOE confirms a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 - devia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between the experimen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d the theoretical value for the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 well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10% discrepanc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data above th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peak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 expect to reduce the systematic error well below 1%,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y repeating the analysis with 2002 data. Improvemen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rom theory are also expected in the next future (now ou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eoretical error on luminosity is 0.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alysis with the photon at large angle (to study the reg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ar the threshold) is in progress. See next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3776760" y="2760840"/>
            <a:ext cx="5197320" cy="31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3800160" y="2786040"/>
            <a:ext cx="5054760" cy="3016800"/>
            <a:chOff x="3800160" y="2786040"/>
            <a:chExt cx="5054760" cy="3016800"/>
          </a:xfrm>
        </p:grpSpPr>
        <p:pic>
          <p:nvPicPr>
            <p:cNvPr id="995" name="" descr=""/>
            <p:cNvPicPr/>
            <p:nvPr/>
          </p:nvPicPr>
          <p:blipFill>
            <a:blip r:embed="rId1"/>
            <a:srcRect l="9007" t="32219" r="23275" b="40976"/>
            <a:stretch/>
          </p:blipFill>
          <p:spPr>
            <a:xfrm>
              <a:off x="4448160" y="2936880"/>
              <a:ext cx="440676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7219080" y="4880160"/>
              <a:ext cx="155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Me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957560" y="54039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359240" y="54039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118200" y="54039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33920" y="54039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281720" y="54039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8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707160" y="54039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856640" y="54039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800160" y="4579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00160" y="39816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00160" y="33814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3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00160" y="27860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846000" y="76320"/>
            <a:ext cx="723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</a:t>
            </a:r>
            <a:r>
              <a:rPr b="0" lang="en-US" sz="2800" spc="-1" strike="noStrike">
                <a:solidFill>
                  <a:srgbClr val="000000"/>
                </a:solidFill>
                <a:latin typeface="Times-Italic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-Italic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-Italic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wn to the threshold</a:t>
            </a:r>
            <a:r>
              <a:rPr b="0" lang="en-US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33520" y="1217520"/>
            <a:ext cx="8207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easure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 in the region close to threshold, M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&lt; 600 MeV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sponsible for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% of </a:t>
            </a:r>
            <a:r>
              <a:rPr b="1" lang="en-US" sz="2000" spc="-1" strike="noStrike">
                <a:solidFill>
                  <a:srgbClr val="ff0000"/>
                </a:solidFill>
                <a:latin typeface="Times-Italic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Prop BT"/>
                <a:ea typeface="SymbolProp BT"/>
              </a:rPr>
              <a:t></a:t>
            </a:r>
            <a:r>
              <a:rPr b="1" lang="en-US" sz="20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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regio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xclu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angular selection i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mall angle photon approach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mplementary Analysis at </a:t>
            </a:r>
            <a:r>
              <a:rPr b="0" lang="de-DE" sz="2000" spc="-1" strike="noStrike">
                <a:solidFill>
                  <a:srgbClr val="0000ff"/>
                </a:solidFill>
                <a:latin typeface="Times New Roman"/>
              </a:rPr>
              <a:t>large photo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523760" y="29433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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831560" y="3816360"/>
            <a:ext cx="163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2002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70000"/>
                </a:solidFill>
                <a:latin typeface="Times New Roman"/>
              </a:rPr>
              <a:t>ISR+FSR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678200" y="39844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602240" y="428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66560" y="3024360"/>
            <a:ext cx="3148200" cy="24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24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u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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24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rge FSR-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24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hoton-Tagging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vestigate the pos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f an R-measurement, i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rmalization to 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tribution to the uncertainty on a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365720" y="2057400"/>
          <a:ext cx="4383000" cy="36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5720" y="2057400"/>
                    <a:ext cx="438300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699160" y="46483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17040" y="228600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6640" y="380988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d (LO+N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96840" y="335268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23040" y="281952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85560" y="1600200"/>
            <a:ext cx="287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ibution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5800" y="2057400"/>
            <a:ext cx="2285640" cy="1295280"/>
            <a:chOff x="685800" y="2057400"/>
            <a:chExt cx="2285640" cy="1295280"/>
          </a:xfrm>
        </p:grpSpPr>
        <p:grpSp>
          <p:nvGrpSpPr>
            <p:cNvPr id="156" name=""/>
            <p:cNvGrpSpPr/>
            <p:nvPr/>
          </p:nvGrpSpPr>
          <p:grpSpPr>
            <a:xfrm>
              <a:off x="1022760" y="2138040"/>
              <a:ext cx="1667520" cy="1167840"/>
              <a:chOff x="1022760" y="2138040"/>
              <a:chExt cx="1667520" cy="1167840"/>
            </a:xfrm>
          </p:grpSpPr>
          <p:pic>
            <p:nvPicPr>
              <p:cNvPr id="1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22760" y="3200040"/>
                <a:ext cx="1667520" cy="10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2760" y="3093840"/>
                <a:ext cx="166752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022760" y="2988360"/>
                <a:ext cx="1667520" cy="1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022760" y="2881800"/>
                <a:ext cx="166752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022760" y="2775600"/>
                <a:ext cx="1667520" cy="10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022760" y="2669400"/>
                <a:ext cx="166752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022760" y="2562840"/>
                <a:ext cx="166752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22760" y="2456640"/>
                <a:ext cx="1667520" cy="10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22760" y="2350440"/>
                <a:ext cx="166752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022760" y="2243880"/>
                <a:ext cx="166752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22760" y="2138040"/>
                <a:ext cx="1667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"/>
            <p:cNvSpPr/>
            <p:nvPr/>
          </p:nvSpPr>
          <p:spPr>
            <a:xfrm>
              <a:off x="2484360" y="2057400"/>
              <a:ext cx="4870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" y="2057400"/>
              <a:ext cx="4870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18040" y="1252440"/>
            <a:ext cx="4649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largest contribution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 a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ahoma"/>
              </a:rPr>
              <a:t>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4"/>
          <a:srcRect l="16310" t="44166" r="16652" b="43194"/>
          <a:stretch/>
        </p:blipFill>
        <p:spPr>
          <a:xfrm>
            <a:off x="914400" y="3429000"/>
            <a:ext cx="3429000" cy="458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7320" y="4419720"/>
            <a:ext cx="40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(S)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1/s; it emphasize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ole of low energies; particu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mportant is the reaction 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below 1 G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1" idx="1"/>
          </p:cNvCxnSpPr>
          <p:nvPr/>
        </p:nvCxnSpPr>
        <p:spPr>
          <a:xfrm flipH="1" flipV="1" rot="10800000">
            <a:off x="913320" y="3657960"/>
            <a:ext cx="3353400" cy="608760"/>
          </a:xfrm>
          <a:prstGeom prst="bentConnector3">
            <a:avLst>
              <a:gd name="adj1" fmla="val -68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8320320" y="563868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adronic contributions to a</a:t>
            </a:r>
            <a:r>
              <a:rPr b="0" lang="en-GB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h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0320" y="977760"/>
            <a:ext cx="7710480" cy="734040"/>
            <a:chOff x="760320" y="977760"/>
            <a:chExt cx="7710480" cy="734040"/>
          </a:xfrm>
        </p:grpSpPr>
        <p:sp>
          <p:nvSpPr>
            <p:cNvPr id="177" name=""/>
            <p:cNvSpPr/>
            <p:nvPr/>
          </p:nvSpPr>
          <p:spPr>
            <a:xfrm>
              <a:off x="7647120" y="977760"/>
              <a:ext cx="82368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 - 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00960" y="977760"/>
              <a:ext cx="1046160" cy="30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 - 12 (+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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5520" y="977760"/>
              <a:ext cx="14954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3.7 - 5 (+J/</a:t>
              </a:r>
              <a:r>
                <a:rPr b="1" lang="en-US" sz="1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</a:t>
              </a: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, </a:t>
              </a:r>
              <a:r>
                <a:rPr b="1" lang="en-US" sz="1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</a:t>
              </a: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06960" y="977760"/>
              <a:ext cx="898560" cy="307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77777"/>
                  </a:solidFill>
                  <a:latin typeface="Arial"/>
                </a:rPr>
                <a:t>1.8 - 3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13080" y="977760"/>
              <a:ext cx="673200" cy="30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0000" y="977760"/>
              <a:ext cx="973080" cy="307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(+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6800" y="977760"/>
              <a:ext cx="673200" cy="307080"/>
            </a:xfrm>
            <a:prstGeom prst="rect">
              <a:avLst/>
            </a:prstGeom>
            <a:gradFill rotWithShape="0">
              <a:gsLst>
                <a:gs pos="0">
                  <a:srgbClr val="0000a0"/>
                </a:gs>
                <a:gs pos="50000">
                  <a:srgbClr val="0000ff"/>
                </a:gs>
                <a:gs pos="100000">
                  <a:srgbClr val="0000a0"/>
                </a:gs>
              </a:gsLst>
              <a:lin ang="13500000"/>
            </a:gra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86280" y="977760"/>
              <a:ext cx="1120680" cy="307080"/>
            </a:xfrm>
            <a:prstGeom prst="rect">
              <a:avLst/>
            </a:prstGeom>
            <a:solidFill>
              <a:srgbClr val="b1ffd8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77777"/>
                  </a:solidFill>
                  <a:latin typeface="Arial"/>
                </a:rPr>
                <a:t>&gt; 4</a:t>
              </a:r>
              <a:r>
                <a:rPr b="1" lang="en-US" sz="14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</a:t>
              </a:r>
              <a:r>
                <a:rPr b="1" lang="en-US" sz="1400" spc="-1" strike="noStrike">
                  <a:solidFill>
                    <a:srgbClr val="777777"/>
                  </a:solidFill>
                  <a:latin typeface="Arial"/>
                </a:rPr>
                <a:t> (+K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2412720" y="-370440"/>
              <a:ext cx="133560" cy="3438720"/>
            </a:xfrm>
            <a:custGeom>
              <a:avLst/>
              <a:gdLst>
                <a:gd name="textAreaLeft" fmla="*/ 85320 w 133560"/>
                <a:gd name="textAreaRight" fmla="*/ 133920 w 133560"/>
                <a:gd name="textAreaTop" fmla="*/ 89640 h 3438720"/>
                <a:gd name="textAreaBottom" fmla="*/ 3349080 h 343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11400" y="1404720"/>
              <a:ext cx="11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&lt; 1.8 Ge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873000" y="1803240"/>
            <a:ext cx="7678800" cy="431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19080" y="1881360"/>
          <a:ext cx="6659640" cy="207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1881360"/>
                    <a:ext cx="665964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984240" y="3662280"/>
          <a:ext cx="5284800" cy="27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4240" y="3662280"/>
                    <a:ext cx="528480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979560" y="1890720"/>
            <a:ext cx="9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-Italic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-Italic"/>
              </a:rPr>
              <a:t>h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040" y="4156200"/>
            <a:ext cx="100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imes-Italic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-Italic"/>
              </a:rPr>
              <a:t>had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53520" y="239868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&lt;1.8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90240" y="443232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&lt;1.8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06560" y="5016600"/>
            <a:ext cx="412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33920" y="2838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13280" y="1297080"/>
            <a:ext cx="27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lculations based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vier, Eidelman, Höcker, Zh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44760" y="57452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-Italic"/>
              </a:rPr>
              <a:t>e+e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ata on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99000" y="2176560"/>
            <a:ext cx="4238640" cy="1702080"/>
            <a:chOff x="4599000" y="2176560"/>
            <a:chExt cx="4238640" cy="1702080"/>
          </a:xfrm>
        </p:grpSpPr>
        <p:sp>
          <p:nvSpPr>
            <p:cNvPr id="201" name=""/>
            <p:cNvSpPr/>
            <p:nvPr/>
          </p:nvSpPr>
          <p:spPr>
            <a:xfrm flipH="1">
              <a:off x="4941360" y="2289240"/>
              <a:ext cx="155880" cy="630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599000" y="2176560"/>
              <a:ext cx="4238640" cy="1702080"/>
              <a:chOff x="4599000" y="2176560"/>
              <a:chExt cx="4238640" cy="1702080"/>
            </a:xfrm>
          </p:grpSpPr>
          <p:sp>
            <p:nvSpPr>
              <p:cNvPr id="203" name=""/>
              <p:cNvSpPr/>
              <p:nvPr/>
            </p:nvSpPr>
            <p:spPr>
              <a:xfrm>
                <a:off x="5948280" y="2176560"/>
                <a:ext cx="2889360" cy="170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 contrib.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Times-Italic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Times-Italic"/>
                  </a:rPr>
                  <a:t>had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Times-Italic"/>
                  </a:rPr>
                  <a:t>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    </a:t>
                </a:r>
                <a:r>
                  <a:rPr b="0" lang="en-US" sz="2000" spc="-1" strike="noStrike">
                    <a:solidFill>
                      <a:srgbClr val="cc0066"/>
                    </a:solidFill>
                    <a:latin typeface="Times New Roman"/>
                  </a:rPr>
                  <a:t>8%  [2m</a:t>
                </a:r>
                <a:r>
                  <a:rPr b="0" lang="en-US" sz="2000" spc="-1" strike="noStrike" baseline="-25000">
                    <a:solidFill>
                      <a:srgbClr val="cc0066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0" lang="en-US" sz="2000" spc="-1" strike="noStrike">
                    <a:solidFill>
                      <a:srgbClr val="cc0066"/>
                    </a:solidFill>
                    <a:latin typeface="Times New Roman"/>
                  </a:rPr>
                  <a:t> - 0.5 GeV]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66"/>
                    </a:solidFill>
                    <a:latin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cc0066"/>
                    </a:solidFill>
                    <a:latin typeface="Times New Roman"/>
                  </a:rPr>
                  <a:t>54%  [0.6 - 1.0 GeV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66"/>
                    </a:solidFill>
                    <a:latin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cc0066"/>
                    </a:solidFill>
                    <a:latin typeface="Times New Roman"/>
                  </a:rPr>
                  <a:t>10%  [Rest&lt;1.8 GeV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4599000" y="2936880"/>
                <a:ext cx="333360" cy="528480"/>
              </a:xfrm>
              <a:prstGeom prst="line">
                <a:avLst/>
              </a:prstGeom>
              <a:ln cap="rnd" w="381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019840" y="2803680"/>
                <a:ext cx="31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SymbolProp BT"/>
                    <a:ea typeface="SymbolProp BT"/>
                  </a:rPr>
                  <a:t>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5808000">
                <a:off x="5478480" y="2079360"/>
                <a:ext cx="317520" cy="1187280"/>
              </a:xfrm>
              <a:custGeom>
                <a:avLst/>
                <a:gdLst>
                  <a:gd name="textAreaLeft" fmla="*/ 42480 w 317520"/>
                  <a:gd name="textAreaRight" fmla="*/ 275040 w 317520"/>
                  <a:gd name="textAreaTop" fmla="*/ 207720 h 1187280"/>
                  <a:gd name="textAreaBottom" fmla="*/ 860760 h 11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cc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4463640" y="4211640"/>
            <a:ext cx="4160160" cy="1856880"/>
            <a:chOff x="4463640" y="4211640"/>
            <a:chExt cx="4160160" cy="1856880"/>
          </a:xfrm>
        </p:grpSpPr>
        <p:sp>
          <p:nvSpPr>
            <p:cNvPr id="208" name=""/>
            <p:cNvSpPr/>
            <p:nvPr/>
          </p:nvSpPr>
          <p:spPr>
            <a:xfrm>
              <a:off x="5960520" y="4211640"/>
              <a:ext cx="2663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contrib.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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-Italic"/>
                </a:rPr>
                <a:t>a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Times-Italic"/>
                </a:rPr>
                <a:t>had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-Italic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cc0066"/>
                  </a:solidFill>
                  <a:latin typeface="Times New Roman"/>
                </a:rPr>
                <a:t>8%  [2m</a:t>
              </a:r>
              <a:r>
                <a:rPr b="0" lang="en-US" sz="2000" spc="-1" strike="noStrike" baseline="-25000">
                  <a:solidFill>
                    <a:srgbClr val="cc0066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000" spc="-1" strike="noStrike">
                  <a:solidFill>
                    <a:srgbClr val="cc0066"/>
                  </a:solidFill>
                  <a:latin typeface="Times New Roman"/>
                </a:rPr>
                <a:t> - 0.5 GeV]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cc0066"/>
                  </a:solidFill>
                  <a:latin typeface="Times New Roman"/>
                </a:rPr>
                <a:t>34%  [0.6 - 1.0 GeV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cc0066"/>
                  </a:solidFill>
                  <a:latin typeface="Times New Roman"/>
                </a:rPr>
                <a:t>31%  [Rest&lt; 1.8 GeV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1280" y="4384800"/>
              <a:ext cx="34920" cy="630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72040" y="5006880"/>
              <a:ext cx="619200" cy="30024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63640" y="5162400"/>
              <a:ext cx="98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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1G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808000">
              <a:off x="5529240" y="4060440"/>
              <a:ext cx="317520" cy="1187280"/>
            </a:xfrm>
            <a:custGeom>
              <a:avLst/>
              <a:gdLst>
                <a:gd name="textAreaLeft" fmla="*/ 42480 w 317520"/>
                <a:gd name="textAreaRight" fmla="*/ 275040 w 317520"/>
                <a:gd name="textAreaTop" fmla="*/ 207720 h 1187280"/>
                <a:gd name="textAreaBottom" fmla="*/ 860760 h 11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62920" y="4619520"/>
              <a:ext cx="31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4920600">
              <a:off x="5538960" y="5131440"/>
              <a:ext cx="372960" cy="1320840"/>
            </a:xfrm>
            <a:custGeom>
              <a:avLst/>
              <a:gdLst>
                <a:gd name="textAreaLeft" fmla="*/ 49680 w 372960"/>
                <a:gd name="textAreaRight" fmla="*/ 323280 w 372960"/>
                <a:gd name="textAreaTop" fmla="*/ 231120 h 1320840"/>
                <a:gd name="textAreaBottom" fmla="*/ 957600 h 132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66680" y="201600"/>
            <a:ext cx="571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stimate of a</a:t>
            </a:r>
            <a:r>
              <a:rPr b="0" lang="en-GB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GB" sz="3200" spc="-1" strike="noStrike" baseline="30000">
                <a:solidFill>
                  <a:srgbClr val="3333cc"/>
                </a:solidFill>
                <a:latin typeface="Tahoma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09480" y="2057400"/>
            <a:ext cx="4275000" cy="4138200"/>
            <a:chOff x="609480" y="2057400"/>
            <a:chExt cx="4275000" cy="4138200"/>
          </a:xfrm>
        </p:grpSpPr>
        <p:pic>
          <p:nvPicPr>
            <p:cNvPr id="217" name="15" descr=""/>
            <p:cNvPicPr/>
            <p:nvPr/>
          </p:nvPicPr>
          <p:blipFill>
            <a:blip r:embed="rId1"/>
            <a:srcRect l="14288" t="7411" r="12503" b="12962"/>
            <a:stretch/>
          </p:blipFill>
          <p:spPr>
            <a:xfrm>
              <a:off x="1216080" y="2057400"/>
              <a:ext cx="3668400" cy="38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212920" y="3665160"/>
              <a:ext cx="1440" cy="166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33160" y="455220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Times New Roman"/>
                </a:rPr>
                <a:t>1-1.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56280" y="4053960"/>
              <a:ext cx="3240" cy="132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55200" y="455220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cf01"/>
                  </a:solidFill>
                  <a:latin typeface="Times New Roman"/>
                </a:rPr>
                <a:t>0.6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18560" y="455220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1c1c1c"/>
                  </a:solidFill>
                  <a:latin typeface="Times New Roman"/>
                </a:rPr>
                <a:t>1-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92920" y="4552200"/>
              <a:ext cx="693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75560" y="4552200"/>
              <a:ext cx="104220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96240" y="4554000"/>
              <a:ext cx="98460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74480" y="2283840"/>
              <a:ext cx="2666520" cy="33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3462480" y="5928120"/>
                  <a:ext cx="149760" cy="26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28" name=""/>
            <p:cNvSpPr/>
            <p:nvPr/>
          </p:nvSpPr>
          <p:spPr>
            <a:xfrm>
              <a:off x="609480" y="2437200"/>
              <a:ext cx="864360" cy="55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7040" y="2508840"/>
              <a:ext cx="1125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|F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|</a:t>
              </a:r>
              <a:r>
                <a:rPr b="1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753920" y="341460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CM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029200" y="2743200"/>
            <a:ext cx="3200400" cy="1562040"/>
            <a:chOff x="5029200" y="2743200"/>
            <a:chExt cx="3200400" cy="1562040"/>
          </a:xfrm>
        </p:grpSpPr>
        <p:sp>
          <p:nvSpPr>
            <p:cNvPr id="232" name=""/>
            <p:cNvSpPr/>
            <p:nvPr/>
          </p:nvSpPr>
          <p:spPr>
            <a:xfrm>
              <a:off x="5146200" y="2743200"/>
              <a:ext cx="2063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ScriptC"/>
                </a:rPr>
                <a:t>L</a:t>
              </a: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= 317.3 nb</a:t>
              </a:r>
              <a:r>
                <a:rPr b="0" lang="en-US" sz="2400" spc="-1" strike="noStrike" baseline="30000">
                  <a:solidFill>
                    <a:srgbClr val="0000ff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29200" y="3358080"/>
              <a:ext cx="320040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114000 </a:t>
              </a:r>
              <a:r>
                <a:rPr b="0" lang="en-US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en-US" sz="3200" spc="-1" strike="noStrike" baseline="30000">
                  <a:solidFill>
                    <a:srgbClr val="0000ff"/>
                  </a:solidFill>
                  <a:latin typeface="Symbol"/>
                  <a:ea typeface="Symbol"/>
                </a:rPr>
                <a:t></a:t>
              </a:r>
              <a:r>
                <a:rPr b="0" lang="en-US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en-US" sz="3200" spc="-1" strike="noStrike" baseline="30000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events in </a:t>
              </a: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meson reg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281560" y="48006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ergy sc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547200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27480" y="5367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3040" y="1496880"/>
            <a:ext cx="910692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o far, estimates of a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ahoma"/>
              </a:rPr>
              <a:t>had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adronic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electron positro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collider data (mostly from CMD2, S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asurement o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CMD-2 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0.6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yst.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319680" y="1676520"/>
            <a:ext cx="9737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hadronic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- dec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which can be used with the help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VC-theorem  and an isospin rotation (plus isospin breaking corre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8600" y="2819520"/>
            <a:ext cx="8458200" cy="1981080"/>
            <a:chOff x="228600" y="2819520"/>
            <a:chExt cx="8458200" cy="1981080"/>
          </a:xfrm>
        </p:grpSpPr>
        <p:sp>
          <p:nvSpPr>
            <p:cNvPr id="240" name=""/>
            <p:cNvSpPr/>
            <p:nvPr/>
          </p:nvSpPr>
          <p:spPr>
            <a:xfrm>
              <a:off x="228600" y="2819520"/>
              <a:ext cx="8458200" cy="1981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2522520" y="4235760"/>
              <a:ext cx="304920" cy="519120"/>
            </a:xfrm>
            <a:prstGeom prst="blockArc">
              <a:avLst>
                <a:gd name="adj1" fmla="val 10084009"/>
                <a:gd name="adj2" fmla="val 715991"/>
                <a:gd name="adj3" fmla="val 8269"/>
              </a:avLst>
            </a:prstGeom>
            <a:solidFill>
              <a:srgbClr val="3366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3181400">
              <a:off x="1563480" y="4129920"/>
              <a:ext cx="975240" cy="79560"/>
            </a:xfrm>
            <a:custGeom>
              <a:avLst/>
              <a:gdLst/>
              <a:ahLst/>
              <a:rect l="l" t="t" r="r" b="b"/>
              <a:pathLst>
                <a:path w="1248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60" y="96"/>
                    <a:pt x="192" y="96"/>
                  </a:cubicBezTo>
                  <a:cubicBezTo>
                    <a:pt x="224" y="96"/>
                    <a:pt x="256" y="0"/>
                    <a:pt x="288" y="0"/>
                  </a:cubicBezTo>
                  <a:cubicBezTo>
                    <a:pt x="320" y="0"/>
                    <a:pt x="352" y="96"/>
                    <a:pt x="384" y="96"/>
                  </a:cubicBezTo>
                  <a:cubicBezTo>
                    <a:pt x="416" y="96"/>
                    <a:pt x="448" y="0"/>
                    <a:pt x="480" y="0"/>
                  </a:cubicBezTo>
                  <a:cubicBezTo>
                    <a:pt x="512" y="0"/>
                    <a:pt x="544" y="96"/>
                    <a:pt x="576" y="96"/>
                  </a:cubicBezTo>
                  <a:cubicBezTo>
                    <a:pt x="608" y="96"/>
                    <a:pt x="640" y="0"/>
                    <a:pt x="672" y="0"/>
                  </a:cubicBezTo>
                  <a:cubicBezTo>
                    <a:pt x="704" y="0"/>
                    <a:pt x="736" y="96"/>
                    <a:pt x="768" y="96"/>
                  </a:cubicBezTo>
                  <a:cubicBezTo>
                    <a:pt x="800" y="96"/>
                    <a:pt x="832" y="0"/>
                    <a:pt x="864" y="0"/>
                  </a:cubicBezTo>
                  <a:cubicBezTo>
                    <a:pt x="896" y="0"/>
                    <a:pt x="928" y="96"/>
                    <a:pt x="960" y="96"/>
                  </a:cubicBezTo>
                  <a:cubicBezTo>
                    <a:pt x="992" y="96"/>
                    <a:pt x="1024" y="0"/>
                    <a:pt x="1056" y="0"/>
                  </a:cubicBezTo>
                  <a:cubicBezTo>
                    <a:pt x="1088" y="0"/>
                    <a:pt x="1120" y="96"/>
                    <a:pt x="1152" y="96"/>
                  </a:cubicBezTo>
                  <a:cubicBezTo>
                    <a:pt x="1184" y="96"/>
                    <a:pt x="1216" y="48"/>
                    <a:pt x="1248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47720" y="3882960"/>
              <a:ext cx="890280" cy="3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638360" y="3272760"/>
              <a:ext cx="815760" cy="609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30440" y="3854520"/>
              <a:ext cx="52560" cy="5400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13800" y="4456080"/>
              <a:ext cx="52560" cy="5400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5280" y="4297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adr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44360" y="3467160"/>
              <a:ext cx="302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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2400" y="3048120"/>
              <a:ext cx="397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</a:t>
              </a:r>
              <a:r>
                <a:rPr b="0" i="1" lang="en-US" sz="22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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10600" y="38242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329440" y="3885480"/>
              <a:ext cx="815760" cy="609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329440" y="3276360"/>
              <a:ext cx="815760" cy="609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6151320" y="3825360"/>
              <a:ext cx="975240" cy="79560"/>
            </a:xfrm>
            <a:custGeom>
              <a:avLst/>
              <a:gdLst/>
              <a:ahLst/>
              <a:rect l="l" t="t" r="r" b="b"/>
              <a:pathLst>
                <a:path w="1248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60" y="96"/>
                    <a:pt x="192" y="96"/>
                  </a:cubicBezTo>
                  <a:cubicBezTo>
                    <a:pt x="224" y="96"/>
                    <a:pt x="256" y="0"/>
                    <a:pt x="288" y="0"/>
                  </a:cubicBezTo>
                  <a:cubicBezTo>
                    <a:pt x="320" y="0"/>
                    <a:pt x="352" y="96"/>
                    <a:pt x="384" y="96"/>
                  </a:cubicBezTo>
                  <a:cubicBezTo>
                    <a:pt x="416" y="96"/>
                    <a:pt x="448" y="0"/>
                    <a:pt x="480" y="0"/>
                  </a:cubicBezTo>
                  <a:cubicBezTo>
                    <a:pt x="512" y="0"/>
                    <a:pt x="544" y="96"/>
                    <a:pt x="576" y="96"/>
                  </a:cubicBezTo>
                  <a:cubicBezTo>
                    <a:pt x="608" y="96"/>
                    <a:pt x="640" y="0"/>
                    <a:pt x="672" y="0"/>
                  </a:cubicBezTo>
                  <a:cubicBezTo>
                    <a:pt x="704" y="0"/>
                    <a:pt x="736" y="96"/>
                    <a:pt x="768" y="96"/>
                  </a:cubicBezTo>
                  <a:cubicBezTo>
                    <a:pt x="800" y="96"/>
                    <a:pt x="832" y="0"/>
                    <a:pt x="864" y="0"/>
                  </a:cubicBezTo>
                  <a:cubicBezTo>
                    <a:pt x="896" y="0"/>
                    <a:pt x="928" y="96"/>
                    <a:pt x="960" y="96"/>
                  </a:cubicBezTo>
                  <a:cubicBezTo>
                    <a:pt x="992" y="96"/>
                    <a:pt x="1024" y="0"/>
                    <a:pt x="1056" y="0"/>
                  </a:cubicBezTo>
                  <a:cubicBezTo>
                    <a:pt x="1088" y="0"/>
                    <a:pt x="1120" y="96"/>
                    <a:pt x="1152" y="96"/>
                  </a:cubicBezTo>
                  <a:cubicBezTo>
                    <a:pt x="1184" y="96"/>
                    <a:pt x="1216" y="48"/>
                    <a:pt x="1248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29720" y="3854520"/>
              <a:ext cx="52560" cy="5400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7196760" y="3624480"/>
              <a:ext cx="304920" cy="519120"/>
            </a:xfrm>
            <a:prstGeom prst="blockArc">
              <a:avLst>
                <a:gd name="adj1" fmla="val 10084009"/>
                <a:gd name="adj2" fmla="val 715991"/>
                <a:gd name="adj3" fmla="val 8269"/>
              </a:avLst>
            </a:prstGeom>
            <a:solidFill>
              <a:srgbClr val="3366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88400" y="3860640"/>
              <a:ext cx="52560" cy="5400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09520" y="37018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adr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22400" y="3382920"/>
              <a:ext cx="337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21640" y="321480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21640" y="420516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49080" y="3733920"/>
              <a:ext cx="1182600" cy="304560"/>
            </a:xfrm>
            <a:prstGeom prst="leftRightArrow">
              <a:avLst>
                <a:gd name="adj1" fmla="val 50000"/>
                <a:gd name="adj2" fmla="val 77300"/>
              </a:avLst>
            </a:prstGeom>
            <a:gradFill rotWithShape="0">
              <a:gsLst>
                <a:gs pos="0">
                  <a:srgbClr val="fff200"/>
                </a:gs>
                <a:gs pos="5000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96800" y="2971800"/>
              <a:ext cx="1585800" cy="368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VC: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=1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&amp;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6200" y="2971800"/>
              <a:ext cx="1613160" cy="3682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=1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&amp;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98480" y="2971800"/>
              <a:ext cx="1488240" cy="3682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: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=0,1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&amp;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676520" y="5410080"/>
            <a:ext cx="5638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owever,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–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1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8)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94400" y="201600"/>
            <a:ext cx="390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Estimate of a</a:t>
            </a:r>
            <a:r>
              <a:rPr b="0" lang="en-GB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GB" sz="3200" spc="-1" strike="noStrike" baseline="30000">
                <a:solidFill>
                  <a:srgbClr val="3333cc"/>
                </a:solidFill>
                <a:latin typeface="Tahoma"/>
              </a:rPr>
              <a:t>had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g-2_new_mtf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344840" cy="4419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rot="16200000">
            <a:off x="125280" y="2463120"/>
            <a:ext cx="1058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/‘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56880" y="3267000"/>
            <a:ext cx="3022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-Italic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-Italic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Times-Italic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Data:  </a:t>
            </a:r>
            <a:r>
              <a:rPr b="0" lang="en-US" sz="1800" spc="-1" strike="noStrike">
                <a:solidFill>
                  <a:srgbClr val="ff0000"/>
                </a:solidFill>
                <a:latin typeface="Times-Italic"/>
              </a:rPr>
              <a:t>2.7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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- Devi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10080" y="3627360"/>
            <a:ext cx="3073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:       </a:t>
            </a:r>
            <a:r>
              <a:rPr b="0" lang="en-US" sz="1800" spc="-1" strike="noStrike">
                <a:solidFill>
                  <a:srgbClr val="ff0000"/>
                </a:solidFill>
                <a:latin typeface="Times-Italic"/>
              </a:rPr>
              <a:t>1.4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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- Devi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5840" y="4189320"/>
            <a:ext cx="8731080" cy="1319400"/>
          </a:xfrm>
          <a:prstGeom prst="rect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60840" y="4550400"/>
            <a:ext cx="1206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Times New Roman"/>
              </a:rPr>
              <a:t>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’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20/‘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82360" y="4257720"/>
            <a:ext cx="31510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periment BNL-E8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alues for </a:t>
            </a:r>
            <a:r>
              <a:rPr b="0" lang="de-DE" sz="1800" spc="-1" strike="noStrike">
                <a:solidFill>
                  <a:srgbClr val="33cc33"/>
                </a:solidFill>
                <a:latin typeface="SymbolProp BT"/>
                <a:ea typeface="SymbolProp BT"/>
              </a:rPr>
              <a:t></a:t>
            </a:r>
            <a:r>
              <a:rPr b="0" lang="de-DE" sz="1800" spc="-1" strike="noStrike" baseline="30000">
                <a:solidFill>
                  <a:srgbClr val="33cc33"/>
                </a:solidFill>
                <a:latin typeface="Times New Roman"/>
              </a:rPr>
              <a:t>+</a:t>
            </a:r>
            <a:r>
              <a:rPr b="0" lang="de-DE" sz="1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002) and </a:t>
            </a:r>
            <a:r>
              <a:rPr b="0" lang="de-DE" sz="1800" spc="-1" strike="noStrike">
                <a:solidFill>
                  <a:srgbClr val="33cc33"/>
                </a:solidFill>
                <a:latin typeface="SymbolProp BT"/>
                <a:ea typeface="SymbolProp BT"/>
              </a:rPr>
              <a:t></a:t>
            </a:r>
            <a:r>
              <a:rPr b="0" lang="de-DE" sz="1800" spc="-1" strike="noStrike" baseline="30000">
                <a:solidFill>
                  <a:srgbClr val="33cc33"/>
                </a:solidFill>
                <a:latin typeface="Times New Roman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 agreement with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cision:</a:t>
            </a:r>
            <a:r>
              <a:rPr b="0" lang="de-DE" sz="18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33cc33"/>
                </a:solidFill>
                <a:latin typeface="Times-Italic"/>
              </a:rPr>
              <a:t>0.5p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07480" y="1609560"/>
            <a:ext cx="380628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cross section data have recent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wered theory error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CMD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Novosibirsk/VEPP-2M) </a:t>
            </a:r>
            <a:r>
              <a:rPr b="0" lang="en-US" sz="1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</a:t>
            </a:r>
            <a:r>
              <a:rPr b="0" lang="en-US" sz="1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 with </a:t>
            </a:r>
            <a:r>
              <a:rPr b="0" lang="en-US" sz="1600" spc="-1" strike="noStrike">
                <a:solidFill>
                  <a:srgbClr val="0000ff"/>
                </a:solidFill>
                <a:latin typeface="Times-Italic"/>
              </a:rPr>
              <a:t>0.6%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precision &lt; </a:t>
            </a:r>
            <a:r>
              <a:rPr b="0" lang="en-US" sz="1600" spc="-1" strike="noStrike">
                <a:solidFill>
                  <a:srgbClr val="0000ff"/>
                </a:solidFill>
                <a:latin typeface="Times-Italic"/>
              </a:rPr>
              <a:t>1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  </a:t>
            </a:r>
            <a:r>
              <a:rPr b="0" lang="en-US" sz="1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ata from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LEP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/OPAL/C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7000" y="1468440"/>
            <a:ext cx="8731080" cy="263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31240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60880" y="2787480"/>
            <a:ext cx="18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nalysis of e+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32120" y="204840"/>
            <a:ext cx="6214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GB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SM prediction vs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33560" y="3276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3T15:08:08Z</dcterms:created>
  <dc:creator>graziano</dc:creator>
  <dc:description/>
  <dc:language>en-US</dc:language>
  <cp:lastModifiedBy>graziano</cp:lastModifiedBy>
  <dcterms:modified xsi:type="dcterms:W3CDTF">2004-07-07T19:29:16Z</dcterms:modified>
  <cp:revision>234</cp:revision>
  <dc:subject/>
  <dc:title>Measurement of the Hadronic Cross Section with KLOE </dc:title>
</cp:coreProperties>
</file>