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5.png" ContentType="image/png"/>
  <Override PartName="/ppt/media/image35.png" ContentType="image/png"/>
  <Override PartName="/ppt/media/image45.png" ContentType="image/png"/>
  <Override PartName="/ppt/media/image46.jpeg" ContentType="image/jpeg"/>
  <Override PartName="/ppt/media/image54.png" ContentType="image/png"/>
  <Override PartName="/ppt/media/image37.wmf" ContentType="image/x-wmf"/>
  <Override PartName="/ppt/media/image50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jpeg" ContentType="image/jpeg"/>
  <Override PartName="/ppt/media/image43.png" ContentType="image/png"/>
  <Override PartName="/ppt/media/image42.png" ContentType="image/png"/>
  <Override PartName="/ppt/media/image55.png" ContentType="image/png"/>
  <Override PartName="/ppt/media/image56.png" ContentType="image/png"/>
  <Override PartName="/ppt/media/image32.png" ContentType="image/png"/>
  <Override PartName="/ppt/media/image7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206880" cy="519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216000"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4110120" y="0"/>
            <a:ext cx="3208320" cy="519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lstStyle>
            <a:lvl1pPr marL="216000"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52080" y="736200"/>
            <a:ext cx="4821480" cy="36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153000"/>
            <a:ext cx="3206880" cy="443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lstStyle>
            <a:lvl1pPr marL="216000"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4110120" y="9153000"/>
            <a:ext cx="3208320" cy="443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lstStyle>
            <a:lvl1pPr marL="216000"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4386EBA6-9A00-496B-98BB-40EF32F362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 measurement of tau from KL3p0 decays. Position of KL from TOF, beta of KL from tra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are Vus*f from K+ and K0 semileptonic width measu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. Ellis in ichep concluding remarks said CKM unitarity crisis is not present anymore, but if one wants to make precision test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TEV or istra+ is not important, but linear or quadratic makes the real differenc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it shift the linear one, affecting the phase space integr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not to be said, but: ISTRA errors maybe underest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ar expansion: lambda=mp/mv, lamda’=2(mp/mv)^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TEV or istra+ is not important, but linear or quadratic makes the real differenc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it shift the linear one, affecting the phase space integr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not to be said, but: ISTRA errors maybe underest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lar expansion: lambda=mp/mv, lamda’=2(mp/mv)^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48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easure absolute K+ BR’s. Tagging from Kmnu,pp0. K+e3 from TOF distrib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48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raction of Vus at comparable accuracy wrt that obtained from semileptonic widths. p+p0 can have impact on E865 measured rat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st precise Test of unitarity possible at present comes from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ud from Fermi super-allowed beta decays (che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us from: Tau decay form factors, Hyperon and kaon Semileptonic dec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ethod 1: from track length and track momentum segment-by-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ethod 2: from photon cluster time + average gamma from track momen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48: check assumptions (CP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48: dM = (-0.2 +- 2.8) 10-19 GeV, dM&lt;4.7 10-19 Gev 9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ignal selection: 6 prompt clusters, test of energy-momentum conservation, test of 2pi vs 3 pi hypoth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rmalize to Ks-&gt;pi0pi0. Sensitivity for a 10-5 signal, shown in the 3pi-hypothesis tes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ackground due to KS-&gt;p0p0 + accidental clusters. KLOE improves on NA4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KL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ast measurement from BNL combining m+ and m- reaches 10-10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 prediction: Leptonic loops calculated, quark loops cannot be obtained from pert-Q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ut Im(g*-&gt; h+h- -&gt;g* loop) related to sigma(g*-&gt;h+h-)  (soften th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r am(had) calculation, sigma(Pipi, sqrt(s)&lt;1GeV) is the dominating contribution 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ay: disagreement at 2-sigma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or am calculation, Pipi transition is the dominating contribution (6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ECK tau data: what kind of extraction, what is really ex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easure sigma p+p-g at fixed beam energy and exploit ISR to measure s(p*p-) exploring energy range 2mpi,sqrt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 measurement at one fixed value of sqrt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Have to: 1) take out hard FSR, same order of signal; 2) Include ISR+FSR; 3) Correct vacuum polarization, not to double count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nalysis out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ct signal with low theta photon, high theta pions, to enhance I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ost precise Test of unitarity possible at present comes from 1</a:t>
            </a:r>
            <a:r>
              <a:rPr b="0" lang="it-IT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ud from Fermi super-allowed beta decays (che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us from: Tau decay form factors, Hyperon and kaon Semileptonic dec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rro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ystematic error: vertex (stream without vtx, 2002 data ..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ILFO(bkg: 0.6%, better in 2002: L3,+stable bkg condi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uminosity: Bhabhayaga (0.5% accuracy from authors used, results checked with gg delta=0.2%,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heck wrt other generators, always in agreement at 0.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2002, one can measure sigma(mumu) and check theory assumptions in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adiator function: 0.5% from authors. If they calculate at next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SR: point pion for QED emission only. Asymmetry at large angles study could be translated into a statement on the accuracy of the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rospects for measurement of the region close to threshold, around 20% of the pipi contribution to am, poorly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rmalize to mumugamma and check ISR,FSR calculated from scalar QED (Kuh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KLOE measurement allow the tau data to be exclu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-fold improvement wrt previous best 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will give me the updated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date the 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KSpen 7 10-4! quality of the separation of this signal, almost at the single particl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fficult to use for analysis large fraction of  the statistics integrated up to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 predi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S=DQ r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ammaS = GammaL, As = AL = 2Re epsi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M predictions: GammaS = GammaL, As = AL = 2Re epsi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24920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90360" y="4575240"/>
            <a:ext cx="533700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pdated plot, get from Marian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Branching ratio, Analysis is charge dependent, reach 1% rel. accuracy. Rex, As at 0.9%, will be discussed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ignal selection: 6 prompt clusters, test of energy-momentum conservation, test of 2pi vs 3 pi hypoth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rmalize to Ks-&gt;pi0pi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pi rejection: Invariant mass, Signal TOF selection, Kinematic clos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sser or smaller. simultaneous fit of the 4 main B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ons of events in 410 pb-1 -&gt; large statistical redundancy -&gt; can check data-MC agreement and presence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OE contribute to change dramatically the picture of the KL decay BR’s: pen and 3p0. disagreement with KTeV. sum=1 at 0.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252440" y="736560"/>
            <a:ext cx="4821480" cy="36162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87120" y="4575240"/>
            <a:ext cx="5343480" cy="42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hape=Data/MC agreement for emiss-pmiss distributions; tag bias=dependence of tag efficiency on KL topolo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V dimensions around 0.3 lamda(KL) -&gt; acceptance depends on KL lifetime -&gt; can assume unitarity and extract the life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8683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6800" y="3736800"/>
            <a:ext cx="8683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6800" y="373680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373680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2600" y="99036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99036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6800" y="373680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2600" y="373680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373680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6800" y="990360"/>
            <a:ext cx="8683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8683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6800" y="101520"/>
            <a:ext cx="82263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6800" y="373680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6800" y="990360"/>
            <a:ext cx="86835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373680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6800" y="3736800"/>
            <a:ext cx="8683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8683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6800" y="3736800"/>
            <a:ext cx="8683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6800" y="373680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373680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2600" y="99036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8760" y="99036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6800" y="373680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2600" y="373680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8760" y="3736800"/>
            <a:ext cx="27957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8683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6800" y="101520"/>
            <a:ext cx="82263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6800" y="373680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373680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6800" y="85320"/>
            <a:ext cx="822636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680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990360"/>
            <a:ext cx="4237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6800" y="3736800"/>
            <a:ext cx="86835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759800" y="50760"/>
            <a:ext cx="1257120" cy="80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6800" y="990360"/>
            <a:ext cx="8683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83080" y="65023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70D3-DBB6-46EE-BBD2-82890D0BC363}" type="slidenum"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26800" y="6476760"/>
            <a:ext cx="7391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Recent results from KLOE</a:t>
            </a: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 – T. Spadaro – 29</a:t>
            </a:r>
            <a:r>
              <a:rPr b="0" lang="en-US" sz="1600" spc="-1" strike="noStrike" baseline="30000">
                <a:solidFill>
                  <a:srgbClr val="0066ff"/>
                </a:solidFill>
                <a:latin typeface="Times New Roman"/>
              </a:rPr>
              <a:t>th</a:t>
            </a:r>
            <a:r>
              <a:rPr b="0" lang="en-US" sz="1600" spc="-1" strike="noStrike">
                <a:solidFill>
                  <a:srgbClr val="0066ff"/>
                </a:solidFill>
                <a:latin typeface="Times New Roman"/>
              </a:rPr>
              <a:t> LNF Scientific Committee, 8/11/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7160" y="773280"/>
            <a:ext cx="754200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8960" y="851040"/>
            <a:ext cx="7542360" cy="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27160" y="6311880"/>
            <a:ext cx="859284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8960" y="6388200"/>
            <a:ext cx="8593200" cy="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2920" y="958320"/>
            <a:ext cx="77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98440"/>
            <a:ext cx="859320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8960" y="380880"/>
            <a:ext cx="8593200" cy="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477120"/>
            <a:ext cx="859320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960" y="6559560"/>
            <a:ext cx="8593200" cy="0"/>
          </a:xfrm>
          <a:prstGeom prst="line">
            <a:avLst/>
          </a:prstGeom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72760" y="4582800"/>
            <a:ext cx="8001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 Spadaro, INFN/Frasca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the KLOE 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29</a:t>
            </a:r>
            <a:r>
              <a:rPr b="1" lang="en-US" sz="2200" spc="-1" strike="noStrike" baseline="30000">
                <a:solidFill>
                  <a:srgbClr val="0066ff"/>
                </a:solidFill>
                <a:latin typeface="Times New Roman"/>
              </a:rPr>
              <a:t>th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 LNF Scientific Committee meet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Frascati, 8</a:t>
            </a:r>
            <a:r>
              <a:rPr b="1" lang="en-US" sz="2200" spc="-1" strike="noStrike" baseline="30000">
                <a:solidFill>
                  <a:srgbClr val="0066ff"/>
                </a:solidFill>
                <a:latin typeface="Times New Roman"/>
              </a:rPr>
              <a:t>th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 – 9</a:t>
            </a:r>
            <a:r>
              <a:rPr b="1" lang="en-US" sz="2200" spc="-1" strike="noStrike" baseline="30000">
                <a:solidFill>
                  <a:srgbClr val="0066ff"/>
                </a:solidFill>
                <a:latin typeface="Times New Roman"/>
              </a:rPr>
              <a:t>th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 November,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3795" t="0" r="1827" b="-1881"/>
          <a:stretch/>
        </p:blipFill>
        <p:spPr>
          <a:xfrm>
            <a:off x="345960" y="685800"/>
            <a:ext cx="8455320" cy="3735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7240" y="36684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results from KLO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rcRect l="0" t="14857" r="0" b="13667"/>
          <a:stretch/>
        </p:blipFill>
        <p:spPr>
          <a:xfrm>
            <a:off x="4486320" y="2133720"/>
            <a:ext cx="4048200" cy="3746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LOE impact on 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 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– 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lifetim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2057400"/>
            <a:ext cx="3657600" cy="3809520"/>
            <a:chOff x="533520" y="2057400"/>
            <a:chExt cx="365760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533520" y="2131920"/>
              <a:ext cx="3657600" cy="3735000"/>
              <a:chOff x="533520" y="2131920"/>
              <a:chExt cx="3657600" cy="3735000"/>
            </a:xfrm>
          </p:grpSpPr>
          <p:pic>
            <p:nvPicPr>
              <p:cNvPr id="223" name="" descr=""/>
              <p:cNvPicPr/>
              <p:nvPr/>
            </p:nvPicPr>
            <p:blipFill>
              <a:blip r:embed="rId2"/>
              <a:srcRect l="18004" t="10197" r="18753" b="4776"/>
              <a:stretch/>
            </p:blipFill>
            <p:spPr>
              <a:xfrm>
                <a:off x="533520" y="2131920"/>
                <a:ext cx="3657600" cy="37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2396880" y="2383920"/>
                <a:ext cx="138960" cy="101160"/>
              </a:xfrm>
              <a:prstGeom prst="roundRect">
                <a:avLst>
                  <a:gd name="adj" fmla="val 156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47640" y="2491560"/>
                <a:ext cx="100080" cy="1080"/>
              </a:xfrm>
              <a:prstGeom prst="line">
                <a:avLst/>
              </a:prstGeom>
              <a:ln w="9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2364480" y="2097360"/>
              <a:ext cx="1019880" cy="1909080"/>
            </a:xfrm>
            <a:prstGeom prst="line">
              <a:avLst/>
            </a:prstGeom>
            <a:ln w="367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8800" y="3473280"/>
              <a:ext cx="1077840" cy="2448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800" y="3473280"/>
              <a:ext cx="654120" cy="166176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396440" y="3473280"/>
              <a:ext cx="1243080" cy="165384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911520" y="3473280"/>
              <a:ext cx="1727640" cy="75204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619640" y="2701800"/>
              <a:ext cx="1019880" cy="77220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23840" y="3440160"/>
              <a:ext cx="13212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97240" y="5170680"/>
              <a:ext cx="13176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19920" y="2627280"/>
              <a:ext cx="13176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57480" y="5100840"/>
              <a:ext cx="13176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6320" y="4181760"/>
              <a:ext cx="13176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08040" y="2415600"/>
              <a:ext cx="131760" cy="932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2475720" y="2502720"/>
              <a:ext cx="179640" cy="954360"/>
            </a:xfrm>
            <a:prstGeom prst="line">
              <a:avLst/>
            </a:prstGeom>
            <a:ln w="18360">
              <a:solidFill>
                <a:srgbClr val="e6e6e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38800" y="3427920"/>
              <a:ext cx="57600" cy="69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25760" y="4489920"/>
              <a:ext cx="1317960" cy="46980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GB" sz="2200" spc="-1" strike="noStrike" baseline="-33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22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</a:t>
              </a:r>
              <a:r>
                <a:rPr b="1" lang="en-GB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GB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GB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01800" y="2057400"/>
              <a:ext cx="157644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GB" sz="2200" spc="-1" strike="noStrike" baseline="-33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1" lang="en-GB" sz="22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ffffff"/>
                  </a:solidFill>
                  <a:latin typeface="Times New Roman"/>
                </a:rPr>
                <a:t>direc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52280" y="822240"/>
            <a:ext cx="8839440" cy="4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2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from time distribution of </a:t>
            </a: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GB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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dec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1127160"/>
            <a:ext cx="8979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tagged by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ngular resolution ~ 1°, momentum resolution ~ 1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onstruct position of a decay vertex on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direction from time of photon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 events with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 photons “clustering” a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3048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20" y="5867280"/>
            <a:ext cx="81774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LOE preliminary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KLO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K</a:t>
            </a:r>
            <a:r>
              <a:rPr b="0" lang="en-GB" sz="20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) = 51.15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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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syst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52578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3733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75320" y="5105520"/>
            <a:ext cx="212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* = L/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 (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73160" y="3657600"/>
            <a:ext cx="1393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Times New Roman"/>
              </a:rPr>
              <a:t>Fit re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Times New Roman"/>
              </a:rPr>
              <a:t>50</a:t>
            </a:r>
            <a:r>
              <a:rPr b="0" lang="it-IT" sz="2000" spc="-1" strike="noStrike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66ff"/>
                </a:solidFill>
                <a:latin typeface="Times New Roman"/>
              </a:rPr>
              <a:t>158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Symbol"/>
                <a:ea typeface="Symbol"/>
              </a:rPr>
              <a:t></a:t>
            </a:r>
            <a:r>
              <a:rPr b="0" lang="it-IT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66ff"/>
                </a:solidFill>
                <a:latin typeface="Times New Roman"/>
              </a:rPr>
              <a:t>0.3 </a:t>
            </a:r>
            <a:r>
              <a:rPr b="0" lang="it-IT" sz="2000" spc="-1" strike="noStrike">
                <a:solidFill>
                  <a:srgbClr val="0066ff"/>
                </a:solidFill>
                <a:latin typeface="Symbol"/>
                <a:ea typeface="Symbol"/>
              </a:rPr>
              <a:t></a:t>
            </a:r>
            <a:r>
              <a:rPr b="0" lang="it-IT" sz="20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0" i="1" lang="it-IT" sz="20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it-IT" sz="20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67560" y="2286000"/>
            <a:ext cx="197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Times New Roman"/>
              </a:rPr>
              <a:t>15 Million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Times New Roman"/>
              </a:rPr>
              <a:t>avail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914400"/>
            <a:ext cx="571500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ur measurements of  V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GB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Symbol"/>
                <a:ea typeface="Symbol"/>
              </a:rPr>
              <a:t></a:t>
            </a:r>
            <a:r>
              <a:rPr b="1" lang="en-GB" sz="2200" spc="-1" strike="noStrike" baseline="-33000">
                <a:solidFill>
                  <a:srgbClr val="008000"/>
                </a:solidFill>
                <a:latin typeface="Times New Roman"/>
              </a:rPr>
              <a:t>S</a:t>
            </a:r>
            <a:r>
              <a:rPr b="1" lang="en-GB" sz="2200" spc="-1" strike="noStrike">
                <a:solidFill>
                  <a:srgbClr val="008000"/>
                </a:solidFill>
                <a:latin typeface="Symbol"/>
                <a:ea typeface="Symbol"/>
              </a:rPr>
              <a:t></a:t>
            </a:r>
            <a:r>
              <a:rPr b="1" lang="en-GB" sz="22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1" lang="en-GB" sz="2200" spc="-1" strike="noStrike">
                <a:solidFill>
                  <a:srgbClr val="008000"/>
                </a:solidFill>
                <a:latin typeface="Symbol"/>
                <a:ea typeface="Symbol"/>
              </a:rPr>
              <a:t></a:t>
            </a:r>
            <a:r>
              <a:rPr b="1" lang="en-GB" sz="2200" spc="-1" strike="noStrike">
                <a:solidFill>
                  <a:srgbClr val="008000"/>
                </a:solidFill>
                <a:latin typeface="Times New Roman"/>
              </a:rPr>
              <a:t>from KL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44794"/>
                </a:solidFill>
                <a:latin typeface="Symbol"/>
                <a:ea typeface="Symbol"/>
              </a:rPr>
              <a:t></a:t>
            </a:r>
            <a:r>
              <a:rPr b="1" lang="en-GB" sz="2200" spc="-1" strike="noStrike" baseline="-33000">
                <a:solidFill>
                  <a:srgbClr val="944794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944794"/>
                </a:solidFill>
                <a:latin typeface="Symbol"/>
                <a:ea typeface="Symbol"/>
              </a:rPr>
              <a:t></a:t>
            </a:r>
            <a:r>
              <a:rPr b="1" lang="en-GB" sz="2200" spc="-1" strike="noStrike">
                <a:solidFill>
                  <a:srgbClr val="944794"/>
                </a:solidFill>
                <a:latin typeface="Times New Roman"/>
                <a:ea typeface="Times New Roman"/>
              </a:rPr>
              <a:t>l</a:t>
            </a:r>
            <a:r>
              <a:rPr b="1" lang="en-GB" sz="2200" spc="-1" strike="noStrike">
                <a:solidFill>
                  <a:srgbClr val="944794"/>
                </a:solidFill>
                <a:latin typeface="Symbol"/>
                <a:ea typeface="Symbol"/>
              </a:rPr>
              <a:t></a:t>
            </a:r>
            <a:r>
              <a:rPr b="1" lang="en-GB" sz="2200" spc="-1" strike="noStrike">
                <a:solidFill>
                  <a:srgbClr val="944794"/>
                </a:solidFill>
                <a:latin typeface="Times New Roman"/>
              </a:rPr>
              <a:t>from KL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</a:t>
            </a:r>
            <a:r>
              <a:rPr b="1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</a:t>
            </a:r>
            <a:r>
              <a:rPr b="1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  from E865</a:t>
            </a:r>
            <a:r>
              <a:rPr b="1" lang="en-GB" sz="2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cc"/>
                </a:solidFill>
                <a:latin typeface="Symbol"/>
                <a:ea typeface="Symbol"/>
              </a:rPr>
              <a:t></a:t>
            </a:r>
            <a:r>
              <a:rPr b="1" lang="en-GB" sz="2200" spc="-1" strike="noStrike" baseline="-33000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0000cc"/>
                </a:solidFill>
                <a:latin typeface="Symbol"/>
                <a:ea typeface="Symbol"/>
              </a:rPr>
              <a:t></a:t>
            </a:r>
            <a:r>
              <a:rPr b="1" lang="en-GB" sz="2200" spc="-1" strike="noStrike">
                <a:solidFill>
                  <a:srgbClr val="0000cc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0000cc"/>
                </a:solidFill>
                <a:latin typeface="Symbol"/>
                <a:ea typeface="Symbol"/>
              </a:rPr>
              <a:t></a:t>
            </a:r>
            <a:r>
              <a:rPr b="1" lang="en-GB" sz="2200" spc="-1" strike="noStrike">
                <a:solidFill>
                  <a:srgbClr val="0000cc"/>
                </a:solidFill>
                <a:latin typeface="Times New Roman"/>
              </a:rPr>
              <a:t>from KT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33"/>
                </a:solidFill>
                <a:latin typeface="Symbol"/>
                <a:ea typeface="Symbol"/>
              </a:rPr>
              <a:t></a:t>
            </a:r>
            <a:r>
              <a:rPr b="1" lang="en-GB" sz="2200" spc="-1" strike="noStrike" baseline="-33000">
                <a:solidFill>
                  <a:srgbClr val="cc6633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cc6633"/>
                </a:solidFill>
                <a:latin typeface="Symbol"/>
                <a:ea typeface="Symbol"/>
              </a:rPr>
              <a:t></a:t>
            </a:r>
            <a:r>
              <a:rPr b="1" lang="en-GB" sz="2200" spc="-1" strike="noStrike">
                <a:solidFill>
                  <a:srgbClr val="cc6633"/>
                </a:solidFill>
                <a:latin typeface="Times New Roman"/>
              </a:rPr>
              <a:t>e</a:t>
            </a:r>
            <a:r>
              <a:rPr b="1" lang="en-GB" sz="2200" spc="-1" strike="noStrike">
                <a:solidFill>
                  <a:srgbClr val="cc6633"/>
                </a:solidFill>
                <a:latin typeface="Symbol"/>
                <a:ea typeface="Symbol"/>
              </a:rPr>
              <a:t></a:t>
            </a:r>
            <a:r>
              <a:rPr b="1" lang="en-GB" sz="2200" spc="-1" strike="noStrike">
                <a:solidFill>
                  <a:srgbClr val="cc6633"/>
                </a:solidFill>
                <a:latin typeface="Times New Roman"/>
              </a:rPr>
              <a:t>from NA4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cc6633"/>
                </a:solidFill>
                <a:latin typeface="Symbol"/>
                <a:ea typeface="Symbol"/>
              </a:rPr>
              <a:t></a:t>
            </a:r>
            <a:r>
              <a:rPr b="1" lang="en-GB" sz="2200" spc="-1" strike="noStrike" baseline="33000">
                <a:solidFill>
                  <a:srgbClr val="cc6633"/>
                </a:solidFill>
                <a:latin typeface="Times New Roman"/>
              </a:rPr>
              <a:t>+/-</a:t>
            </a:r>
            <a:r>
              <a:rPr b="1" lang="en-GB" sz="2200" spc="-1" strike="noStrike">
                <a:solidFill>
                  <a:srgbClr val="cc6633"/>
                </a:solidFill>
                <a:latin typeface="Symbol"/>
                <a:ea typeface="Symbol"/>
              </a:rPr>
              <a:t></a:t>
            </a:r>
            <a:r>
              <a:rPr b="1" lang="en-GB" sz="2200" spc="-1" strike="noStrike">
                <a:solidFill>
                  <a:srgbClr val="cc6633"/>
                </a:solidFill>
                <a:latin typeface="Times New Roman"/>
              </a:rPr>
              <a:t>e</a:t>
            </a:r>
            <a:r>
              <a:rPr b="1" lang="en-GB" sz="2200" spc="-1" strike="noStrike">
                <a:solidFill>
                  <a:srgbClr val="cc6633"/>
                </a:solidFill>
                <a:latin typeface="Symbol"/>
                <a:ea typeface="Symbol"/>
              </a:rPr>
              <a:t></a:t>
            </a:r>
            <a:r>
              <a:rPr b="1" lang="en-GB" sz="2200" spc="-1" strike="noStrike">
                <a:solidFill>
                  <a:srgbClr val="cc6633"/>
                </a:solidFill>
                <a:latin typeface="Times New Roman"/>
              </a:rPr>
              <a:t>from NA4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1" lang="en-GB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) from PDG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Unitarity test of CKM matrix – 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41972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. Ellis concluding remarks @ the ICHEP 2004 conference in Bejing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5719680"/>
            <a:ext cx="693432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KM unitarity ‘crisis’ has disappe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5451" r="0" b="0"/>
          <a:stretch/>
        </p:blipFill>
        <p:spPr>
          <a:xfrm>
            <a:off x="3394080" y="1308240"/>
            <a:ext cx="5686560" cy="4265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19320" y="1465200"/>
            <a:ext cx="1392840" cy="42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Times New Roman"/>
              </a:rPr>
              <a:t>us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x f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8240" y="574524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ut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6320" y="990720"/>
            <a:ext cx="617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xperimental knowledge of form factor uncle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GB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GB" sz="3600" spc="-1" strike="noStrike">
                <a:solidFill>
                  <a:srgbClr val="0066ff"/>
                </a:solidFill>
                <a:latin typeface="Times New Roman"/>
              </a:rPr>
              <a:t> f</a:t>
            </a:r>
            <a:r>
              <a:rPr b="0" i="1" lang="en-GB" sz="3600" spc="-1" strike="noStrike" baseline="-25000">
                <a:solidFill>
                  <a:srgbClr val="0066ff"/>
                </a:solidFill>
                <a:latin typeface="Times New Roman"/>
              </a:rPr>
              <a:t>+</a:t>
            </a:r>
            <a:r>
              <a:rPr b="0" i="1" lang="en-GB" sz="36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GB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GB" sz="3600" spc="-1" strike="noStrike">
                <a:solidFill>
                  <a:srgbClr val="0066ff"/>
                </a:solidFill>
                <a:latin typeface="Times New Roman"/>
              </a:rPr>
              <a:t>(0) vs K</a:t>
            </a:r>
            <a:r>
              <a:rPr b="0" i="1" lang="en-GB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GB" sz="3600" spc="-1" strike="noStrike">
                <a:solidFill>
                  <a:srgbClr val="0066ff"/>
                </a:solidFill>
                <a:latin typeface="Times New Roman"/>
              </a:rPr>
              <a:t> lifetime and ff’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12290" t="27068" r="6333" b="10129"/>
          <a:stretch/>
        </p:blipFill>
        <p:spPr>
          <a:xfrm>
            <a:off x="6000840" y="1076400"/>
            <a:ext cx="2819160" cy="2817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726960" y="1193760"/>
            <a:ext cx="122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TeV 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60120" y="2031840"/>
            <a:ext cx="149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STRA+ 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30440" y="2946240"/>
            <a:ext cx="121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A48 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5713200" y="1431720"/>
            <a:ext cx="9874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91480" y="3479760"/>
            <a:ext cx="936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5410080" y="4289400"/>
            <a:ext cx="3657600" cy="612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389560" y="5010120"/>
            <a:ext cx="360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able effect on estimates of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Times New Roman"/>
              </a:rPr>
              <a:t>us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0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ro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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and wether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0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81280" y="3890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16440" y="30988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22920" y="2006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22920" y="9144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08280" y="38862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03600" y="38862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rcRect l="11209" t="-3006" r="-1049" b="-1104"/>
          <a:stretch/>
        </p:blipFill>
        <p:spPr>
          <a:xfrm>
            <a:off x="343080" y="1359000"/>
            <a:ext cx="481140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6320" y="990720"/>
            <a:ext cx="617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xperimental knowledge of form factor uncle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GB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GB" sz="3600" spc="-1" strike="noStrike">
                <a:solidFill>
                  <a:srgbClr val="0066ff"/>
                </a:solidFill>
                <a:latin typeface="Times New Roman"/>
              </a:rPr>
              <a:t> f</a:t>
            </a:r>
            <a:r>
              <a:rPr b="0" i="1" lang="en-GB" sz="3600" spc="-1" strike="noStrike" baseline="-25000">
                <a:solidFill>
                  <a:srgbClr val="0066ff"/>
                </a:solidFill>
                <a:latin typeface="Times New Roman"/>
              </a:rPr>
              <a:t>+</a:t>
            </a:r>
            <a:r>
              <a:rPr b="0" i="1" lang="en-GB" sz="36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GB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GB" sz="3600" spc="-1" strike="noStrike">
                <a:solidFill>
                  <a:srgbClr val="0066ff"/>
                </a:solidFill>
                <a:latin typeface="Times New Roman"/>
              </a:rPr>
              <a:t>(0) vs K</a:t>
            </a:r>
            <a:r>
              <a:rPr b="0" i="1" lang="en-GB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GB" sz="3600" spc="-1" strike="noStrike">
                <a:solidFill>
                  <a:srgbClr val="0066ff"/>
                </a:solidFill>
                <a:latin typeface="Times New Roman"/>
              </a:rPr>
              <a:t> lifetime and ff’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rcRect l="12290" t="27068" r="6333" b="10129"/>
          <a:stretch/>
        </p:blipFill>
        <p:spPr>
          <a:xfrm>
            <a:off x="6000840" y="1076400"/>
            <a:ext cx="2819160" cy="28177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726960" y="1193760"/>
            <a:ext cx="122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KTeV 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60120" y="2031840"/>
            <a:ext cx="149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STRA+ 0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30440" y="2946240"/>
            <a:ext cx="121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NA48 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5694120" y="1431720"/>
            <a:ext cx="9874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91480" y="3479760"/>
            <a:ext cx="936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410080" y="4264200"/>
            <a:ext cx="3657600" cy="612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389560" y="4984920"/>
            <a:ext cx="3602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able effect on estimates of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Times New Roman"/>
              </a:rPr>
              <a:t>us </a:t>
            </a:r>
            <a:r>
              <a:rPr b="0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0" lang="it-IT" sz="2400" spc="-1" strike="noStrike" baseline="-25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(0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from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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and whether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0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81280" y="3890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6440" y="309888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22920" y="200664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22920" y="91440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08280" y="38862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03600" y="388620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rcRect l="17420" t="0" r="0" b="0"/>
          <a:stretch/>
        </p:blipFill>
        <p:spPr>
          <a:xfrm>
            <a:off x="304920" y="1511280"/>
            <a:ext cx="4800600" cy="463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2280" y="914400"/>
            <a:ext cx="85345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determinations o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from analyses currently r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K</a:t>
            </a:r>
            <a:r>
              <a:rPr b="0" i="1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nd/or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GB" sz="2200" spc="-1" strike="noStrike">
                <a:solidFill>
                  <a:srgbClr val="ff0000"/>
                </a:solidFill>
                <a:latin typeface="Times New Roman"/>
              </a:rPr>
              <a:t>K</a:t>
            </a:r>
            <a:r>
              <a:rPr b="0" i="1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ame method as ab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What’s missing: charged kaon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7960" y="1905120"/>
            <a:ext cx="722952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be compared wi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easurement of BR(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from E865 @ BN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btained normalizing wrt 3-prong decay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/ 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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tal relative accuracy of 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eliminary measurement of 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from NA48/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btained from 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/ 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tal relative accuracy of 1.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contrast="12000"/>
          </a:blip>
          <a:srcRect l="16286" t="16644" r="16850" b="16693"/>
          <a:stretch/>
        </p:blipFill>
        <p:spPr>
          <a:xfrm>
            <a:off x="5105520" y="2095560"/>
            <a:ext cx="3848040" cy="3835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from K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semileptonic width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6680" y="2722680"/>
            <a:ext cx="762120" cy="3045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280" y="838080"/>
            <a:ext cx="883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asure 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K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bsolu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BR’s with rel. accuracy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% (BR’s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5 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1143000"/>
            <a:ext cx="8991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tagged by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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decays in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prong decay vertex in DC, cut on 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o reject two-body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lusters selected, calculate mass of daughter charged particle from relative T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04920" y="2133720"/>
            <a:ext cx="3962160" cy="3924360"/>
            <a:chOff x="304920" y="2133720"/>
            <a:chExt cx="3962160" cy="3924360"/>
          </a:xfrm>
        </p:grpSpPr>
        <p:pic>
          <p:nvPicPr>
            <p:cNvPr id="301" name="" descr=""/>
            <p:cNvPicPr/>
            <p:nvPr/>
          </p:nvPicPr>
          <p:blipFill>
            <a:blip r:embed="rId2"/>
            <a:srcRect l="16405" t="9140" r="18749" b="3765"/>
            <a:stretch/>
          </p:blipFill>
          <p:spPr>
            <a:xfrm>
              <a:off x="304920" y="2133720"/>
              <a:ext cx="396216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1960560" y="3332880"/>
              <a:ext cx="109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75080" y="277272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91080" y="4142880"/>
              <a:ext cx="1423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0560" y="4526280"/>
              <a:ext cx="38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400" y="3877920"/>
              <a:ext cx="1368000" cy="73980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411200" y="4609800"/>
              <a:ext cx="618840" cy="86724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32040" y="3655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14720" y="48726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795200" y="5699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63760" y="58514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30560" y="5851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171640" y="585144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00280" y="41115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3240" y="25495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408080" y="5354640"/>
            <a:ext cx="141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MeV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241600" y="2209680"/>
            <a:ext cx="16894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(14MeV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32520" y="2590920"/>
            <a:ext cx="27925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C fit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99"/>
                </a:solidFill>
                <a:latin typeface="Times New Roman"/>
              </a:rPr>
              <a:t>MC fit </a:t>
            </a:r>
            <a:r>
              <a:rPr b="1" lang="en-US" sz="2400" spc="-1" strike="noStrike">
                <a:solidFill>
                  <a:srgbClr val="00ff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ff99"/>
                </a:solidFill>
                <a:latin typeface="Symbol"/>
                <a:ea typeface="Symbol"/>
              </a:rPr>
              <a:t>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MC fit </a:t>
            </a:r>
            <a:r>
              <a:rPr b="1" lang="en-US" sz="2400" spc="-1" strike="noStrike">
                <a:solidFill>
                  <a:srgbClr val="99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9966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99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9966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99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9966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9966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9966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52280" y="914400"/>
            <a:ext cx="85345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determinations of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from analyses currently runn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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and/or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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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ame method as ab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What’s missing: charged kaon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7960" y="1905120"/>
            <a:ext cx="722952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 be compared wi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easurement of BR(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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from E865 @ BN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btained normalizing wrt 3-prong decay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/ 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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tal relative accuracy of 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Preliminary measurement of 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from NA48/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Obtained from 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 / BR(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Total relative accuracy of 1.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18000" y="4871880"/>
            <a:ext cx="79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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</a:t>
            </a:r>
            <a:r>
              <a:rPr b="0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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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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[Marciano hep-ph 0402299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1200" y="5410080"/>
            <a:ext cx="76518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se f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/ f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from a recent lattice calculation and knowledge of 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919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ndependent metho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from K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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2722680"/>
            <a:ext cx="762120" cy="30456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83808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bsolu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BR for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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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with rel. accuracy &lt;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1143000"/>
            <a:ext cx="8991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tagged by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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decays in 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prong decay vertex in DC, use 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distribution to identify two-body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25640" y="5948280"/>
            <a:ext cx="2875680" cy="38448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daughter particle)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04920" y="2133720"/>
            <a:ext cx="3962160" cy="3924360"/>
            <a:chOff x="304920" y="2133720"/>
            <a:chExt cx="3962160" cy="3924360"/>
          </a:xfrm>
        </p:grpSpPr>
        <p:pic>
          <p:nvPicPr>
            <p:cNvPr id="330" name="" descr=""/>
            <p:cNvPicPr/>
            <p:nvPr/>
          </p:nvPicPr>
          <p:blipFill>
            <a:blip r:embed="rId1"/>
            <a:srcRect l="16405" t="9140" r="18749" b="3765"/>
            <a:stretch/>
          </p:blipFill>
          <p:spPr>
            <a:xfrm>
              <a:off x="304920" y="2133720"/>
              <a:ext cx="396216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960560" y="3332880"/>
              <a:ext cx="1092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75080" y="2772720"/>
              <a:ext cx="39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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91080" y="4142880"/>
              <a:ext cx="1307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r>
                <a:rPr b="1" i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0560" y="4520160"/>
              <a:ext cx="40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2400" y="3877920"/>
              <a:ext cx="1368000" cy="73980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411200" y="4609800"/>
              <a:ext cx="618840" cy="867240"/>
            </a:xfrm>
            <a:prstGeom prst="line">
              <a:avLst/>
            </a:prstGeom>
            <a:ln w="2232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32040" y="3655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14720" y="48726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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9" name="" descr=""/>
          <p:cNvPicPr/>
          <p:nvPr/>
        </p:nvPicPr>
        <p:blipFill>
          <a:blip r:embed="rId2"/>
          <a:srcRect l="11463" t="18208" r="14473" b="24547"/>
          <a:stretch/>
        </p:blipFill>
        <p:spPr>
          <a:xfrm>
            <a:off x="5105520" y="2057400"/>
            <a:ext cx="3720960" cy="37209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795200" y="5546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07240" y="5699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99000" y="5699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70840" y="5699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40320" y="4035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40320" y="2514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72480" y="2286000"/>
            <a:ext cx="1776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C fit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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99"/>
                </a:solidFill>
                <a:latin typeface="Times New Roman"/>
              </a:rPr>
              <a:t>MC fit </a:t>
            </a:r>
            <a:r>
              <a:rPr b="1" lang="en-US" sz="2400" spc="-1" strike="noStrike">
                <a:solidFill>
                  <a:srgbClr val="00ff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ff99"/>
                </a:solidFill>
                <a:latin typeface="Symbol"/>
                <a:ea typeface="Symbol"/>
              </a:rPr>
              <a:t></a:t>
            </a:r>
            <a:r>
              <a:rPr b="1" lang="en-US" sz="2400" spc="-1" strike="noStrike">
                <a:solidFill>
                  <a:srgbClr val="00ff99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ff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03080" y="2158920"/>
            <a:ext cx="150336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from K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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944640"/>
            <a:ext cx="883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igh statistical redundancy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 a DC-independent selection (TOF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tudy selection efficiency directly from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check reliability of MC in reproducing signal and background sha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2209680"/>
            <a:ext cx="87188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eliminary results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ystematics under evalu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LO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R (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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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0.0013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0.0022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sy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DG Fi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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6343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0.001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iang ‘7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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6324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0.00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27600" y="3733920"/>
            <a:ext cx="4617000" cy="26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he method of Marcian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LO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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us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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LO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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LO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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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LO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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arity and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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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What’s missing: K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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lifetim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320" y="990720"/>
            <a:ext cx="84942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xpect sizeable effects for V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from knowledge of the K</a:t>
            </a:r>
            <a:r>
              <a:rPr b="1" lang="en-GB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lifeti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DG 2004 fit gives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 = 12.384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0.024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rror too small, if the experimental knowledge is critically addresse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505320" y="2077920"/>
            <a:ext cx="5257800" cy="37893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06000" y="5791320"/>
            <a:ext cx="424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LOE can say something on that…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Summary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4968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esent data 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siderations on luminosity and backgroun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0040" y="4349880"/>
            <a:ext cx="2819160" cy="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5840" y="1706400"/>
            <a:ext cx="43898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R’s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fe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nd charge asymme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990720"/>
            <a:ext cx="7696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us and physics impact of analyses of 2001-200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utral ka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5791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ysics with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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 fb</a:t>
            </a:r>
            <a:r>
              <a:rPr b="1" lang="it-IT" sz="2400" spc="-1" strike="noStrike" u="sng" baseline="30000">
                <a:solidFill>
                  <a:srgbClr val="000000"/>
                </a:solidFill>
                <a:uFillTx/>
                <a:latin typeface="Symbol"/>
                <a:ea typeface="Symbol"/>
              </a:rPr>
              <a:t></a:t>
            </a:r>
            <a:r>
              <a:rPr b="1" lang="it-IT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of additional integrated lumin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8920" y="245124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ged ka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5960" y="2840040"/>
            <a:ext cx="46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’s for 2-body decays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life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8920" y="357336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surement of hadronic cross se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000" y="4254480"/>
            <a:ext cx="31251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rans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ults from 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ac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17524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657"/>
                </a:lnTo>
                <a:cubicBezTo>
                  <a:pt x="10800" y="9557"/>
                  <a:pt x="16200" y="10457"/>
                  <a:pt x="21600" y="10457"/>
                </a:cubicBezTo>
                <a:cubicBezTo>
                  <a:pt x="16200" y="10457"/>
                  <a:pt x="10800" y="11357"/>
                  <a:pt x="10800" y="122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26360" y="2286000"/>
            <a:ext cx="225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Vus determ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34640" y="4254480"/>
            <a:ext cx="25563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nature of the f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sca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920" y="320040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results from kaon phys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920" y="3936960"/>
            <a:ext cx="640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ght meson spectroscop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32840" y="3573360"/>
            <a:ext cx="3172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hadronic contribution to a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5640" y="3200400"/>
            <a:ext cx="21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CP and CPT te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rcRect l="9068" t="4170" r="2039" b="9228"/>
          <a:stretch/>
        </p:blipFill>
        <p:spPr>
          <a:xfrm>
            <a:off x="609480" y="227160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What’s missing: K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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lifetim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3000" y="914400"/>
            <a:ext cx="88506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wo independent determination of charged kaon lifeti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per decay time from the track length, taking into account dE/dx lo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rcRect l="11607" t="4775" r="1485" b="9252"/>
          <a:stretch/>
        </p:blipFill>
        <p:spPr>
          <a:xfrm>
            <a:off x="5219640" y="2297160"/>
            <a:ext cx="3708360" cy="36590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719680" y="2895480"/>
            <a:ext cx="291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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dat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69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2895480"/>
            <a:ext cx="3124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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dat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61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61320" y="5421240"/>
            <a:ext cx="8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679400" y="3498840"/>
            <a:ext cx="14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03640" y="3494160"/>
            <a:ext cx="14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6600" y="2319480"/>
            <a:ext cx="152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0.4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6000" y="5699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8560" y="4568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560" y="2184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8560" y="3375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1512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7568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042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41360" y="5699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13920" y="44672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13920" y="32004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5048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1104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3992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41680" y="2324160"/>
            <a:ext cx="152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0.4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025480" y="542304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1560" y="2324160"/>
            <a:ext cx="1968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08760" y="2336760"/>
            <a:ext cx="1968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What’s missing: K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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lifetim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7320" y="914400"/>
            <a:ext cx="85338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wo independent determination of charged kaon lifeti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per decay time from EmC measurement of TOF for decay photon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 = (T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phot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R/c) /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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7499" t="1513" r="935" b="8681"/>
          <a:stretch/>
        </p:blipFill>
        <p:spPr>
          <a:xfrm>
            <a:off x="5194440" y="2166840"/>
            <a:ext cx="3720960" cy="3764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>
            <a:lum contrast="-2000"/>
          </a:blip>
          <a:srcRect l="7948" t="906" r="921" b="8702"/>
          <a:stretch/>
        </p:blipFill>
        <p:spPr>
          <a:xfrm>
            <a:off x="533520" y="2170080"/>
            <a:ext cx="3787560" cy="37861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6100920" y="2743200"/>
            <a:ext cx="2738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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dat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4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549440" y="2743200"/>
            <a:ext cx="2666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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imes New Roman"/>
              </a:rPr>
              <a:t>dat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4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27080" y="3459240"/>
            <a:ext cx="14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22760" y="3459240"/>
            <a:ext cx="149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1320" y="5421240"/>
            <a:ext cx="8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6200" y="2230560"/>
            <a:ext cx="131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2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6000" y="5699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760" y="47372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760" y="2727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760" y="37180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512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568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0420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941360" y="5699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86480" y="4708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86480" y="37051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5048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1104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39920" y="5943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2235240"/>
            <a:ext cx="131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2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025480" y="5423040"/>
            <a:ext cx="78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it-IT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11560" y="2209680"/>
            <a:ext cx="19684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08760" y="2209680"/>
            <a:ext cx="19684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86480" y="2705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Other analyses of K decays – 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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280" y="4419720"/>
            <a:ext cx="8839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 limit on BR(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at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level translates into an improvement on the accuracy of Im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 i.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1066680"/>
            <a:ext cx="899172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Observation of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ignals CP violation in mixing and/or in deca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 prediction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giving BR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1.9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st limit from direct search (SND)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&lt; 1.4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erence from NA48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&lt; 7.4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2844720"/>
            <a:ext cx="883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ncertainty on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mplitude affects precision of CPT tes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7120" y="5148360"/>
            <a:ext cx="32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7840" y="3247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unit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200" y="3992400"/>
            <a:ext cx="1663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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,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60120" y="3687840"/>
            <a:ext cx="76359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 + i ta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R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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*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) A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)/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+ tan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Im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5715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73960" y="5668920"/>
            <a:ext cx="546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47120" y="5460840"/>
            <a:ext cx="138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8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2080" y="5500800"/>
            <a:ext cx="209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lan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4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12720" y="5288040"/>
            <a:ext cx="1671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K0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K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Analysis outlin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rcRect l="11690" t="38699" r="13791" b="7987"/>
          <a:stretch/>
        </p:blipFill>
        <p:spPr>
          <a:xfrm>
            <a:off x="800280" y="2514600"/>
            <a:ext cx="3036600" cy="3505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096280" y="2590920"/>
            <a:ext cx="1628280" cy="74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C K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91560" y="5911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3720" y="5786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6640" y="51037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6640" y="4417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6640" y="3051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6640" y="3736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05880" y="5911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96000" y="5911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72440" y="5911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43840" y="5911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933480" y="2590920"/>
            <a:ext cx="550800" cy="440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876920"/>
            <a:ext cx="978120" cy="0"/>
          </a:xfrm>
          <a:prstGeom prst="line">
            <a:avLst/>
          </a:prstGeom>
          <a:ln w="1908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52480" y="4629240"/>
            <a:ext cx="2967120" cy="866520"/>
          </a:xfrm>
          <a:prstGeom prst="rect">
            <a:avLst/>
          </a:prstGeom>
          <a:solidFill>
            <a:srgbClr val="00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89240" y="5537160"/>
            <a:ext cx="550800" cy="440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rcRect l="8826" t="6226" r="6226" b="11555"/>
          <a:stretch/>
        </p:blipFill>
        <p:spPr>
          <a:xfrm>
            <a:off x="5067360" y="2522520"/>
            <a:ext cx="3530520" cy="34974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273640" y="2514600"/>
            <a:ext cx="280512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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MC K</a:t>
            </a:r>
            <a:r>
              <a:rPr b="1" lang="en-US" sz="2200" spc="-1" strike="noStrike" baseline="-25000">
                <a:solidFill>
                  <a:srgbClr val="0000cc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cc"/>
                </a:solidFill>
                <a:latin typeface="Times New Roman"/>
              </a:rPr>
              <a:t> 2</a:t>
            </a:r>
            <a:r>
              <a:rPr b="1" lang="en-US" sz="2200" spc="-1" strike="noStrike">
                <a:solidFill>
                  <a:srgbClr val="0000cc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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R(K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 = 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762680" y="5372280"/>
            <a:ext cx="695880" cy="579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77720" y="5927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92320" y="5761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64880" y="4927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37080" y="40813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136720" y="592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98480" y="592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489080" y="592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37080" y="3252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46120" y="592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55520" y="592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37080" y="2422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280" y="888840"/>
            <a:ext cx="80773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’s tagged by means of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ras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photons (neutral clusters, TOF consistent wit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), no tracks from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re 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s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hypothe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ring of 6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s with bett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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ring of 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out of 6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es, E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c.m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Result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26360" y="5575320"/>
            <a:ext cx="79945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ich translates into a limit on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000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   &lt; 2.4 10</a:t>
            </a:r>
            <a:r>
              <a:rPr b="0" lang="en-US" sz="22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673520" y="5351400"/>
            <a:ext cx="2108160" cy="957600"/>
            <a:chOff x="4673520" y="5351400"/>
            <a:chExt cx="2108160" cy="957600"/>
          </a:xfrm>
        </p:grpSpPr>
        <p:sp>
          <p:nvSpPr>
            <p:cNvPr id="459" name=""/>
            <p:cNvSpPr/>
            <p:nvPr/>
          </p:nvSpPr>
          <p:spPr>
            <a:xfrm>
              <a:off x="4752360" y="5351400"/>
              <a:ext cx="19252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(K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52360" y="5833800"/>
              <a:ext cx="19342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(K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75400" y="5803560"/>
              <a:ext cx="185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73520" y="54482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781680" y="5422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27080" y="982800"/>
            <a:ext cx="429696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e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data) = 4 eve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lec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kg due to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+ accident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e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bkg) = 3.4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4 bkg from M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&lt; 5.79 with a 90% C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fficienc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2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82920" y="5135400"/>
            <a:ext cx="1198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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65360" y="51814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4240" y="4965840"/>
            <a:ext cx="2355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R(K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82920" y="4660920"/>
            <a:ext cx="1198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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52280" y="4233960"/>
            <a:ext cx="3717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ize to 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unt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519440" y="914400"/>
            <a:ext cx="4548240" cy="44323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672360" y="4965840"/>
            <a:ext cx="3097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(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&lt; 2.1 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 New Roman"/>
              </a:rPr>
              <a:t>-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Other analyses of K decays – 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L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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2280" y="914400"/>
            <a:ext cx="899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bsolu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BR with 1% accuracy with the present statistic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1447920"/>
            <a:ext cx="89917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 o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minant contribution to the accuracy of CPT violation test via the unitarity re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280" y="2362320"/>
            <a:ext cx="8991720" cy="15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eliminary resul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KLO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 = (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0.013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0.017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Times New Roman"/>
              </a:rPr>
              <a:t>syst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 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KTEV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= (1.975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0.012)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DG 200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= (2.084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0.032)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2280" y="4024440"/>
            <a:ext cx="89917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/BR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KLO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@ 0.7%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PD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@ 1.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t: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KLOE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Re(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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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2.8) 1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DG 200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(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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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0.26)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SM prediction vs experiment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5200" y="977760"/>
            <a:ext cx="8878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Updated measurement from E821@BNL, averaging results for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320" y="271152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ibutions to the SM predi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01120" y="1519200"/>
            <a:ext cx="3794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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74480" y="2400480"/>
            <a:ext cx="2504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1 658 470.4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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991200" y="2781360"/>
            <a:ext cx="137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15.4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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15760" y="3162240"/>
            <a:ext cx="1631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hadronic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5280" y="2781360"/>
            <a:ext cx="124128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weak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78000" y="3162240"/>
            <a:ext cx="822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20040" y="2400480"/>
            <a:ext cx="122616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QED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rcRect l="39788" t="41751" r="32979" b="37280"/>
          <a:stretch/>
        </p:blipFill>
        <p:spPr>
          <a:xfrm>
            <a:off x="6464160" y="3733920"/>
            <a:ext cx="1400400" cy="15238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76320" y="4114800"/>
            <a:ext cx="891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certainty on lowest-order hadronic vacuum polarizatio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domin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5592600"/>
            <a:ext cx="8915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dronic correction to 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opagator not calculable by p-QCD for low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6840" y="3086280"/>
            <a:ext cx="147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ni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SM prediction vs experiment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8440" y="3695760"/>
            <a:ext cx="8350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ces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@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 &lt; 1 GeV contributes as much as 66% to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1160" y="4114800"/>
            <a:ext cx="3546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 far, estimates of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had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fro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49120" y="4525920"/>
            <a:ext cx="889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vs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at a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llider, varying the beam energy (CMD2, 0.9% rel. uncertain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4600" y="5288040"/>
            <a:ext cx="7433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the spectral function from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LEP, CESR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6160" y="990720"/>
            <a:ext cx="7011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ersion integral relates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ha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vac-pol) to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hadron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rcRect l="17684" t="40760" r="18028" b="38816"/>
          <a:stretch/>
        </p:blipFill>
        <p:spPr>
          <a:xfrm>
            <a:off x="2057400" y="1452600"/>
            <a:ext cx="5283360" cy="11872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rcRect l="16310" t="44166" r="16652" b="43194"/>
          <a:stretch/>
        </p:blipFill>
        <p:spPr>
          <a:xfrm>
            <a:off x="1295280" y="2730600"/>
            <a:ext cx="6235920" cy="8316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95760" y="5745240"/>
            <a:ext cx="4316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owever,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–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20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(e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-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-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) from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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event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1036800"/>
            <a:ext cx="49528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at fixe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xploit ISR to extract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from 2m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320" y="2590920"/>
            <a:ext cx="419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o watch out f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hard FS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4618080"/>
            <a:ext cx="883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to properly include radiative corrections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320" y="5562720"/>
            <a:ext cx="44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remove vacuum polarizati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6600" y="2997360"/>
            <a:ext cx="406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t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ame order as ISR sign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57200" y="3340080"/>
            <a:ext cx="44197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SR causes events with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to be assigned to lower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rcRect l="20819" t="42776" r="20819" b="42435"/>
          <a:stretch/>
        </p:blipFill>
        <p:spPr>
          <a:xfrm>
            <a:off x="5029200" y="971640"/>
            <a:ext cx="3809880" cy="1365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rcRect l="26173" t="43817" r="26173" b="44499"/>
          <a:stretch/>
        </p:blipFill>
        <p:spPr>
          <a:xfrm>
            <a:off x="5029200" y="2806560"/>
            <a:ext cx="3809880" cy="132264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3"/>
          <a:srcRect l="37846" t="44156" r="37846" b="44156"/>
          <a:stretch/>
        </p:blipFill>
        <p:spPr>
          <a:xfrm>
            <a:off x="5486400" y="4384800"/>
            <a:ext cx="1295280" cy="8809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4"/>
          <a:srcRect l="16948" t="71933" r="50001" b="14958"/>
          <a:stretch/>
        </p:blipFill>
        <p:spPr>
          <a:xfrm>
            <a:off x="4114800" y="5332320"/>
            <a:ext cx="1676520" cy="94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Measurement of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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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Analysis schem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320" y="2751120"/>
            <a:ext cx="43434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lect signal with a 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small-</a:t>
            </a:r>
            <a:r>
              <a:rPr b="1" lang="en-US" sz="2200" spc="-1" strike="noStrike">
                <a:solidFill>
                  <a:srgbClr val="006600"/>
                </a:solidFill>
                <a:latin typeface="Symbol"/>
                <a:ea typeface="Symbol"/>
              </a:rPr>
              <a:t></a:t>
            </a:r>
            <a:r>
              <a:rPr b="1" lang="en-US" sz="2200" spc="-1" strike="noStrike">
                <a:solidFill>
                  <a:srgbClr val="006600"/>
                </a:solidFill>
                <a:latin typeface="Times New Roman"/>
              </a:rPr>
              <a:t> phot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to enhance ISR: d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IS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1/si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4703760"/>
            <a:ext cx="4267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se events with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 600 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320" y="99072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high-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racks from a vertex close to 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320" y="1600200"/>
            <a:ext cx="35812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 photon momentum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ithout explicit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detection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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3657600"/>
            <a:ext cx="41911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ve contribution of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hard FS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low the % level over enti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191120" y="1353960"/>
            <a:ext cx="4952880" cy="45388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28600" y="5135400"/>
            <a:ext cx="44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duce backg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520" y="5821200"/>
            <a:ext cx="537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idual background from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125960" y="5821200"/>
            <a:ext cx="215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Unitarity test of CKM matrix – 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6516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st precise test of unitarity possible at present comes from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row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6800" y="1943280"/>
            <a:ext cx="883440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n test if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0 at few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super-allowed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ermi transitions, 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decays: 2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00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om semileptonic kaon decays (PDG 2002 fit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6480" y="1434960"/>
            <a:ext cx="5130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+ 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1 –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240" y="3535200"/>
            <a:ext cx="7854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To extract |V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| have to include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EM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effects, e.g. from K</a:t>
            </a:r>
            <a:r>
              <a:rPr b="1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it-IT" sz="22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decay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9400" y="4017960"/>
            <a:ext cx="230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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18960" y="4017960"/>
            <a:ext cx="24048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(1 +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I(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84160" y="4017960"/>
            <a:ext cx="118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 +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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99840" y="4013280"/>
            <a:ext cx="22122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|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K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|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94800" y="5486400"/>
            <a:ext cx="3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834280" y="5067360"/>
            <a:ext cx="4543200" cy="937080"/>
            <a:chOff x="2834280" y="5067360"/>
            <a:chExt cx="4543200" cy="937080"/>
          </a:xfrm>
        </p:grpSpPr>
        <p:sp>
          <p:nvSpPr>
            <p:cNvPr id="126" name=""/>
            <p:cNvSpPr/>
            <p:nvPr/>
          </p:nvSpPr>
          <p:spPr>
            <a:xfrm>
              <a:off x="2834280" y="5067360"/>
              <a:ext cx="7750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it-IT" sz="22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0" lang="it-IT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13480" y="5529240"/>
              <a:ext cx="6469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lang="it-IT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Times New Roman"/>
                </a:rPr>
                <a:t>us</a:t>
              </a:r>
              <a:r>
                <a:rPr b="1" lang="it-IT" sz="22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9960" y="506736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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8040" y="5524560"/>
              <a:ext cx="3772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9840" y="5067360"/>
              <a:ext cx="5144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</a:t>
              </a:r>
              <a:r>
                <a:rPr b="0" lang="it-IT" sz="22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18280" y="5067360"/>
              <a:ext cx="115920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K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12960" y="5529240"/>
              <a:ext cx="102204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K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(0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4840" y="5316480"/>
              <a:ext cx="2742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 0.5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0.05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34000" y="55371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05600" y="5524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75320" y="5524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86680" y="55245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759000" y="2620800"/>
            <a:ext cx="232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|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0.00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7320" y="582120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93320" y="5821200"/>
            <a:ext cx="5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8000" y="5816520"/>
            <a:ext cx="76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5288040"/>
            <a:ext cx="270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Relative uncertaint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520" y="3048120"/>
            <a:ext cx="598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0.0042 </a:t>
            </a:r>
            <a:r>
              <a:rPr b="1" lang="en-GB" sz="2200" spc="-1" strike="noStrike">
                <a:solidFill>
                  <a:srgbClr val="ff0000"/>
                </a:solidFill>
                <a:latin typeface="Symbol"/>
                <a:ea typeface="Symbol"/>
              </a:rPr>
              <a:t>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0.0019  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PDG 2002, a 2-sigma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5257800"/>
            <a:ext cx="162720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0.03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from PDG 200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154440" y="4525920"/>
            <a:ext cx="7345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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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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 ( 1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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 /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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/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5181480" y="3009600"/>
            <a:ext cx="228600" cy="304776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rcRect l="4019" t="0" r="0" b="2379"/>
          <a:stretch/>
        </p:blipFill>
        <p:spPr>
          <a:xfrm>
            <a:off x="4595760" y="1371600"/>
            <a:ext cx="4548240" cy="46864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4779720" y="1511280"/>
            <a:ext cx="768960" cy="57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734160" y="5486400"/>
            <a:ext cx="167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Ge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00360" y="2755800"/>
            <a:ext cx="171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2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99280" y="2268360"/>
            <a:ext cx="1552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LO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645520" y="59529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40800" y="59529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204400" y="595296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38000" y="5813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10920" y="3957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10920" y="4871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10920" y="3030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37040" y="939960"/>
            <a:ext cx="4936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ff"/>
                </a:solidFill>
                <a:latin typeface="Symbol"/>
                <a:ea typeface="Symbol"/>
              </a:rPr>
              <a:t>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</a:t>
            </a:r>
            <a:r>
              <a:rPr b="1" i="1" lang="en-US" sz="22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1" lang="en-US" sz="22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ff"/>
                </a:solidFill>
                <a:latin typeface="Symbol"/>
                <a:ea typeface="Symbol"/>
              </a:rPr>
              <a:t></a:t>
            </a:r>
            <a:r>
              <a:rPr b="1" lang="en-US" sz="22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) =</a:t>
            </a:r>
            <a:r>
              <a:rPr b="1" lang="en-US" sz="22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66ff"/>
                </a:solidFill>
                <a:latin typeface="Symbol"/>
                <a:ea typeface="Symbol"/>
              </a:rPr>
              <a:t></a:t>
            </a:r>
            <a:r>
              <a:rPr b="1" lang="en-US" sz="2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66ff"/>
                </a:solidFill>
                <a:latin typeface="Symbol"/>
                <a:ea typeface="Symbol"/>
              </a:rPr>
              <a:t></a:t>
            </a:r>
            <a:r>
              <a:rPr b="1" lang="en-US" sz="2200" spc="-1" strike="noStrike" baseline="30000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 |F</a:t>
            </a:r>
            <a:r>
              <a:rPr b="1" lang="en-US" sz="22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(M</a:t>
            </a:r>
            <a:r>
              <a:rPr b="1" lang="en-US" sz="22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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)|</a:t>
            </a:r>
            <a:r>
              <a:rPr b="1" lang="en-US" sz="2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 / 3M</a:t>
            </a:r>
            <a:r>
              <a:rPr b="1" lang="en-US" sz="22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</a:t>
            </a:r>
            <a:r>
              <a:rPr b="1" lang="en-US" sz="2200" spc="-1" strike="noStrike" baseline="30000">
                <a:solidFill>
                  <a:srgbClr val="0066ff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Final result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3360" y="2125800"/>
            <a:ext cx="4496040" cy="85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had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.35&lt;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0.95 GeV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388.7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0.8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3.5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syst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3.5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theo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 10</a:t>
            </a:r>
            <a:r>
              <a:rPr b="0" lang="en-US" sz="2200" spc="-1" strike="noStrike" baseline="30000">
                <a:solidFill>
                  <a:srgbClr val="ff0000"/>
                </a:solidFill>
                <a:latin typeface="Times New Roman"/>
              </a:rPr>
              <a:t>-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366696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had-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.37&lt; M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 0.93 GeV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7360" y="4300560"/>
            <a:ext cx="3827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375.6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0.8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4.8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Times New Roman"/>
              </a:rPr>
              <a:t>syst+theo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) 10</a:t>
            </a:r>
            <a:r>
              <a:rPr b="0" lang="en-US" sz="2200" spc="-1" strike="noStrike" baseline="30000">
                <a:solidFill>
                  <a:srgbClr val="ff0000"/>
                </a:solidFill>
                <a:latin typeface="Times New Roman"/>
              </a:rPr>
              <a:t>-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7360" y="4962600"/>
            <a:ext cx="3827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78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2.7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2.3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yst+the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9240" y="3209760"/>
            <a:ext cx="32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ison with CMD2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95280" y="4056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KLO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64680" y="4695840"/>
            <a:ext cx="95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MD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800" y="5440320"/>
            <a:ext cx="41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asurements are in agre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5720" y="1609560"/>
            <a:ext cx="409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culating the dispersion integral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rcRect l="0" t="0" r="0" b="9822"/>
          <a:stretch/>
        </p:blipFill>
        <p:spPr>
          <a:xfrm>
            <a:off x="380880" y="1527120"/>
            <a:ext cx="4041720" cy="326556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Final result for hadronic cross section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35000" y="3765600"/>
            <a:ext cx="14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Including KLO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4684680" y="1487520"/>
            <a:ext cx="4178160" cy="347040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618120" y="5178600"/>
            <a:ext cx="2265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LOE Data inclu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196240" y="5075280"/>
            <a:ext cx="345996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exp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theo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= ( 25.2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±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9.2 )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7 “standard deviation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83160" y="4719600"/>
            <a:ext cx="244836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11 659 000 (10</a:t>
            </a:r>
            <a:r>
              <a:rPr b="1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de-DE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7640" y="99072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. H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ö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ker @ ICHEP0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5400" y="5756400"/>
            <a:ext cx="851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KLOE measurement confirms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– data discrepancy with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en-US" sz="22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estim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800000">
            <a:off x="6055920" y="3270240"/>
            <a:ext cx="2057400" cy="1522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Nature of the f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scalar - f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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rcRect l="40419" t="55490" r="26040" b="21253"/>
          <a:stretch/>
        </p:blipFill>
        <p:spPr>
          <a:xfrm>
            <a:off x="4921200" y="3228840"/>
            <a:ext cx="4102200" cy="2314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6320" y="941400"/>
            <a:ext cx="43434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inal state,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at large-angle, study of the decay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320" y="220968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ystem C-odd in ISR events, C-even in FSR events and scalar dec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320" y="358128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B asymmetry measures ISR-FSR and ISR-scalar interferen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320" y="5791320"/>
            <a:ext cx="8978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vidence for an f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contribution, rate in agreement with 2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(f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9440" y="4938840"/>
            <a:ext cx="807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F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28360" y="4673520"/>
            <a:ext cx="31914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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&gt; 9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–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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&lt; 9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28720" y="5130720"/>
            <a:ext cx="32083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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&gt; 9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+ 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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&lt; 9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87400" y="5130720"/>
            <a:ext cx="31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11360" y="281952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311360" y="232416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311360" y="1828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11360" y="13302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482600" y="4965840"/>
            <a:ext cx="14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rcRect l="40385" t="27637" r="26044" b="49904"/>
          <a:stretch/>
        </p:blipFill>
        <p:spPr>
          <a:xfrm>
            <a:off x="4925880" y="976320"/>
            <a:ext cx="4097520" cy="22305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4921200" y="5457960"/>
            <a:ext cx="4114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458040" y="5423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9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461360" y="5435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9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54720" y="541008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8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375400" y="54230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3480" y="1752480"/>
            <a:ext cx="30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SR, ISR con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044680" y="4737240"/>
            <a:ext cx="27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SR-ISR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262400" y="31590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262400" y="492912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62400" y="403236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099400" y="3301920"/>
            <a:ext cx="61668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95440" y="1066680"/>
            <a:ext cx="1307160" cy="51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M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482600" y="2730600"/>
            <a:ext cx="147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Nature of the f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scalar - f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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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rcRect l="12398" t="39180" r="13943" b="38414"/>
          <a:stretch/>
        </p:blipFill>
        <p:spPr>
          <a:xfrm>
            <a:off x="4997520" y="4226040"/>
            <a:ext cx="4046400" cy="17431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76320" y="863640"/>
            <a:ext cx="906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450 pb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60000 events assigned to scalar +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8200" y="1193760"/>
            <a:ext cx="889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alitz plot + line shape analyses in progress: extract all possible contrib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"/>
          <a:srcRect l="12428" t="69188" r="13900" b="8204"/>
          <a:stretch/>
        </p:blipFill>
        <p:spPr>
          <a:xfrm>
            <a:off x="4995720" y="2467080"/>
            <a:ext cx="4038840" cy="1755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4572360" y="461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72360" y="5749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2360" y="5203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860800" y="59594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73640" y="59594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92600" y="59594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248680" y="595944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72360" y="34290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72360" y="286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82040" y="545472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 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065200" y="2425680"/>
            <a:ext cx="35726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vis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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(n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1480" y="4191120"/>
            <a:ext cx="40942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vis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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calar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(n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86720" y="373392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 (M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14840" y="2362320"/>
            <a:ext cx="4914720" cy="3989880"/>
            <a:chOff x="114840" y="2362320"/>
            <a:chExt cx="4914720" cy="3989880"/>
          </a:xfrm>
        </p:grpSpPr>
        <p:sp>
          <p:nvSpPr>
            <p:cNvPr id="601" name=""/>
            <p:cNvSpPr/>
            <p:nvPr/>
          </p:nvSpPr>
          <p:spPr>
            <a:xfrm>
              <a:off x="114840" y="370512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000" y="2362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840" y="49752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3">
              <a:lum bright="12000"/>
            </a:blip>
            <a:srcRect l="12833" t="9590" r="5500" b="12121"/>
            <a:stretch/>
          </p:blipFill>
          <p:spPr>
            <a:xfrm>
              <a:off x="566640" y="2527200"/>
              <a:ext cx="3324240" cy="31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596880" y="3581280"/>
              <a:ext cx="152388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700000">
              <a:off x="327600" y="4821840"/>
              <a:ext cx="18018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606" idx="0"/>
              <a:endCxn id="597" idx="1"/>
            </p:cNvCxnSpPr>
            <p:nvPr/>
          </p:nvCxnSpPr>
          <p:spPr>
            <a:xfrm flipV="1">
              <a:off x="1370160" y="2639880"/>
              <a:ext cx="3659760" cy="2230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8" name=""/>
            <p:cNvCxnSpPr>
              <a:stCxn id="605" idx="3"/>
              <a:endCxn id="597" idx="1"/>
            </p:cNvCxnSpPr>
            <p:nvPr/>
          </p:nvCxnSpPr>
          <p:spPr>
            <a:xfrm flipV="1">
              <a:off x="2130480" y="2639160"/>
              <a:ext cx="2899440" cy="1132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9" name=""/>
            <p:cNvSpPr/>
            <p:nvPr/>
          </p:nvSpPr>
          <p:spPr>
            <a:xfrm>
              <a:off x="825840" y="56484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83320" y="56386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.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23600" y="563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72080" y="3048120"/>
              <a:ext cx="99720" cy="152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90800" y="25146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93320" y="41036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96560" y="4881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95840" y="332424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457360" y="5842080"/>
              <a:ext cx="1679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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(GeV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3880" y="2514600"/>
              <a:ext cx="1680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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(GeV</a:t>
              </a:r>
              <a:r>
                <a:rPr b="0" lang="it-IT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72080" y="3333600"/>
              <a:ext cx="95040" cy="1908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14840" y="2819520"/>
              <a:ext cx="540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189960" y="1549440"/>
            <a:ext cx="4435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hasov K-loop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sidori-Maiani point-like + modified B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nnington-Boglione T-matrix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915840" y="1816200"/>
            <a:ext cx="143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mpa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71800" y="16002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600"/>
                </a:lnTo>
                <a:cubicBezTo>
                  <a:pt x="10800" y="10500"/>
                  <a:pt x="5400" y="11400"/>
                  <a:pt x="0" y="11400"/>
                </a:cubicBezTo>
                <a:cubicBezTo>
                  <a:pt x="5400" y="11400"/>
                  <a:pt x="10800" y="12300"/>
                  <a:pt x="10800" y="13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Results from the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factory –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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-17640" y="914400"/>
            <a:ext cx="8203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20 million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’s produced from 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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world largest data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14480" y="1371600"/>
            <a:ext cx="89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he decay is C-viola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 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t 95% C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DG2002 [GAMS200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14480" y="4991040"/>
            <a:ext cx="4686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Published in PL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410 pb</a:t>
            </a:r>
            <a:r>
              <a:rPr b="1" lang="it-IT" sz="2000" spc="-1" strike="noStrike" baseline="30000">
                <a:solidFill>
                  <a:srgbClr val="ff0000"/>
                </a:solidFill>
                <a:latin typeface="Times New Roman"/>
              </a:rPr>
              <a:t>-1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</a:rPr>
              <a:t>’01 + ’02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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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2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@ 95%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39680" y="1866960"/>
            <a:ext cx="8674200" cy="4442400"/>
            <a:chOff x="139680" y="1866960"/>
            <a:chExt cx="8674200" cy="4442400"/>
          </a:xfrm>
        </p:grpSpPr>
        <p:sp>
          <p:nvSpPr>
            <p:cNvPr id="629" name=""/>
            <p:cNvSpPr/>
            <p:nvPr/>
          </p:nvSpPr>
          <p:spPr>
            <a:xfrm>
              <a:off x="139680" y="3060720"/>
              <a:ext cx="4597560" cy="18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ire 4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with fiducial cuts on E,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clustering to eliminate 3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ackg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inematic fit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(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veto eliminates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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and 5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backg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4800600" y="2133720"/>
              <a:ext cx="4013280" cy="4175640"/>
              <a:chOff x="4800600" y="2133720"/>
              <a:chExt cx="4013280" cy="4175640"/>
            </a:xfrm>
          </p:grpSpPr>
          <p:graphicFrame>
            <p:nvGraphicFramePr>
              <p:cNvPr id="631" name=""/>
              <p:cNvGraphicFramePr/>
              <p:nvPr/>
            </p:nvGraphicFramePr>
            <p:xfrm>
              <a:off x="4800600" y="2133720"/>
              <a:ext cx="4013280" cy="37558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800600" y="2133720"/>
                        <a:ext cx="4013280" cy="3755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3" name=""/>
              <p:cNvSpPr/>
              <p:nvPr/>
            </p:nvSpPr>
            <p:spPr>
              <a:xfrm>
                <a:off x="5217120" y="2219040"/>
                <a:ext cx="1838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ckground es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rom 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223240" y="4200480"/>
                <a:ext cx="303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t result to whole spectru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50560" y="5868720"/>
                <a:ext cx="13482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(MeV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231120" y="1866960"/>
              <a:ext cx="3814920" cy="1037520"/>
              <a:chOff x="231120" y="1866960"/>
              <a:chExt cx="3814920" cy="1037520"/>
            </a:xfrm>
          </p:grpSpPr>
          <p:sp>
            <p:nvSpPr>
              <p:cNvPr id="637" name=""/>
              <p:cNvSpPr/>
              <p:nvPr/>
            </p:nvSpPr>
            <p:spPr>
              <a:xfrm>
                <a:off x="3352680" y="2009880"/>
                <a:ext cx="152640" cy="83808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1600 h 838080"/>
                  <a:gd name="textAreaBottom" fmla="*/ 816480 h 83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540960" y="217188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66ff"/>
                    </a:solidFill>
                    <a:latin typeface="Times New Roman"/>
                  </a:rPr>
                  <a:t>4</a:t>
                </a:r>
                <a:r>
                  <a:rPr b="1" lang="it-IT" sz="2400" spc="-1" strike="noStrike">
                    <a:solidFill>
                      <a:srgbClr val="0066ff"/>
                    </a:solidFill>
                    <a:latin typeface="Symbol"/>
                    <a:ea typeface="Symbol"/>
                  </a:rPr>
                  <a:t>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581840" y="1866960"/>
                <a:ext cx="1767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66ff"/>
                    </a:solidFill>
                    <a:latin typeface="Times New Roman"/>
                  </a:rPr>
                  <a:t>E</a:t>
                </a:r>
                <a:r>
                  <a:rPr b="0" lang="it-IT" sz="2000" spc="-1" strike="noStrike" baseline="-25000">
                    <a:solidFill>
                      <a:srgbClr val="0066ff"/>
                    </a:solidFill>
                    <a:latin typeface="Times New Roman"/>
                  </a:rPr>
                  <a:t>rad</a:t>
                </a:r>
                <a:r>
                  <a:rPr b="0" lang="it-IT" sz="2000" spc="-1" strike="noStrike">
                    <a:solidFill>
                      <a:srgbClr val="0066ff"/>
                    </a:solidFill>
                    <a:latin typeface="Times New Roman"/>
                  </a:rPr>
                  <a:t> = 363 Me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1120" y="2139840"/>
                <a:ext cx="124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ff"/>
                    </a:solidFill>
                    <a:latin typeface="Symbol"/>
                    <a:ea typeface="Symbol"/>
                  </a:rPr>
                  <a:t>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509480" y="244476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ff"/>
                    </a:solidFill>
                    <a:latin typeface="Symbol"/>
                    <a:ea typeface="Symbol"/>
                  </a:rPr>
                  <a:t>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047600" y="2606760"/>
                <a:ext cx="0" cy="152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047600" y="2746440"/>
                <a:ext cx="53352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1198080" y="2098800"/>
                <a:ext cx="1800" cy="18252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200240" y="2111400"/>
                <a:ext cx="38232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Results from the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factory –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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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4480" y="990720"/>
            <a:ext cx="89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he decay is P and CP-viola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 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t 90% C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PDG200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280" y="2514600"/>
            <a:ext cx="4876920" cy="23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bmitted to PL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410 pb</a:t>
            </a:r>
            <a:r>
              <a:rPr b="1" lang="it-IT" sz="20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’01 + ’02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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3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@ 90% 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5-fold UL improv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120" y="1523880"/>
            <a:ext cx="75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 by-product of the large-angle analysis </a:t>
            </a: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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rcRect l="26618" t="3630" r="35468" b="70502"/>
          <a:stretch/>
        </p:blipFill>
        <p:spPr>
          <a:xfrm>
            <a:off x="4343400" y="2133720"/>
            <a:ext cx="457200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Other advanced analyse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80080" y="1414440"/>
            <a:ext cx="549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alitz plot analyses of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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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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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6760" y="3002040"/>
            <a:ext cx="890208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nalysis of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final states from decay chain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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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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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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 = (6.04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0.10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0.36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10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confirming previous KLOE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an extract mixing angle, uncertainty at 1-degre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4120" y="1066680"/>
            <a:ext cx="46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Precision studies of meson dynamic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04480" y="2565360"/>
            <a:ext cx="710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Pseudoscalar mixing angle measurements,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decays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17080" y="4919760"/>
            <a:ext cx="42501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 Forward-backward asymmet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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 cross section as a function of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Test of lepton universality (|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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0)|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4480" y="4567320"/>
            <a:ext cx="473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Leptonic decay widths of the </a:t>
            </a:r>
            <a:r>
              <a:rPr b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 mes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rcRect l="9468" t="10668" r="13049" b="30529"/>
          <a:stretch/>
        </p:blipFill>
        <p:spPr>
          <a:xfrm>
            <a:off x="609480" y="1066680"/>
            <a:ext cx="7925040" cy="4511880"/>
          </a:xfrm>
          <a:prstGeom prst="rect">
            <a:avLst/>
          </a:prstGeom>
          <a:ln w="0">
            <a:noFill/>
          </a:ln>
        </p:spPr>
      </p:pic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7240" y="44305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present data taking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The present data taking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2867040" y="2470320"/>
            <a:ext cx="6200640" cy="365904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101520" y="936720"/>
            <a:ext cx="90424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aking campaign started at April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OE operation very smooth, routine HW and DAQ interven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nths to reach quality of 2002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ning in September, very clear and promising increase of 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-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wall 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948720" cy="421488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The present data taking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01520" y="9367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ional increase in 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/day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than that of</a:t>
            </a: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 L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reach o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ay &gt;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ed by frequent machine sto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14800" y="1752480"/>
            <a:ext cx="152388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LOE impact on 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 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– 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838080"/>
            <a:ext cx="8839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asure BR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with rel. accuracy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% (BR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7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!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143000"/>
            <a:ext cx="84297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tagged by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interaction in EmC, efficiency ~ 30%  (largely geometr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ngular resolution: ~ 1°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0.3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,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mentum resolution ~ 1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t on M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TOF ID, and then close at th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vertex using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from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52200" y="5932440"/>
            <a:ext cx="4509720" cy="41688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 hypothesis from TOF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1960" y="2133720"/>
            <a:ext cx="4114440" cy="3961800"/>
            <a:chOff x="291960" y="2133720"/>
            <a:chExt cx="4114440" cy="39618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rcRect l="18004" t="10197" r="18753" b="4776"/>
            <a:stretch/>
          </p:blipFill>
          <p:spPr>
            <a:xfrm>
              <a:off x="291960" y="2133720"/>
              <a:ext cx="4114440" cy="39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505960" y="2236320"/>
              <a:ext cx="188100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“crash”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ff"/>
                </a:buClr>
                <a:buFont typeface="Symbol" charset="2"/>
                <a:buChar char="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= 0.22 (TOF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342520" y="2545200"/>
              <a:ext cx="123840" cy="1517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00960" y="4109760"/>
              <a:ext cx="13921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US" sz="22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r>
                <a:rPr b="1" i="1" lang="en-US" sz="22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US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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7" name="" descr=""/>
          <p:cNvPicPr/>
          <p:nvPr/>
        </p:nvPicPr>
        <p:blipFill>
          <a:blip r:embed="rId2"/>
          <a:srcRect l="7011" t="27892" r="6247" b="8001"/>
          <a:stretch/>
        </p:blipFill>
        <p:spPr>
          <a:xfrm>
            <a:off x="4659480" y="2119320"/>
            <a:ext cx="4103640" cy="3925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096160" y="2209680"/>
            <a:ext cx="11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70680" y="2590920"/>
            <a:ext cx="2997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C fi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ff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 baseline="30000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30000">
                <a:solidFill>
                  <a:srgbClr val="0066ff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9933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9933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339933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cc00"/>
                </a:solidFill>
                <a:latin typeface="Times New Roman"/>
              </a:rPr>
              <a:t>K</a:t>
            </a:r>
            <a:r>
              <a:rPr b="1" i="1" lang="en-US" sz="2000" spc="-1" strike="noStrike" baseline="-25000">
                <a:solidFill>
                  <a:srgbClr val="cccc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cc00"/>
                </a:solidFill>
                <a:latin typeface="Symbol"/>
                <a:ea typeface="Symbol"/>
              </a:rPr>
              <a:t></a:t>
            </a:r>
            <a:r>
              <a:rPr b="1" lang="en-US" sz="2000" spc="-1" strike="noStrike" baseline="30000">
                <a:solidFill>
                  <a:srgbClr val="cccc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cccc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 baseline="30000">
                <a:solidFill>
                  <a:srgbClr val="cccc00"/>
                </a:solidFill>
                <a:latin typeface="Symbol"/>
                <a:ea typeface="Symbol"/>
              </a:rPr>
              <a:t></a:t>
            </a:r>
            <a:r>
              <a:rPr b="1" lang="en-US" sz="2000" spc="-1" strike="noStrike">
                <a:solidFill>
                  <a:srgbClr val="cccc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</a:rPr>
              <a:t>, E</a:t>
            </a:r>
            <a:r>
              <a:rPr b="1" lang="en-US" sz="2000" spc="-1" strike="noStrike" baseline="-25000">
                <a:solidFill>
                  <a:srgbClr val="cccc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cccc00"/>
                </a:solidFill>
                <a:latin typeface="Symbol"/>
                <a:ea typeface="Symbol"/>
              </a:rPr>
              <a:t></a:t>
            </a:r>
            <a:r>
              <a:rPr b="1" lang="en-US" sz="2000" spc="-1" strike="noStrike">
                <a:solidFill>
                  <a:srgbClr val="cccc00"/>
                </a:solidFill>
                <a:latin typeface="Times New Roman"/>
              </a:rPr>
              <a:t>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861840" y="1652760"/>
            <a:ext cx="7748640" cy="42145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The present data taking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1520" y="838080"/>
            <a:ext cx="8737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averaged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tally integr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 p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rom May to November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1520" y="5791320"/>
            <a:ext cx="902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taken under very vary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What we have learned from 2001/2002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1520" y="936720"/>
            <a:ext cx="873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s aiming at a final accuracy 0.1% &amp; searches of rare decays (BR &l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requi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tector and machine conditions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ackground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1520" y="2273400"/>
            <a:ext cx="87375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 efficiency is dependent on machine background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riation of machine conditions can have an impact on selection efficiency, at the level of few percent, even for simple and loose c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sitivity on rare kaon decays depends on accidental-cluster rate: search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Tracking efficiency vs background rat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320" y="914400"/>
            <a:ext cx="3809880" cy="53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Tracks from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ependence of tracking efficiency on rate of accidental hits above 100 MeV in EmC endcaps more pronounced at low polar angles or low p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Few % effect @ low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xpect different contributions for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vs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an follow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variation correcting the MC with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Data)/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MC), bu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rcRect l="10704" t="31846" r="3427" b="3099"/>
          <a:stretch/>
        </p:blipFill>
        <p:spPr>
          <a:xfrm>
            <a:off x="3886200" y="876240"/>
            <a:ext cx="4724280" cy="50673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7426080" y="1003320"/>
            <a:ext cx="104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427880" y="3484440"/>
            <a:ext cx="104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= 30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65560" y="3479760"/>
            <a:ext cx="104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= 45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84680" y="51055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202560" y="5084640"/>
            <a:ext cx="5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640720" y="1689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657280" y="1668600"/>
            <a:ext cx="5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615520" y="431784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8669880" y="4297320"/>
            <a:ext cx="55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3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432320" y="1008000"/>
            <a:ext cx="11908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(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05320" y="3497400"/>
            <a:ext cx="47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783480" y="3497400"/>
            <a:ext cx="479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6960" y="5791320"/>
            <a:ext cx="6495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background cannot be averaged: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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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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trk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2717640" y="957240"/>
            <a:ext cx="6045480" cy="2598840"/>
            <a:chOff x="2717640" y="957240"/>
            <a:chExt cx="6045480" cy="2598840"/>
          </a:xfrm>
        </p:grpSpPr>
        <p:pic>
          <p:nvPicPr>
            <p:cNvPr id="691" name="" descr=""/>
            <p:cNvPicPr/>
            <p:nvPr/>
          </p:nvPicPr>
          <p:blipFill>
            <a:blip r:embed="rId1"/>
            <a:srcRect l="4034" t="64065" r="2507" b="7437"/>
            <a:stretch/>
          </p:blipFill>
          <p:spPr>
            <a:xfrm>
              <a:off x="2717640" y="957240"/>
              <a:ext cx="6045480" cy="259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2" name=""/>
            <p:cNvGrpSpPr/>
            <p:nvPr/>
          </p:nvGrpSpPr>
          <p:grpSpPr>
            <a:xfrm>
              <a:off x="3458160" y="1066680"/>
              <a:ext cx="5087160" cy="2187000"/>
              <a:chOff x="3458160" y="1066680"/>
              <a:chExt cx="5087160" cy="2187000"/>
            </a:xfrm>
          </p:grpSpPr>
          <p:sp>
            <p:nvSpPr>
              <p:cNvPr id="693" name=""/>
              <p:cNvSpPr/>
              <p:nvPr/>
            </p:nvSpPr>
            <p:spPr>
              <a:xfrm>
                <a:off x="3458160" y="1066680"/>
                <a:ext cx="2200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it-IT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sel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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/Crash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848560" y="2793960"/>
                <a:ext cx="269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Times New Roman"/>
                  </a:rPr>
                  <a:t>Run number in 200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302440" y="1765440"/>
                <a:ext cx="0" cy="9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367600" y="1981080"/>
                <a:ext cx="762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200" spc="-1" strike="noStrike">
                    <a:solidFill>
                      <a:srgbClr val="000000"/>
                    </a:solidFill>
                    <a:latin typeface="Times New Roman"/>
                  </a:rPr>
                  <a:t>2.5%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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efficiency for 2001 data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8920" y="990720"/>
            <a:ext cx="2579760" cy="15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mpare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sele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with uncorrected ratio of number of counts for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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2"/>
          <a:srcRect l="3686" t="31663" r="3074" b="39849"/>
          <a:stretch/>
        </p:blipFill>
        <p:spPr>
          <a:xfrm>
            <a:off x="2641680" y="3584520"/>
            <a:ext cx="6159600" cy="266400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3408480" y="3733920"/>
            <a:ext cx="1266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 (Me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50000" y="5499000"/>
            <a:ext cx="26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un number i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01520" y="2438280"/>
            <a:ext cx="2641680" cy="36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dication of consistency and robustness of the tracking efficiency estim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gmentation of data into homogeneous periods is necessary: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 and P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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ar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rcRect l="5233" t="22786" r="4281" b="2639"/>
          <a:stretch/>
        </p:blipFill>
        <p:spPr>
          <a:xfrm>
            <a:off x="76320" y="2616120"/>
            <a:ext cx="4114800" cy="336240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3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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– perspectives for the UL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2"/>
          <a:srcRect l="5580" t="46901" r="15693" b="6073"/>
          <a:stretch/>
        </p:blipFill>
        <p:spPr>
          <a:xfrm>
            <a:off x="4419720" y="2546280"/>
            <a:ext cx="4441680" cy="34354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88920" y="884160"/>
            <a:ext cx="83692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ackground of the selection is due to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+ accident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Reachable UL shown as a function of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9360" y="2676600"/>
            <a:ext cx="127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L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21920" y="2676600"/>
            <a:ext cx="127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UL </a:t>
            </a:r>
            <a:r>
              <a:rPr b="0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it-IT" sz="2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027960" y="5884920"/>
            <a:ext cx="97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 (fb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478200" y="5884920"/>
            <a:ext cx="2369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Bkg/Bkg(expec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04720" y="1600200"/>
            <a:ext cx="37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The background rate @ 2 fb</a:t>
            </a:r>
            <a:r>
              <a:rPr b="0" lang="it-IT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7200" y="160020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The integrated luminosity (bkg expectation from 2001/2 analysis, scaled with 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21320" y="2897280"/>
            <a:ext cx="20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Improve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rcRect l="9468" t="10668" r="13049" b="30529"/>
          <a:stretch/>
        </p:blipFill>
        <p:spPr>
          <a:xfrm>
            <a:off x="609480" y="1066680"/>
            <a:ext cx="7925040" cy="451188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7240" y="44305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LOE physics wit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2fb</a:t>
            </a:r>
            <a:r>
              <a:rPr b="1" lang="en-US" sz="36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f additional statistic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decays – THE Physics issu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9280" y="1038240"/>
            <a:ext cx="7698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nsitivity to CPT violating effects through charge asymmetr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86760" y="3578400"/>
            <a:ext cx="6363720" cy="1197720"/>
            <a:chOff x="86760" y="3578400"/>
            <a:chExt cx="6363720" cy="1197720"/>
          </a:xfrm>
        </p:grpSpPr>
        <p:sp>
          <p:nvSpPr>
            <p:cNvPr id="719" name=""/>
            <p:cNvSpPr/>
            <p:nvPr/>
          </p:nvSpPr>
          <p:spPr>
            <a:xfrm>
              <a:off x="86760" y="3878280"/>
              <a:ext cx="6363720" cy="89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ensitivity to CP violation in K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-K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 mixing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2Re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(CPT symmetry assumed)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3 1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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14720" y="3578400"/>
              <a:ext cx="320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75240" y="4927680"/>
            <a:ext cx="3268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never measured bef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3360" y="2622600"/>
            <a:ext cx="87631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CPT holds,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ignals CPT violation in mixing and/or decay with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010520" y="1271520"/>
            <a:ext cx="4893480" cy="1186200"/>
            <a:chOff x="1010520" y="1271520"/>
            <a:chExt cx="4893480" cy="1186200"/>
          </a:xfrm>
        </p:grpSpPr>
        <p:grpSp>
          <p:nvGrpSpPr>
            <p:cNvPr id="724" name=""/>
            <p:cNvGrpSpPr/>
            <p:nvPr/>
          </p:nvGrpSpPr>
          <p:grpSpPr>
            <a:xfrm>
              <a:off x="1865160" y="1271520"/>
              <a:ext cx="4038840" cy="1186200"/>
              <a:chOff x="1865160" y="1271520"/>
              <a:chExt cx="4038840" cy="1186200"/>
            </a:xfrm>
          </p:grpSpPr>
          <p:sp>
            <p:nvSpPr>
              <p:cNvPr id="725" name=""/>
              <p:cNvSpPr/>
              <p:nvPr/>
            </p:nvSpPr>
            <p:spPr>
              <a:xfrm>
                <a:off x="1933200" y="1490400"/>
                <a:ext cx="38692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i="1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,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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i="1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,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898280" y="1982520"/>
                <a:ext cx="39394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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i="1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,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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i="1" lang="en-U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S,L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r>
                  <a:rPr b="0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865160" y="1952280"/>
                <a:ext cx="403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492520" y="12715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511600" y="1766520"/>
                <a:ext cx="320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_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1010520" y="1746000"/>
              <a:ext cx="83916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200" spc="-1" strike="noStrike" baseline="-25000">
                  <a:solidFill>
                    <a:srgbClr val="000000"/>
                  </a:solidFill>
                  <a:latin typeface="Times New Roman"/>
                </a:rPr>
                <a:t>S,L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3640" y="5410080"/>
            <a:ext cx="88470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rror on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asurement is dominated by statistics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3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@ 2.5 fb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st precise test of the validity of th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ule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(x)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@ 2.5 fb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Other kaon physics issue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69720" y="941400"/>
            <a:ext cx="83520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itivity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@ 2.5 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asurement of B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ith 20% relative uncertain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5800" y="2057400"/>
            <a:ext cx="83376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as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 of th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t prediction, BR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= (2.4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0.7)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0520" y="2965320"/>
            <a:ext cx="4347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 factor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3436920"/>
            <a:ext cx="848988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-fold improvement over the existing measu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rify existence of quadratic term in vector form 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eck consistency with pole-model predi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adratic term of the scalar form factor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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, useful to determin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t O(p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correction to f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: 20% accuracy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0.5% on f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75120" y="5791320"/>
            <a:ext cx="5502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@ 0.4% relative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251280" y="990720"/>
            <a:ext cx="8550000" cy="510120"/>
            <a:chOff x="251280" y="990720"/>
            <a:chExt cx="8550000" cy="510120"/>
          </a:xfrm>
        </p:grpSpPr>
        <p:sp>
          <p:nvSpPr>
            <p:cNvPr id="739" name=""/>
            <p:cNvSpPr/>
            <p:nvPr/>
          </p:nvSpPr>
          <p:spPr>
            <a:xfrm>
              <a:off x="251280" y="990720"/>
              <a:ext cx="2559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400" spc="-1" strike="noStrike">
                  <a:solidFill>
                    <a:srgbClr val="0066ff"/>
                  </a:solidFill>
                  <a:latin typeface="Times New Roman"/>
                </a:rPr>
                <a:t>K</a:t>
              </a:r>
              <a:r>
                <a:rPr b="0" i="1" lang="it-IT" sz="2400" spc="-1" strike="noStrike" baseline="-25000">
                  <a:solidFill>
                    <a:srgbClr val="0066ff"/>
                  </a:solidFill>
                  <a:latin typeface="Times New Roman"/>
                </a:rPr>
                <a:t>S</a:t>
              </a:r>
              <a:r>
                <a:rPr b="0" i="1" lang="it-IT" sz="2400" spc="-1" strike="noStrike">
                  <a:solidFill>
                    <a:srgbClr val="0066ff"/>
                  </a:solidFill>
                  <a:latin typeface="Times New Roman"/>
                </a:rPr>
                <a:t>K</a:t>
              </a:r>
              <a:r>
                <a:rPr b="0" i="1" lang="it-IT" sz="2400" spc="-1" strike="noStrike" baseline="-25000">
                  <a:solidFill>
                    <a:srgbClr val="0066ff"/>
                  </a:solidFill>
                  <a:latin typeface="Times New Roman"/>
                </a:rPr>
                <a:t>L</a:t>
              </a:r>
              <a:r>
                <a:rPr b="0" lang="it-IT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</a:t>
              </a:r>
              <a:r>
                <a:rPr b="0" lang="en-GB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</a:t>
              </a:r>
              <a:r>
                <a:rPr b="0" lang="en-GB" sz="2400" spc="-1" strike="noStrike" baseline="30000">
                  <a:solidFill>
                    <a:srgbClr val="0066ff"/>
                  </a:solidFill>
                  <a:latin typeface="Symbol"/>
                  <a:ea typeface="Symbol"/>
                </a:rPr>
                <a:t></a:t>
              </a:r>
              <a:r>
                <a:rPr b="0" lang="en-GB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</a:t>
              </a:r>
              <a:r>
                <a:rPr b="0" lang="en-GB" sz="2400" spc="-1" strike="noStrike" baseline="30000">
                  <a:solidFill>
                    <a:srgbClr val="0066ff"/>
                  </a:solidFill>
                  <a:latin typeface="Symbol"/>
                  <a:ea typeface="Symbol"/>
                </a:rPr>
                <a:t></a:t>
              </a:r>
              <a:r>
                <a:rPr b="0" lang="en-GB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</a:t>
              </a:r>
              <a:r>
                <a:rPr b="0" lang="en-GB" sz="2400" spc="-1" strike="noStrike" baseline="30000">
                  <a:solidFill>
                    <a:srgbClr val="0066ff"/>
                  </a:solidFill>
                  <a:latin typeface="Symbol"/>
                  <a:ea typeface="Symbol"/>
                </a:rPr>
                <a:t></a:t>
              </a:r>
              <a:r>
                <a:rPr b="0" lang="en-GB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</a:t>
              </a:r>
              <a:r>
                <a:rPr b="0" lang="en-GB" sz="2400" spc="-1" strike="noStrike" baseline="30000">
                  <a:solidFill>
                    <a:srgbClr val="0066ff"/>
                  </a:solidFill>
                  <a:latin typeface="Symbol"/>
                  <a:ea typeface="Symbol"/>
                </a:rPr>
                <a:t></a:t>
              </a:r>
              <a:r>
                <a:rPr b="0" lang="it-IT" sz="24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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0" name=""/>
                <p:cNvSpPr txBox="1"/>
                <p:nvPr/>
              </p:nvSpPr>
              <p:spPr>
                <a:xfrm>
                  <a:off x="3272040" y="1000080"/>
                  <a:ext cx="5529240" cy="47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r>
                        <m:t xml:space="preserve">A</m:t>
                      </m:r>
                      <m:r>
                        <m:t xml:space="preserve">(</m:t>
                      </m:r>
                      <m:r>
                        <m:t xml:space="preserve">Δt</m:t>
                      </m:r>
                      <m:r>
                        <m:t xml:space="preserve">)</m:t>
                      </m:r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Δt</m:t>
                          </m:r>
                          <m:r>
                            <m:t xml:space="preserve">|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Δt</m:t>
                          </m:r>
                          <m:r>
                            <m:t xml:space="preserve">|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Γ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|</m:t>
                          </m:r>
                          <m:r>
                            <m:t xml:space="preserve">Δt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|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ΔmΔ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A first glance at interference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6000" y="1706400"/>
            <a:ext cx="397512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KLOE prelimin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430 pb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’01 + ’02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t with PDG values for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d.o.f. = 43.7/4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 = (5.01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0.34)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T Extra"/>
                <a:ea typeface="MT Extra"/>
              </a:rPr>
              <a:t>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G ’02: (5.301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0.016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First observation of quantum interference in relative decay-time distribution of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25720" y="5410080"/>
            <a:ext cx="799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QM test: 10</a:t>
            </a:r>
            <a:r>
              <a:rPr b="0" lang="en-US" sz="2200" spc="-1" strike="noStrike" baseline="30000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improvement on the limit on the decoherence paramet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wrt that obtained using CPLEAR dat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4148280" y="1434960"/>
            <a:ext cx="4894200" cy="4163400"/>
            <a:chOff x="4148280" y="1434960"/>
            <a:chExt cx="4894200" cy="4163400"/>
          </a:xfrm>
        </p:grpSpPr>
        <p:grpSp>
          <p:nvGrpSpPr>
            <p:cNvPr id="745" name=""/>
            <p:cNvGrpSpPr/>
            <p:nvPr/>
          </p:nvGrpSpPr>
          <p:grpSpPr>
            <a:xfrm>
              <a:off x="4148280" y="1434960"/>
              <a:ext cx="4894200" cy="3791160"/>
              <a:chOff x="4148280" y="1434960"/>
              <a:chExt cx="4894200" cy="3791160"/>
            </a:xfrm>
          </p:grpSpPr>
          <p:pic>
            <p:nvPicPr>
              <p:cNvPr id="746" name="" descr=""/>
              <p:cNvPicPr/>
              <p:nvPr/>
            </p:nvPicPr>
            <p:blipFill>
              <a:blip r:embed="rId1"/>
              <a:srcRect l="7032" t="13540" r="27343" b="16666"/>
              <a:stretch/>
            </p:blipFill>
            <p:spPr>
              <a:xfrm>
                <a:off x="4148280" y="1434960"/>
                <a:ext cx="4752720" cy="379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"/>
              <p:cNvGrpSpPr/>
              <p:nvPr/>
            </p:nvGrpSpPr>
            <p:grpSpPr>
              <a:xfrm>
                <a:off x="4838400" y="3473280"/>
                <a:ext cx="2740680" cy="1360080"/>
                <a:chOff x="4838400" y="3473280"/>
                <a:chExt cx="2740680" cy="136008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5013360" y="3916440"/>
                  <a:ext cx="256572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No simultaneous events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same final state/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antisymmetric initial st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 flipV="1">
                  <a:off x="4838400" y="3473280"/>
                  <a:ext cx="26676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5028840" y="2711520"/>
                <a:ext cx="3077640" cy="742680"/>
                <a:chOff x="5028840" y="2711520"/>
                <a:chExt cx="3077640" cy="74268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213160" y="3085920"/>
                  <a:ext cx="2893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Peak position sensitive to 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 flipV="1">
                  <a:off x="5028840" y="2711520"/>
                  <a:ext cx="22860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6171840" y="1536480"/>
                <a:ext cx="2870640" cy="680040"/>
                <a:chOff x="6171840" y="1536480"/>
                <a:chExt cx="2870640" cy="6800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6299280" y="1536480"/>
                  <a:ext cx="2743200" cy="6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Coherent K</a:t>
                  </a:r>
                  <a:r>
                    <a:rPr b="0" lang="it-IT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it-IT" sz="1800" spc="-1" strike="noStrike">
                      <a:solidFill>
                        <a:srgbClr val="000000"/>
                      </a:solidFill>
                      <a:latin typeface="Times New Roman"/>
                    </a:rPr>
                    <a:t> regeneration on beam pip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6171840" y="1873080"/>
                  <a:ext cx="152280" cy="15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6" name=""/>
            <p:cNvSpPr/>
            <p:nvPr/>
          </p:nvSpPr>
          <p:spPr>
            <a:xfrm>
              <a:off x="7402680" y="5157720"/>
              <a:ext cx="1402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|/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K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Other physics issue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1040" y="1022400"/>
            <a:ext cx="870768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K transitions, @ 2.5 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0 events for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00 events for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factors fro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llowing more accurate calculation of light-by-light scattering contribution to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 on BR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2.6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till statistically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rove on all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C-CP and LF violating modes upper limits (best limits are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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itz (or double Dalitz) decays, O(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(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rove most of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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R’s which are poorly known, especially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decays – Preliminary result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134604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rrect for charge-dependent efficiencies, mostly extracted from dat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20% given the 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892680"/>
            <a:ext cx="7696080" cy="14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pendence of efficiencies on charge mainly due to TOF effects, estimated using data control sample of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147760"/>
            <a:ext cx="541008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(3.5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(3.5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18040" y="2273400"/>
            <a:ext cx="312444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OE prelim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1200" y="5318280"/>
            <a:ext cx="525780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3.32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5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47)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KTeV 2002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3.31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7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72)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NA48 200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4160" y="3459240"/>
            <a:ext cx="80517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shed result:  (6.9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0.34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0.15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KLOE ’0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4520" y="2921040"/>
            <a:ext cx="56311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R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= (7.09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0.07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ta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0.08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sys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) 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90720"/>
            <a:ext cx="90676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gnal counts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000, normalize to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counts in the same data s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Conclusion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1040" y="1022400"/>
            <a:ext cx="8707680" cy="27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and impact of KLOE phys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been described, with particular emphasis on these hot top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most precise test of the CKM unit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olation of discrete symmetries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77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dronic contribution to muon anomaly: 2.7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iscrepanc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tween prediction and experi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1040" y="3962520"/>
            <a:ext cx="85280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us and prospects of the present data ta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been discussed, with particular emphasis on the physics achievements reachable with an additional integrated luminosity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f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ge asymmetry 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ecays, novel test of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P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e kaon syst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rification of the experimental pictur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rm factor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Recent and forthcoming physics paper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81080" y="974880"/>
            <a:ext cx="71121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Measurement of the branching ratio for the decay </a:t>
            </a:r>
            <a:r>
              <a:rPr b="0" i="1" lang="en-US" sz="20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</a:t>
            </a:r>
            <a:r>
              <a:rPr b="0" i="1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it-IT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Upper limit on the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</a:t>
            </a:r>
            <a:r>
              <a:rPr b="0" lang="it-IT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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branching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Upper limit of the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</a:t>
            </a:r>
            <a:r>
              <a:rPr b="0" lang="it-IT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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branching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Measurement of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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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and extraction of 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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cc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</a:t>
            </a: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 &lt; 1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eptonic widths of the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me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UL for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Times New Roman"/>
              </a:rPr>
              <a:t>S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recise measurement of BR(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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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recise measurement of BR(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Times New Roman"/>
              </a:rPr>
              <a:t>S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) and first measurement of the charge asym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recise measurement of the main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branching rat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asurement of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cc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life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asurement of </a:t>
            </a: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K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life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Measurement of BR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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cc0000"/>
                </a:solidFill>
                <a:latin typeface="Symbol"/>
                <a:ea typeface="Symbol"/>
              </a:rPr>
              <a:t>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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Analysis of the decay chain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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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,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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cc0000"/>
                </a:solidFill>
                <a:latin typeface="Symbol"/>
                <a:ea typeface="Symbol"/>
              </a:rPr>
              <a:t></a:t>
            </a:r>
            <a:r>
              <a:rPr b="0" lang="it-IT" sz="2000" spc="-1" strike="noStrike">
                <a:solidFill>
                  <a:srgbClr val="cc0000"/>
                </a:solidFill>
                <a:latin typeface="Times New Roman"/>
              </a:rPr>
              <a:t> and new measurement of the pseudoscalar mixing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Symbol"/>
                <a:ea typeface="Symbol"/>
              </a:rPr>
              <a:t></a:t>
            </a:r>
            <a:r>
              <a:rPr b="0" lang="it-IT" sz="2000" spc="-1" strike="noStrike">
                <a:solidFill>
                  <a:srgbClr val="0066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00"/>
                </a:solidFill>
                <a:latin typeface="Times New Roman"/>
              </a:rPr>
              <a:t>f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Times New Roman"/>
              </a:rPr>
              <a:t>0</a:t>
            </a:r>
            <a:r>
              <a:rPr b="0" lang="it-IT" sz="2000" spc="-1" strike="noStrike">
                <a:solidFill>
                  <a:srgbClr val="006600"/>
                </a:solidFill>
                <a:latin typeface="Times New Roman"/>
              </a:rPr>
              <a:t>, a</a:t>
            </a:r>
            <a:r>
              <a:rPr b="0" lang="it-IT" sz="2000" spc="-1" strike="noStrike" baseline="-25000">
                <a:solidFill>
                  <a:srgbClr val="0066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828800" y="9907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5"/>
                </a:lnTo>
                <a:cubicBezTo>
                  <a:pt x="10800" y="10125"/>
                  <a:pt x="5400" y="11025"/>
                  <a:pt x="0" y="11025"/>
                </a:cubicBezTo>
                <a:cubicBezTo>
                  <a:pt x="5400" y="11025"/>
                  <a:pt x="10800" y="11925"/>
                  <a:pt x="10800" y="128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6320" y="974880"/>
            <a:ext cx="1641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imes New Roman"/>
              </a:rPr>
              <a:t>Published, submitted, or accepted for 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20" y="3352680"/>
            <a:ext cx="164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ublished for the winter con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752480" y="2286000"/>
            <a:ext cx="228600" cy="3276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28800" y="5638680"/>
            <a:ext cx="152280" cy="609840"/>
          </a:xfrm>
          <a:custGeom>
            <a:avLst/>
            <a:gdLst>
              <a:gd name="textAreaLeft" fmla="*/ 97200 w 152280"/>
              <a:gd name="textAreaRight" fmla="*/ 15264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5"/>
                </a:lnTo>
                <a:cubicBezTo>
                  <a:pt x="10800" y="10125"/>
                  <a:pt x="5400" y="11025"/>
                  <a:pt x="0" y="11025"/>
                </a:cubicBezTo>
                <a:cubicBezTo>
                  <a:pt x="5400" y="11025"/>
                  <a:pt x="10800" y="11925"/>
                  <a:pt x="10800" y="1282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880" y="574992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Next to 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1"/>
          <a:srcRect l="9468" t="10668" r="13049" b="30529"/>
          <a:stretch/>
        </p:blipFill>
        <p:spPr>
          <a:xfrm>
            <a:off x="609480" y="1066680"/>
            <a:ext cx="7925040" cy="451188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7240" y="44305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pare slide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Search for 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- MC reliability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3733920" y="1968480"/>
          <a:ext cx="5181480" cy="3352680"/>
        </p:xfrm>
        <a:graphic>
          <a:graphicData uri="http://schemas.openxmlformats.org/drawingml/2006/table">
            <a:tbl>
              <a:tblPr/>
              <a:tblGrid>
                <a:gridCol w="1726920"/>
                <a:gridCol w="1727280"/>
                <a:gridCol w="172728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even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 ev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gnal b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 </a:t>
                      </a:r>
                      <a:r>
                        <a:rPr b="0" lang="it-IT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.0 </a:t>
                      </a:r>
                      <a:r>
                        <a:rPr b="0" lang="it-IT" sz="24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2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e bo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4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7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e upp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3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e low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2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5 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4" name=""/>
          <p:cNvSpPr/>
          <p:nvPr/>
        </p:nvSpPr>
        <p:spPr>
          <a:xfrm>
            <a:off x="54000" y="990720"/>
            <a:ext cx="87850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ata-MC comparison, MC statistics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 times that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203040" y="1905120"/>
            <a:ext cx="3429000" cy="3844800"/>
            <a:chOff x="203040" y="1905120"/>
            <a:chExt cx="3429000" cy="3844800"/>
          </a:xfrm>
        </p:grpSpPr>
        <p:pic>
          <p:nvPicPr>
            <p:cNvPr id="776" name="" descr=""/>
            <p:cNvPicPr/>
            <p:nvPr/>
          </p:nvPicPr>
          <p:blipFill>
            <a:blip r:embed="rId1"/>
            <a:srcRect l="11300" t="38699" r="13791" b="7987"/>
            <a:stretch/>
          </p:blipFill>
          <p:spPr>
            <a:xfrm>
              <a:off x="579240" y="1905120"/>
              <a:ext cx="305280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2955960" y="4927680"/>
              <a:ext cx="550800" cy="440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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863000" y="2031840"/>
              <a:ext cx="1628280" cy="745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MC K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3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1760" y="5380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7160" y="5195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3040" y="45576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3040" y="38228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03040" y="2438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03040" y="31384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25520" y="5381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101600" y="5381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80920" y="5381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442960" y="53816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7480" y="2031840"/>
              <a:ext cx="550800" cy="440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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rcRect l="29649" t="36123" r="4386" b="14312"/>
          <a:stretch/>
        </p:blipFill>
        <p:spPr>
          <a:xfrm>
            <a:off x="4241880" y="977760"/>
            <a:ext cx="4763880" cy="506736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4368960" y="1409760"/>
            <a:ext cx="4495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Data, bkg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MC sig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549600" y="888840"/>
            <a:ext cx="692640" cy="5195520"/>
            <a:chOff x="3549600" y="888840"/>
            <a:chExt cx="692640" cy="5195520"/>
          </a:xfrm>
        </p:grpSpPr>
        <p:sp>
          <p:nvSpPr>
            <p:cNvPr id="793" name=""/>
            <p:cNvSpPr/>
            <p:nvPr/>
          </p:nvSpPr>
          <p:spPr>
            <a:xfrm>
              <a:off x="3931560" y="5594040"/>
              <a:ext cx="30888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549600" y="3263760"/>
              <a:ext cx="69264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549600" y="1900080"/>
              <a:ext cx="69264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549600" y="888840"/>
              <a:ext cx="6926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676680" y="4485960"/>
              <a:ext cx="5648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7111440" y="5043600"/>
            <a:ext cx="177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–cP</a:t>
            </a:r>
            <a:r>
              <a:rPr b="0" lang="it-IT" sz="18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22960" y="2184480"/>
            <a:ext cx="2666880" cy="9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Times New Roman"/>
              </a:rPr>
              <a:t>e3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, E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 10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—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Times New Roman"/>
              </a:rPr>
              <a:t>e3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cc00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), E</a:t>
            </a:r>
            <a:r>
              <a:rPr b="1" lang="en-US" sz="2000" spc="-1" strike="noStrike" baseline="-25000">
                <a:solidFill>
                  <a:srgbClr val="cc0099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</a:rPr>
              <a:t> &gt; 10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S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e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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decays – Impact of radiation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4011480" y="5943600"/>
            <a:ext cx="5112720" cy="398880"/>
            <a:chOff x="4011480" y="5943600"/>
            <a:chExt cx="5112720" cy="398880"/>
          </a:xfrm>
        </p:grpSpPr>
        <p:sp>
          <p:nvSpPr>
            <p:cNvPr id="802" name=""/>
            <p:cNvSpPr/>
            <p:nvPr/>
          </p:nvSpPr>
          <p:spPr>
            <a:xfrm>
              <a:off x="5988960" y="59436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77800" y="5943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888080" y="594360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11480" y="594360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23880" y="5943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8687520" y="59436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"/>
          <p:cNvSpPr/>
          <p:nvPr/>
        </p:nvSpPr>
        <p:spPr>
          <a:xfrm>
            <a:off x="88920" y="990720"/>
            <a:ext cx="34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gnal spectrum clearly sensitive to the presence of a photon in the final st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9840" y="2438280"/>
            <a:ext cx="343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nclude radiative effects through an IR-finite treatment in MC (no energy cutoff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25360" y="952560"/>
            <a:ext cx="87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mmetries i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tes (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litz slopes (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signal direct CP vi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litz slopes give information on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= 1/2, 3/2 amplitudes for K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ec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Analysis of K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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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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</a:t>
            </a:r>
            <a:r>
              <a:rPr b="0" i="1" lang="en-US" sz="36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0" i="1" lang="en-US" sz="36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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decay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241880" y="1814400"/>
            <a:ext cx="4902120" cy="22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BR(K</a:t>
            </a:r>
            <a:r>
              <a:rPr b="1" lang="en-US" sz="24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</a:t>
            </a:r>
            <a:r>
              <a:rPr b="1" lang="en-US" sz="24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0066ff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66ff"/>
                </a:solidFill>
                <a:latin typeface="Symbol"/>
                <a:ea typeface="Symbol"/>
              </a:rPr>
              <a:t>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DG ’02 fi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1.73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0.04)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KLO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ep-ex/03070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441 p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’01+’02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87 pb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for signal cou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(1.781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0.013 </a:t>
            </a:r>
            <a:r>
              <a:rPr b="1" lang="en-US" sz="22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0.016)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173160" y="1798560"/>
            <a:ext cx="8793000" cy="4417920"/>
            <a:chOff x="173160" y="1798560"/>
            <a:chExt cx="8793000" cy="4417920"/>
          </a:xfrm>
        </p:grpSpPr>
        <p:sp>
          <p:nvSpPr>
            <p:cNvPr id="814" name=""/>
            <p:cNvSpPr/>
            <p:nvPr/>
          </p:nvSpPr>
          <p:spPr>
            <a:xfrm>
              <a:off x="173160" y="5372280"/>
              <a:ext cx="3531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66ff"/>
                  </a:solidFill>
                  <a:latin typeface="Times New Roman"/>
                </a:rPr>
                <a:t>Preliminary fit to Dalitz plo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66ff"/>
                  </a:solidFill>
                  <a:latin typeface="Times New Roman"/>
                </a:rPr>
                <a:t>F(X,Y) = 1 + gY + hY</a:t>
              </a:r>
              <a:r>
                <a:rPr b="1" lang="it-IT" sz="2200" spc="-1" strike="noStrike" baseline="30000">
                  <a:solidFill>
                    <a:srgbClr val="0066ff"/>
                  </a:solidFill>
                  <a:latin typeface="Times New Roman"/>
                </a:rPr>
                <a:t>2 </a:t>
              </a:r>
              <a:r>
                <a:rPr b="1" lang="it-IT" sz="2200" spc="-1" strike="noStrike">
                  <a:solidFill>
                    <a:srgbClr val="0066ff"/>
                  </a:solidFill>
                  <a:latin typeface="Times New Roman"/>
                </a:rPr>
                <a:t>+ kX</a:t>
              </a:r>
              <a:r>
                <a:rPr b="1" lang="it-IT" sz="2200" spc="-1" strike="noStrike" baseline="30000">
                  <a:solidFill>
                    <a:srgbClr val="0066ff"/>
                  </a:solidFill>
                  <a:latin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5" name=""/>
            <p:cNvGrpSpPr/>
            <p:nvPr/>
          </p:nvGrpSpPr>
          <p:grpSpPr>
            <a:xfrm>
              <a:off x="231840" y="1798560"/>
              <a:ext cx="3578040" cy="3291120"/>
              <a:chOff x="231840" y="1798560"/>
              <a:chExt cx="3578040" cy="3291120"/>
            </a:xfrm>
          </p:grpSpPr>
          <p:pic>
            <p:nvPicPr>
              <p:cNvPr id="816" name="" descr=""/>
              <p:cNvPicPr/>
              <p:nvPr/>
            </p:nvPicPr>
            <p:blipFill>
              <a:blip r:embed="rId1"/>
              <a:srcRect l="15431" t="15481" r="24951" b="6742"/>
              <a:stretch/>
            </p:blipFill>
            <p:spPr>
              <a:xfrm>
                <a:off x="231840" y="1798560"/>
                <a:ext cx="3578040" cy="329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"/>
              <p:cNvSpPr/>
              <p:nvPr/>
            </p:nvSpPr>
            <p:spPr>
              <a:xfrm>
                <a:off x="3182400" y="1980000"/>
                <a:ext cx="426960" cy="20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903600" y="4649040"/>
                <a:ext cx="142560" cy="13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795040" y="4812840"/>
                <a:ext cx="185040" cy="17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 rot="2303400">
              <a:off x="268920" y="4597560"/>
              <a:ext cx="13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T*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20760000">
              <a:off x="1995840" y="4722480"/>
              <a:ext cx="17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T*(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it-IT" sz="2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</a:t>
              </a: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094520" y="4381560"/>
              <a:ext cx="1871640" cy="458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D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286160" y="4381560"/>
              <a:ext cx="2808360" cy="458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KLO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094520" y="5757840"/>
              <a:ext cx="1871640" cy="458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197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0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286160" y="5757840"/>
              <a:ext cx="2808360" cy="458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.0055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.0026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.00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60640" y="5757840"/>
              <a:ext cx="425520" cy="458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094520" y="5299200"/>
              <a:ext cx="1871640" cy="458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57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286160" y="5299200"/>
              <a:ext cx="2808360" cy="458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.030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.010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.0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60640" y="5299200"/>
              <a:ext cx="425520" cy="458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094520" y="4840200"/>
              <a:ext cx="187164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65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.0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86160" y="4840200"/>
              <a:ext cx="280836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.586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.010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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60640" y="4840200"/>
              <a:ext cx="425520" cy="459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860640" y="5299200"/>
              <a:ext cx="5105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60640" y="5757840"/>
              <a:ext cx="5105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86160" y="4381560"/>
              <a:ext cx="0" cy="1834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094520" y="4381560"/>
              <a:ext cx="0" cy="18349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60640" y="4381560"/>
              <a:ext cx="510552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60640" y="4381560"/>
              <a:ext cx="0" cy="183492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8966160" y="4381560"/>
              <a:ext cx="0" cy="183492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860640" y="6216480"/>
              <a:ext cx="510552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860640" y="4840200"/>
              <a:ext cx="5105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5008" t="12133" r="10956" b="10011"/>
          <a:stretch/>
        </p:blipFill>
        <p:spPr>
          <a:xfrm>
            <a:off x="4697280" y="2058840"/>
            <a:ext cx="4294440" cy="39736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LOE impact on 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 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– 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BR’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838080"/>
            <a:ext cx="89917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absolut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BR’s for the principal channels with accuracy &lt;1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1143000"/>
            <a:ext cx="84297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tagged by </a:t>
            </a:r>
            <a:r>
              <a:rPr b="0" i="1" lang="it-IT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it-IT" sz="2000" spc="-1" strike="noStrike" baseline="-25000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0" lang="it-IT" sz="2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it-IT" sz="20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 vertex at IP,</a:t>
            </a:r>
            <a:r>
              <a:rPr b="0" lang="it-IT" sz="2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Times New Roman"/>
              </a:rPr>
              <a:t>efficiency ~ 70%  (mainly geometric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ngular resolution ~ 1°, momentum resolution ~ 1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286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se the kinematics at the charged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89000" y="2084040"/>
            <a:ext cx="4305960" cy="4037760"/>
            <a:chOff x="189000" y="2084040"/>
            <a:chExt cx="4305960" cy="4037760"/>
          </a:xfrm>
        </p:grpSpPr>
        <p:grpSp>
          <p:nvGrpSpPr>
            <p:cNvPr id="174" name=""/>
            <p:cNvGrpSpPr/>
            <p:nvPr/>
          </p:nvGrpSpPr>
          <p:grpSpPr>
            <a:xfrm>
              <a:off x="189000" y="2120760"/>
              <a:ext cx="4305960" cy="4001040"/>
              <a:chOff x="189000" y="2120760"/>
              <a:chExt cx="4305960" cy="4001040"/>
            </a:xfrm>
          </p:grpSpPr>
          <p:pic>
            <p:nvPicPr>
              <p:cNvPr id="175" name="" descr=""/>
              <p:cNvPicPr/>
              <p:nvPr/>
            </p:nvPicPr>
            <p:blipFill>
              <a:blip r:embed="rId2"/>
              <a:srcRect l="18004" t="10197" r="18753" b="4776"/>
              <a:stretch/>
            </p:blipFill>
            <p:spPr>
              <a:xfrm>
                <a:off x="189000" y="2120760"/>
                <a:ext cx="4305960" cy="400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2382840" y="2390760"/>
                <a:ext cx="163440" cy="108360"/>
              </a:xfrm>
              <a:prstGeom prst="roundRect">
                <a:avLst>
                  <a:gd name="adj" fmla="val 1560"/>
                </a:avLst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42600" y="2505960"/>
                <a:ext cx="118080" cy="1440"/>
              </a:xfrm>
              <a:prstGeom prst="line">
                <a:avLst/>
              </a:prstGeom>
              <a:ln w="90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2388960" y="2484720"/>
              <a:ext cx="423720" cy="969480"/>
            </a:xfrm>
            <a:custGeom>
              <a:avLst/>
              <a:gdLst/>
              <a:ahLst/>
              <a:rect l="l" t="t" r="r" b="b"/>
              <a:pathLst>
                <a:path w="1092" h="2563">
                  <a:moveTo>
                    <a:pt x="59" y="0"/>
                  </a:moveTo>
                  <a:lnTo>
                    <a:pt x="45" y="36"/>
                  </a:lnTo>
                  <a:lnTo>
                    <a:pt x="34" y="74"/>
                  </a:lnTo>
                  <a:lnTo>
                    <a:pt x="23" y="116"/>
                  </a:lnTo>
                  <a:lnTo>
                    <a:pt x="15" y="159"/>
                  </a:lnTo>
                  <a:lnTo>
                    <a:pt x="8" y="206"/>
                  </a:lnTo>
                  <a:lnTo>
                    <a:pt x="3" y="255"/>
                  </a:lnTo>
                  <a:lnTo>
                    <a:pt x="1" y="306"/>
                  </a:lnTo>
                  <a:lnTo>
                    <a:pt x="0" y="360"/>
                  </a:lnTo>
                  <a:lnTo>
                    <a:pt x="1" y="415"/>
                  </a:lnTo>
                  <a:lnTo>
                    <a:pt x="3" y="474"/>
                  </a:lnTo>
                  <a:lnTo>
                    <a:pt x="9" y="534"/>
                  </a:lnTo>
                  <a:lnTo>
                    <a:pt x="14" y="595"/>
                  </a:lnTo>
                  <a:lnTo>
                    <a:pt x="23" y="658"/>
                  </a:lnTo>
                  <a:lnTo>
                    <a:pt x="33" y="723"/>
                  </a:lnTo>
                  <a:lnTo>
                    <a:pt x="46" y="788"/>
                  </a:lnTo>
                  <a:lnTo>
                    <a:pt x="59" y="855"/>
                  </a:lnTo>
                  <a:lnTo>
                    <a:pt x="75" y="922"/>
                  </a:lnTo>
                  <a:lnTo>
                    <a:pt x="92" y="990"/>
                  </a:lnTo>
                  <a:lnTo>
                    <a:pt x="110" y="1059"/>
                  </a:lnTo>
                  <a:lnTo>
                    <a:pt x="131" y="1128"/>
                  </a:lnTo>
                  <a:lnTo>
                    <a:pt x="152" y="1197"/>
                  </a:lnTo>
                  <a:lnTo>
                    <a:pt x="177" y="1267"/>
                  </a:lnTo>
                  <a:lnTo>
                    <a:pt x="201" y="1336"/>
                  </a:lnTo>
                  <a:lnTo>
                    <a:pt x="228" y="1405"/>
                  </a:lnTo>
                  <a:lnTo>
                    <a:pt x="255" y="1473"/>
                  </a:lnTo>
                  <a:lnTo>
                    <a:pt x="284" y="1541"/>
                  </a:lnTo>
                  <a:lnTo>
                    <a:pt x="313" y="1608"/>
                  </a:lnTo>
                  <a:lnTo>
                    <a:pt x="344" y="1673"/>
                  </a:lnTo>
                  <a:lnTo>
                    <a:pt x="376" y="1738"/>
                  </a:lnTo>
                  <a:lnTo>
                    <a:pt x="410" y="1801"/>
                  </a:lnTo>
                  <a:lnTo>
                    <a:pt x="443" y="1863"/>
                  </a:lnTo>
                  <a:lnTo>
                    <a:pt x="478" y="1922"/>
                  </a:lnTo>
                  <a:lnTo>
                    <a:pt x="513" y="1980"/>
                  </a:lnTo>
                  <a:lnTo>
                    <a:pt x="549" y="2037"/>
                  </a:lnTo>
                  <a:lnTo>
                    <a:pt x="585" y="2091"/>
                  </a:lnTo>
                  <a:lnTo>
                    <a:pt x="622" y="2143"/>
                  </a:lnTo>
                  <a:lnTo>
                    <a:pt x="658" y="2192"/>
                  </a:lnTo>
                  <a:lnTo>
                    <a:pt x="696" y="2239"/>
                  </a:lnTo>
                  <a:lnTo>
                    <a:pt x="733" y="2284"/>
                  </a:lnTo>
                  <a:lnTo>
                    <a:pt x="771" y="2325"/>
                  </a:lnTo>
                  <a:lnTo>
                    <a:pt x="808" y="2364"/>
                  </a:lnTo>
                  <a:lnTo>
                    <a:pt x="845" y="2399"/>
                  </a:lnTo>
                  <a:lnTo>
                    <a:pt x="881" y="2432"/>
                  </a:lnTo>
                  <a:lnTo>
                    <a:pt x="918" y="2462"/>
                  </a:lnTo>
                  <a:lnTo>
                    <a:pt x="954" y="2489"/>
                  </a:lnTo>
                  <a:lnTo>
                    <a:pt x="989" y="2512"/>
                  </a:lnTo>
                  <a:lnTo>
                    <a:pt x="1024" y="2532"/>
                  </a:lnTo>
                  <a:lnTo>
                    <a:pt x="1058" y="2549"/>
                  </a:lnTo>
                  <a:lnTo>
                    <a:pt x="1091" y="2562"/>
                  </a:lnTo>
                </a:path>
              </a:pathLst>
            </a:custGeom>
            <a:noFill/>
            <a:ln w="18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344680" y="2084040"/>
              <a:ext cx="1200600" cy="2045880"/>
            </a:xfrm>
            <a:prstGeom prst="line">
              <a:avLst/>
            </a:prstGeom>
            <a:ln w="367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84520" y="3417480"/>
              <a:ext cx="1335960" cy="231840"/>
            </a:xfrm>
            <a:custGeom>
              <a:avLst/>
              <a:gdLst/>
              <a:ahLst/>
              <a:rect l="l" t="t" r="r" b="b"/>
              <a:pathLst>
                <a:path w="3450" h="612">
                  <a:moveTo>
                    <a:pt x="0" y="393"/>
                  </a:moveTo>
                  <a:lnTo>
                    <a:pt x="38" y="416"/>
                  </a:lnTo>
                  <a:lnTo>
                    <a:pt x="79" y="437"/>
                  </a:lnTo>
                  <a:lnTo>
                    <a:pt x="125" y="458"/>
                  </a:lnTo>
                  <a:lnTo>
                    <a:pt x="174" y="478"/>
                  </a:lnTo>
                  <a:lnTo>
                    <a:pt x="228" y="496"/>
                  </a:lnTo>
                  <a:lnTo>
                    <a:pt x="285" y="513"/>
                  </a:lnTo>
                  <a:lnTo>
                    <a:pt x="345" y="529"/>
                  </a:lnTo>
                  <a:lnTo>
                    <a:pt x="410" y="544"/>
                  </a:lnTo>
                  <a:lnTo>
                    <a:pt x="477" y="557"/>
                  </a:lnTo>
                  <a:lnTo>
                    <a:pt x="548" y="568"/>
                  </a:lnTo>
                  <a:lnTo>
                    <a:pt x="621" y="580"/>
                  </a:lnTo>
                  <a:lnTo>
                    <a:pt x="698" y="589"/>
                  </a:lnTo>
                  <a:lnTo>
                    <a:pt x="776" y="596"/>
                  </a:lnTo>
                  <a:lnTo>
                    <a:pt x="857" y="602"/>
                  </a:lnTo>
                  <a:lnTo>
                    <a:pt x="940" y="606"/>
                  </a:lnTo>
                  <a:lnTo>
                    <a:pt x="1025" y="610"/>
                  </a:lnTo>
                  <a:lnTo>
                    <a:pt x="1111" y="611"/>
                  </a:lnTo>
                  <a:lnTo>
                    <a:pt x="1200" y="611"/>
                  </a:lnTo>
                  <a:lnTo>
                    <a:pt x="1289" y="610"/>
                  </a:lnTo>
                  <a:lnTo>
                    <a:pt x="1379" y="606"/>
                  </a:lnTo>
                  <a:lnTo>
                    <a:pt x="1470" y="601"/>
                  </a:lnTo>
                  <a:lnTo>
                    <a:pt x="1562" y="596"/>
                  </a:lnTo>
                  <a:lnTo>
                    <a:pt x="1654" y="588"/>
                  </a:lnTo>
                  <a:lnTo>
                    <a:pt x="1747" y="579"/>
                  </a:lnTo>
                  <a:lnTo>
                    <a:pt x="1838" y="568"/>
                  </a:lnTo>
                  <a:lnTo>
                    <a:pt x="1930" y="556"/>
                  </a:lnTo>
                  <a:lnTo>
                    <a:pt x="2020" y="544"/>
                  </a:lnTo>
                  <a:lnTo>
                    <a:pt x="2111" y="529"/>
                  </a:lnTo>
                  <a:lnTo>
                    <a:pt x="2200" y="512"/>
                  </a:lnTo>
                  <a:lnTo>
                    <a:pt x="2288" y="496"/>
                  </a:lnTo>
                  <a:lnTo>
                    <a:pt x="2374" y="477"/>
                  </a:lnTo>
                  <a:lnTo>
                    <a:pt x="2459" y="458"/>
                  </a:lnTo>
                  <a:lnTo>
                    <a:pt x="2541" y="437"/>
                  </a:lnTo>
                  <a:lnTo>
                    <a:pt x="2622" y="415"/>
                  </a:lnTo>
                  <a:lnTo>
                    <a:pt x="2700" y="392"/>
                  </a:lnTo>
                  <a:lnTo>
                    <a:pt x="2776" y="368"/>
                  </a:lnTo>
                  <a:lnTo>
                    <a:pt x="2849" y="344"/>
                  </a:lnTo>
                  <a:lnTo>
                    <a:pt x="2919" y="318"/>
                  </a:lnTo>
                  <a:lnTo>
                    <a:pt x="2985" y="291"/>
                  </a:lnTo>
                  <a:lnTo>
                    <a:pt x="3048" y="264"/>
                  </a:lnTo>
                  <a:lnTo>
                    <a:pt x="3109" y="236"/>
                  </a:lnTo>
                  <a:lnTo>
                    <a:pt x="3165" y="208"/>
                  </a:lnTo>
                  <a:lnTo>
                    <a:pt x="3217" y="179"/>
                  </a:lnTo>
                  <a:lnTo>
                    <a:pt x="3267" y="150"/>
                  </a:lnTo>
                  <a:lnTo>
                    <a:pt x="3312" y="120"/>
                  </a:lnTo>
                  <a:lnTo>
                    <a:pt x="3352" y="91"/>
                  </a:lnTo>
                  <a:lnTo>
                    <a:pt x="3389" y="61"/>
                  </a:lnTo>
                  <a:lnTo>
                    <a:pt x="3421" y="30"/>
                  </a:lnTo>
                  <a:lnTo>
                    <a:pt x="3449" y="0"/>
                  </a:lnTo>
                </a:path>
              </a:pathLst>
            </a:custGeom>
            <a:noFill/>
            <a:ln w="183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67240" y="3509640"/>
              <a:ext cx="68400" cy="74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89880" y="4647600"/>
              <a:ext cx="1317960" cy="46980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GB" sz="2200" spc="-1" strike="noStrike" baseline="-33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GB" sz="22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</a:t>
              </a:r>
              <a:r>
                <a:rPr b="1" lang="en-GB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</a:t>
              </a:r>
              <a:r>
                <a:rPr b="1" lang="en-GB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1" lang="en-GB" sz="22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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78680" y="2084400"/>
              <a:ext cx="1577160" cy="469800"/>
            </a:xfrm>
            <a:prstGeom prst="roundRect">
              <a:avLst>
                <a:gd name="adj" fmla="val 35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2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i="1" lang="en-GB" sz="2200" spc="-1" strike="noStrike" baseline="-33000">
                  <a:solidFill>
                    <a:srgbClr val="ffffff"/>
                  </a:solidFill>
                  <a:latin typeface="Times New Roman"/>
                </a:rPr>
                <a:t>L</a:t>
              </a:r>
              <a:r>
                <a:rPr b="1" lang="en-GB" sz="22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ffffff"/>
                  </a:solidFill>
                  <a:latin typeface="Times New Roman"/>
                </a:rPr>
                <a:t>direc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562640" y="5945040"/>
            <a:ext cx="4556880" cy="41688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sser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yp. 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0400" y="2049480"/>
            <a:ext cx="11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LOE impact on 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 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– 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BR’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5008" t="10011" r="10011" b="10011"/>
          <a:stretch/>
        </p:blipFill>
        <p:spPr>
          <a:xfrm>
            <a:off x="236520" y="1905120"/>
            <a:ext cx="4068720" cy="3822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rcRect l="5008" t="10011" r="10011" b="10011"/>
          <a:stretch/>
        </p:blipFill>
        <p:spPr>
          <a:xfrm>
            <a:off x="4557600" y="1905120"/>
            <a:ext cx="4068720" cy="3822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91800" y="5700600"/>
            <a:ext cx="4492800" cy="41688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sser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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yp. 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4960" y="5700600"/>
            <a:ext cx="4435200" cy="416880"/>
          </a:xfrm>
          <a:prstGeom prst="roundRect">
            <a:avLst>
              <a:gd name="adj" fmla="val 39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sser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imes New Roman"/>
              </a:rPr>
              <a:t>mi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hyp.  (M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914400"/>
            <a:ext cx="892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t data w linear combination of 4 MC shapes: 3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e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vts in 410 p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Large statistical redundancy, accuracy will be dominated by syst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¾ of data used to check data/MC agreement via independent PID: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05440" y="1981080"/>
            <a:ext cx="11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7600" y="1981080"/>
            <a:ext cx="114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/Me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5181480"/>
            <a:ext cx="8686800" cy="11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m of absolute branching fractions + more rare modes (0.2% from PDG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 BR(</a:t>
            </a:r>
            <a:r>
              <a:rPr b="0" i="1" lang="en-GB" sz="20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GB" sz="20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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i) = 1.0026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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using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51.15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45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pper limit 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visible BR: BR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visible) &lt; 1.05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000" spc="-1" strike="noStrike" baseline="33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@ 90 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4446" t="20478" r="17189" b="55847"/>
          <a:stretch/>
        </p:blipFill>
        <p:spPr>
          <a:xfrm>
            <a:off x="4622760" y="1295280"/>
            <a:ext cx="4343400" cy="1947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14515" t="20345" r="17142" b="55627"/>
          <a:stretch/>
        </p:blipFill>
        <p:spPr>
          <a:xfrm>
            <a:off x="4635360" y="3276720"/>
            <a:ext cx="4343400" cy="197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rcRect l="14515" t="20478" r="17392" b="55994"/>
          <a:stretch/>
        </p:blipFill>
        <p:spPr>
          <a:xfrm>
            <a:off x="139680" y="3289320"/>
            <a:ext cx="4318200" cy="1930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rcRect l="14645" t="20595" r="17341" b="55997"/>
          <a:stretch/>
        </p:blipFill>
        <p:spPr>
          <a:xfrm>
            <a:off x="139680" y="1311120"/>
            <a:ext cx="4330800" cy="1930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LOE impact on 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 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– 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BR’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914400"/>
            <a:ext cx="89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liminary resul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65120" y="4800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74880" y="4800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47840" y="480060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83520" y="48006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5480" y="2819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9200" y="2819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7320" y="2819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2920" y="28195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5600" y="1324080"/>
            <a:ext cx="4005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(</a:t>
            </a:r>
            <a:r>
              <a:rPr b="0" i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i="1" lang="en-GB" sz="1800" spc="-1" strike="noStrike" baseline="-33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</a:t>
            </a:r>
            <a:r>
              <a:rPr b="0" i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= 0.3994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0006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00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97640" y="1324080"/>
            <a:ext cx="3966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0" i="1" lang="en-GB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GB" sz="18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)  = 0.2014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0003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00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1400" y="3327480"/>
            <a:ext cx="420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0" i="1" lang="en-GB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GB" sz="18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</a:t>
            </a:r>
            <a:r>
              <a:rPr b="1" lang="en-GB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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GB" sz="1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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) = 0.1271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0004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6320" y="3327480"/>
            <a:ext cx="403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BR(</a:t>
            </a:r>
            <a:r>
              <a:rPr b="0" i="1" lang="en-GB" sz="1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i="1" lang="en-GB" sz="18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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) = 0.2708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0005</a:t>
            </a:r>
            <a:r>
              <a:rPr b="0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0.00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3000" y="1920960"/>
            <a:ext cx="10670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46840" y="1920960"/>
            <a:ext cx="10670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6800" y="101520"/>
            <a:ext cx="8226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KLOE impact on V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us 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– K</a:t>
            </a:r>
            <a:r>
              <a:rPr b="0" i="1" lang="en-US" sz="3600" spc="-1" strike="noStrike" baseline="-25000">
                <a:solidFill>
                  <a:srgbClr val="0066ff"/>
                </a:solidFill>
                <a:latin typeface="Times New Roman"/>
              </a:rPr>
              <a:t>L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 BR’s</a:t>
            </a:r>
            <a:endParaRPr b="0" i="1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914400"/>
            <a:ext cx="892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liminary estimate of systematic err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371600"/>
          <a:ext cx="6629400" cy="2274840"/>
        </p:xfrm>
        <a:graphic>
          <a:graphicData uri="http://schemas.openxmlformats.org/drawingml/2006/table">
            <a:tbl>
              <a:tblPr/>
              <a:tblGrid>
                <a:gridCol w="1325520"/>
                <a:gridCol w="1325520"/>
                <a:gridCol w="1326960"/>
                <a:gridCol w="1325880"/>
                <a:gridCol w="13255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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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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 bi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feti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152280" y="3840120"/>
            <a:ext cx="87375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ging efficiency slightly depends 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pology (tag bias): reliability of correction from MC checked comparing different tagging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ducial volume dimension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3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: acceptance depends on t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life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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BR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) = 1, g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</a:t>
            </a:r>
            <a:r>
              <a:rPr b="0" lang="en-GB" sz="2000" spc="-1" strike="noStrike" baseline="30000">
                <a:solidFill>
                  <a:srgbClr val="ff0000"/>
                </a:solidFill>
                <a:latin typeface="Times New Roman"/>
              </a:rPr>
              <a:t>KLOE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K</a:t>
            </a:r>
            <a:r>
              <a:rPr b="0" lang="en-GB" sz="2000" spc="-1" strike="noStrike" baseline="-33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) = 51.35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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stat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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Times New Roman"/>
              </a:rPr>
              <a:t>syst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maller error than PDG  2002 fit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PD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K</a:t>
            </a:r>
            <a:r>
              <a:rPr b="0" lang="en-GB" sz="2000" spc="-1" strike="noStrike" baseline="-33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= 51.5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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ecent results from KLOE at DAFNE - M. Moulson - CIPANP 2003, New York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6:14:35Z</dcterms:created>
  <dc:creator>Tommaso Spadaro</dc:creator>
  <dc:description/>
  <dc:language>en-US</dc:language>
  <cp:lastModifiedBy>LNF</cp:lastModifiedBy>
  <cp:lastPrinted>2003-05-17T15:56:12Z</cp:lastPrinted>
  <dcterms:modified xsi:type="dcterms:W3CDTF">2004-11-08T11:27:30Z</dcterms:modified>
  <cp:revision>943</cp:revision>
  <dc:subject/>
  <dc:title>Recent results from KLOE</dc:title>
</cp:coreProperties>
</file>