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66946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3A5-E86F-490D-8823-3274434D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623-1360-418C-BB3A-F513AFCD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9CF-E5B0-417F-987F-E6D4A23E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C95-CB65-4BAD-A3E9-419B1FCB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D866-E57F-42B8-8FDF-2E5BC63C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7834-4690-44EB-A5D0-3159A99A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512A-4F0F-4F49-898C-3EC4CD12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E297-C9ED-4F53-8E48-E2452194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FA60-07E8-4441-A0FD-F79B51CB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B2E5-DC79-4E81-B87E-65015A7A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0ABC-F15B-407A-B189-D6D37E7F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06C-504F-43FA-A12D-CBF1E6B3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2C79-3BC9-4208-A355-AEC56B57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D531-18BF-41B2-B8FA-58CC519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3865-1B26-467C-9293-FAE60528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0DCD-950E-46A9-B960-EFEC0132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765B-4624-45A4-A5DA-61FBF96E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574-4C29-44E1-AAAF-A096692A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48A-AFC9-4FAC-8100-A2B77072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3F5-2526-4C71-A435-2976CB79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8F4-F743-442B-B830-C5765CAF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499-FF2A-4149-AA90-189416EE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FF5-87C9-4AF4-854A-8249374C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0BF-E89E-4EE2-9E4B-D528571A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E049-74EB-404D-9C9A-1C98B7DAC781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370E-54B0-4A3E-A644-0A52D557355E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bdac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0920" y="380880"/>
            <a:ext cx="624816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800100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AQ Period II: 22/05/01 – 4/06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= 2 pb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ryogenic setu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arget -&gt;     nitrogen (118 K         1.52 bar =&gt; ~ 4 .2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TP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tectors-&gt; 8-CCD22     4 CCD-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09680" y="228600"/>
            <a:ext cx="6248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3300"/>
                    </a:gs>
                  </a:gsLst>
                  <a:lin ang="10800000"/>
                </a:gradFill>
                <a:latin typeface="Impact"/>
              </a:rPr>
              <a:t>DEAR    Kaonic    Nitrogen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ff3300"/>
                  </a:gs>
                </a:gsLst>
                <a:lin ang="108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3300"/>
                    </a:gs>
                  </a:gsLst>
                  <a:lin ang="10800000"/>
                </a:gradFill>
                <a:latin typeface="Impact"/>
              </a:rPr>
              <a:t>results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ff3300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033680" y="914400"/>
            <a:ext cx="2109960" cy="5562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cap="rnd" w="0">
            <a:solidFill>
              <a:srgbClr val="ffcc66"/>
            </a:solidFill>
            <a:custDash>
              <a:ds d="100000" sp="1000"/>
            </a:custDash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imultaneous fi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14 x-ray line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etup material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kaonic nitro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tran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Gaussian shap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Al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 Si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Sc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KN (4.58 keV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V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 Cr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 Mn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Cr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 Fe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Mn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 Fe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KN (7.62 keV),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Cu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 Zn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Zn K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 Pb L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haped by a su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logo" descr=""/>
          <p:cNvPicPr/>
          <p:nvPr/>
        </p:nvPicPr>
        <p:blipFill>
          <a:blip r:embed="rId1"/>
          <a:stretch/>
        </p:blipFill>
        <p:spPr>
          <a:xfrm>
            <a:off x="1447920" y="0"/>
            <a:ext cx="1371600" cy="754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95480" y="152280"/>
            <a:ext cx="6248520" cy="520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4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Kaonic   nitrogen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pectrum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global f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74472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fit-global12" descr=""/>
          <p:cNvPicPr/>
          <p:nvPr/>
        </p:nvPicPr>
        <p:blipFill>
          <a:blip r:embed="rId3"/>
          <a:stretch/>
        </p:blipFill>
        <p:spPr>
          <a:xfrm>
            <a:off x="685800" y="754200"/>
            <a:ext cx="633096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cc66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logo" descr=""/>
          <p:cNvPicPr/>
          <p:nvPr/>
        </p:nvPicPr>
        <p:blipFill>
          <a:blip r:embed="rId1"/>
          <a:stretch/>
        </p:blipFill>
        <p:spPr>
          <a:xfrm>
            <a:off x="0" y="1600200"/>
            <a:ext cx="1447920" cy="795240"/>
          </a:xfrm>
          <a:prstGeom prst="rect">
            <a:avLst/>
          </a:prstGeom>
          <a:ln w="0">
            <a:noFill/>
          </a:ln>
        </p:spPr>
      </p:pic>
      <p:pic>
        <p:nvPicPr>
          <p:cNvPr id="120" name="test1" descr=""/>
          <p:cNvPicPr/>
          <p:nvPr/>
        </p:nvPicPr>
        <p:blipFill>
          <a:blip r:embed="rId2"/>
          <a:stretch/>
        </p:blipFill>
        <p:spPr>
          <a:xfrm>
            <a:off x="1905120" y="155520"/>
            <a:ext cx="6858000" cy="67024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4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Kaonic  nitrogen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ackground subtracted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pectrum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 peaks are from left to right:</a:t>
            </a:r>
            <a:br>
              <a:rPr sz="2000"/>
            </a:b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. Al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X rays at 1.49 keV from the target frame; this peak is used for CCD energy calibration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. Si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rays at 1.74 keV from CCDs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. Sc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X rays at 4.09 keV from CCD ceramics;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4. Kaonic nitrogen (7-&gt;6) transition at 4.6 keV: 720 +/- 240 events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5. V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X rays at 4.95 keV (stainless steel)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6. Cr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rays at 5.41 keV (stainless steel)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7. Mn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nd Cr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X rays at 5.89 and 5.95 keV (aluminium and stainless steel)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8. Fe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nd Mn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X rays at 6.40 and 6.49 keV (stainless steel and aluminium)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9. Fe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X rays at 7.06 keV (stainless steel);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10. Kaonic nitrogen (6-&gt;5) transition at 7.6 keV: 860 +/- 230 events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1. Cu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X rays at 8.04 keV (target cooling system)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2. Zn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X rays at 8.63 keV (stainless steel)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3. Pb L-complex and Zn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X rays around 9.4 and 9.57 keV (shielding and stainless steel)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4. Pb L-complex X rays around 10.5 keV (shielding)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5. Zr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X rays at 15.7 keV (degrader). This line is also used for CCD energy calibration.</a:t>
            </a:r>
            <a:endParaRPr b="0" i="1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5120" y="304920"/>
            <a:ext cx="70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990000"/>
                  </a:outerShdw>
                </a:effectLst>
                <a:latin typeface="Impact"/>
              </a:rPr>
              <a:t>Kaonic nitrogen x-ray spectrum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990000"/>
                  </a:outerShdw>
                </a:effectLst>
                <a:latin typeface="Impact"/>
              </a:rPr>
              <a:t>after background subtraction 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3:22:58Z</dcterms:created>
  <dc:creator>DEAR Experiment</dc:creator>
  <dc:description/>
  <dc:language>en-US</dc:language>
  <cp:lastModifiedBy>DEAR Experiment</cp:lastModifiedBy>
  <dcterms:modified xsi:type="dcterms:W3CDTF">2001-11-21T10:16:14Z</dcterms:modified>
  <cp:revision>53</cp:revision>
  <dc:subject/>
  <dc:title>Results of the analysis of kaonic nitrogen data, took in the period: 22 May 2001 – 04 June 2001</dc:title>
</cp:coreProperties>
</file>