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69C-EED7-49D4-8A74-678E15B7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4D5-3DC2-465C-A20E-B5C693AA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853-D7C0-4CE1-8733-C307A4B8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7A5-C003-4135-AA2D-B0E39F88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9B3-AF11-44E7-AE7B-E20544BD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0B2-73FB-4865-94CA-16F9EDC5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127-2358-46B1-A911-59FD47E5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59F-46BE-4B2E-A57D-893BB660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BEE-E651-4A12-8A63-B511DE48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90C-7B7F-4DD6-950A-4C9FE4B3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643-5C18-4D46-8987-BA927C2C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09F-83B2-4186-A8D5-50839165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99867-E8E4-45AF-BBFE-1FB618EED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246320" y="1665360"/>
            <a:ext cx="6526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’universo e’ permeato da un campo a spin zero, detto campo di Higgs, doppietto in SU(2) e con ipercarica U(1), ma privo di colore. I bosoni di gauge e i fermioni interagiscono con questo campo acquisendo mass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2374920" y="1523880"/>
            <a:ext cx="4678200" cy="5104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367560" y="45720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lo Standard delle partic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733320" y="2457360"/>
            <a:ext cx="782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 aggiungiamo la massa “a mano” nel modello standard, includendo questa proprieta’, l’invarianza di Gauge non e’ piu’ rispett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733320" y="1401840"/>
            <a:ext cx="7823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’universo e’ riempito di una gelatina (campo di Higgs) che riempe lo spazi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ando le particelle passano attraverso la gelatina vengono frenata, ciascuna in modo divers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esto frenamento e’ quello che da la “sensazione” di mass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42920" y="2035080"/>
            <a:ext cx="4568760" cy="4568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4879800" y="2478240"/>
            <a:ext cx="4092840" cy="2519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520800" y="426960"/>
            <a:ext cx="27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mpo vettor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733320" y="1401840"/>
            <a:ext cx="7823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 qualsiasi campo nell’universo si manifesta attraverso la presenza di un boso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ccio semplice: durante il frenamento, la gelatina puo’ aggrumarsi al passaggio della particella. Questo “grumo” di campo e’ appunto il bosone del campo di Higgs, il “bosone di Higgs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139680"/>
            <a:ext cx="914400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733320" y="1401840"/>
            <a:ext cx="7823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TENZIONE: quello visto e’ sicuramente un bosone di Higg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l modello standard prevedere un solo bosone, le SUSY almeno 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 vorranno anni di presa dati per capire quale di questi bosoni e’ stato trova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5:34:02Z</dcterms:created>
  <dc:creator>Matteo Martini</dc:creator>
  <dc:description/>
  <dc:language>en-US</dc:language>
  <cp:lastModifiedBy>Matteo Martini</cp:lastModifiedBy>
  <dcterms:modified xsi:type="dcterms:W3CDTF">2013-10-10T05:56:12Z</dcterms:modified>
  <cp:revision>3</cp:revision>
  <dc:subject/>
  <dc:title>PowerPoint Presentation</dc:title>
</cp:coreProperties>
</file>