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2B5-C629-486D-9651-128FC010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3689-F2C4-425B-9A72-4A4DA62F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AC8-BB48-4803-ABE5-07F7ABE0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F3A-311A-442A-B1EE-23058C37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960-E06D-497D-8347-F49C3D35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F88-63B3-400D-BC8C-57FBFCF6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5ACA-0E21-4587-9F81-D1158E34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61C0-D63D-4D39-9098-1AAEA50C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4A89-B76A-48B5-8666-80814FA2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C18-100B-404E-9F2F-F575EF41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73D-D735-436A-9002-767C2831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A3AA-C4AD-49BD-8C4F-2DCDED1A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C84D-DFA4-4263-A4E1-FC646D900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ing OAM Through TMD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+p and SI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Aidala, QCD-N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+p at R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 shift of back-to-back jets or hadrons—first results from 2006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18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ts—midrapidity + forward—2006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Sivers and Coll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18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rect photons—forward/backward for q or g Sivers—2007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18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n charm—gluon—first results 2006 (high statistics but not event-by-event), displaced vertex tagging possible ~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18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hoton+jet—x dependence—midrapidity ~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18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’s—Sivers flavor separation—2011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Aidala, QCD-N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vers moment (HERMES, COMPASS, JL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MES data-taking finished, analysis on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SS has proton target now—unknown for transverse spin physics beyond 2006.  Possible future high-intensity muon b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Lab approved proposal for transverse target in Hall A.  Would be great if CLAS could put in transverse target as well—large acceptance.  Transverse target experiments after 12 GeV upgr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C—broad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x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Aidala, QCD-N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n dependence of &lt;k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oug Fields unable to att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additive or cancelling effects for same-spin vs. opposite-spin collisions, depending also on impact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good handle on impact parameter y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hep-ex/0605039 for unpolarized method of &lt;k</a:t>
            </a:r>
            <a:r>
              <a:rPr b="0" lang="en-US" sz="2400" spc="-1" strike="noStrike" baseline="-18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on polarization in unpolarized p+p to access Boer-Mulders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Aidala, QCD-N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21:53:35Z</dcterms:created>
  <dc:creator>Christine A. Aidala</dc:creator>
  <dc:description/>
  <dc:language>en-US</dc:language>
  <cp:lastModifiedBy>Christine A. Aidala</cp:lastModifiedBy>
  <dcterms:modified xsi:type="dcterms:W3CDTF">2006-06-14T08:05:02Z</dcterms:modified>
  <cp:revision>32</cp:revision>
  <dc:subject/>
  <dc:title>Accessing TMD’s Through Non-Exclusive Processes</dc:title>
</cp:coreProperties>
</file>