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21F-A675-41D0-93DC-6E6EB56C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35E-BEAE-4DF4-B527-D711C97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C1A-B155-421B-9ACA-9F4F1432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569-D17A-4E7A-8C70-F2388687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BD3-3E1C-4C4E-9823-D28F5A9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88E-52F3-4023-A387-8F64B69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650-F71B-4B58-A8D3-30C3A7F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0E3-9DD7-4F35-824F-BDDE394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4B7-C62A-418B-B5A9-8C5330CF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30-E58A-459F-B1F0-FDBF19E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FF8-B450-4554-BFFE-DDBCF4B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E68-A658-4601-B91E-B7FD17D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30E3-3B64-457E-A249-E686A3754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00200" y="1371600"/>
            <a:ext cx="7086600" cy="76320"/>
          </a:xfrm>
          <a:prstGeom prst="rect">
            <a:avLst/>
          </a:prstGeom>
          <a:gradFill rotWithShape="0">
            <a:gsLst>
              <a:gs pos="0">
                <a:srgbClr val="7e7e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5c5cfe">
                  <a:alpha val="0"/>
                </a:srgbClr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5c5c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556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marks o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bital angular momentu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t Mu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7960" y="1522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rascati, Ju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4952880"/>
            <a:ext cx="2361960" cy="128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5103720"/>
            <a:ext cx="2133720" cy="105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2200" y="649116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jg.mulders@few.vu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4670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ocal – forward and off-forwar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14400" y="1982880"/>
          <a:ext cx="57150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2880"/>
                    <a:ext cx="5715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114800" y="3081240"/>
          <a:ext cx="8380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081240"/>
                    <a:ext cx="838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38080" y="4267080"/>
          <a:ext cx="33530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267080"/>
                    <a:ext cx="33530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838080" y="4952880"/>
          <a:ext cx="373392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3733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240" y="1535040"/>
            <a:ext cx="52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cal operators (coordinate space densiti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315200" y="1825560"/>
            <a:ext cx="1451880" cy="1209600"/>
            <a:chOff x="7315200" y="1825560"/>
            <a:chExt cx="1451880" cy="1209600"/>
          </a:xfrm>
        </p:grpSpPr>
        <p:sp>
          <p:nvSpPr>
            <p:cNvPr id="63" name=""/>
            <p:cNvSpPr/>
            <p:nvPr/>
          </p:nvSpPr>
          <p:spPr>
            <a:xfrm>
              <a:off x="7772400" y="2362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296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152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01000" y="1905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17000" y="266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3680" y="2666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78760" y="1825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449568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0680" y="37339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ic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4920" y="4267080"/>
            <a:ext cx="2145240" cy="173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xial)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2590920"/>
            <a:ext cx="380880" cy="761760"/>
          </a:xfrm>
          <a:prstGeom prst="upArrow">
            <a:avLst>
              <a:gd name="adj1" fmla="val 36667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152600">
            <a:off x="4925880" y="2495160"/>
            <a:ext cx="381240" cy="914400"/>
          </a:xfrm>
          <a:prstGeom prst="upArrow">
            <a:avLst>
              <a:gd name="adj1" fmla="val 36667"/>
              <a:gd name="adj2" fmla="val 59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200400"/>
            <a:ext cx="1467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onlocal - forwar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21200" y="3135240"/>
          <a:ext cx="474660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1200" y="3135240"/>
                    <a:ext cx="4746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133720" y="1906560"/>
          <a:ext cx="678168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6560"/>
                    <a:ext cx="6781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85800" y="4876920"/>
          <a:ext cx="8062920" cy="61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76920"/>
                    <a:ext cx="8062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52280" y="1981080"/>
            <a:ext cx="194652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00320" y="152388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local forward operators (correlator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7920" y="266544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ecifically useful: ‘squar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3809880"/>
            <a:ext cx="304920" cy="611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6400" y="441972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mentum space densities of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599480" y="2666880"/>
            <a:ext cx="609480" cy="505080"/>
          </a:xfrm>
          <a:custGeom>
            <a:avLst/>
            <a:gdLst>
              <a:gd name="textAreaLeft" fmla="*/ 183600 w 609480"/>
              <a:gd name="textAreaRight" fmla="*/ 498240 w 609480"/>
              <a:gd name="textAreaTop" fmla="*/ 310680 h 505080"/>
              <a:gd name="textAreaBottom" fmla="*/ 4132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7216"/>
                </a:moveTo>
                <a:lnTo>
                  <a:pt x="13278" y="17216"/>
                </a:lnTo>
                <a:lnTo>
                  <a:pt x="13278" y="6520"/>
                </a:lnTo>
                <a:lnTo>
                  <a:pt x="9340" y="6520"/>
                </a:lnTo>
                <a:lnTo>
                  <a:pt x="15470" y="0"/>
                </a:lnTo>
                <a:lnTo>
                  <a:pt x="21600" y="6520"/>
                </a:lnTo>
                <a:lnTo>
                  <a:pt x="17662" y="6520"/>
                </a:lnTo>
                <a:lnTo>
                  <a:pt x="176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048120"/>
            <a:ext cx="1219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vity at high energies: q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38480" y="6172200"/>
          <a:ext cx="2260800" cy="55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38480" y="6172200"/>
                    <a:ext cx="2260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879720" y="56386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m rule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orm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onlocal – off-forwar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95360" y="2058840"/>
          <a:ext cx="830592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058840"/>
                    <a:ext cx="83059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73360" y="5410080"/>
          <a:ext cx="585144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3360" y="5410080"/>
                    <a:ext cx="5851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80880" y="2743200"/>
            <a:ext cx="212724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674800" y="6019920"/>
          <a:ext cx="623124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74800" y="6019920"/>
                    <a:ext cx="6231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69000" y="1600200"/>
            <a:ext cx="68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local off-forward operators (correlators AND densiti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733920" y="3276720"/>
          <a:ext cx="2438280" cy="55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3920" y="3276720"/>
                    <a:ext cx="2438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733920" y="3886200"/>
          <a:ext cx="2819160" cy="59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33920" y="3886200"/>
                    <a:ext cx="28191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51120" y="28195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m rule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orm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8840" y="487692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ward limit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orre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2590920"/>
            <a:ext cx="381240" cy="761760"/>
          </a:xfrm>
          <a:prstGeom prst="upArrow">
            <a:avLst>
              <a:gd name="adj1" fmla="val 36667"/>
              <a:gd name="adj2" fmla="val 49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52600">
            <a:off x="7059600" y="2495160"/>
            <a:ext cx="380880" cy="914400"/>
          </a:xfrm>
          <a:prstGeom prst="upArrow">
            <a:avLst>
              <a:gd name="adj1" fmla="val 36667"/>
              <a:gd name="adj2" fmla="val 600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320040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8" idx="1"/>
            <a:endCxn id="98" idx="1"/>
          </p:cNvCxnSpPr>
          <p:nvPr/>
        </p:nvCxnSpPr>
        <p:spPr>
          <a:xfrm>
            <a:off x="380520" y="41907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09480" y="2971800"/>
            <a:ext cx="152640" cy="1214280"/>
          </a:xfrm>
          <a:prstGeom prst="upDownArrow">
            <a:avLst>
              <a:gd name="adj1" fmla="val 50000"/>
              <a:gd name="adj2" fmla="val 1583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72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828080" y="3123360"/>
            <a:ext cx="609480" cy="505080"/>
          </a:xfrm>
          <a:custGeom>
            <a:avLst/>
            <a:gdLst>
              <a:gd name="textAreaLeft" fmla="*/ 183600 w 609480"/>
              <a:gd name="textAreaRight" fmla="*/ 498240 w 609480"/>
              <a:gd name="textAreaTop" fmla="*/ 310680 h 505080"/>
              <a:gd name="textAreaBottom" fmla="*/ 4132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7216"/>
                </a:moveTo>
                <a:lnTo>
                  <a:pt x="13278" y="17216"/>
                </a:lnTo>
                <a:lnTo>
                  <a:pt x="13278" y="6520"/>
                </a:lnTo>
                <a:lnTo>
                  <a:pt x="9340" y="6520"/>
                </a:lnTo>
                <a:lnTo>
                  <a:pt x="15470" y="0"/>
                </a:lnTo>
                <a:lnTo>
                  <a:pt x="21600" y="6520"/>
                </a:lnTo>
                <a:lnTo>
                  <a:pt x="17662" y="6520"/>
                </a:lnTo>
                <a:lnTo>
                  <a:pt x="176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590920"/>
            <a:ext cx="12193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vity q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077320" y="3657600"/>
          <a:ext cx="852480" cy="438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77320" y="3657600"/>
                    <a:ext cx="852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rect measurement of OAM requires off-forward matrix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MD: no; GPD: y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One may at best make statement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linear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dependence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nonzero O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no linear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dependence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no 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6:01:03Z</dcterms:created>
  <dc:creator>mulders</dc:creator>
  <dc:description/>
  <dc:language>en-US</dc:language>
  <cp:lastModifiedBy>mulders</cp:lastModifiedBy>
  <dcterms:modified xsi:type="dcterms:W3CDTF">2006-06-14T10:21:51Z</dcterms:modified>
  <cp:revision>28</cp:revision>
  <dc:subject/>
  <dc:title>Template</dc:title>
</cp:coreProperties>
</file>