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87E7-00BA-4D68-A892-2E453C40E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954D-9CF9-4B9C-97C8-E3DC3C6B9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3282-ED62-45A5-A468-EFC03A9FD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A3BE-7613-4F6B-B1BD-EDEFEEE6A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55E21-3F06-4283-A9BC-D3692D05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F1587-5A41-4482-8754-9BE5F78F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E24BD-C635-445A-A3FD-EDF368D2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ADDF2-51C7-4BCE-929F-4C5365F3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CE5E4-5FD6-42C9-A659-9D6A09CD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7A536-0434-4E48-8214-AE63D179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F94ED-ED25-44B7-9D4E-519D990C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A4F1-CC7E-4D6B-98AC-FB12B839A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633B8-1B83-472F-8B33-C9CC59B2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30273-420E-4BE4-9FEF-A6B078C4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BF5F8-A6AE-4DF1-8BD9-26FA08D9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683BB-DF7F-47B9-882D-5307F9A9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DC2EC-5CF7-4BBF-BCB0-C964925D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CCAB-96E5-47D8-856C-79C3734D0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53E5-2BF4-4047-ABA4-D1F9C6E2C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4F9E-07B8-4910-B2BD-D911A6C03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1F1F-F201-48C1-99B1-D985B0F35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0B3B-7234-40FE-B723-4D0C52FA4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CE85-C625-4248-84AF-13C560C61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F01E-6A4B-4DCB-9400-7EC0CB2E1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1564-7B1D-4299-A741-3BB6FF59D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97B2-936E-4F0C-80A1-F785F89FF5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B920-3406-4E2C-8C1E-D65A3EF9E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0400" y="914400"/>
            <a:ext cx="2590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06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PD 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from Transverse 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5800" y="205740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polarized beam, transverse targ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4480" y="2743200"/>
            <a:ext cx="359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UT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in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k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….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629400" y="914400"/>
            <a:ext cx="1828800" cy="839880"/>
            <a:chOff x="6629400" y="914400"/>
            <a:chExt cx="1828800" cy="839880"/>
          </a:xfrm>
        </p:grpSpPr>
        <p:sp>
          <p:nvSpPr>
            <p:cNvPr id="86" name=""/>
            <p:cNvSpPr/>
            <p:nvPr/>
          </p:nvSpPr>
          <p:spPr>
            <a:xfrm>
              <a:off x="6629400" y="91440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5160" y="971280"/>
              <a:ext cx="15872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/(2-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31360" y="1355400"/>
              <a:ext cx="1244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 = t/4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432960" y="990720"/>
            <a:ext cx="2232000" cy="677160"/>
            <a:chOff x="3432960" y="990720"/>
            <a:chExt cx="2232000" cy="677160"/>
          </a:xfrm>
        </p:grpSpPr>
        <p:sp>
          <p:nvSpPr>
            <p:cNvPr id="90" name=""/>
            <p:cNvSpPr/>
            <p:nvPr/>
          </p:nvSpPr>
          <p:spPr>
            <a:xfrm>
              <a:off x="3432960" y="1185840"/>
              <a:ext cx="529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206680" y="1025280"/>
              <a:ext cx="458280" cy="642600"/>
              <a:chOff x="5206680" y="1025280"/>
              <a:chExt cx="458280" cy="642600"/>
            </a:xfrm>
          </p:grpSpPr>
          <p:sp>
            <p:nvSpPr>
              <p:cNvPr id="92" name=""/>
              <p:cNvSpPr/>
              <p:nvPr/>
            </p:nvSpPr>
            <p:spPr>
              <a:xfrm>
                <a:off x="5207040" y="1025280"/>
                <a:ext cx="45792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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06680" y="13726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35880" y="990720"/>
              <a:ext cx="9399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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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160" y="13730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72960" y="1216080"/>
              <a:ext cx="311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36480" y="925560"/>
            <a:ext cx="2100960" cy="581400"/>
            <a:chOff x="636480" y="925560"/>
            <a:chExt cx="2100960" cy="581400"/>
          </a:xfrm>
        </p:grpSpPr>
        <p:sp>
          <p:nvSpPr>
            <p:cNvPr id="98" name=""/>
            <p:cNvSpPr/>
            <p:nvPr/>
          </p:nvSpPr>
          <p:spPr>
            <a:xfrm>
              <a:off x="636480" y="925560"/>
              <a:ext cx="210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ep         ep</a:t>
              </a: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71600" y="129528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7040" y="5915160"/>
            <a:ext cx="89042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analysis of polarized and unpolarized data needed for precision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2131920"/>
            <a:ext cx="4529160" cy="259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43400" y="4800600"/>
            <a:ext cx="4524480" cy="641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9440" y="3546360"/>
            <a:ext cx="229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knowledge of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3040" y="472428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ground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3BD9-3985-4138-A3E2-1B343F509E5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0400" y="914400"/>
            <a:ext cx="2590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06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PD 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from beam 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195640"/>
            <a:ext cx="4419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5520" y="2260440"/>
            <a:ext cx="39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LU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sin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k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96960" y="2030400"/>
            <a:ext cx="185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1720" y="1752480"/>
            <a:ext cx="40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larized beam, unpolarized targ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77400" y="28195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-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838080"/>
            <a:ext cx="1828800" cy="840240"/>
            <a:chOff x="6629400" y="838080"/>
            <a:chExt cx="1828800" cy="840240"/>
          </a:xfrm>
        </p:grpSpPr>
        <p:sp>
          <p:nvSpPr>
            <p:cNvPr id="114" name=""/>
            <p:cNvSpPr/>
            <p:nvPr/>
          </p:nvSpPr>
          <p:spPr>
            <a:xfrm>
              <a:off x="6629400" y="838080"/>
              <a:ext cx="18288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15160" y="895320"/>
              <a:ext cx="15872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/(2-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31360" y="1279440"/>
              <a:ext cx="1244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 = t/4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8560" y="3429000"/>
            <a:ext cx="37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matically suppressed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qui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432960" y="990720"/>
            <a:ext cx="2232000" cy="677160"/>
            <a:chOff x="3432960" y="990720"/>
            <a:chExt cx="2232000" cy="677160"/>
          </a:xfrm>
        </p:grpSpPr>
        <p:sp>
          <p:nvSpPr>
            <p:cNvPr id="119" name=""/>
            <p:cNvSpPr/>
            <p:nvPr/>
          </p:nvSpPr>
          <p:spPr>
            <a:xfrm>
              <a:off x="3432960" y="1185840"/>
              <a:ext cx="529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06680" y="1025280"/>
              <a:ext cx="458280" cy="642600"/>
              <a:chOff x="5206680" y="1025280"/>
              <a:chExt cx="458280" cy="642600"/>
            </a:xfrm>
          </p:grpSpPr>
          <p:sp>
            <p:nvSpPr>
              <p:cNvPr id="121" name=""/>
              <p:cNvSpPr/>
              <p:nvPr/>
            </p:nvSpPr>
            <p:spPr>
              <a:xfrm>
                <a:off x="5207040" y="1025280"/>
                <a:ext cx="45792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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206680" y="13726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935880" y="990720"/>
              <a:ext cx="9399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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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2160" y="13730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2960" y="1216080"/>
              <a:ext cx="311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695720" y="1981080"/>
            <a:ext cx="185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36480" y="925560"/>
            <a:ext cx="2100960" cy="581400"/>
            <a:chOff x="636480" y="925560"/>
            <a:chExt cx="2100960" cy="581400"/>
          </a:xfrm>
        </p:grpSpPr>
        <p:sp>
          <p:nvSpPr>
            <p:cNvPr id="128" name=""/>
            <p:cNvSpPr/>
            <p:nvPr/>
          </p:nvSpPr>
          <p:spPr>
            <a:xfrm>
              <a:off x="636480" y="925560"/>
              <a:ext cx="210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ep         ep</a:t>
              </a: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600" y="129528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029200" y="2133720"/>
            <a:ext cx="3962520" cy="1981080"/>
            <a:chOff x="5029200" y="2133720"/>
            <a:chExt cx="3962520" cy="1981080"/>
          </a:xfrm>
        </p:grpSpPr>
        <p:sp>
          <p:nvSpPr>
            <p:cNvPr id="131" name=""/>
            <p:cNvSpPr/>
            <p:nvPr/>
          </p:nvSpPr>
          <p:spPr>
            <a:xfrm>
              <a:off x="5029200" y="2781360"/>
              <a:ext cx="396252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1   0.81    1.34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1.90   0.65    0.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3   0.56    0.82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1.24   0.44    0.4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5   0.42    0.54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88   0.32    0.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7   0.33    0.38    0.66   0.24    0.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2133720"/>
              <a:ext cx="53352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62720" y="2133720"/>
              <a:ext cx="68580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48520" y="2133720"/>
              <a:ext cx="68580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34320" y="2133720"/>
              <a:ext cx="685800" cy="1981080"/>
            </a:xfrm>
            <a:prstGeom prst="rect">
              <a:avLst/>
            </a:prstGeom>
            <a:solidFill>
              <a:srgbClr val="ffff99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0120" y="2133720"/>
              <a:ext cx="685800" cy="1981080"/>
            </a:xfrm>
            <a:prstGeom prst="rect">
              <a:avLst/>
            </a:prstGeom>
            <a:solidFill>
              <a:srgbClr val="ff99cc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05920" y="2133720"/>
              <a:ext cx="685800" cy="1981080"/>
            </a:xfrm>
            <a:prstGeom prst="rect">
              <a:avLst/>
            </a:prstGeom>
            <a:solidFill>
              <a:srgbClr val="ccffff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9200" y="2171880"/>
              <a:ext cx="396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    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H      H     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7080" y="4003560"/>
            <a:ext cx="434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ision measurement of H,H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t, small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1752480"/>
            <a:ext cx="129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=0.3,t=-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1760" y="521640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ground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CB65-D436-4B1F-9A76-E04F809B781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629400" y="152388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93600"/>
            <a:ext cx="87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GPD E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form Exclusive</a:t>
            </a: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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ransverse target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1880" y="990720"/>
            <a:ext cx="19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(Im(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*))/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67800">
            <a:off x="2069640" y="11246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7520" y="1476360"/>
            <a:ext cx="45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</a:t>
            </a:r>
            <a:r>
              <a:rPr b="0" lang="en-US" sz="2000" spc="-1" strike="noStrike" baseline="30000">
                <a:solidFill>
                  <a:srgbClr val="80808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</a:t>
            </a:r>
            <a:r>
              <a:rPr b="0" lang="en-US" sz="2000" spc="-1" strike="noStrike" baseline="30000">
                <a:solidFill>
                  <a:srgbClr val="80808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</a:t>
            </a:r>
            <a:r>
              <a:rPr b="0" lang="en-US" sz="2000" spc="-1" strike="noStrike" baseline="30000">
                <a:solidFill>
                  <a:srgbClr val="80808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</a:t>
            </a:r>
            <a:r>
              <a:rPr b="0" lang="en-US" sz="2000" spc="-1" strike="noStrike" baseline="30000">
                <a:solidFill>
                  <a:srgbClr val="80808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t/4m</a:t>
            </a:r>
            <a:r>
              <a:rPr b="0" lang="en-US" sz="2000" spc="-1" strike="noStrike" baseline="30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) - Re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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</a:t>
            </a:r>
            <a:r>
              <a:rPr b="0" lang="en-US" sz="2000" spc="-1" strike="noStrike" baseline="30000">
                <a:solidFill>
                  <a:srgbClr val="80808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</a:t>
            </a:r>
            <a:r>
              <a:rPr b="0" lang="en-US" sz="2000" spc="-1" strike="noStrike" baseline="30000">
                <a:solidFill>
                  <a:srgbClr val="80808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760" y="1189080"/>
            <a:ext cx="124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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UT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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1447920"/>
            <a:ext cx="41148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42720" y="15937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 ~  2H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+ H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18680" y="1979640"/>
            <a:ext cx="19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 ~  2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27480" y="1752480"/>
            <a:ext cx="4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30000">
                <a:solidFill>
                  <a:srgbClr val="80808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1752480"/>
            <a:ext cx="457200" cy="533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50680" y="571500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K. Goeke, M.V. Polyakov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M. Vanderhaeghen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92240" y="2343240"/>
            <a:ext cx="4241880" cy="3905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01600" y="2352600"/>
            <a:ext cx="4232520" cy="389592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2584440" y="2482920"/>
            <a:ext cx="1285920" cy="337320"/>
            <a:chOff x="2584440" y="2482920"/>
            <a:chExt cx="1285920" cy="337320"/>
          </a:xfrm>
        </p:grpSpPr>
        <p:sp>
          <p:nvSpPr>
            <p:cNvPr id="159" name=""/>
            <p:cNvSpPr/>
            <p:nvPr/>
          </p:nvSpPr>
          <p:spPr>
            <a:xfrm>
              <a:off x="2708280" y="2482920"/>
              <a:ext cx="116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=5 GeV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84440" y="257508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658840" y="4191120"/>
            <a:ext cx="31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ed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gular mo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m ru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4760" y="4572000"/>
            <a:ext cx="43704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30000">
                <a:solidFill>
                  <a:srgbClr val="80808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67520" y="6081840"/>
            <a:ext cx="25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2666880"/>
            <a:ext cx="1981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~  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- 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 ~ 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u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22440" y="2971800"/>
            <a:ext cx="44892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30000">
                <a:solidFill>
                  <a:srgbClr val="808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1C61-2358-40C1-9AF0-4781131E99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743200" y="152280"/>
            <a:ext cx="3429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0"/>
            <a:ext cx="807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AM sensitive observables in exclusive production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175248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. Avakia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4191120"/>
            <a:ext cx="466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etween GPDs and TM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49840" y="307800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CD’N 2006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3BC9-C47D-49DE-8FC6-DF928A261E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66960" y="1371600"/>
            <a:ext cx="70196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14400" y="4114800"/>
            <a:ext cx="8001000" cy="1600200"/>
            <a:chOff x="914400" y="4114800"/>
            <a:chExt cx="8001000" cy="1600200"/>
          </a:xfrm>
        </p:grpSpPr>
        <p:sp>
          <p:nvSpPr>
            <p:cNvPr id="173" name=""/>
            <p:cNvSpPr/>
            <p:nvPr/>
          </p:nvSpPr>
          <p:spPr>
            <a:xfrm>
              <a:off x="914400" y="4114800"/>
              <a:ext cx="8001000" cy="1600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47960" y="480240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78320" y="480240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02520" y="4442040"/>
              <a:ext cx="144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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31200" y="4442040"/>
              <a:ext cx="144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09080" y="4502520"/>
              <a:ext cx="26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80720" y="5052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90840" y="4549680"/>
              <a:ext cx="15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43960" y="45496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79840" y="4549680"/>
              <a:ext cx="15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28400" y="4549680"/>
              <a:ext cx="102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28640" y="45496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98000" y="4332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59920" y="50691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23920" y="45874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48240" y="45874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59320" y="45874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7640" y="45874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77840" y="4587480"/>
              <a:ext cx="19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17600" y="45874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41560" y="45874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49400" y="45874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49520" y="45874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74760" y="4587480"/>
              <a:ext cx="19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3520" y="48495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98480" y="4381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79280" y="48495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71360" y="4381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16080" y="4587480"/>
              <a:ext cx="21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22600" y="45874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7040" y="4587480"/>
              <a:ext cx="21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94320" y="45874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96360" y="4587480"/>
              <a:ext cx="42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7680" y="4587480"/>
              <a:ext cx="68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J </a:t>
              </a:r>
              <a:r>
                <a:rPr b="1" i="1" lang="en-US" sz="2400" spc="-1" strike="noStrike" baseline="38000">
                  <a:solidFill>
                    <a:srgbClr val="cc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0480" y="5173560"/>
              <a:ext cx="26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. Ji, Phy.Rev.Lett.78,610(1997)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142280" y="182520"/>
            <a:ext cx="68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Quark Angular Momentum Sum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8920" y="1371600"/>
            <a:ext cx="62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Ds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i="1" lang="en-US" sz="2400" spc="-1" strike="noStrike" baseline="30000">
                <a:solidFill>
                  <a:srgbClr val="cc00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H</a:t>
            </a:r>
            <a:r>
              <a:rPr b="0" i="1" lang="en-US" sz="2400" spc="-1" strike="noStrike" baseline="30000">
                <a:solidFill>
                  <a:srgbClr val="cc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E</a:t>
            </a:r>
            <a:r>
              <a:rPr b="0" i="1" lang="en-US" sz="2400" spc="-1" strike="noStrike" baseline="30000">
                <a:solidFill>
                  <a:srgbClr val="cc00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E</a:t>
            </a:r>
            <a:r>
              <a:rPr b="0" i="1" lang="en-US" sz="2400" spc="-1" strike="noStrike" baseline="30000">
                <a:solidFill>
                  <a:srgbClr val="cc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ccess to total qua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ion to proton angular moment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00000" y="2590920"/>
            <a:ext cx="4847400" cy="64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½ = ½ 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+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+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) + L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5829120" y="18666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16800" y="3581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J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80880" y="263196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n’s s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ributions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B226-A031-40DC-AA81-0ADCDA2F19A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95480" y="1028880"/>
            <a:ext cx="6096240" cy="5752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28560" y="29520"/>
            <a:ext cx="790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CLAS12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DVCS/BH Beam Asymm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5800" y="4191120"/>
            <a:ext cx="1409040" cy="1143000"/>
            <a:chOff x="685800" y="4191120"/>
            <a:chExt cx="1409040" cy="1143000"/>
          </a:xfrm>
        </p:grpSpPr>
        <p:sp>
          <p:nvSpPr>
            <p:cNvPr id="220" name=""/>
            <p:cNvSpPr/>
            <p:nvPr/>
          </p:nvSpPr>
          <p:spPr>
            <a:xfrm>
              <a:off x="722520" y="4192560"/>
              <a:ext cx="1372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</a:rPr>
                <a:t>L = 1x10</a:t>
              </a:r>
              <a:r>
                <a:rPr b="0" lang="en-US" sz="1600" spc="-1" strike="noStrike" baseline="30000">
                  <a:solidFill>
                    <a:srgbClr val="808080"/>
                  </a:solidFill>
                  <a:latin typeface="Comic Sans MS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</a:rPr>
                <a:t>T = 2000 h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</a:rPr>
                <a:t>Q</a:t>
              </a:r>
              <a:r>
                <a:rPr b="0" lang="en-US" sz="1600" spc="-1" strike="noStrike" baseline="30000">
                  <a:solidFill>
                    <a:srgbClr val="808080"/>
                  </a:solidFill>
                  <a:latin typeface="Comic Sans MS"/>
                </a:rPr>
                <a:t>2</a:t>
              </a: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</a:rPr>
                <a:t> = 1 GeV</a:t>
              </a:r>
              <a:r>
                <a:rPr b="0" lang="en-US" sz="1600" spc="-1" strike="noStrike" baseline="30000">
                  <a:solidFill>
                    <a:srgbClr val="80808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</a:rPr>
                <a:t>x = 0.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" y="4191120"/>
              <a:ext cx="1371600" cy="114300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59280" y="191844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 = 11 G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581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ected Kine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2760" y="304812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nsitive to GPD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840" y="2514600"/>
            <a:ext cx="289548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760" y="2587680"/>
            <a:ext cx="253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LU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sin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{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.</a:t>
            </a:r>
            <a:r>
              <a:rPr b="0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096920"/>
            <a:ext cx="2210040" cy="1068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p        ep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ccccff"/>
                </a:solidFill>
                <a:latin typeface="Symbol"/>
                <a:ea typeface="Symbol"/>
              </a:rPr>
              <a:t>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1459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2524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040" y="56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F502-AD72-4EE9-9615-5025FC417B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rcRect l="0" t="6083" r="0" b="0"/>
          <a:stretch/>
        </p:blipFill>
        <p:spPr>
          <a:xfrm>
            <a:off x="3860640" y="1911240"/>
            <a:ext cx="5105520" cy="4419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240" y="0"/>
            <a:ext cx="68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CLAS12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VCS/BH Target A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4800600"/>
            <a:ext cx="3276360" cy="916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 highly sensitive to the u-quark contributions to the proton sp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838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ransversely polarize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152280"/>
            <a:ext cx="1981080" cy="1068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p      ep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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0120" y="533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543800" y="30456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9400" y="2666880"/>
            <a:ext cx="388908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4560" y="2765520"/>
            <a:ext cx="374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ahoma"/>
              </a:rPr>
              <a:t>UT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in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{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Arial Unicode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…}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84640" y="1535040"/>
            <a:ext cx="3446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Q</a:t>
            </a:r>
            <a:r>
              <a:rPr b="0" lang="en-US" sz="16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=2.2 GeV</a:t>
            </a:r>
            <a:r>
              <a:rPr b="0" lang="en-US" sz="16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, x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= 0.25, -t = 0.5GeV</a:t>
            </a:r>
            <a:r>
              <a:rPr b="0" lang="en-US" sz="16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1530360"/>
            <a:ext cx="3581640" cy="380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600" y="144720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E = 11 G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09560" y="9907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8920" y="3467160"/>
            <a:ext cx="41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UT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arget polarization in scattering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9640" y="3854520"/>
            <a:ext cx="401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U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arget polarization perpendicular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ing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87E4-056F-4B7A-BD3F-52964C8AC9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3733920" cy="3048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2120" y="1143000"/>
            <a:ext cx="220968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p        ep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ccccff"/>
                </a:solidFill>
                <a:latin typeface="Symbol"/>
                <a:ea typeface="Symbol"/>
              </a:rPr>
              <a:t>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9200" y="76320"/>
            <a:ext cx="78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CLAS12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VCS/BH Target A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14637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1295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2520" y="5732640"/>
            <a:ext cx="113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Q</a:t>
            </a:r>
            <a:r>
              <a:rPr b="0" lang="en-US" sz="1000" spc="-1" strike="noStrike" baseline="30000">
                <a:solidFill>
                  <a:srgbClr val="808080"/>
                </a:solidFill>
                <a:latin typeface="Comic Sans MS"/>
              </a:rPr>
              <a:t>2</a:t>
            </a: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gt; = 2.0GeV</a:t>
            </a:r>
            <a:r>
              <a:rPr b="0" lang="en-US" sz="1000" spc="-1" strike="noStrike" baseline="30000">
                <a:solidFill>
                  <a:srgbClr val="80808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x&gt;   = 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-t&gt;  = 0.25GeV</a:t>
            </a:r>
            <a:r>
              <a:rPr b="0" lang="en-US" sz="1000" spc="-1" strike="noStrike" baseline="30000">
                <a:solidFill>
                  <a:srgbClr val="80808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2520" y="5680080"/>
            <a:ext cx="1224000" cy="6444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4060800"/>
            <a:ext cx="12240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27200" y="3962520"/>
            <a:ext cx="1344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000" y="3286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S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9040" y="403848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E=5.75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280" y="3429000"/>
            <a:ext cx="52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Comic Sans MS"/>
              </a:rPr>
              <a:t>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560" y="1882800"/>
            <a:ext cx="291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Longitudinally polar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2590920"/>
            <a:ext cx="34290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480" y="2664000"/>
            <a:ext cx="338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sin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{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2438280"/>
            <a:ext cx="19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505320" y="2133720"/>
            <a:ext cx="5562360" cy="4647960"/>
            <a:chOff x="3505320" y="2133720"/>
            <a:chExt cx="5562360" cy="46479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3505320" y="2133720"/>
              <a:ext cx="556236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9067680" y="2163960"/>
              <a:ext cx="0" cy="101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67680" y="3808440"/>
              <a:ext cx="0" cy="1011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67680" y="5390280"/>
              <a:ext cx="0" cy="101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269240" y="123264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 = 11 G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02800" y="1089000"/>
            <a:ext cx="1529280" cy="946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L = 2x10</a:t>
            </a:r>
            <a:r>
              <a:rPr b="0" lang="en-US" sz="1400" spc="-1" strike="noStrike" baseline="30000">
                <a:solidFill>
                  <a:srgbClr val="808080"/>
                </a:solidFill>
                <a:latin typeface="Arial"/>
              </a:rPr>
              <a:t>35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m</a:t>
            </a:r>
            <a:r>
              <a:rPr b="0" lang="en-US" sz="1400" spc="-1" strike="noStrike" baseline="30000">
                <a:solidFill>
                  <a:srgbClr val="808080"/>
                </a:solidFill>
                <a:latin typeface="Arial"/>
              </a:rPr>
              <a:t>-2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US" sz="1400" spc="-1" strike="noStrike" baseline="30000">
                <a:solidFill>
                  <a:srgbClr val="80808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 = 1000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 = 1GeV</a:t>
            </a:r>
            <a:r>
              <a:rPr b="0" lang="en-US" sz="14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x = 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182B-F515-408C-927D-B12B8737EF0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akian</cp:lastModifiedBy>
  <dcterms:modified xsi:type="dcterms:W3CDTF">2006-06-14T14:20:58Z</dcterms:modified>
  <cp:revision>437</cp:revision>
  <dc:subject/>
  <dc:title>PowerPoint Presentation</dc:title>
</cp:coreProperties>
</file>