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67E-DBC9-408C-A977-B22E463B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95C-AE33-4551-82D8-E4B32B16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1558-EDF5-40E5-9760-581C7F5B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747-8AD7-40CF-8FA9-BCEBC33E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37C-6B46-4382-998E-383920DE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383-9EE1-402F-B3F6-A4F40AA0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8F9-684C-416C-8C83-CABC60BB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1BC-D173-45BA-A36E-0A110647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B95-98B8-486E-BAE2-29F9409C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AA9-3771-4FBA-9D23-782A216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D5D-6099-4E2C-869D-CA758DC6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4D6-2261-49BE-BD13-6450BD9D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BFF3-559A-413A-AC28-A32F9A6AE59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280" y="4868640"/>
            <a:ext cx="7812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how to investigate the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                               Orbital Angular Momentu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6477120"/>
            <a:ext cx="723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477120"/>
            <a:ext cx="716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5950080"/>
            <a:ext cx="723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095640" cy="2776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57600" y="2471760"/>
                <a:ext cx="63514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limUpp>
                              <m:e>
                                <m:groupChr>
                                  <m:groupChrPr>
                                    <m:chr m:val="⏞"/>
                                    <m:pos m:val="top"/>
                                    <m:vertJc m:val="bot"/>
                                  </m:groupChrPr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Δu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Δd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groupChr>
                              </m:e>
                              <m:lim/>
                            </m:limUp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groupChr>
                      </m:e>
                      <m:lim/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G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groupChr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923000" y="3844800"/>
            <a:ext cx="11491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94360" y="3816360"/>
            <a:ext cx="113076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00920" y="2276640"/>
            <a:ext cx="1723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≈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84720" y="476280"/>
            <a:ext cx="5795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he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angular momentum struture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of the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nucle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32720" y="2852640"/>
            <a:ext cx="792000" cy="792360"/>
          </a:xfrm>
          <a:prstGeom prst="ellipse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8360" y="2852640"/>
            <a:ext cx="792000" cy="792360"/>
          </a:xfrm>
          <a:prstGeom prst="ellipse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8720" y="5661000"/>
            <a:ext cx="72723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b598"/>
              </a:gs>
              <a:gs pos="100000">
                <a:srgbClr val="bbe0e3">
                  <a:alpha val="60392"/>
                </a:srgbClr>
              </a:gs>
            </a:gsLst>
            <a:lin ang="10800000"/>
          </a:gradFill>
          <a:ln w="5724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3068640"/>
            <a:ext cx="3960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b598">
                  <a:alpha val="66274"/>
                </a:srgbClr>
              </a:gs>
              <a:gs pos="100000">
                <a:srgbClr val="ad89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068640"/>
            <a:ext cx="3960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>
                  <a:alpha val="76078"/>
                </a:srgbClr>
              </a:gs>
              <a:gs pos="100000">
                <a:srgbClr val="6c81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1628640"/>
            <a:ext cx="424836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100000">
                <a:srgbClr val="dcfe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080" y="115920"/>
            <a:ext cx="7812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how to investigate the quark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                                 Orbital Angular Momentu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6477120"/>
            <a:ext cx="723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6477120"/>
            <a:ext cx="716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5950080"/>
            <a:ext cx="7239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63520" y="1736640"/>
            <a:ext cx="46724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do we know alread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A. Mill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7560" y="3141720"/>
            <a:ext cx="43279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can we learn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exclusive process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ory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M.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hl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periments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H. Avakian-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06560" y="3171960"/>
            <a:ext cx="467568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can we learn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cesses involving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TMD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ory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U. D’Alesi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periments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C. Aidala-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5805360"/>
            <a:ext cx="748836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n w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ink observabl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from different 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M. Burkardt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9:17:38Z</dcterms:created>
  <dc:creator>Delia Hasch</dc:creator>
  <dc:description/>
  <dc:language>en-US</dc:language>
  <cp:lastModifiedBy>Delia Hasch</cp:lastModifiedBy>
  <dcterms:modified xsi:type="dcterms:W3CDTF">2006-06-13T22:04:19Z</dcterms:modified>
  <cp:revision>140</cp:revision>
  <dc:subject/>
  <dc:title>Slide 1</dc:title>
</cp:coreProperties>
</file>