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explode.wav" ContentType="audio/x-wav"/>
  <Override PartName="/ppt/media/image24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13.jpeg" ContentType="image/jpeg"/>
  <Override PartName="/ppt/media/image23.png" ContentType="image/png"/>
  <Override PartName="/ppt/media/image8.png" ContentType="image/png"/>
  <Override PartName="/ppt/media/image9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12.jpeg" ContentType="image/jpeg"/>
  <Override PartName="/ppt/media/whoosh.wav" ContentType="audio/x-wav"/>
  <Override PartName="/ppt/media/image28.png" ContentType="image/png"/>
  <Override PartName="/ppt/media/image5.png" ContentType="image/png"/>
  <Override PartName="/ppt/media/image29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4.jpeg" ContentType="image/jpeg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776E-AAB2-4218-8745-49F7B37AE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nostro universo nasce 14 milioni di anni fa a seguito di una specie di esplosione che chiamiamo big bang. Dopo un tempo brevissimo 1034 secondi l’energia ha iniziato a condensarsi sotto forma di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69BF-3A05-41D2-B62C-892DF66DD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9472-87B0-421F-B4C0-D587614A1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E9C6-9671-4F1B-84A4-AF0A32BA0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3AD9-8928-4CCC-B49F-A416361CBE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4BF2-4B8C-4B42-AB0D-0D70A7598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5623-79F8-4F5B-8A37-7420A58EF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6C9B-C1D0-43E7-BB6F-964F9CE78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BFBB-3587-4089-8EA8-C24FB3FAA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A00F-3C73-410B-B5CB-9A2E6099D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5AC4-76B8-46E4-98DD-9047FE821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1555-CD83-43D1-8AD8-B2A346ED7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8DEB-CCC1-4342-91CC-AC84CE67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EB29-4D52-46AC-B06E-DEEE0A6B7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audio" Target="../media/driveby.wav"/><Relationship Id="rId15" Type="http://schemas.openxmlformats.org/officeDocument/2006/relationships/audio" Target="../media/driveby.wav"/><Relationship Id="rId16" Type="http://schemas.openxmlformats.org/officeDocument/2006/relationships/audio" Target="../media/explode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v.sw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hyperlink" Target="file:///lhc.swf" TargetMode="External"/><Relationship Id="rId8" Type="http://schemas.openxmlformats.org/officeDocument/2006/relationships/hyperlink" Target="file:///lhc.swf" TargetMode="External"/><Relationship Id="rId9" Type="http://schemas.openxmlformats.org/officeDocument/2006/relationships/hyperlink" Target="file:///lhc.swf" TargetMode="External"/><Relationship Id="rId10" Type="http://schemas.openxmlformats.org/officeDocument/2006/relationships/hyperlink" Target="file:///lhc.swf" TargetMode="External"/><Relationship Id="rId11" Type="http://schemas.openxmlformats.org/officeDocument/2006/relationships/hyperlink" Target="file:///lhc.swf" TargetMode="External"/><Relationship Id="rId12" Type="http://schemas.openxmlformats.org/officeDocument/2006/relationships/hyperlink" Target="file:///lhc.swf" TargetMode="External"/><Relationship Id="rId13" Type="http://schemas.openxmlformats.org/officeDocument/2006/relationships/hyperlink" Target="file:///lhc.swf" TargetMode="External"/><Relationship Id="rId1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568" r="4313" b="3225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876920" cy="114300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La Storia dell’Universo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7530200">
            <a:off x="7148880" y="57733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strofi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7446200">
            <a:off x="5803200" y="60076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i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7628000">
            <a:off x="3042720" y="564552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fisica nucle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7739600">
            <a:off x="1196640" y="530856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fisica sub-nucle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776800">
            <a:off x="207000" y="4213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sm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7494800">
            <a:off x="4827960" y="5968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hi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llisioni…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372600" y="4800600"/>
            <a:ext cx="2376360" cy="1449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-2514600" y="1752480"/>
            <a:ext cx="2376360" cy="1449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572000" y="2590920"/>
            <a:ext cx="2376360" cy="1449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133720" y="2590920"/>
            <a:ext cx="2376360" cy="1449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1752480" y="1066680"/>
            <a:ext cx="5562720" cy="3586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304920" y="1905120"/>
            <a:ext cx="8610480" cy="3047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895480" y="2514600"/>
            <a:ext cx="920880" cy="785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4572000" y="2514600"/>
            <a:ext cx="777960" cy="982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0"/>
          <a:stretch/>
        </p:blipFill>
        <p:spPr>
          <a:xfrm>
            <a:off x="5562720" y="2971800"/>
            <a:ext cx="904680" cy="870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>
            <a:off x="3733920" y="3581280"/>
            <a:ext cx="1143000" cy="871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2"/>
          <a:stretch/>
        </p:blipFill>
        <p:spPr>
          <a:xfrm>
            <a:off x="457200" y="3657600"/>
            <a:ext cx="1943280" cy="214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3"/>
          <a:stretch/>
        </p:blipFill>
        <p:spPr>
          <a:xfrm>
            <a:off x="5257800" y="394344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89560" y="62485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l modello Standard…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1717920" cy="19047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Arial"/>
              </a:rPr>
              <a:t>Una nuova tavola periodica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084320" y="1573200"/>
            <a:ext cx="4782960" cy="315108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228600" y="2666880"/>
            <a:ext cx="8837640" cy="4038840"/>
            <a:chOff x="228600" y="2666880"/>
            <a:chExt cx="8837640" cy="4038840"/>
          </a:xfrm>
        </p:grpSpPr>
        <p:grpSp>
          <p:nvGrpSpPr>
            <p:cNvPr id="211" name=""/>
            <p:cNvGrpSpPr/>
            <p:nvPr/>
          </p:nvGrpSpPr>
          <p:grpSpPr>
            <a:xfrm>
              <a:off x="5508720" y="2666880"/>
              <a:ext cx="3557520" cy="3377880"/>
              <a:chOff x="5508720" y="2666880"/>
              <a:chExt cx="3557520" cy="33778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8160480" y="4419360"/>
                <a:ext cx="828720" cy="1599480"/>
                <a:chOff x="8160480" y="4419360"/>
                <a:chExt cx="828720" cy="15994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8227440" y="5287680"/>
                  <a:ext cx="761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319600" y="5144760"/>
                  <a:ext cx="609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168040" y="5681520"/>
                  <a:ext cx="808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oson</a:t>
                  </a:r>
                  <a:r>
                    <a:rPr b="0" lang="it-IT" sz="16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219520" y="4508280"/>
                  <a:ext cx="761760" cy="70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67040" y="441936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W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60480" y="4955760"/>
                  <a:ext cx="808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oson</a:t>
                  </a:r>
                  <a:r>
                    <a:rPr b="0" lang="it-IT" sz="16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8205480" y="3414600"/>
                <a:ext cx="783000" cy="1006200"/>
                <a:chOff x="8205480" y="3414600"/>
                <a:chExt cx="783000" cy="10062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205480" y="3671640"/>
                  <a:ext cx="761760" cy="7016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357760" y="3414600"/>
                  <a:ext cx="609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222400" y="4052520"/>
                  <a:ext cx="76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ton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8227800" y="2666880"/>
                <a:ext cx="838440" cy="973080"/>
                <a:chOff x="8227800" y="2666880"/>
                <a:chExt cx="838440" cy="973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8227800" y="2912760"/>
                  <a:ext cx="761760" cy="70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e4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319600" y="2666880"/>
                  <a:ext cx="6098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62000" y="3271680"/>
                  <a:ext cx="804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luon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305480" y="4983120"/>
                <a:ext cx="761760" cy="1053720"/>
                <a:chOff x="7305480" y="4983120"/>
                <a:chExt cx="761760" cy="10537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305480" y="5287680"/>
                  <a:ext cx="761760" cy="68544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81440" y="4983120"/>
                  <a:ext cx="6098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05840" y="5668560"/>
                  <a:ext cx="57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80808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808080"/>
                      </a:solidFill>
                      <a:latin typeface="Times New Roman"/>
                    </a:rPr>
                    <a:t>ta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212960" y="4267080"/>
                <a:ext cx="916920" cy="972360"/>
                <a:chOff x="7212960" y="4267080"/>
                <a:chExt cx="916920" cy="972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291080" y="4503600"/>
                  <a:ext cx="761040" cy="68580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359120" y="4267080"/>
                  <a:ext cx="609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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04640" y="4624200"/>
                  <a:ext cx="315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212960" y="4932360"/>
                  <a:ext cx="91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</a:t>
                  </a:r>
                  <a:r>
                    <a:rPr b="0" lang="en-US" sz="1400" spc="-1" strike="noStrike">
                      <a:solidFill>
                        <a:srgbClr val="808080"/>
                      </a:solidFill>
                      <a:latin typeface="Times New Roman"/>
                    </a:rPr>
                    <a:t>-neutri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239600" y="3555720"/>
                <a:ext cx="829800" cy="901800"/>
                <a:chOff x="7239600" y="3555720"/>
                <a:chExt cx="829800" cy="9018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291080" y="3708000"/>
                  <a:ext cx="761040" cy="68580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43360" y="3555720"/>
                  <a:ext cx="6087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808080"/>
                      </a:solidFill>
                      <a:latin typeface="Times New Roman"/>
                    </a:rPr>
                    <a:t>b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239600" y="4089240"/>
                  <a:ext cx="829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08080"/>
                      </a:solidFill>
                      <a:latin typeface="Times New Roman"/>
                    </a:rPr>
                    <a:t>botto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291080" y="2717640"/>
                <a:ext cx="761760" cy="977760"/>
                <a:chOff x="7291080" y="2717640"/>
                <a:chExt cx="761760" cy="977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291080" y="2946240"/>
                  <a:ext cx="761760" cy="68580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43360" y="2717640"/>
                  <a:ext cx="609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808080"/>
                      </a:solidFill>
                      <a:latin typeface="Times New Roman"/>
                    </a:rPr>
                    <a:t>t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292520" y="3327120"/>
                  <a:ext cx="47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08080"/>
                      </a:solidFill>
                      <a:latin typeface="Times New Roman"/>
                    </a:rPr>
                    <a:t>to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483240" y="5027400"/>
                <a:ext cx="880920" cy="1017360"/>
                <a:chOff x="6483240" y="5027400"/>
                <a:chExt cx="880920" cy="10173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483240" y="5295600"/>
                  <a:ext cx="761760" cy="68544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549840" y="5027400"/>
                  <a:ext cx="60912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559920" y="5676480"/>
                  <a:ext cx="804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08080"/>
                      </a:solidFill>
                      <a:latin typeface="Times New Roman"/>
                    </a:rPr>
                    <a:t>muon</a:t>
                  </a:r>
                  <a:r>
                    <a:rPr b="0" lang="it-IT" sz="1800" spc="-1" strike="noStrike">
                      <a:solidFill>
                        <a:srgbClr val="808080"/>
                      </a:solidFill>
                      <a:latin typeface="Times New Roman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374880" y="4265280"/>
                <a:ext cx="941400" cy="980280"/>
                <a:chOff x="6374880" y="4265280"/>
                <a:chExt cx="941400" cy="9802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452280" y="4509720"/>
                  <a:ext cx="761760" cy="68580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520680" y="4265280"/>
                  <a:ext cx="609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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785640" y="46620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374880" y="4938480"/>
                  <a:ext cx="941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400" spc="-1" strike="noStrike">
                      <a:solidFill>
                        <a:srgbClr val="808080"/>
                      </a:solidFill>
                      <a:latin typeface="Times New Roman"/>
                    </a:rPr>
                    <a:t>-neutri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6422400" y="3438360"/>
                <a:ext cx="842040" cy="1030320"/>
                <a:chOff x="6422400" y="3438360"/>
                <a:chExt cx="842040" cy="10303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6452640" y="3708000"/>
                  <a:ext cx="761760" cy="68580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605280" y="3438360"/>
                  <a:ext cx="6091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80808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22400" y="4100400"/>
                  <a:ext cx="842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08080"/>
                      </a:solidFill>
                      <a:latin typeface="Times New Roman"/>
                    </a:rPr>
                    <a:t>strang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475320" y="2682720"/>
                <a:ext cx="761400" cy="1012680"/>
                <a:chOff x="6475320" y="2682720"/>
                <a:chExt cx="761400" cy="10126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475320" y="2946240"/>
                  <a:ext cx="761400" cy="68580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51280" y="2682720"/>
                  <a:ext cx="6087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808080"/>
                      </a:solidFill>
                      <a:latin typeface="Times New Roman"/>
                    </a:rPr>
                    <a:t>c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475680" y="3327120"/>
                  <a:ext cx="753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08080"/>
                      </a:solidFill>
                      <a:latin typeface="Times New Roman"/>
                    </a:rPr>
                    <a:t>char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605200" y="5298840"/>
                <a:ext cx="76176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659200" y="4997160"/>
                <a:ext cx="609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Times New Roman"/>
                  </a:rPr>
                  <a:t>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08720" y="5667120"/>
                <a:ext cx="98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Times New Roman"/>
                  </a:rPr>
                  <a:t>e</a:t>
                </a:r>
                <a:r>
                  <a:rPr b="0" lang="it-IT" sz="1800" spc="-1" strike="noStrike">
                    <a:solidFill>
                      <a:srgbClr val="808080"/>
                    </a:solidFill>
                    <a:latin typeface="Times New Roman"/>
                  </a:rPr>
                  <a:t>let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Times New Roman"/>
                  </a:rPr>
                  <a:t>tron</a:t>
                </a:r>
                <a:r>
                  <a:rPr b="0" lang="it-IT" sz="1800" spc="-1" strike="noStrike">
                    <a:solidFill>
                      <a:srgbClr val="80808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5520600" y="4271760"/>
                <a:ext cx="918360" cy="983520"/>
                <a:chOff x="5520600" y="4271760"/>
                <a:chExt cx="918360" cy="9835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598720" y="4508280"/>
                  <a:ext cx="761760" cy="68580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67120" y="4271760"/>
                  <a:ext cx="60912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28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520600" y="4948200"/>
                  <a:ext cx="918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808080"/>
                      </a:solidFill>
                      <a:latin typeface="Times New Roman"/>
                    </a:rPr>
                    <a:t>e-neutri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5582880" y="3701880"/>
                <a:ext cx="76176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59200" y="3549600"/>
                <a:ext cx="60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808080"/>
                    </a:solidFill>
                    <a:latin typeface="Times New Roman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92600" y="407988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Times New Roman"/>
                  </a:rPr>
                  <a:t>dow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90800" y="2944800"/>
                <a:ext cx="76176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73320" y="33033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Times New Roman"/>
                  </a:rPr>
                  <a:t>u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89440" y="2679480"/>
                <a:ext cx="609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Times New Roman"/>
                  </a:rPr>
                  <a:t>u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4" name="" descr=""/>
            <p:cNvPicPr/>
            <p:nvPr/>
          </p:nvPicPr>
          <p:blipFill>
            <a:blip r:embed="rId4"/>
            <a:stretch/>
          </p:blipFill>
          <p:spPr>
            <a:xfrm>
              <a:off x="228600" y="5302080"/>
              <a:ext cx="5791320" cy="14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2733480" y="-662040"/>
            <a:ext cx="6378840" cy="7713720"/>
            <a:chOff x="2733480" y="-662040"/>
            <a:chExt cx="6378840" cy="7713720"/>
          </a:xfrm>
        </p:grpSpPr>
        <p:sp>
          <p:nvSpPr>
            <p:cNvPr id="276" name=""/>
            <p:cNvSpPr/>
            <p:nvPr/>
          </p:nvSpPr>
          <p:spPr>
            <a:xfrm>
              <a:off x="2896560" y="-662040"/>
              <a:ext cx="3356640" cy="77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0" spc="-1" strike="noStrike">
                  <a:solidFill>
                    <a:srgbClr val="ff9900"/>
                  </a:solidFill>
                  <a:latin typeface="Times New Roman"/>
                </a:rPr>
                <a:t>?</a:t>
              </a:r>
              <a:endParaRPr b="0" lang="en-US" sz="5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33480" y="649440"/>
              <a:ext cx="637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o schema nasconde sempre qualcosa una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uttura piu’ elementare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sservare…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sservare gli oggetti che ci circondano e’ come fare un esperimento alla Rutherfo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0" r="0" b="20166"/>
          <a:stretch/>
        </p:blipFill>
        <p:spPr>
          <a:xfrm>
            <a:off x="533520" y="1981080"/>
            <a:ext cx="8105760" cy="326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l mondo “microscopico” bersaglio e sonda hanno dimenzioni confrontabili: la misura perturba il camp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cc"/>
                </a:solidFill>
                <a:latin typeface="Arial"/>
              </a:rPr>
              <a:t>Osservare l’infinitamente piccolo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255160" cy="45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792320" y="5029200"/>
            <a:ext cx="1573920" cy="1579680"/>
            <a:chOff x="4792320" y="5029200"/>
            <a:chExt cx="1573920" cy="1579680"/>
          </a:xfrm>
        </p:grpSpPr>
        <p:sp>
          <p:nvSpPr>
            <p:cNvPr id="61" name=""/>
            <p:cNvSpPr/>
            <p:nvPr/>
          </p:nvSpPr>
          <p:spPr>
            <a:xfrm>
              <a:off x="4876920" y="5029200"/>
              <a:ext cx="1447920" cy="1579680"/>
            </a:xfrm>
            <a:prstGeom prst="rect">
              <a:avLst/>
            </a:prstGeom>
            <a:solidFill>
              <a:srgbClr val="64ace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92320" y="5181480"/>
              <a:ext cx="1573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66"/>
                  </a:solidFill>
                  <a:latin typeface="Times New Roman"/>
                </a:rPr>
                <a:t>Bos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66"/>
                  </a:solidFill>
                  <a:latin typeface="Times New Roman"/>
                </a:rPr>
                <a:t>di</a:t>
              </a: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 Higg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16207800">
            <a:off x="4506120" y="3138840"/>
            <a:ext cx="30592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imes New Roman"/>
              </a:rPr>
              <a:t>Meidatori  di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</a:t>
            </a:r>
            <a:r>
              <a:rPr b="0" lang="it-IT" sz="2800" spc="-1" strike="noStrike">
                <a:solidFill>
                  <a:srgbClr val="000066"/>
                </a:solidFill>
                <a:latin typeface="Times New Roman"/>
              </a:rPr>
              <a:t>z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809600" y="3429000"/>
            <a:ext cx="828720" cy="1599480"/>
            <a:chOff x="4809600" y="3429000"/>
            <a:chExt cx="828720" cy="1599480"/>
          </a:xfrm>
        </p:grpSpPr>
        <p:sp>
          <p:nvSpPr>
            <p:cNvPr id="65" name=""/>
            <p:cNvSpPr/>
            <p:nvPr/>
          </p:nvSpPr>
          <p:spPr>
            <a:xfrm>
              <a:off x="4876560" y="4297320"/>
              <a:ext cx="761760" cy="6858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68720" y="415440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17160" y="46911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oson</a:t>
              </a: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68640" y="3517920"/>
              <a:ext cx="761760" cy="7016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16160" y="3429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9600" y="396540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oson</a:t>
              </a: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876920" y="2424240"/>
            <a:ext cx="783000" cy="1006200"/>
            <a:chOff x="4876920" y="2424240"/>
            <a:chExt cx="783000" cy="1006200"/>
          </a:xfrm>
        </p:grpSpPr>
        <p:sp>
          <p:nvSpPr>
            <p:cNvPr id="72" name=""/>
            <p:cNvSpPr/>
            <p:nvPr/>
          </p:nvSpPr>
          <p:spPr>
            <a:xfrm>
              <a:off x="4876920" y="2681280"/>
              <a:ext cx="761760" cy="701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2424240"/>
              <a:ext cx="609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93840" y="30621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oton</a:t>
              </a: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76920" y="1676520"/>
            <a:ext cx="838440" cy="973080"/>
            <a:chOff x="4876920" y="1676520"/>
            <a:chExt cx="838440" cy="973080"/>
          </a:xfrm>
        </p:grpSpPr>
        <p:sp>
          <p:nvSpPr>
            <p:cNvPr id="76" name=""/>
            <p:cNvSpPr/>
            <p:nvPr/>
          </p:nvSpPr>
          <p:spPr>
            <a:xfrm>
              <a:off x="4876920" y="1922400"/>
              <a:ext cx="761760" cy="700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68720" y="1676520"/>
              <a:ext cx="609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11120" y="2281320"/>
              <a:ext cx="8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luon</a:t>
              </a: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rot="21594600">
            <a:off x="1600560" y="5029200"/>
            <a:ext cx="3198960" cy="2043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      </a:t>
            </a:r>
            <a:r>
              <a:rPr b="0" lang="it-IT" sz="3200" spc="-1" strike="noStrike">
                <a:solidFill>
                  <a:srgbClr val="000066"/>
                </a:solidFill>
                <a:latin typeface="Times New Roman"/>
              </a:rPr>
              <a:t>Famiglie di ma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84400" y="1676520"/>
            <a:ext cx="916920" cy="3979080"/>
            <a:chOff x="3884400" y="1676520"/>
            <a:chExt cx="916920" cy="3979080"/>
          </a:xfrm>
        </p:grpSpPr>
        <p:grpSp>
          <p:nvGrpSpPr>
            <p:cNvPr id="81" name=""/>
            <p:cNvGrpSpPr/>
            <p:nvPr/>
          </p:nvGrpSpPr>
          <p:grpSpPr>
            <a:xfrm>
              <a:off x="3954600" y="3941640"/>
              <a:ext cx="761760" cy="1054080"/>
              <a:chOff x="3954600" y="3941640"/>
              <a:chExt cx="761760" cy="1054080"/>
            </a:xfrm>
          </p:grpSpPr>
          <p:sp>
            <p:nvSpPr>
              <p:cNvPr id="82" name=""/>
              <p:cNvSpPr/>
              <p:nvPr/>
            </p:nvSpPr>
            <p:spPr>
              <a:xfrm>
                <a:off x="3954600" y="4246560"/>
                <a:ext cx="76176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30560" y="3941640"/>
                <a:ext cx="609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954960" y="4627440"/>
                <a:ext cx="57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a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884400" y="3225960"/>
              <a:ext cx="916920" cy="972360"/>
              <a:chOff x="3884400" y="3225960"/>
              <a:chExt cx="916920" cy="972360"/>
            </a:xfrm>
          </p:grpSpPr>
          <p:sp>
            <p:nvSpPr>
              <p:cNvPr id="86" name=""/>
              <p:cNvSpPr/>
              <p:nvPr/>
            </p:nvSpPr>
            <p:spPr>
              <a:xfrm>
                <a:off x="3962520" y="3462480"/>
                <a:ext cx="76176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030560" y="3225960"/>
                <a:ext cx="609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276080" y="358308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884400" y="3891240"/>
                <a:ext cx="91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neutri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3911040" y="2514600"/>
              <a:ext cx="829800" cy="901800"/>
              <a:chOff x="3911040" y="2514600"/>
              <a:chExt cx="829800" cy="901800"/>
            </a:xfrm>
          </p:grpSpPr>
          <p:sp>
            <p:nvSpPr>
              <p:cNvPr id="91" name=""/>
              <p:cNvSpPr/>
              <p:nvPr/>
            </p:nvSpPr>
            <p:spPr>
              <a:xfrm>
                <a:off x="3962520" y="2666880"/>
                <a:ext cx="76176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14800" y="2514600"/>
                <a:ext cx="609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11040" y="3048120"/>
                <a:ext cx="82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962520" y="1676520"/>
              <a:ext cx="761760" cy="977760"/>
              <a:chOff x="3962520" y="1676520"/>
              <a:chExt cx="761760" cy="977760"/>
            </a:xfrm>
          </p:grpSpPr>
          <p:sp>
            <p:nvSpPr>
              <p:cNvPr id="95" name=""/>
              <p:cNvSpPr/>
              <p:nvPr/>
            </p:nvSpPr>
            <p:spPr>
              <a:xfrm>
                <a:off x="3962520" y="1905120"/>
                <a:ext cx="76176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14800" y="1676520"/>
                <a:ext cx="609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63960" y="228600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rot="21594600">
              <a:off x="3946680" y="5073480"/>
              <a:ext cx="839520" cy="581400"/>
            </a:xfrm>
            <a:prstGeom prst="rect">
              <a:avLst/>
            </a:prstGeom>
            <a:solidFill>
              <a:srgbClr val="9ab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III</a:t>
              </a:r>
              <a:r>
                <a:rPr b="0" lang="en-US" sz="3200" spc="-1" strike="noStrike">
                  <a:solidFill>
                    <a:srgbClr val="ffcc66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046680" y="1641600"/>
            <a:ext cx="966960" cy="4006080"/>
            <a:chOff x="3046680" y="1641600"/>
            <a:chExt cx="966960" cy="4006080"/>
          </a:xfrm>
        </p:grpSpPr>
        <p:grpSp>
          <p:nvGrpSpPr>
            <p:cNvPr id="100" name=""/>
            <p:cNvGrpSpPr/>
            <p:nvPr/>
          </p:nvGrpSpPr>
          <p:grpSpPr>
            <a:xfrm>
              <a:off x="3132000" y="3986280"/>
              <a:ext cx="881640" cy="1017360"/>
              <a:chOff x="3132000" y="3986280"/>
              <a:chExt cx="881640" cy="1017360"/>
            </a:xfrm>
          </p:grpSpPr>
          <p:sp>
            <p:nvSpPr>
              <p:cNvPr id="101" name=""/>
              <p:cNvSpPr/>
              <p:nvPr/>
            </p:nvSpPr>
            <p:spPr>
              <a:xfrm>
                <a:off x="3132000" y="4254480"/>
                <a:ext cx="762120" cy="68544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98960" y="3986280"/>
                <a:ext cx="609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9400" y="4635360"/>
                <a:ext cx="8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uon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046680" y="3224160"/>
              <a:ext cx="941400" cy="980280"/>
              <a:chOff x="3046680" y="3224160"/>
              <a:chExt cx="941400" cy="980280"/>
            </a:xfrm>
          </p:grpSpPr>
          <p:sp>
            <p:nvSpPr>
              <p:cNvPr id="105" name=""/>
              <p:cNvSpPr/>
              <p:nvPr/>
            </p:nvSpPr>
            <p:spPr>
              <a:xfrm>
                <a:off x="3124080" y="3468600"/>
                <a:ext cx="76212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92480" y="322416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57440" y="36208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6680" y="3897360"/>
                <a:ext cx="941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neutri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093480" y="2397240"/>
              <a:ext cx="842040" cy="1030320"/>
              <a:chOff x="3093480" y="2397240"/>
              <a:chExt cx="842040" cy="1030320"/>
            </a:xfrm>
          </p:grpSpPr>
          <p:sp>
            <p:nvSpPr>
              <p:cNvPr id="110" name=""/>
              <p:cNvSpPr/>
              <p:nvPr/>
            </p:nvSpPr>
            <p:spPr>
              <a:xfrm>
                <a:off x="3124080" y="2666880"/>
                <a:ext cx="76212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720" y="2397240"/>
                <a:ext cx="609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93480" y="30592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an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124080" y="1641600"/>
              <a:ext cx="762120" cy="1012680"/>
              <a:chOff x="3124080" y="1641600"/>
              <a:chExt cx="762120" cy="1012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124080" y="1905120"/>
                <a:ext cx="76212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00400" y="1641600"/>
                <a:ext cx="609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800" y="2286000"/>
                <a:ext cx="75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har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rot="21594600">
              <a:off x="3081240" y="5065560"/>
              <a:ext cx="839880" cy="581400"/>
            </a:xfrm>
            <a:prstGeom prst="rect">
              <a:avLst/>
            </a:prstGeom>
            <a:solidFill>
              <a:srgbClr val="9ab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II</a:t>
              </a:r>
              <a:r>
                <a:rPr b="0" lang="en-US" sz="3200" spc="-1" strike="noStrike">
                  <a:solidFill>
                    <a:srgbClr val="ffcc66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57480" y="1638360"/>
            <a:ext cx="983880" cy="4003200"/>
            <a:chOff x="2157480" y="1638360"/>
            <a:chExt cx="983880" cy="4003200"/>
          </a:xfrm>
        </p:grpSpPr>
        <p:sp>
          <p:nvSpPr>
            <p:cNvPr id="119" name=""/>
            <p:cNvSpPr/>
            <p:nvPr/>
          </p:nvSpPr>
          <p:spPr>
            <a:xfrm>
              <a:off x="2254320" y="4257720"/>
              <a:ext cx="761760" cy="6858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30280" y="3956040"/>
              <a:ext cx="60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57480" y="462600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on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92040" y="3230640"/>
              <a:ext cx="918360" cy="983520"/>
              <a:chOff x="2192040" y="3230640"/>
              <a:chExt cx="918360" cy="98352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0160" y="3467160"/>
                <a:ext cx="762120" cy="68580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38560" y="3230640"/>
                <a:ext cx="609480" cy="78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92040" y="3907080"/>
                <a:ext cx="91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-neutri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254320" y="2660760"/>
              <a:ext cx="761760" cy="6858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30280" y="2508120"/>
              <a:ext cx="609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4040" y="303840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2240" y="1903320"/>
              <a:ext cx="762120" cy="6858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44760" y="22622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38560" y="163836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1594600">
              <a:off x="2193840" y="5059440"/>
              <a:ext cx="839880" cy="581400"/>
            </a:xfrm>
            <a:prstGeom prst="rect">
              <a:avLst/>
            </a:prstGeom>
            <a:solidFill>
              <a:srgbClr val="9ab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ffcc66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rot="16200000">
            <a:off x="1143000" y="3884400"/>
            <a:ext cx="149544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pton</a:t>
            </a:r>
            <a:r>
              <a:rPr b="0" lang="it-IT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193040" y="2319840"/>
            <a:ext cx="14112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u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00920" y="60278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391520" y="5562720"/>
          <a:ext cx="10540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562720"/>
                    <a:ext cx="1054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6931440" y="1903320"/>
            <a:ext cx="1987920" cy="4581360"/>
            <a:chOff x="6931440" y="1903320"/>
            <a:chExt cx="1987920" cy="4581360"/>
          </a:xfrm>
        </p:grpSpPr>
        <p:sp>
          <p:nvSpPr>
            <p:cNvPr id="139" name=""/>
            <p:cNvSpPr/>
            <p:nvPr/>
          </p:nvSpPr>
          <p:spPr>
            <a:xfrm rot="21594600">
              <a:off x="6934680" y="1904760"/>
              <a:ext cx="1980720" cy="4578120"/>
            </a:xfrm>
            <a:prstGeom prst="rect">
              <a:avLst/>
            </a:prstGeom>
            <a:solidFill>
              <a:srgbClr val="56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Times New Roman"/>
                </a:rPr>
                <a:t>                                             </a:t>
              </a:r>
              <a:r>
                <a:rPr b="0" lang="en-US" sz="3200" spc="-1" strike="noStrike">
                  <a:solidFill>
                    <a:srgbClr val="ffcc66"/>
                  </a:solidFill>
                  <a:latin typeface="Times New Roman"/>
                </a:rPr>
                <a:t>Gravit</a:t>
              </a:r>
              <a:r>
                <a:rPr b="0" lang="it-IT" sz="3200" spc="-1" strike="noStrike">
                  <a:solidFill>
                    <a:srgbClr val="ffcc66"/>
                  </a:solidFill>
                  <a:latin typeface="Times New Roman"/>
                </a:rPr>
                <a:t>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cc66"/>
                  </a:solidFill>
                  <a:latin typeface="Times New Roman"/>
                </a:rPr>
                <a:t>il fantasm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cc66"/>
                  </a:solidFill>
                  <a:latin typeface="Times New Roman"/>
                </a:rPr>
                <a:t> </a:t>
              </a:r>
              <a:r>
                <a:rPr b="0" lang="it-IT" sz="3200" spc="-1" strike="noStrike">
                  <a:solidFill>
                    <a:srgbClr val="ffcc66"/>
                  </a:solidFill>
                  <a:latin typeface="Times New Roman"/>
                </a:rPr>
                <a:t>dell’ope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7575840" y="2812320"/>
              <a:ext cx="767880" cy="75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2544120" y="1193760"/>
            <a:ext cx="17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erm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119376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os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Di cosa e’ fatta la materia 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il modello standard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1756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13851000">
            <a:off x="5714640" y="3809520"/>
            <a:ext cx="6858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’osservazione su bersaglio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a materia e’ vuo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io’ che non ha interagito viene perduto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pendio di energia nel muovere il centro di mass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l bersaglio e’ complesso, quindi si hanno scomodi prodotti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295280"/>
            <a:ext cx="152388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124080"/>
            <a:ext cx="1752480" cy="152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2895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2004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0040" y="9144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ncrot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3760" y="34290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IN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2209680"/>
            <a:ext cx="152280" cy="16002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6920" y="14479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ersag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733920" y="22093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048120"/>
            <a:ext cx="1371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886200" y="27428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20040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5040" y="16714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3760" y="2286000"/>
            <a:ext cx="3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45000" y="29718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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93680" y="33526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e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p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1640" y="35812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, 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9059600">
            <a:off x="5791320" y="1142640"/>
            <a:ext cx="685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286000"/>
            <a:ext cx="4572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9600" y="2819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ivel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1035000"/>
            <a:ext cx="91440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66880" y="54864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 collisori materia-antimateria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38280" y="1219320"/>
            <a:ext cx="4416480" cy="4462200"/>
            <a:chOff x="2438280" y="1219320"/>
            <a:chExt cx="4416480" cy="446220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rcRect l="0" t="0" r="0" b="42354"/>
            <a:stretch/>
          </p:blipFill>
          <p:spPr>
            <a:xfrm>
              <a:off x="2438280" y="1676520"/>
              <a:ext cx="441648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201480" y="1219320"/>
              <a:ext cx="278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A a Frascati 19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447920" y="838080"/>
            <a:ext cx="6858000" cy="5029200"/>
            <a:chOff x="1447920" y="838080"/>
            <a:chExt cx="6858000" cy="5029200"/>
          </a:xfrm>
        </p:grpSpPr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1447920" y="1295280"/>
              <a:ext cx="6858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363040" y="838080"/>
              <a:ext cx="378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ONE a Frascati nel 1969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62120" y="938160"/>
            <a:ext cx="7543800" cy="5005440"/>
            <a:chOff x="762120" y="938160"/>
            <a:chExt cx="7543800" cy="5005440"/>
          </a:xfrm>
        </p:grpSpPr>
        <p:pic>
          <p:nvPicPr>
            <p:cNvPr id="180" name="" descr=""/>
            <p:cNvPicPr/>
            <p:nvPr/>
          </p:nvPicPr>
          <p:blipFill>
            <a:blip r:embed="rId5"/>
            <a:stretch/>
          </p:blipFill>
          <p:spPr>
            <a:xfrm>
              <a:off x="762120" y="938160"/>
              <a:ext cx="7543800" cy="50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04560" y="1101600"/>
              <a:ext cx="164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DA</a:t>
              </a:r>
              <a:r>
                <a:rPr b="1" lang="en-US" sz="3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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76440" y="907920"/>
            <a:ext cx="8408880" cy="5951160"/>
            <a:chOff x="676440" y="907920"/>
            <a:chExt cx="8408880" cy="5951160"/>
          </a:xfrm>
        </p:grpSpPr>
        <p:pic>
          <p:nvPicPr>
            <p:cNvPr id="183" name="" descr=""/>
            <p:cNvPicPr/>
            <p:nvPr/>
          </p:nvPicPr>
          <p:blipFill>
            <a:blip r:embed="rId6"/>
            <a:stretch/>
          </p:blipFill>
          <p:spPr>
            <a:xfrm>
              <a:off x="685800" y="907920"/>
              <a:ext cx="7802640" cy="52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76440" y="1060560"/>
              <a:ext cx="596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LEP al CERN di Ginevra 1988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9120" y="6216480"/>
              <a:ext cx="622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LHC al </a:t>
              </a: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Times New Roman"/>
                  <a:hlinkClick r:id="rId8"/>
                </a:rPr>
                <a:t>Cern</a:t>
              </a: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Times New Roman"/>
                  <a:hlinkClick r:id="rId9"/>
                </a:rPr>
                <a:t> </a:t>
              </a: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0"/>
                </a:rPr>
                <a:t>di</a:t>
              </a: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1"/>
                </a:rPr>
                <a:t> </a:t>
              </a: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2"/>
                </a:rPr>
                <a:t>Ginevra</a:t>
              </a: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3"/>
                </a:rPr>
                <a:t> &gt; 2007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rcRect l="2758" t="3353" r="2177" b="4833"/>
          <a:stretch/>
        </p:blipFill>
        <p:spPr>
          <a:xfrm>
            <a:off x="0" y="914400"/>
            <a:ext cx="5410080" cy="4297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 grandi rivelatori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886200" y="1447920"/>
            <a:ext cx="3890880" cy="4932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523880" y="4267080"/>
            <a:ext cx="3359160" cy="2395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4925880" y="609480"/>
            <a:ext cx="42181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08:47:01Z</dcterms:created>
  <dc:creator>Giovanni Mazzitelli</dc:creator>
  <dc:description/>
  <dc:language>en-US</dc:language>
  <cp:lastModifiedBy>LNF</cp:lastModifiedBy>
  <dcterms:modified xsi:type="dcterms:W3CDTF">2007-04-20T18:52:35Z</dcterms:modified>
  <cp:revision>119</cp:revision>
  <dc:subject/>
  <dc:title>Particelle e Cosmologia</dc:title>
</cp:coreProperties>
</file>